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116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0.gif" ContentType="image/gif"/>
  <Override PartName="/ppt/media/image54.png" ContentType="image/png"/>
  <Override PartName="/ppt/media/image41.jpeg" ContentType="image/jpeg"/>
  <Override PartName="/ppt/media/image66.png" ContentType="image/png"/>
  <Override PartName="/ppt/media/image37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13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8.png" ContentType="image/png"/>
  <Override PartName="/ppt/media/image85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1.png" ContentType="image/png"/>
  <Override PartName="/ppt/media/image108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38.jpeg" ContentType="image/jpeg"/>
  <Override PartName="/ppt/media/image72.png" ContentType="image/png"/>
  <Override PartName="/ppt/media/image7.jpeg" ContentType="image/jpeg"/>
  <Override PartName="/ppt/media/image16.png" ContentType="image/png"/>
  <Override PartName="/ppt/media/image28.png" ContentType="image/png"/>
  <Override PartName="/ppt/media/image9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2.png" ContentType="image/png"/>
  <Override PartName="/ppt/media/image26.jpeg" ContentType="image/jpeg"/>
  <Override PartName="/ppt/media/image101.png" ContentType="image/png"/>
  <Override PartName="/ppt/media/image25.png" ContentType="image/png"/>
  <Override PartName="/ppt/media/image90.png" ContentType="image/png"/>
  <Override PartName="/ppt/media/image113.jpeg" ContentType="image/jpeg"/>
  <Override PartName="/ppt/media/image30.png" ContentType="image/png"/>
  <Override PartName="/ppt/media/image3.jpeg" ContentType="image/jpeg"/>
  <Override PartName="/ppt/media/image59.gif" ContentType="image/gif"/>
  <Override PartName="/ppt/media/image110.gif" ContentType="image/gif"/>
  <Override PartName="/ppt/media/image15.png" ContentType="image/png"/>
  <Override PartName="/ppt/media/image80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52.png" ContentType="image/png"/>
  <Override PartName="/ppt/media/image76.png" ContentType="image/png"/>
  <Override PartName="/ppt/media/image121.jpeg" ContentType="image/jpeg"/>
  <Override PartName="/ppt/media/image77.png" ContentType="image/png"/>
  <Override PartName="/ppt/media/image78.png" ContentType="image/png"/>
  <Override PartName="/ppt/media/image79.png" ContentType="image/png"/>
  <Override PartName="/ppt/media/image88.png" ContentType="image/png"/>
  <Override PartName="/ppt/media/image91.png" ContentType="image/png"/>
  <Override PartName="/ppt/media/image92.png" ContentType="image/png"/>
  <Override PartName="/ppt/media/image104.png" ContentType="image/png"/>
  <Override PartName="/ppt/media/image97.png" ContentType="image/png"/>
  <Override PartName="/ppt/media/image109.jpeg" ContentType="image/jpeg"/>
  <Override PartName="/ppt/media/image29.png" ContentType="image/png"/>
  <Override PartName="/ppt/media/image94.png" ContentType="image/png"/>
  <Override PartName="/ppt/media/image87.png" ContentType="image/png"/>
  <Override PartName="/ppt/media/image107.png" ContentType="image/png"/>
  <Override PartName="/ppt/media/image63.png" ContentType="image/png"/>
  <Override PartName="/ppt/media/image8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75.png" ContentType="image/png"/>
  <Override PartName="/ppt/media/image118.jpeg" ContentType="image/jpeg"/>
  <Override PartName="/ppt/media/image81.jpeg" ContentType="image/jpeg"/>
  <Override PartName="/ppt/media/image23.png" ContentType="image/png"/>
  <Override PartName="/ppt/media/image105.png" ContentType="image/png"/>
  <Override PartName="/ppt/media/image98.png" ContentType="image/png"/>
  <Override PartName="/ppt/media/image112.gif" ContentType="image/gif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111.jpeg" ContentType="image/jpe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0.jpeg" ContentType="image/jpeg"/>
  <Override PartName="/ppt/media/image64.png" ContentType="image/png"/>
  <Override PartName="/ppt/media/image24.png" ContentType="image/png"/>
  <Override PartName="/ppt/media/image119.png" ContentType="image/png"/>
  <Override PartName="/ppt/media/image22.png" ContentType="image/png"/>
  <Override PartName="/ppt/media/image21.jpeg" ContentType="image/jpeg"/>
  <Override PartName="/ppt/media/image117.jpeg" ContentType="image/jpeg"/>
  <Override PartName="/ppt/media/image65.png" ContentType="image/png"/>
  <Override PartName="/ppt/media/image19.png" ContentType="image/png"/>
  <Override PartName="/ppt/media/image84.png" ContentType="image/png"/>
  <Override PartName="/ppt/media/image14.png" ContentType="image/png"/>
  <Override PartName="/ppt/media/image27.jpeg" ContentType="image/jpeg"/>
  <Override PartName="/ppt/media/image10.jpeg" ContentType="image/jpeg"/>
  <Override PartName="/ppt/media/image89.jpeg" ContentType="image/jpe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EA23-CA70-4876-BD1A-CF8132B07A5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4CA2A-1F80-435C-A068-5C9A4678013C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4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B2268-5C1D-4EDA-B9A5-947A643596B6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469BD-7D7A-4874-AB8C-83E4A9061B7D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45CAF-AE4D-4F81-87C3-00CAACC916AE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.В. Дорофеев, Л.Г. Петерсон, 5 класс (часть 2).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99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FB037-2D24-4846-93D4-F4955E2A22A3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7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1DEF4-7C7E-494F-BC35-47090422928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№ 55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8B5FF-55FF-42C7-834F-811FB018A34F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Г.В. Дорофеев, Л.Г. Петерсон, 5 класс (часть 1).   №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90080" y="-192240"/>
            <a:ext cx="2876040" cy="7046640"/>
            <a:chOff x="-190080" y="-192240"/>
            <a:chExt cx="2876040" cy="704664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6080" y="3836520"/>
              <a:ext cx="1024920" cy="803520"/>
              <a:chOff x="-46080" y="3836520"/>
              <a:chExt cx="1024920" cy="80352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404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484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236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90080" y="2438280"/>
              <a:ext cx="2876040" cy="3267360"/>
              <a:chOff x="-190080" y="2438280"/>
              <a:chExt cx="2876040" cy="326736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19600" y="2541960"/>
                <a:ext cx="104256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1360" y="2692800"/>
                <a:ext cx="87264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88640" y="2913480"/>
                <a:ext cx="30780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2040" y="368676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4280" y="3744720"/>
                <a:ext cx="67680" cy="1872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2760" y="3659400"/>
                <a:ext cx="2023200" cy="2046240"/>
                <a:chOff x="662760" y="3659400"/>
                <a:chExt cx="2023200" cy="204624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7360" y="3567600"/>
                  <a:ext cx="596880" cy="13694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40000" y="4828320"/>
                  <a:ext cx="135720" cy="5605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441520" y="5524200"/>
                  <a:ext cx="249840" cy="968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8200" y="6132960"/>
              <a:ext cx="878040" cy="696600"/>
              <a:chOff x="358200" y="6132960"/>
              <a:chExt cx="878040" cy="696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4800" y="6129000"/>
                <a:ext cx="214560" cy="2844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6160" y="6503760"/>
                <a:ext cx="36792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9640" y="6393600"/>
                <a:ext cx="385200" cy="118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560" y="1688400"/>
              <a:ext cx="840600" cy="734400"/>
              <a:chOff x="223560" y="1688400"/>
              <a:chExt cx="840600" cy="7344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516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9280" y="2088360"/>
                <a:ext cx="374400" cy="264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1056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828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520" y="53816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496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72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824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5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0.png"/><Relationship Id="rId29" Type="http://schemas.openxmlformats.org/officeDocument/2006/relationships/image" Target="../media/image25.png"/><Relationship Id="rId30" Type="http://schemas.openxmlformats.org/officeDocument/2006/relationships/image" Target="../media/image37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0.png"/><Relationship Id="rId34" Type="http://schemas.openxmlformats.org/officeDocument/2006/relationships/image" Target="../media/image2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1.jpeg"/><Relationship Id="rId7" Type="http://schemas.openxmlformats.org/officeDocument/2006/relationships/image" Target="../media/image41.jpeg"/><Relationship Id="rId8" Type="http://schemas.openxmlformats.org/officeDocument/2006/relationships/image" Target="../media/image44.png"/><Relationship Id="rId9" Type="http://schemas.openxmlformats.org/officeDocument/2006/relationships/image" Target="../media/image30.png"/><Relationship Id="rId10" Type="http://schemas.openxmlformats.org/officeDocument/2006/relationships/image" Target="../media/image25.png"/><Relationship Id="rId11" Type="http://schemas.openxmlformats.org/officeDocument/2006/relationships/image" Target="../media/image30.png"/><Relationship Id="rId12" Type="http://schemas.openxmlformats.org/officeDocument/2006/relationships/image" Target="../media/image25.png"/><Relationship Id="rId13" Type="http://schemas.openxmlformats.org/officeDocument/2006/relationships/image" Target="../media/image30.png"/><Relationship Id="rId14" Type="http://schemas.openxmlformats.org/officeDocument/2006/relationships/image" Target="../media/image25.png"/><Relationship Id="rId15" Type="http://schemas.openxmlformats.org/officeDocument/2006/relationships/image" Target="../media/image30.png"/><Relationship Id="rId16" Type="http://schemas.openxmlformats.org/officeDocument/2006/relationships/image" Target="../media/image25.png"/><Relationship Id="rId17" Type="http://schemas.openxmlformats.org/officeDocument/2006/relationships/image" Target="../media/image30.png"/><Relationship Id="rId18" Type="http://schemas.openxmlformats.org/officeDocument/2006/relationships/image" Target="../media/image25.png"/><Relationship Id="rId19" Type="http://schemas.openxmlformats.org/officeDocument/2006/relationships/image" Target="../media/image30.png"/><Relationship Id="rId20" Type="http://schemas.openxmlformats.org/officeDocument/2006/relationships/image" Target="../media/image25.png"/><Relationship Id="rId21" Type="http://schemas.openxmlformats.org/officeDocument/2006/relationships/image" Target="../media/image30.png"/><Relationship Id="rId22" Type="http://schemas.openxmlformats.org/officeDocument/2006/relationships/image" Target="../media/image25.png"/><Relationship Id="rId23" Type="http://schemas.openxmlformats.org/officeDocument/2006/relationships/image" Target="../media/image41.jpe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1.jpe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1.jpeg"/><Relationship Id="rId30" Type="http://schemas.openxmlformats.org/officeDocument/2006/relationships/image" Target="../media/image45.png"/><Relationship Id="rId31" Type="http://schemas.openxmlformats.org/officeDocument/2006/relationships/image" Target="../media/image41.jpeg"/><Relationship Id="rId32" Type="http://schemas.openxmlformats.org/officeDocument/2006/relationships/image" Target="../media/image45.png"/><Relationship Id="rId33" Type="http://schemas.openxmlformats.org/officeDocument/2006/relationships/image" Target="../media/image41.jpe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image" Target="../media/image26.jpeg"/><Relationship Id="rId37" Type="http://schemas.openxmlformats.org/officeDocument/2006/relationships/image" Target="../media/image27.jpeg"/><Relationship Id="rId38" Type="http://schemas.openxmlformats.org/officeDocument/2006/relationships/image" Target="../media/image41.jpe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41.jpeg"/><Relationship Id="rId42" Type="http://schemas.openxmlformats.org/officeDocument/2006/relationships/image" Target="../media/image48.png"/><Relationship Id="rId43" Type="http://schemas.openxmlformats.org/officeDocument/2006/relationships/image" Target="../media/image49.png"/><Relationship Id="rId44" Type="http://schemas.openxmlformats.org/officeDocument/2006/relationships/image" Target="../media/image41.jpeg"/><Relationship Id="rId45" Type="http://schemas.openxmlformats.org/officeDocument/2006/relationships/image" Target="../media/image41.jpeg"/><Relationship Id="rId46" Type="http://schemas.openxmlformats.org/officeDocument/2006/relationships/image" Target="../media/image50.png"/><Relationship Id="rId47" Type="http://schemas.openxmlformats.org/officeDocument/2006/relationships/image" Target="../media/image41.jpeg"/><Relationship Id="rId48" Type="http://schemas.openxmlformats.org/officeDocument/2006/relationships/image" Target="../media/image51.png"/><Relationship Id="rId49" Type="http://schemas.openxmlformats.org/officeDocument/2006/relationships/image" Target="../media/image41.jpeg"/><Relationship Id="rId50" Type="http://schemas.openxmlformats.org/officeDocument/2006/relationships/image" Target="../media/image41.jpeg"/><Relationship Id="rId51" Type="http://schemas.openxmlformats.org/officeDocument/2006/relationships/image" Target="../media/image52.png"/><Relationship Id="rId52" Type="http://schemas.openxmlformats.org/officeDocument/2006/relationships/image" Target="../media/image53.png"/><Relationship Id="rId53" Type="http://schemas.openxmlformats.org/officeDocument/2006/relationships/image" Target="../media/image26.jpeg"/><Relationship Id="rId54" Type="http://schemas.openxmlformats.org/officeDocument/2006/relationships/image" Target="../media/image27.jpeg"/><Relationship Id="rId55" Type="http://schemas.openxmlformats.org/officeDocument/2006/relationships/image" Target="../media/image41.jpeg"/><Relationship Id="rId56" Type="http://schemas.openxmlformats.org/officeDocument/2006/relationships/image" Target="../media/image54.png"/><Relationship Id="rId57" Type="http://schemas.openxmlformats.org/officeDocument/2006/relationships/image" Target="../media/image55.png"/><Relationship Id="rId58" Type="http://schemas.openxmlformats.org/officeDocument/2006/relationships/image" Target="../media/image41.jpeg"/><Relationship Id="rId59" Type="http://schemas.openxmlformats.org/officeDocument/2006/relationships/image" Target="../media/image54.png"/><Relationship Id="rId60" Type="http://schemas.openxmlformats.org/officeDocument/2006/relationships/image" Target="../media/image55.png"/><Relationship Id="rId61" Type="http://schemas.openxmlformats.org/officeDocument/2006/relationships/image" Target="../media/image41.jpeg"/><Relationship Id="rId62" Type="http://schemas.openxmlformats.org/officeDocument/2006/relationships/image" Target="../media/image56.png"/><Relationship Id="rId63" Type="http://schemas.openxmlformats.org/officeDocument/2006/relationships/image" Target="../media/image41.jpeg"/><Relationship Id="rId64" Type="http://schemas.openxmlformats.org/officeDocument/2006/relationships/image" Target="../media/image56.png"/><Relationship Id="rId65" Type="http://schemas.openxmlformats.org/officeDocument/2006/relationships/image" Target="../media/image41.jpeg"/><Relationship Id="rId66" Type="http://schemas.openxmlformats.org/officeDocument/2006/relationships/image" Target="../media/image57.png"/><Relationship Id="rId67" Type="http://schemas.openxmlformats.org/officeDocument/2006/relationships/image" Target="../media/image41.jpeg"/><Relationship Id="rId68" Type="http://schemas.openxmlformats.org/officeDocument/2006/relationships/image" Target="../media/image58.png"/><Relationship Id="rId69" Type="http://schemas.openxmlformats.org/officeDocument/2006/relationships/image" Target="../media/image59.gif"/><Relationship Id="rId70" Type="http://schemas.openxmlformats.org/officeDocument/2006/relationships/slideLayout" Target="../slideLayouts/slideLayout1.xml"/><Relationship Id="rId7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image" Target="../media/image40.gif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1.jpeg"/><Relationship Id="rId14" Type="http://schemas.openxmlformats.org/officeDocument/2006/relationships/image" Target="../media/image65.png"/><Relationship Id="rId15" Type="http://schemas.openxmlformats.org/officeDocument/2006/relationships/image" Target="../media/image41.jpeg"/><Relationship Id="rId16" Type="http://schemas.openxmlformats.org/officeDocument/2006/relationships/image" Target="../media/image66.png"/><Relationship Id="rId17" Type="http://schemas.openxmlformats.org/officeDocument/2006/relationships/image" Target="../media/image30.png"/><Relationship Id="rId18" Type="http://schemas.openxmlformats.org/officeDocument/2006/relationships/image" Target="../media/image25.png"/><Relationship Id="rId19" Type="http://schemas.openxmlformats.org/officeDocument/2006/relationships/image" Target="../media/image30.png"/><Relationship Id="rId20" Type="http://schemas.openxmlformats.org/officeDocument/2006/relationships/image" Target="../media/image25.png"/><Relationship Id="rId21" Type="http://schemas.openxmlformats.org/officeDocument/2006/relationships/image" Target="../media/image30.png"/><Relationship Id="rId22" Type="http://schemas.openxmlformats.org/officeDocument/2006/relationships/image" Target="../media/image25.png"/><Relationship Id="rId23" Type="http://schemas.openxmlformats.org/officeDocument/2006/relationships/image" Target="../media/image30.png"/><Relationship Id="rId24" Type="http://schemas.openxmlformats.org/officeDocument/2006/relationships/image" Target="../media/image25.png"/><Relationship Id="rId25" Type="http://schemas.openxmlformats.org/officeDocument/2006/relationships/image" Target="../media/image30.png"/><Relationship Id="rId26" Type="http://schemas.openxmlformats.org/officeDocument/2006/relationships/image" Target="../media/image25.png"/><Relationship Id="rId27" Type="http://schemas.openxmlformats.org/officeDocument/2006/relationships/image" Target="../media/image30.png"/><Relationship Id="rId28" Type="http://schemas.openxmlformats.org/officeDocument/2006/relationships/image" Target="../media/image25.png"/><Relationship Id="rId29" Type="http://schemas.openxmlformats.org/officeDocument/2006/relationships/image" Target="../media/image30.png"/><Relationship Id="rId30" Type="http://schemas.openxmlformats.org/officeDocument/2006/relationships/image" Target="../media/image25.png"/><Relationship Id="rId31" Type="http://schemas.openxmlformats.org/officeDocument/2006/relationships/image" Target="../media/image41.jpe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1.jpeg"/><Relationship Id="rId35" Type="http://schemas.openxmlformats.org/officeDocument/2006/relationships/image" Target="../media/image42.png"/><Relationship Id="rId36" Type="http://schemas.openxmlformats.org/officeDocument/2006/relationships/image" Target="../media/image43.png"/><Relationship Id="rId37" Type="http://schemas.openxmlformats.org/officeDocument/2006/relationships/image" Target="../media/image41.jpeg"/><Relationship Id="rId38" Type="http://schemas.openxmlformats.org/officeDocument/2006/relationships/image" Target="../media/image45.png"/><Relationship Id="rId39" Type="http://schemas.openxmlformats.org/officeDocument/2006/relationships/image" Target="../media/image41.jpeg"/><Relationship Id="rId40" Type="http://schemas.openxmlformats.org/officeDocument/2006/relationships/image" Target="../media/image45.png"/><Relationship Id="rId41" Type="http://schemas.openxmlformats.org/officeDocument/2006/relationships/image" Target="../media/image41.jpeg"/><Relationship Id="rId42" Type="http://schemas.openxmlformats.org/officeDocument/2006/relationships/image" Target="../media/image67.png"/><Relationship Id="rId43" Type="http://schemas.openxmlformats.org/officeDocument/2006/relationships/image" Target="../media/image68.png"/><Relationship Id="rId44" Type="http://schemas.openxmlformats.org/officeDocument/2006/relationships/image" Target="../media/image41.jpeg"/><Relationship Id="rId45" Type="http://schemas.openxmlformats.org/officeDocument/2006/relationships/image" Target="../media/image69.png"/><Relationship Id="rId46" Type="http://schemas.openxmlformats.org/officeDocument/2006/relationships/image" Target="../media/image41.jpeg"/><Relationship Id="rId47" Type="http://schemas.openxmlformats.org/officeDocument/2006/relationships/image" Target="../media/image70.png"/><Relationship Id="rId48" Type="http://schemas.openxmlformats.org/officeDocument/2006/relationships/image" Target="../media/image41.jpeg"/><Relationship Id="rId49" Type="http://schemas.openxmlformats.org/officeDocument/2006/relationships/image" Target="../media/image69.png"/><Relationship Id="rId50" Type="http://schemas.openxmlformats.org/officeDocument/2006/relationships/image" Target="../media/image41.jpeg"/><Relationship Id="rId51" Type="http://schemas.openxmlformats.org/officeDocument/2006/relationships/image" Target="../media/image70.png"/><Relationship Id="rId52" Type="http://schemas.openxmlformats.org/officeDocument/2006/relationships/image" Target="../media/image41.jpeg"/><Relationship Id="rId53" Type="http://schemas.openxmlformats.org/officeDocument/2006/relationships/image" Target="../media/image69.png"/><Relationship Id="rId54" Type="http://schemas.openxmlformats.org/officeDocument/2006/relationships/image" Target="../media/image41.jpeg"/><Relationship Id="rId55" Type="http://schemas.openxmlformats.org/officeDocument/2006/relationships/image" Target="../media/image70.png"/><Relationship Id="rId56" Type="http://schemas.openxmlformats.org/officeDocument/2006/relationships/image" Target="../media/image41.jpeg"/><Relationship Id="rId57" Type="http://schemas.openxmlformats.org/officeDocument/2006/relationships/image" Target="../media/image71.png"/><Relationship Id="rId58" Type="http://schemas.openxmlformats.org/officeDocument/2006/relationships/image" Target="../media/image72.png"/><Relationship Id="rId59" Type="http://schemas.openxmlformats.org/officeDocument/2006/relationships/image" Target="../media/image41.jpeg"/><Relationship Id="rId60" Type="http://schemas.openxmlformats.org/officeDocument/2006/relationships/image" Target="../media/image69.png"/><Relationship Id="rId61" Type="http://schemas.openxmlformats.org/officeDocument/2006/relationships/image" Target="../media/image41.jpeg"/><Relationship Id="rId62" Type="http://schemas.openxmlformats.org/officeDocument/2006/relationships/image" Target="../media/image70.png"/><Relationship Id="rId63" Type="http://schemas.openxmlformats.org/officeDocument/2006/relationships/image" Target="../media/image41.jpeg"/><Relationship Id="rId64" Type="http://schemas.openxmlformats.org/officeDocument/2006/relationships/image" Target="../media/image70.png"/><Relationship Id="rId65" Type="http://schemas.openxmlformats.org/officeDocument/2006/relationships/image" Target="../media/image41.jpeg"/><Relationship Id="rId66" Type="http://schemas.openxmlformats.org/officeDocument/2006/relationships/image" Target="../media/image69.png"/><Relationship Id="rId67" Type="http://schemas.openxmlformats.org/officeDocument/2006/relationships/image" Target="../media/image41.jpeg"/><Relationship Id="rId68" Type="http://schemas.openxmlformats.org/officeDocument/2006/relationships/image" Target="../media/image70.png"/><Relationship Id="rId69" Type="http://schemas.openxmlformats.org/officeDocument/2006/relationships/image" Target="../media/image41.jpeg"/><Relationship Id="rId70" Type="http://schemas.openxmlformats.org/officeDocument/2006/relationships/image" Target="../media/image70.png"/><Relationship Id="rId71" Type="http://schemas.openxmlformats.org/officeDocument/2006/relationships/image" Target="../media/image41.jpeg"/><Relationship Id="rId72" Type="http://schemas.openxmlformats.org/officeDocument/2006/relationships/image" Target="../media/image69.png"/><Relationship Id="rId73" Type="http://schemas.openxmlformats.org/officeDocument/2006/relationships/image" Target="../media/image41.jpeg"/><Relationship Id="rId74" Type="http://schemas.openxmlformats.org/officeDocument/2006/relationships/image" Target="../media/image70.png"/><Relationship Id="rId75" Type="http://schemas.openxmlformats.org/officeDocument/2006/relationships/image" Target="../media/image41.jpeg"/><Relationship Id="rId76" Type="http://schemas.openxmlformats.org/officeDocument/2006/relationships/image" Target="../media/image70.png"/><Relationship Id="rId77" Type="http://schemas.openxmlformats.org/officeDocument/2006/relationships/image" Target="../media/image41.jpeg"/><Relationship Id="rId78" Type="http://schemas.openxmlformats.org/officeDocument/2006/relationships/image" Target="../media/image69.png"/><Relationship Id="rId79" Type="http://schemas.openxmlformats.org/officeDocument/2006/relationships/image" Target="../media/image41.jpeg"/><Relationship Id="rId80" Type="http://schemas.openxmlformats.org/officeDocument/2006/relationships/image" Target="../media/image71.png"/><Relationship Id="rId81" Type="http://schemas.openxmlformats.org/officeDocument/2006/relationships/image" Target="../media/image72.png"/><Relationship Id="rId82" Type="http://schemas.openxmlformats.org/officeDocument/2006/relationships/image" Target="../media/image41.jpeg"/><Relationship Id="rId83" Type="http://schemas.openxmlformats.org/officeDocument/2006/relationships/image" Target="../media/image70.png"/><Relationship Id="rId84" Type="http://schemas.openxmlformats.org/officeDocument/2006/relationships/image" Target="../media/image41.jpeg"/><Relationship Id="rId85" Type="http://schemas.openxmlformats.org/officeDocument/2006/relationships/image" Target="../media/image70.png"/><Relationship Id="rId86" Type="http://schemas.openxmlformats.org/officeDocument/2006/relationships/image" Target="../media/image41.jpeg"/><Relationship Id="rId87" Type="http://schemas.openxmlformats.org/officeDocument/2006/relationships/image" Target="../media/image70.png"/><Relationship Id="rId88" Type="http://schemas.openxmlformats.org/officeDocument/2006/relationships/image" Target="../media/image41.jpeg"/><Relationship Id="rId89" Type="http://schemas.openxmlformats.org/officeDocument/2006/relationships/image" Target="../media/image70.png"/><Relationship Id="rId90" Type="http://schemas.openxmlformats.org/officeDocument/2006/relationships/image" Target="../media/image41.jpeg"/><Relationship Id="rId91" Type="http://schemas.openxmlformats.org/officeDocument/2006/relationships/image" Target="../media/image70.png"/><Relationship Id="rId92" Type="http://schemas.openxmlformats.org/officeDocument/2006/relationships/image" Target="../media/image41.jpeg"/><Relationship Id="rId93" Type="http://schemas.openxmlformats.org/officeDocument/2006/relationships/image" Target="../media/image73.png"/><Relationship Id="rId94" Type="http://schemas.openxmlformats.org/officeDocument/2006/relationships/image" Target="../media/image41.jpeg"/><Relationship Id="rId95" Type="http://schemas.openxmlformats.org/officeDocument/2006/relationships/image" Target="../media/image74.png"/><Relationship Id="rId96" Type="http://schemas.openxmlformats.org/officeDocument/2006/relationships/image" Target="../media/image75.png"/><Relationship Id="rId97" Type="http://schemas.openxmlformats.org/officeDocument/2006/relationships/image" Target="../media/image41.jpeg"/><Relationship Id="rId98" Type="http://schemas.openxmlformats.org/officeDocument/2006/relationships/image" Target="../media/image76.png"/><Relationship Id="rId99" Type="http://schemas.openxmlformats.org/officeDocument/2006/relationships/image" Target="../media/image41.jpeg"/><Relationship Id="rId100" Type="http://schemas.openxmlformats.org/officeDocument/2006/relationships/image" Target="../media/image77.png"/><Relationship Id="rId101" Type="http://schemas.openxmlformats.org/officeDocument/2006/relationships/image" Target="../media/image41.jpeg"/><Relationship Id="rId102" Type="http://schemas.openxmlformats.org/officeDocument/2006/relationships/image" Target="../media/image76.png"/><Relationship Id="rId103" Type="http://schemas.openxmlformats.org/officeDocument/2006/relationships/image" Target="../media/image41.jpeg"/><Relationship Id="rId104" Type="http://schemas.openxmlformats.org/officeDocument/2006/relationships/image" Target="../media/image77.png"/><Relationship Id="rId105" Type="http://schemas.openxmlformats.org/officeDocument/2006/relationships/image" Target="../media/image41.jpeg"/><Relationship Id="rId106" Type="http://schemas.openxmlformats.org/officeDocument/2006/relationships/image" Target="../media/image76.png"/><Relationship Id="rId107" Type="http://schemas.openxmlformats.org/officeDocument/2006/relationships/image" Target="../media/image41.jpeg"/><Relationship Id="rId108" Type="http://schemas.openxmlformats.org/officeDocument/2006/relationships/image" Target="../media/image77.png"/><Relationship Id="rId109" Type="http://schemas.openxmlformats.org/officeDocument/2006/relationships/image" Target="../media/image41.jpeg"/><Relationship Id="rId110" Type="http://schemas.openxmlformats.org/officeDocument/2006/relationships/image" Target="../media/image78.png"/><Relationship Id="rId111" Type="http://schemas.openxmlformats.org/officeDocument/2006/relationships/image" Target="../media/image79.png"/><Relationship Id="rId112" Type="http://schemas.openxmlformats.org/officeDocument/2006/relationships/image" Target="../media/image41.jpeg"/><Relationship Id="rId113" Type="http://schemas.openxmlformats.org/officeDocument/2006/relationships/image" Target="../media/image76.png"/><Relationship Id="rId114" Type="http://schemas.openxmlformats.org/officeDocument/2006/relationships/image" Target="../media/image41.jpeg"/><Relationship Id="rId115" Type="http://schemas.openxmlformats.org/officeDocument/2006/relationships/image" Target="../media/image77.png"/><Relationship Id="rId116" Type="http://schemas.openxmlformats.org/officeDocument/2006/relationships/image" Target="../media/image41.jpeg"/><Relationship Id="rId117" Type="http://schemas.openxmlformats.org/officeDocument/2006/relationships/image" Target="../media/image77.png"/><Relationship Id="rId118" Type="http://schemas.openxmlformats.org/officeDocument/2006/relationships/image" Target="../media/image41.jpeg"/><Relationship Id="rId119" Type="http://schemas.openxmlformats.org/officeDocument/2006/relationships/image" Target="../media/image76.png"/><Relationship Id="rId120" Type="http://schemas.openxmlformats.org/officeDocument/2006/relationships/image" Target="../media/image41.jpeg"/><Relationship Id="rId121" Type="http://schemas.openxmlformats.org/officeDocument/2006/relationships/image" Target="../media/image77.png"/><Relationship Id="rId122" Type="http://schemas.openxmlformats.org/officeDocument/2006/relationships/image" Target="../media/image41.jpeg"/><Relationship Id="rId123" Type="http://schemas.openxmlformats.org/officeDocument/2006/relationships/image" Target="../media/image77.png"/><Relationship Id="rId124" Type="http://schemas.openxmlformats.org/officeDocument/2006/relationships/image" Target="../media/image41.jpeg"/><Relationship Id="rId125" Type="http://schemas.openxmlformats.org/officeDocument/2006/relationships/image" Target="../media/image76.png"/><Relationship Id="rId126" Type="http://schemas.openxmlformats.org/officeDocument/2006/relationships/image" Target="../media/image41.jpeg"/><Relationship Id="rId127" Type="http://schemas.openxmlformats.org/officeDocument/2006/relationships/image" Target="../media/image77.png"/><Relationship Id="rId128" Type="http://schemas.openxmlformats.org/officeDocument/2006/relationships/image" Target="../media/image41.jpeg"/><Relationship Id="rId129" Type="http://schemas.openxmlformats.org/officeDocument/2006/relationships/image" Target="../media/image77.png"/><Relationship Id="rId130" Type="http://schemas.openxmlformats.org/officeDocument/2006/relationships/image" Target="../media/image41.jpeg"/><Relationship Id="rId131" Type="http://schemas.openxmlformats.org/officeDocument/2006/relationships/image" Target="../media/image76.png"/><Relationship Id="rId132" Type="http://schemas.openxmlformats.org/officeDocument/2006/relationships/image" Target="../media/image41.jpeg"/><Relationship Id="rId133" Type="http://schemas.openxmlformats.org/officeDocument/2006/relationships/image" Target="../media/image78.png"/><Relationship Id="rId134" Type="http://schemas.openxmlformats.org/officeDocument/2006/relationships/image" Target="../media/image79.png"/><Relationship Id="rId135" Type="http://schemas.openxmlformats.org/officeDocument/2006/relationships/image" Target="../media/image41.jpeg"/><Relationship Id="rId136" Type="http://schemas.openxmlformats.org/officeDocument/2006/relationships/image" Target="../media/image77.png"/><Relationship Id="rId137" Type="http://schemas.openxmlformats.org/officeDocument/2006/relationships/image" Target="../media/image41.jpeg"/><Relationship Id="rId138" Type="http://schemas.openxmlformats.org/officeDocument/2006/relationships/image" Target="../media/image77.png"/><Relationship Id="rId139" Type="http://schemas.openxmlformats.org/officeDocument/2006/relationships/image" Target="../media/image41.jpeg"/><Relationship Id="rId140" Type="http://schemas.openxmlformats.org/officeDocument/2006/relationships/image" Target="../media/image77.png"/><Relationship Id="rId141" Type="http://schemas.openxmlformats.org/officeDocument/2006/relationships/image" Target="../media/image41.jpeg"/><Relationship Id="rId142" Type="http://schemas.openxmlformats.org/officeDocument/2006/relationships/image" Target="../media/image77.png"/><Relationship Id="rId143" Type="http://schemas.openxmlformats.org/officeDocument/2006/relationships/image" Target="../media/image41.jpeg"/><Relationship Id="rId144" Type="http://schemas.openxmlformats.org/officeDocument/2006/relationships/image" Target="../media/image77.png"/><Relationship Id="rId145" Type="http://schemas.openxmlformats.org/officeDocument/2006/relationships/image" Target="../media/image41.jpeg"/><Relationship Id="rId146" Type="http://schemas.openxmlformats.org/officeDocument/2006/relationships/image" Target="../media/image80.png"/><Relationship Id="rId147" Type="http://schemas.openxmlformats.org/officeDocument/2006/relationships/image" Target="../media/image81.jpeg"/><Relationship Id="rId148" Type="http://schemas.openxmlformats.org/officeDocument/2006/relationships/image" Target="../media/image41.jpeg"/><Relationship Id="rId149" Type="http://schemas.openxmlformats.org/officeDocument/2006/relationships/image" Target="../media/image82.png"/><Relationship Id="rId150" Type="http://schemas.openxmlformats.org/officeDocument/2006/relationships/image" Target="../media/image83.png"/><Relationship Id="rId151" Type="http://schemas.openxmlformats.org/officeDocument/2006/relationships/image" Target="../media/image41.jpeg"/><Relationship Id="rId152" Type="http://schemas.openxmlformats.org/officeDocument/2006/relationships/image" Target="../media/image84.png"/><Relationship Id="rId153" Type="http://schemas.openxmlformats.org/officeDocument/2006/relationships/image" Target="../media/image41.jpeg"/><Relationship Id="rId154" Type="http://schemas.openxmlformats.org/officeDocument/2006/relationships/image" Target="../media/image85.png"/><Relationship Id="rId155" Type="http://schemas.openxmlformats.org/officeDocument/2006/relationships/image" Target="../media/image41.jpeg"/><Relationship Id="rId156" Type="http://schemas.openxmlformats.org/officeDocument/2006/relationships/image" Target="../media/image84.png"/><Relationship Id="rId157" Type="http://schemas.openxmlformats.org/officeDocument/2006/relationships/image" Target="../media/image41.jpeg"/><Relationship Id="rId158" Type="http://schemas.openxmlformats.org/officeDocument/2006/relationships/image" Target="../media/image85.png"/><Relationship Id="rId159" Type="http://schemas.openxmlformats.org/officeDocument/2006/relationships/image" Target="../media/image41.jpeg"/><Relationship Id="rId160" Type="http://schemas.openxmlformats.org/officeDocument/2006/relationships/image" Target="../media/image84.png"/><Relationship Id="rId161" Type="http://schemas.openxmlformats.org/officeDocument/2006/relationships/image" Target="../media/image41.jpeg"/><Relationship Id="rId162" Type="http://schemas.openxmlformats.org/officeDocument/2006/relationships/image" Target="../media/image85.png"/><Relationship Id="rId163" Type="http://schemas.openxmlformats.org/officeDocument/2006/relationships/image" Target="../media/image41.jpeg"/><Relationship Id="rId164" Type="http://schemas.openxmlformats.org/officeDocument/2006/relationships/image" Target="../media/image86.png"/><Relationship Id="rId165" Type="http://schemas.openxmlformats.org/officeDocument/2006/relationships/image" Target="../media/image87.png"/><Relationship Id="rId166" Type="http://schemas.openxmlformats.org/officeDocument/2006/relationships/image" Target="../media/image41.jpeg"/><Relationship Id="rId167" Type="http://schemas.openxmlformats.org/officeDocument/2006/relationships/image" Target="../media/image84.png"/><Relationship Id="rId168" Type="http://schemas.openxmlformats.org/officeDocument/2006/relationships/image" Target="../media/image41.jpeg"/><Relationship Id="rId169" Type="http://schemas.openxmlformats.org/officeDocument/2006/relationships/image" Target="../media/image85.png"/><Relationship Id="rId170" Type="http://schemas.openxmlformats.org/officeDocument/2006/relationships/image" Target="../media/image41.jpeg"/><Relationship Id="rId171" Type="http://schemas.openxmlformats.org/officeDocument/2006/relationships/image" Target="../media/image85.png"/><Relationship Id="rId172" Type="http://schemas.openxmlformats.org/officeDocument/2006/relationships/image" Target="../media/image41.jpeg"/><Relationship Id="rId173" Type="http://schemas.openxmlformats.org/officeDocument/2006/relationships/image" Target="../media/image84.png"/><Relationship Id="rId174" Type="http://schemas.openxmlformats.org/officeDocument/2006/relationships/image" Target="../media/image41.jpeg"/><Relationship Id="rId175" Type="http://schemas.openxmlformats.org/officeDocument/2006/relationships/image" Target="../media/image85.png"/><Relationship Id="rId176" Type="http://schemas.openxmlformats.org/officeDocument/2006/relationships/image" Target="../media/image41.jpeg"/><Relationship Id="rId177" Type="http://schemas.openxmlformats.org/officeDocument/2006/relationships/image" Target="../media/image85.png"/><Relationship Id="rId178" Type="http://schemas.openxmlformats.org/officeDocument/2006/relationships/image" Target="../media/image41.jpeg"/><Relationship Id="rId179" Type="http://schemas.openxmlformats.org/officeDocument/2006/relationships/image" Target="../media/image84.png"/><Relationship Id="rId180" Type="http://schemas.openxmlformats.org/officeDocument/2006/relationships/image" Target="../media/image41.jpeg"/><Relationship Id="rId181" Type="http://schemas.openxmlformats.org/officeDocument/2006/relationships/image" Target="../media/image85.png"/><Relationship Id="rId182" Type="http://schemas.openxmlformats.org/officeDocument/2006/relationships/image" Target="../media/image41.jpeg"/><Relationship Id="rId183" Type="http://schemas.openxmlformats.org/officeDocument/2006/relationships/image" Target="../media/image85.png"/><Relationship Id="rId184" Type="http://schemas.openxmlformats.org/officeDocument/2006/relationships/image" Target="../media/image41.jpeg"/><Relationship Id="rId185" Type="http://schemas.openxmlformats.org/officeDocument/2006/relationships/image" Target="../media/image84.png"/><Relationship Id="rId186" Type="http://schemas.openxmlformats.org/officeDocument/2006/relationships/image" Target="../media/image41.jpeg"/><Relationship Id="rId187" Type="http://schemas.openxmlformats.org/officeDocument/2006/relationships/image" Target="../media/image86.png"/><Relationship Id="rId188" Type="http://schemas.openxmlformats.org/officeDocument/2006/relationships/image" Target="../media/image87.png"/><Relationship Id="rId189" Type="http://schemas.openxmlformats.org/officeDocument/2006/relationships/image" Target="../media/image41.jpeg"/><Relationship Id="rId190" Type="http://schemas.openxmlformats.org/officeDocument/2006/relationships/image" Target="../media/image85.png"/><Relationship Id="rId191" Type="http://schemas.openxmlformats.org/officeDocument/2006/relationships/image" Target="../media/image41.jpeg"/><Relationship Id="rId192" Type="http://schemas.openxmlformats.org/officeDocument/2006/relationships/image" Target="../media/image85.png"/><Relationship Id="rId193" Type="http://schemas.openxmlformats.org/officeDocument/2006/relationships/image" Target="../media/image41.jpeg"/><Relationship Id="rId194" Type="http://schemas.openxmlformats.org/officeDocument/2006/relationships/image" Target="../media/image85.png"/><Relationship Id="rId195" Type="http://schemas.openxmlformats.org/officeDocument/2006/relationships/image" Target="../media/image41.jpeg"/><Relationship Id="rId196" Type="http://schemas.openxmlformats.org/officeDocument/2006/relationships/image" Target="../media/image85.png"/><Relationship Id="rId197" Type="http://schemas.openxmlformats.org/officeDocument/2006/relationships/image" Target="../media/image41.jpeg"/><Relationship Id="rId198" Type="http://schemas.openxmlformats.org/officeDocument/2006/relationships/image" Target="../media/image85.png"/><Relationship Id="rId199" Type="http://schemas.openxmlformats.org/officeDocument/2006/relationships/image" Target="../media/image41.jpeg"/><Relationship Id="rId200" Type="http://schemas.openxmlformats.org/officeDocument/2006/relationships/image" Target="../media/image88.png"/><Relationship Id="rId201" Type="http://schemas.openxmlformats.org/officeDocument/2006/relationships/image" Target="../media/image59.gif"/><Relationship Id="rId202" Type="http://schemas.openxmlformats.org/officeDocument/2006/relationships/image" Target="../media/image59.gif"/><Relationship Id="rId203" Type="http://schemas.openxmlformats.org/officeDocument/2006/relationships/image" Target="../media/image59.gif"/><Relationship Id="rId204" Type="http://schemas.openxmlformats.org/officeDocument/2006/relationships/image" Target="../media/image59.gif"/><Relationship Id="rId205" Type="http://schemas.openxmlformats.org/officeDocument/2006/relationships/slideLayout" Target="../slideLayouts/slideLayout1.xml"/><Relationship Id="rId20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2.png"/><Relationship Id="rId17" Type="http://schemas.openxmlformats.org/officeDocument/2006/relationships/image" Target="../media/image93.png"/><Relationship Id="rId18" Type="http://schemas.openxmlformats.org/officeDocument/2006/relationships/image" Target="../media/image94.png"/><Relationship Id="rId19" Type="http://schemas.openxmlformats.org/officeDocument/2006/relationships/image" Target="../media/image32.png"/><Relationship Id="rId20" Type="http://schemas.openxmlformats.org/officeDocument/2006/relationships/image" Target="../media/image95.png"/><Relationship Id="rId21" Type="http://schemas.openxmlformats.org/officeDocument/2006/relationships/image" Target="../media/image96.png"/><Relationship Id="rId22" Type="http://schemas.openxmlformats.org/officeDocument/2006/relationships/image" Target="../media/image97.png"/><Relationship Id="rId23" Type="http://schemas.openxmlformats.org/officeDocument/2006/relationships/image" Target="../media/image98.png"/><Relationship Id="rId24" Type="http://schemas.openxmlformats.org/officeDocument/2006/relationships/image" Target="../media/image99.png"/><Relationship Id="rId25" Type="http://schemas.openxmlformats.org/officeDocument/2006/relationships/image" Target="../media/image100.png"/><Relationship Id="rId26" Type="http://schemas.openxmlformats.org/officeDocument/2006/relationships/image" Target="../media/image101.png"/><Relationship Id="rId27" Type="http://schemas.openxmlformats.org/officeDocument/2006/relationships/image" Target="../media/image102.png"/><Relationship Id="rId28" Type="http://schemas.openxmlformats.org/officeDocument/2006/relationships/image" Target="../media/image103.png"/><Relationship Id="rId29" Type="http://schemas.openxmlformats.org/officeDocument/2006/relationships/image" Target="../media/image104.png"/><Relationship Id="rId30" Type="http://schemas.openxmlformats.org/officeDocument/2006/relationships/image" Target="../media/image105.png"/><Relationship Id="rId31" Type="http://schemas.openxmlformats.org/officeDocument/2006/relationships/image" Target="../media/image106.png"/><Relationship Id="rId32" Type="http://schemas.openxmlformats.org/officeDocument/2006/relationships/image" Target="../media/image92.png"/><Relationship Id="rId33" Type="http://schemas.openxmlformats.org/officeDocument/2006/relationships/image" Target="../media/image93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92.png"/><Relationship Id="rId37" Type="http://schemas.openxmlformats.org/officeDocument/2006/relationships/image" Target="../media/image93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26.jpeg"/><Relationship Id="rId41" Type="http://schemas.openxmlformats.org/officeDocument/2006/relationships/image" Target="../media/image27.jpeg"/><Relationship Id="rId42" Type="http://schemas.openxmlformats.org/officeDocument/2006/relationships/image" Target="../media/image92.png"/><Relationship Id="rId43" Type="http://schemas.openxmlformats.org/officeDocument/2006/relationships/image" Target="../media/image93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107.png"/><Relationship Id="rId51" Type="http://schemas.openxmlformats.org/officeDocument/2006/relationships/image" Target="../media/image108.png"/><Relationship Id="rId52" Type="http://schemas.openxmlformats.org/officeDocument/2006/relationships/image" Target="../media/image92.png"/><Relationship Id="rId53" Type="http://schemas.openxmlformats.org/officeDocument/2006/relationships/image" Target="../media/image93.png"/><Relationship Id="rId54" Type="http://schemas.openxmlformats.org/officeDocument/2006/relationships/image" Target="../media/image92.png"/><Relationship Id="rId55" Type="http://schemas.openxmlformats.org/officeDocument/2006/relationships/image" Target="../media/image93.png"/><Relationship Id="rId56" Type="http://schemas.openxmlformats.org/officeDocument/2006/relationships/image" Target="../media/image31.png"/><Relationship Id="rId57" Type="http://schemas.openxmlformats.org/officeDocument/2006/relationships/image" Target="../media/image32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kch.kts.ru/cdo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jpeg"/><Relationship Id="rId3" Type="http://schemas.openxmlformats.org/officeDocument/2006/relationships/image" Target="../media/image11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85880" y="1143000"/>
            <a:ext cx="792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Урок - путешествие </a:t>
            </a:r>
            <a:br>
              <a:rPr sz="18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  по теме:    «Действия с обыкновенными дробями».</a:t>
            </a: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000032"/>
                </a:solidFill>
                <a:latin typeface="Arial"/>
              </a:rPr>
              <a:t>6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8760" y="200160"/>
            <a:ext cx="82436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4200" y="0"/>
            <a:ext cx="5857920" cy="28576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Д(12;20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 rot="20640000">
            <a:off x="1018800" y="5334120"/>
            <a:ext cx="2040120" cy="94428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429080" y="535788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7286760" y="5072040"/>
            <a:ext cx="161280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857920" y="521496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"/>
          <p:cNvSpPr/>
          <p:nvPr/>
        </p:nvSpPr>
        <p:spPr>
          <a:xfrm>
            <a:off x="6929280" y="5826240"/>
            <a:ext cx="161316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35788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385776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4" dur="indefinite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9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dur="indefinite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8" dur="indefinite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-0.15851 -0.00046 -0.31702 -0.00046 -0.47553 -0.00115 C -0.49966 -0.00138 -0.52118 -0.01018 -0.54566 -0.01018 E">
                                      <p:cBhvr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3" dur="indefinite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8" dur="indefinite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3" dur="indefinite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"/>
          <p:cNvSpPr/>
          <p:nvPr/>
        </p:nvSpPr>
        <p:spPr>
          <a:xfrm rot="20640000">
            <a:off x="1090080" y="526248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7104240" y="507204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142920" y="214200"/>
            <a:ext cx="5857920" cy="28576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К(5;7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 rot="20760000">
            <a:off x="2647800" y="4892760"/>
            <a:ext cx="161316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"/>
          <p:cNvSpPr/>
          <p:nvPr/>
        </p:nvSpPr>
        <p:spPr>
          <a:xfrm>
            <a:off x="6286680" y="50720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7000920" y="564372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 rot="21120000">
            <a:off x="4341960" y="57765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9" dur="indefinite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dur="indefinite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4" dur="indefinite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dur="indefinite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9" dur="indefinite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dur="indefinite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4" dur="indefinite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dur="indefinite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9" dur="indefinite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03507 -0.24097 E">
                                      <p:cBhvr>
                                        <p:cTn id="11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Сформулируйте основное свойство дроб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Если числитель и знаменатель дроби умножить (разделить)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32"/>
                </a:solidFill>
                <a:latin typeface="Times New Roman"/>
              </a:rPr>
              <a:t>на одно и то же натуральное число,           то получится равная ей дробь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15080" y="4214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20580000">
            <a:off x="2315880" y="4296960"/>
            <a:ext cx="306216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айдите равные дроби,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57200" y="207180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357720" y="207180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429160" y="2071800"/>
                <a:ext cx="13575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86760" y="2071800"/>
                <a:ext cx="135720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071960" y="4500720"/>
            <a:ext cx="92880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8000" spc="-1" strike="noStrike">
                <a:solidFill>
                  <a:srgbClr val="006699"/>
                </a:solidFill>
                <a:latin typeface="Times New Roman"/>
                <a:ea typeface="DejaVu San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15" dur="indefinite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10417 0.33449 E">
                                      <p:cBhvr>
                                        <p:cTn id="11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dur="indefinite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20" dur="indefinite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19775 0.33449 E">
                                      <p:cBhvr>
                                        <p:cTn id="12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dur="indefinite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25" dur="indefinite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dur="indefinite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0" dur="indefinite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500040"/>
            <a:ext cx="357192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Озеро Табашино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800" y="103320"/>
            <a:ext cx="82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08640" y="334656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42920" y="928800"/>
            <a:ext cx="8858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)15-2   =          4)0,25:    =          7)   :   =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 startAt="2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*0,5=          5)8   +3   =          8)(  )³=      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3)16    -10=       6)10   *7=           9)3*6   =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00120" y="1500120"/>
            <a:ext cx="257400" cy="111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42960" y="2857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143000" y="4143240"/>
            <a:ext cx="257040" cy="1114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572000" y="142884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857760" y="2714760"/>
            <a:ext cx="257040" cy="1123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581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500720" y="271476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4071960" y="4000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6715080" y="1357200"/>
            <a:ext cx="257400" cy="111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7215120" y="1357200"/>
            <a:ext cx="25740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6858000" y="2714760"/>
            <a:ext cx="257040" cy="1114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7429680" y="4000680"/>
            <a:ext cx="257040" cy="1104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15620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90486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7120" y="42876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DejaVu Sans"/>
              </a:rPr>
              <a:t>Озеро Табашино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55240" y="3721680"/>
            <a:ext cx="3831480" cy="3422160"/>
            <a:chOff x="255240" y="3721680"/>
            <a:chExt cx="3831480" cy="3422160"/>
          </a:xfrm>
        </p:grpSpPr>
        <p:grpSp>
          <p:nvGrpSpPr>
            <p:cNvPr id="196" name=""/>
            <p:cNvGrpSpPr/>
            <p:nvPr/>
          </p:nvGrpSpPr>
          <p:grpSpPr>
            <a:xfrm>
              <a:off x="1080360" y="3819600"/>
              <a:ext cx="1485360" cy="1241280"/>
              <a:chOff x="1080360" y="3819600"/>
              <a:chExt cx="1485360" cy="1241280"/>
            </a:xfrm>
          </p:grpSpPr>
          <p:sp>
            <p:nvSpPr>
              <p:cNvPr id="197" name=""/>
              <p:cNvSpPr/>
              <p:nvPr/>
            </p:nvSpPr>
            <p:spPr>
              <a:xfrm rot="17520000">
                <a:off x="1591560" y="3965040"/>
                <a:ext cx="276840" cy="336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198" name="" descr=""/>
              <p:cNvPicPr/>
              <p:nvPr/>
            </p:nvPicPr>
            <p:blipFill>
              <a:blip r:embed="rId2"/>
              <a:stretch/>
            </p:blipFill>
            <p:spPr>
              <a:xfrm rot="4020000">
                <a:off x="1546560" y="4100400"/>
                <a:ext cx="98136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3"/>
              <a:stretch/>
            </p:blipFill>
            <p:spPr>
              <a:xfrm rot="17520000">
                <a:off x="1621440" y="4331520"/>
                <a:ext cx="570960" cy="4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flipH="1" rot="17580000">
                <a:off x="2237400" y="4647240"/>
                <a:ext cx="68040" cy="298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080360" y="3819600"/>
                <a:ext cx="817920" cy="954720"/>
                <a:chOff x="1080360" y="3819600"/>
                <a:chExt cx="817920" cy="95472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080360" y="3819600"/>
                  <a:ext cx="817920" cy="954720"/>
                  <a:chOff x="1080360" y="3819600"/>
                  <a:chExt cx="817920" cy="954720"/>
                </a:xfrm>
              </p:grpSpPr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9320000">
                    <a:off x="1130400" y="3962160"/>
                    <a:ext cx="590040" cy="3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9320000">
                    <a:off x="1207800" y="4151160"/>
                    <a:ext cx="6037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05" name=""/>
                <p:cNvSpPr/>
                <p:nvPr/>
              </p:nvSpPr>
              <p:spPr>
                <a:xfrm rot="19320000">
                  <a:off x="1618200" y="411732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9320000">
                  <a:off x="1549440" y="417528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9320000">
                  <a:off x="1478880" y="4260240"/>
                  <a:ext cx="48960" cy="100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9320000">
                  <a:off x="1456200" y="4125240"/>
                  <a:ext cx="77400" cy="770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9320000">
                  <a:off x="1509120" y="4066920"/>
                  <a:ext cx="84240" cy="867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2106000" y="3721680"/>
              <a:ext cx="832320" cy="1233000"/>
              <a:chOff x="2106000" y="3721680"/>
              <a:chExt cx="832320" cy="123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2571840" y="4114800"/>
                <a:ext cx="226800" cy="3031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33720" y="4295880"/>
                <a:ext cx="804600" cy="6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90600" y="4343400"/>
                <a:ext cx="468360" cy="4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flipH="1">
                <a:off x="2441520" y="486900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106000" y="3721680"/>
                <a:ext cx="695160" cy="761040"/>
                <a:chOff x="2106000" y="3721680"/>
                <a:chExt cx="695160" cy="7610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2106000" y="3721680"/>
                  <a:ext cx="695160" cy="761040"/>
                  <a:chOff x="2106000" y="3721680"/>
                  <a:chExt cx="695160" cy="761040"/>
                </a:xfrm>
              </p:grpSpPr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rot="1800000">
                    <a:off x="2218680" y="3841560"/>
                    <a:ext cx="55260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800000">
                    <a:off x="2157120" y="4007880"/>
                    <a:ext cx="565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19" name=""/>
                <p:cNvSpPr/>
                <p:nvPr/>
              </p:nvSpPr>
              <p:spPr>
                <a:xfrm rot="1800000">
                  <a:off x="2580840" y="4152960"/>
                  <a:ext cx="54000" cy="129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800000">
                  <a:off x="2513160" y="4114800"/>
                  <a:ext cx="5400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800000">
                  <a:off x="2449440" y="4092120"/>
                  <a:ext cx="44640" cy="82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800000">
                  <a:off x="2547720" y="4049280"/>
                  <a:ext cx="69840" cy="637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800000">
                  <a:off x="2603520" y="407484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692280" y="4165200"/>
              <a:ext cx="2845800" cy="2443680"/>
              <a:chOff x="692280" y="4165200"/>
              <a:chExt cx="2845800" cy="2443680"/>
            </a:xfrm>
          </p:grpSpPr>
          <p:pic>
            <p:nvPicPr>
              <p:cNvPr id="2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3320" y="5176800"/>
                <a:ext cx="2774520" cy="143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4240" y="4861080"/>
                <a:ext cx="2823840" cy="630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7" name=""/>
              <p:cNvGrpSpPr/>
              <p:nvPr/>
            </p:nvGrpSpPr>
            <p:grpSpPr>
              <a:xfrm>
                <a:off x="692280" y="4165200"/>
                <a:ext cx="2818080" cy="1138320"/>
                <a:chOff x="692280" y="4165200"/>
                <a:chExt cx="2818080" cy="1138320"/>
              </a:xfrm>
            </p:grpSpPr>
            <p:sp>
              <p:nvSpPr>
                <p:cNvPr id="228" name=""/>
                <p:cNvSpPr/>
                <p:nvPr/>
              </p:nvSpPr>
              <p:spPr>
                <a:xfrm rot="5160000">
                  <a:off x="3075480" y="4906800"/>
                  <a:ext cx="420840" cy="1000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692280" y="4165200"/>
                  <a:ext cx="2818080" cy="1138320"/>
                  <a:chOff x="692280" y="4165200"/>
                  <a:chExt cx="2818080" cy="11383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0580000">
                    <a:off x="703440" y="5011200"/>
                    <a:ext cx="3855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0580000">
                    <a:off x="802800" y="4867560"/>
                    <a:ext cx="378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21000000">
                    <a:off x="893520" y="4747320"/>
                    <a:ext cx="377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1015560" y="4403520"/>
                    <a:ext cx="673200" cy="385560"/>
                    <a:chOff x="1015560" y="4403520"/>
                    <a:chExt cx="673200" cy="38556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00000">
                      <a:off x="1020240" y="4645800"/>
                      <a:ext cx="393120" cy="12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00000">
                      <a:off x="1159560" y="4531680"/>
                      <a:ext cx="38520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rot="780000">
                      <a:off x="1289160" y="4444920"/>
                      <a:ext cx="387000" cy="15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1407600" y="4193280"/>
                    <a:ext cx="745200" cy="491400"/>
                    <a:chOff x="1407600" y="4193280"/>
                    <a:chExt cx="745200" cy="4914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rot="1380000">
                      <a:off x="1430280" y="4419720"/>
                      <a:ext cx="39312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rot="1380000">
                      <a:off x="1588680" y="4328640"/>
                      <a:ext cx="38448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860000">
                      <a:off x="1732320" y="4274640"/>
                      <a:ext cx="38484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43920" y="4165200"/>
                    <a:ext cx="771840" cy="498960"/>
                    <a:chOff x="1843920" y="4165200"/>
                    <a:chExt cx="771840" cy="4989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rot="2220000">
                      <a:off x="1892160" y="4285800"/>
                      <a:ext cx="36468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rot="2220000">
                      <a:off x="2046960" y="4239720"/>
                      <a:ext cx="35712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640000">
                      <a:off x="2187720" y="4240080"/>
                      <a:ext cx="35676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229480" y="4257720"/>
                    <a:ext cx="795600" cy="547200"/>
                    <a:chOff x="2229480" y="4257720"/>
                    <a:chExt cx="795600" cy="54720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3240000">
                      <a:off x="2202840" y="4394880"/>
                      <a:ext cx="4136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3240000">
                      <a:off x="2436480" y="4436640"/>
                      <a:ext cx="40572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3660000">
                      <a:off x="2645280" y="4493880"/>
                      <a:ext cx="40536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2711880" y="4426920"/>
                    <a:ext cx="610200" cy="633960"/>
                    <a:chOff x="2711880" y="4426920"/>
                    <a:chExt cx="610200" cy="6339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4080000">
                      <a:off x="2637720" y="4584600"/>
                      <a:ext cx="428040" cy="12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4080000">
                      <a:off x="2823480" y="4665600"/>
                      <a:ext cx="41940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4500000">
                      <a:off x="2980800" y="4757760"/>
                      <a:ext cx="41940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 rot="5160000">
                    <a:off x="3158640" y="5004360"/>
                    <a:ext cx="413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339000" y="4977720"/>
                    <a:ext cx="17136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92280" y="5111640"/>
                    <a:ext cx="2714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6" name=""/>
            <p:cNvGrpSpPr/>
            <p:nvPr/>
          </p:nvGrpSpPr>
          <p:grpSpPr>
            <a:xfrm>
              <a:off x="1093680" y="4660920"/>
              <a:ext cx="804960" cy="804600"/>
              <a:chOff x="1093680" y="4660920"/>
              <a:chExt cx="804960" cy="8046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093680" y="4808160"/>
                <a:ext cx="804960" cy="65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31840" y="4892040"/>
                <a:ext cx="46836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1282680" y="4719240"/>
                <a:ext cx="122400" cy="15984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3" y="63"/>
                    </a:lnTo>
                    <a:lnTo>
                      <a:pt x="0" y="0"/>
                    </a:lnTo>
                    <a:lnTo>
                      <a:pt x="60" y="45"/>
                    </a:lnTo>
                    <a:lnTo>
                      <a:pt x="78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44600" y="4660920"/>
                <a:ext cx="57240" cy="199800"/>
              </a:xfrm>
              <a:custGeom>
                <a:avLst/>
                <a:gdLst/>
                <a:ahLst/>
                <a:rect l="l" t="t" r="r" b="b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06520" y="4682880"/>
                <a:ext cx="60480" cy="191520"/>
              </a:xfrm>
              <a:custGeom>
                <a:avLst/>
                <a:gdLst/>
                <a:ahLst/>
                <a:rect l="l" t="t" r="r" b="b"/>
                <a:pathLst>
                  <a:path w="39" h="123">
                    <a:moveTo>
                      <a:pt x="0" y="123"/>
                    </a:moveTo>
                    <a:lnTo>
                      <a:pt x="12" y="28"/>
                    </a:lnTo>
                    <a:lnTo>
                      <a:pt x="35" y="0"/>
                    </a:lnTo>
                    <a:lnTo>
                      <a:pt x="39" y="5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11200" y="4696920"/>
                <a:ext cx="131760" cy="180720"/>
              </a:xfrm>
              <a:custGeom>
                <a:avLst/>
                <a:gdLst/>
                <a:ahLst/>
                <a:rect l="l" t="t" r="r" b="b"/>
                <a:pathLst>
                  <a:path w="84" h="116">
                    <a:moveTo>
                      <a:pt x="0" y="116"/>
                    </a:moveTo>
                    <a:lnTo>
                      <a:pt x="40" y="27"/>
                    </a:lnTo>
                    <a:lnTo>
                      <a:pt x="78" y="0"/>
                    </a:lnTo>
                    <a:lnTo>
                      <a:pt x="84" y="49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35040" y="5380200"/>
                <a:ext cx="55800" cy="266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25680" y="4635360"/>
              <a:ext cx="804960" cy="806760"/>
              <a:chOff x="2425680" y="4635360"/>
              <a:chExt cx="804960" cy="806760"/>
            </a:xfrm>
          </p:grpSpPr>
          <p:pic>
            <p:nvPicPr>
              <p:cNvPr id="26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25680" y="4782960"/>
                <a:ext cx="804960" cy="65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24120" y="4867200"/>
                <a:ext cx="468360" cy="4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flipH="1">
                <a:off x="2919240" y="46944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3" y="63"/>
                    </a:lnTo>
                    <a:lnTo>
                      <a:pt x="0" y="0"/>
                    </a:lnTo>
                    <a:lnTo>
                      <a:pt x="60" y="45"/>
                    </a:lnTo>
                    <a:lnTo>
                      <a:pt x="78" y="1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24280" y="4635360"/>
                <a:ext cx="56880" cy="200160"/>
              </a:xfrm>
              <a:custGeom>
                <a:avLst/>
                <a:gdLst/>
                <a:ahLst/>
                <a:rect l="l" t="t" r="r" b="b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856960" y="4657680"/>
                <a:ext cx="60120" cy="193680"/>
              </a:xfrm>
              <a:custGeom>
                <a:avLst/>
                <a:gdLst/>
                <a:ahLst/>
                <a:rect l="l" t="t" r="r" b="b"/>
                <a:pathLst>
                  <a:path w="39" h="123">
                    <a:moveTo>
                      <a:pt x="0" y="123"/>
                    </a:moveTo>
                    <a:lnTo>
                      <a:pt x="12" y="28"/>
                    </a:lnTo>
                    <a:lnTo>
                      <a:pt x="35" y="0"/>
                    </a:lnTo>
                    <a:lnTo>
                      <a:pt x="39" y="5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781360" y="4672080"/>
                <a:ext cx="131760" cy="182520"/>
              </a:xfrm>
              <a:custGeom>
                <a:avLst/>
                <a:gdLst/>
                <a:ahLst/>
                <a:rect l="l" t="t" r="r" b="b"/>
                <a:pathLst>
                  <a:path w="84" h="116">
                    <a:moveTo>
                      <a:pt x="0" y="116"/>
                    </a:moveTo>
                    <a:lnTo>
                      <a:pt x="40" y="27"/>
                    </a:lnTo>
                    <a:lnTo>
                      <a:pt x="78" y="0"/>
                    </a:lnTo>
                    <a:lnTo>
                      <a:pt x="84" y="49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2735280" y="535608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917280" y="5558040"/>
              <a:ext cx="1283400" cy="1585800"/>
              <a:chOff x="917280" y="5558040"/>
              <a:chExt cx="1283400" cy="1585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917280" y="5558040"/>
                <a:ext cx="872640" cy="957600"/>
                <a:chOff x="917280" y="5558040"/>
                <a:chExt cx="872640" cy="9576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 rot="8640000">
                  <a:off x="1103400" y="6098400"/>
                  <a:ext cx="297360" cy="364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917280" y="5558040"/>
                  <a:ext cx="872640" cy="843480"/>
                  <a:chOff x="917280" y="5558040"/>
                  <a:chExt cx="872640" cy="8434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917280" y="5558040"/>
                    <a:ext cx="872640" cy="843480"/>
                    <a:chOff x="917280" y="5558040"/>
                    <a:chExt cx="872640" cy="843480"/>
                  </a:xfrm>
                </p:grpSpPr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 rot="14760000">
                      <a:off x="862560" y="5772600"/>
                      <a:ext cx="67788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 rot="14760000">
                      <a:off x="1108080" y="5784480"/>
                      <a:ext cx="69156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79" name=""/>
                  <p:cNvSpPr/>
                  <p:nvPr/>
                </p:nvSpPr>
                <p:spPr>
                  <a:xfrm flipV="1" rot="6840000">
                    <a:off x="1264320" y="6096240"/>
                    <a:ext cx="648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V="1" rot="6840000">
                    <a:off x="1303560" y="6009840"/>
                    <a:ext cx="6480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6840000">
                    <a:off x="1346760" y="5947560"/>
                    <a:ext cx="529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V="1" rot="6840000">
                    <a:off x="1175760" y="5986800"/>
                    <a:ext cx="838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V="1" rot="6840000">
                    <a:off x="1136880" y="6051960"/>
                    <a:ext cx="892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84" name="" descr=""/>
              <p:cNvPicPr/>
              <p:nvPr/>
            </p:nvPicPr>
            <p:blipFill>
              <a:blip r:embed="rId18"/>
              <a:stretch/>
            </p:blipFill>
            <p:spPr>
              <a:xfrm rot="2040000">
                <a:off x="1065240" y="6171840"/>
                <a:ext cx="101088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9"/>
              <a:stretch/>
            </p:blipFill>
            <p:spPr>
              <a:xfrm rot="2040000">
                <a:off x="1383840" y="6193440"/>
                <a:ext cx="588240" cy="4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flipH="1" rot="19560000">
                <a:off x="1644480" y="6820200"/>
                <a:ext cx="67680" cy="291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55240" y="6148800"/>
              <a:ext cx="759240" cy="656280"/>
              <a:chOff x="255240" y="6148800"/>
              <a:chExt cx="759240" cy="656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255240" y="6148800"/>
                <a:ext cx="759240" cy="656280"/>
                <a:chOff x="255240" y="6148800"/>
                <a:chExt cx="759240" cy="656280"/>
              </a:xfrm>
            </p:grpSpPr>
            <p:pic>
              <p:nvPicPr>
                <p:cNvPr id="289" name="" descr=""/>
                <p:cNvPicPr/>
                <p:nvPr/>
              </p:nvPicPr>
              <p:blipFill>
                <a:blip r:embed="rId20"/>
                <a:stretch/>
              </p:blipFill>
              <p:spPr>
                <a:xfrm rot="10260000">
                  <a:off x="272520" y="6480360"/>
                  <a:ext cx="671400" cy="27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1"/>
                <a:stretch/>
              </p:blipFill>
              <p:spPr>
                <a:xfrm rot="10260000">
                  <a:off x="303840" y="6200280"/>
                  <a:ext cx="686160" cy="36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 flipH="1" rot="11340000">
                <a:off x="813600" y="635436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1340000">
                <a:off x="724320" y="6339960"/>
                <a:ext cx="6336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1340000">
                <a:off x="630720" y="6372720"/>
                <a:ext cx="52560" cy="1353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1340000">
                <a:off x="673920" y="6561720"/>
                <a:ext cx="82440" cy="10512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11340000">
                <a:off x="743040" y="6573960"/>
                <a:ext cx="88920" cy="1173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21300000">
              <a:off x="2125440" y="6500520"/>
              <a:ext cx="5238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384920" y="4473360"/>
              <a:ext cx="1485720" cy="1241280"/>
              <a:chOff x="1384920" y="4473360"/>
              <a:chExt cx="1485720" cy="1241280"/>
            </a:xfrm>
          </p:grpSpPr>
          <p:sp>
            <p:nvSpPr>
              <p:cNvPr id="298" name=""/>
              <p:cNvSpPr/>
              <p:nvPr/>
            </p:nvSpPr>
            <p:spPr>
              <a:xfrm rot="17520000">
                <a:off x="1896480" y="4618800"/>
                <a:ext cx="276840" cy="336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2"/>
              <a:stretch/>
            </p:blipFill>
            <p:spPr>
              <a:xfrm rot="4020000">
                <a:off x="1851480" y="4754160"/>
                <a:ext cx="98136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23"/>
              <a:stretch/>
            </p:blipFill>
            <p:spPr>
              <a:xfrm rot="17520000">
                <a:off x="1926000" y="4985280"/>
                <a:ext cx="570960" cy="45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flipH="1" rot="17580000">
                <a:off x="2541600" y="5300640"/>
                <a:ext cx="67320" cy="298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1384920" y="4473360"/>
                <a:ext cx="818280" cy="954720"/>
                <a:chOff x="1384920" y="4473360"/>
                <a:chExt cx="818280" cy="95472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1384920" y="4473360"/>
                  <a:ext cx="818280" cy="954720"/>
                  <a:chOff x="1384920" y="4473360"/>
                  <a:chExt cx="818280" cy="954720"/>
                </a:xfrm>
              </p:grpSpPr>
              <p:pic>
                <p:nvPicPr>
                  <p:cNvPr id="3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19320000">
                    <a:off x="1434960" y="4615920"/>
                    <a:ext cx="589320" cy="3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19320000">
                    <a:off x="1513440" y="4805280"/>
                    <a:ext cx="603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06" name=""/>
                <p:cNvSpPr/>
                <p:nvPr/>
              </p:nvSpPr>
              <p:spPr>
                <a:xfrm rot="19320000">
                  <a:off x="1923480" y="477108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9320000">
                  <a:off x="1854720" y="4829040"/>
                  <a:ext cx="5976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9320000">
                  <a:off x="1783800" y="4914000"/>
                  <a:ext cx="48960" cy="1008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9320000">
                  <a:off x="1761120" y="4779000"/>
                  <a:ext cx="77400" cy="770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9320000">
                  <a:off x="1813320" y="4720680"/>
                  <a:ext cx="84600" cy="871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87120" y="5573160"/>
              <a:ext cx="1299600" cy="1479240"/>
              <a:chOff x="2787120" y="5573160"/>
              <a:chExt cx="1299600" cy="1479240"/>
            </a:xfrm>
          </p:grpSpPr>
          <p:pic>
            <p:nvPicPr>
              <p:cNvPr id="312" name="" descr=""/>
              <p:cNvPicPr/>
              <p:nvPr/>
            </p:nvPicPr>
            <p:blipFill>
              <a:blip r:embed="rId26"/>
              <a:stretch/>
            </p:blipFill>
            <p:spPr>
              <a:xfrm rot="19080000">
                <a:off x="2928960" y="6078600"/>
                <a:ext cx="902160" cy="77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27"/>
              <a:stretch/>
            </p:blipFill>
            <p:spPr>
              <a:xfrm rot="2520000">
                <a:off x="3086640" y="6063840"/>
                <a:ext cx="5248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flipH="1" rot="2520000">
                <a:off x="3101400" y="6615720"/>
                <a:ext cx="61920" cy="31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3373200" y="5573160"/>
                <a:ext cx="713520" cy="954720"/>
                <a:chOff x="3373200" y="5573160"/>
                <a:chExt cx="713520" cy="954720"/>
              </a:xfrm>
            </p:grpSpPr>
            <p:sp>
              <p:nvSpPr>
                <p:cNvPr id="316" name=""/>
                <p:cNvSpPr/>
                <p:nvPr/>
              </p:nvSpPr>
              <p:spPr>
                <a:xfrm rot="2520000">
                  <a:off x="3660120" y="6113880"/>
                  <a:ext cx="264960" cy="373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3373200" y="5573160"/>
                  <a:ext cx="713520" cy="818640"/>
                  <a:chOff x="3373200" y="5573160"/>
                  <a:chExt cx="713520" cy="8186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373200" y="5573160"/>
                    <a:ext cx="713520" cy="818640"/>
                    <a:chOff x="3373200" y="5573160"/>
                    <a:chExt cx="713520" cy="818640"/>
                  </a:xfrm>
                </p:grpSpPr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 rot="4320000">
                      <a:off x="3508560" y="5814720"/>
                      <a:ext cx="69552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 rot="4320000">
                      <a:off x="3291120" y="5828040"/>
                      <a:ext cx="711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21" name=""/>
                  <p:cNvSpPr/>
                  <p:nvPr/>
                </p:nvSpPr>
                <p:spPr>
                  <a:xfrm rot="4320000">
                    <a:off x="3728520" y="6119280"/>
                    <a:ext cx="6624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4320000">
                    <a:off x="3700800" y="6027480"/>
                    <a:ext cx="6624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4320000">
                    <a:off x="3680640" y="5958360"/>
                    <a:ext cx="54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4320000">
                    <a:off x="3802320" y="6010200"/>
                    <a:ext cx="85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4320000">
                    <a:off x="3826800" y="6081840"/>
                    <a:ext cx="939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</p:grpSp>
      <p:sp>
        <p:nvSpPr>
          <p:cNvPr id="326" name=""/>
          <p:cNvSpPr/>
          <p:nvPr/>
        </p:nvSpPr>
        <p:spPr>
          <a:xfrm>
            <a:off x="228600" y="0"/>
            <a:ext cx="8686800" cy="496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Решите устно задачи: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Куплено 15 кг яблок на приготовление варенья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израсходовал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купленных яблок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килограммов яблок было израсходовано на варенье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килограммов яблок осталось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86080" y="1714680"/>
                <a:ext cx="41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7421400" y="4724280"/>
            <a:ext cx="1221120" cy="1896840"/>
            <a:chOff x="7421400" y="4724280"/>
            <a:chExt cx="1221120" cy="1896840"/>
          </a:xfrm>
        </p:grpSpPr>
        <p:sp>
          <p:nvSpPr>
            <p:cNvPr id="329" name=""/>
            <p:cNvSpPr/>
            <p:nvPr/>
          </p:nvSpPr>
          <p:spPr>
            <a:xfrm>
              <a:off x="7597800" y="4736880"/>
              <a:ext cx="820800" cy="510480"/>
            </a:xfrm>
            <a:custGeom>
              <a:avLst/>
              <a:gdLst/>
              <a:ahLst/>
              <a:rect l="l" t="t" r="r" b="b"/>
              <a:pathLst>
                <a:path w="335" h="198">
                  <a:moveTo>
                    <a:pt x="39" y="177"/>
                  </a:moveTo>
                  <a:cubicBezTo>
                    <a:pt x="41" y="182"/>
                    <a:pt x="55" y="186"/>
                    <a:pt x="71" y="189"/>
                  </a:cubicBezTo>
                  <a:cubicBezTo>
                    <a:pt x="87" y="192"/>
                    <a:pt x="115" y="192"/>
                    <a:pt x="135" y="193"/>
                  </a:cubicBezTo>
                  <a:cubicBezTo>
                    <a:pt x="155" y="194"/>
                    <a:pt x="174" y="196"/>
                    <a:pt x="191" y="197"/>
                  </a:cubicBezTo>
                  <a:cubicBezTo>
                    <a:pt x="208" y="198"/>
                    <a:pt x="227" y="198"/>
                    <a:pt x="239" y="197"/>
                  </a:cubicBezTo>
                  <a:cubicBezTo>
                    <a:pt x="251" y="196"/>
                    <a:pt x="255" y="192"/>
                    <a:pt x="263" y="189"/>
                  </a:cubicBezTo>
                  <a:cubicBezTo>
                    <a:pt x="271" y="186"/>
                    <a:pt x="284" y="181"/>
                    <a:pt x="287" y="177"/>
                  </a:cubicBezTo>
                  <a:cubicBezTo>
                    <a:pt x="290" y="173"/>
                    <a:pt x="286" y="168"/>
                    <a:pt x="283" y="165"/>
                  </a:cubicBezTo>
                  <a:cubicBezTo>
                    <a:pt x="280" y="162"/>
                    <a:pt x="273" y="162"/>
                    <a:pt x="271" y="157"/>
                  </a:cubicBezTo>
                  <a:cubicBezTo>
                    <a:pt x="269" y="152"/>
                    <a:pt x="268" y="142"/>
                    <a:pt x="271" y="137"/>
                  </a:cubicBezTo>
                  <a:cubicBezTo>
                    <a:pt x="274" y="132"/>
                    <a:pt x="280" y="130"/>
                    <a:pt x="287" y="125"/>
                  </a:cubicBezTo>
                  <a:cubicBezTo>
                    <a:pt x="294" y="120"/>
                    <a:pt x="306" y="114"/>
                    <a:pt x="311" y="105"/>
                  </a:cubicBezTo>
                  <a:cubicBezTo>
                    <a:pt x="316" y="96"/>
                    <a:pt x="317" y="82"/>
                    <a:pt x="319" y="69"/>
                  </a:cubicBezTo>
                  <a:cubicBezTo>
                    <a:pt x="321" y="56"/>
                    <a:pt x="335" y="39"/>
                    <a:pt x="323" y="29"/>
                  </a:cubicBezTo>
                  <a:cubicBezTo>
                    <a:pt x="311" y="19"/>
                    <a:pt x="274" y="14"/>
                    <a:pt x="247" y="9"/>
                  </a:cubicBezTo>
                  <a:cubicBezTo>
                    <a:pt x="220" y="4"/>
                    <a:pt x="194" y="0"/>
                    <a:pt x="163" y="1"/>
                  </a:cubicBezTo>
                  <a:cubicBezTo>
                    <a:pt x="132" y="2"/>
                    <a:pt x="85" y="12"/>
                    <a:pt x="59" y="17"/>
                  </a:cubicBezTo>
                  <a:cubicBezTo>
                    <a:pt x="33" y="22"/>
                    <a:pt x="14" y="20"/>
                    <a:pt x="7" y="33"/>
                  </a:cubicBezTo>
                  <a:cubicBezTo>
                    <a:pt x="0" y="46"/>
                    <a:pt x="14" y="80"/>
                    <a:pt x="19" y="93"/>
                  </a:cubicBezTo>
                  <a:cubicBezTo>
                    <a:pt x="24" y="106"/>
                    <a:pt x="29" y="106"/>
                    <a:pt x="35" y="113"/>
                  </a:cubicBezTo>
                  <a:cubicBezTo>
                    <a:pt x="41" y="120"/>
                    <a:pt x="51" y="125"/>
                    <a:pt x="55" y="133"/>
                  </a:cubicBezTo>
                  <a:cubicBezTo>
                    <a:pt x="59" y="141"/>
                    <a:pt x="61" y="155"/>
                    <a:pt x="59" y="161"/>
                  </a:cubicBezTo>
                  <a:cubicBezTo>
                    <a:pt x="57" y="167"/>
                    <a:pt x="37" y="172"/>
                    <a:pt x="39" y="17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8900000"/>
            </a:grad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30"/>
            <a:stretch/>
          </p:blipFill>
          <p:spPr>
            <a:xfrm>
              <a:off x="7421400" y="5190840"/>
              <a:ext cx="1221120" cy="143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7423200" y="4724280"/>
              <a:ext cx="1203120" cy="1884600"/>
              <a:chOff x="7423200" y="4724280"/>
              <a:chExt cx="1203120" cy="1884600"/>
            </a:xfrm>
          </p:grpSpPr>
          <p:sp>
            <p:nvSpPr>
              <p:cNvPr id="332" name=""/>
              <p:cNvSpPr/>
              <p:nvPr/>
            </p:nvSpPr>
            <p:spPr>
              <a:xfrm>
                <a:off x="7605720" y="4724280"/>
                <a:ext cx="797040" cy="223920"/>
              </a:xfrm>
              <a:custGeom>
                <a:avLst/>
                <a:gdLst/>
                <a:ahLst/>
                <a:rect l="l" t="t" r="r" b="b"/>
                <a:pathLst>
                  <a:path w="1067" h="291">
                    <a:moveTo>
                      <a:pt x="8" y="144"/>
                    </a:moveTo>
                    <a:cubicBezTo>
                      <a:pt x="5" y="120"/>
                      <a:pt x="0" y="88"/>
                      <a:pt x="88" y="64"/>
                    </a:cubicBezTo>
                    <a:cubicBezTo>
                      <a:pt x="176" y="40"/>
                      <a:pt x="392" y="0"/>
                      <a:pt x="536" y="0"/>
                    </a:cubicBezTo>
                    <a:cubicBezTo>
                      <a:pt x="680" y="0"/>
                      <a:pt x="864" y="40"/>
                      <a:pt x="952" y="64"/>
                    </a:cubicBezTo>
                    <a:cubicBezTo>
                      <a:pt x="1040" y="88"/>
                      <a:pt x="1061" y="117"/>
                      <a:pt x="1064" y="144"/>
                    </a:cubicBezTo>
                    <a:cubicBezTo>
                      <a:pt x="1067" y="171"/>
                      <a:pt x="1043" y="200"/>
                      <a:pt x="968" y="224"/>
                    </a:cubicBezTo>
                    <a:cubicBezTo>
                      <a:pt x="893" y="248"/>
                      <a:pt x="744" y="285"/>
                      <a:pt x="616" y="288"/>
                    </a:cubicBezTo>
                    <a:cubicBezTo>
                      <a:pt x="488" y="291"/>
                      <a:pt x="285" y="253"/>
                      <a:pt x="200" y="240"/>
                    </a:cubicBezTo>
                    <a:cubicBezTo>
                      <a:pt x="115" y="227"/>
                      <a:pt x="139" y="221"/>
                      <a:pt x="104" y="208"/>
                    </a:cubicBezTo>
                    <a:cubicBezTo>
                      <a:pt x="69" y="195"/>
                      <a:pt x="11" y="168"/>
                      <a:pt x="8" y="14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7423200" y="4835520"/>
                <a:ext cx="1203120" cy="1773360"/>
                <a:chOff x="7423200" y="4835520"/>
                <a:chExt cx="1203120" cy="17733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7862760" y="4835520"/>
                  <a:ext cx="763560" cy="1773360"/>
                </a:xfrm>
                <a:custGeom>
                  <a:avLst/>
                  <a:gdLst/>
                  <a:ahLst/>
                  <a:rect l="l" t="t" r="r" b="b"/>
                  <a:pathLst>
                    <a:path w="1024" h="2283">
                      <a:moveTo>
                        <a:pt x="720" y="0"/>
                      </a:moveTo>
                      <a:cubicBezTo>
                        <a:pt x="709" y="76"/>
                        <a:pt x="699" y="152"/>
                        <a:pt x="672" y="208"/>
                      </a:cubicBezTo>
                      <a:cubicBezTo>
                        <a:pt x="645" y="264"/>
                        <a:pt x="568" y="296"/>
                        <a:pt x="560" y="336"/>
                      </a:cubicBezTo>
                      <a:cubicBezTo>
                        <a:pt x="552" y="376"/>
                        <a:pt x="576" y="419"/>
                        <a:pt x="624" y="448"/>
                      </a:cubicBezTo>
                      <a:cubicBezTo>
                        <a:pt x="672" y="477"/>
                        <a:pt x="795" y="488"/>
                        <a:pt x="848" y="512"/>
                      </a:cubicBezTo>
                      <a:cubicBezTo>
                        <a:pt x="901" y="536"/>
                        <a:pt x="923" y="557"/>
                        <a:pt x="944" y="592"/>
                      </a:cubicBezTo>
                      <a:cubicBezTo>
                        <a:pt x="965" y="627"/>
                        <a:pt x="965" y="592"/>
                        <a:pt x="976" y="720"/>
                      </a:cubicBezTo>
                      <a:cubicBezTo>
                        <a:pt x="987" y="848"/>
                        <a:pt x="1003" y="1141"/>
                        <a:pt x="1008" y="1360"/>
                      </a:cubicBezTo>
                      <a:cubicBezTo>
                        <a:pt x="1013" y="1579"/>
                        <a:pt x="1024" y="1891"/>
                        <a:pt x="1008" y="2032"/>
                      </a:cubicBezTo>
                      <a:cubicBezTo>
                        <a:pt x="992" y="2173"/>
                        <a:pt x="971" y="2168"/>
                        <a:pt x="912" y="2208"/>
                      </a:cubicBezTo>
                      <a:cubicBezTo>
                        <a:pt x="853" y="2248"/>
                        <a:pt x="808" y="2261"/>
                        <a:pt x="656" y="2272"/>
                      </a:cubicBezTo>
                      <a:cubicBezTo>
                        <a:pt x="504" y="2283"/>
                        <a:pt x="137" y="2272"/>
                        <a:pt x="0" y="2272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23200" y="4836960"/>
                  <a:ext cx="425520" cy="1768680"/>
                </a:xfrm>
                <a:custGeom>
                  <a:avLst/>
                  <a:gdLst/>
                  <a:ahLst/>
                  <a:rect l="l" t="t" r="r" b="b"/>
                  <a:pathLst>
                    <a:path w="571" h="2277">
                      <a:moveTo>
                        <a:pt x="240" y="0"/>
                      </a:moveTo>
                      <a:cubicBezTo>
                        <a:pt x="253" y="76"/>
                        <a:pt x="266" y="151"/>
                        <a:pt x="295" y="206"/>
                      </a:cubicBezTo>
                      <a:cubicBezTo>
                        <a:pt x="324" y="261"/>
                        <a:pt x="403" y="290"/>
                        <a:pt x="412" y="330"/>
                      </a:cubicBezTo>
                      <a:cubicBezTo>
                        <a:pt x="422" y="370"/>
                        <a:pt x="399" y="413"/>
                        <a:pt x="352" y="444"/>
                      </a:cubicBezTo>
                      <a:cubicBezTo>
                        <a:pt x="305" y="475"/>
                        <a:pt x="183" y="491"/>
                        <a:pt x="131" y="517"/>
                      </a:cubicBezTo>
                      <a:cubicBezTo>
                        <a:pt x="79" y="543"/>
                        <a:pt x="58" y="564"/>
                        <a:pt x="38" y="600"/>
                      </a:cubicBezTo>
                      <a:cubicBezTo>
                        <a:pt x="18" y="636"/>
                        <a:pt x="17" y="601"/>
                        <a:pt x="11" y="729"/>
                      </a:cubicBezTo>
                      <a:cubicBezTo>
                        <a:pt x="5" y="858"/>
                        <a:pt x="0" y="1151"/>
                        <a:pt x="3" y="1370"/>
                      </a:cubicBezTo>
                      <a:cubicBezTo>
                        <a:pt x="6" y="1589"/>
                        <a:pt x="7" y="1901"/>
                        <a:pt x="28" y="2042"/>
                      </a:cubicBezTo>
                      <a:cubicBezTo>
                        <a:pt x="50" y="2182"/>
                        <a:pt x="70" y="2176"/>
                        <a:pt x="131" y="2214"/>
                      </a:cubicBezTo>
                      <a:cubicBezTo>
                        <a:pt x="191" y="2252"/>
                        <a:pt x="316" y="2259"/>
                        <a:pt x="389" y="2268"/>
                      </a:cubicBezTo>
                      <a:cubicBezTo>
                        <a:pt x="462" y="2277"/>
                        <a:pt x="533" y="2270"/>
                        <a:pt x="571" y="2270"/>
                      </a:cubicBez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7810200" y="5577480"/>
            <a:ext cx="1504800" cy="1303200"/>
            <a:chOff x="7810200" y="5577480"/>
            <a:chExt cx="1504800" cy="1303200"/>
          </a:xfrm>
        </p:grpSpPr>
        <p:pic>
          <p:nvPicPr>
            <p:cNvPr id="337" name="" descr=""/>
            <p:cNvPicPr/>
            <p:nvPr/>
          </p:nvPicPr>
          <p:blipFill>
            <a:blip r:embed="rId31"/>
            <a:stretch/>
          </p:blipFill>
          <p:spPr>
            <a:xfrm rot="3420000">
              <a:off x="8284680" y="5910120"/>
              <a:ext cx="923760" cy="7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32"/>
            <a:stretch/>
          </p:blipFill>
          <p:spPr>
            <a:xfrm rot="18120000">
              <a:off x="8330760" y="6113520"/>
              <a:ext cx="537480" cy="4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flipH="1" rot="18180000">
              <a:off x="8919720" y="6496200"/>
              <a:ext cx="63360" cy="306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810200" y="5577480"/>
              <a:ext cx="941760" cy="875520"/>
              <a:chOff x="7810200" y="5577480"/>
              <a:chExt cx="941760" cy="875520"/>
            </a:xfrm>
          </p:grpSpPr>
          <p:sp>
            <p:nvSpPr>
              <p:cNvPr id="341" name=""/>
              <p:cNvSpPr/>
              <p:nvPr/>
            </p:nvSpPr>
            <p:spPr>
              <a:xfrm rot="18120000">
                <a:off x="8388720" y="5720400"/>
                <a:ext cx="272160" cy="365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810200" y="5577480"/>
                <a:ext cx="844920" cy="875520"/>
                <a:chOff x="7810200" y="5577480"/>
                <a:chExt cx="844920" cy="87552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10200" y="5577480"/>
                  <a:ext cx="844920" cy="875520"/>
                  <a:chOff x="7810200" y="5577480"/>
                  <a:chExt cx="844920" cy="875520"/>
                </a:xfrm>
              </p:grpSpPr>
              <p:pic>
                <p:nvPicPr>
                  <p:cNvPr id="34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9920000">
                    <a:off x="7843680" y="5716440"/>
                    <a:ext cx="670320" cy="3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 rot="19920000">
                    <a:off x="7911720" y="5901480"/>
                    <a:ext cx="685800" cy="4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46" name=""/>
                <p:cNvSpPr/>
                <p:nvPr/>
              </p:nvSpPr>
              <p:spPr>
                <a:xfrm rot="19920000">
                  <a:off x="8395200" y="5874120"/>
                  <a:ext cx="64800" cy="1558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9920000">
                  <a:off x="8313120" y="5915880"/>
                  <a:ext cx="64800" cy="1558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9920000">
                  <a:off x="8224560" y="5984640"/>
                  <a:ext cx="53280" cy="986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9920000">
                  <a:off x="8228520" y="5849280"/>
                  <a:ext cx="84240" cy="756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9920000">
                  <a:off x="8291520" y="5805360"/>
                  <a:ext cx="91800" cy="856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143240" y="5000760"/>
            <a:ext cx="500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«Морской глаз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: ученица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2800" y="103320"/>
            <a:ext cx="82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ая наука изучает законы развития озер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14680"/>
            <a:ext cx="82296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Проверка домашнего задания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то в Европе первым изложил учение о десятичных дробях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то из русских математиков назвал дроби ломанными числами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Что означает поговорка «Попасть в дроби»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876920" y="4343400"/>
            <a:ext cx="952560" cy="762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146160" y="4581720"/>
            <a:ext cx="8712720" cy="2318400"/>
            <a:chOff x="146160" y="4581720"/>
            <a:chExt cx="8712720" cy="2318400"/>
          </a:xfrm>
        </p:grpSpPr>
        <p:grpSp>
          <p:nvGrpSpPr>
            <p:cNvPr id="358" name=""/>
            <p:cNvGrpSpPr/>
            <p:nvPr/>
          </p:nvGrpSpPr>
          <p:grpSpPr>
            <a:xfrm>
              <a:off x="7694640" y="4581720"/>
              <a:ext cx="842040" cy="902880"/>
              <a:chOff x="7694640" y="4581720"/>
              <a:chExt cx="842040" cy="9028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694640" y="4800600"/>
                <a:ext cx="684360" cy="684000"/>
                <a:chOff x="7694640" y="4800600"/>
                <a:chExt cx="684360" cy="684000"/>
              </a:xfrm>
            </p:grpSpPr>
            <p:pic>
              <p:nvPicPr>
                <p:cNvPr id="36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907400" y="5063040"/>
                  <a:ext cx="28584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94640" y="4800600"/>
                  <a:ext cx="6843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2" name=""/>
              <p:cNvGrpSpPr/>
              <p:nvPr/>
            </p:nvGrpSpPr>
            <p:grpSpPr>
              <a:xfrm>
                <a:off x="7767000" y="4581720"/>
                <a:ext cx="769680" cy="715680"/>
                <a:chOff x="7767000" y="4581720"/>
                <a:chExt cx="769680" cy="715680"/>
              </a:xfrm>
            </p:grpSpPr>
            <p:sp>
              <p:nvSpPr>
                <p:cNvPr id="363" name=""/>
                <p:cNvSpPr/>
                <p:nvPr/>
              </p:nvSpPr>
              <p:spPr>
                <a:xfrm rot="18120000">
                  <a:off x="8240400" y="4697640"/>
                  <a:ext cx="221040" cy="2995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767000" y="4581720"/>
                  <a:ext cx="691920" cy="715680"/>
                  <a:chOff x="7767000" y="4581720"/>
                  <a:chExt cx="691920" cy="71568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767000" y="4581720"/>
                    <a:ext cx="691920" cy="715680"/>
                    <a:chOff x="7767000" y="4581720"/>
                    <a:chExt cx="691920" cy="715680"/>
                  </a:xfrm>
                </p:grpSpPr>
                <p:pic>
                  <p:nvPicPr>
                    <p:cNvPr id="3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19920000">
                      <a:off x="7794360" y="4695480"/>
                      <a:ext cx="550080" cy="25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7" name=""/>
                    <p:cNvSpPr/>
                    <p:nvPr/>
                  </p:nvSpPr>
                  <p:spPr>
                    <a:xfrm rot="19920000">
                      <a:off x="7850520" y="4848120"/>
                      <a:ext cx="562320" cy="33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368" name=""/>
                  <p:cNvSpPr/>
                  <p:nvPr/>
                </p:nvSpPr>
                <p:spPr>
                  <a:xfrm rot="19920000">
                    <a:off x="8244360" y="482400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19920000">
                    <a:off x="8177760" y="4858560"/>
                    <a:ext cx="532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9920000">
                    <a:off x="8106840" y="4914720"/>
                    <a:ext cx="435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9920000">
                    <a:off x="8110440" y="48045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19920000">
                    <a:off x="8162640" y="4766040"/>
                    <a:ext cx="74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986120" y="4759560"/>
              <a:ext cx="810000" cy="902160"/>
              <a:chOff x="1986120" y="4759560"/>
              <a:chExt cx="810000" cy="902160"/>
            </a:xfrm>
          </p:grpSpPr>
          <p:pic>
            <p:nvPicPr>
              <p:cNvPr id="374" name="" descr=""/>
              <p:cNvPicPr/>
              <p:nvPr/>
            </p:nvPicPr>
            <p:blipFill>
              <a:blip r:embed="rId6"/>
              <a:stretch/>
            </p:blipFill>
            <p:spPr>
              <a:xfrm rot="1860000">
                <a:off x="2095560" y="5137200"/>
                <a:ext cx="250920" cy="49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1860000">
                <a:off x="2133000" y="4884840"/>
                <a:ext cx="600480" cy="40932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676520" y="4648320"/>
              <a:ext cx="760320" cy="912600"/>
              <a:chOff x="1676520" y="4648320"/>
              <a:chExt cx="760320" cy="912600"/>
            </a:xfrm>
          </p:grpSpPr>
          <p:pic>
            <p:nvPicPr>
              <p:cNvPr id="3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82800" y="4997520"/>
                <a:ext cx="317520" cy="5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676520" y="4648320"/>
                <a:ext cx="760320" cy="46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7157880" y="5860800"/>
              <a:ext cx="150840" cy="77760"/>
              <a:chOff x="7157880" y="5860800"/>
              <a:chExt cx="150840" cy="77760"/>
            </a:xfrm>
          </p:grpSpPr>
          <p:sp>
            <p:nvSpPr>
              <p:cNvPr id="380" name=""/>
              <p:cNvSpPr/>
              <p:nvPr/>
            </p:nvSpPr>
            <p:spPr>
              <a:xfrm rot="180000">
                <a:off x="7159680" y="58622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0000">
                <a:off x="7235640" y="5867280"/>
                <a:ext cx="71280" cy="626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521840" y="5585400"/>
              <a:ext cx="641880" cy="273960"/>
              <a:chOff x="7521840" y="5585400"/>
              <a:chExt cx="641880" cy="273960"/>
            </a:xfrm>
          </p:grpSpPr>
          <p:sp>
            <p:nvSpPr>
              <p:cNvPr id="383" name=""/>
              <p:cNvSpPr/>
              <p:nvPr/>
            </p:nvSpPr>
            <p:spPr>
              <a:xfrm rot="420000">
                <a:off x="7534440" y="5602320"/>
                <a:ext cx="291960" cy="228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20000">
                <a:off x="7850880" y="5648040"/>
                <a:ext cx="302040" cy="193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472080" y="6013080"/>
              <a:ext cx="171360" cy="79920"/>
              <a:chOff x="6472080" y="6013080"/>
              <a:chExt cx="171360" cy="79920"/>
            </a:xfrm>
          </p:grpSpPr>
          <p:sp>
            <p:nvSpPr>
              <p:cNvPr id="386" name=""/>
              <p:cNvSpPr/>
              <p:nvPr/>
            </p:nvSpPr>
            <p:spPr>
              <a:xfrm rot="180000">
                <a:off x="6473880" y="6014880"/>
                <a:ext cx="7740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80000">
                <a:off x="6561000" y="6020640"/>
                <a:ext cx="8064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8149680" y="5860800"/>
              <a:ext cx="171720" cy="83160"/>
              <a:chOff x="8149680" y="5860800"/>
              <a:chExt cx="171720" cy="83160"/>
            </a:xfrm>
          </p:grpSpPr>
          <p:sp>
            <p:nvSpPr>
              <p:cNvPr id="389" name=""/>
              <p:cNvSpPr/>
              <p:nvPr/>
            </p:nvSpPr>
            <p:spPr>
              <a:xfrm rot="180000">
                <a:off x="8151840" y="5862600"/>
                <a:ext cx="7740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0000">
                <a:off x="8238600" y="586692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873520" y="5890320"/>
              <a:ext cx="642240" cy="273600"/>
              <a:chOff x="2873520" y="5890320"/>
              <a:chExt cx="642240" cy="273600"/>
            </a:xfrm>
          </p:grpSpPr>
          <p:sp>
            <p:nvSpPr>
              <p:cNvPr id="392" name=""/>
              <p:cNvSpPr/>
              <p:nvPr/>
            </p:nvSpPr>
            <p:spPr>
              <a:xfrm rot="420000">
                <a:off x="2886120" y="5907240"/>
                <a:ext cx="292320" cy="2278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20000">
                <a:off x="3202920" y="5952960"/>
                <a:ext cx="302040" cy="193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852960" y="6012720"/>
              <a:ext cx="171720" cy="79920"/>
              <a:chOff x="6852960" y="6012720"/>
              <a:chExt cx="171720" cy="79920"/>
            </a:xfrm>
          </p:grpSpPr>
          <p:sp>
            <p:nvSpPr>
              <p:cNvPr id="395" name=""/>
              <p:cNvSpPr/>
              <p:nvPr/>
            </p:nvSpPr>
            <p:spPr>
              <a:xfrm rot="180000">
                <a:off x="6854760" y="6014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000">
                <a:off x="6941880" y="6020640"/>
                <a:ext cx="8100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386480" y="5860800"/>
              <a:ext cx="150840" cy="77760"/>
              <a:chOff x="7386480" y="5860800"/>
              <a:chExt cx="150840" cy="77760"/>
            </a:xfrm>
          </p:grpSpPr>
          <p:sp>
            <p:nvSpPr>
              <p:cNvPr id="398" name=""/>
              <p:cNvSpPr/>
              <p:nvPr/>
            </p:nvSpPr>
            <p:spPr>
              <a:xfrm rot="180000">
                <a:off x="7388280" y="58622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80000">
                <a:off x="7464240" y="5867280"/>
                <a:ext cx="71280" cy="626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8440560" y="5938200"/>
              <a:ext cx="169920" cy="81360"/>
              <a:chOff x="8440560" y="5938200"/>
              <a:chExt cx="169920" cy="81360"/>
            </a:xfrm>
          </p:grpSpPr>
          <p:sp>
            <p:nvSpPr>
              <p:cNvPr id="401" name=""/>
              <p:cNvSpPr/>
              <p:nvPr/>
            </p:nvSpPr>
            <p:spPr>
              <a:xfrm rot="180000">
                <a:off x="8442360" y="5940000"/>
                <a:ext cx="7812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0000">
                <a:off x="8528400" y="594468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395760" y="5860440"/>
              <a:ext cx="171720" cy="81360"/>
              <a:chOff x="6395760" y="5860440"/>
              <a:chExt cx="171720" cy="81360"/>
            </a:xfrm>
          </p:grpSpPr>
          <p:sp>
            <p:nvSpPr>
              <p:cNvPr id="404" name=""/>
              <p:cNvSpPr/>
              <p:nvPr/>
            </p:nvSpPr>
            <p:spPr>
              <a:xfrm rot="180000">
                <a:off x="6397560" y="5862240"/>
                <a:ext cx="7776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0000">
                <a:off x="6484680" y="5866920"/>
                <a:ext cx="8100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929280" y="5860800"/>
              <a:ext cx="171360" cy="81360"/>
              <a:chOff x="6929280" y="5860800"/>
              <a:chExt cx="171360" cy="81360"/>
            </a:xfrm>
          </p:grpSpPr>
          <p:sp>
            <p:nvSpPr>
              <p:cNvPr id="407" name=""/>
              <p:cNvSpPr/>
              <p:nvPr/>
            </p:nvSpPr>
            <p:spPr>
              <a:xfrm rot="180000">
                <a:off x="6931080" y="58626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80000">
                <a:off x="7018200" y="58669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548400" y="5860800"/>
              <a:ext cx="171360" cy="81360"/>
              <a:chOff x="6548400" y="5860800"/>
              <a:chExt cx="171360" cy="81360"/>
            </a:xfrm>
          </p:grpSpPr>
          <p:sp>
            <p:nvSpPr>
              <p:cNvPr id="410" name=""/>
              <p:cNvSpPr/>
              <p:nvPr/>
            </p:nvSpPr>
            <p:spPr>
              <a:xfrm rot="180000">
                <a:off x="6550200" y="58626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0000">
                <a:off x="6637320" y="58669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310160" y="6012720"/>
              <a:ext cx="171720" cy="79920"/>
              <a:chOff x="7310160" y="6012720"/>
              <a:chExt cx="171720" cy="79920"/>
            </a:xfrm>
          </p:grpSpPr>
          <p:sp>
            <p:nvSpPr>
              <p:cNvPr id="413" name=""/>
              <p:cNvSpPr/>
              <p:nvPr/>
            </p:nvSpPr>
            <p:spPr>
              <a:xfrm rot="180000">
                <a:off x="7311960" y="6014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80000">
                <a:off x="7399080" y="6020640"/>
                <a:ext cx="8100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86200" y="6087960"/>
              <a:ext cx="1604160" cy="510120"/>
              <a:chOff x="286200" y="6087960"/>
              <a:chExt cx="1604160" cy="5101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86200" y="6087960"/>
                <a:ext cx="950040" cy="385560"/>
                <a:chOff x="286200" y="6087960"/>
                <a:chExt cx="950040" cy="3855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86200" y="6132960"/>
                  <a:ext cx="471600" cy="340560"/>
                  <a:chOff x="286200" y="6132960"/>
                  <a:chExt cx="471600" cy="340560"/>
                </a:xfrm>
              </p:grpSpPr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96160" y="6132960"/>
                    <a:ext cx="161640" cy="235080"/>
                    <a:chOff x="596160" y="6132960"/>
                    <a:chExt cx="161640" cy="2350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1420000">
                      <a:off x="601560" y="6136560"/>
                      <a:ext cx="1504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1420000">
                      <a:off x="608760" y="6141240"/>
                      <a:ext cx="9756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477360" y="6151680"/>
                    <a:ext cx="210240" cy="266400"/>
                    <a:chOff x="477360" y="6151680"/>
                    <a:chExt cx="210240" cy="2664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000000">
                      <a:off x="495000" y="6165000"/>
                      <a:ext cx="174240" cy="22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000000">
                      <a:off x="502560" y="6173280"/>
                      <a:ext cx="11304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86200" y="6153480"/>
                    <a:ext cx="310320" cy="320040"/>
                    <a:chOff x="286200" y="6153480"/>
                    <a:chExt cx="310320" cy="320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19860000">
                      <a:off x="328680" y="6193080"/>
                      <a:ext cx="22500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19860000">
                      <a:off x="347760" y="6205680"/>
                      <a:ext cx="14616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55640" y="6087960"/>
                  <a:ext cx="480600" cy="353160"/>
                  <a:chOff x="755640" y="6087960"/>
                  <a:chExt cx="480600" cy="35316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755640" y="6087960"/>
                    <a:ext cx="174600" cy="245520"/>
                    <a:chOff x="755640" y="6087960"/>
                    <a:chExt cx="174600" cy="245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rot="300000">
                      <a:off x="764640" y="6094080"/>
                      <a:ext cx="1562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300000">
                      <a:off x="812520" y="6099120"/>
                      <a:ext cx="10116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824400" y="6108120"/>
                    <a:ext cx="222840" cy="273240"/>
                    <a:chOff x="824400" y="6108120"/>
                    <a:chExt cx="222840" cy="27324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720000">
                      <a:off x="845640" y="6124320"/>
                      <a:ext cx="18000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720000">
                      <a:off x="900720" y="6132600"/>
                      <a:ext cx="11628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919440" y="6117840"/>
                    <a:ext cx="316800" cy="323280"/>
                    <a:chOff x="919440" y="6117840"/>
                    <a:chExt cx="316800" cy="3232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1860000">
                      <a:off x="964080" y="6159240"/>
                      <a:ext cx="22716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1860000">
                      <a:off x="1020600" y="6170040"/>
                      <a:ext cx="14688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969120" y="6132600"/>
                <a:ext cx="921240" cy="465480"/>
                <a:chOff x="969120" y="6132600"/>
                <a:chExt cx="921240" cy="46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1388520" y="6187680"/>
                  <a:ext cx="501840" cy="410400"/>
                  <a:chOff x="1388520" y="6187680"/>
                  <a:chExt cx="501840" cy="4104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388520" y="6187680"/>
                    <a:ext cx="237240" cy="281880"/>
                    <a:chOff x="1388520" y="6187680"/>
                    <a:chExt cx="237240" cy="2818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840000">
                      <a:off x="1413360" y="6206760"/>
                      <a:ext cx="18684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840000">
                      <a:off x="1469160" y="6215040"/>
                      <a:ext cx="12096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1452960" y="6225120"/>
                    <a:ext cx="276840" cy="305280"/>
                    <a:chOff x="1452960" y="6225120"/>
                    <a:chExt cx="276840" cy="3052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260000">
                      <a:off x="1487880" y="6253920"/>
                      <a:ext cx="206280" cy="23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260000">
                      <a:off x="1547280" y="6264720"/>
                      <a:ext cx="133560" cy="24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1557360" y="6265080"/>
                    <a:ext cx="333000" cy="333000"/>
                    <a:chOff x="1557360" y="6265080"/>
                    <a:chExt cx="333000" cy="3330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400000">
                      <a:off x="1602360" y="6316200"/>
                      <a:ext cx="242640" cy="22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400000">
                      <a:off x="1658160" y="6333120"/>
                      <a:ext cx="15696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969120" y="6132600"/>
                  <a:ext cx="474120" cy="306000"/>
                  <a:chOff x="969120" y="6132600"/>
                  <a:chExt cx="474120" cy="306000"/>
                </a:xfrm>
              </p:grpSpPr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1254960" y="6132600"/>
                    <a:ext cx="188280" cy="250200"/>
                    <a:chOff x="1254960" y="6132600"/>
                    <a:chExt cx="188280" cy="25020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420000">
                      <a:off x="1267560" y="6141600"/>
                      <a:ext cx="16200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420000">
                      <a:off x="1275120" y="6141600"/>
                      <a:ext cx="10476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1177920" y="6164280"/>
                    <a:ext cx="146520" cy="232920"/>
                    <a:chOff x="1177920" y="6164280"/>
                    <a:chExt cx="146520" cy="23292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21540000">
                      <a:off x="1179000" y="6165360"/>
                      <a:ext cx="1429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21540000">
                      <a:off x="1185840" y="6170040"/>
                      <a:ext cx="9252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969120" y="6136560"/>
                    <a:ext cx="269280" cy="302040"/>
                    <a:chOff x="969120" y="6136560"/>
                    <a:chExt cx="269280" cy="3020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20400000">
                      <a:off x="1002960" y="6163560"/>
                      <a:ext cx="20124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20400000">
                      <a:off x="1018440" y="6174360"/>
                      <a:ext cx="1299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458" name=""/>
            <p:cNvGrpSpPr/>
            <p:nvPr/>
          </p:nvGrpSpPr>
          <p:grpSpPr>
            <a:xfrm>
              <a:off x="3850200" y="6386760"/>
              <a:ext cx="1841040" cy="470880"/>
              <a:chOff x="3850200" y="6386760"/>
              <a:chExt cx="1841040" cy="47088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3850200" y="6386760"/>
                <a:ext cx="1072800" cy="470160"/>
                <a:chOff x="3850200" y="6386760"/>
                <a:chExt cx="1072800" cy="4701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3850200" y="6429960"/>
                  <a:ext cx="558360" cy="426960"/>
                  <a:chOff x="3850200" y="6429960"/>
                  <a:chExt cx="558360" cy="426960"/>
                </a:xfrm>
              </p:grpSpPr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4183200" y="6429960"/>
                    <a:ext cx="225360" cy="296640"/>
                    <a:chOff x="4183200" y="6429960"/>
                    <a:chExt cx="225360" cy="29664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21120000">
                      <a:off x="4199760" y="64418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21120000">
                      <a:off x="4209120" y="64504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4050720" y="6461640"/>
                    <a:ext cx="282600" cy="327240"/>
                    <a:chOff x="4050720" y="6461640"/>
                    <a:chExt cx="282600" cy="3272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0640000">
                      <a:off x="4082040" y="6486480"/>
                      <a:ext cx="2181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0640000">
                      <a:off x="4098240" y="6495120"/>
                      <a:ext cx="1422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3850200" y="6484680"/>
                    <a:ext cx="370080" cy="372240"/>
                    <a:chOff x="3850200" y="6484680"/>
                    <a:chExt cx="370080" cy="3722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19560000">
                      <a:off x="3902040" y="65361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19560000">
                      <a:off x="3930120" y="6552000"/>
                      <a:ext cx="171000" cy="28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4396680" y="6386760"/>
                  <a:ext cx="526320" cy="360000"/>
                  <a:chOff x="4396680" y="6386760"/>
                  <a:chExt cx="526320" cy="36000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396680" y="6386760"/>
                    <a:ext cx="167040" cy="259200"/>
                    <a:chOff x="4396680" y="6386760"/>
                    <a:chExt cx="167040" cy="2592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21540000">
                      <a:off x="4398480" y="6388200"/>
                      <a:ext cx="16272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21540000">
                      <a:off x="4448520" y="63910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82360" y="6402960"/>
                    <a:ext cx="213840" cy="287640"/>
                    <a:chOff x="4482360" y="6402960"/>
                    <a:chExt cx="213840" cy="2876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420000">
                      <a:off x="4496760" y="64130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420000">
                      <a:off x="4552200" y="6419880"/>
                      <a:ext cx="11844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87480" y="6392160"/>
                    <a:ext cx="335520" cy="354600"/>
                    <a:chOff x="4587480" y="6392160"/>
                    <a:chExt cx="335520" cy="35460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1500000">
                      <a:off x="4632840" y="6431040"/>
                      <a:ext cx="24444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1500000">
                      <a:off x="4700880" y="64429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4618080" y="6386760"/>
                <a:ext cx="1073160" cy="470880"/>
                <a:chOff x="4618080" y="6386760"/>
                <a:chExt cx="1073160" cy="47088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5135040" y="6429960"/>
                  <a:ext cx="556200" cy="427680"/>
                  <a:chOff x="5135040" y="6429960"/>
                  <a:chExt cx="556200" cy="427680"/>
                </a:xfrm>
              </p:grpSpPr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135040" y="6429960"/>
                    <a:ext cx="225000" cy="295200"/>
                    <a:chOff x="5135040" y="6429960"/>
                    <a:chExt cx="225000" cy="29520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480000">
                      <a:off x="5151600" y="64418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480000">
                      <a:off x="5208480" y="64504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207760" y="6461280"/>
                    <a:ext cx="283320" cy="327600"/>
                    <a:chOff x="5207760" y="6461280"/>
                    <a:chExt cx="283320" cy="32760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rot="960000">
                      <a:off x="5239800" y="64861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rot="960000">
                      <a:off x="5306040" y="64951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322240" y="6484320"/>
                    <a:ext cx="369000" cy="373320"/>
                    <a:chOff x="5322240" y="6484320"/>
                    <a:chExt cx="369000" cy="37332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40000">
                      <a:off x="5373360" y="65358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40000">
                      <a:off x="5441400" y="655200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618080" y="6386760"/>
                  <a:ext cx="527400" cy="360360"/>
                  <a:chOff x="4618080" y="6386760"/>
                  <a:chExt cx="527400" cy="360360"/>
                </a:xfrm>
              </p:grpSpPr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77720" y="6386760"/>
                    <a:ext cx="167760" cy="259200"/>
                    <a:chOff x="4977720" y="6386760"/>
                    <a:chExt cx="167760" cy="2592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flipH="1" rot="60000">
                      <a:off x="4979520" y="63878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H="1" rot="60000">
                      <a:off x="4985280" y="6391080"/>
                      <a:ext cx="1054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4844520" y="6402960"/>
                    <a:ext cx="214200" cy="288360"/>
                    <a:chOff x="4844520" y="6402960"/>
                    <a:chExt cx="214200" cy="28836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flipH="1" rot="21180000">
                      <a:off x="4858200" y="64130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rot="21180000">
                      <a:off x="4865400" y="641988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4618080" y="6391800"/>
                    <a:ext cx="336600" cy="355320"/>
                    <a:chOff x="4618080" y="6391800"/>
                    <a:chExt cx="336600" cy="3553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20100000">
                      <a:off x="4663080" y="64306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20100000">
                      <a:off x="4683600" y="64429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501" name=""/>
            <p:cNvGrpSpPr/>
            <p:nvPr/>
          </p:nvGrpSpPr>
          <p:grpSpPr>
            <a:xfrm>
              <a:off x="1259280" y="5667480"/>
              <a:ext cx="1841400" cy="470520"/>
              <a:chOff x="1259280" y="5667480"/>
              <a:chExt cx="1841400" cy="47052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259280" y="5667480"/>
                <a:ext cx="1073160" cy="470520"/>
                <a:chOff x="1259280" y="5667480"/>
                <a:chExt cx="1073160" cy="47052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1259280" y="5710680"/>
                  <a:ext cx="558720" cy="427320"/>
                  <a:chOff x="1259280" y="5710680"/>
                  <a:chExt cx="558720" cy="42732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592280" y="5710680"/>
                    <a:ext cx="225720" cy="296280"/>
                    <a:chOff x="1592280" y="5710680"/>
                    <a:chExt cx="225720" cy="29628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21120000">
                      <a:off x="1608840" y="5722560"/>
                      <a:ext cx="19188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21120000">
                      <a:off x="1618200" y="5729400"/>
                      <a:ext cx="1249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460160" y="5740560"/>
                    <a:ext cx="282960" cy="326880"/>
                    <a:chOff x="1460160" y="5740560"/>
                    <a:chExt cx="282960" cy="326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20640000">
                      <a:off x="1492200" y="576540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20640000">
                      <a:off x="1508760" y="5775840"/>
                      <a:ext cx="14256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1259280" y="5765040"/>
                    <a:ext cx="370440" cy="372960"/>
                    <a:chOff x="1259280" y="5765040"/>
                    <a:chExt cx="370440" cy="3729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9560000">
                      <a:off x="1310760" y="581652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9560000">
                      <a:off x="1339920" y="5832360"/>
                      <a:ext cx="17136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806120" y="5667480"/>
                  <a:ext cx="526320" cy="361080"/>
                  <a:chOff x="1806120" y="5667480"/>
                  <a:chExt cx="526320" cy="36108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1806120" y="5667480"/>
                    <a:ext cx="167400" cy="259200"/>
                    <a:chOff x="1806120" y="5667480"/>
                    <a:chExt cx="167400" cy="2592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1540000">
                      <a:off x="1807920" y="566856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1540000">
                      <a:off x="1858320" y="56721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1891800" y="5684040"/>
                    <a:ext cx="214560" cy="287640"/>
                    <a:chOff x="1891800" y="5684040"/>
                    <a:chExt cx="214560" cy="2876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420000">
                      <a:off x="1906200" y="569412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420000">
                      <a:off x="1963080" y="5700600"/>
                      <a:ext cx="119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1996200" y="5672520"/>
                    <a:ext cx="336240" cy="356040"/>
                    <a:chOff x="1996200" y="5672520"/>
                    <a:chExt cx="336240" cy="35604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00000">
                      <a:off x="2041200" y="5711760"/>
                      <a:ext cx="24552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00000">
                      <a:off x="2109240" y="572436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2027520" y="5667480"/>
                <a:ext cx="1073160" cy="470160"/>
                <a:chOff x="2027520" y="5667480"/>
                <a:chExt cx="1073160" cy="47016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543760" y="5710680"/>
                  <a:ext cx="556920" cy="426960"/>
                  <a:chOff x="2543760" y="5710680"/>
                  <a:chExt cx="556920" cy="4269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543760" y="5710680"/>
                    <a:ext cx="225360" cy="294840"/>
                    <a:chOff x="2543760" y="5710680"/>
                    <a:chExt cx="225360" cy="2948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480000">
                      <a:off x="2560680" y="5722560"/>
                      <a:ext cx="19152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480000">
                      <a:off x="2618280" y="5729400"/>
                      <a:ext cx="1242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617560" y="5740920"/>
                    <a:ext cx="282600" cy="326880"/>
                    <a:chOff x="2617560" y="5740920"/>
                    <a:chExt cx="282600" cy="32688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960000">
                      <a:off x="2649600" y="5765760"/>
                      <a:ext cx="2185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960000">
                      <a:off x="2714760" y="5776200"/>
                      <a:ext cx="14220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731320" y="5764680"/>
                    <a:ext cx="369360" cy="372960"/>
                    <a:chOff x="2731320" y="5764680"/>
                    <a:chExt cx="369360" cy="3729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2040000">
                      <a:off x="2782800" y="581616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2040000">
                      <a:off x="2850840" y="5832000"/>
                      <a:ext cx="17064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2027520" y="5667480"/>
                  <a:ext cx="526680" cy="360720"/>
                  <a:chOff x="2027520" y="5667480"/>
                  <a:chExt cx="526680" cy="36072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386800" y="5667480"/>
                    <a:ext cx="167400" cy="259200"/>
                    <a:chOff x="2386800" y="5667480"/>
                    <a:chExt cx="167400" cy="2592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60000">
                      <a:off x="2388240" y="566856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60000">
                      <a:off x="2393640" y="567216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253600" y="5684040"/>
                    <a:ext cx="214200" cy="288360"/>
                    <a:chOff x="2253600" y="5684040"/>
                    <a:chExt cx="214200" cy="2883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21180000">
                      <a:off x="2267280" y="569412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21180000">
                      <a:off x="2274840" y="5700600"/>
                      <a:ext cx="1188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27520" y="5672520"/>
                    <a:ext cx="336600" cy="355680"/>
                    <a:chOff x="2027520" y="5672520"/>
                    <a:chExt cx="336600" cy="35568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100000">
                      <a:off x="2072160" y="571176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100000">
                      <a:off x="2094840" y="5724000"/>
                      <a:ext cx="15768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544" name=""/>
            <p:cNvGrpSpPr/>
            <p:nvPr/>
          </p:nvGrpSpPr>
          <p:grpSpPr>
            <a:xfrm>
              <a:off x="4495680" y="4940280"/>
              <a:ext cx="684360" cy="220680"/>
              <a:chOff x="4495680" y="4940280"/>
              <a:chExt cx="684360" cy="220680"/>
            </a:xfrm>
          </p:grpSpPr>
          <p:sp>
            <p:nvSpPr>
              <p:cNvPr id="545" name=""/>
              <p:cNvSpPr/>
              <p:nvPr/>
            </p:nvSpPr>
            <p:spPr>
              <a:xfrm>
                <a:off x="4495680" y="4940280"/>
                <a:ext cx="322560" cy="2206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46680" y="4941720"/>
                <a:ext cx="333360" cy="18756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146640" y="4648320"/>
              <a:ext cx="163800" cy="81000"/>
              <a:chOff x="6146640" y="4648320"/>
              <a:chExt cx="163800" cy="81000"/>
            </a:xfrm>
          </p:grpSpPr>
          <p:sp>
            <p:nvSpPr>
              <p:cNvPr id="548" name=""/>
              <p:cNvSpPr/>
              <p:nvPr/>
            </p:nvSpPr>
            <p:spPr>
              <a:xfrm>
                <a:off x="6146640" y="46483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230880" y="46483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227720" y="5334120"/>
              <a:ext cx="163800" cy="81000"/>
              <a:chOff x="7227720" y="5334120"/>
              <a:chExt cx="163800" cy="81000"/>
            </a:xfrm>
          </p:grpSpPr>
          <p:sp>
            <p:nvSpPr>
              <p:cNvPr id="551" name=""/>
              <p:cNvSpPr/>
              <p:nvPr/>
            </p:nvSpPr>
            <p:spPr>
              <a:xfrm>
                <a:off x="7227720" y="53341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11960" y="53341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999120" y="5384880"/>
              <a:ext cx="163800" cy="81000"/>
              <a:chOff x="6999120" y="5384880"/>
              <a:chExt cx="163800" cy="81000"/>
            </a:xfrm>
          </p:grpSpPr>
          <p:sp>
            <p:nvSpPr>
              <p:cNvPr id="554" name=""/>
              <p:cNvSpPr/>
              <p:nvPr/>
            </p:nvSpPr>
            <p:spPr>
              <a:xfrm>
                <a:off x="6999120" y="5384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83360" y="53848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834240" y="5410080"/>
              <a:ext cx="162000" cy="81000"/>
              <a:chOff x="6834240" y="5410080"/>
              <a:chExt cx="162000" cy="81000"/>
            </a:xfrm>
          </p:grpSpPr>
          <p:sp>
            <p:nvSpPr>
              <p:cNvPr id="557" name=""/>
              <p:cNvSpPr/>
              <p:nvPr/>
            </p:nvSpPr>
            <p:spPr>
              <a:xfrm>
                <a:off x="6834240" y="54100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18480" y="54100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834240" y="5308560"/>
              <a:ext cx="162000" cy="81000"/>
              <a:chOff x="6834240" y="5308560"/>
              <a:chExt cx="162000" cy="81000"/>
            </a:xfrm>
          </p:grpSpPr>
          <p:sp>
            <p:nvSpPr>
              <p:cNvPr id="560" name=""/>
              <p:cNvSpPr/>
              <p:nvPr/>
            </p:nvSpPr>
            <p:spPr>
              <a:xfrm>
                <a:off x="6834240" y="53085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18480" y="530856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910560" y="5245200"/>
              <a:ext cx="161640" cy="81000"/>
              <a:chOff x="6910560" y="5245200"/>
              <a:chExt cx="161640" cy="81000"/>
            </a:xfrm>
          </p:grpSpPr>
          <p:sp>
            <p:nvSpPr>
              <p:cNvPr id="563" name=""/>
              <p:cNvSpPr/>
              <p:nvPr/>
            </p:nvSpPr>
            <p:spPr>
              <a:xfrm>
                <a:off x="6910560" y="524520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94440" y="5245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6973920" y="5219640"/>
              <a:ext cx="163440" cy="81000"/>
              <a:chOff x="6973920" y="5219640"/>
              <a:chExt cx="163440" cy="81000"/>
            </a:xfrm>
          </p:grpSpPr>
          <p:sp>
            <p:nvSpPr>
              <p:cNvPr id="566" name=""/>
              <p:cNvSpPr/>
              <p:nvPr/>
            </p:nvSpPr>
            <p:spPr>
              <a:xfrm>
                <a:off x="6973920" y="521964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58160" y="521964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7050240" y="5181480"/>
              <a:ext cx="161640" cy="81000"/>
              <a:chOff x="7050240" y="5181480"/>
              <a:chExt cx="161640" cy="81000"/>
            </a:xfrm>
          </p:grpSpPr>
          <p:sp>
            <p:nvSpPr>
              <p:cNvPr id="569" name=""/>
              <p:cNvSpPr/>
              <p:nvPr/>
            </p:nvSpPr>
            <p:spPr>
              <a:xfrm>
                <a:off x="7050240" y="51814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134120" y="51814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253280" y="5105520"/>
              <a:ext cx="163440" cy="81000"/>
              <a:chOff x="7253280" y="5105520"/>
              <a:chExt cx="163440" cy="81000"/>
            </a:xfrm>
          </p:grpSpPr>
          <p:sp>
            <p:nvSpPr>
              <p:cNvPr id="572" name=""/>
              <p:cNvSpPr/>
              <p:nvPr/>
            </p:nvSpPr>
            <p:spPr>
              <a:xfrm>
                <a:off x="7253280" y="51055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7520" y="51055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249960" y="5245200"/>
              <a:ext cx="163440" cy="81000"/>
              <a:chOff x="6249960" y="5245200"/>
              <a:chExt cx="163440" cy="81000"/>
            </a:xfrm>
          </p:grpSpPr>
          <p:sp>
            <p:nvSpPr>
              <p:cNvPr id="575" name=""/>
              <p:cNvSpPr/>
              <p:nvPr/>
            </p:nvSpPr>
            <p:spPr>
              <a:xfrm>
                <a:off x="6249960" y="5245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34200" y="52452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89640" y="5964120"/>
              <a:ext cx="163440" cy="81000"/>
              <a:chOff x="6389640" y="5964120"/>
              <a:chExt cx="163440" cy="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6389640" y="59641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73880" y="596412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7074000" y="4724280"/>
              <a:ext cx="162000" cy="81000"/>
              <a:chOff x="7074000" y="4724280"/>
              <a:chExt cx="162000" cy="81000"/>
            </a:xfrm>
          </p:grpSpPr>
          <p:sp>
            <p:nvSpPr>
              <p:cNvPr id="581" name=""/>
              <p:cNvSpPr/>
              <p:nvPr/>
            </p:nvSpPr>
            <p:spPr>
              <a:xfrm>
                <a:off x="7074000" y="47242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57880" y="472428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210360" y="5583240"/>
              <a:ext cx="162000" cy="81000"/>
              <a:chOff x="6210360" y="5583240"/>
              <a:chExt cx="162000" cy="81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210360" y="558324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94600" y="558324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778360" y="5245200"/>
              <a:ext cx="163800" cy="81000"/>
              <a:chOff x="5778360" y="5245200"/>
              <a:chExt cx="163800" cy="81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778360" y="5245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2600" y="524520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549760" y="5295960"/>
              <a:ext cx="163800" cy="81000"/>
              <a:chOff x="5549760" y="5295960"/>
              <a:chExt cx="163800" cy="81000"/>
            </a:xfrm>
          </p:grpSpPr>
          <p:sp>
            <p:nvSpPr>
              <p:cNvPr id="590" name=""/>
              <p:cNvSpPr/>
              <p:nvPr/>
            </p:nvSpPr>
            <p:spPr>
              <a:xfrm>
                <a:off x="5549760" y="52959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34000" y="52959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384880" y="5321160"/>
              <a:ext cx="162000" cy="81000"/>
              <a:chOff x="5384880" y="5321160"/>
              <a:chExt cx="162000" cy="81000"/>
            </a:xfrm>
          </p:grpSpPr>
          <p:sp>
            <p:nvSpPr>
              <p:cNvPr id="593" name=""/>
              <p:cNvSpPr/>
              <p:nvPr/>
            </p:nvSpPr>
            <p:spPr>
              <a:xfrm>
                <a:off x="5384880" y="53211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68760" y="532116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384880" y="5219640"/>
              <a:ext cx="162000" cy="81000"/>
              <a:chOff x="5384880" y="5219640"/>
              <a:chExt cx="162000" cy="8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5384880" y="52196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468760" y="521964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460840" y="5156280"/>
              <a:ext cx="163800" cy="81000"/>
              <a:chOff x="5460840" y="5156280"/>
              <a:chExt cx="163800" cy="81000"/>
            </a:xfrm>
          </p:grpSpPr>
          <p:sp>
            <p:nvSpPr>
              <p:cNvPr id="599" name=""/>
              <p:cNvSpPr/>
              <p:nvPr/>
            </p:nvSpPr>
            <p:spPr>
              <a:xfrm>
                <a:off x="5460840" y="51562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5080" y="5156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524560" y="5130720"/>
              <a:ext cx="162000" cy="81000"/>
              <a:chOff x="5524560" y="5130720"/>
              <a:chExt cx="162000" cy="81000"/>
            </a:xfrm>
          </p:grpSpPr>
          <p:sp>
            <p:nvSpPr>
              <p:cNvPr id="602" name=""/>
              <p:cNvSpPr/>
              <p:nvPr/>
            </p:nvSpPr>
            <p:spPr>
              <a:xfrm>
                <a:off x="5524560" y="51307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608800" y="513072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600880" y="5092560"/>
              <a:ext cx="161640" cy="81000"/>
              <a:chOff x="5600880" y="5092560"/>
              <a:chExt cx="161640" cy="81000"/>
            </a:xfrm>
          </p:grpSpPr>
          <p:sp>
            <p:nvSpPr>
              <p:cNvPr id="605" name=""/>
              <p:cNvSpPr/>
              <p:nvPr/>
            </p:nvSpPr>
            <p:spPr>
              <a:xfrm>
                <a:off x="5600880" y="50925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84760" y="509256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803920" y="5016600"/>
              <a:ext cx="163440" cy="81000"/>
              <a:chOff x="5803920" y="5016600"/>
              <a:chExt cx="163440" cy="81000"/>
            </a:xfrm>
          </p:grpSpPr>
          <p:sp>
            <p:nvSpPr>
              <p:cNvPr id="608" name=""/>
              <p:cNvSpPr/>
              <p:nvPr/>
            </p:nvSpPr>
            <p:spPr>
              <a:xfrm>
                <a:off x="5803920" y="5016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88160" y="50166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419720" y="5257800"/>
              <a:ext cx="161640" cy="81000"/>
              <a:chOff x="4419720" y="5257800"/>
              <a:chExt cx="161640" cy="81000"/>
            </a:xfrm>
          </p:grpSpPr>
          <p:sp>
            <p:nvSpPr>
              <p:cNvPr id="611" name=""/>
              <p:cNvSpPr/>
              <p:nvPr/>
            </p:nvSpPr>
            <p:spPr>
              <a:xfrm>
                <a:off x="4419720" y="525780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03600" y="525780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517920" y="6064200"/>
              <a:ext cx="163440" cy="81000"/>
              <a:chOff x="3517920" y="6064200"/>
              <a:chExt cx="163440" cy="81000"/>
            </a:xfrm>
          </p:grpSpPr>
          <p:sp>
            <p:nvSpPr>
              <p:cNvPr id="614" name=""/>
              <p:cNvSpPr/>
              <p:nvPr/>
            </p:nvSpPr>
            <p:spPr>
              <a:xfrm>
                <a:off x="3517920" y="6064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02160" y="60642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352680" y="6089760"/>
              <a:ext cx="163800" cy="81000"/>
              <a:chOff x="3352680" y="6089760"/>
              <a:chExt cx="163800" cy="81000"/>
            </a:xfrm>
          </p:grpSpPr>
          <p:sp>
            <p:nvSpPr>
              <p:cNvPr id="617" name=""/>
              <p:cNvSpPr/>
              <p:nvPr/>
            </p:nvSpPr>
            <p:spPr>
              <a:xfrm>
                <a:off x="3352680" y="60897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36920" y="60897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352680" y="5987880"/>
              <a:ext cx="163800" cy="81000"/>
              <a:chOff x="3352680" y="5987880"/>
              <a:chExt cx="163800" cy="81000"/>
            </a:xfrm>
          </p:grpSpPr>
          <p:sp>
            <p:nvSpPr>
              <p:cNvPr id="620" name=""/>
              <p:cNvSpPr/>
              <p:nvPr/>
            </p:nvSpPr>
            <p:spPr>
              <a:xfrm>
                <a:off x="3352680" y="5987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36920" y="598788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429000" y="5924520"/>
              <a:ext cx="163440" cy="81000"/>
              <a:chOff x="3429000" y="5924520"/>
              <a:chExt cx="163440" cy="81000"/>
            </a:xfrm>
          </p:grpSpPr>
          <p:sp>
            <p:nvSpPr>
              <p:cNvPr id="623" name=""/>
              <p:cNvSpPr/>
              <p:nvPr/>
            </p:nvSpPr>
            <p:spPr>
              <a:xfrm>
                <a:off x="3429000" y="59245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13240" y="592452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492360" y="5899320"/>
              <a:ext cx="163800" cy="80640"/>
              <a:chOff x="3492360" y="5899320"/>
              <a:chExt cx="163800" cy="80640"/>
            </a:xfrm>
          </p:grpSpPr>
          <p:sp>
            <p:nvSpPr>
              <p:cNvPr id="626" name=""/>
              <p:cNvSpPr/>
              <p:nvPr/>
            </p:nvSpPr>
            <p:spPr>
              <a:xfrm>
                <a:off x="3492360" y="58993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76600" y="58993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568680" y="5861160"/>
              <a:ext cx="163440" cy="81000"/>
              <a:chOff x="3568680" y="5861160"/>
              <a:chExt cx="163440" cy="81000"/>
            </a:xfrm>
          </p:grpSpPr>
          <p:sp>
            <p:nvSpPr>
              <p:cNvPr id="629" name=""/>
              <p:cNvSpPr/>
              <p:nvPr/>
            </p:nvSpPr>
            <p:spPr>
              <a:xfrm>
                <a:off x="3568680" y="586116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652920" y="58611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44920" y="5029200"/>
              <a:ext cx="163440" cy="81000"/>
              <a:chOff x="4444920" y="5029200"/>
              <a:chExt cx="163440" cy="81000"/>
            </a:xfrm>
          </p:grpSpPr>
          <p:sp>
            <p:nvSpPr>
              <p:cNvPr id="632" name=""/>
              <p:cNvSpPr/>
              <p:nvPr/>
            </p:nvSpPr>
            <p:spPr>
              <a:xfrm>
                <a:off x="4444920" y="50292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29160" y="50292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450400" y="6158160"/>
              <a:ext cx="1841040" cy="470880"/>
              <a:chOff x="5450400" y="6158160"/>
              <a:chExt cx="1841040" cy="4708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5450400" y="6158160"/>
                <a:ext cx="1072800" cy="470160"/>
                <a:chOff x="5450400" y="6158160"/>
                <a:chExt cx="1072800" cy="47016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450400" y="6201360"/>
                  <a:ext cx="558360" cy="426960"/>
                  <a:chOff x="5450400" y="6201360"/>
                  <a:chExt cx="558360" cy="42696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83400" y="6201360"/>
                    <a:ext cx="225360" cy="296640"/>
                    <a:chOff x="5783400" y="6201360"/>
                    <a:chExt cx="225360" cy="29664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flipH="1" rot="21120000">
                      <a:off x="5799960" y="62132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flipH="1" rot="21120000">
                      <a:off x="5809320" y="62218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650920" y="6233040"/>
                    <a:ext cx="282600" cy="327240"/>
                    <a:chOff x="5650920" y="6233040"/>
                    <a:chExt cx="282600" cy="32724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flipH="1" rot="20640000">
                      <a:off x="5682240" y="6257880"/>
                      <a:ext cx="2181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flipH="1" rot="20640000">
                      <a:off x="5698440" y="6266520"/>
                      <a:ext cx="1422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450400" y="6256080"/>
                    <a:ext cx="370080" cy="372240"/>
                    <a:chOff x="5450400" y="6256080"/>
                    <a:chExt cx="370080" cy="3722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flipH="1" rot="19560000">
                      <a:off x="5502240" y="63075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 rot="19560000">
                      <a:off x="5530320" y="6323400"/>
                      <a:ext cx="171000" cy="28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5996880" y="6158160"/>
                  <a:ext cx="526320" cy="360000"/>
                  <a:chOff x="5996880" y="6158160"/>
                  <a:chExt cx="526320" cy="360000"/>
                </a:xfrm>
              </p:grpSpPr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996880" y="6158160"/>
                    <a:ext cx="167040" cy="259200"/>
                    <a:chOff x="5996880" y="6158160"/>
                    <a:chExt cx="167040" cy="2592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21540000">
                      <a:off x="5998680" y="6159600"/>
                      <a:ext cx="16272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21540000">
                      <a:off x="6048720" y="61624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6082560" y="6174360"/>
                    <a:ext cx="213840" cy="287640"/>
                    <a:chOff x="6082560" y="6174360"/>
                    <a:chExt cx="213840" cy="2876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420000">
                      <a:off x="6096960" y="61844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420000">
                      <a:off x="6152400" y="6191280"/>
                      <a:ext cx="11844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6187680" y="6163560"/>
                    <a:ext cx="335520" cy="354600"/>
                    <a:chOff x="6187680" y="6163560"/>
                    <a:chExt cx="335520" cy="35460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500000">
                      <a:off x="6233040" y="6202440"/>
                      <a:ext cx="24444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500000">
                      <a:off x="6301080" y="62143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656" name=""/>
              <p:cNvGrpSpPr/>
              <p:nvPr/>
            </p:nvGrpSpPr>
            <p:grpSpPr>
              <a:xfrm>
                <a:off x="6218280" y="6158160"/>
                <a:ext cx="1073160" cy="470880"/>
                <a:chOff x="6218280" y="6158160"/>
                <a:chExt cx="1073160" cy="47088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735240" y="6201360"/>
                  <a:ext cx="556200" cy="427680"/>
                  <a:chOff x="6735240" y="6201360"/>
                  <a:chExt cx="556200" cy="42768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735240" y="6201360"/>
                    <a:ext cx="225000" cy="295200"/>
                    <a:chOff x="6735240" y="6201360"/>
                    <a:chExt cx="225000" cy="2952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480000">
                      <a:off x="6751800" y="62132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480000">
                      <a:off x="6808680" y="62218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6807960" y="6232680"/>
                    <a:ext cx="283320" cy="327600"/>
                    <a:chOff x="6807960" y="6232680"/>
                    <a:chExt cx="283320" cy="32760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960000">
                      <a:off x="6840000" y="62575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960000">
                      <a:off x="6906240" y="62665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6922440" y="6255720"/>
                    <a:ext cx="369000" cy="373320"/>
                    <a:chOff x="6922440" y="6255720"/>
                    <a:chExt cx="369000" cy="373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2040000">
                      <a:off x="6973560" y="63072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2040000">
                      <a:off x="7041600" y="632340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218280" y="6158160"/>
                  <a:ext cx="527400" cy="360360"/>
                  <a:chOff x="6218280" y="6158160"/>
                  <a:chExt cx="527400" cy="360360"/>
                </a:xfrm>
              </p:grpSpPr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6577920" y="6158160"/>
                    <a:ext cx="167760" cy="259200"/>
                    <a:chOff x="6577920" y="6158160"/>
                    <a:chExt cx="167760" cy="25920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60000">
                      <a:off x="6579720" y="61592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60000">
                      <a:off x="6585480" y="6162480"/>
                      <a:ext cx="1054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6444720" y="6174360"/>
                    <a:ext cx="214200" cy="288360"/>
                    <a:chOff x="6444720" y="6174360"/>
                    <a:chExt cx="214200" cy="2883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21180000">
                      <a:off x="6458400" y="61844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21180000">
                      <a:off x="6465600" y="619128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6218280" y="6163200"/>
                    <a:ext cx="336600" cy="355320"/>
                    <a:chOff x="6218280" y="6163200"/>
                    <a:chExt cx="336600" cy="3553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H="1" rot="20100000">
                      <a:off x="6263280" y="62020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 rot="20100000">
                      <a:off x="6283800" y="62143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5257800" y="5016600"/>
              <a:ext cx="163440" cy="81000"/>
              <a:chOff x="5257800" y="5016600"/>
              <a:chExt cx="163440" cy="81000"/>
            </a:xfrm>
          </p:grpSpPr>
          <p:sp>
            <p:nvSpPr>
              <p:cNvPr id="678" name=""/>
              <p:cNvSpPr/>
              <p:nvPr/>
            </p:nvSpPr>
            <p:spPr>
              <a:xfrm>
                <a:off x="5257800" y="5016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42040" y="50166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6032520" y="4876920"/>
              <a:ext cx="163440" cy="81000"/>
              <a:chOff x="6032520" y="4876920"/>
              <a:chExt cx="163440" cy="81000"/>
            </a:xfrm>
          </p:grpSpPr>
          <p:sp>
            <p:nvSpPr>
              <p:cNvPr id="681" name=""/>
              <p:cNvSpPr/>
              <p:nvPr/>
            </p:nvSpPr>
            <p:spPr>
              <a:xfrm>
                <a:off x="6032520" y="487692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116760" y="48769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6692760" y="4800600"/>
              <a:ext cx="163800" cy="81000"/>
              <a:chOff x="6692760" y="4800600"/>
              <a:chExt cx="163800" cy="81000"/>
            </a:xfrm>
          </p:grpSpPr>
          <p:sp>
            <p:nvSpPr>
              <p:cNvPr id="684" name=""/>
              <p:cNvSpPr/>
              <p:nvPr/>
            </p:nvSpPr>
            <p:spPr>
              <a:xfrm>
                <a:off x="6692760" y="4800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77000" y="48006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383720" y="5396040"/>
              <a:ext cx="1841040" cy="470520"/>
              <a:chOff x="4383720" y="5396040"/>
              <a:chExt cx="1841040" cy="47052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4383720" y="5396040"/>
                <a:ext cx="1073160" cy="470520"/>
                <a:chOff x="4383720" y="5396040"/>
                <a:chExt cx="1073160" cy="470520"/>
              </a:xfrm>
            </p:grpSpPr>
            <p:grpSp>
              <p:nvGrpSpPr>
                <p:cNvPr id="688" name=""/>
                <p:cNvGrpSpPr/>
                <p:nvPr/>
              </p:nvGrpSpPr>
              <p:grpSpPr>
                <a:xfrm>
                  <a:off x="4383720" y="5439240"/>
                  <a:ext cx="558720" cy="427320"/>
                  <a:chOff x="4383720" y="5439240"/>
                  <a:chExt cx="558720" cy="427320"/>
                </a:xfrm>
              </p:grpSpPr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717080" y="5439240"/>
                    <a:ext cx="225360" cy="296280"/>
                    <a:chOff x="4717080" y="5439240"/>
                    <a:chExt cx="225360" cy="29628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21120000">
                      <a:off x="4734000" y="5451120"/>
                      <a:ext cx="19152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21120000">
                      <a:off x="4742640" y="5458320"/>
                      <a:ext cx="12456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4584240" y="5469120"/>
                    <a:ext cx="282960" cy="327240"/>
                    <a:chOff x="4584240" y="5469120"/>
                    <a:chExt cx="282960" cy="32724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20640000">
                      <a:off x="4616280" y="549396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20640000">
                      <a:off x="4633560" y="5504760"/>
                      <a:ext cx="14184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4383720" y="5493600"/>
                    <a:ext cx="370440" cy="372960"/>
                    <a:chOff x="4383720" y="5493600"/>
                    <a:chExt cx="370440" cy="3729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19560000">
                      <a:off x="4435200" y="554508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19560000">
                      <a:off x="4463640" y="5560920"/>
                      <a:ext cx="1717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4930200" y="5396040"/>
                  <a:ext cx="526680" cy="361080"/>
                  <a:chOff x="4930200" y="5396040"/>
                  <a:chExt cx="526680" cy="361080"/>
                </a:xfrm>
              </p:grpSpPr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4930200" y="5396040"/>
                    <a:ext cx="167400" cy="259200"/>
                    <a:chOff x="4930200" y="5396040"/>
                    <a:chExt cx="167400" cy="25920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21540000">
                      <a:off x="4932000" y="539712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21540000">
                      <a:off x="4982400" y="540072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015880" y="5412600"/>
                    <a:ext cx="214560" cy="287640"/>
                    <a:chOff x="5015880" y="5412600"/>
                    <a:chExt cx="214560" cy="28764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420000">
                      <a:off x="5030280" y="542268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420000">
                      <a:off x="5086800" y="5429160"/>
                      <a:ext cx="1195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5119920" y="5401080"/>
                    <a:ext cx="336960" cy="356040"/>
                    <a:chOff x="5119920" y="5401080"/>
                    <a:chExt cx="336960" cy="3560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rot="1500000">
                      <a:off x="5165280" y="5440320"/>
                      <a:ext cx="245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rot="1500000">
                      <a:off x="5232960" y="5452920"/>
                      <a:ext cx="15840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708" name=""/>
              <p:cNvGrpSpPr/>
              <p:nvPr/>
            </p:nvGrpSpPr>
            <p:grpSpPr>
              <a:xfrm>
                <a:off x="5151600" y="5396040"/>
                <a:ext cx="1073160" cy="470520"/>
                <a:chOff x="5151600" y="5396040"/>
                <a:chExt cx="1073160" cy="470520"/>
              </a:xfrm>
            </p:grpSpPr>
            <p:grpSp>
              <p:nvGrpSpPr>
                <p:cNvPr id="709" name=""/>
                <p:cNvGrpSpPr/>
                <p:nvPr/>
              </p:nvGrpSpPr>
              <p:grpSpPr>
                <a:xfrm>
                  <a:off x="5667840" y="5439240"/>
                  <a:ext cx="556920" cy="427320"/>
                  <a:chOff x="5667840" y="5439240"/>
                  <a:chExt cx="556920" cy="427320"/>
                </a:xfrm>
              </p:grpSpPr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5667840" y="5439240"/>
                    <a:ext cx="225720" cy="294840"/>
                    <a:chOff x="5667840" y="5439240"/>
                    <a:chExt cx="225720" cy="2948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rot="480000">
                      <a:off x="5684760" y="545112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rot="480000">
                      <a:off x="5743800" y="5458320"/>
                      <a:ext cx="124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5741640" y="5469120"/>
                    <a:ext cx="282960" cy="326880"/>
                    <a:chOff x="5741640" y="5469120"/>
                    <a:chExt cx="282960" cy="32688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rot="960000">
                      <a:off x="5773680" y="5493960"/>
                      <a:ext cx="2188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rot="960000">
                      <a:off x="5839200" y="5504400"/>
                      <a:ext cx="14256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855400" y="5493600"/>
                    <a:ext cx="369360" cy="372960"/>
                    <a:chOff x="5855400" y="5493600"/>
                    <a:chExt cx="369360" cy="37296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rot="2040000">
                      <a:off x="5906880" y="5545080"/>
                      <a:ext cx="26604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rot="2040000">
                      <a:off x="5974920" y="5560920"/>
                      <a:ext cx="17136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5151600" y="5396040"/>
                  <a:ext cx="526680" cy="361080"/>
                  <a:chOff x="5151600" y="5396040"/>
                  <a:chExt cx="526680" cy="36108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10880" y="5396040"/>
                    <a:ext cx="167400" cy="259200"/>
                    <a:chOff x="5510880" y="5396040"/>
                    <a:chExt cx="167400" cy="2592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60000">
                      <a:off x="5512320" y="539712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60000">
                      <a:off x="5517360" y="54007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378040" y="5412600"/>
                    <a:ext cx="214200" cy="288360"/>
                    <a:chOff x="5378040" y="5412600"/>
                    <a:chExt cx="214200" cy="2883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21180000">
                      <a:off x="5391720" y="5422680"/>
                      <a:ext cx="185400" cy="24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21180000">
                      <a:off x="5398920" y="5429160"/>
                      <a:ext cx="1195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151600" y="5401080"/>
                    <a:ext cx="336600" cy="356040"/>
                    <a:chOff x="5151600" y="5401080"/>
                    <a:chExt cx="336600" cy="356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0100000">
                      <a:off x="5196240" y="544032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0100000">
                      <a:off x="5218920" y="5452560"/>
                      <a:ext cx="15804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29" name=""/>
            <p:cNvGrpSpPr/>
            <p:nvPr/>
          </p:nvGrpSpPr>
          <p:grpSpPr>
            <a:xfrm>
              <a:off x="4800600" y="5977080"/>
              <a:ext cx="684360" cy="220680"/>
              <a:chOff x="4800600" y="5977080"/>
              <a:chExt cx="684360" cy="220680"/>
            </a:xfrm>
          </p:grpSpPr>
          <p:sp>
            <p:nvSpPr>
              <p:cNvPr id="730" name=""/>
              <p:cNvSpPr/>
              <p:nvPr/>
            </p:nvSpPr>
            <p:spPr>
              <a:xfrm>
                <a:off x="4800600" y="5977080"/>
                <a:ext cx="322200" cy="2206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51600" y="5978520"/>
                <a:ext cx="333360" cy="187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426360" y="5748480"/>
              <a:ext cx="161640" cy="81000"/>
              <a:chOff x="6426360" y="5748480"/>
              <a:chExt cx="161640" cy="81000"/>
            </a:xfrm>
          </p:grpSpPr>
          <p:sp>
            <p:nvSpPr>
              <p:cNvPr id="733" name=""/>
              <p:cNvSpPr/>
              <p:nvPr/>
            </p:nvSpPr>
            <p:spPr>
              <a:xfrm>
                <a:off x="6426360" y="57484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510240" y="5748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6197760" y="5799240"/>
              <a:ext cx="161640" cy="81000"/>
              <a:chOff x="6197760" y="5799240"/>
              <a:chExt cx="161640" cy="81000"/>
            </a:xfrm>
          </p:grpSpPr>
          <p:sp>
            <p:nvSpPr>
              <p:cNvPr id="736" name=""/>
              <p:cNvSpPr/>
              <p:nvPr/>
            </p:nvSpPr>
            <p:spPr>
              <a:xfrm>
                <a:off x="6197760" y="57992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281640" y="57992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7213680" y="4965840"/>
              <a:ext cx="162000" cy="81000"/>
              <a:chOff x="7213680" y="4965840"/>
              <a:chExt cx="162000" cy="81000"/>
            </a:xfrm>
          </p:grpSpPr>
          <p:sp>
            <p:nvSpPr>
              <p:cNvPr id="739" name=""/>
              <p:cNvSpPr/>
              <p:nvPr/>
            </p:nvSpPr>
            <p:spPr>
              <a:xfrm>
                <a:off x="7213680" y="49658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97560" y="496584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7213680" y="4863960"/>
              <a:ext cx="162000" cy="81000"/>
              <a:chOff x="7213680" y="4863960"/>
              <a:chExt cx="162000" cy="81000"/>
            </a:xfrm>
          </p:grpSpPr>
          <p:sp>
            <p:nvSpPr>
              <p:cNvPr id="742" name=""/>
              <p:cNvSpPr/>
              <p:nvPr/>
            </p:nvSpPr>
            <p:spPr>
              <a:xfrm>
                <a:off x="7213680" y="48639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7560" y="486396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289640" y="4800600"/>
              <a:ext cx="163800" cy="81000"/>
              <a:chOff x="7289640" y="4800600"/>
              <a:chExt cx="163800" cy="81000"/>
            </a:xfrm>
          </p:grpSpPr>
          <p:sp>
            <p:nvSpPr>
              <p:cNvPr id="745" name=""/>
              <p:cNvSpPr/>
              <p:nvPr/>
            </p:nvSpPr>
            <p:spPr>
              <a:xfrm>
                <a:off x="7289640" y="48006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373880" y="48006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172200" y="5634000"/>
              <a:ext cx="163440" cy="81000"/>
              <a:chOff x="6172200" y="5634000"/>
              <a:chExt cx="163440" cy="81000"/>
            </a:xfrm>
          </p:grpSpPr>
          <p:sp>
            <p:nvSpPr>
              <p:cNvPr id="748" name=""/>
              <p:cNvSpPr/>
              <p:nvPr/>
            </p:nvSpPr>
            <p:spPr>
              <a:xfrm>
                <a:off x="6172200" y="563400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56440" y="5634000"/>
                <a:ext cx="7920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248520" y="5595840"/>
              <a:ext cx="161640" cy="81000"/>
              <a:chOff x="6248520" y="5595840"/>
              <a:chExt cx="161640" cy="81000"/>
            </a:xfrm>
          </p:grpSpPr>
          <p:sp>
            <p:nvSpPr>
              <p:cNvPr id="751" name=""/>
              <p:cNvSpPr/>
              <p:nvPr/>
            </p:nvSpPr>
            <p:spPr>
              <a:xfrm>
                <a:off x="6248520" y="55958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32400" y="559584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451560" y="5519880"/>
              <a:ext cx="163440" cy="81000"/>
              <a:chOff x="6451560" y="5519880"/>
              <a:chExt cx="163440" cy="81000"/>
            </a:xfrm>
          </p:grpSpPr>
          <p:sp>
            <p:nvSpPr>
              <p:cNvPr id="754" name=""/>
              <p:cNvSpPr/>
              <p:nvPr/>
            </p:nvSpPr>
            <p:spPr>
              <a:xfrm>
                <a:off x="6451560" y="55198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35800" y="551988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1945080" y="6429600"/>
              <a:ext cx="1841400" cy="470520"/>
              <a:chOff x="1945080" y="6429600"/>
              <a:chExt cx="1841400" cy="47052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1945080" y="6429600"/>
                <a:ext cx="1073160" cy="470520"/>
                <a:chOff x="1945080" y="6429600"/>
                <a:chExt cx="1073160" cy="47052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945080" y="6472800"/>
                  <a:ext cx="559080" cy="427320"/>
                  <a:chOff x="1945080" y="6472800"/>
                  <a:chExt cx="559080" cy="4273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2278800" y="6472800"/>
                    <a:ext cx="225360" cy="296280"/>
                    <a:chOff x="2278800" y="6472800"/>
                    <a:chExt cx="225360" cy="29628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rot="21120000">
                      <a:off x="2295360" y="6484680"/>
                      <a:ext cx="191880" cy="25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21120000">
                      <a:off x="2303640" y="6493320"/>
                      <a:ext cx="124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2145240" y="6504120"/>
                    <a:ext cx="283680" cy="326880"/>
                    <a:chOff x="2145240" y="6504120"/>
                    <a:chExt cx="283680" cy="32688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0640000">
                      <a:off x="2177640" y="6528960"/>
                      <a:ext cx="2188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0640000">
                      <a:off x="2194200" y="6537600"/>
                      <a:ext cx="14256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945080" y="6527160"/>
                    <a:ext cx="370440" cy="372960"/>
                    <a:chOff x="1945080" y="6527160"/>
                    <a:chExt cx="370440" cy="37296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rot="19560000">
                      <a:off x="1996560" y="657864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19560000">
                      <a:off x="2025720" y="6594480"/>
                      <a:ext cx="17136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2491920" y="6429600"/>
                  <a:ext cx="526320" cy="360360"/>
                  <a:chOff x="2491920" y="6429600"/>
                  <a:chExt cx="526320" cy="360360"/>
                </a:xfrm>
              </p:grpSpPr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2491920" y="6429600"/>
                    <a:ext cx="167400" cy="259200"/>
                    <a:chOff x="2491920" y="6429600"/>
                    <a:chExt cx="167400" cy="25920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 rot="21540000">
                      <a:off x="2493720" y="64306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rot="21540000">
                      <a:off x="2544120" y="643392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577600" y="6445800"/>
                    <a:ext cx="214560" cy="287640"/>
                    <a:chOff x="2577600" y="6445800"/>
                    <a:chExt cx="214560" cy="28764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 rot="420000">
                      <a:off x="2592000" y="6455880"/>
                      <a:ext cx="1854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 rot="420000">
                      <a:off x="2649240" y="6462720"/>
                      <a:ext cx="11916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75" name=""/>
                  <p:cNvGrpSpPr/>
                  <p:nvPr/>
                </p:nvGrpSpPr>
                <p:grpSpPr>
                  <a:xfrm>
                    <a:off x="2681640" y="6434640"/>
                    <a:ext cx="336600" cy="355320"/>
                    <a:chOff x="2681640" y="6434640"/>
                    <a:chExt cx="336600" cy="355320"/>
                  </a:xfrm>
                </p:grpSpPr>
                <p:sp>
                  <p:nvSpPr>
                    <p:cNvPr id="776" name=""/>
                    <p:cNvSpPr/>
                    <p:nvPr/>
                  </p:nvSpPr>
                  <p:spPr>
                    <a:xfrm rot="1500000">
                      <a:off x="2727000" y="64738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rot="1500000">
                      <a:off x="2795040" y="648576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778" name=""/>
              <p:cNvGrpSpPr/>
              <p:nvPr/>
            </p:nvGrpSpPr>
            <p:grpSpPr>
              <a:xfrm>
                <a:off x="2713320" y="6429600"/>
                <a:ext cx="1073160" cy="470160"/>
                <a:chOff x="2713320" y="6429600"/>
                <a:chExt cx="1073160" cy="47016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3229920" y="6472800"/>
                  <a:ext cx="556560" cy="426960"/>
                  <a:chOff x="3229920" y="6472800"/>
                  <a:chExt cx="556560" cy="42696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3229920" y="6472800"/>
                    <a:ext cx="225000" cy="294840"/>
                    <a:chOff x="3229920" y="6472800"/>
                    <a:chExt cx="225000" cy="29484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rot="480000">
                      <a:off x="3246480" y="6484680"/>
                      <a:ext cx="1915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rot="480000">
                      <a:off x="3303720" y="6493320"/>
                      <a:ext cx="1242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303000" y="6504480"/>
                    <a:ext cx="282960" cy="326880"/>
                    <a:chOff x="3303000" y="6504480"/>
                    <a:chExt cx="282960" cy="32688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rot="960000">
                      <a:off x="3335040" y="6529320"/>
                      <a:ext cx="218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rot="960000">
                      <a:off x="3400200" y="6537960"/>
                      <a:ext cx="14220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3417120" y="6526800"/>
                    <a:ext cx="369360" cy="372960"/>
                    <a:chOff x="3417120" y="6526800"/>
                    <a:chExt cx="369360" cy="3729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2040000">
                      <a:off x="3468600" y="6578280"/>
                      <a:ext cx="2664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2040000">
                      <a:off x="3536640" y="6594120"/>
                      <a:ext cx="17064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2713320" y="6429600"/>
                  <a:ext cx="526680" cy="360000"/>
                  <a:chOff x="2713320" y="6429600"/>
                  <a:chExt cx="526680" cy="360000"/>
                </a:xfrm>
              </p:grpSpPr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3072600" y="6429600"/>
                    <a:ext cx="167400" cy="259200"/>
                    <a:chOff x="3072600" y="6429600"/>
                    <a:chExt cx="167400" cy="25920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 flipH="1" rot="60000">
                      <a:off x="3074040" y="64306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 flipH="1" rot="60000">
                      <a:off x="3079800" y="643392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2939400" y="6445800"/>
                    <a:ext cx="214200" cy="288360"/>
                    <a:chOff x="2939400" y="6445800"/>
                    <a:chExt cx="214200" cy="2883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flipH="1" rot="21180000">
                      <a:off x="2953080" y="645588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flipH="1" rot="21180000">
                      <a:off x="2960640" y="6462720"/>
                      <a:ext cx="1188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2713320" y="6434640"/>
                    <a:ext cx="336600" cy="354960"/>
                    <a:chOff x="2713320" y="6434640"/>
                    <a:chExt cx="336600" cy="354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flipH="1" rot="20100000">
                      <a:off x="2757960" y="647388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H="1" rot="20100000">
                      <a:off x="2780640" y="6485400"/>
                      <a:ext cx="15768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9" name=""/>
            <p:cNvGrpSpPr/>
            <p:nvPr/>
          </p:nvGrpSpPr>
          <p:grpSpPr>
            <a:xfrm>
              <a:off x="5183640" y="4786560"/>
              <a:ext cx="1841040" cy="470520"/>
              <a:chOff x="5183640" y="4786560"/>
              <a:chExt cx="1841040" cy="4705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183640" y="4786560"/>
                <a:ext cx="1072800" cy="470160"/>
                <a:chOff x="5183640" y="4786560"/>
                <a:chExt cx="1072800" cy="4701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5183640" y="4829760"/>
                  <a:ext cx="558360" cy="426960"/>
                  <a:chOff x="5183640" y="4829760"/>
                  <a:chExt cx="558360" cy="426960"/>
                </a:xfrm>
              </p:grpSpPr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516640" y="4829760"/>
                    <a:ext cx="225360" cy="296640"/>
                    <a:chOff x="5516640" y="4829760"/>
                    <a:chExt cx="225360" cy="29664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21120000">
                      <a:off x="5533200" y="484164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21120000">
                      <a:off x="5542560" y="4850280"/>
                      <a:ext cx="12456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5383800" y="4861080"/>
                    <a:ext cx="283680" cy="327240"/>
                    <a:chOff x="5383800" y="4861080"/>
                    <a:chExt cx="283680" cy="327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20640000">
                      <a:off x="5416200" y="4885920"/>
                      <a:ext cx="2188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20640000">
                      <a:off x="5430960" y="4894560"/>
                      <a:ext cx="1425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5183640" y="4884480"/>
                    <a:ext cx="370080" cy="372240"/>
                    <a:chOff x="5183640" y="4884480"/>
                    <a:chExt cx="370080" cy="37224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9560000">
                      <a:off x="5235480" y="4935960"/>
                      <a:ext cx="2664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9560000">
                      <a:off x="5264280" y="4951440"/>
                      <a:ext cx="17064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5730480" y="4786560"/>
                  <a:ext cx="525960" cy="360000"/>
                  <a:chOff x="5730480" y="4786560"/>
                  <a:chExt cx="525960" cy="36000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5730480" y="4786560"/>
                    <a:ext cx="166680" cy="259200"/>
                    <a:chOff x="5730480" y="4786560"/>
                    <a:chExt cx="166680" cy="25920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 rot="21540000">
                      <a:off x="5732280" y="4788000"/>
                      <a:ext cx="162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540000">
                      <a:off x="5782680" y="4790880"/>
                      <a:ext cx="10440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5815440" y="4802760"/>
                    <a:ext cx="213840" cy="287640"/>
                    <a:chOff x="5815440" y="4802760"/>
                    <a:chExt cx="213840" cy="28764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420000">
                      <a:off x="5829840" y="4812840"/>
                      <a:ext cx="18468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420000">
                      <a:off x="5886720" y="4819680"/>
                      <a:ext cx="11880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5920560" y="4791600"/>
                    <a:ext cx="335880" cy="354960"/>
                    <a:chOff x="5920560" y="4791600"/>
                    <a:chExt cx="335880" cy="35496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 rot="1500000">
                      <a:off x="5965920" y="4830480"/>
                      <a:ext cx="24480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rot="1500000">
                      <a:off x="6033960" y="4842720"/>
                      <a:ext cx="156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5951520" y="4786560"/>
                <a:ext cx="1073160" cy="470520"/>
                <a:chOff x="5951520" y="4786560"/>
                <a:chExt cx="1073160" cy="47052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6468480" y="4829760"/>
                  <a:ext cx="556200" cy="427320"/>
                  <a:chOff x="6468480" y="4829760"/>
                  <a:chExt cx="556200" cy="427320"/>
                </a:xfrm>
              </p:grpSpPr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6468480" y="4829760"/>
                    <a:ext cx="225000" cy="295200"/>
                    <a:chOff x="6468480" y="4829760"/>
                    <a:chExt cx="225000" cy="29520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480000">
                      <a:off x="6485040" y="484164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480000">
                      <a:off x="6542280" y="4850280"/>
                      <a:ext cx="12420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6541560" y="4861440"/>
                    <a:ext cx="282960" cy="327240"/>
                    <a:chOff x="6541560" y="4861440"/>
                    <a:chExt cx="282960" cy="32724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 rot="960000">
                      <a:off x="6573600" y="4886280"/>
                      <a:ext cx="2185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960000">
                      <a:off x="6639840" y="4894920"/>
                      <a:ext cx="141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6655680" y="4884120"/>
                    <a:ext cx="369000" cy="372960"/>
                    <a:chOff x="6655680" y="4884120"/>
                    <a:chExt cx="369000" cy="37296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2040000">
                      <a:off x="6706800" y="4935600"/>
                      <a:ext cx="2664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2040000">
                      <a:off x="6775560" y="4951440"/>
                      <a:ext cx="17100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5951520" y="4786560"/>
                  <a:ext cx="527400" cy="360360"/>
                  <a:chOff x="5951520" y="4786560"/>
                  <a:chExt cx="527400" cy="360360"/>
                </a:xfrm>
              </p:grpSpPr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6311160" y="4786560"/>
                    <a:ext cx="167760" cy="259200"/>
                    <a:chOff x="6311160" y="4786560"/>
                    <a:chExt cx="167760" cy="25920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60000">
                      <a:off x="6312960" y="4787640"/>
                      <a:ext cx="16344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60000">
                      <a:off x="6319800" y="4790880"/>
                      <a:ext cx="1051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6177960" y="4802760"/>
                    <a:ext cx="214200" cy="288360"/>
                    <a:chOff x="6177960" y="4802760"/>
                    <a:chExt cx="214200" cy="28836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21180000">
                      <a:off x="6191640" y="481284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21180000">
                      <a:off x="6198480" y="4819680"/>
                      <a:ext cx="1191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951520" y="4791600"/>
                    <a:ext cx="336600" cy="355320"/>
                    <a:chOff x="5951520" y="4791600"/>
                    <a:chExt cx="336600" cy="35532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flipH="1" rot="20100000">
                      <a:off x="5996520" y="4830480"/>
                      <a:ext cx="24552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rot="20100000">
                      <a:off x="6017040" y="4842720"/>
                      <a:ext cx="15732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sp>
          <p:nvSpPr>
            <p:cNvPr id="842" name=""/>
            <p:cNvSpPr/>
            <p:nvPr/>
          </p:nvSpPr>
          <p:spPr>
            <a:xfrm rot="3420000">
              <a:off x="3173040" y="6675120"/>
              <a:ext cx="5580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7530120" y="5942880"/>
              <a:ext cx="820800" cy="763200"/>
              <a:chOff x="7530120" y="5942880"/>
              <a:chExt cx="820800" cy="763200"/>
            </a:xfrm>
          </p:grpSpPr>
          <p:sp>
            <p:nvSpPr>
              <p:cNvPr id="844" name=""/>
              <p:cNvSpPr/>
              <p:nvPr/>
            </p:nvSpPr>
            <p:spPr>
              <a:xfrm flipH="1" rot="3480000">
                <a:off x="7609320" y="6069240"/>
                <a:ext cx="23724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7616160" y="5942880"/>
                <a:ext cx="734760" cy="763200"/>
                <a:chOff x="7616160" y="5942880"/>
                <a:chExt cx="734760" cy="76320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7616160" y="5942880"/>
                  <a:ext cx="734760" cy="763200"/>
                  <a:chOff x="7616160" y="5942880"/>
                  <a:chExt cx="734760" cy="763200"/>
                </a:xfrm>
              </p:grpSpPr>
              <p:pic>
                <p:nvPicPr>
                  <p:cNvPr id="8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9920000">
                    <a:off x="7737120" y="6063840"/>
                    <a:ext cx="58464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9920000">
                    <a:off x="7665480" y="6225840"/>
                    <a:ext cx="59832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49" name=""/>
                <p:cNvSpPr/>
                <p:nvPr/>
              </p:nvSpPr>
              <p:spPr>
                <a:xfrm flipH="1" rot="1680000">
                  <a:off x="7784640" y="620172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1680000">
                  <a:off x="7856640" y="623808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1680000">
                  <a:off x="7943040" y="6297480"/>
                  <a:ext cx="4680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1680000">
                  <a:off x="7911360" y="61797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1680000">
                  <a:off x="7849800" y="614160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54" name=""/>
            <p:cNvGrpSpPr/>
            <p:nvPr/>
          </p:nvGrpSpPr>
          <p:grpSpPr>
            <a:xfrm>
              <a:off x="2044080" y="5790960"/>
              <a:ext cx="820800" cy="762480"/>
              <a:chOff x="2044080" y="5790960"/>
              <a:chExt cx="820800" cy="762480"/>
            </a:xfrm>
          </p:grpSpPr>
          <p:sp>
            <p:nvSpPr>
              <p:cNvPr id="855" name=""/>
              <p:cNvSpPr/>
              <p:nvPr/>
            </p:nvSpPr>
            <p:spPr>
              <a:xfrm flipH="1" rot="3480000">
                <a:off x="2122560" y="5917320"/>
                <a:ext cx="23724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2131200" y="5790960"/>
                <a:ext cx="733680" cy="762480"/>
                <a:chOff x="2131200" y="5790960"/>
                <a:chExt cx="733680" cy="76248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2131200" y="5790960"/>
                  <a:ext cx="733680" cy="762480"/>
                  <a:chOff x="2131200" y="5790960"/>
                  <a:chExt cx="733680" cy="762480"/>
                </a:xfrm>
              </p:grpSpPr>
              <p:pic>
                <p:nvPicPr>
                  <p:cNvPr id="8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9920000">
                    <a:off x="2251440" y="591192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rot="19920000">
                    <a:off x="2180520" y="6073560"/>
                    <a:ext cx="597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60" name=""/>
                <p:cNvSpPr/>
                <p:nvPr/>
              </p:nvSpPr>
              <p:spPr>
                <a:xfrm flipH="1" rot="1680000">
                  <a:off x="2297880" y="604944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1680000">
                  <a:off x="2369880" y="608580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1680000">
                  <a:off x="2455560" y="6144840"/>
                  <a:ext cx="46440" cy="864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1680000">
                  <a:off x="2424960" y="6027120"/>
                  <a:ext cx="73080" cy="662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1680000">
                  <a:off x="2363040" y="5989320"/>
                  <a:ext cx="79920" cy="74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65" name=""/>
            <p:cNvGrpSpPr/>
            <p:nvPr/>
          </p:nvGrpSpPr>
          <p:grpSpPr>
            <a:xfrm>
              <a:off x="2349000" y="5180400"/>
              <a:ext cx="821160" cy="763920"/>
              <a:chOff x="2349000" y="5180400"/>
              <a:chExt cx="821160" cy="763920"/>
            </a:xfrm>
          </p:grpSpPr>
          <p:sp>
            <p:nvSpPr>
              <p:cNvPr id="866" name=""/>
              <p:cNvSpPr/>
              <p:nvPr/>
            </p:nvSpPr>
            <p:spPr>
              <a:xfrm flipH="1" rot="3480000">
                <a:off x="2427840" y="5305680"/>
                <a:ext cx="237240" cy="317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2435760" y="5180400"/>
                <a:ext cx="734400" cy="763920"/>
                <a:chOff x="2435760" y="5180400"/>
                <a:chExt cx="734400" cy="76392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2435760" y="5180400"/>
                  <a:ext cx="734400" cy="763920"/>
                  <a:chOff x="2435760" y="5180400"/>
                  <a:chExt cx="734400" cy="763920"/>
                </a:xfrm>
              </p:grpSpPr>
              <p:pic>
                <p:nvPicPr>
                  <p:cNvPr id="8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19920000">
                    <a:off x="2554920" y="5302080"/>
                    <a:ext cx="5857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9920000">
                    <a:off x="2485080" y="5463360"/>
                    <a:ext cx="59940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71" name=""/>
                <p:cNvSpPr/>
                <p:nvPr/>
              </p:nvSpPr>
              <p:spPr>
                <a:xfrm flipH="1" rot="1680000">
                  <a:off x="2603520" y="543924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1680000">
                  <a:off x="2676600" y="54756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1680000">
                  <a:off x="2760840" y="553536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1680000">
                  <a:off x="2729160" y="541764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1680000">
                  <a:off x="2667600" y="537948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76" name=""/>
            <p:cNvGrpSpPr/>
            <p:nvPr/>
          </p:nvGrpSpPr>
          <p:grpSpPr>
            <a:xfrm>
              <a:off x="8043840" y="5328000"/>
              <a:ext cx="815040" cy="713880"/>
              <a:chOff x="8043840" y="5328000"/>
              <a:chExt cx="815040" cy="713880"/>
            </a:xfrm>
          </p:grpSpPr>
          <p:sp>
            <p:nvSpPr>
              <p:cNvPr id="877" name=""/>
              <p:cNvSpPr/>
              <p:nvPr/>
            </p:nvSpPr>
            <p:spPr>
              <a:xfrm rot="16500000">
                <a:off x="8521200" y="5307840"/>
                <a:ext cx="23148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8043840" y="5328000"/>
                <a:ext cx="815040" cy="713880"/>
                <a:chOff x="8043840" y="5328000"/>
                <a:chExt cx="815040" cy="713880"/>
              </a:xfrm>
            </p:grpSpPr>
            <p:grpSp>
              <p:nvGrpSpPr>
                <p:cNvPr id="879" name=""/>
                <p:cNvGrpSpPr/>
                <p:nvPr/>
              </p:nvGrpSpPr>
              <p:grpSpPr>
                <a:xfrm>
                  <a:off x="8043840" y="5328000"/>
                  <a:ext cx="815040" cy="713880"/>
                  <a:chOff x="8043840" y="5328000"/>
                  <a:chExt cx="815040" cy="713880"/>
                </a:xfrm>
              </p:grpSpPr>
              <p:pic>
                <p:nvPicPr>
                  <p:cNvPr id="8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18300000">
                    <a:off x="8044920" y="5491440"/>
                    <a:ext cx="550800" cy="2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18300000">
                    <a:off x="8257320" y="5506920"/>
                    <a:ext cx="56340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82" name=""/>
                <p:cNvSpPr/>
                <p:nvPr/>
              </p:nvSpPr>
              <p:spPr>
                <a:xfrm rot="18300000">
                  <a:off x="8555760" y="546948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18300000">
                  <a:off x="8510400" y="553428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18300000">
                  <a:off x="8462160" y="562464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8300000">
                  <a:off x="8407080" y="551772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18300000">
                  <a:off x="8436960" y="5457240"/>
                  <a:ext cx="7740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5300640" y="5936760"/>
              <a:ext cx="816480" cy="715320"/>
              <a:chOff x="5300640" y="5936760"/>
              <a:chExt cx="816480" cy="715320"/>
            </a:xfrm>
          </p:grpSpPr>
          <p:sp>
            <p:nvSpPr>
              <p:cNvPr id="888" name=""/>
              <p:cNvSpPr/>
              <p:nvPr/>
            </p:nvSpPr>
            <p:spPr>
              <a:xfrm rot="16500000">
                <a:off x="5778000" y="5917320"/>
                <a:ext cx="23148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5300640" y="5936760"/>
                <a:ext cx="816480" cy="715320"/>
                <a:chOff x="5300640" y="5936760"/>
                <a:chExt cx="816480" cy="71532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5300640" y="5936760"/>
                  <a:ext cx="816480" cy="715320"/>
                  <a:chOff x="5300640" y="5936760"/>
                  <a:chExt cx="816480" cy="715320"/>
                </a:xfrm>
              </p:grpSpPr>
              <p:pic>
                <p:nvPicPr>
                  <p:cNvPr id="89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18300000">
                    <a:off x="5302080" y="6100560"/>
                    <a:ext cx="55152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8300000">
                    <a:off x="5514480" y="6115680"/>
                    <a:ext cx="56412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893" name=""/>
                <p:cNvSpPr/>
                <p:nvPr/>
              </p:nvSpPr>
              <p:spPr>
                <a:xfrm rot="18300000">
                  <a:off x="5812560" y="6078960"/>
                  <a:ext cx="5472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8300000">
                  <a:off x="5767200" y="614340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rot="18300000">
                  <a:off x="5718600" y="623376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rot="18300000">
                  <a:off x="5663520" y="6127200"/>
                  <a:ext cx="7128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18300000">
                  <a:off x="5693400" y="606672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898" name=""/>
            <p:cNvGrpSpPr/>
            <p:nvPr/>
          </p:nvGrpSpPr>
          <p:grpSpPr>
            <a:xfrm>
              <a:off x="3492000" y="5790240"/>
              <a:ext cx="821160" cy="763560"/>
              <a:chOff x="3492000" y="5790240"/>
              <a:chExt cx="821160" cy="763560"/>
            </a:xfrm>
          </p:grpSpPr>
          <p:sp>
            <p:nvSpPr>
              <p:cNvPr id="899" name=""/>
              <p:cNvSpPr/>
              <p:nvPr/>
            </p:nvSpPr>
            <p:spPr>
              <a:xfrm flipH="1" rot="3480000">
                <a:off x="3570840" y="5915880"/>
                <a:ext cx="236880" cy="317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3579120" y="5790240"/>
                <a:ext cx="734040" cy="763560"/>
                <a:chOff x="3579120" y="5790240"/>
                <a:chExt cx="734040" cy="763560"/>
              </a:xfrm>
            </p:grpSpPr>
            <p:grpSp>
              <p:nvGrpSpPr>
                <p:cNvPr id="901" name=""/>
                <p:cNvGrpSpPr/>
                <p:nvPr/>
              </p:nvGrpSpPr>
              <p:grpSpPr>
                <a:xfrm>
                  <a:off x="3579120" y="5790240"/>
                  <a:ext cx="734040" cy="763560"/>
                  <a:chOff x="3579120" y="5790240"/>
                  <a:chExt cx="734040" cy="763560"/>
                </a:xfrm>
              </p:grpSpPr>
              <p:pic>
                <p:nvPicPr>
                  <p:cNvPr id="90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19920000">
                    <a:off x="3697920" y="5911920"/>
                    <a:ext cx="5857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19920000">
                    <a:off x="3628440" y="6073560"/>
                    <a:ext cx="599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04" name=""/>
                <p:cNvSpPr/>
                <p:nvPr/>
              </p:nvSpPr>
              <p:spPr>
                <a:xfrm flipH="1" rot="1680000">
                  <a:off x="3746520" y="604692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1680000">
                  <a:off x="3818880" y="6085800"/>
                  <a:ext cx="56520" cy="1353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1680000">
                  <a:off x="3903480" y="6144840"/>
                  <a:ext cx="46440" cy="864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1680000">
                  <a:off x="3872880" y="6027120"/>
                  <a:ext cx="73080" cy="662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1680000">
                  <a:off x="3810600" y="5989320"/>
                  <a:ext cx="79920" cy="74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909" name=""/>
            <p:cNvGrpSpPr/>
            <p:nvPr/>
          </p:nvGrpSpPr>
          <p:grpSpPr>
            <a:xfrm>
              <a:off x="804960" y="5403960"/>
              <a:ext cx="816840" cy="714600"/>
              <a:chOff x="804960" y="5403960"/>
              <a:chExt cx="816840" cy="714600"/>
            </a:xfrm>
          </p:grpSpPr>
          <p:sp>
            <p:nvSpPr>
              <p:cNvPr id="910" name=""/>
              <p:cNvSpPr/>
              <p:nvPr/>
            </p:nvSpPr>
            <p:spPr>
              <a:xfrm rot="16500000">
                <a:off x="1282680" y="5384520"/>
                <a:ext cx="231120" cy="307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804960" y="5403960"/>
                <a:ext cx="816840" cy="714600"/>
                <a:chOff x="804960" y="5403960"/>
                <a:chExt cx="816840" cy="71460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804960" y="5403960"/>
                  <a:ext cx="816840" cy="714600"/>
                  <a:chOff x="804960" y="5403960"/>
                  <a:chExt cx="816840" cy="714600"/>
                </a:xfrm>
              </p:grpSpPr>
              <p:pic>
                <p:nvPicPr>
                  <p:cNvPr id="91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18300000">
                    <a:off x="806760" y="5567040"/>
                    <a:ext cx="550800" cy="2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8300000">
                    <a:off x="1019520" y="5582520"/>
                    <a:ext cx="56340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5" name=""/>
                <p:cNvSpPr/>
                <p:nvPr/>
              </p:nvSpPr>
              <p:spPr>
                <a:xfrm rot="18300000">
                  <a:off x="1316880" y="5545800"/>
                  <a:ext cx="55080" cy="131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18300000">
                  <a:off x="1271520" y="561024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8300000">
                  <a:off x="1224720" y="5700960"/>
                  <a:ext cx="4536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8300000">
                  <a:off x="1168560" y="559404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8300000">
                  <a:off x="1198080" y="553356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3423600" y="4887360"/>
              <a:ext cx="840240" cy="901800"/>
              <a:chOff x="3423600" y="4887360"/>
              <a:chExt cx="840240" cy="90180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3580920" y="5105520"/>
                <a:ext cx="682920" cy="683640"/>
                <a:chOff x="3580920" y="5105520"/>
                <a:chExt cx="682920" cy="683640"/>
              </a:xfrm>
            </p:grpSpPr>
            <p:pic>
              <p:nvPicPr>
                <p:cNvPr id="9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765960" y="5367600"/>
                  <a:ext cx="28512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580920" y="5105520"/>
                  <a:ext cx="682920" cy="348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4" name=""/>
              <p:cNvGrpSpPr/>
              <p:nvPr/>
            </p:nvGrpSpPr>
            <p:grpSpPr>
              <a:xfrm>
                <a:off x="3423600" y="4887360"/>
                <a:ext cx="767520" cy="715680"/>
                <a:chOff x="3423600" y="4887360"/>
                <a:chExt cx="767520" cy="715680"/>
              </a:xfrm>
            </p:grpSpPr>
            <p:sp>
              <p:nvSpPr>
                <p:cNvPr id="925" name=""/>
                <p:cNvSpPr/>
                <p:nvPr/>
              </p:nvSpPr>
              <p:spPr>
                <a:xfrm flipH="1" rot="3480000">
                  <a:off x="3497400" y="5002200"/>
                  <a:ext cx="221400" cy="2977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926" name=""/>
                <p:cNvGrpSpPr/>
                <p:nvPr/>
              </p:nvGrpSpPr>
              <p:grpSpPr>
                <a:xfrm>
                  <a:off x="3503160" y="4887360"/>
                  <a:ext cx="687960" cy="715680"/>
                  <a:chOff x="3503160" y="4887360"/>
                  <a:chExt cx="687960" cy="715680"/>
                </a:xfrm>
              </p:grpSpPr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3503160" y="4887360"/>
                    <a:ext cx="687960" cy="715680"/>
                    <a:chOff x="3503160" y="4887360"/>
                    <a:chExt cx="687960" cy="715680"/>
                  </a:xfrm>
                </p:grpSpPr>
                <p:pic>
                  <p:nvPicPr>
                    <p:cNvPr id="928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19920000">
                      <a:off x="3616560" y="5000760"/>
                      <a:ext cx="546480" cy="2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29" name=""/>
                    <p:cNvSpPr/>
                    <p:nvPr/>
                  </p:nvSpPr>
                  <p:spPr>
                    <a:xfrm flipH="1" rot="1680000">
                      <a:off x="3549960" y="5150160"/>
                      <a:ext cx="56016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930" name=""/>
                  <p:cNvSpPr/>
                  <p:nvPr/>
                </p:nvSpPr>
                <p:spPr>
                  <a:xfrm flipH="1" rot="1680000">
                    <a:off x="3660120" y="5128200"/>
                    <a:ext cx="52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 rot="1680000">
                    <a:off x="3728520" y="5162760"/>
                    <a:ext cx="52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 rot="1680000">
                    <a:off x="3805920" y="5218920"/>
                    <a:ext cx="432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 rot="1680000">
                    <a:off x="3778560" y="5108040"/>
                    <a:ext cx="68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rot="1680000">
                    <a:off x="3722400" y="5073480"/>
                    <a:ext cx="73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935" name=""/>
            <p:cNvGrpSpPr/>
            <p:nvPr/>
          </p:nvGrpSpPr>
          <p:grpSpPr>
            <a:xfrm>
              <a:off x="7556400" y="5330880"/>
              <a:ext cx="857160" cy="309600"/>
              <a:chOff x="7556400" y="5330880"/>
              <a:chExt cx="857160" cy="3096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7556400" y="5330880"/>
                <a:ext cx="517320" cy="247320"/>
                <a:chOff x="7556400" y="5330880"/>
                <a:chExt cx="517320" cy="24732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7556400" y="5369040"/>
                  <a:ext cx="254880" cy="209160"/>
                  <a:chOff x="7556400" y="5369040"/>
                  <a:chExt cx="254880" cy="209160"/>
                </a:xfrm>
              </p:grpSpPr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7727040" y="5369040"/>
                    <a:ext cx="84240" cy="149040"/>
                    <a:chOff x="7727040" y="5369040"/>
                    <a:chExt cx="84240" cy="14904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flipH="1" rot="21420000">
                      <a:off x="7730280" y="53708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 rot="21420000">
                      <a:off x="7735320" y="5372280"/>
                      <a:ext cx="496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7662240" y="5381280"/>
                    <a:ext cx="117720" cy="163080"/>
                    <a:chOff x="7662240" y="5381280"/>
                    <a:chExt cx="117720" cy="16308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flipH="1" rot="21000000">
                      <a:off x="7673040" y="5388120"/>
                      <a:ext cx="946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 rot="21000000">
                      <a:off x="7679880" y="539136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7556400" y="5387040"/>
                    <a:ext cx="181440" cy="191160"/>
                    <a:chOff x="7556400" y="5387040"/>
                    <a:chExt cx="181440" cy="19116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flipH="1" rot="19860000">
                      <a:off x="7583040" y="540900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rot="19860000">
                      <a:off x="7596720" y="541584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7814160" y="5330880"/>
                  <a:ext cx="259560" cy="214920"/>
                  <a:chOff x="7814160" y="5330880"/>
                  <a:chExt cx="259560" cy="21492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7814160" y="5330880"/>
                    <a:ext cx="93240" cy="153720"/>
                    <a:chOff x="7814160" y="5330880"/>
                    <a:chExt cx="93240" cy="1537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300000">
                      <a:off x="7819560" y="5334120"/>
                      <a:ext cx="8172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300000">
                      <a:off x="7845480" y="5337000"/>
                      <a:ext cx="529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7847280" y="5344560"/>
                    <a:ext cx="124560" cy="168120"/>
                    <a:chOff x="7847280" y="5344560"/>
                    <a:chExt cx="124560" cy="16812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720000">
                      <a:off x="7860960" y="5352840"/>
                      <a:ext cx="97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720000">
                      <a:off x="7890840" y="5357520"/>
                      <a:ext cx="62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7890120" y="5352840"/>
                    <a:ext cx="183600" cy="192960"/>
                    <a:chOff x="7890120" y="5352840"/>
                    <a:chExt cx="183600" cy="19296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1860000">
                      <a:off x="7917480" y="5375520"/>
                      <a:ext cx="12852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860000">
                      <a:off x="7951680" y="538344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7915680" y="5353200"/>
                <a:ext cx="497880" cy="287280"/>
                <a:chOff x="7915680" y="5353200"/>
                <a:chExt cx="497880" cy="287280"/>
              </a:xfrm>
            </p:grpSpPr>
            <p:grpSp>
              <p:nvGrpSpPr>
                <p:cNvPr id="958" name=""/>
                <p:cNvGrpSpPr/>
                <p:nvPr/>
              </p:nvGrpSpPr>
              <p:grpSpPr>
                <a:xfrm>
                  <a:off x="8137440" y="5397120"/>
                  <a:ext cx="276120" cy="243360"/>
                  <a:chOff x="8137440" y="5397120"/>
                  <a:chExt cx="276120" cy="243360"/>
                </a:xfrm>
              </p:grpSpPr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8137440" y="5397120"/>
                    <a:ext cx="133200" cy="171360"/>
                    <a:chOff x="8137440" y="5397120"/>
                    <a:chExt cx="133200" cy="17136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rot="840000">
                      <a:off x="8152920" y="5407200"/>
                      <a:ext cx="1015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rot="840000">
                      <a:off x="8182440" y="5411520"/>
                      <a:ext cx="65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8168040" y="5419800"/>
                    <a:ext cx="159480" cy="183240"/>
                    <a:chOff x="8168040" y="5419800"/>
                    <a:chExt cx="159480" cy="1832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rot="1260000">
                      <a:off x="8189640" y="54356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rot="1260000">
                      <a:off x="8223120" y="5442120"/>
                      <a:ext cx="74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8217720" y="5444280"/>
                    <a:ext cx="195840" cy="196200"/>
                    <a:chOff x="8217720" y="5444280"/>
                    <a:chExt cx="195840" cy="19620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rot="2400000">
                      <a:off x="8245080" y="5473440"/>
                      <a:ext cx="1411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rot="2400000">
                      <a:off x="8276400" y="54835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915680" y="5353200"/>
                  <a:ext cx="256680" cy="190080"/>
                  <a:chOff x="7915680" y="5353200"/>
                  <a:chExt cx="256680" cy="190080"/>
                </a:xfrm>
              </p:grpSpPr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8070840" y="5353200"/>
                    <a:ext cx="101520" cy="155160"/>
                    <a:chOff x="8070840" y="5353200"/>
                    <a:chExt cx="101520" cy="1551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420000">
                      <a:off x="8078760" y="535788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420000">
                      <a:off x="8079480" y="535896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8031600" y="5373000"/>
                    <a:ext cx="76680" cy="145440"/>
                    <a:chOff x="8031600" y="5373000"/>
                    <a:chExt cx="76680" cy="1454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540000">
                      <a:off x="8032320" y="537336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540000">
                      <a:off x="8035200" y="537660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7915680" y="5363640"/>
                    <a:ext cx="155520" cy="179640"/>
                    <a:chOff x="7915680" y="5363640"/>
                    <a:chExt cx="155520" cy="1796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20400000">
                      <a:off x="7937280" y="5378400"/>
                      <a:ext cx="1123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20400000">
                      <a:off x="7944120" y="5381640"/>
                      <a:ext cx="716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978" name=""/>
            <p:cNvGrpSpPr/>
            <p:nvPr/>
          </p:nvGrpSpPr>
          <p:grpSpPr>
            <a:xfrm>
              <a:off x="3670560" y="5634000"/>
              <a:ext cx="856800" cy="310680"/>
              <a:chOff x="3670560" y="5634000"/>
              <a:chExt cx="856800" cy="31068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3670560" y="5634000"/>
                <a:ext cx="516960" cy="246240"/>
                <a:chOff x="3670560" y="5634000"/>
                <a:chExt cx="516960" cy="24624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3670560" y="5673600"/>
                  <a:ext cx="254520" cy="206640"/>
                  <a:chOff x="3670560" y="5673600"/>
                  <a:chExt cx="254520" cy="20664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3840840" y="5673600"/>
                    <a:ext cx="84240" cy="147240"/>
                    <a:chOff x="3840840" y="5673600"/>
                    <a:chExt cx="84240" cy="147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1420000">
                      <a:off x="3844080" y="567540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1420000">
                      <a:off x="3848760" y="5677200"/>
                      <a:ext cx="4968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776760" y="5685120"/>
                    <a:ext cx="117720" cy="162000"/>
                    <a:chOff x="3776760" y="5685120"/>
                    <a:chExt cx="117720" cy="16200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1000000">
                      <a:off x="3787920" y="5692320"/>
                      <a:ext cx="9468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1000000">
                      <a:off x="3794400" y="569520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670560" y="5691240"/>
                    <a:ext cx="181800" cy="189000"/>
                    <a:chOff x="3670560" y="5691240"/>
                    <a:chExt cx="181800" cy="18900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19860000">
                      <a:off x="3696840" y="5713200"/>
                      <a:ext cx="1281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19860000">
                      <a:off x="3710520" y="571788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3928320" y="5634000"/>
                  <a:ext cx="259200" cy="213120"/>
                  <a:chOff x="3928320" y="5634000"/>
                  <a:chExt cx="259200" cy="213120"/>
                </a:xfrm>
              </p:grpSpPr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3928320" y="5634000"/>
                    <a:ext cx="92880" cy="151200"/>
                    <a:chOff x="3928320" y="5634000"/>
                    <a:chExt cx="92880" cy="15120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rot="300000">
                      <a:off x="3933720" y="5637240"/>
                      <a:ext cx="8172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rot="300000">
                      <a:off x="3958920" y="5641920"/>
                      <a:ext cx="529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3961440" y="5648760"/>
                    <a:ext cx="123840" cy="165600"/>
                    <a:chOff x="3961440" y="5648760"/>
                    <a:chExt cx="123840" cy="16560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720000">
                      <a:off x="3974400" y="5657040"/>
                      <a:ext cx="9720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720000">
                      <a:off x="4004640" y="5662080"/>
                      <a:ext cx="6264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4004280" y="5656680"/>
                    <a:ext cx="183240" cy="190440"/>
                    <a:chOff x="4004280" y="5656680"/>
                    <a:chExt cx="183240" cy="19044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860000">
                      <a:off x="4031640" y="5679360"/>
                      <a:ext cx="1285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860000">
                      <a:off x="4065480" y="5686560"/>
                      <a:ext cx="824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00" name=""/>
              <p:cNvGrpSpPr/>
              <p:nvPr/>
            </p:nvGrpSpPr>
            <p:grpSpPr>
              <a:xfrm>
                <a:off x="4030200" y="5657760"/>
                <a:ext cx="497160" cy="286920"/>
                <a:chOff x="4030200" y="5657760"/>
                <a:chExt cx="497160" cy="286920"/>
              </a:xfrm>
            </p:grpSpPr>
            <p:grpSp>
              <p:nvGrpSpPr>
                <p:cNvPr id="1001" name=""/>
                <p:cNvGrpSpPr/>
                <p:nvPr/>
              </p:nvGrpSpPr>
              <p:grpSpPr>
                <a:xfrm>
                  <a:off x="4251600" y="5701680"/>
                  <a:ext cx="275760" cy="243000"/>
                  <a:chOff x="4251600" y="5701680"/>
                  <a:chExt cx="275760" cy="243000"/>
                </a:xfrm>
              </p:grpSpPr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4251600" y="5701680"/>
                    <a:ext cx="132840" cy="170640"/>
                    <a:chOff x="4251600" y="5701680"/>
                    <a:chExt cx="132840" cy="17064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rot="840000">
                      <a:off x="4267080" y="5711760"/>
                      <a:ext cx="101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rot="840000">
                      <a:off x="4296240" y="5716080"/>
                      <a:ext cx="651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282200" y="5724720"/>
                    <a:ext cx="159120" cy="182520"/>
                    <a:chOff x="4282200" y="5724720"/>
                    <a:chExt cx="159120" cy="18252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rot="1260000">
                      <a:off x="4303800" y="574056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rot="1260000">
                      <a:off x="4336920" y="5746680"/>
                      <a:ext cx="7416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332240" y="5748840"/>
                    <a:ext cx="195120" cy="195840"/>
                    <a:chOff x="4332240" y="5748840"/>
                    <a:chExt cx="195120" cy="19584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rot="2400000">
                      <a:off x="4358880" y="577800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rot="2400000">
                      <a:off x="4390200" y="57877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4030200" y="5657760"/>
                  <a:ext cx="255960" cy="189720"/>
                  <a:chOff x="4030200" y="5657760"/>
                  <a:chExt cx="255960" cy="189720"/>
                </a:xfrm>
              </p:grpSpPr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184640" y="5657760"/>
                    <a:ext cx="101520" cy="155160"/>
                    <a:chOff x="4184640" y="5657760"/>
                    <a:chExt cx="101520" cy="15516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flipH="1" rot="420000">
                      <a:off x="4192560" y="566244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H="1" rot="420000">
                      <a:off x="4193280" y="566352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4145400" y="5677920"/>
                    <a:ext cx="76680" cy="145440"/>
                    <a:chOff x="4145400" y="5677920"/>
                    <a:chExt cx="76680" cy="14544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flipH="1" rot="21540000">
                      <a:off x="4146120" y="567828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flipH="1" rot="21540000">
                      <a:off x="4149000" y="5681160"/>
                      <a:ext cx="4788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030200" y="5668560"/>
                    <a:ext cx="155160" cy="178920"/>
                    <a:chOff x="4030200" y="5668560"/>
                    <a:chExt cx="155160" cy="17892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H="1" rot="20400000">
                      <a:off x="4051080" y="568332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 rot="20400000">
                      <a:off x="4058280" y="5686560"/>
                      <a:ext cx="7164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21" name=""/>
            <p:cNvGrpSpPr/>
            <p:nvPr/>
          </p:nvGrpSpPr>
          <p:grpSpPr>
            <a:xfrm>
              <a:off x="3670200" y="5788080"/>
              <a:ext cx="857160" cy="309600"/>
              <a:chOff x="3670200" y="5788080"/>
              <a:chExt cx="857160" cy="30960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670200" y="5788080"/>
                <a:ext cx="517320" cy="247320"/>
                <a:chOff x="3670200" y="5788080"/>
                <a:chExt cx="517320" cy="247320"/>
              </a:xfrm>
            </p:grpSpPr>
            <p:grpSp>
              <p:nvGrpSpPr>
                <p:cNvPr id="1023" name=""/>
                <p:cNvGrpSpPr/>
                <p:nvPr/>
              </p:nvGrpSpPr>
              <p:grpSpPr>
                <a:xfrm>
                  <a:off x="3670200" y="5826240"/>
                  <a:ext cx="254880" cy="209160"/>
                  <a:chOff x="3670200" y="5826240"/>
                  <a:chExt cx="254880" cy="209160"/>
                </a:xfrm>
              </p:grpSpPr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3840840" y="5826240"/>
                    <a:ext cx="84240" cy="149040"/>
                    <a:chOff x="3840840" y="5826240"/>
                    <a:chExt cx="84240" cy="14904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flipH="1" rot="21420000">
                      <a:off x="3844080" y="58280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flipH="1" rot="21420000">
                      <a:off x="3849120" y="5829480"/>
                      <a:ext cx="496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3776040" y="5838480"/>
                    <a:ext cx="117720" cy="163080"/>
                    <a:chOff x="3776040" y="5838480"/>
                    <a:chExt cx="117720" cy="16308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 flipH="1" rot="21000000">
                      <a:off x="3786840" y="5845320"/>
                      <a:ext cx="946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flipH="1" rot="21000000">
                      <a:off x="3793680" y="584856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3670200" y="5844240"/>
                    <a:ext cx="181440" cy="191160"/>
                    <a:chOff x="3670200" y="5844240"/>
                    <a:chExt cx="181440" cy="1911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H="1" rot="19860000">
                      <a:off x="3696840" y="586620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H="1" rot="19860000">
                      <a:off x="3710520" y="5873040"/>
                      <a:ext cx="828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3927960" y="5788080"/>
                  <a:ext cx="259560" cy="214920"/>
                  <a:chOff x="3927960" y="5788080"/>
                  <a:chExt cx="259560" cy="214920"/>
                </a:xfrm>
              </p:grpSpPr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3927960" y="5788080"/>
                    <a:ext cx="93240" cy="153720"/>
                    <a:chOff x="3927960" y="5788080"/>
                    <a:chExt cx="93240" cy="1537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300000">
                      <a:off x="3933360" y="5791320"/>
                      <a:ext cx="8172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300000">
                      <a:off x="3959280" y="5794200"/>
                      <a:ext cx="529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3961080" y="5801760"/>
                    <a:ext cx="124560" cy="168120"/>
                    <a:chOff x="3961080" y="5801760"/>
                    <a:chExt cx="124560" cy="16812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720000">
                      <a:off x="3974760" y="5810040"/>
                      <a:ext cx="97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720000">
                      <a:off x="4004640" y="5814720"/>
                      <a:ext cx="62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4003920" y="5810040"/>
                    <a:ext cx="183600" cy="192960"/>
                    <a:chOff x="4003920" y="5810040"/>
                    <a:chExt cx="183600" cy="19296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1860000">
                      <a:off x="4031280" y="5832720"/>
                      <a:ext cx="12852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1860000">
                      <a:off x="4065480" y="584064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43" name=""/>
              <p:cNvGrpSpPr/>
              <p:nvPr/>
            </p:nvGrpSpPr>
            <p:grpSpPr>
              <a:xfrm>
                <a:off x="4029480" y="5810400"/>
                <a:ext cx="497880" cy="287280"/>
                <a:chOff x="4029480" y="5810400"/>
                <a:chExt cx="497880" cy="28728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4251240" y="5854320"/>
                  <a:ext cx="276120" cy="243360"/>
                  <a:chOff x="4251240" y="5854320"/>
                  <a:chExt cx="276120" cy="243360"/>
                </a:xfrm>
              </p:grpSpPr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4251240" y="5854320"/>
                    <a:ext cx="133200" cy="171360"/>
                    <a:chOff x="4251240" y="5854320"/>
                    <a:chExt cx="133200" cy="17136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rot="840000">
                      <a:off x="4266720" y="5864400"/>
                      <a:ext cx="1015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rot="840000">
                      <a:off x="4296240" y="5868720"/>
                      <a:ext cx="65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4281840" y="5877000"/>
                    <a:ext cx="159480" cy="183240"/>
                    <a:chOff x="4281840" y="5877000"/>
                    <a:chExt cx="159480" cy="18324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1260000">
                      <a:off x="4303440" y="58928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260000">
                      <a:off x="4336920" y="5899320"/>
                      <a:ext cx="74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4331520" y="5901480"/>
                    <a:ext cx="195840" cy="196200"/>
                    <a:chOff x="4331520" y="5901480"/>
                    <a:chExt cx="195840" cy="19620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rot="2400000">
                      <a:off x="4358880" y="5930640"/>
                      <a:ext cx="1411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rot="2400000">
                      <a:off x="4390200" y="5940720"/>
                      <a:ext cx="91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4029480" y="5810400"/>
                  <a:ext cx="256680" cy="190080"/>
                  <a:chOff x="4029480" y="5810400"/>
                  <a:chExt cx="256680" cy="19008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4184640" y="5810400"/>
                    <a:ext cx="101520" cy="155160"/>
                    <a:chOff x="4184640" y="5810400"/>
                    <a:chExt cx="101520" cy="15516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 flipH="1" rot="420000">
                      <a:off x="4192560" y="581508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flipH="1" rot="420000">
                      <a:off x="4193280" y="5816160"/>
                      <a:ext cx="5508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4145400" y="5830200"/>
                    <a:ext cx="76680" cy="145440"/>
                    <a:chOff x="4145400" y="5830200"/>
                    <a:chExt cx="76680" cy="14544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 flipH="1" rot="21540000">
                      <a:off x="4146120" y="583056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rot="21540000">
                      <a:off x="4149000" y="583380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4029480" y="5820840"/>
                    <a:ext cx="155520" cy="179640"/>
                    <a:chOff x="4029480" y="5820840"/>
                    <a:chExt cx="155520" cy="17964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 rot="20400000">
                      <a:off x="4051080" y="5835600"/>
                      <a:ext cx="11232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 rot="20400000">
                      <a:off x="4057920" y="5838840"/>
                      <a:ext cx="716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64" name=""/>
            <p:cNvGrpSpPr/>
            <p:nvPr/>
          </p:nvGrpSpPr>
          <p:grpSpPr>
            <a:xfrm>
              <a:off x="1460880" y="5405400"/>
              <a:ext cx="856440" cy="310320"/>
              <a:chOff x="1460880" y="5405400"/>
              <a:chExt cx="856440" cy="31032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1460880" y="5405400"/>
                <a:ext cx="516960" cy="245880"/>
                <a:chOff x="1460880" y="5405400"/>
                <a:chExt cx="516960" cy="24588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1460880" y="5445000"/>
                  <a:ext cx="254520" cy="206280"/>
                  <a:chOff x="1460880" y="5445000"/>
                  <a:chExt cx="254520" cy="206280"/>
                </a:xfrm>
              </p:grpSpPr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1631160" y="5445000"/>
                    <a:ext cx="84240" cy="147240"/>
                    <a:chOff x="1631160" y="5445000"/>
                    <a:chExt cx="84240" cy="14724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H="1" rot="21420000">
                      <a:off x="1634400" y="544680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 rot="21420000">
                      <a:off x="1639080" y="5448600"/>
                      <a:ext cx="500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1566360" y="5456520"/>
                    <a:ext cx="118080" cy="162000"/>
                    <a:chOff x="1566360" y="5456520"/>
                    <a:chExt cx="118080" cy="1620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 flipH="1" rot="21000000">
                      <a:off x="1577880" y="546372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 rot="21000000">
                      <a:off x="1583640" y="5466600"/>
                      <a:ext cx="6156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1460880" y="5462640"/>
                    <a:ext cx="181800" cy="188640"/>
                    <a:chOff x="1460880" y="5462640"/>
                    <a:chExt cx="181800" cy="18864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 flipH="1" rot="19860000">
                      <a:off x="1487160" y="5484600"/>
                      <a:ext cx="1281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 rot="19860000">
                      <a:off x="1498680" y="5489280"/>
                      <a:ext cx="824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1718640" y="5405400"/>
                  <a:ext cx="259200" cy="213120"/>
                  <a:chOff x="1718640" y="5405400"/>
                  <a:chExt cx="259200" cy="213120"/>
                </a:xfrm>
              </p:grpSpPr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718640" y="5405400"/>
                    <a:ext cx="92520" cy="151200"/>
                    <a:chOff x="1718640" y="5405400"/>
                    <a:chExt cx="92520" cy="15120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 rot="300000">
                      <a:off x="1724040" y="5408640"/>
                      <a:ext cx="8136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rot="300000">
                      <a:off x="1748520" y="5413320"/>
                      <a:ext cx="525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1749960" y="5420160"/>
                    <a:ext cx="124200" cy="165600"/>
                    <a:chOff x="1749960" y="5420160"/>
                    <a:chExt cx="124200" cy="16560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 rot="720000">
                      <a:off x="1762920" y="5428440"/>
                      <a:ext cx="9756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rot="720000">
                      <a:off x="1793520" y="5433480"/>
                      <a:ext cx="630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83" name=""/>
                  <p:cNvGrpSpPr/>
                  <p:nvPr/>
                </p:nvGrpSpPr>
                <p:grpSpPr>
                  <a:xfrm>
                    <a:off x="1794240" y="5428080"/>
                    <a:ext cx="183600" cy="190440"/>
                    <a:chOff x="1794240" y="5428080"/>
                    <a:chExt cx="183600" cy="190440"/>
                  </a:xfrm>
                </p:grpSpPr>
                <p:sp>
                  <p:nvSpPr>
                    <p:cNvPr id="1084" name=""/>
                    <p:cNvSpPr/>
                    <p:nvPr/>
                  </p:nvSpPr>
                  <p:spPr>
                    <a:xfrm rot="1860000">
                      <a:off x="1821240" y="5451120"/>
                      <a:ext cx="12888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rot="1860000">
                      <a:off x="1855800" y="5457600"/>
                      <a:ext cx="8280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086" name=""/>
              <p:cNvGrpSpPr/>
              <p:nvPr/>
            </p:nvGrpSpPr>
            <p:grpSpPr>
              <a:xfrm>
                <a:off x="1820160" y="5429160"/>
                <a:ext cx="497160" cy="286560"/>
                <a:chOff x="1820160" y="5429160"/>
                <a:chExt cx="497160" cy="286560"/>
              </a:xfrm>
            </p:grpSpPr>
            <p:grpSp>
              <p:nvGrpSpPr>
                <p:cNvPr id="1087" name=""/>
                <p:cNvGrpSpPr/>
                <p:nvPr/>
              </p:nvGrpSpPr>
              <p:grpSpPr>
                <a:xfrm>
                  <a:off x="2041920" y="5473080"/>
                  <a:ext cx="275400" cy="242640"/>
                  <a:chOff x="2041920" y="5473080"/>
                  <a:chExt cx="275400" cy="242640"/>
                </a:xfrm>
              </p:grpSpPr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2041920" y="5473080"/>
                    <a:ext cx="132480" cy="170640"/>
                    <a:chOff x="2041920" y="5473080"/>
                    <a:chExt cx="132480" cy="17064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rot="840000">
                      <a:off x="2057400" y="548316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840000">
                      <a:off x="2085840" y="5487480"/>
                      <a:ext cx="651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2072160" y="5496120"/>
                    <a:ext cx="159120" cy="182520"/>
                    <a:chOff x="2072160" y="5496120"/>
                    <a:chExt cx="159120" cy="18252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 rot="1260000">
                      <a:off x="2093760" y="551196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rot="1260000">
                      <a:off x="2126520" y="5518080"/>
                      <a:ext cx="7416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2122200" y="5520600"/>
                    <a:ext cx="195120" cy="195120"/>
                    <a:chOff x="2122200" y="5520600"/>
                    <a:chExt cx="195120" cy="19512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2400000">
                      <a:off x="2149200" y="5549760"/>
                      <a:ext cx="14076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2400000">
                      <a:off x="2183040" y="5559120"/>
                      <a:ext cx="907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1820160" y="5429160"/>
                  <a:ext cx="256320" cy="190080"/>
                  <a:chOff x="1820160" y="5429160"/>
                  <a:chExt cx="256320" cy="19008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1974960" y="5429160"/>
                    <a:ext cx="101520" cy="155160"/>
                    <a:chOff x="1974960" y="5429160"/>
                    <a:chExt cx="101520" cy="1551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H="1" rot="420000">
                      <a:off x="1982880" y="5433840"/>
                      <a:ext cx="8532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H="1" rot="420000">
                      <a:off x="1983960" y="5434920"/>
                      <a:ext cx="5472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1935720" y="5449320"/>
                    <a:ext cx="76680" cy="145440"/>
                    <a:chOff x="1935720" y="5449320"/>
                    <a:chExt cx="76680" cy="1454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flipH="1" rot="21540000">
                      <a:off x="1936440" y="544968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H="1" rot="21540000">
                      <a:off x="1939320" y="5452560"/>
                      <a:ext cx="47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1820160" y="5439960"/>
                    <a:ext cx="155160" cy="179280"/>
                    <a:chOff x="1820160" y="5439960"/>
                    <a:chExt cx="155160" cy="17928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flipH="1" rot="20400000">
                      <a:off x="1841040" y="545472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flipH="1" rot="20400000">
                      <a:off x="1847520" y="5457960"/>
                      <a:ext cx="723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07" name=""/>
            <p:cNvGrpSpPr/>
            <p:nvPr/>
          </p:nvGrpSpPr>
          <p:grpSpPr>
            <a:xfrm>
              <a:off x="146160" y="5038920"/>
              <a:ext cx="842760" cy="902880"/>
              <a:chOff x="146160" y="5038920"/>
              <a:chExt cx="842760" cy="90288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304920" y="5257800"/>
                <a:ext cx="684000" cy="684000"/>
                <a:chOff x="304920" y="5257800"/>
                <a:chExt cx="684000" cy="684000"/>
              </a:xfrm>
            </p:grpSpPr>
            <p:pic>
              <p:nvPicPr>
                <p:cNvPr id="110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490680" y="5520240"/>
                  <a:ext cx="285480" cy="42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04920" y="5257800"/>
                  <a:ext cx="68400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1" name=""/>
              <p:cNvGrpSpPr/>
              <p:nvPr/>
            </p:nvGrpSpPr>
            <p:grpSpPr>
              <a:xfrm>
                <a:off x="146160" y="5038920"/>
                <a:ext cx="771120" cy="714960"/>
                <a:chOff x="146160" y="5038920"/>
                <a:chExt cx="771120" cy="714960"/>
              </a:xfrm>
            </p:grpSpPr>
            <p:sp>
              <p:nvSpPr>
                <p:cNvPr id="1112" name=""/>
                <p:cNvSpPr/>
                <p:nvPr/>
              </p:nvSpPr>
              <p:spPr>
                <a:xfrm flipH="1" rot="3480000">
                  <a:off x="220320" y="5154840"/>
                  <a:ext cx="22104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225720" y="5038920"/>
                  <a:ext cx="691560" cy="714960"/>
                  <a:chOff x="225720" y="5038920"/>
                  <a:chExt cx="691560" cy="714960"/>
                </a:xfrm>
              </p:grpSpPr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225720" y="5038920"/>
                    <a:ext cx="691560" cy="714960"/>
                    <a:chOff x="225720" y="5038920"/>
                    <a:chExt cx="691560" cy="714960"/>
                  </a:xfrm>
                </p:grpSpPr>
                <p:pic>
                  <p:nvPicPr>
                    <p:cNvPr id="111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 rot="19920000">
                      <a:off x="340560" y="5152680"/>
                      <a:ext cx="549000" cy="25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16" name=""/>
                    <p:cNvSpPr/>
                    <p:nvPr/>
                  </p:nvSpPr>
                  <p:spPr>
                    <a:xfrm flipH="1" rot="1680000">
                      <a:off x="271800" y="5305320"/>
                      <a:ext cx="561240" cy="33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117" name=""/>
                  <p:cNvSpPr/>
                  <p:nvPr/>
                </p:nvSpPr>
                <p:spPr>
                  <a:xfrm flipH="1" rot="1680000">
                    <a:off x="383760" y="528156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1680000">
                    <a:off x="452160" y="5316120"/>
                    <a:ext cx="532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 rot="1680000">
                    <a:off x="529920" y="5372280"/>
                    <a:ext cx="432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1680000">
                    <a:off x="503640" y="52617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rot="1680000">
                    <a:off x="444600" y="5223240"/>
                    <a:ext cx="752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122" name=""/>
            <p:cNvGrpSpPr/>
            <p:nvPr/>
          </p:nvGrpSpPr>
          <p:grpSpPr>
            <a:xfrm>
              <a:off x="576720" y="5591160"/>
              <a:ext cx="407160" cy="461880"/>
              <a:chOff x="576720" y="5591160"/>
              <a:chExt cx="407160" cy="461880"/>
            </a:xfrm>
          </p:grpSpPr>
          <p:pic>
            <p:nvPicPr>
              <p:cNvPr id="1123" name="" descr=""/>
              <p:cNvPicPr/>
              <p:nvPr/>
            </p:nvPicPr>
            <p:blipFill>
              <a:blip r:embed="rId29"/>
              <a:stretch/>
            </p:blipFill>
            <p:spPr>
              <a:xfrm rot="1860000">
                <a:off x="628920" y="5789880"/>
                <a:ext cx="142920" cy="24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" descr=""/>
              <p:cNvPicPr/>
              <p:nvPr/>
            </p:nvPicPr>
            <p:blipFill>
              <a:blip r:embed="rId30"/>
              <a:stretch/>
            </p:blipFill>
            <p:spPr>
              <a:xfrm rot="1860000">
                <a:off x="610920" y="5665680"/>
                <a:ext cx="34560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5" name=""/>
            <p:cNvGrpSpPr/>
            <p:nvPr/>
          </p:nvGrpSpPr>
          <p:grpSpPr>
            <a:xfrm>
              <a:off x="253800" y="5641920"/>
              <a:ext cx="366840" cy="402840"/>
              <a:chOff x="253800" y="5641920"/>
              <a:chExt cx="366840" cy="402840"/>
            </a:xfrm>
          </p:grpSpPr>
          <p:pic>
            <p:nvPicPr>
              <p:cNvPr id="1126" name="" descr=""/>
              <p:cNvPicPr/>
              <p:nvPr/>
            </p:nvPicPr>
            <p:blipFill>
              <a:blip r:embed="rId31"/>
              <a:stretch/>
            </p:blipFill>
            <p:spPr>
              <a:xfrm rot="20700000">
                <a:off x="396000" y="5813280"/>
                <a:ext cx="13752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" descr=""/>
              <p:cNvPicPr/>
              <p:nvPr/>
            </p:nvPicPr>
            <p:blipFill>
              <a:blip r:embed="rId32"/>
              <a:stretch/>
            </p:blipFill>
            <p:spPr>
              <a:xfrm rot="20700000">
                <a:off x="271440" y="5681520"/>
                <a:ext cx="331560" cy="180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8" name=""/>
            <p:cNvGrpSpPr/>
            <p:nvPr/>
          </p:nvGrpSpPr>
          <p:grpSpPr>
            <a:xfrm>
              <a:off x="165240" y="5940360"/>
              <a:ext cx="856800" cy="309600"/>
              <a:chOff x="165240" y="5940360"/>
              <a:chExt cx="856800" cy="30960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165240" y="5940360"/>
                <a:ext cx="517680" cy="246240"/>
                <a:chOff x="165240" y="5940360"/>
                <a:chExt cx="517680" cy="246240"/>
              </a:xfrm>
            </p:grpSpPr>
            <p:grpSp>
              <p:nvGrpSpPr>
                <p:cNvPr id="1130" name=""/>
                <p:cNvGrpSpPr/>
                <p:nvPr/>
              </p:nvGrpSpPr>
              <p:grpSpPr>
                <a:xfrm>
                  <a:off x="165240" y="5978520"/>
                  <a:ext cx="254880" cy="208080"/>
                  <a:chOff x="165240" y="5978520"/>
                  <a:chExt cx="254880" cy="20808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335880" y="5978520"/>
                    <a:ext cx="84240" cy="149040"/>
                    <a:chOff x="335880" y="5978520"/>
                    <a:chExt cx="84240" cy="14904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 rot="21420000">
                      <a:off x="339120" y="5980320"/>
                      <a:ext cx="7740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 rot="21420000">
                      <a:off x="344160" y="5981760"/>
                      <a:ext cx="500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271080" y="5990760"/>
                    <a:ext cx="118080" cy="163080"/>
                    <a:chOff x="271080" y="5990760"/>
                    <a:chExt cx="118080" cy="16308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 flipH="1" rot="21000000">
                      <a:off x="282600" y="5997960"/>
                      <a:ext cx="9504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 rot="21000000">
                      <a:off x="288360" y="6000840"/>
                      <a:ext cx="6120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165240" y="5996520"/>
                    <a:ext cx="182520" cy="190080"/>
                    <a:chOff x="165240" y="5996520"/>
                    <a:chExt cx="182520" cy="19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flipH="1" rot="19860000">
                      <a:off x="191880" y="6018480"/>
                      <a:ext cx="12816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 rot="19860000">
                      <a:off x="203400" y="6023520"/>
                      <a:ext cx="8208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423000" y="5940360"/>
                  <a:ext cx="259920" cy="215280"/>
                  <a:chOff x="423000" y="5940360"/>
                  <a:chExt cx="259920" cy="21528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423000" y="5940360"/>
                    <a:ext cx="92880" cy="153720"/>
                    <a:chOff x="423000" y="5940360"/>
                    <a:chExt cx="92880" cy="15372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rot="300000">
                      <a:off x="428400" y="5943600"/>
                      <a:ext cx="8136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rot="300000">
                      <a:off x="453960" y="5946480"/>
                      <a:ext cx="5220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454320" y="5954040"/>
                    <a:ext cx="124200" cy="168480"/>
                    <a:chOff x="454320" y="5954040"/>
                    <a:chExt cx="124200" cy="16848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rot="720000">
                      <a:off x="468000" y="5962320"/>
                      <a:ext cx="968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720000">
                      <a:off x="497520" y="5967000"/>
                      <a:ext cx="626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497880" y="5962320"/>
                    <a:ext cx="185040" cy="193320"/>
                    <a:chOff x="497880" y="5962320"/>
                    <a:chExt cx="185040" cy="1933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rot="1860000">
                      <a:off x="525960" y="5985000"/>
                      <a:ext cx="1288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1860000">
                      <a:off x="559800" y="5991840"/>
                      <a:ext cx="831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150" name=""/>
              <p:cNvGrpSpPr/>
              <p:nvPr/>
            </p:nvGrpSpPr>
            <p:grpSpPr>
              <a:xfrm>
                <a:off x="524160" y="5962680"/>
                <a:ext cx="497880" cy="287280"/>
                <a:chOff x="524160" y="5962680"/>
                <a:chExt cx="497880" cy="287280"/>
              </a:xfrm>
            </p:grpSpPr>
            <p:grpSp>
              <p:nvGrpSpPr>
                <p:cNvPr id="1151" name=""/>
                <p:cNvGrpSpPr/>
                <p:nvPr/>
              </p:nvGrpSpPr>
              <p:grpSpPr>
                <a:xfrm>
                  <a:off x="746280" y="6006600"/>
                  <a:ext cx="275760" cy="243360"/>
                  <a:chOff x="746280" y="6006600"/>
                  <a:chExt cx="275760" cy="243360"/>
                </a:xfrm>
              </p:grpSpPr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746280" y="6006600"/>
                    <a:ext cx="132840" cy="171360"/>
                    <a:chOff x="746280" y="6006600"/>
                    <a:chExt cx="132840" cy="17136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 rot="840000">
                      <a:off x="762120" y="6016680"/>
                      <a:ext cx="1011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rot="840000">
                      <a:off x="790920" y="602136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776520" y="6029280"/>
                    <a:ext cx="159480" cy="182880"/>
                    <a:chOff x="776520" y="6029280"/>
                    <a:chExt cx="159480" cy="18288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rot="1260000">
                      <a:off x="798120" y="604512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rot="1260000">
                      <a:off x="831240" y="605196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826560" y="6053760"/>
                    <a:ext cx="195480" cy="196200"/>
                    <a:chOff x="826560" y="6053760"/>
                    <a:chExt cx="195480" cy="19620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2400000">
                      <a:off x="853560" y="6082920"/>
                      <a:ext cx="14112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2400000">
                      <a:off x="885240" y="6092640"/>
                      <a:ext cx="9108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524160" y="5962680"/>
                  <a:ext cx="256680" cy="190080"/>
                  <a:chOff x="524160" y="5962680"/>
                  <a:chExt cx="256680" cy="190080"/>
                </a:xfrm>
              </p:grpSpPr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678960" y="5962680"/>
                    <a:ext cx="101880" cy="154800"/>
                    <a:chOff x="678960" y="5962680"/>
                    <a:chExt cx="101880" cy="15480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420000">
                      <a:off x="686520" y="5967360"/>
                      <a:ext cx="8568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420000">
                      <a:off x="687960" y="5968800"/>
                      <a:ext cx="554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40440" y="5982480"/>
                    <a:ext cx="76680" cy="145800"/>
                    <a:chOff x="640440" y="5982480"/>
                    <a:chExt cx="76680" cy="14580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21540000">
                      <a:off x="641160" y="5982840"/>
                      <a:ext cx="7416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21540000">
                      <a:off x="644040" y="5986080"/>
                      <a:ext cx="4788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24160" y="5973120"/>
                    <a:ext cx="155160" cy="179640"/>
                    <a:chOff x="524160" y="5973120"/>
                    <a:chExt cx="155160" cy="17964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flipH="1" rot="20400000">
                      <a:off x="545040" y="5987880"/>
                      <a:ext cx="11232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 rot="20400000">
                      <a:off x="552960" y="5990760"/>
                      <a:ext cx="7236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71" name=""/>
          <p:cNvGrpSpPr/>
          <p:nvPr/>
        </p:nvGrpSpPr>
        <p:grpSpPr>
          <a:xfrm>
            <a:off x="2071800" y="2901960"/>
            <a:ext cx="2049120" cy="1949400"/>
            <a:chOff x="2071800" y="2901960"/>
            <a:chExt cx="2049120" cy="1949400"/>
          </a:xfrm>
        </p:grpSpPr>
        <p:grpSp>
          <p:nvGrpSpPr>
            <p:cNvPr id="1172" name=""/>
            <p:cNvGrpSpPr/>
            <p:nvPr/>
          </p:nvGrpSpPr>
          <p:grpSpPr>
            <a:xfrm>
              <a:off x="2871000" y="2901960"/>
              <a:ext cx="703440" cy="698760"/>
              <a:chOff x="2871000" y="2901960"/>
              <a:chExt cx="703440" cy="698760"/>
            </a:xfrm>
          </p:grpSpPr>
          <p:grpSp>
            <p:nvGrpSpPr>
              <p:cNvPr id="1173" name=""/>
              <p:cNvGrpSpPr/>
              <p:nvPr/>
            </p:nvGrpSpPr>
            <p:grpSpPr>
              <a:xfrm>
                <a:off x="2954520" y="2901960"/>
                <a:ext cx="619920" cy="698760"/>
                <a:chOff x="2954520" y="2901960"/>
                <a:chExt cx="619920" cy="698760"/>
              </a:xfrm>
            </p:grpSpPr>
            <p:pic>
              <p:nvPicPr>
                <p:cNvPr id="1174" name="" descr=""/>
                <p:cNvPicPr/>
                <p:nvPr/>
              </p:nvPicPr>
              <p:blipFill>
                <a:blip r:embed="rId33"/>
                <a:stretch/>
              </p:blipFill>
              <p:spPr>
                <a:xfrm rot="9540000">
                  <a:off x="3226680" y="2930400"/>
                  <a:ext cx="227880" cy="36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9540000">
                  <a:off x="2990880" y="3208320"/>
                  <a:ext cx="54720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6" name=""/>
              <p:cNvGrpSpPr/>
              <p:nvPr/>
            </p:nvGrpSpPr>
            <p:grpSpPr>
              <a:xfrm>
                <a:off x="2871000" y="3159720"/>
                <a:ext cx="555480" cy="295560"/>
                <a:chOff x="2871000" y="3159720"/>
                <a:chExt cx="555480" cy="295560"/>
              </a:xfrm>
            </p:grpSpPr>
            <p:sp>
              <p:nvSpPr>
                <p:cNvPr id="1177" name=""/>
                <p:cNvSpPr/>
                <p:nvPr/>
              </p:nvSpPr>
              <p:spPr>
                <a:xfrm rot="8640000">
                  <a:off x="2922120" y="3189600"/>
                  <a:ext cx="166320" cy="2286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78" name=""/>
                <p:cNvGrpSpPr/>
                <p:nvPr/>
              </p:nvGrpSpPr>
              <p:grpSpPr>
                <a:xfrm>
                  <a:off x="2980080" y="3159720"/>
                  <a:ext cx="446400" cy="295560"/>
                  <a:chOff x="2980080" y="3159720"/>
                  <a:chExt cx="446400" cy="295560"/>
                </a:xfrm>
              </p:grpSpPr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2980080" y="3159720"/>
                    <a:ext cx="446400" cy="295560"/>
                    <a:chOff x="2980080" y="3159720"/>
                    <a:chExt cx="446400" cy="295560"/>
                  </a:xfrm>
                </p:grpSpPr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 rot="10440000">
                      <a:off x="3008160" y="3309480"/>
                      <a:ext cx="412920" cy="1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1" name=""/>
                    <p:cNvSpPr/>
                    <p:nvPr/>
                  </p:nvSpPr>
                  <p:spPr>
                    <a:xfrm rot="10440000">
                      <a:off x="2987280" y="3180960"/>
                      <a:ext cx="42336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182" name=""/>
                  <p:cNvSpPr/>
                  <p:nvPr/>
                </p:nvSpPr>
                <p:spPr>
                  <a:xfrm rot="10440000">
                    <a:off x="3053520" y="3252240"/>
                    <a:ext cx="399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rot="10440000">
                    <a:off x="3109680" y="3245400"/>
                    <a:ext cx="399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rot="10440000">
                    <a:off x="3176280" y="3261240"/>
                    <a:ext cx="32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rot="10440000">
                    <a:off x="3121560" y="3346560"/>
                    <a:ext cx="507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rot="10440000">
                    <a:off x="3070800" y="3350880"/>
                    <a:ext cx="55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187" name=""/>
            <p:cNvGrpSpPr/>
            <p:nvPr/>
          </p:nvGrpSpPr>
          <p:grpSpPr>
            <a:xfrm>
              <a:off x="2071800" y="2930760"/>
              <a:ext cx="2049120" cy="1920600"/>
              <a:chOff x="2071800" y="2930760"/>
              <a:chExt cx="2049120" cy="19206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2101680" y="3720960"/>
                <a:ext cx="199692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87640" y="3471840"/>
                <a:ext cx="2033280" cy="49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0" name=""/>
              <p:cNvGrpSpPr/>
              <p:nvPr/>
            </p:nvGrpSpPr>
            <p:grpSpPr>
              <a:xfrm>
                <a:off x="2071800" y="2930760"/>
                <a:ext cx="2029320" cy="890280"/>
                <a:chOff x="2071800" y="2930760"/>
                <a:chExt cx="2029320" cy="890280"/>
              </a:xfrm>
            </p:grpSpPr>
            <p:sp>
              <p:nvSpPr>
                <p:cNvPr id="1191" name=""/>
                <p:cNvSpPr/>
                <p:nvPr/>
              </p:nvSpPr>
              <p:spPr>
                <a:xfrm rot="5160000">
                  <a:off x="3774600" y="3512880"/>
                  <a:ext cx="331920" cy="712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192" name=""/>
                <p:cNvGrpSpPr/>
                <p:nvPr/>
              </p:nvGrpSpPr>
              <p:grpSpPr>
                <a:xfrm>
                  <a:off x="2071800" y="2930760"/>
                  <a:ext cx="2029320" cy="890280"/>
                  <a:chOff x="2071800" y="2930760"/>
                  <a:chExt cx="2029320" cy="89028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 rot="20580000">
                    <a:off x="2077920" y="3591000"/>
                    <a:ext cx="277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rot="20580000">
                    <a:off x="2151000" y="3477960"/>
                    <a:ext cx="27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21000000">
                    <a:off x="2216160" y="3382920"/>
                    <a:ext cx="271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2302920" y="3116520"/>
                    <a:ext cx="486000" cy="295560"/>
                    <a:chOff x="2302920" y="3116520"/>
                    <a:chExt cx="486000" cy="29556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300000">
                      <a:off x="2306160" y="3304080"/>
                      <a:ext cx="28512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300000">
                      <a:off x="2408400" y="3214080"/>
                      <a:ext cx="27900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rot="780000">
                      <a:off x="2499840" y="3146040"/>
                      <a:ext cx="279000" cy="12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2582280" y="2954160"/>
                    <a:ext cx="545760" cy="372240"/>
                    <a:chOff x="2582280" y="2954160"/>
                    <a:chExt cx="545760" cy="372240"/>
                  </a:xfrm>
                </p:grpSpPr>
                <p:sp>
                  <p:nvSpPr>
                    <p:cNvPr id="1201" name=""/>
                    <p:cNvSpPr/>
                    <p:nvPr/>
                  </p:nvSpPr>
                  <p:spPr>
                    <a:xfrm rot="1380000">
                      <a:off x="2598480" y="3133080"/>
                      <a:ext cx="2858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380000">
                      <a:off x="2717640" y="3060720"/>
                      <a:ext cx="27900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860000">
                      <a:off x="2822400" y="3013200"/>
                      <a:ext cx="2793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2897280" y="2930760"/>
                    <a:ext cx="563400" cy="366480"/>
                    <a:chOff x="2897280" y="2930760"/>
                    <a:chExt cx="563400" cy="36648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2220000">
                      <a:off x="2928960" y="3042000"/>
                      <a:ext cx="26388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2220000">
                      <a:off x="3045600" y="2997360"/>
                      <a:ext cx="25920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rot="2640000">
                      <a:off x="3151800" y="2985840"/>
                      <a:ext cx="259200" cy="24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3159000" y="2997000"/>
                    <a:ext cx="610920" cy="429480"/>
                    <a:chOff x="3159000" y="2997000"/>
                    <a:chExt cx="610920" cy="429480"/>
                  </a:xfrm>
                </p:grpSpPr>
                <p:sp>
                  <p:nvSpPr>
                    <p:cNvPr id="1209" name=""/>
                    <p:cNvSpPr/>
                    <p:nvPr/>
                  </p:nvSpPr>
                  <p:spPr>
                    <a:xfrm rot="3240000">
                      <a:off x="3135240" y="3105720"/>
                      <a:ext cx="3229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rot="3240000">
                      <a:off x="3314880" y="3139920"/>
                      <a:ext cx="31464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rot="3660000">
                      <a:off x="3477240" y="3190320"/>
                      <a:ext cx="31644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3513240" y="3129840"/>
                    <a:ext cx="462600" cy="498960"/>
                    <a:chOff x="3513240" y="3129840"/>
                    <a:chExt cx="462600" cy="49896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 rot="4080000">
                      <a:off x="3452040" y="3255480"/>
                      <a:ext cx="3348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rot="4080000">
                      <a:off x="3591360" y="3320280"/>
                      <a:ext cx="32652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4500000">
                      <a:off x="3713040" y="3396600"/>
                      <a:ext cx="328320" cy="11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16" name=""/>
                  <p:cNvSpPr/>
                  <p:nvPr/>
                </p:nvSpPr>
                <p:spPr>
                  <a:xfrm rot="5160000">
                    <a:off x="3833280" y="3588480"/>
                    <a:ext cx="3240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977280" y="3564000"/>
                    <a:ext cx="12384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071800" y="3670200"/>
                    <a:ext cx="19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19" name=""/>
            <p:cNvGrpSpPr/>
            <p:nvPr/>
          </p:nvGrpSpPr>
          <p:grpSpPr>
            <a:xfrm>
              <a:off x="2183040" y="3360240"/>
              <a:ext cx="692640" cy="750960"/>
              <a:chOff x="2183040" y="3360240"/>
              <a:chExt cx="692640" cy="75096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2183040" y="3459600"/>
                <a:ext cx="692640" cy="651600"/>
                <a:chOff x="2183040" y="3459600"/>
                <a:chExt cx="692640" cy="651600"/>
              </a:xfrm>
            </p:grpSpPr>
            <p:pic>
              <p:nvPicPr>
                <p:cNvPr id="1221" name="" descr=""/>
                <p:cNvPicPr/>
                <p:nvPr/>
              </p:nvPicPr>
              <p:blipFill>
                <a:blip r:embed="rId38"/>
                <a:stretch/>
              </p:blipFill>
              <p:spPr>
                <a:xfrm rot="4380000">
                  <a:off x="2541960" y="3660480"/>
                  <a:ext cx="244440" cy="36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39"/>
                <a:stretch/>
              </p:blipFill>
              <p:spPr>
                <a:xfrm rot="4380000">
                  <a:off x="2119320" y="3633480"/>
                  <a:ext cx="58860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3" name=""/>
              <p:cNvGrpSpPr/>
              <p:nvPr/>
            </p:nvGrpSpPr>
            <p:grpSpPr>
              <a:xfrm>
                <a:off x="2278800" y="3360240"/>
                <a:ext cx="346680" cy="609120"/>
                <a:chOff x="2278800" y="3360240"/>
                <a:chExt cx="346680" cy="609120"/>
              </a:xfrm>
            </p:grpSpPr>
            <p:sp>
              <p:nvSpPr>
                <p:cNvPr id="1224" name=""/>
                <p:cNvSpPr/>
                <p:nvPr/>
              </p:nvSpPr>
              <p:spPr>
                <a:xfrm rot="13800000">
                  <a:off x="2364840" y="3382560"/>
                  <a:ext cx="168840" cy="2350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2278800" y="3461400"/>
                  <a:ext cx="346680" cy="507960"/>
                  <a:chOff x="2278800" y="3461400"/>
                  <a:chExt cx="346680" cy="507960"/>
                </a:xfrm>
              </p:grpSpPr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2278800" y="3461400"/>
                    <a:ext cx="346680" cy="507960"/>
                    <a:chOff x="2278800" y="3461400"/>
                    <a:chExt cx="346680" cy="507960"/>
                  </a:xfrm>
                </p:grpSpPr>
                <p:pic>
                  <p:nvPicPr>
                    <p:cNvPr id="1227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 rot="15600000">
                      <a:off x="2156040" y="3663720"/>
                      <a:ext cx="458640" cy="13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28" name=""/>
                    <p:cNvSpPr/>
                    <p:nvPr/>
                  </p:nvSpPr>
                  <p:spPr>
                    <a:xfrm rot="15600000">
                      <a:off x="2261880" y="3618000"/>
                      <a:ext cx="46908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29" name=""/>
                  <p:cNvSpPr/>
                  <p:nvPr/>
                </p:nvSpPr>
                <p:spPr>
                  <a:xfrm rot="15600000">
                    <a:off x="2427480" y="3523680"/>
                    <a:ext cx="442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5600000">
                    <a:off x="2437560" y="3586680"/>
                    <a:ext cx="435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rot="15600000">
                    <a:off x="2447640" y="3670920"/>
                    <a:ext cx="367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rot="15600000">
                    <a:off x="2359800" y="3634560"/>
                    <a:ext cx="56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5600000">
                    <a:off x="2346480" y="3579840"/>
                    <a:ext cx="612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34" name=""/>
            <p:cNvGrpSpPr/>
            <p:nvPr/>
          </p:nvGrpSpPr>
          <p:grpSpPr>
            <a:xfrm>
              <a:off x="2770200" y="3310200"/>
              <a:ext cx="779040" cy="689760"/>
              <a:chOff x="2770200" y="3310200"/>
              <a:chExt cx="779040" cy="6897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2770200" y="3310200"/>
                <a:ext cx="779040" cy="689760"/>
                <a:chOff x="2770200" y="3310200"/>
                <a:chExt cx="779040" cy="689760"/>
              </a:xfrm>
            </p:grpSpPr>
            <p:pic>
              <p:nvPicPr>
                <p:cNvPr id="1236" name="" descr=""/>
                <p:cNvPicPr/>
                <p:nvPr/>
              </p:nvPicPr>
              <p:blipFill>
                <a:blip r:embed="rId41"/>
                <a:stretch/>
              </p:blipFill>
              <p:spPr>
                <a:xfrm rot="18120000">
                  <a:off x="2884320" y="3582360"/>
                  <a:ext cx="248760" cy="40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" descr=""/>
                <p:cNvPicPr/>
                <p:nvPr/>
              </p:nvPicPr>
              <p:blipFill>
                <a:blip r:embed="rId42"/>
                <a:stretch/>
              </p:blipFill>
              <p:spPr>
                <a:xfrm rot="18120000">
                  <a:off x="2952000" y="3482280"/>
                  <a:ext cx="593280" cy="3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8" name=""/>
              <p:cNvGrpSpPr/>
              <p:nvPr/>
            </p:nvGrpSpPr>
            <p:grpSpPr>
              <a:xfrm>
                <a:off x="2948040" y="3398760"/>
                <a:ext cx="499320" cy="545760"/>
                <a:chOff x="2948040" y="3398760"/>
                <a:chExt cx="499320" cy="5457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3283200" y="3686040"/>
                  <a:ext cx="151560" cy="223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40" name=""/>
                <p:cNvGrpSpPr/>
                <p:nvPr/>
              </p:nvGrpSpPr>
              <p:grpSpPr>
                <a:xfrm>
                  <a:off x="2948040" y="3398760"/>
                  <a:ext cx="499320" cy="545760"/>
                  <a:chOff x="2948040" y="3398760"/>
                  <a:chExt cx="499320" cy="545760"/>
                </a:xfrm>
              </p:grpSpPr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2948040" y="3398760"/>
                    <a:ext cx="499320" cy="545760"/>
                    <a:chOff x="2948040" y="3398760"/>
                    <a:chExt cx="499320" cy="545760"/>
                  </a:xfrm>
                </p:grpSpPr>
                <p:pic>
                  <p:nvPicPr>
                    <p:cNvPr id="1242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 rot="1800000">
                      <a:off x="3024360" y="3486240"/>
                      <a:ext cx="402120" cy="1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43" name=""/>
                    <p:cNvSpPr/>
                    <p:nvPr/>
                  </p:nvSpPr>
                  <p:spPr>
                    <a:xfrm rot="1800000">
                      <a:off x="2983680" y="3604320"/>
                      <a:ext cx="41184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44" name=""/>
                  <p:cNvSpPr/>
                  <p:nvPr/>
                </p:nvSpPr>
                <p:spPr>
                  <a:xfrm rot="1800000">
                    <a:off x="3291840" y="3712680"/>
                    <a:ext cx="392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rot="1800000">
                    <a:off x="3241440" y="3684240"/>
                    <a:ext cx="392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rot="1800000">
                    <a:off x="3193920" y="3665520"/>
                    <a:ext cx="313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1800000">
                    <a:off x="3263760" y="3639600"/>
                    <a:ext cx="504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1800000">
                    <a:off x="3303000" y="3659040"/>
                    <a:ext cx="550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49" name=""/>
            <p:cNvGrpSpPr/>
            <p:nvPr/>
          </p:nvGrpSpPr>
          <p:grpSpPr>
            <a:xfrm>
              <a:off x="2583720" y="3338640"/>
              <a:ext cx="481320" cy="663840"/>
              <a:chOff x="2583720" y="3338640"/>
              <a:chExt cx="481320" cy="66384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44"/>
              <a:stretch/>
            </p:blipFill>
            <p:spPr>
              <a:xfrm rot="9600000">
                <a:off x="2652480" y="3355920"/>
                <a:ext cx="167400" cy="36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 rot="9600000">
                <a:off x="2623320" y="3638520"/>
                <a:ext cx="401400" cy="30456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296520" y="3399120"/>
              <a:ext cx="480960" cy="663480"/>
              <a:chOff x="3296520" y="3399120"/>
              <a:chExt cx="480960" cy="663480"/>
            </a:xfrm>
          </p:grpSpPr>
          <p:pic>
            <p:nvPicPr>
              <p:cNvPr id="1253" name="" descr=""/>
              <p:cNvPicPr/>
              <p:nvPr/>
            </p:nvPicPr>
            <p:blipFill>
              <a:blip r:embed="rId45"/>
              <a:stretch/>
            </p:blipFill>
            <p:spPr>
              <a:xfrm rot="9600000">
                <a:off x="3363480" y="3416400"/>
                <a:ext cx="167400" cy="36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" descr=""/>
              <p:cNvPicPr/>
              <p:nvPr/>
            </p:nvPicPr>
            <p:blipFill>
              <a:blip r:embed="rId46"/>
              <a:stretch/>
            </p:blipFill>
            <p:spPr>
              <a:xfrm rot="9600000">
                <a:off x="3336120" y="3700080"/>
                <a:ext cx="40140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"/>
            <p:cNvGrpSpPr/>
            <p:nvPr/>
          </p:nvGrpSpPr>
          <p:grpSpPr>
            <a:xfrm>
              <a:off x="2925000" y="2952000"/>
              <a:ext cx="1117440" cy="1092240"/>
              <a:chOff x="2925000" y="2952000"/>
              <a:chExt cx="1117440" cy="109224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47"/>
              <a:stretch/>
            </p:blipFill>
            <p:spPr>
              <a:xfrm rot="18840000">
                <a:off x="3521160" y="3397320"/>
                <a:ext cx="354960" cy="61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48"/>
              <a:stretch/>
            </p:blipFill>
            <p:spPr>
              <a:xfrm rot="18840000">
                <a:off x="2976120" y="3180960"/>
                <a:ext cx="850680" cy="50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8" name=""/>
            <p:cNvGrpSpPr/>
            <p:nvPr/>
          </p:nvGrpSpPr>
          <p:grpSpPr>
            <a:xfrm>
              <a:off x="2490840" y="3082680"/>
              <a:ext cx="690120" cy="604800"/>
              <a:chOff x="2490840" y="3082680"/>
              <a:chExt cx="690120" cy="60480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49"/>
              <a:stretch/>
            </p:blipFill>
            <p:spPr>
              <a:xfrm rot="4200000">
                <a:off x="2588760" y="3275280"/>
                <a:ext cx="22284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 rot="4200000">
                <a:off x="2681280" y="3235320"/>
                <a:ext cx="534600" cy="299520"/>
              </a:xfrm>
              <a:custGeom>
                <a:avLst/>
                <a:gdLst/>
                <a:ahLst/>
                <a:rect l="l" t="t" r="r" b="b"/>
                <a:pathLst>
                  <a:path w="781" h="416">
                    <a:moveTo>
                      <a:pt x="674" y="350"/>
                    </a:moveTo>
                    <a:cubicBezTo>
                      <a:pt x="669" y="354"/>
                      <a:pt x="665" y="350"/>
                      <a:pt x="644" y="360"/>
                    </a:cubicBezTo>
                    <a:cubicBezTo>
                      <a:pt x="623" y="370"/>
                      <a:pt x="596" y="400"/>
                      <a:pt x="548" y="408"/>
                    </a:cubicBezTo>
                    <a:cubicBezTo>
                      <a:pt x="500" y="416"/>
                      <a:pt x="428" y="416"/>
                      <a:pt x="356" y="408"/>
                    </a:cubicBezTo>
                    <a:cubicBezTo>
                      <a:pt x="284" y="400"/>
                      <a:pt x="171" y="372"/>
                      <a:pt x="116" y="360"/>
                    </a:cubicBezTo>
                    <a:cubicBezTo>
                      <a:pt x="61" y="348"/>
                      <a:pt x="41" y="352"/>
                      <a:pt x="23" y="335"/>
                    </a:cubicBezTo>
                    <a:cubicBezTo>
                      <a:pt x="5" y="318"/>
                      <a:pt x="0" y="287"/>
                      <a:pt x="7" y="259"/>
                    </a:cubicBezTo>
                    <a:cubicBezTo>
                      <a:pt x="14" y="231"/>
                      <a:pt x="7" y="208"/>
                      <a:pt x="68" y="168"/>
                    </a:cubicBezTo>
                    <a:cubicBezTo>
                      <a:pt x="129" y="128"/>
                      <a:pt x="291" y="32"/>
                      <a:pt x="371" y="16"/>
                    </a:cubicBezTo>
                    <a:cubicBezTo>
                      <a:pt x="451" y="0"/>
                      <a:pt x="487" y="47"/>
                      <a:pt x="548" y="72"/>
                    </a:cubicBezTo>
                    <a:cubicBezTo>
                      <a:pt x="609" y="97"/>
                      <a:pt x="701" y="142"/>
                      <a:pt x="740" y="168"/>
                    </a:cubicBezTo>
                    <a:cubicBezTo>
                      <a:pt x="779" y="194"/>
                      <a:pt x="781" y="209"/>
                      <a:pt x="780" y="229"/>
                    </a:cubicBezTo>
                    <a:cubicBezTo>
                      <a:pt x="779" y="249"/>
                      <a:pt x="774" y="259"/>
                      <a:pt x="735" y="289"/>
                    </a:cubicBezTo>
                    <a:cubicBezTo>
                      <a:pt x="696" y="319"/>
                      <a:pt x="587" y="383"/>
                      <a:pt x="548" y="408"/>
                    </a:cubicBezTo>
                  </a:path>
                </a:pathLst>
              </a:custGeom>
              <a:solidFill>
                <a:srgbClr val="6823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785960" y="397080"/>
            <a:ext cx="2435040" cy="2315880"/>
            <a:chOff x="1785960" y="397080"/>
            <a:chExt cx="2435040" cy="2315880"/>
          </a:xfrm>
        </p:grpSpPr>
        <p:grpSp>
          <p:nvGrpSpPr>
            <p:cNvPr id="1262" name=""/>
            <p:cNvGrpSpPr/>
            <p:nvPr/>
          </p:nvGrpSpPr>
          <p:grpSpPr>
            <a:xfrm>
              <a:off x="2735280" y="397080"/>
              <a:ext cx="835200" cy="830880"/>
              <a:chOff x="2735280" y="397080"/>
              <a:chExt cx="835200" cy="83088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2834640" y="397080"/>
                <a:ext cx="735840" cy="830880"/>
                <a:chOff x="2834640" y="397080"/>
                <a:chExt cx="735840" cy="830880"/>
              </a:xfrm>
            </p:grpSpPr>
            <p:pic>
              <p:nvPicPr>
                <p:cNvPr id="1264" name="" descr=""/>
                <p:cNvPicPr/>
                <p:nvPr/>
              </p:nvPicPr>
              <p:blipFill>
                <a:blip r:embed="rId50"/>
                <a:stretch/>
              </p:blipFill>
              <p:spPr>
                <a:xfrm rot="9540000">
                  <a:off x="3156840" y="430920"/>
                  <a:ext cx="272160" cy="43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5" name="" descr=""/>
                <p:cNvPicPr/>
                <p:nvPr/>
              </p:nvPicPr>
              <p:blipFill>
                <a:blip r:embed="rId51"/>
                <a:stretch/>
              </p:blipFill>
              <p:spPr>
                <a:xfrm rot="9540000">
                  <a:off x="2877120" y="764280"/>
                  <a:ext cx="650520" cy="358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6" name=""/>
              <p:cNvGrpSpPr/>
              <p:nvPr/>
            </p:nvGrpSpPr>
            <p:grpSpPr>
              <a:xfrm>
                <a:off x="2735280" y="703080"/>
                <a:ext cx="658800" cy="351720"/>
                <a:chOff x="2735280" y="703080"/>
                <a:chExt cx="658800" cy="351720"/>
              </a:xfrm>
            </p:grpSpPr>
            <p:sp>
              <p:nvSpPr>
                <p:cNvPr id="1267" name=""/>
                <p:cNvSpPr/>
                <p:nvPr/>
              </p:nvSpPr>
              <p:spPr>
                <a:xfrm rot="8640000">
                  <a:off x="2796480" y="738720"/>
                  <a:ext cx="197640" cy="2732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68" name=""/>
                <p:cNvGrpSpPr/>
                <p:nvPr/>
              </p:nvGrpSpPr>
              <p:grpSpPr>
                <a:xfrm>
                  <a:off x="2864520" y="703080"/>
                  <a:ext cx="529560" cy="351720"/>
                  <a:chOff x="2864520" y="703080"/>
                  <a:chExt cx="529560" cy="351720"/>
                </a:xfrm>
              </p:grpSpPr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2864520" y="703080"/>
                    <a:ext cx="529560" cy="351720"/>
                    <a:chOff x="2864520" y="703080"/>
                    <a:chExt cx="529560" cy="351720"/>
                  </a:xfrm>
                </p:grpSpPr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 rot="10440000">
                      <a:off x="2896200" y="880200"/>
                      <a:ext cx="491400" cy="14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71" name=""/>
                    <p:cNvSpPr/>
                    <p:nvPr/>
                  </p:nvSpPr>
                  <p:spPr>
                    <a:xfrm rot="10440000">
                      <a:off x="2873520" y="728640"/>
                      <a:ext cx="502200" cy="19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272" name=""/>
                  <p:cNvSpPr/>
                  <p:nvPr/>
                </p:nvSpPr>
                <p:spPr>
                  <a:xfrm rot="10440000">
                    <a:off x="2950200" y="811800"/>
                    <a:ext cx="468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rot="10440000">
                    <a:off x="3018240" y="804600"/>
                    <a:ext cx="468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rot="10440000">
                    <a:off x="3094920" y="824400"/>
                    <a:ext cx="381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rot="10440000">
                    <a:off x="3032280" y="929520"/>
                    <a:ext cx="60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rot="10440000">
                    <a:off x="2972880" y="933480"/>
                    <a:ext cx="658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277" name=""/>
            <p:cNvGrpSpPr/>
            <p:nvPr/>
          </p:nvGrpSpPr>
          <p:grpSpPr>
            <a:xfrm>
              <a:off x="1785960" y="430560"/>
              <a:ext cx="2435040" cy="2282400"/>
              <a:chOff x="1785960" y="430560"/>
              <a:chExt cx="2435040" cy="2282400"/>
            </a:xfrm>
          </p:grpSpPr>
          <p:pic>
            <p:nvPicPr>
              <p:cNvPr id="127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1820880" y="1370160"/>
                <a:ext cx="237312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1805040" y="1074600"/>
                <a:ext cx="2415960" cy="59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0" name=""/>
              <p:cNvGrpSpPr/>
              <p:nvPr/>
            </p:nvGrpSpPr>
            <p:grpSpPr>
              <a:xfrm>
                <a:off x="1785960" y="430560"/>
                <a:ext cx="2412720" cy="1058040"/>
                <a:chOff x="1785960" y="430560"/>
                <a:chExt cx="2412720" cy="1058040"/>
              </a:xfrm>
            </p:grpSpPr>
            <p:sp>
              <p:nvSpPr>
                <p:cNvPr id="1281" name=""/>
                <p:cNvSpPr/>
                <p:nvPr/>
              </p:nvSpPr>
              <p:spPr>
                <a:xfrm rot="5160000">
                  <a:off x="3808440" y="1120680"/>
                  <a:ext cx="393480" cy="856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1785960" y="430560"/>
                  <a:ext cx="2412720" cy="1058040"/>
                  <a:chOff x="1785960" y="430560"/>
                  <a:chExt cx="2412720" cy="105804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20580000">
                    <a:off x="1795320" y="1212480"/>
                    <a:ext cx="3304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rot="20580000">
                    <a:off x="1881000" y="1079640"/>
                    <a:ext cx="3236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rot="21000000">
                    <a:off x="1956960" y="967320"/>
                    <a:ext cx="32400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2062440" y="651600"/>
                    <a:ext cx="579600" cy="350640"/>
                    <a:chOff x="2062440" y="651600"/>
                    <a:chExt cx="579600" cy="35064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rot="300000">
                      <a:off x="2066760" y="873000"/>
                      <a:ext cx="3384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rot="300000">
                      <a:off x="2188080" y="767520"/>
                      <a:ext cx="3315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780000">
                      <a:off x="2298960" y="686880"/>
                      <a:ext cx="33120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2393640" y="457920"/>
                    <a:ext cx="648720" cy="441000"/>
                    <a:chOff x="2393640" y="457920"/>
                    <a:chExt cx="648720" cy="44100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rot="1380000">
                      <a:off x="2413080" y="669600"/>
                      <a:ext cx="33840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rot="1380000">
                      <a:off x="2553120" y="583560"/>
                      <a:ext cx="33156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 rot="1860000">
                      <a:off x="2680200" y="528120"/>
                      <a:ext cx="331560" cy="21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4" name=""/>
                  <p:cNvGrpSpPr/>
                  <p:nvPr/>
                </p:nvGrpSpPr>
                <p:grpSpPr>
                  <a:xfrm>
                    <a:off x="2768040" y="430560"/>
                    <a:ext cx="672120" cy="436680"/>
                    <a:chOff x="2768040" y="430560"/>
                    <a:chExt cx="672120" cy="436680"/>
                  </a:xfrm>
                </p:grpSpPr>
                <p:sp>
                  <p:nvSpPr>
                    <p:cNvPr id="1295" name=""/>
                    <p:cNvSpPr/>
                    <p:nvPr/>
                  </p:nvSpPr>
                  <p:spPr>
                    <a:xfrm rot="2220000">
                      <a:off x="2807280" y="559080"/>
                      <a:ext cx="31536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 rot="2220000">
                      <a:off x="2946240" y="510840"/>
                      <a:ext cx="30888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2640000">
                      <a:off x="3073320" y="496800"/>
                      <a:ext cx="308880" cy="29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3078360" y="509040"/>
                    <a:ext cx="725040" cy="508320"/>
                    <a:chOff x="3078360" y="509040"/>
                    <a:chExt cx="725040" cy="50832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 rot="3240000">
                      <a:off x="3050280" y="637200"/>
                      <a:ext cx="38160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 rot="3240000">
                      <a:off x="3264480" y="681120"/>
                      <a:ext cx="37368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 rot="3660000">
                      <a:off x="3457800" y="738000"/>
                      <a:ext cx="37368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3501000" y="667800"/>
                    <a:ext cx="549360" cy="592560"/>
                    <a:chOff x="3501000" y="667800"/>
                    <a:chExt cx="549360" cy="59256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 rot="4080000">
                      <a:off x="3427920" y="817560"/>
                      <a:ext cx="39852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 rot="4080000">
                      <a:off x="3593520" y="896760"/>
                      <a:ext cx="38988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4500000">
                      <a:off x="3737880" y="984960"/>
                      <a:ext cx="39024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06" name=""/>
                  <p:cNvSpPr/>
                  <p:nvPr/>
                </p:nvSpPr>
                <p:spPr>
                  <a:xfrm rot="5160000">
                    <a:off x="3882600" y="1213200"/>
                    <a:ext cx="3848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4052880" y="1181160"/>
                    <a:ext cx="14580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785960" y="1307880"/>
                    <a:ext cx="231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09" name=""/>
            <p:cNvGrpSpPr/>
            <p:nvPr/>
          </p:nvGrpSpPr>
          <p:grpSpPr>
            <a:xfrm>
              <a:off x="1918440" y="942480"/>
              <a:ext cx="824040" cy="891000"/>
              <a:chOff x="1918440" y="942480"/>
              <a:chExt cx="824040" cy="89100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18440" y="1058400"/>
                <a:ext cx="824040" cy="775080"/>
                <a:chOff x="1918440" y="1058400"/>
                <a:chExt cx="824040" cy="775080"/>
              </a:xfrm>
            </p:grpSpPr>
            <p:pic>
              <p:nvPicPr>
                <p:cNvPr id="1311" name="" descr=""/>
                <p:cNvPicPr/>
                <p:nvPr/>
              </p:nvPicPr>
              <p:blipFill>
                <a:blip r:embed="rId55"/>
                <a:stretch/>
              </p:blipFill>
              <p:spPr>
                <a:xfrm rot="4380000">
                  <a:off x="2344680" y="1299960"/>
                  <a:ext cx="293040" cy="435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56"/>
                <a:stretch/>
              </p:blipFill>
              <p:spPr>
                <a:xfrm rot="4380000">
                  <a:off x="1841760" y="1266480"/>
                  <a:ext cx="70092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13" name=""/>
              <p:cNvGrpSpPr/>
              <p:nvPr/>
            </p:nvGrpSpPr>
            <p:grpSpPr>
              <a:xfrm>
                <a:off x="2031480" y="942480"/>
                <a:ext cx="412920" cy="725040"/>
                <a:chOff x="2031480" y="942480"/>
                <a:chExt cx="412920" cy="725040"/>
              </a:xfrm>
            </p:grpSpPr>
            <p:sp>
              <p:nvSpPr>
                <p:cNvPr id="1314" name=""/>
                <p:cNvSpPr/>
                <p:nvPr/>
              </p:nvSpPr>
              <p:spPr>
                <a:xfrm rot="13800000">
                  <a:off x="2133360" y="970200"/>
                  <a:ext cx="201240" cy="2757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2031480" y="1062720"/>
                  <a:ext cx="412920" cy="604800"/>
                  <a:chOff x="2031480" y="1062720"/>
                  <a:chExt cx="412920" cy="604800"/>
                </a:xfrm>
              </p:grpSpPr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2031480" y="1062720"/>
                    <a:ext cx="412920" cy="604800"/>
                    <a:chOff x="2031480" y="1062720"/>
                    <a:chExt cx="412920" cy="604800"/>
                  </a:xfrm>
                </p:grpSpPr>
                <p:pic>
                  <p:nvPicPr>
                    <p:cNvPr id="1317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 rot="15600000">
                      <a:off x="1882080" y="1303200"/>
                      <a:ext cx="550080" cy="1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8" name=""/>
                    <p:cNvSpPr/>
                    <p:nvPr/>
                  </p:nvSpPr>
                  <p:spPr>
                    <a:xfrm rot="15600000">
                      <a:off x="2010240" y="1252800"/>
                      <a:ext cx="563040" cy="21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19" name=""/>
                  <p:cNvSpPr/>
                  <p:nvPr/>
                </p:nvSpPr>
                <p:spPr>
                  <a:xfrm rot="15600000">
                    <a:off x="2205360" y="1135440"/>
                    <a:ext cx="5292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rot="15600000">
                    <a:off x="2218320" y="1212120"/>
                    <a:ext cx="5328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rot="15600000">
                    <a:off x="2230560" y="1312920"/>
                    <a:ext cx="424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15600000">
                    <a:off x="2125440" y="1267920"/>
                    <a:ext cx="68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15600000">
                    <a:off x="2109600" y="1203840"/>
                    <a:ext cx="745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2617920" y="881640"/>
              <a:ext cx="927000" cy="820800"/>
              <a:chOff x="2617920" y="881640"/>
              <a:chExt cx="927000" cy="82080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2617920" y="881640"/>
                <a:ext cx="927000" cy="820800"/>
                <a:chOff x="2617920" y="881640"/>
                <a:chExt cx="927000" cy="820800"/>
              </a:xfrm>
            </p:grpSpPr>
            <p:pic>
              <p:nvPicPr>
                <p:cNvPr id="1326" name="" descr=""/>
                <p:cNvPicPr/>
                <p:nvPr/>
              </p:nvPicPr>
              <p:blipFill>
                <a:blip r:embed="rId58"/>
                <a:stretch/>
              </p:blipFill>
              <p:spPr>
                <a:xfrm rot="18120000">
                  <a:off x="2755080" y="1204920"/>
                  <a:ext cx="294480" cy="48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59"/>
                <a:stretch/>
              </p:blipFill>
              <p:spPr>
                <a:xfrm rot="18120000">
                  <a:off x="2835360" y="1086120"/>
                  <a:ext cx="704520" cy="401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28" name=""/>
              <p:cNvGrpSpPr/>
              <p:nvPr/>
            </p:nvGrpSpPr>
            <p:grpSpPr>
              <a:xfrm>
                <a:off x="2827440" y="986760"/>
                <a:ext cx="596160" cy="651240"/>
                <a:chOff x="2827440" y="986760"/>
                <a:chExt cx="596160" cy="6512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227400" y="1328760"/>
                  <a:ext cx="181080" cy="26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30" name=""/>
                <p:cNvGrpSpPr/>
                <p:nvPr/>
              </p:nvGrpSpPr>
              <p:grpSpPr>
                <a:xfrm>
                  <a:off x="2827440" y="986760"/>
                  <a:ext cx="596160" cy="651240"/>
                  <a:chOff x="2827440" y="986760"/>
                  <a:chExt cx="596160" cy="651240"/>
                </a:xfrm>
              </p:grpSpPr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2827440" y="986760"/>
                    <a:ext cx="596160" cy="651240"/>
                    <a:chOff x="2827440" y="986760"/>
                    <a:chExt cx="596160" cy="651240"/>
                  </a:xfrm>
                </p:grpSpPr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 rot="1800000">
                      <a:off x="2922120" y="1090440"/>
                      <a:ext cx="476280" cy="22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33" name=""/>
                    <p:cNvSpPr/>
                    <p:nvPr/>
                  </p:nvSpPr>
                  <p:spPr>
                    <a:xfrm rot="1800000">
                      <a:off x="2870280" y="1233360"/>
                      <a:ext cx="48708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34" name=""/>
                  <p:cNvSpPr/>
                  <p:nvPr/>
                </p:nvSpPr>
                <p:spPr>
                  <a:xfrm rot="1800000">
                    <a:off x="3238560" y="1361520"/>
                    <a:ext cx="47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rot="1800000">
                    <a:off x="3179880" y="1326240"/>
                    <a:ext cx="47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rot="1800000">
                    <a:off x="3122640" y="1306080"/>
                    <a:ext cx="381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rot="1800000">
                    <a:off x="3203640" y="1273680"/>
                    <a:ext cx="619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rot="1800000">
                    <a:off x="3252960" y="1298160"/>
                    <a:ext cx="666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339" name=""/>
            <p:cNvGrpSpPr/>
            <p:nvPr/>
          </p:nvGrpSpPr>
          <p:grpSpPr>
            <a:xfrm>
              <a:off x="2395440" y="914040"/>
              <a:ext cx="570960" cy="790920"/>
              <a:chOff x="2395440" y="914040"/>
              <a:chExt cx="570960" cy="790920"/>
            </a:xfrm>
          </p:grpSpPr>
          <p:pic>
            <p:nvPicPr>
              <p:cNvPr id="1340" name="" descr=""/>
              <p:cNvPicPr/>
              <p:nvPr/>
            </p:nvPicPr>
            <p:blipFill>
              <a:blip r:embed="rId61"/>
              <a:stretch/>
            </p:blipFill>
            <p:spPr>
              <a:xfrm rot="9600000">
                <a:off x="2472120" y="934200"/>
                <a:ext cx="19800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" descr=""/>
              <p:cNvPicPr/>
              <p:nvPr/>
            </p:nvPicPr>
            <p:blipFill>
              <a:blip r:embed="rId62"/>
              <a:stretch/>
            </p:blipFill>
            <p:spPr>
              <a:xfrm rot="9600000">
                <a:off x="2442960" y="1271160"/>
                <a:ext cx="47556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2" name=""/>
            <p:cNvGrpSpPr/>
            <p:nvPr/>
          </p:nvGrpSpPr>
          <p:grpSpPr>
            <a:xfrm>
              <a:off x="3243240" y="985680"/>
              <a:ext cx="571320" cy="790920"/>
              <a:chOff x="3243240" y="985680"/>
              <a:chExt cx="571320" cy="790920"/>
            </a:xfrm>
          </p:grpSpPr>
          <p:pic>
            <p:nvPicPr>
              <p:cNvPr id="1343" name="" descr=""/>
              <p:cNvPicPr/>
              <p:nvPr/>
            </p:nvPicPr>
            <p:blipFill>
              <a:blip r:embed="rId63"/>
              <a:stretch/>
            </p:blipFill>
            <p:spPr>
              <a:xfrm rot="9600000">
                <a:off x="3319200" y="1006200"/>
                <a:ext cx="198360" cy="4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" descr=""/>
              <p:cNvPicPr/>
              <p:nvPr/>
            </p:nvPicPr>
            <p:blipFill>
              <a:blip r:embed="rId64"/>
              <a:stretch/>
            </p:blipFill>
            <p:spPr>
              <a:xfrm rot="9600000">
                <a:off x="3290760" y="1343160"/>
                <a:ext cx="475920" cy="36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5" name=""/>
            <p:cNvGrpSpPr/>
            <p:nvPr/>
          </p:nvGrpSpPr>
          <p:grpSpPr>
            <a:xfrm>
              <a:off x="2801880" y="456840"/>
              <a:ext cx="1328400" cy="1298880"/>
              <a:chOff x="2801880" y="456840"/>
              <a:chExt cx="1328400" cy="1298880"/>
            </a:xfrm>
          </p:grpSpPr>
          <p:pic>
            <p:nvPicPr>
              <p:cNvPr id="1346" name="" descr=""/>
              <p:cNvPicPr/>
              <p:nvPr/>
            </p:nvPicPr>
            <p:blipFill>
              <a:blip r:embed="rId65"/>
              <a:stretch/>
            </p:blipFill>
            <p:spPr>
              <a:xfrm rot="18840000">
                <a:off x="3509640" y="984600"/>
                <a:ext cx="422280" cy="73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" descr=""/>
              <p:cNvPicPr/>
              <p:nvPr/>
            </p:nvPicPr>
            <p:blipFill>
              <a:blip r:embed="rId66"/>
              <a:stretch/>
            </p:blipFill>
            <p:spPr>
              <a:xfrm rot="18840000">
                <a:off x="2863800" y="728640"/>
                <a:ext cx="1011600" cy="60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8" name=""/>
            <p:cNvGrpSpPr/>
            <p:nvPr/>
          </p:nvGrpSpPr>
          <p:grpSpPr>
            <a:xfrm>
              <a:off x="2285280" y="610560"/>
              <a:ext cx="822600" cy="720000"/>
              <a:chOff x="2285280" y="610560"/>
              <a:chExt cx="822600" cy="720000"/>
            </a:xfrm>
          </p:grpSpPr>
          <p:pic>
            <p:nvPicPr>
              <p:cNvPr id="1349" name="" descr=""/>
              <p:cNvPicPr/>
              <p:nvPr/>
            </p:nvPicPr>
            <p:blipFill>
              <a:blip r:embed="rId67"/>
              <a:stretch/>
            </p:blipFill>
            <p:spPr>
              <a:xfrm rot="4200000">
                <a:off x="2401200" y="840240"/>
                <a:ext cx="265680" cy="43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" descr=""/>
              <p:cNvPicPr/>
              <p:nvPr/>
            </p:nvPicPr>
            <p:blipFill>
              <a:blip r:embed="rId68"/>
              <a:stretch/>
            </p:blipFill>
            <p:spPr>
              <a:xfrm rot="4200000">
                <a:off x="2513160" y="792000"/>
                <a:ext cx="63648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1" name=""/>
          <p:cNvSpPr/>
          <p:nvPr/>
        </p:nvSpPr>
        <p:spPr>
          <a:xfrm>
            <a:off x="96840" y="782640"/>
            <a:ext cx="1596600" cy="76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  <a:ea typeface="DejaVu Sans"/>
              </a:rPr>
              <a:t>Кол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2" name=""/>
          <p:cNvSpPr/>
          <p:nvPr/>
        </p:nvSpPr>
        <p:spPr>
          <a:xfrm>
            <a:off x="106560" y="3200400"/>
            <a:ext cx="1752120" cy="76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  <a:ea typeface="DejaVu Sans"/>
              </a:rPr>
              <a:t>Мит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4017960" y="685800"/>
            <a:ext cx="3217680" cy="1292400"/>
            <a:chOff x="4017960" y="685800"/>
            <a:chExt cx="3217680" cy="1292400"/>
          </a:xfrm>
        </p:grpSpPr>
        <mc:AlternateContent>
          <mc:Choice xmlns:a14="http://schemas.microsoft.com/office/drawing/2010/main" Requires="a14">
            <p:sp>
              <p:nvSpPr>
                <p:cNvPr id="1354" name=""/>
                <p:cNvSpPr txBox="1"/>
                <p:nvPr/>
              </p:nvSpPr>
              <p:spPr>
                <a:xfrm>
                  <a:off x="4017960" y="685800"/>
                  <a:ext cx="2375280" cy="12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5" name=""/>
            <p:cNvSpPr/>
            <p:nvPr/>
          </p:nvSpPr>
          <p:spPr>
            <a:xfrm>
              <a:off x="6393240" y="857160"/>
              <a:ext cx="842400" cy="741600"/>
            </a:xfrm>
            <a:custGeom>
              <a:avLst/>
              <a:gdLst/>
              <a:ahLst/>
              <a:rect l="l" t="t" r="r" b="b"/>
              <a:pathLst>
                <a:path w="1173" h="1032">
                  <a:moveTo>
                    <a:pt x="0" y="1032"/>
                  </a:moveTo>
                  <a:lnTo>
                    <a:pt x="1173" y="1032"/>
                  </a:lnTo>
                  <a:lnTo>
                    <a:pt x="180" y="90"/>
                  </a:lnTo>
                  <a:lnTo>
                    <a:pt x="1173" y="1032"/>
                  </a:lnTo>
                  <a:lnTo>
                    <a:pt x="27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6666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DejaVu Sans"/>
                </a:rPr>
                <a:t>&gt;</a:t>
              </a:r>
              <a:endParaRPr b="0" lang="en-US" sz="60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6400800" y="1676520"/>
            <a:ext cx="914400" cy="2514600"/>
          </a:xfrm>
          <a:custGeom>
            <a:avLst/>
            <a:gdLst/>
            <a:ahLst/>
            <a:rect l="l" t="t" r="r" b="b"/>
            <a:pathLst>
              <a:path w="2541" h="6846">
                <a:moveTo>
                  <a:pt x="0" y="0"/>
                </a:moveTo>
                <a:lnTo>
                  <a:pt x="133" y="3"/>
                </a:lnTo>
                <a:lnTo>
                  <a:pt x="266" y="13"/>
                </a:lnTo>
                <a:lnTo>
                  <a:pt x="397" y="30"/>
                </a:lnTo>
                <a:lnTo>
                  <a:pt x="528" y="53"/>
                </a:lnTo>
                <a:lnTo>
                  <a:pt x="658" y="83"/>
                </a:lnTo>
                <a:lnTo>
                  <a:pt x="785" y="120"/>
                </a:lnTo>
                <a:lnTo>
                  <a:pt x="911" y="162"/>
                </a:lnTo>
                <a:lnTo>
                  <a:pt x="1034" y="211"/>
                </a:lnTo>
                <a:lnTo>
                  <a:pt x="1154" y="266"/>
                </a:lnTo>
                <a:lnTo>
                  <a:pt x="1271" y="328"/>
                </a:lnTo>
                <a:lnTo>
                  <a:pt x="1384" y="394"/>
                </a:lnTo>
                <a:lnTo>
                  <a:pt x="1494" y="467"/>
                </a:lnTo>
                <a:lnTo>
                  <a:pt x="1599" y="545"/>
                </a:lnTo>
                <a:lnTo>
                  <a:pt x="1700" y="628"/>
                </a:lnTo>
                <a:lnTo>
                  <a:pt x="1797" y="716"/>
                </a:lnTo>
                <a:lnTo>
                  <a:pt x="1888" y="809"/>
                </a:lnTo>
                <a:lnTo>
                  <a:pt x="1975" y="906"/>
                </a:lnTo>
                <a:lnTo>
                  <a:pt x="2056" y="1008"/>
                </a:lnTo>
                <a:lnTo>
                  <a:pt x="2131" y="1113"/>
                </a:lnTo>
                <a:lnTo>
                  <a:pt x="2201" y="1223"/>
                </a:lnTo>
                <a:lnTo>
                  <a:pt x="2264" y="1335"/>
                </a:lnTo>
                <a:lnTo>
                  <a:pt x="2321" y="1451"/>
                </a:lnTo>
                <a:lnTo>
                  <a:pt x="2372" y="1569"/>
                </a:lnTo>
                <a:lnTo>
                  <a:pt x="2417" y="1689"/>
                </a:lnTo>
                <a:lnTo>
                  <a:pt x="2454" y="1812"/>
                </a:lnTo>
                <a:lnTo>
                  <a:pt x="2485" y="1937"/>
                </a:lnTo>
                <a:lnTo>
                  <a:pt x="2510" y="2063"/>
                </a:lnTo>
                <a:lnTo>
                  <a:pt x="2527" y="2189"/>
                </a:lnTo>
                <a:lnTo>
                  <a:pt x="2538" y="2317"/>
                </a:lnTo>
                <a:lnTo>
                  <a:pt x="2541" y="2445"/>
                </a:lnTo>
                <a:lnTo>
                  <a:pt x="2541" y="3842"/>
                </a:lnTo>
                <a:lnTo>
                  <a:pt x="2538" y="3967"/>
                </a:lnTo>
                <a:lnTo>
                  <a:pt x="2528" y="4092"/>
                </a:lnTo>
                <a:lnTo>
                  <a:pt x="2511" y="4217"/>
                </a:lnTo>
                <a:lnTo>
                  <a:pt x="2488" y="4340"/>
                </a:lnTo>
                <a:lnTo>
                  <a:pt x="2458" y="4462"/>
                </a:lnTo>
                <a:lnTo>
                  <a:pt x="2422" y="4583"/>
                </a:lnTo>
                <a:lnTo>
                  <a:pt x="2379" y="4701"/>
                </a:lnTo>
                <a:lnTo>
                  <a:pt x="2330" y="4817"/>
                </a:lnTo>
                <a:lnTo>
                  <a:pt x="2275" y="4931"/>
                </a:lnTo>
                <a:lnTo>
                  <a:pt x="2214" y="5042"/>
                </a:lnTo>
                <a:lnTo>
                  <a:pt x="2147" y="5149"/>
                </a:lnTo>
                <a:lnTo>
                  <a:pt x="2075" y="5254"/>
                </a:lnTo>
                <a:lnTo>
                  <a:pt x="1997" y="5354"/>
                </a:lnTo>
                <a:lnTo>
                  <a:pt x="1914" y="5451"/>
                </a:lnTo>
                <a:lnTo>
                  <a:pt x="1825" y="5543"/>
                </a:lnTo>
                <a:lnTo>
                  <a:pt x="1732" y="5631"/>
                </a:lnTo>
                <a:lnTo>
                  <a:pt x="1635" y="5714"/>
                </a:lnTo>
                <a:lnTo>
                  <a:pt x="1533" y="5792"/>
                </a:lnTo>
                <a:lnTo>
                  <a:pt x="1427" y="5865"/>
                </a:lnTo>
                <a:lnTo>
                  <a:pt x="1317" y="5933"/>
                </a:lnTo>
                <a:lnTo>
                  <a:pt x="1204" y="5995"/>
                </a:lnTo>
                <a:lnTo>
                  <a:pt x="1088" y="6052"/>
                </a:lnTo>
                <a:lnTo>
                  <a:pt x="969" y="6102"/>
                </a:lnTo>
                <a:lnTo>
                  <a:pt x="847" y="6147"/>
                </a:lnTo>
                <a:lnTo>
                  <a:pt x="847" y="6846"/>
                </a:lnTo>
                <a:lnTo>
                  <a:pt x="0" y="5588"/>
                </a:lnTo>
                <a:lnTo>
                  <a:pt x="847" y="4051"/>
                </a:lnTo>
                <a:lnTo>
                  <a:pt x="847" y="4750"/>
                </a:lnTo>
                <a:lnTo>
                  <a:pt x="971" y="4704"/>
                </a:lnTo>
                <a:lnTo>
                  <a:pt x="1093" y="4652"/>
                </a:lnTo>
                <a:lnTo>
                  <a:pt x="1211" y="4594"/>
                </a:lnTo>
                <a:lnTo>
                  <a:pt x="1326" y="4531"/>
                </a:lnTo>
                <a:lnTo>
                  <a:pt x="1438" y="4461"/>
                </a:lnTo>
                <a:lnTo>
                  <a:pt x="1545" y="4386"/>
                </a:lnTo>
                <a:lnTo>
                  <a:pt x="1649" y="4306"/>
                </a:lnTo>
                <a:lnTo>
                  <a:pt x="1747" y="4220"/>
                </a:lnTo>
                <a:lnTo>
                  <a:pt x="1841" y="4130"/>
                </a:lnTo>
                <a:lnTo>
                  <a:pt x="1930" y="4035"/>
                </a:lnTo>
                <a:lnTo>
                  <a:pt x="2014" y="3936"/>
                </a:lnTo>
                <a:lnTo>
                  <a:pt x="2092" y="3832"/>
                </a:lnTo>
                <a:lnTo>
                  <a:pt x="2165" y="3725"/>
                </a:lnTo>
                <a:lnTo>
                  <a:pt x="2231" y="3614"/>
                </a:lnTo>
                <a:lnTo>
                  <a:pt x="2292" y="3501"/>
                </a:lnTo>
                <a:lnTo>
                  <a:pt x="2346" y="3384"/>
                </a:lnTo>
                <a:lnTo>
                  <a:pt x="2394" y="3265"/>
                </a:lnTo>
                <a:lnTo>
                  <a:pt x="2435" y="3143"/>
                </a:lnTo>
                <a:lnTo>
                  <a:pt x="2435" y="3143"/>
                </a:lnTo>
                <a:lnTo>
                  <a:pt x="2395" y="3024"/>
                </a:lnTo>
                <a:lnTo>
                  <a:pt x="2348" y="2907"/>
                </a:lnTo>
                <a:lnTo>
                  <a:pt x="2295" y="2793"/>
                </a:lnTo>
                <a:lnTo>
                  <a:pt x="2236" y="2681"/>
                </a:lnTo>
                <a:lnTo>
                  <a:pt x="2171" y="2572"/>
                </a:lnTo>
                <a:lnTo>
                  <a:pt x="2101" y="2467"/>
                </a:lnTo>
                <a:lnTo>
                  <a:pt x="2025" y="2365"/>
                </a:lnTo>
                <a:lnTo>
                  <a:pt x="1944" y="2267"/>
                </a:lnTo>
                <a:lnTo>
                  <a:pt x="1857" y="2174"/>
                </a:lnTo>
                <a:lnTo>
                  <a:pt x="1766" y="2084"/>
                </a:lnTo>
                <a:lnTo>
                  <a:pt x="1670" y="1999"/>
                </a:lnTo>
                <a:lnTo>
                  <a:pt x="1570" y="1920"/>
                </a:lnTo>
                <a:lnTo>
                  <a:pt x="1466" y="1845"/>
                </a:lnTo>
                <a:lnTo>
                  <a:pt x="1357" y="1775"/>
                </a:lnTo>
                <a:lnTo>
                  <a:pt x="1246" y="1711"/>
                </a:lnTo>
                <a:lnTo>
                  <a:pt x="1131" y="1652"/>
                </a:lnTo>
                <a:lnTo>
                  <a:pt x="1013" y="1600"/>
                </a:lnTo>
                <a:lnTo>
                  <a:pt x="892" y="1553"/>
                </a:lnTo>
                <a:lnTo>
                  <a:pt x="769" y="1512"/>
                </a:lnTo>
                <a:lnTo>
                  <a:pt x="644" y="1477"/>
                </a:lnTo>
                <a:lnTo>
                  <a:pt x="517" y="1448"/>
                </a:lnTo>
                <a:lnTo>
                  <a:pt x="389" y="1426"/>
                </a:lnTo>
                <a:lnTo>
                  <a:pt x="260" y="1410"/>
                </a:lnTo>
                <a:lnTo>
                  <a:pt x="130" y="1400"/>
                </a:lnTo>
                <a:lnTo>
                  <a:pt x="0" y="1397"/>
                </a:lnTo>
                <a:lnTo>
                  <a:pt x="0" y="0"/>
                </a:lnTo>
                <a:moveTo>
                  <a:pt x="0" y="0"/>
                </a:moveTo>
                <a:lnTo>
                  <a:pt x="133" y="3"/>
                </a:lnTo>
                <a:lnTo>
                  <a:pt x="266" y="13"/>
                </a:lnTo>
                <a:lnTo>
                  <a:pt x="397" y="30"/>
                </a:lnTo>
                <a:lnTo>
                  <a:pt x="528" y="53"/>
                </a:lnTo>
                <a:lnTo>
                  <a:pt x="658" y="83"/>
                </a:lnTo>
                <a:lnTo>
                  <a:pt x="785" y="120"/>
                </a:lnTo>
                <a:lnTo>
                  <a:pt x="911" y="162"/>
                </a:lnTo>
                <a:lnTo>
                  <a:pt x="1034" y="211"/>
                </a:lnTo>
                <a:lnTo>
                  <a:pt x="1154" y="266"/>
                </a:lnTo>
                <a:lnTo>
                  <a:pt x="1271" y="328"/>
                </a:lnTo>
                <a:lnTo>
                  <a:pt x="1384" y="394"/>
                </a:lnTo>
                <a:lnTo>
                  <a:pt x="1494" y="467"/>
                </a:lnTo>
                <a:lnTo>
                  <a:pt x="1599" y="545"/>
                </a:lnTo>
                <a:lnTo>
                  <a:pt x="1700" y="628"/>
                </a:lnTo>
                <a:lnTo>
                  <a:pt x="1797" y="716"/>
                </a:lnTo>
                <a:lnTo>
                  <a:pt x="1888" y="809"/>
                </a:lnTo>
                <a:lnTo>
                  <a:pt x="1975" y="906"/>
                </a:lnTo>
                <a:lnTo>
                  <a:pt x="2056" y="1008"/>
                </a:lnTo>
                <a:lnTo>
                  <a:pt x="2131" y="1113"/>
                </a:lnTo>
                <a:lnTo>
                  <a:pt x="2201" y="1223"/>
                </a:lnTo>
                <a:lnTo>
                  <a:pt x="2264" y="1335"/>
                </a:lnTo>
                <a:lnTo>
                  <a:pt x="2321" y="1451"/>
                </a:lnTo>
                <a:lnTo>
                  <a:pt x="2372" y="1569"/>
                </a:lnTo>
                <a:lnTo>
                  <a:pt x="2417" y="1689"/>
                </a:lnTo>
                <a:lnTo>
                  <a:pt x="2454" y="1812"/>
                </a:lnTo>
                <a:lnTo>
                  <a:pt x="2485" y="1937"/>
                </a:lnTo>
                <a:lnTo>
                  <a:pt x="2510" y="2063"/>
                </a:lnTo>
                <a:lnTo>
                  <a:pt x="2527" y="2189"/>
                </a:lnTo>
                <a:lnTo>
                  <a:pt x="2538" y="2317"/>
                </a:lnTo>
                <a:lnTo>
                  <a:pt x="2541" y="2445"/>
                </a:lnTo>
                <a:lnTo>
                  <a:pt x="2541" y="3842"/>
                </a:lnTo>
                <a:lnTo>
                  <a:pt x="2541" y="3795"/>
                </a:lnTo>
                <a:lnTo>
                  <a:pt x="2539" y="3748"/>
                </a:lnTo>
                <a:lnTo>
                  <a:pt x="2537" y="3700"/>
                </a:lnTo>
                <a:lnTo>
                  <a:pt x="2533" y="3653"/>
                </a:lnTo>
                <a:lnTo>
                  <a:pt x="2529" y="3606"/>
                </a:lnTo>
                <a:lnTo>
                  <a:pt x="2524" y="3559"/>
                </a:lnTo>
                <a:lnTo>
                  <a:pt x="2518" y="3512"/>
                </a:lnTo>
                <a:lnTo>
                  <a:pt x="2511" y="3465"/>
                </a:lnTo>
                <a:lnTo>
                  <a:pt x="2503" y="3419"/>
                </a:lnTo>
                <a:lnTo>
                  <a:pt x="2494" y="3372"/>
                </a:lnTo>
                <a:lnTo>
                  <a:pt x="2484" y="3326"/>
                </a:lnTo>
                <a:lnTo>
                  <a:pt x="2473" y="3280"/>
                </a:lnTo>
                <a:lnTo>
                  <a:pt x="2461" y="3234"/>
                </a:lnTo>
                <a:lnTo>
                  <a:pt x="2449" y="3188"/>
                </a:lnTo>
                <a:lnTo>
                  <a:pt x="2435" y="3143"/>
                </a:lnTo>
                <a:lnTo>
                  <a:pt x="2435" y="3143"/>
                </a:lnTo>
                <a:lnTo>
                  <a:pt x="2395" y="3024"/>
                </a:lnTo>
                <a:lnTo>
                  <a:pt x="2348" y="2907"/>
                </a:lnTo>
                <a:lnTo>
                  <a:pt x="2295" y="2793"/>
                </a:lnTo>
                <a:lnTo>
                  <a:pt x="2236" y="2681"/>
                </a:lnTo>
                <a:lnTo>
                  <a:pt x="2171" y="2572"/>
                </a:lnTo>
                <a:lnTo>
                  <a:pt x="2101" y="2467"/>
                </a:lnTo>
                <a:lnTo>
                  <a:pt x="2025" y="2365"/>
                </a:lnTo>
                <a:lnTo>
                  <a:pt x="1944" y="2267"/>
                </a:lnTo>
                <a:lnTo>
                  <a:pt x="1857" y="2174"/>
                </a:lnTo>
                <a:lnTo>
                  <a:pt x="1766" y="2084"/>
                </a:lnTo>
                <a:lnTo>
                  <a:pt x="1670" y="1999"/>
                </a:lnTo>
                <a:lnTo>
                  <a:pt x="1570" y="1920"/>
                </a:lnTo>
                <a:lnTo>
                  <a:pt x="1466" y="1845"/>
                </a:lnTo>
                <a:lnTo>
                  <a:pt x="1357" y="1775"/>
                </a:lnTo>
                <a:lnTo>
                  <a:pt x="1246" y="1711"/>
                </a:lnTo>
                <a:lnTo>
                  <a:pt x="1131" y="1652"/>
                </a:lnTo>
                <a:lnTo>
                  <a:pt x="1013" y="1600"/>
                </a:lnTo>
                <a:lnTo>
                  <a:pt x="892" y="1553"/>
                </a:lnTo>
                <a:lnTo>
                  <a:pt x="769" y="1512"/>
                </a:lnTo>
                <a:lnTo>
                  <a:pt x="644" y="1477"/>
                </a:lnTo>
                <a:lnTo>
                  <a:pt x="517" y="1448"/>
                </a:lnTo>
                <a:lnTo>
                  <a:pt x="389" y="1426"/>
                </a:lnTo>
                <a:lnTo>
                  <a:pt x="260" y="1410"/>
                </a:lnTo>
                <a:lnTo>
                  <a:pt x="130" y="1400"/>
                </a:lnTo>
                <a:lnTo>
                  <a:pt x="0" y="1397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7315200" y="533520"/>
            <a:ext cx="1827360" cy="4113000"/>
            <a:chOff x="7315200" y="533520"/>
            <a:chExt cx="1827360" cy="4113000"/>
          </a:xfrm>
        </p:grpSpPr>
        <p:sp>
          <p:nvSpPr>
            <p:cNvPr id="1358" name=""/>
            <p:cNvSpPr/>
            <p:nvPr/>
          </p:nvSpPr>
          <p:spPr>
            <a:xfrm>
              <a:off x="7315200" y="533520"/>
              <a:ext cx="608040" cy="4113000"/>
            </a:xfrm>
            <a:custGeom>
              <a:avLst/>
              <a:gdLst/>
              <a:ahLst/>
              <a:rect l="l" t="t" r="r" b="b"/>
              <a:pathLst>
                <a:path w="1694" h="11431">
                  <a:moveTo>
                    <a:pt x="0" y="0"/>
                  </a:moveTo>
                  <a:cubicBezTo>
                    <a:pt x="423" y="0"/>
                    <a:pt x="847" y="476"/>
                    <a:pt x="847" y="952"/>
                  </a:cubicBezTo>
                  <a:lnTo>
                    <a:pt x="847" y="4762"/>
                  </a:lnTo>
                  <a:cubicBezTo>
                    <a:pt x="847" y="5239"/>
                    <a:pt x="1270" y="5715"/>
                    <a:pt x="1694" y="5715"/>
                  </a:cubicBezTo>
                  <a:cubicBezTo>
                    <a:pt x="1270" y="5715"/>
                    <a:pt x="847" y="6191"/>
                    <a:pt x="847" y="6668"/>
                  </a:cubicBezTo>
                  <a:lnTo>
                    <a:pt x="847" y="10478"/>
                  </a:lnTo>
                  <a:cubicBezTo>
                    <a:pt x="847" y="10954"/>
                    <a:pt x="423" y="11431"/>
                    <a:pt x="0" y="114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072280" y="2133720"/>
              <a:ext cx="107028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Verdana"/>
                  <a:ea typeface="DejaVu Sans"/>
                </a:rPr>
                <a:t>80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2500200" y="1357200"/>
            <a:ext cx="998640" cy="3567960"/>
            <a:chOff x="2500200" y="1357200"/>
            <a:chExt cx="998640" cy="3567960"/>
          </a:xfrm>
        </p:grpSpPr>
        <p:sp>
          <p:nvSpPr>
            <p:cNvPr id="1361" name=""/>
            <p:cNvSpPr/>
            <p:nvPr/>
          </p:nvSpPr>
          <p:spPr>
            <a:xfrm>
              <a:off x="2500200" y="1357200"/>
              <a:ext cx="727200" cy="143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88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?</a:t>
              </a:r>
              <a:endParaRPr b="0" lang="en-US" sz="8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71840" y="3733920"/>
              <a:ext cx="9270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69"/>
          <a:stretch/>
        </p:blipFill>
        <p:spPr>
          <a:xfrm>
            <a:off x="7010280" y="626760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5" name=""/>
          <p:cNvSpPr/>
          <p:nvPr/>
        </p:nvSpPr>
        <p:spPr>
          <a:xfrm>
            <a:off x="214200" y="1600200"/>
            <a:ext cx="87868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32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-1285920" y="0"/>
            <a:ext cx="10632960" cy="685800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2071800" y="50720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 «Щучье»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 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4214880" y="607212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3"/>
          <a:stretch/>
        </p:blipFill>
        <p:spPr>
          <a:xfrm>
            <a:off x="6248520" y="5105520"/>
            <a:ext cx="952560" cy="76176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1011240" y="-325440"/>
            <a:ext cx="1485720" cy="7496280"/>
          </a:xfrm>
          <a:custGeom>
            <a:avLst/>
            <a:gdLst/>
            <a:ahLst/>
            <a:rect l="l" t="t" r="r" b="b"/>
            <a:pathLst>
              <a:path w="936" h="4722">
                <a:moveTo>
                  <a:pt x="123" y="4541"/>
                </a:moveTo>
                <a:cubicBezTo>
                  <a:pt x="0" y="4360"/>
                  <a:pt x="0" y="3885"/>
                  <a:pt x="11" y="3469"/>
                </a:cubicBezTo>
                <a:cubicBezTo>
                  <a:pt x="22" y="3053"/>
                  <a:pt x="174" y="2480"/>
                  <a:pt x="187" y="2045"/>
                </a:cubicBezTo>
                <a:cubicBezTo>
                  <a:pt x="200" y="1610"/>
                  <a:pt x="86" y="1170"/>
                  <a:pt x="91" y="861"/>
                </a:cubicBezTo>
                <a:cubicBezTo>
                  <a:pt x="96" y="552"/>
                  <a:pt x="163" y="317"/>
                  <a:pt x="219" y="189"/>
                </a:cubicBezTo>
                <a:cubicBezTo>
                  <a:pt x="275" y="61"/>
                  <a:pt x="318" y="106"/>
                  <a:pt x="427" y="93"/>
                </a:cubicBezTo>
                <a:cubicBezTo>
                  <a:pt x="536" y="80"/>
                  <a:pt x="814" y="0"/>
                  <a:pt x="875" y="109"/>
                </a:cubicBezTo>
                <a:cubicBezTo>
                  <a:pt x="936" y="218"/>
                  <a:pt x="798" y="522"/>
                  <a:pt x="795" y="749"/>
                </a:cubicBezTo>
                <a:cubicBezTo>
                  <a:pt x="792" y="976"/>
                  <a:pt x="838" y="1229"/>
                  <a:pt x="859" y="1469"/>
                </a:cubicBezTo>
                <a:cubicBezTo>
                  <a:pt x="880" y="1709"/>
                  <a:pt x="926" y="1954"/>
                  <a:pt x="923" y="2189"/>
                </a:cubicBezTo>
                <a:cubicBezTo>
                  <a:pt x="920" y="2424"/>
                  <a:pt x="848" y="2688"/>
                  <a:pt x="843" y="2877"/>
                </a:cubicBezTo>
                <a:cubicBezTo>
                  <a:pt x="838" y="3066"/>
                  <a:pt x="886" y="3170"/>
                  <a:pt x="891" y="3325"/>
                </a:cubicBezTo>
                <a:cubicBezTo>
                  <a:pt x="896" y="3480"/>
                  <a:pt x="875" y="3600"/>
                  <a:pt x="875" y="3805"/>
                </a:cubicBezTo>
                <a:cubicBezTo>
                  <a:pt x="875" y="4010"/>
                  <a:pt x="912" y="4432"/>
                  <a:pt x="891" y="4557"/>
                </a:cubicBezTo>
                <a:cubicBezTo>
                  <a:pt x="870" y="4682"/>
                  <a:pt x="875" y="4560"/>
                  <a:pt x="747" y="4557"/>
                </a:cubicBezTo>
                <a:cubicBezTo>
                  <a:pt x="619" y="4554"/>
                  <a:pt x="246" y="4722"/>
                  <a:pt x="123" y="4541"/>
                </a:cubicBez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cc3300"/>
              </a:gs>
              <a:gs pos="100000">
                <a:srgbClr val="cc9900"/>
              </a:gs>
            </a:gsLst>
            <a:lin ang="18900000"/>
          </a:gradFill>
          <a:ln w="9360">
            <a:solidFill>
              <a:srgbClr val="0066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825200" y="1359000"/>
            <a:ext cx="2171160" cy="2792160"/>
            <a:chOff x="1825200" y="1359000"/>
            <a:chExt cx="2171160" cy="2792160"/>
          </a:xfrm>
        </p:grpSpPr>
        <p:sp>
          <p:nvSpPr>
            <p:cNvPr id="1372" name=""/>
            <p:cNvSpPr/>
            <p:nvPr/>
          </p:nvSpPr>
          <p:spPr>
            <a:xfrm>
              <a:off x="1925640" y="3301920"/>
              <a:ext cx="230040" cy="709560"/>
            </a:xfrm>
            <a:custGeom>
              <a:avLst/>
              <a:gdLst/>
              <a:ahLst/>
              <a:rect l="l" t="t" r="r" b="b"/>
              <a:pathLst>
                <a:path w="147" h="448">
                  <a:moveTo>
                    <a:pt x="147" y="0"/>
                  </a:moveTo>
                  <a:cubicBezTo>
                    <a:pt x="129" y="7"/>
                    <a:pt x="56" y="11"/>
                    <a:pt x="35" y="56"/>
                  </a:cubicBezTo>
                  <a:cubicBezTo>
                    <a:pt x="14" y="101"/>
                    <a:pt x="0" y="207"/>
                    <a:pt x="19" y="272"/>
                  </a:cubicBezTo>
                  <a:cubicBezTo>
                    <a:pt x="38" y="337"/>
                    <a:pt x="120" y="411"/>
                    <a:pt x="147" y="448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31840" y="3382920"/>
              <a:ext cx="214560" cy="514440"/>
            </a:xfrm>
            <a:custGeom>
              <a:avLst/>
              <a:gdLst/>
              <a:ahLst/>
              <a:rect l="l" t="t" r="r" b="b"/>
              <a:pathLst>
                <a:path w="136" h="325">
                  <a:moveTo>
                    <a:pt x="120" y="53"/>
                  </a:moveTo>
                  <a:cubicBezTo>
                    <a:pt x="104" y="50"/>
                    <a:pt x="43" y="0"/>
                    <a:pt x="24" y="21"/>
                  </a:cubicBezTo>
                  <a:cubicBezTo>
                    <a:pt x="5" y="42"/>
                    <a:pt x="0" y="133"/>
                    <a:pt x="8" y="181"/>
                  </a:cubicBezTo>
                  <a:cubicBezTo>
                    <a:pt x="16" y="229"/>
                    <a:pt x="51" y="293"/>
                    <a:pt x="72" y="309"/>
                  </a:cubicBezTo>
                  <a:cubicBezTo>
                    <a:pt x="93" y="325"/>
                    <a:pt x="123" y="284"/>
                    <a:pt x="136" y="277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0000" y="1409760"/>
              <a:ext cx="1166760" cy="2233440"/>
            </a:xfrm>
            <a:custGeom>
              <a:avLst/>
              <a:gdLst/>
              <a:ahLst/>
              <a:rect l="l" t="t" r="r" b="b"/>
              <a:pathLst>
                <a:path w="736" h="1408">
                  <a:moveTo>
                    <a:pt x="0" y="1408"/>
                  </a:moveTo>
                  <a:cubicBezTo>
                    <a:pt x="134" y="1266"/>
                    <a:pt x="269" y="1125"/>
                    <a:pt x="368" y="976"/>
                  </a:cubicBezTo>
                  <a:cubicBezTo>
                    <a:pt x="467" y="827"/>
                    <a:pt x="531" y="675"/>
                    <a:pt x="592" y="512"/>
                  </a:cubicBezTo>
                  <a:cubicBezTo>
                    <a:pt x="653" y="349"/>
                    <a:pt x="694" y="174"/>
                    <a:pt x="736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2280" y="3213000"/>
              <a:ext cx="358560" cy="938160"/>
            </a:xfrm>
            <a:custGeom>
              <a:avLst/>
              <a:gdLst/>
              <a:ahLst/>
              <a:rect l="l" t="t" r="r" b="b"/>
              <a:pathLst>
                <a:path w="227" h="592">
                  <a:moveTo>
                    <a:pt x="115" y="0"/>
                  </a:moveTo>
                  <a:cubicBezTo>
                    <a:pt x="102" y="7"/>
                    <a:pt x="54" y="11"/>
                    <a:pt x="35" y="40"/>
                  </a:cubicBezTo>
                  <a:cubicBezTo>
                    <a:pt x="16" y="69"/>
                    <a:pt x="6" y="125"/>
                    <a:pt x="3" y="176"/>
                  </a:cubicBezTo>
                  <a:cubicBezTo>
                    <a:pt x="0" y="227"/>
                    <a:pt x="0" y="292"/>
                    <a:pt x="19" y="344"/>
                  </a:cubicBezTo>
                  <a:cubicBezTo>
                    <a:pt x="38" y="396"/>
                    <a:pt x="80" y="447"/>
                    <a:pt x="115" y="488"/>
                  </a:cubicBezTo>
                  <a:cubicBezTo>
                    <a:pt x="150" y="529"/>
                    <a:pt x="204" y="570"/>
                    <a:pt x="227" y="59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2569680" y="1751400"/>
              <a:ext cx="1426680" cy="1463400"/>
              <a:chOff x="2569680" y="1751400"/>
              <a:chExt cx="1426680" cy="1463400"/>
            </a:xfrm>
          </p:grpSpPr>
          <p:pic>
            <p:nvPicPr>
              <p:cNvPr id="1377" name="" descr=""/>
              <p:cNvPicPr/>
              <p:nvPr/>
            </p:nvPicPr>
            <p:blipFill>
              <a:blip r:embed="rId4"/>
              <a:stretch/>
            </p:blipFill>
            <p:spPr>
              <a:xfrm rot="2940000">
                <a:off x="2803320" y="1922400"/>
                <a:ext cx="929160" cy="104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" descr=""/>
              <p:cNvPicPr/>
              <p:nvPr/>
            </p:nvPicPr>
            <p:blipFill>
              <a:blip r:embed="rId5"/>
              <a:stretch/>
            </p:blipFill>
            <p:spPr>
              <a:xfrm rot="2940000">
                <a:off x="2916000" y="2037600"/>
                <a:ext cx="828360" cy="104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9" name=""/>
            <p:cNvGrpSpPr/>
            <p:nvPr/>
          </p:nvGrpSpPr>
          <p:grpSpPr>
            <a:xfrm>
              <a:off x="1825200" y="1464840"/>
              <a:ext cx="1463400" cy="1430640"/>
              <a:chOff x="1825200" y="1464840"/>
              <a:chExt cx="1463400" cy="143064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6"/>
              <a:stretch/>
            </p:blipFill>
            <p:spPr>
              <a:xfrm rot="8340000">
                <a:off x="2121480" y="1645560"/>
                <a:ext cx="941040" cy="10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" descr=""/>
              <p:cNvPicPr/>
              <p:nvPr/>
            </p:nvPicPr>
            <p:blipFill>
              <a:blip r:embed="rId7"/>
              <a:stretch/>
            </p:blipFill>
            <p:spPr>
              <a:xfrm rot="8340000">
                <a:off x="2063880" y="1708920"/>
                <a:ext cx="835920" cy="1040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2" name=""/>
            <p:cNvGrpSpPr/>
            <p:nvPr/>
          </p:nvGrpSpPr>
          <p:grpSpPr>
            <a:xfrm>
              <a:off x="2747880" y="1359000"/>
              <a:ext cx="568440" cy="1191960"/>
              <a:chOff x="2747880" y="1359000"/>
              <a:chExt cx="568440" cy="1191960"/>
            </a:xfrm>
          </p:grpSpPr>
          <p:pic>
            <p:nvPicPr>
              <p:cNvPr id="13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7880" y="1384200"/>
                <a:ext cx="487440" cy="11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82880" y="1359000"/>
                <a:ext cx="433440" cy="116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85" name=""/>
          <p:cNvGrpSpPr/>
          <p:nvPr/>
        </p:nvGrpSpPr>
        <p:grpSpPr>
          <a:xfrm>
            <a:off x="-81360" y="4504320"/>
            <a:ext cx="9256680" cy="2429640"/>
            <a:chOff x="-81360" y="4504320"/>
            <a:chExt cx="9256680" cy="2429640"/>
          </a:xfrm>
        </p:grpSpPr>
        <p:grpSp>
          <p:nvGrpSpPr>
            <p:cNvPr id="1386" name=""/>
            <p:cNvGrpSpPr/>
            <p:nvPr/>
          </p:nvGrpSpPr>
          <p:grpSpPr>
            <a:xfrm>
              <a:off x="7466040" y="4504320"/>
              <a:ext cx="840960" cy="901440"/>
              <a:chOff x="7466040" y="4504320"/>
              <a:chExt cx="840960" cy="90144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7466040" y="4723920"/>
                <a:ext cx="682920" cy="681840"/>
                <a:chOff x="7466040" y="4723920"/>
                <a:chExt cx="682920" cy="681840"/>
              </a:xfrm>
            </p:grpSpPr>
            <p:pic>
              <p:nvPicPr>
                <p:cNvPr id="13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78080" y="4985640"/>
                  <a:ext cx="28512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466040" y="4723920"/>
                  <a:ext cx="68292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90" name=""/>
              <p:cNvGrpSpPr/>
              <p:nvPr/>
            </p:nvGrpSpPr>
            <p:grpSpPr>
              <a:xfrm>
                <a:off x="7537680" y="4504320"/>
                <a:ext cx="769320" cy="714960"/>
                <a:chOff x="7537680" y="4504320"/>
                <a:chExt cx="769320" cy="714960"/>
              </a:xfrm>
            </p:grpSpPr>
            <p:sp>
              <p:nvSpPr>
                <p:cNvPr id="1391" name=""/>
                <p:cNvSpPr/>
                <p:nvPr/>
              </p:nvSpPr>
              <p:spPr>
                <a:xfrm rot="18120000">
                  <a:off x="8012160" y="4622760"/>
                  <a:ext cx="21960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392" name=""/>
                <p:cNvGrpSpPr/>
                <p:nvPr/>
              </p:nvGrpSpPr>
              <p:grpSpPr>
                <a:xfrm>
                  <a:off x="7537680" y="4504320"/>
                  <a:ext cx="691560" cy="714960"/>
                  <a:chOff x="7537680" y="4504320"/>
                  <a:chExt cx="691560" cy="714960"/>
                </a:xfrm>
              </p:grpSpPr>
              <p:grpSp>
                <p:nvGrpSpPr>
                  <p:cNvPr id="1393" name=""/>
                  <p:cNvGrpSpPr/>
                  <p:nvPr/>
                </p:nvGrpSpPr>
                <p:grpSpPr>
                  <a:xfrm>
                    <a:off x="7537680" y="4504320"/>
                    <a:ext cx="691560" cy="714960"/>
                    <a:chOff x="7537680" y="4504320"/>
                    <a:chExt cx="691560" cy="714960"/>
                  </a:xfrm>
                </p:grpSpPr>
                <p:pic>
                  <p:nvPicPr>
                    <p:cNvPr id="139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19920000">
                      <a:off x="7565760" y="4618080"/>
                      <a:ext cx="54900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95" name=""/>
                    <p:cNvSpPr/>
                    <p:nvPr/>
                  </p:nvSpPr>
                  <p:spPr>
                    <a:xfrm rot="19920000">
                      <a:off x="7621560" y="4768920"/>
                      <a:ext cx="560880" cy="33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396" name=""/>
                  <p:cNvSpPr/>
                  <p:nvPr/>
                </p:nvSpPr>
                <p:spPr>
                  <a:xfrm rot="19920000">
                    <a:off x="8014680" y="474624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rot="19920000">
                    <a:off x="7947720" y="4781160"/>
                    <a:ext cx="532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rot="19920000">
                    <a:off x="7877520" y="4837680"/>
                    <a:ext cx="4320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 rot="19920000">
                    <a:off x="7880760" y="472860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rot="19920000">
                    <a:off x="7932240" y="4690080"/>
                    <a:ext cx="748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401" name=""/>
            <p:cNvGrpSpPr/>
            <p:nvPr/>
          </p:nvGrpSpPr>
          <p:grpSpPr>
            <a:xfrm>
              <a:off x="1148040" y="5901480"/>
              <a:ext cx="809640" cy="901080"/>
              <a:chOff x="1148040" y="5901480"/>
              <a:chExt cx="809640" cy="901080"/>
            </a:xfrm>
          </p:grpSpPr>
          <p:pic>
            <p:nvPicPr>
              <p:cNvPr id="1402" name="" descr=""/>
              <p:cNvPicPr/>
              <p:nvPr/>
            </p:nvPicPr>
            <p:blipFill>
              <a:blip r:embed="rId13"/>
              <a:stretch/>
            </p:blipFill>
            <p:spPr>
              <a:xfrm rot="1860000">
                <a:off x="1257120" y="6278760"/>
                <a:ext cx="251280" cy="49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" descr=""/>
              <p:cNvPicPr/>
              <p:nvPr/>
            </p:nvPicPr>
            <p:blipFill>
              <a:blip r:embed="rId14"/>
              <a:stretch/>
            </p:blipFill>
            <p:spPr>
              <a:xfrm rot="1860000">
                <a:off x="1295280" y="6026400"/>
                <a:ext cx="599760" cy="40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4" name=""/>
            <p:cNvGrpSpPr/>
            <p:nvPr/>
          </p:nvGrpSpPr>
          <p:grpSpPr>
            <a:xfrm>
              <a:off x="762120" y="5790240"/>
              <a:ext cx="760320" cy="910080"/>
              <a:chOff x="762120" y="5790240"/>
              <a:chExt cx="760320" cy="910080"/>
            </a:xfrm>
          </p:grpSpPr>
          <p:pic>
            <p:nvPicPr>
              <p:cNvPr id="1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68400" y="6139080"/>
                <a:ext cx="317520" cy="56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2120" y="5790240"/>
                <a:ext cx="760320" cy="46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7" name=""/>
            <p:cNvGrpSpPr/>
            <p:nvPr/>
          </p:nvGrpSpPr>
          <p:grpSpPr>
            <a:xfrm>
              <a:off x="6929280" y="5783400"/>
              <a:ext cx="150840" cy="77760"/>
              <a:chOff x="6929280" y="5783400"/>
              <a:chExt cx="150840" cy="77760"/>
            </a:xfrm>
          </p:grpSpPr>
          <p:sp>
            <p:nvSpPr>
              <p:cNvPr id="1408" name=""/>
              <p:cNvSpPr/>
              <p:nvPr/>
            </p:nvSpPr>
            <p:spPr>
              <a:xfrm rot="180000">
                <a:off x="6931080" y="57848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80000">
                <a:off x="7007040" y="5789880"/>
                <a:ext cx="71280" cy="630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7292880" y="5508360"/>
              <a:ext cx="642240" cy="273240"/>
              <a:chOff x="7292880" y="5508360"/>
              <a:chExt cx="642240" cy="273240"/>
            </a:xfrm>
          </p:grpSpPr>
          <p:sp>
            <p:nvSpPr>
              <p:cNvPr id="1411" name=""/>
              <p:cNvSpPr/>
              <p:nvPr/>
            </p:nvSpPr>
            <p:spPr>
              <a:xfrm rot="420000">
                <a:off x="7305840" y="5525280"/>
                <a:ext cx="291960" cy="2300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420000">
                <a:off x="7621920" y="5569560"/>
                <a:ext cx="302040" cy="194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6243480" y="5936040"/>
              <a:ext cx="171360" cy="79200"/>
              <a:chOff x="6243480" y="5936040"/>
              <a:chExt cx="171360" cy="79200"/>
            </a:xfrm>
          </p:grpSpPr>
          <p:sp>
            <p:nvSpPr>
              <p:cNvPr id="1414" name=""/>
              <p:cNvSpPr/>
              <p:nvPr/>
            </p:nvSpPr>
            <p:spPr>
              <a:xfrm rot="180000">
                <a:off x="6245280" y="5937840"/>
                <a:ext cx="7740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80000">
                <a:off x="6332400" y="5942160"/>
                <a:ext cx="8064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7921440" y="5783400"/>
              <a:ext cx="171360" cy="81360"/>
              <a:chOff x="7921440" y="5783400"/>
              <a:chExt cx="171360" cy="81360"/>
            </a:xfrm>
          </p:grpSpPr>
          <p:sp>
            <p:nvSpPr>
              <p:cNvPr id="1417" name=""/>
              <p:cNvSpPr/>
              <p:nvPr/>
            </p:nvSpPr>
            <p:spPr>
              <a:xfrm rot="180000">
                <a:off x="7923240" y="5785200"/>
                <a:ext cx="77400" cy="774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80000">
                <a:off x="8010360" y="5789520"/>
                <a:ext cx="80640" cy="644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2415960" y="6409440"/>
              <a:ext cx="642600" cy="273600"/>
              <a:chOff x="2415960" y="6409440"/>
              <a:chExt cx="642600" cy="273600"/>
            </a:xfrm>
          </p:grpSpPr>
          <p:sp>
            <p:nvSpPr>
              <p:cNvPr id="1420" name=""/>
              <p:cNvSpPr/>
              <p:nvPr/>
            </p:nvSpPr>
            <p:spPr>
              <a:xfrm rot="420000">
                <a:off x="2428560" y="6426360"/>
                <a:ext cx="292320" cy="2260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420000">
                <a:off x="2745720" y="6472080"/>
                <a:ext cx="302040" cy="1933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6624360" y="5935680"/>
              <a:ext cx="171720" cy="79200"/>
              <a:chOff x="6624360" y="5935680"/>
              <a:chExt cx="171720" cy="79200"/>
            </a:xfrm>
          </p:grpSpPr>
          <p:sp>
            <p:nvSpPr>
              <p:cNvPr id="1423" name=""/>
              <p:cNvSpPr/>
              <p:nvPr/>
            </p:nvSpPr>
            <p:spPr>
              <a:xfrm rot="180000">
                <a:off x="6626160" y="5937480"/>
                <a:ext cx="7776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80000">
                <a:off x="6713280" y="594216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7157880" y="5783400"/>
              <a:ext cx="150840" cy="77760"/>
              <a:chOff x="7157880" y="5783400"/>
              <a:chExt cx="150840" cy="77760"/>
            </a:xfrm>
          </p:grpSpPr>
          <p:sp>
            <p:nvSpPr>
              <p:cNvPr id="1426" name=""/>
              <p:cNvSpPr/>
              <p:nvPr/>
            </p:nvSpPr>
            <p:spPr>
              <a:xfrm rot="180000">
                <a:off x="7159680" y="5784840"/>
                <a:ext cx="68040" cy="741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80000">
                <a:off x="7235640" y="5789880"/>
                <a:ext cx="71280" cy="630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8211960" y="5861160"/>
              <a:ext cx="169920" cy="79200"/>
              <a:chOff x="8211960" y="5861160"/>
              <a:chExt cx="169920" cy="79200"/>
            </a:xfrm>
          </p:grpSpPr>
          <p:sp>
            <p:nvSpPr>
              <p:cNvPr id="1429" name=""/>
              <p:cNvSpPr/>
              <p:nvPr/>
            </p:nvSpPr>
            <p:spPr>
              <a:xfrm rot="180000">
                <a:off x="8213760" y="5862960"/>
                <a:ext cx="7812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80000">
                <a:off x="8299800" y="5867640"/>
                <a:ext cx="8028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6167160" y="5783040"/>
              <a:ext cx="171720" cy="79560"/>
              <a:chOff x="6167160" y="5783040"/>
              <a:chExt cx="171720" cy="79560"/>
            </a:xfrm>
          </p:grpSpPr>
          <p:sp>
            <p:nvSpPr>
              <p:cNvPr id="1432" name=""/>
              <p:cNvSpPr/>
              <p:nvPr/>
            </p:nvSpPr>
            <p:spPr>
              <a:xfrm rot="180000">
                <a:off x="6168960" y="578484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80000">
                <a:off x="6256080" y="5789520"/>
                <a:ext cx="8100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6700680" y="5783400"/>
              <a:ext cx="171360" cy="79560"/>
              <a:chOff x="6700680" y="5783400"/>
              <a:chExt cx="171360" cy="79560"/>
            </a:xfrm>
          </p:grpSpPr>
          <p:sp>
            <p:nvSpPr>
              <p:cNvPr id="1435" name=""/>
              <p:cNvSpPr/>
              <p:nvPr/>
            </p:nvSpPr>
            <p:spPr>
              <a:xfrm rot="180000">
                <a:off x="6702480" y="578520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80000">
                <a:off x="6789600" y="5789520"/>
                <a:ext cx="8064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6319800" y="5783400"/>
              <a:ext cx="171360" cy="79560"/>
              <a:chOff x="6319800" y="5783400"/>
              <a:chExt cx="171360" cy="79560"/>
            </a:xfrm>
          </p:grpSpPr>
          <p:sp>
            <p:nvSpPr>
              <p:cNvPr id="1438" name=""/>
              <p:cNvSpPr/>
              <p:nvPr/>
            </p:nvSpPr>
            <p:spPr>
              <a:xfrm rot="180000">
                <a:off x="6321600" y="578520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80000">
                <a:off x="6408720" y="5789520"/>
                <a:ext cx="80640" cy="640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7081560" y="5935680"/>
              <a:ext cx="171720" cy="79200"/>
              <a:chOff x="7081560" y="5935680"/>
              <a:chExt cx="171720" cy="79200"/>
            </a:xfrm>
          </p:grpSpPr>
          <p:sp>
            <p:nvSpPr>
              <p:cNvPr id="1441" name=""/>
              <p:cNvSpPr/>
              <p:nvPr/>
            </p:nvSpPr>
            <p:spPr>
              <a:xfrm rot="180000">
                <a:off x="7083360" y="5937480"/>
                <a:ext cx="77760" cy="752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80000">
                <a:off x="7170480" y="594216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56160" y="6391440"/>
              <a:ext cx="1607040" cy="509760"/>
              <a:chOff x="56160" y="6391440"/>
              <a:chExt cx="1607040" cy="50976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56160" y="6391440"/>
                <a:ext cx="951840" cy="386280"/>
                <a:chOff x="56160" y="6391440"/>
                <a:chExt cx="951840" cy="386280"/>
              </a:xfrm>
            </p:grpSpPr>
            <p:grpSp>
              <p:nvGrpSpPr>
                <p:cNvPr id="1445" name=""/>
                <p:cNvGrpSpPr/>
                <p:nvPr/>
              </p:nvGrpSpPr>
              <p:grpSpPr>
                <a:xfrm>
                  <a:off x="56160" y="6436440"/>
                  <a:ext cx="472320" cy="341280"/>
                  <a:chOff x="56160" y="6436440"/>
                  <a:chExt cx="472320" cy="341280"/>
                </a:xfrm>
              </p:grpSpPr>
              <p:grpSp>
                <p:nvGrpSpPr>
                  <p:cNvPr id="1446" name=""/>
                  <p:cNvGrpSpPr/>
                  <p:nvPr/>
                </p:nvGrpSpPr>
                <p:grpSpPr>
                  <a:xfrm>
                    <a:off x="366840" y="6436440"/>
                    <a:ext cx="161640" cy="237960"/>
                    <a:chOff x="366840" y="6436440"/>
                    <a:chExt cx="161640" cy="237960"/>
                  </a:xfrm>
                </p:grpSpPr>
                <p:sp>
                  <p:nvSpPr>
                    <p:cNvPr id="1447" name=""/>
                    <p:cNvSpPr/>
                    <p:nvPr/>
                  </p:nvSpPr>
                  <p:spPr>
                    <a:xfrm flipH="1" rot="21420000">
                      <a:off x="371880" y="6440040"/>
                      <a:ext cx="150480" cy="21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 flipH="1" rot="21420000">
                      <a:off x="379080" y="6443280"/>
                      <a:ext cx="9756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49" name=""/>
                  <p:cNvGrpSpPr/>
                  <p:nvPr/>
                </p:nvGrpSpPr>
                <p:grpSpPr>
                  <a:xfrm>
                    <a:off x="248400" y="6455520"/>
                    <a:ext cx="210960" cy="267840"/>
                    <a:chOff x="248400" y="6455520"/>
                    <a:chExt cx="210960" cy="267840"/>
                  </a:xfrm>
                </p:grpSpPr>
                <p:sp>
                  <p:nvSpPr>
                    <p:cNvPr id="1450" name=""/>
                    <p:cNvSpPr/>
                    <p:nvPr/>
                  </p:nvSpPr>
                  <p:spPr>
                    <a:xfrm flipH="1" rot="21000000">
                      <a:off x="266400" y="6468840"/>
                      <a:ext cx="17424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 flipH="1" rot="21000000">
                      <a:off x="273960" y="6477480"/>
                      <a:ext cx="11304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56160" y="6456600"/>
                    <a:ext cx="310680" cy="321120"/>
                    <a:chOff x="56160" y="6456600"/>
                    <a:chExt cx="310680" cy="321120"/>
                  </a:xfrm>
                </p:grpSpPr>
                <p:sp>
                  <p:nvSpPr>
                    <p:cNvPr id="1453" name=""/>
                    <p:cNvSpPr/>
                    <p:nvPr/>
                  </p:nvSpPr>
                  <p:spPr>
                    <a:xfrm flipH="1" rot="19860000">
                      <a:off x="99360" y="6495840"/>
                      <a:ext cx="22356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 flipH="1" rot="19860000">
                      <a:off x="119160" y="6507720"/>
                      <a:ext cx="14472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527040" y="6391440"/>
                  <a:ext cx="480960" cy="352440"/>
                  <a:chOff x="527040" y="6391440"/>
                  <a:chExt cx="480960" cy="352440"/>
                </a:xfrm>
              </p:grpSpPr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27040" y="6391440"/>
                    <a:ext cx="175320" cy="246240"/>
                    <a:chOff x="527040" y="6391440"/>
                    <a:chExt cx="175320" cy="24624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 rot="300000">
                      <a:off x="536040" y="6397560"/>
                      <a:ext cx="15696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 rot="300000">
                      <a:off x="584280" y="6402600"/>
                      <a:ext cx="1015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595440" y="6411240"/>
                    <a:ext cx="224280" cy="274680"/>
                    <a:chOff x="595440" y="6411240"/>
                    <a:chExt cx="224280" cy="274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 rot="720000">
                      <a:off x="617040" y="6427440"/>
                      <a:ext cx="180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 rot="720000">
                      <a:off x="672840" y="6435720"/>
                      <a:ext cx="11700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690120" y="6420600"/>
                    <a:ext cx="317880" cy="323280"/>
                    <a:chOff x="690120" y="6420600"/>
                    <a:chExt cx="317880" cy="32328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 rot="1860000">
                      <a:off x="734760" y="6462360"/>
                      <a:ext cx="22824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 rot="1860000">
                      <a:off x="797400" y="6472440"/>
                      <a:ext cx="1476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465" name=""/>
              <p:cNvGrpSpPr/>
              <p:nvPr/>
            </p:nvGrpSpPr>
            <p:grpSpPr>
              <a:xfrm>
                <a:off x="740520" y="6436080"/>
                <a:ext cx="922680" cy="465120"/>
                <a:chOff x="740520" y="6436080"/>
                <a:chExt cx="922680" cy="465120"/>
              </a:xfrm>
            </p:grpSpPr>
            <p:grpSp>
              <p:nvGrpSpPr>
                <p:cNvPr id="1466" name=""/>
                <p:cNvGrpSpPr/>
                <p:nvPr/>
              </p:nvGrpSpPr>
              <p:grpSpPr>
                <a:xfrm>
                  <a:off x="1160640" y="6490800"/>
                  <a:ext cx="502560" cy="410400"/>
                  <a:chOff x="1160640" y="6490800"/>
                  <a:chExt cx="502560" cy="410400"/>
                </a:xfrm>
              </p:grpSpPr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1160640" y="6490800"/>
                    <a:ext cx="237600" cy="281520"/>
                    <a:chOff x="1160640" y="6490800"/>
                    <a:chExt cx="237600" cy="28152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840000">
                      <a:off x="1185840" y="6509880"/>
                      <a:ext cx="186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840000">
                      <a:off x="1240920" y="6516360"/>
                      <a:ext cx="12096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1225440" y="6527880"/>
                    <a:ext cx="275760" cy="303120"/>
                    <a:chOff x="1225440" y="6527880"/>
                    <a:chExt cx="275760" cy="303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260000">
                      <a:off x="1260000" y="6557040"/>
                      <a:ext cx="20628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260000">
                      <a:off x="1319400" y="6567480"/>
                      <a:ext cx="13356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1328760" y="6567840"/>
                    <a:ext cx="334440" cy="333360"/>
                    <a:chOff x="1328760" y="6567840"/>
                    <a:chExt cx="334440" cy="33336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2400000">
                      <a:off x="1374480" y="6618600"/>
                      <a:ext cx="24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2400000">
                      <a:off x="1429200" y="6633000"/>
                      <a:ext cx="15696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740520" y="6436080"/>
                  <a:ext cx="474840" cy="303480"/>
                  <a:chOff x="740520" y="6436080"/>
                  <a:chExt cx="474840" cy="30348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1027080" y="6436080"/>
                    <a:ext cx="188280" cy="247680"/>
                    <a:chOff x="1027080" y="6436080"/>
                    <a:chExt cx="188280" cy="24768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 flipH="1" rot="420000">
                      <a:off x="1039320" y="6445080"/>
                      <a:ext cx="16236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 flipH="1" rot="420000">
                      <a:off x="1046880" y="6444720"/>
                      <a:ext cx="1051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950040" y="6467400"/>
                    <a:ext cx="146880" cy="228240"/>
                    <a:chOff x="950040" y="6467400"/>
                    <a:chExt cx="146880" cy="22824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 flipH="1" rot="21540000">
                      <a:off x="951480" y="6468480"/>
                      <a:ext cx="1432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 flipH="1" rot="21540000">
                      <a:off x="957960" y="6472800"/>
                      <a:ext cx="9288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83" name=""/>
                  <p:cNvGrpSpPr/>
                  <p:nvPr/>
                </p:nvGrpSpPr>
                <p:grpSpPr>
                  <a:xfrm>
                    <a:off x="740520" y="6441120"/>
                    <a:ext cx="270000" cy="298440"/>
                    <a:chOff x="740520" y="6441120"/>
                    <a:chExt cx="270000" cy="298440"/>
                  </a:xfrm>
                </p:grpSpPr>
                <p:sp>
                  <p:nvSpPr>
                    <p:cNvPr id="1484" name=""/>
                    <p:cNvSpPr/>
                    <p:nvPr/>
                  </p:nvSpPr>
                  <p:spPr>
                    <a:xfrm flipH="1" rot="20400000">
                      <a:off x="774360" y="6468480"/>
                      <a:ext cx="20196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 flipH="1" rot="20400000">
                      <a:off x="789480" y="6476760"/>
                      <a:ext cx="13104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86" name=""/>
            <p:cNvGrpSpPr/>
            <p:nvPr/>
          </p:nvGrpSpPr>
          <p:grpSpPr>
            <a:xfrm>
              <a:off x="3621240" y="6309360"/>
              <a:ext cx="1841760" cy="468720"/>
              <a:chOff x="3621240" y="6309360"/>
              <a:chExt cx="1841760" cy="468720"/>
            </a:xfrm>
          </p:grpSpPr>
          <p:grpSp>
            <p:nvGrpSpPr>
              <p:cNvPr id="1487" name=""/>
              <p:cNvGrpSpPr/>
              <p:nvPr/>
            </p:nvGrpSpPr>
            <p:grpSpPr>
              <a:xfrm>
                <a:off x="3621240" y="6309360"/>
                <a:ext cx="1072800" cy="468720"/>
                <a:chOff x="3621240" y="6309360"/>
                <a:chExt cx="1072800" cy="468720"/>
              </a:xfrm>
            </p:grpSpPr>
            <p:grpSp>
              <p:nvGrpSpPr>
                <p:cNvPr id="1488" name=""/>
                <p:cNvGrpSpPr/>
                <p:nvPr/>
              </p:nvGrpSpPr>
              <p:grpSpPr>
                <a:xfrm>
                  <a:off x="3621240" y="6352200"/>
                  <a:ext cx="559440" cy="425880"/>
                  <a:chOff x="3621240" y="6352200"/>
                  <a:chExt cx="559440" cy="425880"/>
                </a:xfrm>
              </p:grpSpPr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3955320" y="6352200"/>
                    <a:ext cx="225360" cy="293760"/>
                    <a:chOff x="3955320" y="6352200"/>
                    <a:chExt cx="225360" cy="29376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 flipH="1" rot="21120000">
                      <a:off x="3971880" y="636408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 flipH="1" rot="21120000">
                      <a:off x="3980880" y="63712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3822480" y="6382080"/>
                    <a:ext cx="281520" cy="324000"/>
                    <a:chOff x="3822480" y="6382080"/>
                    <a:chExt cx="281520" cy="32400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 flipH="1" rot="20640000">
                      <a:off x="3853800" y="6406920"/>
                      <a:ext cx="21816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 flipH="1" rot="20640000">
                      <a:off x="3871800" y="641700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3621240" y="6405840"/>
                    <a:ext cx="369720" cy="372240"/>
                    <a:chOff x="3621240" y="6405840"/>
                    <a:chExt cx="369720" cy="37224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 flipH="1" rot="19560000">
                      <a:off x="3672360" y="645732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 flipH="1" rot="19560000">
                      <a:off x="3702240" y="6473520"/>
                      <a:ext cx="17100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498" name=""/>
                <p:cNvGrpSpPr/>
                <p:nvPr/>
              </p:nvGrpSpPr>
              <p:grpSpPr>
                <a:xfrm>
                  <a:off x="4168080" y="6309360"/>
                  <a:ext cx="525960" cy="358200"/>
                  <a:chOff x="4168080" y="6309360"/>
                  <a:chExt cx="525960" cy="358200"/>
                </a:xfrm>
              </p:grpSpPr>
              <p:grpSp>
                <p:nvGrpSpPr>
                  <p:cNvPr id="1499" name=""/>
                  <p:cNvGrpSpPr/>
                  <p:nvPr/>
                </p:nvGrpSpPr>
                <p:grpSpPr>
                  <a:xfrm>
                    <a:off x="4168080" y="6309360"/>
                    <a:ext cx="167040" cy="258840"/>
                    <a:chOff x="4168080" y="6309360"/>
                    <a:chExt cx="167040" cy="258840"/>
                  </a:xfrm>
                </p:grpSpPr>
                <p:sp>
                  <p:nvSpPr>
                    <p:cNvPr id="1500" name=""/>
                    <p:cNvSpPr/>
                    <p:nvPr/>
                  </p:nvSpPr>
                  <p:spPr>
                    <a:xfrm rot="21540000">
                      <a:off x="4169880" y="6310800"/>
                      <a:ext cx="16272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 rot="21540000">
                      <a:off x="4219920" y="631404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02" name=""/>
                  <p:cNvGrpSpPr/>
                  <p:nvPr/>
                </p:nvGrpSpPr>
                <p:grpSpPr>
                  <a:xfrm>
                    <a:off x="4254120" y="6325560"/>
                    <a:ext cx="213480" cy="285840"/>
                    <a:chOff x="4254120" y="6325560"/>
                    <a:chExt cx="213480" cy="285840"/>
                  </a:xfrm>
                </p:grpSpPr>
                <p:sp>
                  <p:nvSpPr>
                    <p:cNvPr id="1503" name=""/>
                    <p:cNvSpPr/>
                    <p:nvPr/>
                  </p:nvSpPr>
                  <p:spPr>
                    <a:xfrm rot="420000">
                      <a:off x="4268520" y="6335640"/>
                      <a:ext cx="184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 rot="420000">
                      <a:off x="4321440" y="6342120"/>
                      <a:ext cx="11880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05" name=""/>
                  <p:cNvGrpSpPr/>
                  <p:nvPr/>
                </p:nvGrpSpPr>
                <p:grpSpPr>
                  <a:xfrm>
                    <a:off x="4359600" y="6314400"/>
                    <a:ext cx="334440" cy="353160"/>
                    <a:chOff x="4359600" y="6314400"/>
                    <a:chExt cx="334440" cy="353160"/>
                  </a:xfrm>
                </p:grpSpPr>
                <p:sp>
                  <p:nvSpPr>
                    <p:cNvPr id="1506" name=""/>
                    <p:cNvSpPr/>
                    <p:nvPr/>
                  </p:nvSpPr>
                  <p:spPr>
                    <a:xfrm rot="1500000">
                      <a:off x="4404240" y="6353280"/>
                      <a:ext cx="24444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 rot="1500000">
                      <a:off x="4469760" y="6365160"/>
                      <a:ext cx="15768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508" name=""/>
              <p:cNvGrpSpPr/>
              <p:nvPr/>
            </p:nvGrpSpPr>
            <p:grpSpPr>
              <a:xfrm>
                <a:off x="4390560" y="6309360"/>
                <a:ext cx="1072440" cy="468720"/>
                <a:chOff x="4390560" y="6309360"/>
                <a:chExt cx="1072440" cy="468720"/>
              </a:xfrm>
            </p:grpSpPr>
            <p:grpSp>
              <p:nvGrpSpPr>
                <p:cNvPr id="1509" name=""/>
                <p:cNvGrpSpPr/>
                <p:nvPr/>
              </p:nvGrpSpPr>
              <p:grpSpPr>
                <a:xfrm>
                  <a:off x="4906440" y="6352200"/>
                  <a:ext cx="556560" cy="425880"/>
                  <a:chOff x="4906440" y="6352200"/>
                  <a:chExt cx="556560" cy="425880"/>
                </a:xfrm>
              </p:grpSpPr>
              <p:grpSp>
                <p:nvGrpSpPr>
                  <p:cNvPr id="1510" name=""/>
                  <p:cNvGrpSpPr/>
                  <p:nvPr/>
                </p:nvGrpSpPr>
                <p:grpSpPr>
                  <a:xfrm>
                    <a:off x="4906440" y="6352200"/>
                    <a:ext cx="225000" cy="293760"/>
                    <a:chOff x="4906440" y="6352200"/>
                    <a:chExt cx="225000" cy="293760"/>
                  </a:xfrm>
                </p:grpSpPr>
                <p:sp>
                  <p:nvSpPr>
                    <p:cNvPr id="1511" name=""/>
                    <p:cNvSpPr/>
                    <p:nvPr/>
                  </p:nvSpPr>
                  <p:spPr>
                    <a:xfrm rot="480000">
                      <a:off x="4923000" y="636408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 rot="480000">
                      <a:off x="4981680" y="63712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4980240" y="6381720"/>
                    <a:ext cx="281520" cy="324360"/>
                    <a:chOff x="4980240" y="6381720"/>
                    <a:chExt cx="281520" cy="32436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 rot="960000">
                      <a:off x="5011200" y="6406560"/>
                      <a:ext cx="2188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 rot="960000">
                      <a:off x="5077440" y="6417000"/>
                      <a:ext cx="14184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93280" y="6405840"/>
                    <a:ext cx="369720" cy="372240"/>
                    <a:chOff x="5093280" y="6405840"/>
                    <a:chExt cx="369720" cy="37224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 rot="2040000">
                      <a:off x="5144760" y="645732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 rot="2040000">
                      <a:off x="5212800" y="6473160"/>
                      <a:ext cx="17172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4390560" y="6309360"/>
                  <a:ext cx="526320" cy="358200"/>
                  <a:chOff x="4390560" y="6309360"/>
                  <a:chExt cx="526320" cy="358200"/>
                </a:xfrm>
              </p:grpSpPr>
              <p:grpSp>
                <p:nvGrpSpPr>
                  <p:cNvPr id="1520" name=""/>
                  <p:cNvGrpSpPr/>
                  <p:nvPr/>
                </p:nvGrpSpPr>
                <p:grpSpPr>
                  <a:xfrm>
                    <a:off x="4749120" y="6309360"/>
                    <a:ext cx="167760" cy="258840"/>
                    <a:chOff x="4749120" y="6309360"/>
                    <a:chExt cx="167760" cy="258840"/>
                  </a:xfrm>
                </p:grpSpPr>
                <p:sp>
                  <p:nvSpPr>
                    <p:cNvPr id="1521" name=""/>
                    <p:cNvSpPr/>
                    <p:nvPr/>
                  </p:nvSpPr>
                  <p:spPr>
                    <a:xfrm flipH="1" rot="60000">
                      <a:off x="4750920" y="6310440"/>
                      <a:ext cx="16344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 flipH="1" rot="60000">
                      <a:off x="4756320" y="6314040"/>
                      <a:ext cx="10548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23" name=""/>
                  <p:cNvGrpSpPr/>
                  <p:nvPr/>
                </p:nvGrpSpPr>
                <p:grpSpPr>
                  <a:xfrm>
                    <a:off x="4615920" y="6325560"/>
                    <a:ext cx="214560" cy="288000"/>
                    <a:chOff x="4615920" y="6325560"/>
                    <a:chExt cx="214560" cy="288000"/>
                  </a:xfrm>
                </p:grpSpPr>
                <p:sp>
                  <p:nvSpPr>
                    <p:cNvPr id="1524" name=""/>
                    <p:cNvSpPr/>
                    <p:nvPr/>
                  </p:nvSpPr>
                  <p:spPr>
                    <a:xfrm flipH="1" rot="21180000">
                      <a:off x="4630320" y="633564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 flipH="1" rot="21180000">
                      <a:off x="4636800" y="634212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390560" y="6314040"/>
                    <a:ext cx="335520" cy="353520"/>
                    <a:chOff x="4390560" y="6314040"/>
                    <a:chExt cx="335520" cy="35352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flipH="1" rot="20100000">
                      <a:off x="4435200" y="6353280"/>
                      <a:ext cx="24552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flipH="1" rot="20100000">
                      <a:off x="4454280" y="6365520"/>
                      <a:ext cx="1573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29" name=""/>
            <p:cNvGrpSpPr/>
            <p:nvPr/>
          </p:nvGrpSpPr>
          <p:grpSpPr>
            <a:xfrm>
              <a:off x="5715000" y="6323040"/>
              <a:ext cx="684360" cy="218880"/>
              <a:chOff x="5715000" y="6323040"/>
              <a:chExt cx="684360" cy="218880"/>
            </a:xfrm>
          </p:grpSpPr>
          <p:sp>
            <p:nvSpPr>
              <p:cNvPr id="1530" name=""/>
              <p:cNvSpPr/>
              <p:nvPr/>
            </p:nvSpPr>
            <p:spPr>
              <a:xfrm>
                <a:off x="5715000" y="6323040"/>
                <a:ext cx="322200" cy="2188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066000" y="6324480"/>
                <a:ext cx="333360" cy="185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645000" y="5777280"/>
              <a:ext cx="162000" cy="79200"/>
              <a:chOff x="3645000" y="5777280"/>
              <a:chExt cx="162000" cy="79200"/>
            </a:xfrm>
          </p:grpSpPr>
          <p:sp>
            <p:nvSpPr>
              <p:cNvPr id="1533" name=""/>
              <p:cNvSpPr/>
              <p:nvPr/>
            </p:nvSpPr>
            <p:spPr>
              <a:xfrm>
                <a:off x="3645000" y="57772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28880" y="577728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259240" y="6247440"/>
              <a:ext cx="163800" cy="80640"/>
              <a:chOff x="5259240" y="6247440"/>
              <a:chExt cx="163800" cy="80640"/>
            </a:xfrm>
          </p:grpSpPr>
          <p:sp>
            <p:nvSpPr>
              <p:cNvPr id="1536" name=""/>
              <p:cNvSpPr/>
              <p:nvPr/>
            </p:nvSpPr>
            <p:spPr>
              <a:xfrm>
                <a:off x="5259240" y="62474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43480" y="624744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5030640" y="6298200"/>
              <a:ext cx="163800" cy="80640"/>
              <a:chOff x="5030640" y="6298200"/>
              <a:chExt cx="163800" cy="80640"/>
            </a:xfrm>
          </p:grpSpPr>
          <p:sp>
            <p:nvSpPr>
              <p:cNvPr id="1539" name=""/>
              <p:cNvSpPr/>
              <p:nvPr/>
            </p:nvSpPr>
            <p:spPr>
              <a:xfrm>
                <a:off x="5030640" y="629820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14880" y="629820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4865760" y="6323040"/>
              <a:ext cx="162000" cy="79200"/>
              <a:chOff x="4865760" y="6323040"/>
              <a:chExt cx="162000" cy="79200"/>
            </a:xfrm>
          </p:grpSpPr>
          <p:sp>
            <p:nvSpPr>
              <p:cNvPr id="1542" name=""/>
              <p:cNvSpPr/>
              <p:nvPr/>
            </p:nvSpPr>
            <p:spPr>
              <a:xfrm>
                <a:off x="4865760" y="632304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50000" y="63230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4865760" y="6221880"/>
              <a:ext cx="162000" cy="79200"/>
              <a:chOff x="4865760" y="6221880"/>
              <a:chExt cx="162000" cy="79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865760" y="62218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950000" y="62218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4941720" y="6158520"/>
              <a:ext cx="163800" cy="80640"/>
              <a:chOff x="4941720" y="6158520"/>
              <a:chExt cx="163800" cy="80640"/>
            </a:xfrm>
          </p:grpSpPr>
          <p:sp>
            <p:nvSpPr>
              <p:cNvPr id="1548" name=""/>
              <p:cNvSpPr/>
              <p:nvPr/>
            </p:nvSpPr>
            <p:spPr>
              <a:xfrm>
                <a:off x="4941720" y="61585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025960" y="615852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5005440" y="6132960"/>
              <a:ext cx="162000" cy="79200"/>
              <a:chOff x="5005440" y="6132960"/>
              <a:chExt cx="162000" cy="79200"/>
            </a:xfrm>
          </p:grpSpPr>
          <p:sp>
            <p:nvSpPr>
              <p:cNvPr id="1551" name=""/>
              <p:cNvSpPr/>
              <p:nvPr/>
            </p:nvSpPr>
            <p:spPr>
              <a:xfrm>
                <a:off x="5005440" y="6132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089680" y="61329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5081760" y="6094800"/>
              <a:ext cx="161640" cy="79200"/>
              <a:chOff x="5081760" y="6094800"/>
              <a:chExt cx="161640" cy="79200"/>
            </a:xfrm>
          </p:grpSpPr>
          <p:sp>
            <p:nvSpPr>
              <p:cNvPr id="1554" name=""/>
              <p:cNvSpPr/>
              <p:nvPr/>
            </p:nvSpPr>
            <p:spPr>
              <a:xfrm>
                <a:off x="5081760" y="60948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165640" y="60948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5284800" y="6018840"/>
              <a:ext cx="163440" cy="80640"/>
              <a:chOff x="5284800" y="6018840"/>
              <a:chExt cx="163440" cy="80640"/>
            </a:xfrm>
          </p:grpSpPr>
          <p:sp>
            <p:nvSpPr>
              <p:cNvPr id="1557" name=""/>
              <p:cNvSpPr/>
              <p:nvPr/>
            </p:nvSpPr>
            <p:spPr>
              <a:xfrm>
                <a:off x="5284800" y="60188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369040" y="601884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747960" y="6158520"/>
              <a:ext cx="163800" cy="80640"/>
              <a:chOff x="3747960" y="6158520"/>
              <a:chExt cx="163800" cy="80640"/>
            </a:xfrm>
          </p:grpSpPr>
          <p:sp>
            <p:nvSpPr>
              <p:cNvPr id="1560" name=""/>
              <p:cNvSpPr/>
              <p:nvPr/>
            </p:nvSpPr>
            <p:spPr>
              <a:xfrm>
                <a:off x="3747960" y="615852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32200" y="615852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6161040" y="5887080"/>
              <a:ext cx="163440" cy="80640"/>
              <a:chOff x="6161040" y="5887080"/>
              <a:chExt cx="163440" cy="80640"/>
            </a:xfrm>
          </p:grpSpPr>
          <p:sp>
            <p:nvSpPr>
              <p:cNvPr id="1563" name=""/>
              <p:cNvSpPr/>
              <p:nvPr/>
            </p:nvSpPr>
            <p:spPr>
              <a:xfrm>
                <a:off x="6161040" y="58870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45280" y="588708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5105520" y="5637960"/>
              <a:ext cx="161640" cy="79200"/>
              <a:chOff x="5105520" y="5637960"/>
              <a:chExt cx="161640" cy="79200"/>
            </a:xfrm>
          </p:grpSpPr>
          <p:sp>
            <p:nvSpPr>
              <p:cNvPr id="1566" name=""/>
              <p:cNvSpPr/>
              <p:nvPr/>
            </p:nvSpPr>
            <p:spPr>
              <a:xfrm>
                <a:off x="5105520" y="563796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189400" y="56379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981760" y="5506200"/>
              <a:ext cx="162000" cy="79200"/>
              <a:chOff x="5981760" y="5506200"/>
              <a:chExt cx="162000" cy="79200"/>
            </a:xfrm>
          </p:grpSpPr>
          <p:sp>
            <p:nvSpPr>
              <p:cNvPr id="1569" name=""/>
              <p:cNvSpPr/>
              <p:nvPr/>
            </p:nvSpPr>
            <p:spPr>
              <a:xfrm>
                <a:off x="5981760" y="55062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66000" y="5506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3276720" y="6373800"/>
              <a:ext cx="161640" cy="79200"/>
              <a:chOff x="3276720" y="6373800"/>
              <a:chExt cx="161640" cy="79200"/>
            </a:xfrm>
          </p:grpSpPr>
          <p:sp>
            <p:nvSpPr>
              <p:cNvPr id="1572" name=""/>
              <p:cNvSpPr/>
              <p:nvPr/>
            </p:nvSpPr>
            <p:spPr>
              <a:xfrm>
                <a:off x="3276720" y="63738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360600" y="63738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769080" y="6678720"/>
              <a:ext cx="163440" cy="79200"/>
              <a:chOff x="6769080" y="6678720"/>
              <a:chExt cx="163440" cy="79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769080" y="667872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53320" y="66787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6603840" y="6704280"/>
              <a:ext cx="163800" cy="80640"/>
              <a:chOff x="6603840" y="6704280"/>
              <a:chExt cx="163800" cy="80640"/>
            </a:xfrm>
          </p:grpSpPr>
          <p:sp>
            <p:nvSpPr>
              <p:cNvPr id="1578" name=""/>
              <p:cNvSpPr/>
              <p:nvPr/>
            </p:nvSpPr>
            <p:spPr>
              <a:xfrm>
                <a:off x="6603840" y="67042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688080" y="670428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603840" y="6602400"/>
              <a:ext cx="163800" cy="79200"/>
              <a:chOff x="6603840" y="6602400"/>
              <a:chExt cx="163800" cy="79200"/>
            </a:xfrm>
          </p:grpSpPr>
          <p:sp>
            <p:nvSpPr>
              <p:cNvPr id="1581" name=""/>
              <p:cNvSpPr/>
              <p:nvPr/>
            </p:nvSpPr>
            <p:spPr>
              <a:xfrm>
                <a:off x="6603840" y="66024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88080" y="660240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6680160" y="6539040"/>
              <a:ext cx="163440" cy="79200"/>
              <a:chOff x="6680160" y="6539040"/>
              <a:chExt cx="163440" cy="79200"/>
            </a:xfrm>
          </p:grpSpPr>
          <p:sp>
            <p:nvSpPr>
              <p:cNvPr id="1584" name=""/>
              <p:cNvSpPr/>
              <p:nvPr/>
            </p:nvSpPr>
            <p:spPr>
              <a:xfrm>
                <a:off x="6680160" y="653904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764400" y="653904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6743880" y="6513840"/>
              <a:ext cx="161640" cy="78840"/>
              <a:chOff x="6743880" y="6513840"/>
              <a:chExt cx="161640" cy="78840"/>
            </a:xfrm>
          </p:grpSpPr>
          <p:sp>
            <p:nvSpPr>
              <p:cNvPr id="1587" name=""/>
              <p:cNvSpPr/>
              <p:nvPr/>
            </p:nvSpPr>
            <p:spPr>
              <a:xfrm>
                <a:off x="6743880" y="651384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827760" y="651384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819840" y="6475680"/>
              <a:ext cx="163440" cy="80640"/>
              <a:chOff x="6819840" y="6475680"/>
              <a:chExt cx="163440" cy="80640"/>
            </a:xfrm>
          </p:grpSpPr>
          <p:sp>
            <p:nvSpPr>
              <p:cNvPr id="1590" name=""/>
              <p:cNvSpPr/>
              <p:nvPr/>
            </p:nvSpPr>
            <p:spPr>
              <a:xfrm>
                <a:off x="6819840" y="647568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904080" y="6475680"/>
                <a:ext cx="7920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3301920" y="6145560"/>
              <a:ext cx="163440" cy="79200"/>
              <a:chOff x="3301920" y="6145560"/>
              <a:chExt cx="163440" cy="79200"/>
            </a:xfrm>
          </p:grpSpPr>
          <p:sp>
            <p:nvSpPr>
              <p:cNvPr id="1593" name=""/>
              <p:cNvSpPr/>
              <p:nvPr/>
            </p:nvSpPr>
            <p:spPr>
              <a:xfrm>
                <a:off x="3301920" y="61455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386160" y="61455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638680" y="6640560"/>
              <a:ext cx="163800" cy="79200"/>
              <a:chOff x="5638680" y="6640560"/>
              <a:chExt cx="163800" cy="79200"/>
            </a:xfrm>
          </p:grpSpPr>
          <p:sp>
            <p:nvSpPr>
              <p:cNvPr id="1596" name=""/>
              <p:cNvSpPr/>
              <p:nvPr/>
            </p:nvSpPr>
            <p:spPr>
              <a:xfrm>
                <a:off x="5638680" y="66405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22920" y="664056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2755800" y="6202800"/>
              <a:ext cx="163440" cy="79200"/>
              <a:chOff x="2755800" y="6202800"/>
              <a:chExt cx="163440" cy="79200"/>
            </a:xfrm>
          </p:grpSpPr>
          <p:sp>
            <p:nvSpPr>
              <p:cNvPr id="1599" name=""/>
              <p:cNvSpPr/>
              <p:nvPr/>
            </p:nvSpPr>
            <p:spPr>
              <a:xfrm>
                <a:off x="2755800" y="62028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840040" y="620280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590920" y="6228360"/>
              <a:ext cx="161640" cy="80640"/>
              <a:chOff x="2590920" y="6228360"/>
              <a:chExt cx="161640" cy="80640"/>
            </a:xfrm>
          </p:grpSpPr>
          <p:sp>
            <p:nvSpPr>
              <p:cNvPr id="1602" name=""/>
              <p:cNvSpPr/>
              <p:nvPr/>
            </p:nvSpPr>
            <p:spPr>
              <a:xfrm>
                <a:off x="2590920" y="62283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674800" y="622836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590920" y="6126840"/>
              <a:ext cx="161640" cy="80280"/>
              <a:chOff x="2590920" y="6126840"/>
              <a:chExt cx="161640" cy="80280"/>
            </a:xfrm>
          </p:grpSpPr>
          <p:sp>
            <p:nvSpPr>
              <p:cNvPr id="1605" name=""/>
              <p:cNvSpPr/>
              <p:nvPr/>
            </p:nvSpPr>
            <p:spPr>
              <a:xfrm>
                <a:off x="2590920" y="6126840"/>
                <a:ext cx="75960" cy="802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74800" y="612684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666880" y="6063120"/>
              <a:ext cx="163800" cy="79200"/>
              <a:chOff x="2666880" y="6063120"/>
              <a:chExt cx="163800" cy="79200"/>
            </a:xfrm>
          </p:grpSpPr>
          <p:sp>
            <p:nvSpPr>
              <p:cNvPr id="1608" name=""/>
              <p:cNvSpPr/>
              <p:nvPr/>
            </p:nvSpPr>
            <p:spPr>
              <a:xfrm>
                <a:off x="2666880" y="606312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751120" y="606312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2730600" y="6037920"/>
              <a:ext cx="162000" cy="80280"/>
              <a:chOff x="2730600" y="6037920"/>
              <a:chExt cx="162000" cy="80280"/>
            </a:xfrm>
          </p:grpSpPr>
          <p:sp>
            <p:nvSpPr>
              <p:cNvPr id="1611" name=""/>
              <p:cNvSpPr/>
              <p:nvPr/>
            </p:nvSpPr>
            <p:spPr>
              <a:xfrm>
                <a:off x="2730600" y="6037920"/>
                <a:ext cx="75960" cy="8028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814480" y="6037920"/>
                <a:ext cx="7812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2806560" y="5999760"/>
              <a:ext cx="163800" cy="80640"/>
              <a:chOff x="2806560" y="5999760"/>
              <a:chExt cx="163800" cy="80640"/>
            </a:xfrm>
          </p:grpSpPr>
          <p:sp>
            <p:nvSpPr>
              <p:cNvPr id="1614" name=""/>
              <p:cNvSpPr/>
              <p:nvPr/>
            </p:nvSpPr>
            <p:spPr>
              <a:xfrm>
                <a:off x="2806560" y="599976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890800" y="599976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664240" y="6411960"/>
              <a:ext cx="163440" cy="79200"/>
              <a:chOff x="5664240" y="6411960"/>
              <a:chExt cx="163440" cy="792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664240" y="6411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748480" y="64119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5221440" y="6080760"/>
              <a:ext cx="1841760" cy="468720"/>
              <a:chOff x="5221440" y="6080760"/>
              <a:chExt cx="1841760" cy="46872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5221440" y="6080760"/>
                <a:ext cx="1072800" cy="468720"/>
                <a:chOff x="5221440" y="6080760"/>
                <a:chExt cx="1072800" cy="468720"/>
              </a:xfrm>
            </p:grpSpPr>
            <p:grpSp>
              <p:nvGrpSpPr>
                <p:cNvPr id="1621" name=""/>
                <p:cNvGrpSpPr/>
                <p:nvPr/>
              </p:nvGrpSpPr>
              <p:grpSpPr>
                <a:xfrm>
                  <a:off x="5221440" y="6123600"/>
                  <a:ext cx="559440" cy="425880"/>
                  <a:chOff x="5221440" y="6123600"/>
                  <a:chExt cx="559440" cy="425880"/>
                </a:xfrm>
              </p:grpSpPr>
              <p:grpSp>
                <p:nvGrpSpPr>
                  <p:cNvPr id="1622" name=""/>
                  <p:cNvGrpSpPr/>
                  <p:nvPr/>
                </p:nvGrpSpPr>
                <p:grpSpPr>
                  <a:xfrm>
                    <a:off x="5555520" y="6123600"/>
                    <a:ext cx="225360" cy="293760"/>
                    <a:chOff x="5555520" y="6123600"/>
                    <a:chExt cx="225360" cy="293760"/>
                  </a:xfrm>
                </p:grpSpPr>
                <p:sp>
                  <p:nvSpPr>
                    <p:cNvPr id="1623" name=""/>
                    <p:cNvSpPr/>
                    <p:nvPr/>
                  </p:nvSpPr>
                  <p:spPr>
                    <a:xfrm flipH="1" rot="21120000">
                      <a:off x="5572080" y="613548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24" name=""/>
                    <p:cNvSpPr/>
                    <p:nvPr/>
                  </p:nvSpPr>
                  <p:spPr>
                    <a:xfrm flipH="1" rot="21120000">
                      <a:off x="5581080" y="61426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5422680" y="6153480"/>
                    <a:ext cx="281520" cy="324000"/>
                    <a:chOff x="5422680" y="6153480"/>
                    <a:chExt cx="281520" cy="32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 flipH="1" rot="20640000">
                      <a:off x="5454000" y="6178320"/>
                      <a:ext cx="21816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 flipH="1" rot="20640000">
                      <a:off x="5472000" y="618840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5221440" y="6177240"/>
                    <a:ext cx="369720" cy="372240"/>
                    <a:chOff x="5221440" y="6177240"/>
                    <a:chExt cx="369720" cy="3722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 flipH="1" rot="19560000">
                      <a:off x="5272560" y="622872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 rot="19560000">
                      <a:off x="5302440" y="6244920"/>
                      <a:ext cx="17100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31" name=""/>
                <p:cNvGrpSpPr/>
                <p:nvPr/>
              </p:nvGrpSpPr>
              <p:grpSpPr>
                <a:xfrm>
                  <a:off x="5768280" y="6080760"/>
                  <a:ext cx="525960" cy="358200"/>
                  <a:chOff x="5768280" y="6080760"/>
                  <a:chExt cx="525960" cy="358200"/>
                </a:xfrm>
              </p:grpSpPr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5768280" y="6080760"/>
                    <a:ext cx="167040" cy="258840"/>
                    <a:chOff x="5768280" y="6080760"/>
                    <a:chExt cx="167040" cy="258840"/>
                  </a:xfrm>
                </p:grpSpPr>
                <p:sp>
                  <p:nvSpPr>
                    <p:cNvPr id="1633" name=""/>
                    <p:cNvSpPr/>
                    <p:nvPr/>
                  </p:nvSpPr>
                  <p:spPr>
                    <a:xfrm rot="21540000">
                      <a:off x="5770080" y="6082200"/>
                      <a:ext cx="16272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 rot="21540000">
                      <a:off x="5820120" y="608544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5854320" y="6096960"/>
                    <a:ext cx="213480" cy="285840"/>
                    <a:chOff x="5854320" y="6096960"/>
                    <a:chExt cx="213480" cy="2858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 rot="420000">
                      <a:off x="5868720" y="6107040"/>
                      <a:ext cx="18468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 rot="420000">
                      <a:off x="5921640" y="6113520"/>
                      <a:ext cx="11880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5959800" y="6085800"/>
                    <a:ext cx="334440" cy="353160"/>
                    <a:chOff x="5959800" y="6085800"/>
                    <a:chExt cx="334440" cy="35316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 rot="1500000">
                      <a:off x="6004440" y="6124680"/>
                      <a:ext cx="24444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 rot="1500000">
                      <a:off x="6069960" y="6136560"/>
                      <a:ext cx="157680" cy="28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5990760" y="6080760"/>
                <a:ext cx="1072440" cy="468720"/>
                <a:chOff x="5990760" y="6080760"/>
                <a:chExt cx="1072440" cy="4687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6506640" y="6123600"/>
                  <a:ext cx="556560" cy="425880"/>
                  <a:chOff x="6506640" y="6123600"/>
                  <a:chExt cx="556560" cy="425880"/>
                </a:xfrm>
              </p:grpSpPr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6506640" y="6123600"/>
                    <a:ext cx="225000" cy="293760"/>
                    <a:chOff x="6506640" y="6123600"/>
                    <a:chExt cx="225000" cy="29376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 rot="480000">
                      <a:off x="6523200" y="613548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 rot="480000">
                      <a:off x="6581880" y="6142680"/>
                      <a:ext cx="1245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6580440" y="6153120"/>
                    <a:ext cx="281520" cy="324360"/>
                    <a:chOff x="6580440" y="6153120"/>
                    <a:chExt cx="281520" cy="32436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 rot="960000">
                      <a:off x="6611400" y="6177960"/>
                      <a:ext cx="2188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 rot="960000">
                      <a:off x="6677640" y="6188400"/>
                      <a:ext cx="14184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49" name=""/>
                  <p:cNvGrpSpPr/>
                  <p:nvPr/>
                </p:nvGrpSpPr>
                <p:grpSpPr>
                  <a:xfrm>
                    <a:off x="6693480" y="6177240"/>
                    <a:ext cx="369720" cy="372240"/>
                    <a:chOff x="6693480" y="6177240"/>
                    <a:chExt cx="369720" cy="372240"/>
                  </a:xfrm>
                </p:grpSpPr>
                <p:sp>
                  <p:nvSpPr>
                    <p:cNvPr id="1650" name=""/>
                    <p:cNvSpPr/>
                    <p:nvPr/>
                  </p:nvSpPr>
                  <p:spPr>
                    <a:xfrm rot="2040000">
                      <a:off x="6744960" y="622872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 rot="2040000">
                      <a:off x="6813000" y="6244560"/>
                      <a:ext cx="17172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5990760" y="6080760"/>
                  <a:ext cx="526320" cy="358200"/>
                  <a:chOff x="5990760" y="6080760"/>
                  <a:chExt cx="526320" cy="358200"/>
                </a:xfrm>
              </p:grpSpPr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6349320" y="6080760"/>
                    <a:ext cx="167760" cy="258840"/>
                    <a:chOff x="6349320" y="6080760"/>
                    <a:chExt cx="167760" cy="25884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 flipH="1" rot="60000">
                      <a:off x="6351120" y="6081840"/>
                      <a:ext cx="16344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 flipH="1" rot="60000">
                      <a:off x="6356520" y="6085440"/>
                      <a:ext cx="10548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6216120" y="6096960"/>
                    <a:ext cx="214560" cy="288000"/>
                    <a:chOff x="6216120" y="6096960"/>
                    <a:chExt cx="214560" cy="28800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 flipH="1" rot="21180000">
                      <a:off x="6230520" y="610704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 flipH="1" rot="21180000">
                      <a:off x="6237000" y="6113520"/>
                      <a:ext cx="1195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59" name=""/>
                  <p:cNvGrpSpPr/>
                  <p:nvPr/>
                </p:nvGrpSpPr>
                <p:grpSpPr>
                  <a:xfrm>
                    <a:off x="5990760" y="6085440"/>
                    <a:ext cx="335520" cy="353520"/>
                    <a:chOff x="5990760" y="6085440"/>
                    <a:chExt cx="335520" cy="353520"/>
                  </a:xfrm>
                </p:grpSpPr>
                <p:sp>
                  <p:nvSpPr>
                    <p:cNvPr id="1660" name=""/>
                    <p:cNvSpPr/>
                    <p:nvPr/>
                  </p:nvSpPr>
                  <p:spPr>
                    <a:xfrm flipH="1" rot="20100000">
                      <a:off x="6035400" y="6124680"/>
                      <a:ext cx="24552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 flipH="1" rot="20100000">
                      <a:off x="6054480" y="6136920"/>
                      <a:ext cx="15732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2" name=""/>
            <p:cNvGrpSpPr/>
            <p:nvPr/>
          </p:nvGrpSpPr>
          <p:grpSpPr>
            <a:xfrm>
              <a:off x="6477120" y="6399360"/>
              <a:ext cx="161640" cy="78840"/>
              <a:chOff x="6477120" y="6399360"/>
              <a:chExt cx="161640" cy="78840"/>
            </a:xfrm>
          </p:grpSpPr>
          <p:sp>
            <p:nvSpPr>
              <p:cNvPr id="1663" name=""/>
              <p:cNvSpPr/>
              <p:nvPr/>
            </p:nvSpPr>
            <p:spPr>
              <a:xfrm>
                <a:off x="6477120" y="639936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561000" y="639936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3530520" y="6005880"/>
              <a:ext cx="163440" cy="79200"/>
              <a:chOff x="3530520" y="6005880"/>
              <a:chExt cx="163440" cy="79200"/>
            </a:xfrm>
          </p:grpSpPr>
          <p:sp>
            <p:nvSpPr>
              <p:cNvPr id="1666" name=""/>
              <p:cNvSpPr/>
              <p:nvPr/>
            </p:nvSpPr>
            <p:spPr>
              <a:xfrm>
                <a:off x="3530520" y="600588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14760" y="600588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4724280" y="5714280"/>
              <a:ext cx="163800" cy="78840"/>
              <a:chOff x="4724280" y="5714280"/>
              <a:chExt cx="163800" cy="78840"/>
            </a:xfrm>
          </p:grpSpPr>
          <p:sp>
            <p:nvSpPr>
              <p:cNvPr id="1669" name=""/>
              <p:cNvSpPr/>
              <p:nvPr/>
            </p:nvSpPr>
            <p:spPr>
              <a:xfrm>
                <a:off x="4724280" y="5714280"/>
                <a:ext cx="7632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808520" y="5714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4155120" y="5319000"/>
              <a:ext cx="1841040" cy="470520"/>
              <a:chOff x="4155120" y="5319000"/>
              <a:chExt cx="1841040" cy="47052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4155120" y="5319000"/>
                <a:ext cx="1073160" cy="470520"/>
                <a:chOff x="4155120" y="5319000"/>
                <a:chExt cx="1073160" cy="47052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4155120" y="5361840"/>
                  <a:ext cx="558720" cy="427680"/>
                  <a:chOff x="4155120" y="5361840"/>
                  <a:chExt cx="558720" cy="427680"/>
                </a:xfrm>
              </p:grpSpPr>
              <p:grpSp>
                <p:nvGrpSpPr>
                  <p:cNvPr id="1674" name=""/>
                  <p:cNvGrpSpPr/>
                  <p:nvPr/>
                </p:nvGrpSpPr>
                <p:grpSpPr>
                  <a:xfrm>
                    <a:off x="4488480" y="5361840"/>
                    <a:ext cx="225360" cy="296640"/>
                    <a:chOff x="4488480" y="5361840"/>
                    <a:chExt cx="225360" cy="296640"/>
                  </a:xfrm>
                </p:grpSpPr>
                <p:sp>
                  <p:nvSpPr>
                    <p:cNvPr id="1675" name=""/>
                    <p:cNvSpPr/>
                    <p:nvPr/>
                  </p:nvSpPr>
                  <p:spPr>
                    <a:xfrm flipH="1" rot="21120000">
                      <a:off x="4505040" y="5373720"/>
                      <a:ext cx="1915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H="1" rot="21120000">
                      <a:off x="4514040" y="5380560"/>
                      <a:ext cx="12456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4355640" y="5391720"/>
                    <a:ext cx="282960" cy="327600"/>
                    <a:chOff x="4355640" y="5391720"/>
                    <a:chExt cx="282960" cy="327600"/>
                  </a:xfrm>
                </p:grpSpPr>
                <p:sp>
                  <p:nvSpPr>
                    <p:cNvPr id="1678" name=""/>
                    <p:cNvSpPr/>
                    <p:nvPr/>
                  </p:nvSpPr>
                  <p:spPr>
                    <a:xfrm flipH="1" rot="20640000">
                      <a:off x="4387680" y="5416560"/>
                      <a:ext cx="21888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 flipH="1" rot="20640000">
                      <a:off x="4404960" y="5427360"/>
                      <a:ext cx="14184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4155120" y="5416200"/>
                    <a:ext cx="370440" cy="373320"/>
                    <a:chOff x="4155120" y="5416200"/>
                    <a:chExt cx="370440" cy="37332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 flipH="1" rot="19560000">
                      <a:off x="4206600" y="5467680"/>
                      <a:ext cx="2664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 flipH="1" rot="19560000">
                      <a:off x="4235040" y="5483160"/>
                      <a:ext cx="17172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4701600" y="5319000"/>
                  <a:ext cx="526680" cy="360360"/>
                  <a:chOff x="4701600" y="5319000"/>
                  <a:chExt cx="526680" cy="360360"/>
                </a:xfrm>
              </p:grpSpPr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4701600" y="5319000"/>
                    <a:ext cx="167400" cy="259200"/>
                    <a:chOff x="4701600" y="5319000"/>
                    <a:chExt cx="167400" cy="25920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 rot="21540000">
                      <a:off x="4703400" y="53200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 rot="21540000">
                      <a:off x="4753800" y="5323680"/>
                      <a:ext cx="10512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4787280" y="5335200"/>
                    <a:ext cx="214560" cy="286920"/>
                    <a:chOff x="4787280" y="5335200"/>
                    <a:chExt cx="214560" cy="28692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 rot="420000">
                      <a:off x="4801680" y="5345280"/>
                      <a:ext cx="1854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 rot="420000">
                      <a:off x="4858560" y="5351760"/>
                      <a:ext cx="11952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4891320" y="5323680"/>
                    <a:ext cx="336960" cy="355680"/>
                    <a:chOff x="4891320" y="5323680"/>
                    <a:chExt cx="336960" cy="35568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 rot="1500000">
                      <a:off x="4936680" y="5362920"/>
                      <a:ext cx="245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rot="1500000">
                      <a:off x="5004360" y="5375520"/>
                      <a:ext cx="1584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693" name=""/>
              <p:cNvGrpSpPr/>
              <p:nvPr/>
            </p:nvGrpSpPr>
            <p:grpSpPr>
              <a:xfrm>
                <a:off x="4923000" y="5319000"/>
                <a:ext cx="1073160" cy="470160"/>
                <a:chOff x="4923000" y="5319000"/>
                <a:chExt cx="1073160" cy="470160"/>
              </a:xfrm>
            </p:grpSpPr>
            <p:grpSp>
              <p:nvGrpSpPr>
                <p:cNvPr id="1694" name=""/>
                <p:cNvGrpSpPr/>
                <p:nvPr/>
              </p:nvGrpSpPr>
              <p:grpSpPr>
                <a:xfrm>
                  <a:off x="5439240" y="5361840"/>
                  <a:ext cx="556920" cy="427320"/>
                  <a:chOff x="5439240" y="5361840"/>
                  <a:chExt cx="556920" cy="427320"/>
                </a:xfrm>
              </p:grpSpPr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5439240" y="5361840"/>
                    <a:ext cx="225720" cy="294840"/>
                    <a:chOff x="5439240" y="5361840"/>
                    <a:chExt cx="225720" cy="29484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 rot="480000">
                      <a:off x="5456160" y="5373720"/>
                      <a:ext cx="191880" cy="25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 rot="480000">
                      <a:off x="5515560" y="5380560"/>
                      <a:ext cx="12492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5513040" y="5391720"/>
                    <a:ext cx="282960" cy="327240"/>
                    <a:chOff x="5513040" y="5391720"/>
                    <a:chExt cx="282960" cy="32724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 rot="960000">
                      <a:off x="5545080" y="5416560"/>
                      <a:ext cx="2188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 rot="960000">
                      <a:off x="5610600" y="5427000"/>
                      <a:ext cx="14256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626800" y="5416200"/>
                    <a:ext cx="369360" cy="372960"/>
                    <a:chOff x="5626800" y="5416200"/>
                    <a:chExt cx="369360" cy="37296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 rot="2040000">
                      <a:off x="5678280" y="5467680"/>
                      <a:ext cx="26604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 rot="2040000">
                      <a:off x="5746680" y="5483160"/>
                      <a:ext cx="17136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04" name=""/>
                <p:cNvGrpSpPr/>
                <p:nvPr/>
              </p:nvGrpSpPr>
              <p:grpSpPr>
                <a:xfrm>
                  <a:off x="4923000" y="5319000"/>
                  <a:ext cx="526680" cy="360360"/>
                  <a:chOff x="4923000" y="5319000"/>
                  <a:chExt cx="526680" cy="360360"/>
                </a:xfrm>
              </p:grpSpPr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5282280" y="5319000"/>
                    <a:ext cx="167400" cy="259200"/>
                    <a:chOff x="5282280" y="5319000"/>
                    <a:chExt cx="167400" cy="25920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 flipH="1" rot="60000">
                      <a:off x="5283720" y="5320080"/>
                      <a:ext cx="16308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 flipH="1" rot="60000">
                      <a:off x="5288760" y="5323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5149440" y="5335200"/>
                    <a:ext cx="214200" cy="288000"/>
                    <a:chOff x="5149440" y="5335200"/>
                    <a:chExt cx="214200" cy="28800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 flipH="1" rot="21180000">
                      <a:off x="5163120" y="534528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 flipH="1" rot="21180000">
                      <a:off x="5170320" y="5352120"/>
                      <a:ext cx="1195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4923000" y="5323680"/>
                    <a:ext cx="336600" cy="355680"/>
                    <a:chOff x="4923000" y="5323680"/>
                    <a:chExt cx="336600" cy="35568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 flipH="1" rot="20100000">
                      <a:off x="4967640" y="5362920"/>
                      <a:ext cx="245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 flipH="1" rot="20100000">
                      <a:off x="4989600" y="5375160"/>
                      <a:ext cx="15804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14" name=""/>
            <p:cNvGrpSpPr/>
            <p:nvPr/>
          </p:nvGrpSpPr>
          <p:grpSpPr>
            <a:xfrm>
              <a:off x="4572000" y="5899680"/>
              <a:ext cx="684360" cy="218520"/>
              <a:chOff x="4572000" y="5899680"/>
              <a:chExt cx="684360" cy="218520"/>
            </a:xfrm>
          </p:grpSpPr>
          <p:sp>
            <p:nvSpPr>
              <p:cNvPr id="1715" name=""/>
              <p:cNvSpPr/>
              <p:nvPr/>
            </p:nvSpPr>
            <p:spPr>
              <a:xfrm>
                <a:off x="4572000" y="5899680"/>
                <a:ext cx="322200" cy="2185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923000" y="5900760"/>
                <a:ext cx="333360" cy="1854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6197760" y="5671440"/>
              <a:ext cx="161640" cy="78840"/>
              <a:chOff x="6197760" y="5671440"/>
              <a:chExt cx="161640" cy="78840"/>
            </a:xfrm>
          </p:grpSpPr>
          <p:sp>
            <p:nvSpPr>
              <p:cNvPr id="1718" name=""/>
              <p:cNvSpPr/>
              <p:nvPr/>
            </p:nvSpPr>
            <p:spPr>
              <a:xfrm>
                <a:off x="6197760" y="567144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281640" y="567144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5969160" y="5722200"/>
              <a:ext cx="161640" cy="79200"/>
              <a:chOff x="5969160" y="5722200"/>
              <a:chExt cx="161640" cy="7920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69160" y="572220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053040" y="572220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5245200" y="5879160"/>
              <a:ext cx="162000" cy="80640"/>
              <a:chOff x="5245200" y="5879160"/>
              <a:chExt cx="162000" cy="80640"/>
            </a:xfrm>
          </p:grpSpPr>
          <p:sp>
            <p:nvSpPr>
              <p:cNvPr id="1724" name=""/>
              <p:cNvSpPr/>
              <p:nvPr/>
            </p:nvSpPr>
            <p:spPr>
              <a:xfrm>
                <a:off x="5245200" y="58791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329080" y="5879160"/>
                <a:ext cx="7812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5245200" y="5777280"/>
              <a:ext cx="162000" cy="79200"/>
              <a:chOff x="5245200" y="5777280"/>
              <a:chExt cx="162000" cy="79200"/>
            </a:xfrm>
          </p:grpSpPr>
          <p:sp>
            <p:nvSpPr>
              <p:cNvPr id="1727" name=""/>
              <p:cNvSpPr/>
              <p:nvPr/>
            </p:nvSpPr>
            <p:spPr>
              <a:xfrm>
                <a:off x="5245200" y="5777280"/>
                <a:ext cx="7596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329080" y="577728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5321160" y="5714280"/>
              <a:ext cx="163800" cy="78840"/>
              <a:chOff x="5321160" y="5714280"/>
              <a:chExt cx="163800" cy="78840"/>
            </a:xfrm>
          </p:grpSpPr>
          <p:sp>
            <p:nvSpPr>
              <p:cNvPr id="1730" name=""/>
              <p:cNvSpPr/>
              <p:nvPr/>
            </p:nvSpPr>
            <p:spPr>
              <a:xfrm>
                <a:off x="5321160" y="5714280"/>
                <a:ext cx="76320" cy="788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405400" y="5714280"/>
                <a:ext cx="7956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5943600" y="5556960"/>
              <a:ext cx="163440" cy="79200"/>
              <a:chOff x="5943600" y="5556960"/>
              <a:chExt cx="163440" cy="79200"/>
            </a:xfrm>
          </p:grpSpPr>
          <p:sp>
            <p:nvSpPr>
              <p:cNvPr id="1733" name=""/>
              <p:cNvSpPr/>
              <p:nvPr/>
            </p:nvSpPr>
            <p:spPr>
              <a:xfrm>
                <a:off x="5943600" y="555696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7840" y="555696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6019920" y="5519160"/>
              <a:ext cx="161640" cy="80640"/>
              <a:chOff x="6019920" y="5519160"/>
              <a:chExt cx="161640" cy="80640"/>
            </a:xfrm>
          </p:grpSpPr>
          <p:sp>
            <p:nvSpPr>
              <p:cNvPr id="1736" name=""/>
              <p:cNvSpPr/>
              <p:nvPr/>
            </p:nvSpPr>
            <p:spPr>
              <a:xfrm>
                <a:off x="6019920" y="5519160"/>
                <a:ext cx="7596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103800" y="551916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3949560" y="6432840"/>
              <a:ext cx="163800" cy="80640"/>
              <a:chOff x="3949560" y="6432840"/>
              <a:chExt cx="163800" cy="80640"/>
            </a:xfrm>
          </p:grpSpPr>
          <p:sp>
            <p:nvSpPr>
              <p:cNvPr id="1739" name=""/>
              <p:cNvSpPr/>
              <p:nvPr/>
            </p:nvSpPr>
            <p:spPr>
              <a:xfrm>
                <a:off x="3949560" y="64328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33800" y="6432840"/>
                <a:ext cx="79560" cy="6768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1487520" y="6351840"/>
              <a:ext cx="1841760" cy="468360"/>
              <a:chOff x="1487520" y="6351840"/>
              <a:chExt cx="1841760" cy="468360"/>
            </a:xfrm>
          </p:grpSpPr>
          <p:grpSp>
            <p:nvGrpSpPr>
              <p:cNvPr id="1742" name=""/>
              <p:cNvGrpSpPr/>
              <p:nvPr/>
            </p:nvGrpSpPr>
            <p:grpSpPr>
              <a:xfrm>
                <a:off x="1487520" y="6351840"/>
                <a:ext cx="1073160" cy="468360"/>
                <a:chOff x="1487520" y="6351840"/>
                <a:chExt cx="1073160" cy="46836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1487520" y="6394680"/>
                  <a:ext cx="559440" cy="425520"/>
                  <a:chOff x="1487520" y="6394680"/>
                  <a:chExt cx="559440" cy="425520"/>
                </a:xfrm>
              </p:grpSpPr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1821600" y="6394680"/>
                    <a:ext cx="225360" cy="293760"/>
                    <a:chOff x="1821600" y="6394680"/>
                    <a:chExt cx="225360" cy="29376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 flipH="1" rot="21120000">
                      <a:off x="1838160" y="6406560"/>
                      <a:ext cx="19188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 flipH="1" rot="21120000">
                      <a:off x="1846800" y="6413400"/>
                      <a:ext cx="12492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47" name=""/>
                  <p:cNvGrpSpPr/>
                  <p:nvPr/>
                </p:nvGrpSpPr>
                <p:grpSpPr>
                  <a:xfrm>
                    <a:off x="1689120" y="6424200"/>
                    <a:ext cx="282600" cy="325080"/>
                    <a:chOff x="1689120" y="6424200"/>
                    <a:chExt cx="282600" cy="325080"/>
                  </a:xfrm>
                </p:grpSpPr>
                <p:sp>
                  <p:nvSpPr>
                    <p:cNvPr id="1748" name=""/>
                    <p:cNvSpPr/>
                    <p:nvPr/>
                  </p:nvSpPr>
                  <p:spPr>
                    <a:xfrm flipH="1" rot="20640000">
                      <a:off x="1720440" y="6449040"/>
                      <a:ext cx="21888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49" name=""/>
                    <p:cNvSpPr/>
                    <p:nvPr/>
                  </p:nvSpPr>
                  <p:spPr>
                    <a:xfrm flipH="1" rot="20640000">
                      <a:off x="1737360" y="6459480"/>
                      <a:ext cx="14256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50" name=""/>
                  <p:cNvGrpSpPr/>
                  <p:nvPr/>
                </p:nvGrpSpPr>
                <p:grpSpPr>
                  <a:xfrm>
                    <a:off x="1487520" y="6448320"/>
                    <a:ext cx="369720" cy="371880"/>
                    <a:chOff x="1487520" y="6448320"/>
                    <a:chExt cx="369720" cy="371880"/>
                  </a:xfrm>
                </p:grpSpPr>
                <p:sp>
                  <p:nvSpPr>
                    <p:cNvPr id="1751" name=""/>
                    <p:cNvSpPr/>
                    <p:nvPr/>
                  </p:nvSpPr>
                  <p:spPr>
                    <a:xfrm flipH="1" rot="19560000">
                      <a:off x="1538640" y="6499800"/>
                      <a:ext cx="2664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2" name=""/>
                    <p:cNvSpPr/>
                    <p:nvPr/>
                  </p:nvSpPr>
                  <p:spPr>
                    <a:xfrm flipH="1" rot="19560000">
                      <a:off x="1567800" y="6515640"/>
                      <a:ext cx="17136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53" name=""/>
                <p:cNvGrpSpPr/>
                <p:nvPr/>
              </p:nvGrpSpPr>
              <p:grpSpPr>
                <a:xfrm>
                  <a:off x="2034720" y="6351840"/>
                  <a:ext cx="525960" cy="358560"/>
                  <a:chOff x="2034720" y="6351840"/>
                  <a:chExt cx="525960" cy="358560"/>
                </a:xfrm>
              </p:grpSpPr>
              <p:grpSp>
                <p:nvGrpSpPr>
                  <p:cNvPr id="1754" name=""/>
                  <p:cNvGrpSpPr/>
                  <p:nvPr/>
                </p:nvGrpSpPr>
                <p:grpSpPr>
                  <a:xfrm>
                    <a:off x="2034720" y="6351840"/>
                    <a:ext cx="167400" cy="258840"/>
                    <a:chOff x="2034720" y="6351840"/>
                    <a:chExt cx="167400" cy="258840"/>
                  </a:xfrm>
                </p:grpSpPr>
                <p:sp>
                  <p:nvSpPr>
                    <p:cNvPr id="1755" name=""/>
                    <p:cNvSpPr/>
                    <p:nvPr/>
                  </p:nvSpPr>
                  <p:spPr>
                    <a:xfrm rot="21540000">
                      <a:off x="2036520" y="6352920"/>
                      <a:ext cx="16308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6" name=""/>
                    <p:cNvSpPr/>
                    <p:nvPr/>
                  </p:nvSpPr>
                  <p:spPr>
                    <a:xfrm rot="21540000">
                      <a:off x="2086920" y="635652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57" name=""/>
                  <p:cNvGrpSpPr/>
                  <p:nvPr/>
                </p:nvGrpSpPr>
                <p:grpSpPr>
                  <a:xfrm>
                    <a:off x="2120760" y="6368040"/>
                    <a:ext cx="214200" cy="285480"/>
                    <a:chOff x="2120760" y="6368040"/>
                    <a:chExt cx="214200" cy="285480"/>
                  </a:xfrm>
                </p:grpSpPr>
                <p:sp>
                  <p:nvSpPr>
                    <p:cNvPr id="1758" name=""/>
                    <p:cNvSpPr/>
                    <p:nvPr/>
                  </p:nvSpPr>
                  <p:spPr>
                    <a:xfrm rot="420000">
                      <a:off x="2135160" y="6378120"/>
                      <a:ext cx="18540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59" name=""/>
                    <p:cNvSpPr/>
                    <p:nvPr/>
                  </p:nvSpPr>
                  <p:spPr>
                    <a:xfrm rot="420000">
                      <a:off x="2190240" y="6384240"/>
                      <a:ext cx="11952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60" name=""/>
                  <p:cNvGrpSpPr/>
                  <p:nvPr/>
                </p:nvGrpSpPr>
                <p:grpSpPr>
                  <a:xfrm>
                    <a:off x="2225160" y="6356520"/>
                    <a:ext cx="335520" cy="353880"/>
                    <a:chOff x="2225160" y="6356520"/>
                    <a:chExt cx="335520" cy="353880"/>
                  </a:xfrm>
                </p:grpSpPr>
                <p:sp>
                  <p:nvSpPr>
                    <p:cNvPr id="1761" name=""/>
                    <p:cNvSpPr/>
                    <p:nvPr/>
                  </p:nvSpPr>
                  <p:spPr>
                    <a:xfrm rot="1500000">
                      <a:off x="2270160" y="6395760"/>
                      <a:ext cx="24552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 rot="1500000">
                      <a:off x="2335320" y="6408000"/>
                      <a:ext cx="15804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763" name=""/>
              <p:cNvGrpSpPr/>
              <p:nvPr/>
            </p:nvGrpSpPr>
            <p:grpSpPr>
              <a:xfrm>
                <a:off x="2256480" y="6351840"/>
                <a:ext cx="1072800" cy="468360"/>
                <a:chOff x="2256480" y="6351840"/>
                <a:chExt cx="1072800" cy="468360"/>
              </a:xfrm>
            </p:grpSpPr>
            <p:grpSp>
              <p:nvGrpSpPr>
                <p:cNvPr id="1764" name=""/>
                <p:cNvGrpSpPr/>
                <p:nvPr/>
              </p:nvGrpSpPr>
              <p:grpSpPr>
                <a:xfrm>
                  <a:off x="2772720" y="6394680"/>
                  <a:ext cx="556560" cy="425520"/>
                  <a:chOff x="2772720" y="6394680"/>
                  <a:chExt cx="556560" cy="425520"/>
                </a:xfrm>
              </p:grpSpPr>
              <p:grpSp>
                <p:nvGrpSpPr>
                  <p:cNvPr id="1765" name=""/>
                  <p:cNvGrpSpPr/>
                  <p:nvPr/>
                </p:nvGrpSpPr>
                <p:grpSpPr>
                  <a:xfrm>
                    <a:off x="2772720" y="6394680"/>
                    <a:ext cx="225000" cy="293760"/>
                    <a:chOff x="2772720" y="6394680"/>
                    <a:chExt cx="225000" cy="293760"/>
                  </a:xfrm>
                </p:grpSpPr>
                <p:sp>
                  <p:nvSpPr>
                    <p:cNvPr id="1766" name=""/>
                    <p:cNvSpPr/>
                    <p:nvPr/>
                  </p:nvSpPr>
                  <p:spPr>
                    <a:xfrm rot="480000">
                      <a:off x="2789280" y="6406560"/>
                      <a:ext cx="19152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 rot="480000">
                      <a:off x="2848320" y="6413400"/>
                      <a:ext cx="12420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68" name=""/>
                  <p:cNvGrpSpPr/>
                  <p:nvPr/>
                </p:nvGrpSpPr>
                <p:grpSpPr>
                  <a:xfrm>
                    <a:off x="2846880" y="6424200"/>
                    <a:ext cx="281160" cy="324360"/>
                    <a:chOff x="2846880" y="6424200"/>
                    <a:chExt cx="281160" cy="324360"/>
                  </a:xfrm>
                </p:grpSpPr>
                <p:sp>
                  <p:nvSpPr>
                    <p:cNvPr id="1769" name=""/>
                    <p:cNvSpPr/>
                    <p:nvPr/>
                  </p:nvSpPr>
                  <p:spPr>
                    <a:xfrm rot="960000">
                      <a:off x="2878200" y="6449040"/>
                      <a:ext cx="21852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 rot="960000">
                      <a:off x="2943360" y="6459480"/>
                      <a:ext cx="14220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71" name=""/>
                  <p:cNvGrpSpPr/>
                  <p:nvPr/>
                </p:nvGrpSpPr>
                <p:grpSpPr>
                  <a:xfrm>
                    <a:off x="2959560" y="6448320"/>
                    <a:ext cx="369720" cy="371880"/>
                    <a:chOff x="2959560" y="6448320"/>
                    <a:chExt cx="369720" cy="371880"/>
                  </a:xfrm>
                </p:grpSpPr>
                <p:sp>
                  <p:nvSpPr>
                    <p:cNvPr id="1772" name=""/>
                    <p:cNvSpPr/>
                    <p:nvPr/>
                  </p:nvSpPr>
                  <p:spPr>
                    <a:xfrm rot="2040000">
                      <a:off x="3011040" y="6499800"/>
                      <a:ext cx="266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 rot="2040000">
                      <a:off x="3076560" y="6515640"/>
                      <a:ext cx="171360" cy="28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774" name=""/>
                <p:cNvGrpSpPr/>
                <p:nvPr/>
              </p:nvGrpSpPr>
              <p:grpSpPr>
                <a:xfrm>
                  <a:off x="2256480" y="6351840"/>
                  <a:ext cx="526320" cy="358560"/>
                  <a:chOff x="2256480" y="6351840"/>
                  <a:chExt cx="526320" cy="358560"/>
                </a:xfrm>
              </p:grpSpPr>
              <p:grpSp>
                <p:nvGrpSpPr>
                  <p:cNvPr id="1775" name=""/>
                  <p:cNvGrpSpPr/>
                  <p:nvPr/>
                </p:nvGrpSpPr>
                <p:grpSpPr>
                  <a:xfrm>
                    <a:off x="2615400" y="6351840"/>
                    <a:ext cx="167400" cy="258840"/>
                    <a:chOff x="2615400" y="6351840"/>
                    <a:chExt cx="167400" cy="258840"/>
                  </a:xfrm>
                </p:grpSpPr>
                <p:sp>
                  <p:nvSpPr>
                    <p:cNvPr id="1776" name=""/>
                    <p:cNvSpPr/>
                    <p:nvPr/>
                  </p:nvSpPr>
                  <p:spPr>
                    <a:xfrm flipH="1" rot="60000">
                      <a:off x="2616840" y="6352920"/>
                      <a:ext cx="16308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 flipH="1" rot="60000">
                      <a:off x="2622240" y="6356520"/>
                      <a:ext cx="10512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78" name=""/>
                  <p:cNvGrpSpPr/>
                  <p:nvPr/>
                </p:nvGrpSpPr>
                <p:grpSpPr>
                  <a:xfrm>
                    <a:off x="2482200" y="6368040"/>
                    <a:ext cx="214560" cy="288000"/>
                    <a:chOff x="2482200" y="6368040"/>
                    <a:chExt cx="214560" cy="288000"/>
                  </a:xfrm>
                </p:grpSpPr>
                <p:sp>
                  <p:nvSpPr>
                    <p:cNvPr id="1779" name=""/>
                    <p:cNvSpPr/>
                    <p:nvPr/>
                  </p:nvSpPr>
                  <p:spPr>
                    <a:xfrm flipH="1" rot="21180000">
                      <a:off x="2496600" y="6378120"/>
                      <a:ext cx="18540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 flipH="1" rot="21180000">
                      <a:off x="2503440" y="6384600"/>
                      <a:ext cx="1188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781" name=""/>
                  <p:cNvGrpSpPr/>
                  <p:nvPr/>
                </p:nvGrpSpPr>
                <p:grpSpPr>
                  <a:xfrm>
                    <a:off x="2256480" y="6356520"/>
                    <a:ext cx="335880" cy="353880"/>
                    <a:chOff x="2256480" y="6356520"/>
                    <a:chExt cx="335880" cy="353880"/>
                  </a:xfrm>
                </p:grpSpPr>
                <p:sp>
                  <p:nvSpPr>
                    <p:cNvPr id="1782" name=""/>
                    <p:cNvSpPr/>
                    <p:nvPr/>
                  </p:nvSpPr>
                  <p:spPr>
                    <a:xfrm flipH="1" rot="20100000">
                      <a:off x="2300760" y="6395760"/>
                      <a:ext cx="245880" cy="26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783" name=""/>
                    <p:cNvSpPr/>
                    <p:nvPr/>
                  </p:nvSpPr>
                  <p:spPr>
                    <a:xfrm flipH="1" rot="20100000">
                      <a:off x="2323440" y="6407640"/>
                      <a:ext cx="15768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sp>
          <p:nvSpPr>
            <p:cNvPr id="1784" name=""/>
            <p:cNvSpPr/>
            <p:nvPr/>
          </p:nvSpPr>
          <p:spPr>
            <a:xfrm rot="3420000">
              <a:off x="2410920" y="681336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7301880" y="5865840"/>
              <a:ext cx="820800" cy="762480"/>
              <a:chOff x="7301880" y="5865840"/>
              <a:chExt cx="820800" cy="762480"/>
            </a:xfrm>
          </p:grpSpPr>
          <p:sp>
            <p:nvSpPr>
              <p:cNvPr id="1786" name=""/>
              <p:cNvSpPr/>
              <p:nvPr/>
            </p:nvSpPr>
            <p:spPr>
              <a:xfrm flipH="1" rot="3480000">
                <a:off x="7380360" y="5990760"/>
                <a:ext cx="23688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787" name=""/>
              <p:cNvGrpSpPr/>
              <p:nvPr/>
            </p:nvGrpSpPr>
            <p:grpSpPr>
              <a:xfrm>
                <a:off x="7389000" y="5865840"/>
                <a:ext cx="733680" cy="762480"/>
                <a:chOff x="7389000" y="5865840"/>
                <a:chExt cx="733680" cy="76248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7389000" y="5865840"/>
                  <a:ext cx="733680" cy="762480"/>
                  <a:chOff x="7389000" y="5865840"/>
                  <a:chExt cx="733680" cy="762480"/>
                </a:xfrm>
              </p:grpSpPr>
              <p:pic>
                <p:nvPicPr>
                  <p:cNvPr id="178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19920000">
                    <a:off x="7509240" y="598680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9920000">
                    <a:off x="7438680" y="6147720"/>
                    <a:ext cx="59724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91" name=""/>
                <p:cNvSpPr/>
                <p:nvPr/>
              </p:nvSpPr>
              <p:spPr>
                <a:xfrm flipH="1" rot="1680000">
                  <a:off x="7556400" y="61236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680000">
                  <a:off x="7628400" y="615996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 rot="1680000">
                  <a:off x="7713720" y="621972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 rot="1680000">
                  <a:off x="7682040" y="61023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 rot="1680000">
                  <a:off x="7620840" y="606384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96" name=""/>
            <p:cNvGrpSpPr/>
            <p:nvPr/>
          </p:nvGrpSpPr>
          <p:grpSpPr>
            <a:xfrm>
              <a:off x="6844680" y="6094440"/>
              <a:ext cx="820800" cy="762480"/>
              <a:chOff x="6844680" y="6094440"/>
              <a:chExt cx="820800" cy="762480"/>
            </a:xfrm>
          </p:grpSpPr>
          <p:sp>
            <p:nvSpPr>
              <p:cNvPr id="1797" name=""/>
              <p:cNvSpPr/>
              <p:nvPr/>
            </p:nvSpPr>
            <p:spPr>
              <a:xfrm flipH="1" rot="3480000">
                <a:off x="6923160" y="6219360"/>
                <a:ext cx="236880" cy="3175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6931800" y="6094440"/>
                <a:ext cx="733680" cy="762480"/>
                <a:chOff x="6931800" y="6094440"/>
                <a:chExt cx="733680" cy="762480"/>
              </a:xfrm>
            </p:grpSpPr>
            <p:grpSp>
              <p:nvGrpSpPr>
                <p:cNvPr id="1799" name=""/>
                <p:cNvGrpSpPr/>
                <p:nvPr/>
              </p:nvGrpSpPr>
              <p:grpSpPr>
                <a:xfrm>
                  <a:off x="6931800" y="6094440"/>
                  <a:ext cx="733680" cy="762480"/>
                  <a:chOff x="6931800" y="6094440"/>
                  <a:chExt cx="733680" cy="762480"/>
                </a:xfrm>
              </p:grpSpPr>
              <p:pic>
                <p:nvPicPr>
                  <p:cNvPr id="180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19920000">
                    <a:off x="7052040" y="6215400"/>
                    <a:ext cx="583920" cy="2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19920000">
                    <a:off x="6981480" y="6376320"/>
                    <a:ext cx="597240" cy="3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02" name=""/>
                <p:cNvSpPr/>
                <p:nvPr/>
              </p:nvSpPr>
              <p:spPr>
                <a:xfrm flipH="1" rot="1680000">
                  <a:off x="7099200" y="635220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 rot="1680000">
                  <a:off x="7171200" y="6388560"/>
                  <a:ext cx="56520" cy="1357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 rot="1680000">
                  <a:off x="7256520" y="6448320"/>
                  <a:ext cx="46440" cy="860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680000">
                  <a:off x="7224840" y="63309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 rot="1680000">
                  <a:off x="7163640" y="629244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07" name=""/>
            <p:cNvGrpSpPr/>
            <p:nvPr/>
          </p:nvGrpSpPr>
          <p:grpSpPr>
            <a:xfrm>
              <a:off x="2883600" y="5624280"/>
              <a:ext cx="821160" cy="763920"/>
              <a:chOff x="2883600" y="5624280"/>
              <a:chExt cx="821160" cy="763920"/>
            </a:xfrm>
          </p:grpSpPr>
          <p:sp>
            <p:nvSpPr>
              <p:cNvPr id="1808" name=""/>
              <p:cNvSpPr/>
              <p:nvPr/>
            </p:nvSpPr>
            <p:spPr>
              <a:xfrm flipH="1" rot="3480000">
                <a:off x="2962440" y="5749920"/>
                <a:ext cx="23688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09" name=""/>
              <p:cNvGrpSpPr/>
              <p:nvPr/>
            </p:nvGrpSpPr>
            <p:grpSpPr>
              <a:xfrm>
                <a:off x="2969280" y="5624280"/>
                <a:ext cx="735480" cy="763920"/>
                <a:chOff x="2969280" y="5624280"/>
                <a:chExt cx="735480" cy="763920"/>
              </a:xfrm>
            </p:grpSpPr>
            <p:grpSp>
              <p:nvGrpSpPr>
                <p:cNvPr id="1810" name=""/>
                <p:cNvGrpSpPr/>
                <p:nvPr/>
              </p:nvGrpSpPr>
              <p:grpSpPr>
                <a:xfrm>
                  <a:off x="2969280" y="5624280"/>
                  <a:ext cx="735480" cy="763920"/>
                  <a:chOff x="2969280" y="5624280"/>
                  <a:chExt cx="735480" cy="763920"/>
                </a:xfrm>
              </p:grpSpPr>
              <p:pic>
                <p:nvPicPr>
                  <p:cNvPr id="181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19920000">
                    <a:off x="3088440" y="5745960"/>
                    <a:ext cx="58680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9920000">
                    <a:off x="3018600" y="5907240"/>
                    <a:ext cx="60084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13" name=""/>
                <p:cNvSpPr/>
                <p:nvPr/>
              </p:nvSpPr>
              <p:spPr>
                <a:xfrm flipH="1" rot="1680000">
                  <a:off x="3136680" y="588132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 rot="1680000">
                  <a:off x="3210120" y="591912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 rot="1680000">
                  <a:off x="3296160" y="5977080"/>
                  <a:ext cx="46440" cy="842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 rot="1680000">
                  <a:off x="3263400" y="586152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 rot="1680000">
                  <a:off x="3203280" y="582300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18" name=""/>
            <p:cNvGrpSpPr/>
            <p:nvPr/>
          </p:nvGrpSpPr>
          <p:grpSpPr>
            <a:xfrm>
              <a:off x="7815240" y="5248440"/>
              <a:ext cx="816840" cy="716400"/>
              <a:chOff x="7815240" y="5248440"/>
              <a:chExt cx="816840" cy="716400"/>
            </a:xfrm>
          </p:grpSpPr>
          <p:sp>
            <p:nvSpPr>
              <p:cNvPr id="1819" name=""/>
              <p:cNvSpPr/>
              <p:nvPr/>
            </p:nvSpPr>
            <p:spPr>
              <a:xfrm rot="16500000">
                <a:off x="8292600" y="5231160"/>
                <a:ext cx="23184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7815240" y="5248440"/>
                <a:ext cx="816840" cy="716400"/>
                <a:chOff x="7815240" y="5248440"/>
                <a:chExt cx="816840" cy="71640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7815240" y="5248440"/>
                  <a:ext cx="816840" cy="716400"/>
                  <a:chOff x="7815240" y="5248440"/>
                  <a:chExt cx="816840" cy="716400"/>
                </a:xfrm>
              </p:grpSpPr>
              <p:pic>
                <p:nvPicPr>
                  <p:cNvPr id="182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18300000">
                    <a:off x="7816680" y="5412240"/>
                    <a:ext cx="55188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18300000">
                    <a:off x="8028720" y="5428080"/>
                    <a:ext cx="56484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24" name=""/>
                <p:cNvSpPr/>
                <p:nvPr/>
              </p:nvSpPr>
              <p:spPr>
                <a:xfrm rot="18300000">
                  <a:off x="8327160" y="5392800"/>
                  <a:ext cx="5472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rot="18300000">
                  <a:off x="8281800" y="5457600"/>
                  <a:ext cx="55080" cy="132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rot="18300000">
                  <a:off x="8233200" y="554796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18300000">
                  <a:off x="8178120" y="5441040"/>
                  <a:ext cx="7128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18300000">
                  <a:off x="8208000" y="538020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29" name=""/>
            <p:cNvGrpSpPr/>
            <p:nvPr/>
          </p:nvGrpSpPr>
          <p:grpSpPr>
            <a:xfrm>
              <a:off x="5377680" y="5629320"/>
              <a:ext cx="815760" cy="714960"/>
              <a:chOff x="5377680" y="5629320"/>
              <a:chExt cx="815760" cy="714960"/>
            </a:xfrm>
          </p:grpSpPr>
          <p:sp>
            <p:nvSpPr>
              <p:cNvPr id="1830" name=""/>
              <p:cNvSpPr/>
              <p:nvPr/>
            </p:nvSpPr>
            <p:spPr>
              <a:xfrm rot="16500000">
                <a:off x="5854680" y="5612400"/>
                <a:ext cx="231120" cy="3078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5377680" y="5629320"/>
                <a:ext cx="815760" cy="714960"/>
                <a:chOff x="5377680" y="5629320"/>
                <a:chExt cx="815760" cy="71496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5377680" y="5629320"/>
                  <a:ext cx="815760" cy="714960"/>
                  <a:chOff x="5377680" y="5629320"/>
                  <a:chExt cx="815760" cy="714960"/>
                </a:xfrm>
              </p:grpSpPr>
              <p:pic>
                <p:nvPicPr>
                  <p:cNvPr id="183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18300000">
                    <a:off x="5379840" y="5791680"/>
                    <a:ext cx="549000" cy="2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18300000">
                    <a:off x="5592240" y="5808960"/>
                    <a:ext cx="56196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35" name=""/>
                <p:cNvSpPr/>
                <p:nvPr/>
              </p:nvSpPr>
              <p:spPr>
                <a:xfrm rot="18300000">
                  <a:off x="5887800" y="577404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rot="18300000">
                  <a:off x="5842440" y="583848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18300000">
                  <a:off x="5794560" y="5927400"/>
                  <a:ext cx="45000" cy="82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18300000">
                  <a:off x="5740560" y="582192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8300000">
                  <a:off x="5770080" y="576108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2883600" y="6170040"/>
              <a:ext cx="821160" cy="763920"/>
              <a:chOff x="2883600" y="6170040"/>
              <a:chExt cx="821160" cy="763920"/>
            </a:xfrm>
          </p:grpSpPr>
          <p:sp>
            <p:nvSpPr>
              <p:cNvPr id="1841" name=""/>
              <p:cNvSpPr/>
              <p:nvPr/>
            </p:nvSpPr>
            <p:spPr>
              <a:xfrm flipH="1" rot="3480000">
                <a:off x="2962440" y="6295680"/>
                <a:ext cx="236880" cy="3186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2969280" y="6170040"/>
                <a:ext cx="735480" cy="763920"/>
                <a:chOff x="2969280" y="6170040"/>
                <a:chExt cx="735480" cy="763920"/>
              </a:xfrm>
            </p:grpSpPr>
            <p:grpSp>
              <p:nvGrpSpPr>
                <p:cNvPr id="1843" name=""/>
                <p:cNvGrpSpPr/>
                <p:nvPr/>
              </p:nvGrpSpPr>
              <p:grpSpPr>
                <a:xfrm>
                  <a:off x="2969280" y="6170040"/>
                  <a:ext cx="735480" cy="763920"/>
                  <a:chOff x="2969280" y="6170040"/>
                  <a:chExt cx="735480" cy="763920"/>
                </a:xfrm>
              </p:grpSpPr>
              <p:pic>
                <p:nvPicPr>
                  <p:cNvPr id="184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19920000">
                    <a:off x="3088440" y="6291720"/>
                    <a:ext cx="586800" cy="2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19920000">
                    <a:off x="3018600" y="6453000"/>
                    <a:ext cx="600840" cy="3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46" name=""/>
                <p:cNvSpPr/>
                <p:nvPr/>
              </p:nvSpPr>
              <p:spPr>
                <a:xfrm flipH="1" rot="1680000">
                  <a:off x="3136680" y="6426720"/>
                  <a:ext cx="56520" cy="134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rot="1680000">
                  <a:off x="3210120" y="6464880"/>
                  <a:ext cx="56520" cy="1339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rot="1680000">
                  <a:off x="3296160" y="6522840"/>
                  <a:ext cx="46440" cy="8424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 rot="1680000">
                  <a:off x="3263400" y="640728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 rot="1680000">
                  <a:off x="3203280" y="6368760"/>
                  <a:ext cx="79920" cy="745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51" name=""/>
            <p:cNvGrpSpPr/>
            <p:nvPr/>
          </p:nvGrpSpPr>
          <p:grpSpPr>
            <a:xfrm>
              <a:off x="3701160" y="5857560"/>
              <a:ext cx="815400" cy="714960"/>
              <a:chOff x="3701160" y="5857560"/>
              <a:chExt cx="815400" cy="714960"/>
            </a:xfrm>
          </p:grpSpPr>
          <p:sp>
            <p:nvSpPr>
              <p:cNvPr id="1852" name=""/>
              <p:cNvSpPr/>
              <p:nvPr/>
            </p:nvSpPr>
            <p:spPr>
              <a:xfrm rot="16500000">
                <a:off x="4178160" y="5840280"/>
                <a:ext cx="231120" cy="3081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853" name=""/>
              <p:cNvGrpSpPr/>
              <p:nvPr/>
            </p:nvGrpSpPr>
            <p:grpSpPr>
              <a:xfrm>
                <a:off x="3701160" y="5857560"/>
                <a:ext cx="815400" cy="714960"/>
                <a:chOff x="3701160" y="5857560"/>
                <a:chExt cx="815400" cy="714960"/>
              </a:xfrm>
            </p:grpSpPr>
            <p:grpSp>
              <p:nvGrpSpPr>
                <p:cNvPr id="1854" name=""/>
                <p:cNvGrpSpPr/>
                <p:nvPr/>
              </p:nvGrpSpPr>
              <p:grpSpPr>
                <a:xfrm>
                  <a:off x="3701160" y="5857560"/>
                  <a:ext cx="815400" cy="714960"/>
                  <a:chOff x="3701160" y="5857560"/>
                  <a:chExt cx="815400" cy="714960"/>
                </a:xfrm>
              </p:grpSpPr>
              <p:pic>
                <p:nvPicPr>
                  <p:cNvPr id="185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18300000">
                    <a:off x="3702960" y="6020280"/>
                    <a:ext cx="549000" cy="2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18300000">
                    <a:off x="3915360" y="6037200"/>
                    <a:ext cx="561960" cy="3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857" name=""/>
                <p:cNvSpPr/>
                <p:nvPr/>
              </p:nvSpPr>
              <p:spPr>
                <a:xfrm rot="18300000">
                  <a:off x="4211280" y="6002280"/>
                  <a:ext cx="54720" cy="1303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rot="18300000">
                  <a:off x="4166280" y="6066720"/>
                  <a:ext cx="54720" cy="1306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rot="18300000">
                  <a:off x="4117680" y="6155640"/>
                  <a:ext cx="45000" cy="82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18300000">
                  <a:off x="4063680" y="6050160"/>
                  <a:ext cx="7092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18300000">
                  <a:off x="4093200" y="5989320"/>
                  <a:ext cx="77760" cy="723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862" name=""/>
            <p:cNvGrpSpPr/>
            <p:nvPr/>
          </p:nvGrpSpPr>
          <p:grpSpPr>
            <a:xfrm>
              <a:off x="8148240" y="5645880"/>
              <a:ext cx="841680" cy="901800"/>
              <a:chOff x="8148240" y="5645880"/>
              <a:chExt cx="841680" cy="901800"/>
            </a:xfrm>
          </p:grpSpPr>
          <p:grpSp>
            <p:nvGrpSpPr>
              <p:cNvPr id="1863" name=""/>
              <p:cNvGrpSpPr/>
              <p:nvPr/>
            </p:nvGrpSpPr>
            <p:grpSpPr>
              <a:xfrm>
                <a:off x="8305920" y="5865840"/>
                <a:ext cx="684000" cy="681840"/>
                <a:chOff x="8305920" y="5865840"/>
                <a:chExt cx="684000" cy="681840"/>
              </a:xfrm>
            </p:grpSpPr>
            <p:pic>
              <p:nvPicPr>
                <p:cNvPr id="1864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491680" y="6127560"/>
                  <a:ext cx="28548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05920" y="5865840"/>
                  <a:ext cx="68400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66" name=""/>
              <p:cNvGrpSpPr/>
              <p:nvPr/>
            </p:nvGrpSpPr>
            <p:grpSpPr>
              <a:xfrm>
                <a:off x="8148240" y="5645880"/>
                <a:ext cx="769680" cy="713520"/>
                <a:chOff x="8148240" y="5645880"/>
                <a:chExt cx="769680" cy="713520"/>
              </a:xfrm>
            </p:grpSpPr>
            <p:sp>
              <p:nvSpPr>
                <p:cNvPr id="1867" name=""/>
                <p:cNvSpPr/>
                <p:nvPr/>
              </p:nvSpPr>
              <p:spPr>
                <a:xfrm flipH="1" rot="3480000">
                  <a:off x="8223480" y="5763960"/>
                  <a:ext cx="21888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1868" name=""/>
                <p:cNvGrpSpPr/>
                <p:nvPr/>
              </p:nvGrpSpPr>
              <p:grpSpPr>
                <a:xfrm>
                  <a:off x="8227440" y="5645880"/>
                  <a:ext cx="690480" cy="713520"/>
                  <a:chOff x="8227440" y="5645880"/>
                  <a:chExt cx="690480" cy="713520"/>
                </a:xfrm>
              </p:grpSpPr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8227440" y="5645880"/>
                    <a:ext cx="690480" cy="713520"/>
                    <a:chOff x="8227440" y="5645880"/>
                    <a:chExt cx="690480" cy="713520"/>
                  </a:xfrm>
                </p:grpSpPr>
                <p:pic>
                  <p:nvPicPr>
                    <p:cNvPr id="1870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 rot="19920000">
                      <a:off x="8341200" y="5759640"/>
                      <a:ext cx="549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1" name=""/>
                    <p:cNvSpPr/>
                    <p:nvPr/>
                  </p:nvSpPr>
                  <p:spPr>
                    <a:xfrm flipH="1" rot="1680000">
                      <a:off x="8273160" y="5911560"/>
                      <a:ext cx="561240" cy="33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1872" name=""/>
                  <p:cNvSpPr/>
                  <p:nvPr/>
                </p:nvSpPr>
                <p:spPr>
                  <a:xfrm flipH="1" rot="1680000">
                    <a:off x="8384760" y="588816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H="1" rot="1680000">
                    <a:off x="8453160" y="592272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 flipH="1" rot="1680000">
                    <a:off x="8531640" y="5978880"/>
                    <a:ext cx="432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H="1" rot="1680000">
                    <a:off x="8504280" y="586836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H="1" rot="1680000">
                    <a:off x="8446680" y="5830200"/>
                    <a:ext cx="752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1877" name=""/>
            <p:cNvGrpSpPr/>
            <p:nvPr/>
          </p:nvGrpSpPr>
          <p:grpSpPr>
            <a:xfrm>
              <a:off x="7327800" y="5253840"/>
              <a:ext cx="857160" cy="307800"/>
              <a:chOff x="7327800" y="5253840"/>
              <a:chExt cx="857160" cy="307800"/>
            </a:xfrm>
          </p:grpSpPr>
          <p:grpSp>
            <p:nvGrpSpPr>
              <p:cNvPr id="1878" name=""/>
              <p:cNvGrpSpPr/>
              <p:nvPr/>
            </p:nvGrpSpPr>
            <p:grpSpPr>
              <a:xfrm>
                <a:off x="7327800" y="5253840"/>
                <a:ext cx="517320" cy="245520"/>
                <a:chOff x="7327800" y="5253840"/>
                <a:chExt cx="517320" cy="245520"/>
              </a:xfrm>
            </p:grpSpPr>
            <p:grpSp>
              <p:nvGrpSpPr>
                <p:cNvPr id="1879" name=""/>
                <p:cNvGrpSpPr/>
                <p:nvPr/>
              </p:nvGrpSpPr>
              <p:grpSpPr>
                <a:xfrm>
                  <a:off x="7327800" y="5291640"/>
                  <a:ext cx="254880" cy="207720"/>
                  <a:chOff x="7327800" y="5291640"/>
                  <a:chExt cx="254880" cy="207720"/>
                </a:xfrm>
              </p:grpSpPr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7498440" y="5291640"/>
                    <a:ext cx="84240" cy="149400"/>
                    <a:chOff x="7498440" y="5291640"/>
                    <a:chExt cx="84240" cy="1494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 flipH="1" rot="21420000">
                      <a:off x="7501680" y="529344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 flipH="1" rot="21420000">
                      <a:off x="7506720" y="5294880"/>
                      <a:ext cx="4968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83" name=""/>
                  <p:cNvGrpSpPr/>
                  <p:nvPr/>
                </p:nvGrpSpPr>
                <p:grpSpPr>
                  <a:xfrm>
                    <a:off x="7433640" y="5303880"/>
                    <a:ext cx="117720" cy="163080"/>
                    <a:chOff x="7433640" y="5303880"/>
                    <a:chExt cx="117720" cy="163080"/>
                  </a:xfrm>
                </p:grpSpPr>
                <p:sp>
                  <p:nvSpPr>
                    <p:cNvPr id="1884" name=""/>
                    <p:cNvSpPr/>
                    <p:nvPr/>
                  </p:nvSpPr>
                  <p:spPr>
                    <a:xfrm flipH="1" rot="21000000">
                      <a:off x="7444440" y="5310720"/>
                      <a:ext cx="9468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 flipH="1" rot="21000000">
                      <a:off x="7451280" y="5313960"/>
                      <a:ext cx="612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7327800" y="5308560"/>
                    <a:ext cx="180360" cy="190800"/>
                    <a:chOff x="7327800" y="5308560"/>
                    <a:chExt cx="180360" cy="19080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 flipH="1" rot="19860000">
                      <a:off x="7354080" y="5330160"/>
                      <a:ext cx="126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 flipH="1" rot="19860000">
                      <a:off x="7367760" y="5337000"/>
                      <a:ext cx="817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7585560" y="5253840"/>
                  <a:ext cx="259560" cy="213840"/>
                  <a:chOff x="7585560" y="5253840"/>
                  <a:chExt cx="259560" cy="213840"/>
                </a:xfrm>
              </p:grpSpPr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7585560" y="5253840"/>
                    <a:ext cx="93240" cy="152640"/>
                    <a:chOff x="7585560" y="5253840"/>
                    <a:chExt cx="93240" cy="1526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 rot="300000">
                      <a:off x="7591320" y="5257080"/>
                      <a:ext cx="817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 rot="300000">
                      <a:off x="7616880" y="5259960"/>
                      <a:ext cx="529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7618680" y="5267520"/>
                    <a:ext cx="124200" cy="167400"/>
                    <a:chOff x="7618680" y="5267520"/>
                    <a:chExt cx="124200" cy="16740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 rot="720000">
                      <a:off x="7632000" y="5275800"/>
                      <a:ext cx="9720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 rot="720000">
                      <a:off x="7662240" y="5280480"/>
                      <a:ext cx="6264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7661880" y="5275440"/>
                    <a:ext cx="183240" cy="192240"/>
                    <a:chOff x="7661880" y="5275440"/>
                    <a:chExt cx="183240" cy="19224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 rot="1860000">
                      <a:off x="7689240" y="5298120"/>
                      <a:ext cx="1285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 rot="1860000">
                      <a:off x="7723440" y="5306760"/>
                      <a:ext cx="824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899" name=""/>
              <p:cNvGrpSpPr/>
              <p:nvPr/>
            </p:nvGrpSpPr>
            <p:grpSpPr>
              <a:xfrm>
                <a:off x="7687800" y="5275800"/>
                <a:ext cx="497160" cy="285840"/>
                <a:chOff x="7687800" y="5275800"/>
                <a:chExt cx="497160" cy="28584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7909200" y="5319360"/>
                  <a:ext cx="275760" cy="242280"/>
                  <a:chOff x="7909200" y="5319360"/>
                  <a:chExt cx="275760" cy="242280"/>
                </a:xfrm>
              </p:grpSpPr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7909200" y="5319360"/>
                    <a:ext cx="132840" cy="170280"/>
                    <a:chOff x="7909200" y="5319360"/>
                    <a:chExt cx="132840" cy="17028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 rot="840000">
                      <a:off x="7924680" y="5329440"/>
                      <a:ext cx="101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 rot="840000">
                      <a:off x="7953840" y="5334120"/>
                      <a:ext cx="651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7939440" y="5341680"/>
                    <a:ext cx="159480" cy="182160"/>
                    <a:chOff x="7939440" y="5341680"/>
                    <a:chExt cx="159480" cy="18216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 rot="1260000">
                      <a:off x="7961400" y="5357520"/>
                      <a:ext cx="1155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 rot="1260000">
                      <a:off x="7994520" y="5364000"/>
                      <a:ext cx="74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7989840" y="5366160"/>
                    <a:ext cx="195120" cy="195480"/>
                    <a:chOff x="7989840" y="5366160"/>
                    <a:chExt cx="195120" cy="19548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 rot="2400000">
                      <a:off x="8016480" y="539532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 rot="2400000">
                      <a:off x="8047800" y="5405040"/>
                      <a:ext cx="9108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7687800" y="5275800"/>
                  <a:ext cx="255960" cy="189000"/>
                  <a:chOff x="7687800" y="5275800"/>
                  <a:chExt cx="255960" cy="189000"/>
                </a:xfrm>
              </p:grpSpPr>
              <p:grpSp>
                <p:nvGrpSpPr>
                  <p:cNvPr id="1911" name=""/>
                  <p:cNvGrpSpPr/>
                  <p:nvPr/>
                </p:nvGrpSpPr>
                <p:grpSpPr>
                  <a:xfrm>
                    <a:off x="7842240" y="5275800"/>
                    <a:ext cx="101520" cy="154440"/>
                    <a:chOff x="7842240" y="5275800"/>
                    <a:chExt cx="101520" cy="154440"/>
                  </a:xfrm>
                </p:grpSpPr>
                <p:sp>
                  <p:nvSpPr>
                    <p:cNvPr id="1912" name=""/>
                    <p:cNvSpPr/>
                    <p:nvPr/>
                  </p:nvSpPr>
                  <p:spPr>
                    <a:xfrm flipH="1" rot="420000">
                      <a:off x="7850160" y="5280480"/>
                      <a:ext cx="8532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3" name=""/>
                    <p:cNvSpPr/>
                    <p:nvPr/>
                  </p:nvSpPr>
                  <p:spPr>
                    <a:xfrm flipH="1" rot="420000">
                      <a:off x="7850880" y="5281920"/>
                      <a:ext cx="5508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14" name=""/>
                  <p:cNvGrpSpPr/>
                  <p:nvPr/>
                </p:nvGrpSpPr>
                <p:grpSpPr>
                  <a:xfrm>
                    <a:off x="7803000" y="5295240"/>
                    <a:ext cx="76680" cy="145080"/>
                    <a:chOff x="7803000" y="5295240"/>
                    <a:chExt cx="76680" cy="145080"/>
                  </a:xfrm>
                </p:grpSpPr>
                <p:sp>
                  <p:nvSpPr>
                    <p:cNvPr id="1915" name=""/>
                    <p:cNvSpPr/>
                    <p:nvPr/>
                  </p:nvSpPr>
                  <p:spPr>
                    <a:xfrm flipH="1" rot="21540000">
                      <a:off x="7803720" y="5295600"/>
                      <a:ext cx="741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 flipH="1" rot="21540000">
                      <a:off x="7806600" y="529848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17" name=""/>
                  <p:cNvGrpSpPr/>
                  <p:nvPr/>
                </p:nvGrpSpPr>
                <p:grpSpPr>
                  <a:xfrm>
                    <a:off x="7687800" y="5285880"/>
                    <a:ext cx="155160" cy="178920"/>
                    <a:chOff x="7687800" y="5285880"/>
                    <a:chExt cx="155160" cy="178920"/>
                  </a:xfrm>
                </p:grpSpPr>
                <p:sp>
                  <p:nvSpPr>
                    <p:cNvPr id="1918" name=""/>
                    <p:cNvSpPr/>
                    <p:nvPr/>
                  </p:nvSpPr>
                  <p:spPr>
                    <a:xfrm flipH="1" rot="20400000">
                      <a:off x="7708680" y="5300640"/>
                      <a:ext cx="1123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 flipH="1" rot="20400000">
                      <a:off x="7715880" y="5303520"/>
                      <a:ext cx="7164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20" name=""/>
            <p:cNvGrpSpPr/>
            <p:nvPr/>
          </p:nvGrpSpPr>
          <p:grpSpPr>
            <a:xfrm>
              <a:off x="7480440" y="6470640"/>
              <a:ext cx="856800" cy="309600"/>
              <a:chOff x="7480440" y="6470640"/>
              <a:chExt cx="856800" cy="309600"/>
            </a:xfrm>
          </p:grpSpPr>
          <p:grpSp>
            <p:nvGrpSpPr>
              <p:cNvPr id="1921" name=""/>
              <p:cNvGrpSpPr/>
              <p:nvPr/>
            </p:nvGrpSpPr>
            <p:grpSpPr>
              <a:xfrm>
                <a:off x="7480440" y="6470640"/>
                <a:ext cx="516960" cy="245160"/>
                <a:chOff x="7480440" y="6470640"/>
                <a:chExt cx="516960" cy="245160"/>
              </a:xfrm>
            </p:grpSpPr>
            <p:grpSp>
              <p:nvGrpSpPr>
                <p:cNvPr id="1922" name=""/>
                <p:cNvGrpSpPr/>
                <p:nvPr/>
              </p:nvGrpSpPr>
              <p:grpSpPr>
                <a:xfrm>
                  <a:off x="7480440" y="6509880"/>
                  <a:ext cx="254880" cy="205920"/>
                  <a:chOff x="7480440" y="6509880"/>
                  <a:chExt cx="254880" cy="205920"/>
                </a:xfrm>
              </p:grpSpPr>
              <p:grpSp>
                <p:nvGrpSpPr>
                  <p:cNvPr id="1923" name=""/>
                  <p:cNvGrpSpPr/>
                  <p:nvPr/>
                </p:nvGrpSpPr>
                <p:grpSpPr>
                  <a:xfrm>
                    <a:off x="7651080" y="6509880"/>
                    <a:ext cx="84240" cy="147240"/>
                    <a:chOff x="7651080" y="6509880"/>
                    <a:chExt cx="84240" cy="147240"/>
                  </a:xfrm>
                </p:grpSpPr>
                <p:sp>
                  <p:nvSpPr>
                    <p:cNvPr id="1924" name=""/>
                    <p:cNvSpPr/>
                    <p:nvPr/>
                  </p:nvSpPr>
                  <p:spPr>
                    <a:xfrm flipH="1" rot="21420000">
                      <a:off x="7654320" y="6511680"/>
                      <a:ext cx="7740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 flipH="1" rot="21420000">
                      <a:off x="7659000" y="651312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26" name=""/>
                  <p:cNvGrpSpPr/>
                  <p:nvPr/>
                </p:nvGrpSpPr>
                <p:grpSpPr>
                  <a:xfrm>
                    <a:off x="7585920" y="6521760"/>
                    <a:ext cx="117720" cy="161280"/>
                    <a:chOff x="7585920" y="6521760"/>
                    <a:chExt cx="117720" cy="161280"/>
                  </a:xfrm>
                </p:grpSpPr>
                <p:sp>
                  <p:nvSpPr>
                    <p:cNvPr id="1927" name=""/>
                    <p:cNvSpPr/>
                    <p:nvPr/>
                  </p:nvSpPr>
                  <p:spPr>
                    <a:xfrm flipH="1" rot="21000000">
                      <a:off x="7596720" y="6528960"/>
                      <a:ext cx="9504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28" name=""/>
                    <p:cNvSpPr/>
                    <p:nvPr/>
                  </p:nvSpPr>
                  <p:spPr>
                    <a:xfrm flipH="1" rot="21000000">
                      <a:off x="7603560" y="6531840"/>
                      <a:ext cx="6120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29" name=""/>
                  <p:cNvGrpSpPr/>
                  <p:nvPr/>
                </p:nvGrpSpPr>
                <p:grpSpPr>
                  <a:xfrm>
                    <a:off x="7480440" y="6527160"/>
                    <a:ext cx="181440" cy="188640"/>
                    <a:chOff x="7480440" y="6527160"/>
                    <a:chExt cx="181440" cy="188640"/>
                  </a:xfrm>
                </p:grpSpPr>
                <p:sp>
                  <p:nvSpPr>
                    <p:cNvPr id="1930" name=""/>
                    <p:cNvSpPr/>
                    <p:nvPr/>
                  </p:nvSpPr>
                  <p:spPr>
                    <a:xfrm flipH="1" rot="19860000">
                      <a:off x="7507080" y="6549120"/>
                      <a:ext cx="1281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1" name=""/>
                    <p:cNvSpPr/>
                    <p:nvPr/>
                  </p:nvSpPr>
                  <p:spPr>
                    <a:xfrm flipH="1" rot="19860000">
                      <a:off x="7518600" y="6553440"/>
                      <a:ext cx="8208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32" name=""/>
                <p:cNvGrpSpPr/>
                <p:nvPr/>
              </p:nvGrpSpPr>
              <p:grpSpPr>
                <a:xfrm>
                  <a:off x="7738560" y="6470640"/>
                  <a:ext cx="258840" cy="212760"/>
                  <a:chOff x="7738560" y="6470640"/>
                  <a:chExt cx="258840" cy="212760"/>
                </a:xfrm>
              </p:grpSpPr>
              <p:grpSp>
                <p:nvGrpSpPr>
                  <p:cNvPr id="1933" name=""/>
                  <p:cNvGrpSpPr/>
                  <p:nvPr/>
                </p:nvGrpSpPr>
                <p:grpSpPr>
                  <a:xfrm>
                    <a:off x="7738560" y="6470640"/>
                    <a:ext cx="92520" cy="150840"/>
                    <a:chOff x="7738560" y="6470640"/>
                    <a:chExt cx="92520" cy="150840"/>
                  </a:xfrm>
                </p:grpSpPr>
                <p:sp>
                  <p:nvSpPr>
                    <p:cNvPr id="1934" name=""/>
                    <p:cNvSpPr/>
                    <p:nvPr/>
                  </p:nvSpPr>
                  <p:spPr>
                    <a:xfrm rot="300000">
                      <a:off x="7743960" y="6473880"/>
                      <a:ext cx="813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 rot="300000">
                      <a:off x="7768800" y="6478200"/>
                      <a:ext cx="522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7769880" y="6485760"/>
                    <a:ext cx="123480" cy="165240"/>
                    <a:chOff x="7769880" y="6485760"/>
                    <a:chExt cx="123480" cy="165240"/>
                  </a:xfrm>
                </p:grpSpPr>
                <p:sp>
                  <p:nvSpPr>
                    <p:cNvPr id="1937" name=""/>
                    <p:cNvSpPr/>
                    <p:nvPr/>
                  </p:nvSpPr>
                  <p:spPr>
                    <a:xfrm rot="720000">
                      <a:off x="7783200" y="6494040"/>
                      <a:ext cx="96840" cy="13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 rot="720000">
                      <a:off x="7812720" y="6498720"/>
                      <a:ext cx="6264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7813800" y="6492960"/>
                    <a:ext cx="183600" cy="190440"/>
                    <a:chOff x="7813800" y="6492960"/>
                    <a:chExt cx="183600" cy="19044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 rot="1860000">
                      <a:off x="7840800" y="6515640"/>
                      <a:ext cx="12888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 rot="1860000">
                      <a:off x="7875360" y="6522480"/>
                      <a:ext cx="831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942" name=""/>
              <p:cNvGrpSpPr/>
              <p:nvPr/>
            </p:nvGrpSpPr>
            <p:grpSpPr>
              <a:xfrm>
                <a:off x="7839360" y="6494400"/>
                <a:ext cx="497880" cy="285840"/>
                <a:chOff x="7839360" y="6494400"/>
                <a:chExt cx="497880" cy="28584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8061840" y="6537960"/>
                  <a:ext cx="275400" cy="242280"/>
                  <a:chOff x="8061840" y="6537960"/>
                  <a:chExt cx="275400" cy="242280"/>
                </a:xfrm>
              </p:grpSpPr>
              <p:grpSp>
                <p:nvGrpSpPr>
                  <p:cNvPr id="1944" name=""/>
                  <p:cNvGrpSpPr/>
                  <p:nvPr/>
                </p:nvGrpSpPr>
                <p:grpSpPr>
                  <a:xfrm>
                    <a:off x="8061840" y="6537960"/>
                    <a:ext cx="132480" cy="170640"/>
                    <a:chOff x="8061840" y="6537960"/>
                    <a:chExt cx="132480" cy="170640"/>
                  </a:xfrm>
                </p:grpSpPr>
                <p:sp>
                  <p:nvSpPr>
                    <p:cNvPr id="1945" name=""/>
                    <p:cNvSpPr/>
                    <p:nvPr/>
                  </p:nvSpPr>
                  <p:spPr>
                    <a:xfrm rot="840000">
                      <a:off x="8077320" y="654804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6" name=""/>
                    <p:cNvSpPr/>
                    <p:nvPr/>
                  </p:nvSpPr>
                  <p:spPr>
                    <a:xfrm rot="840000">
                      <a:off x="8106120" y="6552360"/>
                      <a:ext cx="6552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47" name=""/>
                  <p:cNvGrpSpPr/>
                  <p:nvPr/>
                </p:nvGrpSpPr>
                <p:grpSpPr>
                  <a:xfrm>
                    <a:off x="8092080" y="6560280"/>
                    <a:ext cx="159120" cy="182160"/>
                    <a:chOff x="8092080" y="6560280"/>
                    <a:chExt cx="159120" cy="182160"/>
                  </a:xfrm>
                </p:grpSpPr>
                <p:sp>
                  <p:nvSpPr>
                    <p:cNvPr id="1948" name=""/>
                    <p:cNvSpPr/>
                    <p:nvPr/>
                  </p:nvSpPr>
                  <p:spPr>
                    <a:xfrm rot="1260000">
                      <a:off x="8113680" y="6576120"/>
                      <a:ext cx="11556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 rot="1260000">
                      <a:off x="8146440" y="6582960"/>
                      <a:ext cx="7452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50" name=""/>
                  <p:cNvGrpSpPr/>
                  <p:nvPr/>
                </p:nvGrpSpPr>
                <p:grpSpPr>
                  <a:xfrm>
                    <a:off x="8142120" y="6584760"/>
                    <a:ext cx="195120" cy="195480"/>
                    <a:chOff x="8142120" y="6584760"/>
                    <a:chExt cx="195120" cy="195480"/>
                  </a:xfrm>
                </p:grpSpPr>
                <p:sp>
                  <p:nvSpPr>
                    <p:cNvPr id="1951" name=""/>
                    <p:cNvSpPr/>
                    <p:nvPr/>
                  </p:nvSpPr>
                  <p:spPr>
                    <a:xfrm rot="2400000">
                      <a:off x="8168760" y="6613920"/>
                      <a:ext cx="14112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 rot="2400000">
                      <a:off x="8200080" y="6624000"/>
                      <a:ext cx="9108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839360" y="6494400"/>
                  <a:ext cx="256680" cy="189360"/>
                  <a:chOff x="7839360" y="6494400"/>
                  <a:chExt cx="256680" cy="189360"/>
                </a:xfrm>
              </p:grpSpPr>
              <p:grpSp>
                <p:nvGrpSpPr>
                  <p:cNvPr id="1954" name=""/>
                  <p:cNvGrpSpPr/>
                  <p:nvPr/>
                </p:nvGrpSpPr>
                <p:grpSpPr>
                  <a:xfrm>
                    <a:off x="7994520" y="6494400"/>
                    <a:ext cx="101520" cy="154440"/>
                    <a:chOff x="7994520" y="6494400"/>
                    <a:chExt cx="101520" cy="154440"/>
                  </a:xfrm>
                </p:grpSpPr>
                <p:sp>
                  <p:nvSpPr>
                    <p:cNvPr id="1955" name=""/>
                    <p:cNvSpPr/>
                    <p:nvPr/>
                  </p:nvSpPr>
                  <p:spPr>
                    <a:xfrm flipH="1" rot="420000">
                      <a:off x="8002440" y="6499080"/>
                      <a:ext cx="8568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 flipH="1" rot="420000">
                      <a:off x="8003160" y="6500160"/>
                      <a:ext cx="5544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57" name=""/>
                  <p:cNvGrpSpPr/>
                  <p:nvPr/>
                </p:nvGrpSpPr>
                <p:grpSpPr>
                  <a:xfrm>
                    <a:off x="7955640" y="6513840"/>
                    <a:ext cx="76680" cy="144720"/>
                    <a:chOff x="7955640" y="6513840"/>
                    <a:chExt cx="76680" cy="144720"/>
                  </a:xfrm>
                </p:grpSpPr>
                <p:sp>
                  <p:nvSpPr>
                    <p:cNvPr id="1958" name=""/>
                    <p:cNvSpPr/>
                    <p:nvPr/>
                  </p:nvSpPr>
                  <p:spPr>
                    <a:xfrm flipH="1" rot="21540000">
                      <a:off x="7956360" y="6514200"/>
                      <a:ext cx="741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 flipH="1" rot="21540000">
                      <a:off x="7959240" y="6517080"/>
                      <a:ext cx="4788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60" name=""/>
                  <p:cNvGrpSpPr/>
                  <p:nvPr/>
                </p:nvGrpSpPr>
                <p:grpSpPr>
                  <a:xfrm>
                    <a:off x="7839360" y="6504480"/>
                    <a:ext cx="155160" cy="179280"/>
                    <a:chOff x="7839360" y="6504480"/>
                    <a:chExt cx="155160" cy="179280"/>
                  </a:xfrm>
                </p:grpSpPr>
                <p:sp>
                  <p:nvSpPr>
                    <p:cNvPr id="1961" name=""/>
                    <p:cNvSpPr/>
                    <p:nvPr/>
                  </p:nvSpPr>
                  <p:spPr>
                    <a:xfrm flipH="1" rot="20400000">
                      <a:off x="7860240" y="6519240"/>
                      <a:ext cx="11232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62" name=""/>
                    <p:cNvSpPr/>
                    <p:nvPr/>
                  </p:nvSpPr>
                  <p:spPr>
                    <a:xfrm flipH="1" rot="20400000">
                      <a:off x="7867440" y="6522480"/>
                      <a:ext cx="7236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63" name=""/>
            <p:cNvGrpSpPr/>
            <p:nvPr/>
          </p:nvGrpSpPr>
          <p:grpSpPr>
            <a:xfrm>
              <a:off x="8318520" y="6396120"/>
              <a:ext cx="856800" cy="307440"/>
              <a:chOff x="8318520" y="6396120"/>
              <a:chExt cx="856800" cy="307440"/>
            </a:xfrm>
          </p:grpSpPr>
          <p:grpSp>
            <p:nvGrpSpPr>
              <p:cNvPr id="1964" name=""/>
              <p:cNvGrpSpPr/>
              <p:nvPr/>
            </p:nvGrpSpPr>
            <p:grpSpPr>
              <a:xfrm>
                <a:off x="8318520" y="6396120"/>
                <a:ext cx="517320" cy="245520"/>
                <a:chOff x="8318520" y="6396120"/>
                <a:chExt cx="517320" cy="245520"/>
              </a:xfrm>
            </p:grpSpPr>
            <p:grpSp>
              <p:nvGrpSpPr>
                <p:cNvPr id="1965" name=""/>
                <p:cNvGrpSpPr/>
                <p:nvPr/>
              </p:nvGrpSpPr>
              <p:grpSpPr>
                <a:xfrm>
                  <a:off x="8318520" y="6433920"/>
                  <a:ext cx="254880" cy="207720"/>
                  <a:chOff x="8318520" y="6433920"/>
                  <a:chExt cx="254880" cy="207720"/>
                </a:xfrm>
              </p:grpSpPr>
              <p:grpSp>
                <p:nvGrpSpPr>
                  <p:cNvPr id="1966" name=""/>
                  <p:cNvGrpSpPr/>
                  <p:nvPr/>
                </p:nvGrpSpPr>
                <p:grpSpPr>
                  <a:xfrm>
                    <a:off x="8489160" y="6433920"/>
                    <a:ext cx="84240" cy="149400"/>
                    <a:chOff x="8489160" y="6433920"/>
                    <a:chExt cx="84240" cy="149400"/>
                  </a:xfrm>
                </p:grpSpPr>
                <p:sp>
                  <p:nvSpPr>
                    <p:cNvPr id="1967" name=""/>
                    <p:cNvSpPr/>
                    <p:nvPr/>
                  </p:nvSpPr>
                  <p:spPr>
                    <a:xfrm flipH="1" rot="21420000">
                      <a:off x="8492400" y="6435720"/>
                      <a:ext cx="7740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68" name=""/>
                    <p:cNvSpPr/>
                    <p:nvPr/>
                  </p:nvSpPr>
                  <p:spPr>
                    <a:xfrm flipH="1" rot="21420000">
                      <a:off x="8497440" y="6437160"/>
                      <a:ext cx="5004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69" name=""/>
                  <p:cNvGrpSpPr/>
                  <p:nvPr/>
                </p:nvGrpSpPr>
                <p:grpSpPr>
                  <a:xfrm>
                    <a:off x="8424360" y="6446160"/>
                    <a:ext cx="118080" cy="163440"/>
                    <a:chOff x="8424360" y="6446160"/>
                    <a:chExt cx="118080" cy="163440"/>
                  </a:xfrm>
                </p:grpSpPr>
                <p:sp>
                  <p:nvSpPr>
                    <p:cNvPr id="1970" name=""/>
                    <p:cNvSpPr/>
                    <p:nvPr/>
                  </p:nvSpPr>
                  <p:spPr>
                    <a:xfrm flipH="1" rot="21000000">
                      <a:off x="8435880" y="6453360"/>
                      <a:ext cx="9504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1" name=""/>
                    <p:cNvSpPr/>
                    <p:nvPr/>
                  </p:nvSpPr>
                  <p:spPr>
                    <a:xfrm flipH="1" rot="21000000">
                      <a:off x="8441640" y="6456240"/>
                      <a:ext cx="6156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8318520" y="6450840"/>
                    <a:ext cx="180360" cy="190800"/>
                    <a:chOff x="8318520" y="6450840"/>
                    <a:chExt cx="180360" cy="19080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 flipH="1" rot="19860000">
                      <a:off x="8344800" y="6472440"/>
                      <a:ext cx="12672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 flipH="1" rot="19860000">
                      <a:off x="8355600" y="6479280"/>
                      <a:ext cx="817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8576280" y="6396120"/>
                  <a:ext cx="259560" cy="214200"/>
                  <a:chOff x="8576280" y="6396120"/>
                  <a:chExt cx="259560" cy="214200"/>
                </a:xfrm>
              </p:grpSpPr>
              <p:grpSp>
                <p:nvGrpSpPr>
                  <p:cNvPr id="1976" name=""/>
                  <p:cNvGrpSpPr/>
                  <p:nvPr/>
                </p:nvGrpSpPr>
                <p:grpSpPr>
                  <a:xfrm>
                    <a:off x="8576280" y="6396120"/>
                    <a:ext cx="93600" cy="152640"/>
                    <a:chOff x="8576280" y="6396120"/>
                    <a:chExt cx="93600" cy="152640"/>
                  </a:xfrm>
                </p:grpSpPr>
                <p:sp>
                  <p:nvSpPr>
                    <p:cNvPr id="1977" name=""/>
                    <p:cNvSpPr/>
                    <p:nvPr/>
                  </p:nvSpPr>
                  <p:spPr>
                    <a:xfrm rot="300000">
                      <a:off x="8582040" y="6399360"/>
                      <a:ext cx="820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 rot="300000">
                      <a:off x="8607240" y="6402240"/>
                      <a:ext cx="529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79" name=""/>
                  <p:cNvGrpSpPr/>
                  <p:nvPr/>
                </p:nvGrpSpPr>
                <p:grpSpPr>
                  <a:xfrm>
                    <a:off x="8608320" y="6409800"/>
                    <a:ext cx="125280" cy="167760"/>
                    <a:chOff x="8608320" y="6409800"/>
                    <a:chExt cx="125280" cy="167760"/>
                  </a:xfrm>
                </p:grpSpPr>
                <p:sp>
                  <p:nvSpPr>
                    <p:cNvPr id="1980" name=""/>
                    <p:cNvSpPr/>
                    <p:nvPr/>
                  </p:nvSpPr>
                  <p:spPr>
                    <a:xfrm rot="720000">
                      <a:off x="8621640" y="6418440"/>
                      <a:ext cx="9828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 rot="720000">
                      <a:off x="8651880" y="6422760"/>
                      <a:ext cx="63360" cy="14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651520" y="6417360"/>
                    <a:ext cx="184320" cy="192960"/>
                    <a:chOff x="8651520" y="6417360"/>
                    <a:chExt cx="184320" cy="19296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 rot="1860000">
                      <a:off x="8678520" y="6440400"/>
                      <a:ext cx="1299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rot="1860000">
                      <a:off x="8713080" y="6448680"/>
                      <a:ext cx="83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8678160" y="6418080"/>
                <a:ext cx="497160" cy="285480"/>
                <a:chOff x="8678160" y="6418080"/>
                <a:chExt cx="497160" cy="285480"/>
              </a:xfrm>
            </p:grpSpPr>
            <p:grpSp>
              <p:nvGrpSpPr>
                <p:cNvPr id="1986" name=""/>
                <p:cNvGrpSpPr/>
                <p:nvPr/>
              </p:nvGrpSpPr>
              <p:grpSpPr>
                <a:xfrm>
                  <a:off x="8899920" y="6461640"/>
                  <a:ext cx="275400" cy="241920"/>
                  <a:chOff x="8899920" y="6461640"/>
                  <a:chExt cx="275400" cy="241920"/>
                </a:xfrm>
              </p:grpSpPr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899920" y="6461640"/>
                    <a:ext cx="132480" cy="170280"/>
                    <a:chOff x="8899920" y="6461640"/>
                    <a:chExt cx="132480" cy="17028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rot="840000">
                      <a:off x="8915400" y="6471720"/>
                      <a:ext cx="1011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rot="840000">
                      <a:off x="8943840" y="6476400"/>
                      <a:ext cx="651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8929800" y="6483960"/>
                    <a:ext cx="159480" cy="182160"/>
                    <a:chOff x="8929800" y="6483960"/>
                    <a:chExt cx="159480" cy="18216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 rot="1260000">
                      <a:off x="8951760" y="6499800"/>
                      <a:ext cx="11556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 rot="1260000">
                      <a:off x="8984520" y="6506280"/>
                      <a:ext cx="74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8980200" y="6508800"/>
                    <a:ext cx="195120" cy="194760"/>
                    <a:chOff x="8980200" y="6508800"/>
                    <a:chExt cx="195120" cy="19476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 rot="2400000">
                      <a:off x="9007200" y="6537960"/>
                      <a:ext cx="140760" cy="13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rot="2400000">
                      <a:off x="9041040" y="6547320"/>
                      <a:ext cx="90720" cy="14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8678160" y="6418080"/>
                  <a:ext cx="255600" cy="189720"/>
                  <a:chOff x="8678160" y="6418080"/>
                  <a:chExt cx="255600" cy="189720"/>
                </a:xfrm>
              </p:grpSpPr>
              <p:grpSp>
                <p:nvGrpSpPr>
                  <p:cNvPr id="1997" name=""/>
                  <p:cNvGrpSpPr/>
                  <p:nvPr/>
                </p:nvGrpSpPr>
                <p:grpSpPr>
                  <a:xfrm>
                    <a:off x="8831880" y="6418080"/>
                    <a:ext cx="101880" cy="154440"/>
                    <a:chOff x="8831880" y="6418080"/>
                    <a:chExt cx="101880" cy="154440"/>
                  </a:xfrm>
                </p:grpSpPr>
                <p:sp>
                  <p:nvSpPr>
                    <p:cNvPr id="1998" name=""/>
                    <p:cNvSpPr/>
                    <p:nvPr/>
                  </p:nvSpPr>
                  <p:spPr>
                    <a:xfrm flipH="1" rot="420000">
                      <a:off x="8839440" y="6422760"/>
                      <a:ext cx="8568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H="1" rot="420000">
                      <a:off x="8843040" y="6424200"/>
                      <a:ext cx="55440" cy="14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00" name=""/>
                  <p:cNvGrpSpPr/>
                  <p:nvPr/>
                </p:nvGrpSpPr>
                <p:grpSpPr>
                  <a:xfrm>
                    <a:off x="8794080" y="6437520"/>
                    <a:ext cx="77040" cy="145080"/>
                    <a:chOff x="8794080" y="6437520"/>
                    <a:chExt cx="77040" cy="145080"/>
                  </a:xfrm>
                </p:grpSpPr>
                <p:sp>
                  <p:nvSpPr>
                    <p:cNvPr id="2001" name=""/>
                    <p:cNvSpPr/>
                    <p:nvPr/>
                  </p:nvSpPr>
                  <p:spPr>
                    <a:xfrm flipH="1" rot="21540000">
                      <a:off x="8795160" y="6437880"/>
                      <a:ext cx="7452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 flipH="1" rot="21540000">
                      <a:off x="8798040" y="6440760"/>
                      <a:ext cx="4788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03" name=""/>
                  <p:cNvGrpSpPr/>
                  <p:nvPr/>
                </p:nvGrpSpPr>
                <p:grpSpPr>
                  <a:xfrm>
                    <a:off x="8678160" y="6427800"/>
                    <a:ext cx="155520" cy="180000"/>
                    <a:chOff x="8678160" y="6427800"/>
                    <a:chExt cx="155520" cy="180000"/>
                  </a:xfrm>
                </p:grpSpPr>
                <p:sp>
                  <p:nvSpPr>
                    <p:cNvPr id="2004" name=""/>
                    <p:cNvSpPr/>
                    <p:nvPr/>
                  </p:nvSpPr>
                  <p:spPr>
                    <a:xfrm flipH="1" rot="20400000">
                      <a:off x="8699400" y="6442560"/>
                      <a:ext cx="1130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H="1" rot="20400000">
                      <a:off x="8705880" y="6445440"/>
                      <a:ext cx="7308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06" name=""/>
            <p:cNvGrpSpPr/>
            <p:nvPr/>
          </p:nvGrpSpPr>
          <p:grpSpPr>
            <a:xfrm>
              <a:off x="851400" y="6546960"/>
              <a:ext cx="856080" cy="307800"/>
              <a:chOff x="851400" y="6546960"/>
              <a:chExt cx="856080" cy="30780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851400" y="6546960"/>
                <a:ext cx="515880" cy="244440"/>
                <a:chOff x="851400" y="6546960"/>
                <a:chExt cx="515880" cy="244440"/>
              </a:xfrm>
            </p:grpSpPr>
            <p:grpSp>
              <p:nvGrpSpPr>
                <p:cNvPr id="2008" name=""/>
                <p:cNvGrpSpPr/>
                <p:nvPr/>
              </p:nvGrpSpPr>
              <p:grpSpPr>
                <a:xfrm>
                  <a:off x="851400" y="6586200"/>
                  <a:ext cx="254520" cy="205200"/>
                  <a:chOff x="851400" y="6586200"/>
                  <a:chExt cx="254520" cy="205200"/>
                </a:xfrm>
              </p:grpSpPr>
              <p:grpSp>
                <p:nvGrpSpPr>
                  <p:cNvPr id="2009" name=""/>
                  <p:cNvGrpSpPr/>
                  <p:nvPr/>
                </p:nvGrpSpPr>
                <p:grpSpPr>
                  <a:xfrm>
                    <a:off x="1021680" y="6586200"/>
                    <a:ext cx="84240" cy="147600"/>
                    <a:chOff x="1021680" y="6586200"/>
                    <a:chExt cx="84240" cy="147600"/>
                  </a:xfrm>
                </p:grpSpPr>
                <p:sp>
                  <p:nvSpPr>
                    <p:cNvPr id="2010" name=""/>
                    <p:cNvSpPr/>
                    <p:nvPr/>
                  </p:nvSpPr>
                  <p:spPr>
                    <a:xfrm flipH="1" rot="21420000">
                      <a:off x="1024920" y="6588000"/>
                      <a:ext cx="7740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 flipH="1" rot="21420000">
                      <a:off x="1029600" y="658980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12" name=""/>
                  <p:cNvGrpSpPr/>
                  <p:nvPr/>
                </p:nvGrpSpPr>
                <p:grpSpPr>
                  <a:xfrm>
                    <a:off x="956880" y="6597720"/>
                    <a:ext cx="118080" cy="162000"/>
                    <a:chOff x="956880" y="6597720"/>
                    <a:chExt cx="118080" cy="162000"/>
                  </a:xfrm>
                </p:grpSpPr>
                <p:sp>
                  <p:nvSpPr>
                    <p:cNvPr id="2013" name=""/>
                    <p:cNvSpPr/>
                    <p:nvPr/>
                  </p:nvSpPr>
                  <p:spPr>
                    <a:xfrm flipH="1" rot="21000000">
                      <a:off x="968400" y="660492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4" name=""/>
                    <p:cNvSpPr/>
                    <p:nvPr/>
                  </p:nvSpPr>
                  <p:spPr>
                    <a:xfrm flipH="1" rot="21000000">
                      <a:off x="974880" y="660780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15" name=""/>
                  <p:cNvGrpSpPr/>
                  <p:nvPr/>
                </p:nvGrpSpPr>
                <p:grpSpPr>
                  <a:xfrm>
                    <a:off x="851400" y="6602400"/>
                    <a:ext cx="179640" cy="189000"/>
                    <a:chOff x="851400" y="6602400"/>
                    <a:chExt cx="179640" cy="189000"/>
                  </a:xfrm>
                </p:grpSpPr>
                <p:sp>
                  <p:nvSpPr>
                    <p:cNvPr id="2016" name=""/>
                    <p:cNvSpPr/>
                    <p:nvPr/>
                  </p:nvSpPr>
                  <p:spPr>
                    <a:xfrm flipH="1" rot="19860000">
                      <a:off x="877680" y="6624000"/>
                      <a:ext cx="1263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 flipH="1" rot="19860000">
                      <a:off x="888120" y="6630840"/>
                      <a:ext cx="8100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18" name=""/>
                <p:cNvGrpSpPr/>
                <p:nvPr/>
              </p:nvGrpSpPr>
              <p:grpSpPr>
                <a:xfrm>
                  <a:off x="1108800" y="6546960"/>
                  <a:ext cx="258480" cy="212040"/>
                  <a:chOff x="1108800" y="6546960"/>
                  <a:chExt cx="258480" cy="212040"/>
                </a:xfrm>
              </p:grpSpPr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1108800" y="6546960"/>
                    <a:ext cx="92520" cy="150120"/>
                    <a:chOff x="1108800" y="6546960"/>
                    <a:chExt cx="92520" cy="15012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 rot="300000">
                      <a:off x="1114200" y="6550200"/>
                      <a:ext cx="813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 rot="300000">
                      <a:off x="1139400" y="6554520"/>
                      <a:ext cx="5220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22" name=""/>
                  <p:cNvGrpSpPr/>
                  <p:nvPr/>
                </p:nvGrpSpPr>
                <p:grpSpPr>
                  <a:xfrm>
                    <a:off x="1140480" y="6561720"/>
                    <a:ext cx="123480" cy="164520"/>
                    <a:chOff x="1140480" y="6561720"/>
                    <a:chExt cx="123480" cy="164520"/>
                  </a:xfrm>
                </p:grpSpPr>
                <p:sp>
                  <p:nvSpPr>
                    <p:cNvPr id="2023" name=""/>
                    <p:cNvSpPr/>
                    <p:nvPr/>
                  </p:nvSpPr>
                  <p:spPr>
                    <a:xfrm rot="720000">
                      <a:off x="1153800" y="6570000"/>
                      <a:ext cx="9684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 rot="720000">
                      <a:off x="1183320" y="6575040"/>
                      <a:ext cx="6264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25" name=""/>
                  <p:cNvGrpSpPr/>
                  <p:nvPr/>
                </p:nvGrpSpPr>
                <p:grpSpPr>
                  <a:xfrm>
                    <a:off x="1185120" y="6568920"/>
                    <a:ext cx="182160" cy="190080"/>
                    <a:chOff x="1185120" y="6568920"/>
                    <a:chExt cx="182160" cy="190080"/>
                  </a:xfrm>
                </p:grpSpPr>
                <p:sp>
                  <p:nvSpPr>
                    <p:cNvPr id="2026" name=""/>
                    <p:cNvSpPr/>
                    <p:nvPr/>
                  </p:nvSpPr>
                  <p:spPr>
                    <a:xfrm rot="1860000">
                      <a:off x="1211760" y="6591960"/>
                      <a:ext cx="1288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 rot="1860000">
                      <a:off x="1245600" y="6600600"/>
                      <a:ext cx="8316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2028" name=""/>
              <p:cNvGrpSpPr/>
              <p:nvPr/>
            </p:nvGrpSpPr>
            <p:grpSpPr>
              <a:xfrm>
                <a:off x="1210680" y="6570360"/>
                <a:ext cx="496800" cy="284400"/>
                <a:chOff x="1210680" y="6570360"/>
                <a:chExt cx="496800" cy="284400"/>
              </a:xfrm>
            </p:grpSpPr>
            <p:grpSp>
              <p:nvGrpSpPr>
                <p:cNvPr id="2029" name=""/>
                <p:cNvGrpSpPr/>
                <p:nvPr/>
              </p:nvGrpSpPr>
              <p:grpSpPr>
                <a:xfrm>
                  <a:off x="1432440" y="6613920"/>
                  <a:ext cx="275040" cy="240840"/>
                  <a:chOff x="1432440" y="6613920"/>
                  <a:chExt cx="275040" cy="240840"/>
                </a:xfrm>
              </p:grpSpPr>
              <p:grpSp>
                <p:nvGrpSpPr>
                  <p:cNvPr id="2030" name=""/>
                  <p:cNvGrpSpPr/>
                  <p:nvPr/>
                </p:nvGrpSpPr>
                <p:grpSpPr>
                  <a:xfrm>
                    <a:off x="1432440" y="6613920"/>
                    <a:ext cx="132480" cy="169560"/>
                    <a:chOff x="1432440" y="6613920"/>
                    <a:chExt cx="132480" cy="169560"/>
                  </a:xfrm>
                </p:grpSpPr>
                <p:sp>
                  <p:nvSpPr>
                    <p:cNvPr id="2031" name=""/>
                    <p:cNvSpPr/>
                    <p:nvPr/>
                  </p:nvSpPr>
                  <p:spPr>
                    <a:xfrm rot="840000">
                      <a:off x="1447920" y="6624000"/>
                      <a:ext cx="1011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2" name=""/>
                    <p:cNvSpPr/>
                    <p:nvPr/>
                  </p:nvSpPr>
                  <p:spPr>
                    <a:xfrm rot="840000">
                      <a:off x="1476720" y="662688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33" name=""/>
                  <p:cNvGrpSpPr/>
                  <p:nvPr/>
                </p:nvGrpSpPr>
                <p:grpSpPr>
                  <a:xfrm>
                    <a:off x="1462320" y="6636600"/>
                    <a:ext cx="159480" cy="181080"/>
                    <a:chOff x="1462320" y="6636600"/>
                    <a:chExt cx="159480" cy="181080"/>
                  </a:xfrm>
                </p:grpSpPr>
                <p:sp>
                  <p:nvSpPr>
                    <p:cNvPr id="2034" name=""/>
                    <p:cNvSpPr/>
                    <p:nvPr/>
                  </p:nvSpPr>
                  <p:spPr>
                    <a:xfrm rot="1260000">
                      <a:off x="1483920" y="665244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 rot="1260000">
                      <a:off x="1517040" y="665748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36" name=""/>
                  <p:cNvGrpSpPr/>
                  <p:nvPr/>
                </p:nvGrpSpPr>
                <p:grpSpPr>
                  <a:xfrm>
                    <a:off x="1513080" y="6660360"/>
                    <a:ext cx="194400" cy="194400"/>
                    <a:chOff x="1513080" y="6660360"/>
                    <a:chExt cx="194400" cy="194400"/>
                  </a:xfrm>
                </p:grpSpPr>
                <p:sp>
                  <p:nvSpPr>
                    <p:cNvPr id="2037" name=""/>
                    <p:cNvSpPr/>
                    <p:nvPr/>
                  </p:nvSpPr>
                  <p:spPr>
                    <a:xfrm rot="2400000">
                      <a:off x="1539360" y="6689880"/>
                      <a:ext cx="14112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38" name=""/>
                    <p:cNvSpPr/>
                    <p:nvPr/>
                  </p:nvSpPr>
                  <p:spPr>
                    <a:xfrm rot="2400000">
                      <a:off x="1570680" y="6698880"/>
                      <a:ext cx="91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39" name=""/>
                <p:cNvGrpSpPr/>
                <p:nvPr/>
              </p:nvGrpSpPr>
              <p:grpSpPr>
                <a:xfrm>
                  <a:off x="1210680" y="6570360"/>
                  <a:ext cx="255600" cy="188640"/>
                  <a:chOff x="1210680" y="6570360"/>
                  <a:chExt cx="255600" cy="188640"/>
                </a:xfrm>
              </p:grpSpPr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1364760" y="6570360"/>
                    <a:ext cx="101520" cy="153720"/>
                    <a:chOff x="1364760" y="6570360"/>
                    <a:chExt cx="101520" cy="15372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 flipH="1" rot="420000">
                      <a:off x="1372680" y="6575040"/>
                      <a:ext cx="856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 flipH="1" rot="420000">
                      <a:off x="1375200" y="6576120"/>
                      <a:ext cx="554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1326600" y="6590160"/>
                    <a:ext cx="77040" cy="143640"/>
                    <a:chOff x="1326600" y="6590160"/>
                    <a:chExt cx="77040" cy="1436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 flipH="1" rot="21540000">
                      <a:off x="1327680" y="6590520"/>
                      <a:ext cx="7452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 flipH="1" rot="21540000">
                      <a:off x="1330560" y="6593040"/>
                      <a:ext cx="478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46" name=""/>
                  <p:cNvGrpSpPr/>
                  <p:nvPr/>
                </p:nvGrpSpPr>
                <p:grpSpPr>
                  <a:xfrm>
                    <a:off x="1210680" y="6580440"/>
                    <a:ext cx="155160" cy="178560"/>
                    <a:chOff x="1210680" y="6580440"/>
                    <a:chExt cx="155160" cy="178560"/>
                  </a:xfrm>
                </p:grpSpPr>
                <p:sp>
                  <p:nvSpPr>
                    <p:cNvPr id="2047" name=""/>
                    <p:cNvSpPr/>
                    <p:nvPr/>
                  </p:nvSpPr>
                  <p:spPr>
                    <a:xfrm flipH="1" rot="20400000">
                      <a:off x="1231200" y="6595200"/>
                      <a:ext cx="11304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 flipH="1" rot="20400000">
                      <a:off x="1238400" y="6598440"/>
                      <a:ext cx="73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49" name=""/>
            <p:cNvGrpSpPr/>
            <p:nvPr/>
          </p:nvGrpSpPr>
          <p:grpSpPr>
            <a:xfrm>
              <a:off x="-81360" y="4960800"/>
              <a:ext cx="841680" cy="901800"/>
              <a:chOff x="-81360" y="4960800"/>
              <a:chExt cx="841680" cy="901800"/>
            </a:xfrm>
          </p:grpSpPr>
          <p:grpSp>
            <p:nvGrpSpPr>
              <p:cNvPr id="2050" name=""/>
              <p:cNvGrpSpPr/>
              <p:nvPr/>
            </p:nvGrpSpPr>
            <p:grpSpPr>
              <a:xfrm>
                <a:off x="76320" y="5180760"/>
                <a:ext cx="684000" cy="681840"/>
                <a:chOff x="76320" y="5180760"/>
                <a:chExt cx="684000" cy="681840"/>
              </a:xfrm>
            </p:grpSpPr>
            <p:pic>
              <p:nvPicPr>
                <p:cNvPr id="2051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62080" y="5442480"/>
                  <a:ext cx="28548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2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320" y="5180760"/>
                  <a:ext cx="684000" cy="34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3" name=""/>
              <p:cNvGrpSpPr/>
              <p:nvPr/>
            </p:nvGrpSpPr>
            <p:grpSpPr>
              <a:xfrm>
                <a:off x="-81360" y="4960800"/>
                <a:ext cx="769680" cy="713520"/>
                <a:chOff x="-81360" y="4960800"/>
                <a:chExt cx="769680" cy="713520"/>
              </a:xfrm>
            </p:grpSpPr>
            <p:sp>
              <p:nvSpPr>
                <p:cNvPr id="2054" name=""/>
                <p:cNvSpPr/>
                <p:nvPr/>
              </p:nvSpPr>
              <p:spPr>
                <a:xfrm flipH="1" rot="3480000">
                  <a:off x="-5760" y="5078880"/>
                  <a:ext cx="218880" cy="298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055" name=""/>
                <p:cNvGrpSpPr/>
                <p:nvPr/>
              </p:nvGrpSpPr>
              <p:grpSpPr>
                <a:xfrm>
                  <a:off x="-2160" y="4960800"/>
                  <a:ext cx="690480" cy="713520"/>
                  <a:chOff x="-2160" y="4960800"/>
                  <a:chExt cx="690480" cy="713520"/>
                </a:xfrm>
              </p:grpSpPr>
              <p:grpSp>
                <p:nvGrpSpPr>
                  <p:cNvPr id="2056" name=""/>
                  <p:cNvGrpSpPr/>
                  <p:nvPr/>
                </p:nvGrpSpPr>
                <p:grpSpPr>
                  <a:xfrm>
                    <a:off x="-2160" y="4960800"/>
                    <a:ext cx="690480" cy="713520"/>
                    <a:chOff x="-2160" y="4960800"/>
                    <a:chExt cx="690480" cy="713520"/>
                  </a:xfrm>
                </p:grpSpPr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9920000">
                      <a:off x="111600" y="5074560"/>
                      <a:ext cx="549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8" name=""/>
                    <p:cNvSpPr/>
                    <p:nvPr/>
                  </p:nvSpPr>
                  <p:spPr>
                    <a:xfrm flipH="1" rot="1680000">
                      <a:off x="43560" y="5226480"/>
                      <a:ext cx="561240" cy="33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059" name=""/>
                  <p:cNvSpPr/>
                  <p:nvPr/>
                </p:nvSpPr>
                <p:spPr>
                  <a:xfrm flipH="1" rot="1680000">
                    <a:off x="155160" y="520308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H="1" rot="1680000">
                    <a:off x="223560" y="5237640"/>
                    <a:ext cx="532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H="1" rot="1680000">
                    <a:off x="302040" y="5293800"/>
                    <a:ext cx="432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H="1" rot="1680000">
                    <a:off x="274680" y="5183280"/>
                    <a:ext cx="684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 rot="1680000">
                    <a:off x="217080" y="5145120"/>
                    <a:ext cx="7524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064" name=""/>
            <p:cNvGrpSpPr/>
            <p:nvPr/>
          </p:nvGrpSpPr>
          <p:grpSpPr>
            <a:xfrm>
              <a:off x="348120" y="5729760"/>
              <a:ext cx="407160" cy="461160"/>
              <a:chOff x="348120" y="5729760"/>
              <a:chExt cx="407160" cy="461160"/>
            </a:xfrm>
          </p:grpSpPr>
          <p:pic>
            <p:nvPicPr>
              <p:cNvPr id="2065" name="" descr=""/>
              <p:cNvPicPr/>
              <p:nvPr/>
            </p:nvPicPr>
            <p:blipFill>
              <a:blip r:embed="rId37"/>
              <a:stretch/>
            </p:blipFill>
            <p:spPr>
              <a:xfrm rot="1860000">
                <a:off x="400320" y="5928480"/>
                <a:ext cx="14292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6" name="" descr=""/>
              <p:cNvPicPr/>
              <p:nvPr/>
            </p:nvPicPr>
            <p:blipFill>
              <a:blip r:embed="rId38"/>
              <a:stretch/>
            </p:blipFill>
            <p:spPr>
              <a:xfrm rot="1860000">
                <a:off x="382320" y="5804280"/>
                <a:ext cx="34560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7" name=""/>
            <p:cNvGrpSpPr/>
            <p:nvPr/>
          </p:nvGrpSpPr>
          <p:grpSpPr>
            <a:xfrm>
              <a:off x="25200" y="5565240"/>
              <a:ext cx="366840" cy="402120"/>
              <a:chOff x="25200" y="5565240"/>
              <a:chExt cx="366840" cy="402120"/>
            </a:xfrm>
          </p:grpSpPr>
          <p:pic>
            <p:nvPicPr>
              <p:cNvPr id="2068" name="" descr=""/>
              <p:cNvPicPr/>
              <p:nvPr/>
            </p:nvPicPr>
            <p:blipFill>
              <a:blip r:embed="rId39"/>
              <a:stretch/>
            </p:blipFill>
            <p:spPr>
              <a:xfrm rot="20700000">
                <a:off x="167760" y="5736240"/>
                <a:ext cx="137520" cy="2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9" name="" descr=""/>
              <p:cNvPicPr/>
              <p:nvPr/>
            </p:nvPicPr>
            <p:blipFill>
              <a:blip r:embed="rId40"/>
              <a:stretch/>
            </p:blipFill>
            <p:spPr>
              <a:xfrm rot="20700000">
                <a:off x="42840" y="5604840"/>
                <a:ext cx="331560" cy="18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0" name=""/>
            <p:cNvGrpSpPr/>
            <p:nvPr/>
          </p:nvGrpSpPr>
          <p:grpSpPr>
            <a:xfrm>
              <a:off x="-63000" y="5861520"/>
              <a:ext cx="856080" cy="307800"/>
              <a:chOff x="-63000" y="5861520"/>
              <a:chExt cx="856080" cy="307800"/>
            </a:xfrm>
          </p:grpSpPr>
          <p:grpSp>
            <p:nvGrpSpPr>
              <p:cNvPr id="2071" name=""/>
              <p:cNvGrpSpPr/>
              <p:nvPr/>
            </p:nvGrpSpPr>
            <p:grpSpPr>
              <a:xfrm>
                <a:off x="-63000" y="5861520"/>
                <a:ext cx="515880" cy="244800"/>
                <a:chOff x="-63000" y="5861520"/>
                <a:chExt cx="515880" cy="244800"/>
              </a:xfrm>
            </p:grpSpPr>
            <p:grpSp>
              <p:nvGrpSpPr>
                <p:cNvPr id="2072" name=""/>
                <p:cNvGrpSpPr/>
                <p:nvPr/>
              </p:nvGrpSpPr>
              <p:grpSpPr>
                <a:xfrm>
                  <a:off x="-63000" y="5900760"/>
                  <a:ext cx="254520" cy="205560"/>
                  <a:chOff x="-63000" y="5900760"/>
                  <a:chExt cx="254520" cy="205560"/>
                </a:xfrm>
              </p:grpSpPr>
              <p:grpSp>
                <p:nvGrpSpPr>
                  <p:cNvPr id="2073" name=""/>
                  <p:cNvGrpSpPr/>
                  <p:nvPr/>
                </p:nvGrpSpPr>
                <p:grpSpPr>
                  <a:xfrm>
                    <a:off x="107280" y="5900760"/>
                    <a:ext cx="84240" cy="147600"/>
                    <a:chOff x="107280" y="5900760"/>
                    <a:chExt cx="84240" cy="147600"/>
                  </a:xfrm>
                </p:grpSpPr>
                <p:sp>
                  <p:nvSpPr>
                    <p:cNvPr id="2074" name=""/>
                    <p:cNvSpPr/>
                    <p:nvPr/>
                  </p:nvSpPr>
                  <p:spPr>
                    <a:xfrm flipH="1" rot="21420000">
                      <a:off x="110520" y="5902560"/>
                      <a:ext cx="7740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 flipH="1" rot="21420000">
                      <a:off x="115200" y="5904360"/>
                      <a:ext cx="500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76" name=""/>
                  <p:cNvGrpSpPr/>
                  <p:nvPr/>
                </p:nvGrpSpPr>
                <p:grpSpPr>
                  <a:xfrm>
                    <a:off x="42480" y="5912280"/>
                    <a:ext cx="118080" cy="162000"/>
                    <a:chOff x="42480" y="5912280"/>
                    <a:chExt cx="118080" cy="162000"/>
                  </a:xfrm>
                </p:grpSpPr>
                <p:sp>
                  <p:nvSpPr>
                    <p:cNvPr id="2077" name=""/>
                    <p:cNvSpPr/>
                    <p:nvPr/>
                  </p:nvSpPr>
                  <p:spPr>
                    <a:xfrm flipH="1" rot="21000000">
                      <a:off x="54000" y="5919480"/>
                      <a:ext cx="9504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H="1" rot="21000000">
                      <a:off x="60480" y="5922360"/>
                      <a:ext cx="61200" cy="14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79" name=""/>
                  <p:cNvGrpSpPr/>
                  <p:nvPr/>
                </p:nvGrpSpPr>
                <p:grpSpPr>
                  <a:xfrm>
                    <a:off x="-63000" y="5916960"/>
                    <a:ext cx="179640" cy="189360"/>
                    <a:chOff x="-63000" y="5916960"/>
                    <a:chExt cx="179640" cy="189360"/>
                  </a:xfrm>
                </p:grpSpPr>
                <p:sp>
                  <p:nvSpPr>
                    <p:cNvPr id="2080" name=""/>
                    <p:cNvSpPr/>
                    <p:nvPr/>
                  </p:nvSpPr>
                  <p:spPr>
                    <a:xfrm flipH="1" rot="19860000">
                      <a:off x="-36360" y="5938560"/>
                      <a:ext cx="1263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flipH="1" rot="19860000">
                      <a:off x="-22680" y="5945040"/>
                      <a:ext cx="817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194400" y="5861520"/>
                  <a:ext cx="258480" cy="212040"/>
                  <a:chOff x="194400" y="5861520"/>
                  <a:chExt cx="258480" cy="212040"/>
                </a:xfrm>
              </p:grpSpPr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194400" y="5861520"/>
                    <a:ext cx="92520" cy="150120"/>
                    <a:chOff x="194400" y="5861520"/>
                    <a:chExt cx="92520" cy="15012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 rot="300000">
                      <a:off x="199800" y="5864760"/>
                      <a:ext cx="81360" cy="1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 rot="300000">
                      <a:off x="225000" y="5869080"/>
                      <a:ext cx="5220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226080" y="5876280"/>
                    <a:ext cx="123480" cy="164520"/>
                    <a:chOff x="226080" y="5876280"/>
                    <a:chExt cx="123480" cy="164520"/>
                  </a:xfrm>
                </p:grpSpPr>
                <p:sp>
                  <p:nvSpPr>
                    <p:cNvPr id="2087" name=""/>
                    <p:cNvSpPr/>
                    <p:nvPr/>
                  </p:nvSpPr>
                  <p:spPr>
                    <a:xfrm rot="720000">
                      <a:off x="239400" y="5884560"/>
                      <a:ext cx="9684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 rot="720000">
                      <a:off x="268920" y="5889600"/>
                      <a:ext cx="6264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270720" y="5883480"/>
                    <a:ext cx="182160" cy="190080"/>
                    <a:chOff x="270720" y="5883480"/>
                    <a:chExt cx="182160" cy="190080"/>
                  </a:xfrm>
                </p:grpSpPr>
                <p:sp>
                  <p:nvSpPr>
                    <p:cNvPr id="2090" name=""/>
                    <p:cNvSpPr/>
                    <p:nvPr/>
                  </p:nvSpPr>
                  <p:spPr>
                    <a:xfrm rot="1860000">
                      <a:off x="297360" y="5906520"/>
                      <a:ext cx="128880" cy="13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1" name=""/>
                    <p:cNvSpPr/>
                    <p:nvPr/>
                  </p:nvSpPr>
                  <p:spPr>
                    <a:xfrm rot="1860000">
                      <a:off x="331200" y="5915160"/>
                      <a:ext cx="8316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  <p:grpSp>
            <p:nvGrpSpPr>
              <p:cNvPr id="2092" name=""/>
              <p:cNvGrpSpPr/>
              <p:nvPr/>
            </p:nvGrpSpPr>
            <p:grpSpPr>
              <a:xfrm>
                <a:off x="296280" y="5884920"/>
                <a:ext cx="496800" cy="284400"/>
                <a:chOff x="296280" y="5884920"/>
                <a:chExt cx="496800" cy="284400"/>
              </a:xfrm>
            </p:grpSpPr>
            <p:grpSp>
              <p:nvGrpSpPr>
                <p:cNvPr id="2093" name=""/>
                <p:cNvGrpSpPr/>
                <p:nvPr/>
              </p:nvGrpSpPr>
              <p:grpSpPr>
                <a:xfrm>
                  <a:off x="518040" y="5928480"/>
                  <a:ext cx="275040" cy="240840"/>
                  <a:chOff x="518040" y="5928480"/>
                  <a:chExt cx="275040" cy="240840"/>
                </a:xfrm>
              </p:grpSpPr>
              <p:grpSp>
                <p:nvGrpSpPr>
                  <p:cNvPr id="2094" name=""/>
                  <p:cNvGrpSpPr/>
                  <p:nvPr/>
                </p:nvGrpSpPr>
                <p:grpSpPr>
                  <a:xfrm>
                    <a:off x="518040" y="5928480"/>
                    <a:ext cx="132480" cy="169560"/>
                    <a:chOff x="518040" y="5928480"/>
                    <a:chExt cx="132480" cy="169560"/>
                  </a:xfrm>
                </p:grpSpPr>
                <p:sp>
                  <p:nvSpPr>
                    <p:cNvPr id="2095" name=""/>
                    <p:cNvSpPr/>
                    <p:nvPr/>
                  </p:nvSpPr>
                  <p:spPr>
                    <a:xfrm rot="840000">
                      <a:off x="533520" y="5938560"/>
                      <a:ext cx="1011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rot="840000">
                      <a:off x="562320" y="5941440"/>
                      <a:ext cx="65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097" name=""/>
                  <p:cNvGrpSpPr/>
                  <p:nvPr/>
                </p:nvGrpSpPr>
                <p:grpSpPr>
                  <a:xfrm>
                    <a:off x="547920" y="5951160"/>
                    <a:ext cx="159480" cy="181080"/>
                    <a:chOff x="547920" y="5951160"/>
                    <a:chExt cx="159480" cy="181080"/>
                  </a:xfrm>
                </p:grpSpPr>
                <p:sp>
                  <p:nvSpPr>
                    <p:cNvPr id="2098" name=""/>
                    <p:cNvSpPr/>
                    <p:nvPr/>
                  </p:nvSpPr>
                  <p:spPr>
                    <a:xfrm rot="1260000">
                      <a:off x="569520" y="5967000"/>
                      <a:ext cx="11556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099" name=""/>
                    <p:cNvSpPr/>
                    <p:nvPr/>
                  </p:nvSpPr>
                  <p:spPr>
                    <a:xfrm rot="1260000">
                      <a:off x="602640" y="5972040"/>
                      <a:ext cx="7452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00" name=""/>
                  <p:cNvGrpSpPr/>
                  <p:nvPr/>
                </p:nvGrpSpPr>
                <p:grpSpPr>
                  <a:xfrm>
                    <a:off x="598680" y="5974920"/>
                    <a:ext cx="194400" cy="194400"/>
                    <a:chOff x="598680" y="5974920"/>
                    <a:chExt cx="194400" cy="194400"/>
                  </a:xfrm>
                </p:grpSpPr>
                <p:sp>
                  <p:nvSpPr>
                    <p:cNvPr id="2101" name=""/>
                    <p:cNvSpPr/>
                    <p:nvPr/>
                  </p:nvSpPr>
                  <p:spPr>
                    <a:xfrm rot="2400000">
                      <a:off x="624960" y="6004440"/>
                      <a:ext cx="14112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rot="2400000">
                      <a:off x="656280" y="6013440"/>
                      <a:ext cx="91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  <p:grpSp>
              <p:nvGrpSpPr>
                <p:cNvPr id="2103" name=""/>
                <p:cNvGrpSpPr/>
                <p:nvPr/>
              </p:nvGrpSpPr>
              <p:grpSpPr>
                <a:xfrm>
                  <a:off x="296280" y="5884920"/>
                  <a:ext cx="255600" cy="188640"/>
                  <a:chOff x="296280" y="5884920"/>
                  <a:chExt cx="255600" cy="188640"/>
                </a:xfrm>
              </p:grpSpPr>
              <p:grpSp>
                <p:nvGrpSpPr>
                  <p:cNvPr id="2104" name=""/>
                  <p:cNvGrpSpPr/>
                  <p:nvPr/>
                </p:nvGrpSpPr>
                <p:grpSpPr>
                  <a:xfrm>
                    <a:off x="450360" y="5884920"/>
                    <a:ext cx="101520" cy="153720"/>
                    <a:chOff x="450360" y="5884920"/>
                    <a:chExt cx="101520" cy="153720"/>
                  </a:xfrm>
                </p:grpSpPr>
                <p:sp>
                  <p:nvSpPr>
                    <p:cNvPr id="2105" name=""/>
                    <p:cNvSpPr/>
                    <p:nvPr/>
                  </p:nvSpPr>
                  <p:spPr>
                    <a:xfrm flipH="1" rot="420000">
                      <a:off x="458280" y="5889600"/>
                      <a:ext cx="856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6" name=""/>
                    <p:cNvSpPr/>
                    <p:nvPr/>
                  </p:nvSpPr>
                  <p:spPr>
                    <a:xfrm flipH="1" rot="420000">
                      <a:off x="460800" y="5890680"/>
                      <a:ext cx="554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07" name=""/>
                  <p:cNvGrpSpPr/>
                  <p:nvPr/>
                </p:nvGrpSpPr>
                <p:grpSpPr>
                  <a:xfrm>
                    <a:off x="412200" y="5904720"/>
                    <a:ext cx="77040" cy="143640"/>
                    <a:chOff x="412200" y="5904720"/>
                    <a:chExt cx="77040" cy="143640"/>
                  </a:xfrm>
                </p:grpSpPr>
                <p:sp>
                  <p:nvSpPr>
                    <p:cNvPr id="2108" name=""/>
                    <p:cNvSpPr/>
                    <p:nvPr/>
                  </p:nvSpPr>
                  <p:spPr>
                    <a:xfrm flipH="1" rot="21540000">
                      <a:off x="413280" y="5905080"/>
                      <a:ext cx="7452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09" name=""/>
                    <p:cNvSpPr/>
                    <p:nvPr/>
                  </p:nvSpPr>
                  <p:spPr>
                    <a:xfrm flipH="1" rot="21540000">
                      <a:off x="416160" y="5907600"/>
                      <a:ext cx="47880" cy="14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110" name=""/>
                  <p:cNvGrpSpPr/>
                  <p:nvPr/>
                </p:nvGrpSpPr>
                <p:grpSpPr>
                  <a:xfrm>
                    <a:off x="296280" y="5895000"/>
                    <a:ext cx="155160" cy="178560"/>
                    <a:chOff x="296280" y="5895000"/>
                    <a:chExt cx="155160" cy="178560"/>
                  </a:xfrm>
                </p:grpSpPr>
                <p:sp>
                  <p:nvSpPr>
                    <p:cNvPr id="2111" name=""/>
                    <p:cNvSpPr/>
                    <p:nvPr/>
                  </p:nvSpPr>
                  <p:spPr>
                    <a:xfrm flipH="1" rot="20400000">
                      <a:off x="316800" y="5909760"/>
                      <a:ext cx="11304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112" name=""/>
                    <p:cNvSpPr/>
                    <p:nvPr/>
                  </p:nvSpPr>
                  <p:spPr>
                    <a:xfrm flipH="1" rot="20400000">
                      <a:off x="324000" y="5913000"/>
                      <a:ext cx="73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113" name=""/>
          <p:cNvSpPr/>
          <p:nvPr/>
        </p:nvSpPr>
        <p:spPr>
          <a:xfrm>
            <a:off x="3903120" y="1523880"/>
            <a:ext cx="159660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  <a:ea typeface="DejaVu Sans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4" name=""/>
          <p:cNvSpPr/>
          <p:nvPr/>
        </p:nvSpPr>
        <p:spPr>
          <a:xfrm>
            <a:off x="3191040" y="3429000"/>
            <a:ext cx="27716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Verdana"/>
                <a:ea typeface="DejaVu Sans"/>
              </a:rPr>
              <a:t>Бельчонок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7086600" y="609480"/>
            <a:ext cx="1954080" cy="3732480"/>
            <a:chOff x="7086600" y="609480"/>
            <a:chExt cx="1954080" cy="3732480"/>
          </a:xfrm>
        </p:grpSpPr>
        <p:sp>
          <p:nvSpPr>
            <p:cNvPr id="2116" name=""/>
            <p:cNvSpPr/>
            <p:nvPr/>
          </p:nvSpPr>
          <p:spPr>
            <a:xfrm>
              <a:off x="7086600" y="609480"/>
              <a:ext cx="608040" cy="3732480"/>
            </a:xfrm>
            <a:custGeom>
              <a:avLst/>
              <a:gdLst/>
              <a:ahLst/>
              <a:rect l="l" t="t" r="r" b="b"/>
              <a:pathLst>
                <a:path w="1694" h="10373">
                  <a:moveTo>
                    <a:pt x="0" y="0"/>
                  </a:moveTo>
                  <a:cubicBezTo>
                    <a:pt x="423" y="0"/>
                    <a:pt x="847" y="432"/>
                    <a:pt x="847" y="864"/>
                  </a:cubicBezTo>
                  <a:lnTo>
                    <a:pt x="847" y="4322"/>
                  </a:lnTo>
                  <a:cubicBezTo>
                    <a:pt x="847" y="4754"/>
                    <a:pt x="1270" y="5186"/>
                    <a:pt x="1694" y="5186"/>
                  </a:cubicBezTo>
                  <a:cubicBezTo>
                    <a:pt x="1270" y="5186"/>
                    <a:pt x="847" y="5618"/>
                    <a:pt x="847" y="6050"/>
                  </a:cubicBezTo>
                  <a:lnTo>
                    <a:pt x="847" y="9508"/>
                  </a:lnTo>
                  <a:cubicBezTo>
                    <a:pt x="847" y="9940"/>
                    <a:pt x="423" y="10373"/>
                    <a:pt x="0" y="103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500960" y="2060640"/>
              <a:ext cx="153972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Verdana"/>
                  <a:ea typeface="DejaVu Sans"/>
                </a:rPr>
                <a:t>350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4343400" y="1951200"/>
            <a:ext cx="753480" cy="3211920"/>
            <a:chOff x="4343400" y="1951200"/>
            <a:chExt cx="753480" cy="3211920"/>
          </a:xfrm>
        </p:grpSpPr>
        <p:sp>
          <p:nvSpPr>
            <p:cNvPr id="2119" name=""/>
            <p:cNvSpPr/>
            <p:nvPr/>
          </p:nvSpPr>
          <p:spPr>
            <a:xfrm>
              <a:off x="4480200" y="1951200"/>
              <a:ext cx="61668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43400" y="3971880"/>
              <a:ext cx="71748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  <a:ea typeface="DejaVu Sans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90160" y="737640"/>
            <a:ext cx="2872440" cy="3362400"/>
            <a:chOff x="4790160" y="737640"/>
            <a:chExt cx="2872440" cy="3362400"/>
          </a:xfrm>
        </p:grpSpPr>
        <p:sp>
          <p:nvSpPr>
            <p:cNvPr id="2122" name=""/>
            <p:cNvSpPr/>
            <p:nvPr/>
          </p:nvSpPr>
          <p:spPr>
            <a:xfrm rot="19560000">
              <a:off x="5429160" y="946080"/>
              <a:ext cx="1594080" cy="2773440"/>
            </a:xfrm>
            <a:custGeom>
              <a:avLst/>
              <a:gdLst/>
              <a:ahLst/>
              <a:rect l="l" t="t" r="r" b="b"/>
              <a:pathLst>
                <a:path w="2756" h="7467">
                  <a:moveTo>
                    <a:pt x="0" y="7467"/>
                  </a:moveTo>
                  <a:lnTo>
                    <a:pt x="145" y="7464"/>
                  </a:lnTo>
                  <a:lnTo>
                    <a:pt x="288" y="7453"/>
                  </a:lnTo>
                  <a:lnTo>
                    <a:pt x="431" y="7435"/>
                  </a:lnTo>
                  <a:lnTo>
                    <a:pt x="572" y="7410"/>
                  </a:lnTo>
                  <a:lnTo>
                    <a:pt x="713" y="7378"/>
                  </a:lnTo>
                  <a:lnTo>
                    <a:pt x="851" y="7338"/>
                  </a:lnTo>
                  <a:lnTo>
                    <a:pt x="987" y="7291"/>
                  </a:lnTo>
                  <a:lnTo>
                    <a:pt x="1121" y="7238"/>
                  </a:lnTo>
                  <a:lnTo>
                    <a:pt x="1251" y="7177"/>
                  </a:lnTo>
                  <a:lnTo>
                    <a:pt x="1378" y="7112"/>
                  </a:lnTo>
                  <a:lnTo>
                    <a:pt x="1499" y="7038"/>
                  </a:lnTo>
                  <a:lnTo>
                    <a:pt x="1619" y="6959"/>
                  </a:lnTo>
                  <a:lnTo>
                    <a:pt x="1733" y="6875"/>
                  </a:lnTo>
                  <a:lnTo>
                    <a:pt x="1843" y="6783"/>
                  </a:lnTo>
                  <a:lnTo>
                    <a:pt x="1948" y="6688"/>
                  </a:lnTo>
                  <a:lnTo>
                    <a:pt x="2047" y="6587"/>
                  </a:lnTo>
                  <a:lnTo>
                    <a:pt x="2140" y="6479"/>
                  </a:lnTo>
                  <a:lnTo>
                    <a:pt x="2228" y="6370"/>
                  </a:lnTo>
                  <a:lnTo>
                    <a:pt x="2310" y="6255"/>
                  </a:lnTo>
                  <a:lnTo>
                    <a:pt x="2386" y="6135"/>
                  </a:lnTo>
                  <a:lnTo>
                    <a:pt x="2454" y="6014"/>
                  </a:lnTo>
                  <a:lnTo>
                    <a:pt x="2516" y="5888"/>
                  </a:lnTo>
                  <a:lnTo>
                    <a:pt x="2571" y="5759"/>
                  </a:lnTo>
                  <a:lnTo>
                    <a:pt x="2619" y="5626"/>
                  </a:lnTo>
                  <a:lnTo>
                    <a:pt x="2661" y="5492"/>
                  </a:lnTo>
                  <a:lnTo>
                    <a:pt x="2695" y="5357"/>
                  </a:lnTo>
                  <a:lnTo>
                    <a:pt x="2720" y="5219"/>
                  </a:lnTo>
                  <a:lnTo>
                    <a:pt x="2740" y="5081"/>
                  </a:lnTo>
                  <a:lnTo>
                    <a:pt x="2751" y="4942"/>
                  </a:lnTo>
                  <a:lnTo>
                    <a:pt x="2755" y="4802"/>
                  </a:lnTo>
                  <a:lnTo>
                    <a:pt x="2756" y="3278"/>
                  </a:lnTo>
                  <a:lnTo>
                    <a:pt x="2753" y="3142"/>
                  </a:lnTo>
                  <a:lnTo>
                    <a:pt x="2742" y="3006"/>
                  </a:lnTo>
                  <a:lnTo>
                    <a:pt x="2724" y="2869"/>
                  </a:lnTo>
                  <a:lnTo>
                    <a:pt x="2698" y="2735"/>
                  </a:lnTo>
                  <a:lnTo>
                    <a:pt x="2667" y="2601"/>
                  </a:lnTo>
                  <a:lnTo>
                    <a:pt x="2628" y="2470"/>
                  </a:lnTo>
                  <a:lnTo>
                    <a:pt x="2581" y="2341"/>
                  </a:lnTo>
                  <a:lnTo>
                    <a:pt x="2528" y="2214"/>
                  </a:lnTo>
                  <a:lnTo>
                    <a:pt x="2469" y="2090"/>
                  </a:lnTo>
                  <a:lnTo>
                    <a:pt x="2403" y="1970"/>
                  </a:lnTo>
                  <a:lnTo>
                    <a:pt x="2330" y="1852"/>
                  </a:lnTo>
                  <a:lnTo>
                    <a:pt x="2252" y="1738"/>
                  </a:lnTo>
                  <a:lnTo>
                    <a:pt x="2167" y="1628"/>
                  </a:lnTo>
                  <a:lnTo>
                    <a:pt x="2078" y="1523"/>
                  </a:lnTo>
                  <a:lnTo>
                    <a:pt x="1981" y="1422"/>
                  </a:lnTo>
                  <a:lnTo>
                    <a:pt x="1881" y="1327"/>
                  </a:lnTo>
                  <a:lnTo>
                    <a:pt x="1775" y="1236"/>
                  </a:lnTo>
                  <a:lnTo>
                    <a:pt x="1664" y="1150"/>
                  </a:lnTo>
                  <a:lnTo>
                    <a:pt x="1549" y="1071"/>
                  </a:lnTo>
                  <a:lnTo>
                    <a:pt x="1432" y="996"/>
                  </a:lnTo>
                  <a:lnTo>
                    <a:pt x="1309" y="928"/>
                  </a:lnTo>
                  <a:lnTo>
                    <a:pt x="1183" y="866"/>
                  </a:lnTo>
                  <a:lnTo>
                    <a:pt x="1054" y="811"/>
                  </a:lnTo>
                  <a:lnTo>
                    <a:pt x="922" y="762"/>
                  </a:lnTo>
                  <a:lnTo>
                    <a:pt x="923" y="0"/>
                  </a:lnTo>
                  <a:lnTo>
                    <a:pt x="5" y="1371"/>
                  </a:lnTo>
                  <a:lnTo>
                    <a:pt x="920" y="3048"/>
                  </a:lnTo>
                  <a:lnTo>
                    <a:pt x="921" y="2286"/>
                  </a:lnTo>
                  <a:lnTo>
                    <a:pt x="1055" y="2336"/>
                  </a:lnTo>
                  <a:lnTo>
                    <a:pt x="1187" y="2393"/>
                  </a:lnTo>
                  <a:lnTo>
                    <a:pt x="1314" y="2456"/>
                  </a:lnTo>
                  <a:lnTo>
                    <a:pt x="1439" y="2527"/>
                  </a:lnTo>
                  <a:lnTo>
                    <a:pt x="1560" y="2601"/>
                  </a:lnTo>
                  <a:lnTo>
                    <a:pt x="1676" y="2684"/>
                  </a:lnTo>
                  <a:lnTo>
                    <a:pt x="1788" y="2772"/>
                  </a:lnTo>
                  <a:lnTo>
                    <a:pt x="1896" y="2865"/>
                  </a:lnTo>
                  <a:lnTo>
                    <a:pt x="1997" y="2964"/>
                  </a:lnTo>
                  <a:lnTo>
                    <a:pt x="2094" y="3067"/>
                  </a:lnTo>
                  <a:lnTo>
                    <a:pt x="2185" y="3175"/>
                  </a:lnTo>
                  <a:lnTo>
                    <a:pt x="2270" y="3288"/>
                  </a:lnTo>
                  <a:lnTo>
                    <a:pt x="2348" y="3405"/>
                  </a:lnTo>
                  <a:lnTo>
                    <a:pt x="2419" y="3526"/>
                  </a:lnTo>
                  <a:lnTo>
                    <a:pt x="2485" y="3650"/>
                  </a:lnTo>
                  <a:lnTo>
                    <a:pt x="2545" y="3777"/>
                  </a:lnTo>
                  <a:lnTo>
                    <a:pt x="2596" y="3908"/>
                  </a:lnTo>
                  <a:lnTo>
                    <a:pt x="2640" y="4040"/>
                  </a:lnTo>
                  <a:lnTo>
                    <a:pt x="2640" y="4040"/>
                  </a:lnTo>
                  <a:lnTo>
                    <a:pt x="2596" y="4170"/>
                  </a:lnTo>
                  <a:lnTo>
                    <a:pt x="2546" y="4298"/>
                  </a:lnTo>
                  <a:lnTo>
                    <a:pt x="2489" y="4423"/>
                  </a:lnTo>
                  <a:lnTo>
                    <a:pt x="2425" y="4545"/>
                  </a:lnTo>
                  <a:lnTo>
                    <a:pt x="2356" y="4663"/>
                  </a:lnTo>
                  <a:lnTo>
                    <a:pt x="2278" y="4778"/>
                  </a:lnTo>
                  <a:lnTo>
                    <a:pt x="2196" y="4890"/>
                  </a:lnTo>
                  <a:lnTo>
                    <a:pt x="2108" y="4996"/>
                  </a:lnTo>
                  <a:lnTo>
                    <a:pt x="2015" y="5098"/>
                  </a:lnTo>
                  <a:lnTo>
                    <a:pt x="1916" y="5195"/>
                  </a:lnTo>
                  <a:lnTo>
                    <a:pt x="1812" y="5288"/>
                  </a:lnTo>
                  <a:lnTo>
                    <a:pt x="1703" y="5375"/>
                  </a:lnTo>
                  <a:lnTo>
                    <a:pt x="1590" y="5457"/>
                  </a:lnTo>
                  <a:lnTo>
                    <a:pt x="1472" y="5531"/>
                  </a:lnTo>
                  <a:lnTo>
                    <a:pt x="1351" y="5601"/>
                  </a:lnTo>
                  <a:lnTo>
                    <a:pt x="1226" y="5666"/>
                  </a:lnTo>
                  <a:lnTo>
                    <a:pt x="1099" y="5723"/>
                  </a:lnTo>
                  <a:lnTo>
                    <a:pt x="967" y="5774"/>
                  </a:lnTo>
                  <a:lnTo>
                    <a:pt x="834" y="5819"/>
                  </a:lnTo>
                  <a:lnTo>
                    <a:pt x="699" y="5857"/>
                  </a:lnTo>
                  <a:lnTo>
                    <a:pt x="562" y="5888"/>
                  </a:lnTo>
                  <a:lnTo>
                    <a:pt x="423" y="5913"/>
                  </a:lnTo>
                  <a:lnTo>
                    <a:pt x="283" y="5929"/>
                  </a:lnTo>
                  <a:lnTo>
                    <a:pt x="142" y="5940"/>
                  </a:lnTo>
                  <a:lnTo>
                    <a:pt x="1" y="5944"/>
                  </a:lnTo>
                  <a:lnTo>
                    <a:pt x="0" y="7467"/>
                  </a:lnTo>
                  <a:moveTo>
                    <a:pt x="0" y="7467"/>
                  </a:moveTo>
                  <a:lnTo>
                    <a:pt x="145" y="7464"/>
                  </a:lnTo>
                  <a:lnTo>
                    <a:pt x="288" y="7453"/>
                  </a:lnTo>
                  <a:lnTo>
                    <a:pt x="431" y="7435"/>
                  </a:lnTo>
                  <a:lnTo>
                    <a:pt x="572" y="7410"/>
                  </a:lnTo>
                  <a:lnTo>
                    <a:pt x="713" y="7378"/>
                  </a:lnTo>
                  <a:lnTo>
                    <a:pt x="851" y="7338"/>
                  </a:lnTo>
                  <a:lnTo>
                    <a:pt x="987" y="7291"/>
                  </a:lnTo>
                  <a:lnTo>
                    <a:pt x="1121" y="7238"/>
                  </a:lnTo>
                  <a:lnTo>
                    <a:pt x="1251" y="7177"/>
                  </a:lnTo>
                  <a:lnTo>
                    <a:pt x="1378" y="7112"/>
                  </a:lnTo>
                  <a:lnTo>
                    <a:pt x="1499" y="7038"/>
                  </a:lnTo>
                  <a:lnTo>
                    <a:pt x="1619" y="6959"/>
                  </a:lnTo>
                  <a:lnTo>
                    <a:pt x="1733" y="6875"/>
                  </a:lnTo>
                  <a:lnTo>
                    <a:pt x="1843" y="6783"/>
                  </a:lnTo>
                  <a:lnTo>
                    <a:pt x="1948" y="6688"/>
                  </a:lnTo>
                  <a:lnTo>
                    <a:pt x="2047" y="6587"/>
                  </a:lnTo>
                  <a:lnTo>
                    <a:pt x="2140" y="6479"/>
                  </a:lnTo>
                  <a:lnTo>
                    <a:pt x="2228" y="6370"/>
                  </a:lnTo>
                  <a:lnTo>
                    <a:pt x="2310" y="6255"/>
                  </a:lnTo>
                  <a:lnTo>
                    <a:pt x="2386" y="6135"/>
                  </a:lnTo>
                  <a:lnTo>
                    <a:pt x="2454" y="6014"/>
                  </a:lnTo>
                  <a:lnTo>
                    <a:pt x="2516" y="5888"/>
                  </a:lnTo>
                  <a:lnTo>
                    <a:pt x="2571" y="5759"/>
                  </a:lnTo>
                  <a:lnTo>
                    <a:pt x="2619" y="5626"/>
                  </a:lnTo>
                  <a:lnTo>
                    <a:pt x="2661" y="5492"/>
                  </a:lnTo>
                  <a:lnTo>
                    <a:pt x="2695" y="5357"/>
                  </a:lnTo>
                  <a:lnTo>
                    <a:pt x="2720" y="5219"/>
                  </a:lnTo>
                  <a:lnTo>
                    <a:pt x="2740" y="5081"/>
                  </a:lnTo>
                  <a:lnTo>
                    <a:pt x="2751" y="4942"/>
                  </a:lnTo>
                  <a:lnTo>
                    <a:pt x="2755" y="4802"/>
                  </a:lnTo>
                  <a:lnTo>
                    <a:pt x="2756" y="3278"/>
                  </a:lnTo>
                  <a:lnTo>
                    <a:pt x="2755" y="3330"/>
                  </a:lnTo>
                  <a:lnTo>
                    <a:pt x="2754" y="3381"/>
                  </a:lnTo>
                  <a:lnTo>
                    <a:pt x="2751" y="3432"/>
                  </a:lnTo>
                  <a:lnTo>
                    <a:pt x="2748" y="3484"/>
                  </a:lnTo>
                  <a:lnTo>
                    <a:pt x="2743" y="3536"/>
                  </a:lnTo>
                  <a:lnTo>
                    <a:pt x="2738" y="3586"/>
                  </a:lnTo>
                  <a:lnTo>
                    <a:pt x="2731" y="3638"/>
                  </a:lnTo>
                  <a:lnTo>
                    <a:pt x="2723" y="3689"/>
                  </a:lnTo>
                  <a:lnTo>
                    <a:pt x="2713" y="3740"/>
                  </a:lnTo>
                  <a:lnTo>
                    <a:pt x="2705" y="3790"/>
                  </a:lnTo>
                  <a:lnTo>
                    <a:pt x="2694" y="3841"/>
                  </a:lnTo>
                  <a:lnTo>
                    <a:pt x="2681" y="3892"/>
                  </a:lnTo>
                  <a:lnTo>
                    <a:pt x="2669" y="3941"/>
                  </a:lnTo>
                  <a:lnTo>
                    <a:pt x="2655" y="3991"/>
                  </a:lnTo>
                  <a:lnTo>
                    <a:pt x="2640" y="4040"/>
                  </a:lnTo>
                  <a:lnTo>
                    <a:pt x="2640" y="4040"/>
                  </a:lnTo>
                  <a:lnTo>
                    <a:pt x="2596" y="4170"/>
                  </a:lnTo>
                  <a:lnTo>
                    <a:pt x="2546" y="4298"/>
                  </a:lnTo>
                  <a:lnTo>
                    <a:pt x="2489" y="4423"/>
                  </a:lnTo>
                  <a:lnTo>
                    <a:pt x="2425" y="4545"/>
                  </a:lnTo>
                  <a:lnTo>
                    <a:pt x="2356" y="4663"/>
                  </a:lnTo>
                  <a:lnTo>
                    <a:pt x="2278" y="4778"/>
                  </a:lnTo>
                  <a:lnTo>
                    <a:pt x="2196" y="4890"/>
                  </a:lnTo>
                  <a:lnTo>
                    <a:pt x="2108" y="4996"/>
                  </a:lnTo>
                  <a:lnTo>
                    <a:pt x="2015" y="5098"/>
                  </a:lnTo>
                  <a:lnTo>
                    <a:pt x="1916" y="5195"/>
                  </a:lnTo>
                  <a:lnTo>
                    <a:pt x="1812" y="5288"/>
                  </a:lnTo>
                  <a:lnTo>
                    <a:pt x="1703" y="5375"/>
                  </a:lnTo>
                  <a:lnTo>
                    <a:pt x="1590" y="5457"/>
                  </a:lnTo>
                  <a:lnTo>
                    <a:pt x="1472" y="5531"/>
                  </a:lnTo>
                  <a:lnTo>
                    <a:pt x="1351" y="5601"/>
                  </a:lnTo>
                  <a:lnTo>
                    <a:pt x="1226" y="5666"/>
                  </a:lnTo>
                  <a:lnTo>
                    <a:pt x="1099" y="5723"/>
                  </a:lnTo>
                  <a:lnTo>
                    <a:pt x="967" y="5774"/>
                  </a:lnTo>
                  <a:lnTo>
                    <a:pt x="834" y="5819"/>
                  </a:lnTo>
                  <a:lnTo>
                    <a:pt x="699" y="5857"/>
                  </a:lnTo>
                  <a:lnTo>
                    <a:pt x="562" y="5888"/>
                  </a:lnTo>
                  <a:lnTo>
                    <a:pt x="423" y="5913"/>
                  </a:lnTo>
                  <a:lnTo>
                    <a:pt x="283" y="5929"/>
                  </a:lnTo>
                  <a:lnTo>
                    <a:pt x="142" y="5940"/>
                  </a:lnTo>
                  <a:lnTo>
                    <a:pt x="1" y="5944"/>
                  </a:lnTo>
                  <a:lnTo>
                    <a:pt x="0" y="7467"/>
                  </a:lnTo>
                </a:path>
              </a:pathLst>
            </a:custGeom>
            <a:solidFill>
              <a:srgbClr val="66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86520" y="3335760"/>
              <a:ext cx="2349000" cy="76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4400" spc="-1" strike="noStrike">
                  <a:solidFill>
                    <a:srgbClr val="0000ff"/>
                  </a:solidFill>
                  <a:latin typeface="Verdana"/>
                  <a:ea typeface="DejaVu Sans"/>
                </a:rPr>
                <a:t>75 %</a:t>
              </a:r>
              <a:endParaRPr b="0" lang="en-US" sz="4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1553040" y="2909160"/>
            <a:ext cx="1749960" cy="3322080"/>
            <a:chOff x="1553040" y="2909160"/>
            <a:chExt cx="1749960" cy="3322080"/>
          </a:xfrm>
        </p:grpSpPr>
        <p:grpSp>
          <p:nvGrpSpPr>
            <p:cNvPr id="2125" name=""/>
            <p:cNvGrpSpPr/>
            <p:nvPr/>
          </p:nvGrpSpPr>
          <p:grpSpPr>
            <a:xfrm>
              <a:off x="2730960" y="4218840"/>
              <a:ext cx="572040" cy="501840"/>
              <a:chOff x="2730960" y="4218840"/>
              <a:chExt cx="572040" cy="501840"/>
            </a:xfrm>
          </p:grpSpPr>
          <p:grpSp>
            <p:nvGrpSpPr>
              <p:cNvPr id="2126" name=""/>
              <p:cNvGrpSpPr/>
              <p:nvPr/>
            </p:nvGrpSpPr>
            <p:grpSpPr>
              <a:xfrm>
                <a:off x="2730960" y="4250520"/>
                <a:ext cx="496800" cy="470160"/>
                <a:chOff x="2730960" y="4250520"/>
                <a:chExt cx="496800" cy="470160"/>
              </a:xfrm>
            </p:grpSpPr>
            <p:pic>
              <p:nvPicPr>
                <p:cNvPr id="2127" name="" descr=""/>
                <p:cNvPicPr/>
                <p:nvPr/>
              </p:nvPicPr>
              <p:blipFill>
                <a:blip r:embed="rId41"/>
                <a:stretch/>
              </p:blipFill>
              <p:spPr>
                <a:xfrm rot="6120000">
                  <a:off x="2793600" y="4302720"/>
                  <a:ext cx="18000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8" name="" descr=""/>
                <p:cNvPicPr/>
                <p:nvPr/>
              </p:nvPicPr>
              <p:blipFill>
                <a:blip r:embed="rId42"/>
                <a:stretch/>
              </p:blipFill>
              <p:spPr>
                <a:xfrm rot="6120000">
                  <a:off x="2855880" y="4372560"/>
                  <a:ext cx="432720" cy="22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9" name=""/>
              <p:cNvGrpSpPr/>
              <p:nvPr/>
            </p:nvGrpSpPr>
            <p:grpSpPr>
              <a:xfrm>
                <a:off x="2842920" y="4218840"/>
                <a:ext cx="460080" cy="429120"/>
                <a:chOff x="2842920" y="4218840"/>
                <a:chExt cx="460080" cy="429120"/>
              </a:xfrm>
            </p:grpSpPr>
            <p:sp>
              <p:nvSpPr>
                <p:cNvPr id="2130" name=""/>
                <p:cNvSpPr/>
                <p:nvPr/>
              </p:nvSpPr>
              <p:spPr>
                <a:xfrm flipH="1" rot="9540000">
                  <a:off x="3091320" y="4235040"/>
                  <a:ext cx="124560" cy="1731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131" name=""/>
                <p:cNvGrpSpPr/>
                <p:nvPr/>
              </p:nvGrpSpPr>
              <p:grpSpPr>
                <a:xfrm>
                  <a:off x="2842920" y="4238280"/>
                  <a:ext cx="460080" cy="409680"/>
                  <a:chOff x="2842920" y="4238280"/>
                  <a:chExt cx="460080" cy="409680"/>
                </a:xfrm>
              </p:grpSpPr>
              <p:grpSp>
                <p:nvGrpSpPr>
                  <p:cNvPr id="2132" name=""/>
                  <p:cNvGrpSpPr/>
                  <p:nvPr/>
                </p:nvGrpSpPr>
                <p:grpSpPr>
                  <a:xfrm>
                    <a:off x="2842920" y="4238280"/>
                    <a:ext cx="460080" cy="409680"/>
                    <a:chOff x="2842920" y="4238280"/>
                    <a:chExt cx="460080" cy="409680"/>
                  </a:xfrm>
                </p:grpSpPr>
                <p:pic>
                  <p:nvPicPr>
                    <p:cNvPr id="213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 rot="13860000">
                      <a:off x="2990880" y="4389480"/>
                      <a:ext cx="300240" cy="17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34" name=""/>
                    <p:cNvSpPr/>
                    <p:nvPr/>
                  </p:nvSpPr>
                  <p:spPr>
                    <a:xfrm flipH="1" rot="7740000">
                      <a:off x="2877480" y="4312800"/>
                      <a:ext cx="30492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135" name=""/>
                  <p:cNvSpPr/>
                  <p:nvPr/>
                </p:nvSpPr>
                <p:spPr>
                  <a:xfrm flipH="1" rot="7740000">
                    <a:off x="3106800" y="4328280"/>
                    <a:ext cx="295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H="1" rot="7740000">
                    <a:off x="3078720" y="4363200"/>
                    <a:ext cx="295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H="1" rot="7740000">
                    <a:off x="3054960" y="4414320"/>
                    <a:ext cx="248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 rot="7740000">
                    <a:off x="3116520" y="4424040"/>
                    <a:ext cx="399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 rot="7740000">
                    <a:off x="3139920" y="4394520"/>
                    <a:ext cx="428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140" name=""/>
            <p:cNvGrpSpPr/>
            <p:nvPr/>
          </p:nvGrpSpPr>
          <p:grpSpPr>
            <a:xfrm>
              <a:off x="2446920" y="2909160"/>
              <a:ext cx="395280" cy="446040"/>
              <a:chOff x="2446920" y="2909160"/>
              <a:chExt cx="395280" cy="446040"/>
            </a:xfrm>
          </p:grpSpPr>
          <p:pic>
            <p:nvPicPr>
              <p:cNvPr id="2141" name="" descr=""/>
              <p:cNvPicPr/>
              <p:nvPr/>
            </p:nvPicPr>
            <p:blipFill>
              <a:blip r:embed="rId44"/>
              <a:stretch/>
            </p:blipFill>
            <p:spPr>
              <a:xfrm rot="1860000">
                <a:off x="2497680" y="310068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2" name="" descr=""/>
              <p:cNvPicPr/>
              <p:nvPr/>
            </p:nvPicPr>
            <p:blipFill>
              <a:blip r:embed="rId45"/>
              <a:stretch/>
            </p:blipFill>
            <p:spPr>
              <a:xfrm rot="1860000">
                <a:off x="2483280" y="298080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3" name=""/>
            <p:cNvSpPr/>
            <p:nvPr/>
          </p:nvSpPr>
          <p:spPr>
            <a:xfrm>
              <a:off x="1780920" y="3159000"/>
              <a:ext cx="1136880" cy="271440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2451600" y="3169440"/>
              <a:ext cx="423000" cy="367560"/>
              <a:chOff x="2451600" y="3169440"/>
              <a:chExt cx="423000" cy="367560"/>
            </a:xfrm>
          </p:grpSpPr>
          <p:pic>
            <p:nvPicPr>
              <p:cNvPr id="2145" name="" descr=""/>
              <p:cNvPicPr/>
              <p:nvPr/>
            </p:nvPicPr>
            <p:blipFill>
              <a:blip r:embed="rId46"/>
              <a:stretch/>
            </p:blipFill>
            <p:spPr>
              <a:xfrm rot="15240000">
                <a:off x="2678040" y="320436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6" name="" descr=""/>
              <p:cNvPicPr/>
              <p:nvPr/>
            </p:nvPicPr>
            <p:blipFill>
              <a:blip r:embed="rId47"/>
              <a:stretch/>
            </p:blipFill>
            <p:spPr>
              <a:xfrm rot="15240000">
                <a:off x="2422800" y="325908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7" name=""/>
            <p:cNvGrpSpPr/>
            <p:nvPr/>
          </p:nvGrpSpPr>
          <p:grpSpPr>
            <a:xfrm>
              <a:off x="2575800" y="3280680"/>
              <a:ext cx="394920" cy="446400"/>
              <a:chOff x="2575800" y="3280680"/>
              <a:chExt cx="394920" cy="446400"/>
            </a:xfrm>
          </p:grpSpPr>
          <p:pic>
            <p:nvPicPr>
              <p:cNvPr id="2148" name="" descr=""/>
              <p:cNvPicPr/>
              <p:nvPr/>
            </p:nvPicPr>
            <p:blipFill>
              <a:blip r:embed="rId48"/>
              <a:stretch/>
            </p:blipFill>
            <p:spPr>
              <a:xfrm rot="1860000">
                <a:off x="2626200" y="3472200"/>
                <a:ext cx="13860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9" name="" descr=""/>
              <p:cNvPicPr/>
              <p:nvPr/>
            </p:nvPicPr>
            <p:blipFill>
              <a:blip r:embed="rId49"/>
              <a:stretch/>
            </p:blipFill>
            <p:spPr>
              <a:xfrm rot="1860000">
                <a:off x="2611800" y="335232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0" name=""/>
            <p:cNvGrpSpPr/>
            <p:nvPr/>
          </p:nvGrpSpPr>
          <p:grpSpPr>
            <a:xfrm>
              <a:off x="2615040" y="3540960"/>
              <a:ext cx="423000" cy="367920"/>
              <a:chOff x="2615040" y="3540960"/>
              <a:chExt cx="423000" cy="367920"/>
            </a:xfrm>
          </p:grpSpPr>
          <p:pic>
            <p:nvPicPr>
              <p:cNvPr id="2151" name="" descr=""/>
              <p:cNvPicPr/>
              <p:nvPr/>
            </p:nvPicPr>
            <p:blipFill>
              <a:blip r:embed="rId50"/>
              <a:stretch/>
            </p:blipFill>
            <p:spPr>
              <a:xfrm rot="15240000">
                <a:off x="2840760" y="357552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2" name="" descr=""/>
              <p:cNvPicPr/>
              <p:nvPr/>
            </p:nvPicPr>
            <p:blipFill>
              <a:blip r:embed="rId51"/>
              <a:stretch/>
            </p:blipFill>
            <p:spPr>
              <a:xfrm rot="15240000">
                <a:off x="2586960" y="3629880"/>
                <a:ext cx="328320" cy="18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3" name=""/>
            <p:cNvGrpSpPr/>
            <p:nvPr/>
          </p:nvGrpSpPr>
          <p:grpSpPr>
            <a:xfrm>
              <a:off x="2648160" y="3729240"/>
              <a:ext cx="396000" cy="445680"/>
              <a:chOff x="2648160" y="3729240"/>
              <a:chExt cx="396000" cy="445680"/>
            </a:xfrm>
          </p:grpSpPr>
          <p:pic>
            <p:nvPicPr>
              <p:cNvPr id="2154" name="" descr=""/>
              <p:cNvPicPr/>
              <p:nvPr/>
            </p:nvPicPr>
            <p:blipFill>
              <a:blip r:embed="rId52"/>
              <a:stretch/>
            </p:blipFill>
            <p:spPr>
              <a:xfrm rot="1860000">
                <a:off x="2698920" y="3919320"/>
                <a:ext cx="13896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5" name="" descr=""/>
              <p:cNvPicPr/>
              <p:nvPr/>
            </p:nvPicPr>
            <p:blipFill>
              <a:blip r:embed="rId53"/>
              <a:stretch/>
            </p:blipFill>
            <p:spPr>
              <a:xfrm rot="1860000">
                <a:off x="2684880" y="3800880"/>
                <a:ext cx="332640" cy="19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6" name=""/>
            <p:cNvGrpSpPr/>
            <p:nvPr/>
          </p:nvGrpSpPr>
          <p:grpSpPr>
            <a:xfrm>
              <a:off x="2686320" y="3987720"/>
              <a:ext cx="423000" cy="367560"/>
              <a:chOff x="2686320" y="3987720"/>
              <a:chExt cx="423000" cy="367560"/>
            </a:xfrm>
          </p:grpSpPr>
          <p:pic>
            <p:nvPicPr>
              <p:cNvPr id="2157" name="" descr=""/>
              <p:cNvPicPr/>
              <p:nvPr/>
            </p:nvPicPr>
            <p:blipFill>
              <a:blip r:embed="rId54"/>
              <a:stretch/>
            </p:blipFill>
            <p:spPr>
              <a:xfrm rot="15240000">
                <a:off x="2912040" y="402408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8" name="" descr=""/>
              <p:cNvPicPr/>
              <p:nvPr/>
            </p:nvPicPr>
            <p:blipFill>
              <a:blip r:embed="rId55"/>
              <a:stretch/>
            </p:blipFill>
            <p:spPr>
              <a:xfrm rot="15240000">
                <a:off x="2657880" y="407664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9" name=""/>
            <p:cNvGrpSpPr/>
            <p:nvPr/>
          </p:nvGrpSpPr>
          <p:grpSpPr>
            <a:xfrm>
              <a:off x="1553040" y="3841920"/>
              <a:ext cx="860400" cy="751680"/>
              <a:chOff x="1553040" y="3841920"/>
              <a:chExt cx="860400" cy="75168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1553040" y="3889800"/>
                <a:ext cx="744840" cy="703800"/>
                <a:chOff x="1553040" y="3889800"/>
                <a:chExt cx="744840" cy="703800"/>
              </a:xfrm>
            </p:grpSpPr>
            <p:pic>
              <p:nvPicPr>
                <p:cNvPr id="2161" name="" descr=""/>
                <p:cNvPicPr/>
                <p:nvPr/>
              </p:nvPicPr>
              <p:blipFill>
                <a:blip r:embed="rId56"/>
                <a:stretch/>
              </p:blipFill>
              <p:spPr>
                <a:xfrm rot="6120000">
                  <a:off x="1647000" y="3968280"/>
                  <a:ext cx="2707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2" name="" descr=""/>
                <p:cNvPicPr/>
                <p:nvPr/>
              </p:nvPicPr>
              <p:blipFill>
                <a:blip r:embed="rId57"/>
                <a:stretch/>
              </p:blipFill>
              <p:spPr>
                <a:xfrm rot="6120000">
                  <a:off x="1740600" y="4071600"/>
                  <a:ext cx="647280" cy="33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3" name=""/>
              <p:cNvGrpSpPr/>
              <p:nvPr/>
            </p:nvGrpSpPr>
            <p:grpSpPr>
              <a:xfrm>
                <a:off x="1720080" y="3841920"/>
                <a:ext cx="693360" cy="642600"/>
                <a:chOff x="1720080" y="3841920"/>
                <a:chExt cx="693360" cy="642600"/>
              </a:xfrm>
            </p:grpSpPr>
            <p:sp>
              <p:nvSpPr>
                <p:cNvPr id="2164" name=""/>
                <p:cNvSpPr/>
                <p:nvPr/>
              </p:nvSpPr>
              <p:spPr>
                <a:xfrm flipH="1" rot="9540000">
                  <a:off x="2091600" y="3866760"/>
                  <a:ext cx="188640" cy="2595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165" name=""/>
                <p:cNvGrpSpPr/>
                <p:nvPr/>
              </p:nvGrpSpPr>
              <p:grpSpPr>
                <a:xfrm>
                  <a:off x="1720080" y="3872520"/>
                  <a:ext cx="693360" cy="612000"/>
                  <a:chOff x="1720080" y="3872520"/>
                  <a:chExt cx="693360" cy="612000"/>
                </a:xfrm>
              </p:grpSpPr>
              <p:grpSp>
                <p:nvGrpSpPr>
                  <p:cNvPr id="2166" name=""/>
                  <p:cNvGrpSpPr/>
                  <p:nvPr/>
                </p:nvGrpSpPr>
                <p:grpSpPr>
                  <a:xfrm>
                    <a:off x="1720080" y="3872520"/>
                    <a:ext cx="693360" cy="612000"/>
                    <a:chOff x="1720080" y="3872520"/>
                    <a:chExt cx="693360" cy="612000"/>
                  </a:xfrm>
                </p:grpSpPr>
                <p:pic>
                  <p:nvPicPr>
                    <p:cNvPr id="2167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 rot="13860000">
                      <a:off x="1943640" y="4094280"/>
                      <a:ext cx="450360" cy="26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68" name=""/>
                    <p:cNvSpPr/>
                    <p:nvPr/>
                  </p:nvSpPr>
                  <p:spPr>
                    <a:xfrm flipH="1" rot="7740000">
                      <a:off x="1770480" y="3985920"/>
                      <a:ext cx="459720" cy="35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169" name=""/>
                  <p:cNvSpPr/>
                  <p:nvPr/>
                </p:nvSpPr>
                <p:spPr>
                  <a:xfrm flipH="1" rot="7740000">
                    <a:off x="2117160" y="4003200"/>
                    <a:ext cx="460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H="1" rot="7740000">
                    <a:off x="2074320" y="4055040"/>
                    <a:ext cx="4608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 flipH="1" rot="7740000">
                    <a:off x="2040480" y="4133880"/>
                    <a:ext cx="381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 flipH="1" rot="7740000">
                    <a:off x="2131560" y="4147560"/>
                    <a:ext cx="59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H="1" rot="7740000">
                    <a:off x="2165760" y="4104000"/>
                    <a:ext cx="644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174" name=""/>
            <p:cNvGrpSpPr/>
            <p:nvPr/>
          </p:nvGrpSpPr>
          <p:grpSpPr>
            <a:xfrm>
              <a:off x="2648520" y="4397040"/>
              <a:ext cx="395280" cy="446040"/>
              <a:chOff x="2648520" y="4397040"/>
              <a:chExt cx="395280" cy="446040"/>
            </a:xfrm>
          </p:grpSpPr>
          <p:pic>
            <p:nvPicPr>
              <p:cNvPr id="2175" name="" descr=""/>
              <p:cNvPicPr/>
              <p:nvPr/>
            </p:nvPicPr>
            <p:blipFill>
              <a:blip r:embed="rId59"/>
              <a:stretch/>
            </p:blipFill>
            <p:spPr>
              <a:xfrm rot="1860000">
                <a:off x="2699280" y="458856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6" name="" descr=""/>
              <p:cNvPicPr/>
              <p:nvPr/>
            </p:nvPicPr>
            <p:blipFill>
              <a:blip r:embed="rId60"/>
              <a:stretch/>
            </p:blipFill>
            <p:spPr>
              <a:xfrm rot="1860000">
                <a:off x="2684880" y="446868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7" name=""/>
            <p:cNvGrpSpPr/>
            <p:nvPr/>
          </p:nvGrpSpPr>
          <p:grpSpPr>
            <a:xfrm>
              <a:off x="2686320" y="4658040"/>
              <a:ext cx="423000" cy="367560"/>
              <a:chOff x="2686320" y="4658040"/>
              <a:chExt cx="423000" cy="367560"/>
            </a:xfrm>
          </p:grpSpPr>
          <p:pic>
            <p:nvPicPr>
              <p:cNvPr id="2178" name="" descr=""/>
              <p:cNvPicPr/>
              <p:nvPr/>
            </p:nvPicPr>
            <p:blipFill>
              <a:blip r:embed="rId61"/>
              <a:stretch/>
            </p:blipFill>
            <p:spPr>
              <a:xfrm rot="15240000">
                <a:off x="2912040" y="469224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9" name="" descr=""/>
              <p:cNvPicPr/>
              <p:nvPr/>
            </p:nvPicPr>
            <p:blipFill>
              <a:blip r:embed="rId62"/>
              <a:stretch/>
            </p:blipFill>
            <p:spPr>
              <a:xfrm rot="15240000">
                <a:off x="2657880" y="47469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0" name=""/>
            <p:cNvGrpSpPr/>
            <p:nvPr/>
          </p:nvGrpSpPr>
          <p:grpSpPr>
            <a:xfrm>
              <a:off x="2615040" y="4879800"/>
              <a:ext cx="423000" cy="367920"/>
              <a:chOff x="2615040" y="4879800"/>
              <a:chExt cx="423000" cy="367920"/>
            </a:xfrm>
          </p:grpSpPr>
          <p:pic>
            <p:nvPicPr>
              <p:cNvPr id="2181" name="" descr=""/>
              <p:cNvPicPr/>
              <p:nvPr/>
            </p:nvPicPr>
            <p:blipFill>
              <a:blip r:embed="rId63"/>
              <a:stretch/>
            </p:blipFill>
            <p:spPr>
              <a:xfrm rot="15240000">
                <a:off x="2840760" y="491436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2" name="" descr=""/>
              <p:cNvPicPr/>
              <p:nvPr/>
            </p:nvPicPr>
            <p:blipFill>
              <a:blip r:embed="rId64"/>
              <a:stretch/>
            </p:blipFill>
            <p:spPr>
              <a:xfrm rot="15240000">
                <a:off x="2586960" y="4968720"/>
                <a:ext cx="328320" cy="18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3" name=""/>
            <p:cNvGrpSpPr/>
            <p:nvPr/>
          </p:nvGrpSpPr>
          <p:grpSpPr>
            <a:xfrm>
              <a:off x="2591280" y="5067360"/>
              <a:ext cx="397080" cy="446040"/>
              <a:chOff x="2591280" y="5067360"/>
              <a:chExt cx="397080" cy="446040"/>
            </a:xfrm>
          </p:grpSpPr>
          <p:pic>
            <p:nvPicPr>
              <p:cNvPr id="2184" name="" descr=""/>
              <p:cNvPicPr/>
              <p:nvPr/>
            </p:nvPicPr>
            <p:blipFill>
              <a:blip r:embed="rId65"/>
              <a:stretch/>
            </p:blipFill>
            <p:spPr>
              <a:xfrm rot="1860000">
                <a:off x="2641680" y="5258520"/>
                <a:ext cx="13896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5" name="" descr=""/>
              <p:cNvPicPr/>
              <p:nvPr/>
            </p:nvPicPr>
            <p:blipFill>
              <a:blip r:embed="rId66"/>
              <a:stretch/>
            </p:blipFill>
            <p:spPr>
              <a:xfrm rot="1860000">
                <a:off x="2629440" y="513900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6" name=""/>
            <p:cNvGrpSpPr/>
            <p:nvPr/>
          </p:nvGrpSpPr>
          <p:grpSpPr>
            <a:xfrm>
              <a:off x="2105640" y="3020400"/>
              <a:ext cx="423000" cy="367200"/>
              <a:chOff x="2105640" y="3020400"/>
              <a:chExt cx="423000" cy="367200"/>
            </a:xfrm>
          </p:grpSpPr>
          <p:pic>
            <p:nvPicPr>
              <p:cNvPr id="2187" name="" descr=""/>
              <p:cNvPicPr/>
              <p:nvPr/>
            </p:nvPicPr>
            <p:blipFill>
              <a:blip r:embed="rId67"/>
              <a:stretch/>
            </p:blipFill>
            <p:spPr>
              <a:xfrm rot="15240000">
                <a:off x="2331360" y="3054960"/>
                <a:ext cx="136080" cy="22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8" name="" descr=""/>
              <p:cNvPicPr/>
              <p:nvPr/>
            </p:nvPicPr>
            <p:blipFill>
              <a:blip r:embed="rId68"/>
              <a:stretch/>
            </p:blipFill>
            <p:spPr>
              <a:xfrm rot="15240000">
                <a:off x="2077560" y="3109320"/>
                <a:ext cx="32796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9" name=""/>
            <p:cNvGrpSpPr/>
            <p:nvPr/>
          </p:nvGrpSpPr>
          <p:grpSpPr>
            <a:xfrm>
              <a:off x="1887120" y="3242880"/>
              <a:ext cx="423000" cy="367560"/>
              <a:chOff x="1887120" y="3242880"/>
              <a:chExt cx="423000" cy="367560"/>
            </a:xfrm>
          </p:grpSpPr>
          <p:pic>
            <p:nvPicPr>
              <p:cNvPr id="2190" name="" descr=""/>
              <p:cNvPicPr/>
              <p:nvPr/>
            </p:nvPicPr>
            <p:blipFill>
              <a:blip r:embed="rId69"/>
              <a:stretch/>
            </p:blipFill>
            <p:spPr>
              <a:xfrm rot="15240000">
                <a:off x="2112840" y="3278520"/>
                <a:ext cx="13572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1" name="" descr=""/>
              <p:cNvPicPr/>
              <p:nvPr/>
            </p:nvPicPr>
            <p:blipFill>
              <a:blip r:embed="rId70"/>
              <a:stretch/>
            </p:blipFill>
            <p:spPr>
              <a:xfrm rot="15240000">
                <a:off x="1858680" y="333180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2" name=""/>
            <p:cNvGrpSpPr/>
            <p:nvPr/>
          </p:nvGrpSpPr>
          <p:grpSpPr>
            <a:xfrm>
              <a:off x="1793880" y="3355560"/>
              <a:ext cx="394920" cy="446040"/>
              <a:chOff x="1793880" y="3355560"/>
              <a:chExt cx="394920" cy="446040"/>
            </a:xfrm>
          </p:grpSpPr>
          <p:pic>
            <p:nvPicPr>
              <p:cNvPr id="2193" name="" descr=""/>
              <p:cNvPicPr/>
              <p:nvPr/>
            </p:nvPicPr>
            <p:blipFill>
              <a:blip r:embed="rId71"/>
              <a:stretch/>
            </p:blipFill>
            <p:spPr>
              <a:xfrm rot="1860000">
                <a:off x="1844280" y="3547440"/>
                <a:ext cx="138600" cy="23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4" name="" descr=""/>
              <p:cNvPicPr/>
              <p:nvPr/>
            </p:nvPicPr>
            <p:blipFill>
              <a:blip r:embed="rId72"/>
              <a:stretch/>
            </p:blipFill>
            <p:spPr>
              <a:xfrm rot="1860000">
                <a:off x="1829880" y="3427200"/>
                <a:ext cx="33264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5" name=""/>
            <p:cNvGrpSpPr/>
            <p:nvPr/>
          </p:nvGrpSpPr>
          <p:grpSpPr>
            <a:xfrm>
              <a:off x="1669680" y="3688560"/>
              <a:ext cx="423000" cy="367560"/>
              <a:chOff x="1669680" y="3688560"/>
              <a:chExt cx="423000" cy="367560"/>
            </a:xfrm>
          </p:grpSpPr>
          <p:pic>
            <p:nvPicPr>
              <p:cNvPr id="2196" name="" descr=""/>
              <p:cNvPicPr/>
              <p:nvPr/>
            </p:nvPicPr>
            <p:blipFill>
              <a:blip r:embed="rId73"/>
              <a:stretch/>
            </p:blipFill>
            <p:spPr>
              <a:xfrm rot="15240000">
                <a:off x="1896120" y="372348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7" name="" descr=""/>
              <p:cNvPicPr/>
              <p:nvPr/>
            </p:nvPicPr>
            <p:blipFill>
              <a:blip r:embed="rId74"/>
              <a:stretch/>
            </p:blipFill>
            <p:spPr>
              <a:xfrm rot="15240000">
                <a:off x="1640880" y="377820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8" name=""/>
            <p:cNvGrpSpPr/>
            <p:nvPr/>
          </p:nvGrpSpPr>
          <p:grpSpPr>
            <a:xfrm>
              <a:off x="1596600" y="4211640"/>
              <a:ext cx="423000" cy="367560"/>
              <a:chOff x="1596600" y="4211640"/>
              <a:chExt cx="423000" cy="367560"/>
            </a:xfrm>
          </p:grpSpPr>
          <p:pic>
            <p:nvPicPr>
              <p:cNvPr id="2199" name="" descr=""/>
              <p:cNvPicPr/>
              <p:nvPr/>
            </p:nvPicPr>
            <p:blipFill>
              <a:blip r:embed="rId75"/>
              <a:stretch/>
            </p:blipFill>
            <p:spPr>
              <a:xfrm rot="15240000">
                <a:off x="1822320" y="42454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0" name="" descr=""/>
              <p:cNvPicPr/>
              <p:nvPr/>
            </p:nvPicPr>
            <p:blipFill>
              <a:blip r:embed="rId76"/>
              <a:stretch/>
            </p:blipFill>
            <p:spPr>
              <a:xfrm rot="15240000">
                <a:off x="1568160" y="43005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1" name=""/>
            <p:cNvGrpSpPr/>
            <p:nvPr/>
          </p:nvGrpSpPr>
          <p:grpSpPr>
            <a:xfrm>
              <a:off x="1647720" y="4397040"/>
              <a:ext cx="395280" cy="446040"/>
              <a:chOff x="1647720" y="4397040"/>
              <a:chExt cx="395280" cy="446040"/>
            </a:xfrm>
          </p:grpSpPr>
          <p:pic>
            <p:nvPicPr>
              <p:cNvPr id="2202" name="" descr=""/>
              <p:cNvPicPr/>
              <p:nvPr/>
            </p:nvPicPr>
            <p:blipFill>
              <a:blip r:embed="rId77"/>
              <a:stretch/>
            </p:blipFill>
            <p:spPr>
              <a:xfrm rot="1860000">
                <a:off x="1698480" y="4588560"/>
                <a:ext cx="138960" cy="23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3" name="" descr=""/>
              <p:cNvPicPr/>
              <p:nvPr/>
            </p:nvPicPr>
            <p:blipFill>
              <a:blip r:embed="rId78"/>
              <a:stretch/>
            </p:blipFill>
            <p:spPr>
              <a:xfrm rot="1860000">
                <a:off x="1684080" y="4468680"/>
                <a:ext cx="332640" cy="19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4" name=""/>
            <p:cNvGrpSpPr/>
            <p:nvPr/>
          </p:nvGrpSpPr>
          <p:grpSpPr>
            <a:xfrm>
              <a:off x="2061360" y="5479200"/>
              <a:ext cx="860400" cy="752040"/>
              <a:chOff x="2061360" y="5479200"/>
              <a:chExt cx="860400" cy="752040"/>
            </a:xfrm>
          </p:grpSpPr>
          <p:grpSp>
            <p:nvGrpSpPr>
              <p:cNvPr id="2205" name=""/>
              <p:cNvGrpSpPr/>
              <p:nvPr/>
            </p:nvGrpSpPr>
            <p:grpSpPr>
              <a:xfrm>
                <a:off x="2061360" y="5527080"/>
                <a:ext cx="747000" cy="704160"/>
                <a:chOff x="2061360" y="5527080"/>
                <a:chExt cx="747000" cy="704160"/>
              </a:xfrm>
            </p:grpSpPr>
            <p:pic>
              <p:nvPicPr>
                <p:cNvPr id="2206" name="" descr=""/>
                <p:cNvPicPr/>
                <p:nvPr/>
              </p:nvPicPr>
              <p:blipFill>
                <a:blip r:embed="rId79"/>
                <a:stretch/>
              </p:blipFill>
              <p:spPr>
                <a:xfrm rot="6120000">
                  <a:off x="2155680" y="5605560"/>
                  <a:ext cx="270720" cy="41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7" name="" descr=""/>
                <p:cNvPicPr/>
                <p:nvPr/>
              </p:nvPicPr>
              <p:blipFill>
                <a:blip r:embed="rId80"/>
                <a:stretch/>
              </p:blipFill>
              <p:spPr>
                <a:xfrm rot="6120000">
                  <a:off x="2250720" y="5708880"/>
                  <a:ext cx="647280" cy="34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08" name=""/>
              <p:cNvGrpSpPr/>
              <p:nvPr/>
            </p:nvGrpSpPr>
            <p:grpSpPr>
              <a:xfrm>
                <a:off x="2228400" y="5479200"/>
                <a:ext cx="693360" cy="642240"/>
                <a:chOff x="2228400" y="5479200"/>
                <a:chExt cx="693360" cy="642240"/>
              </a:xfrm>
            </p:grpSpPr>
            <p:sp>
              <p:nvSpPr>
                <p:cNvPr id="2209" name=""/>
                <p:cNvSpPr/>
                <p:nvPr/>
              </p:nvSpPr>
              <p:spPr>
                <a:xfrm flipH="1" rot="9540000">
                  <a:off x="2601360" y="5504400"/>
                  <a:ext cx="189360" cy="2595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2228400" y="5511240"/>
                  <a:ext cx="693360" cy="610200"/>
                  <a:chOff x="2228400" y="5511240"/>
                  <a:chExt cx="693360" cy="610200"/>
                </a:xfrm>
              </p:grpSpPr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2228400" y="5511240"/>
                    <a:ext cx="693360" cy="610200"/>
                    <a:chOff x="2228400" y="5511240"/>
                    <a:chExt cx="693360" cy="610200"/>
                  </a:xfrm>
                </p:grpSpPr>
                <p:pic>
                  <p:nvPicPr>
                    <p:cNvPr id="2212" name="" descr=""/>
                    <p:cNvPicPr/>
                    <p:nvPr/>
                  </p:nvPicPr>
                  <p:blipFill>
                    <a:blip r:embed="rId81"/>
                    <a:stretch/>
                  </p:blipFill>
                  <p:spPr>
                    <a:xfrm rot="13860000">
                      <a:off x="2453040" y="5733360"/>
                      <a:ext cx="450360" cy="26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3" name=""/>
                    <p:cNvSpPr/>
                    <p:nvPr/>
                  </p:nvSpPr>
                  <p:spPr>
                    <a:xfrm flipH="1" rot="7740000">
                      <a:off x="2278080" y="5625360"/>
                      <a:ext cx="46008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14" name=""/>
                  <p:cNvSpPr/>
                  <p:nvPr/>
                </p:nvSpPr>
                <p:spPr>
                  <a:xfrm flipH="1" rot="7740000">
                    <a:off x="2626560" y="5640840"/>
                    <a:ext cx="464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H="1" rot="7740000">
                    <a:off x="2583000" y="5692680"/>
                    <a:ext cx="464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flipH="1" rot="7740000">
                    <a:off x="2548080" y="5771160"/>
                    <a:ext cx="37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H="1" rot="7740000">
                    <a:off x="2639880" y="5785560"/>
                    <a:ext cx="59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H="1" rot="7740000">
                    <a:off x="2675880" y="5741280"/>
                    <a:ext cx="644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19" name=""/>
            <p:cNvGrpSpPr/>
            <p:nvPr/>
          </p:nvGrpSpPr>
          <p:grpSpPr>
            <a:xfrm>
              <a:off x="2395800" y="5327640"/>
              <a:ext cx="423000" cy="367560"/>
              <a:chOff x="2395800" y="5327640"/>
              <a:chExt cx="423000" cy="367560"/>
            </a:xfrm>
          </p:grpSpPr>
          <p:pic>
            <p:nvPicPr>
              <p:cNvPr id="2220" name="" descr=""/>
              <p:cNvPicPr/>
              <p:nvPr/>
            </p:nvPicPr>
            <p:blipFill>
              <a:blip r:embed="rId82"/>
              <a:stretch/>
            </p:blipFill>
            <p:spPr>
              <a:xfrm rot="15240000">
                <a:off x="2622240" y="536256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1" name="" descr=""/>
              <p:cNvPicPr/>
              <p:nvPr/>
            </p:nvPicPr>
            <p:blipFill>
              <a:blip r:embed="rId83"/>
              <a:stretch/>
            </p:blipFill>
            <p:spPr>
              <a:xfrm rot="15240000">
                <a:off x="2367000" y="5417280"/>
                <a:ext cx="32832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2" name=""/>
            <p:cNvGrpSpPr/>
            <p:nvPr/>
          </p:nvGrpSpPr>
          <p:grpSpPr>
            <a:xfrm>
              <a:off x="1596600" y="4658040"/>
              <a:ext cx="423000" cy="367560"/>
              <a:chOff x="1596600" y="4658040"/>
              <a:chExt cx="423000" cy="367560"/>
            </a:xfrm>
          </p:grpSpPr>
          <p:pic>
            <p:nvPicPr>
              <p:cNvPr id="2223" name="" descr=""/>
              <p:cNvPicPr/>
              <p:nvPr/>
            </p:nvPicPr>
            <p:blipFill>
              <a:blip r:embed="rId84"/>
              <a:stretch/>
            </p:blipFill>
            <p:spPr>
              <a:xfrm rot="15240000">
                <a:off x="1822320" y="46918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4" name="" descr=""/>
              <p:cNvPicPr/>
              <p:nvPr/>
            </p:nvPicPr>
            <p:blipFill>
              <a:blip r:embed="rId85"/>
              <a:stretch/>
            </p:blipFill>
            <p:spPr>
              <a:xfrm rot="15240000">
                <a:off x="1568160" y="474696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5" name=""/>
            <p:cNvGrpSpPr/>
            <p:nvPr/>
          </p:nvGrpSpPr>
          <p:grpSpPr>
            <a:xfrm>
              <a:off x="1717560" y="4799880"/>
              <a:ext cx="488880" cy="433800"/>
              <a:chOff x="1717560" y="4799880"/>
              <a:chExt cx="488880" cy="433800"/>
            </a:xfrm>
          </p:grpSpPr>
          <p:pic>
            <p:nvPicPr>
              <p:cNvPr id="2226" name="" descr=""/>
              <p:cNvPicPr/>
              <p:nvPr/>
            </p:nvPicPr>
            <p:blipFill>
              <a:blip r:embed="rId86"/>
              <a:stretch/>
            </p:blipFill>
            <p:spPr>
              <a:xfrm rot="3240000">
                <a:off x="1791360" y="4970160"/>
                <a:ext cx="146520" cy="25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7" name="" descr=""/>
              <p:cNvPicPr/>
              <p:nvPr/>
            </p:nvPicPr>
            <p:blipFill>
              <a:blip r:embed="rId87"/>
              <a:stretch/>
            </p:blipFill>
            <p:spPr>
              <a:xfrm rot="3240000">
                <a:off x="1839960" y="4899240"/>
                <a:ext cx="35352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8" name=""/>
            <p:cNvGrpSpPr/>
            <p:nvPr/>
          </p:nvGrpSpPr>
          <p:grpSpPr>
            <a:xfrm>
              <a:off x="1887120" y="5624640"/>
              <a:ext cx="422640" cy="367200"/>
              <a:chOff x="1887120" y="5624640"/>
              <a:chExt cx="422640" cy="367200"/>
            </a:xfrm>
          </p:grpSpPr>
          <p:pic>
            <p:nvPicPr>
              <p:cNvPr id="2229" name="" descr=""/>
              <p:cNvPicPr/>
              <p:nvPr/>
            </p:nvPicPr>
            <p:blipFill>
              <a:blip r:embed="rId88"/>
              <a:stretch/>
            </p:blipFill>
            <p:spPr>
              <a:xfrm rot="15240000">
                <a:off x="2113200" y="5659920"/>
                <a:ext cx="13608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0" name="" descr=""/>
              <p:cNvPicPr/>
              <p:nvPr/>
            </p:nvPicPr>
            <p:blipFill>
              <a:blip r:embed="rId89"/>
              <a:stretch/>
            </p:blipFill>
            <p:spPr>
              <a:xfrm rot="15240000">
                <a:off x="1858680" y="5713920"/>
                <a:ext cx="327960" cy="18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1" name=""/>
            <p:cNvGrpSpPr/>
            <p:nvPr/>
          </p:nvGrpSpPr>
          <p:grpSpPr>
            <a:xfrm>
              <a:off x="1596600" y="5104080"/>
              <a:ext cx="423000" cy="367560"/>
              <a:chOff x="1596600" y="5104080"/>
              <a:chExt cx="423000" cy="367560"/>
            </a:xfrm>
          </p:grpSpPr>
          <p:pic>
            <p:nvPicPr>
              <p:cNvPr id="2232" name="" descr=""/>
              <p:cNvPicPr/>
              <p:nvPr/>
            </p:nvPicPr>
            <p:blipFill>
              <a:blip r:embed="rId90"/>
              <a:stretch/>
            </p:blipFill>
            <p:spPr>
              <a:xfrm rot="15240000">
                <a:off x="1822320" y="5140080"/>
                <a:ext cx="13608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3" name="" descr=""/>
              <p:cNvPicPr/>
              <p:nvPr/>
            </p:nvPicPr>
            <p:blipFill>
              <a:blip r:embed="rId91"/>
              <a:stretch/>
            </p:blipFill>
            <p:spPr>
              <a:xfrm rot="15240000">
                <a:off x="1568160" y="5193000"/>
                <a:ext cx="32832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4" name=""/>
            <p:cNvGrpSpPr/>
            <p:nvPr/>
          </p:nvGrpSpPr>
          <p:grpSpPr>
            <a:xfrm>
              <a:off x="1693440" y="5186160"/>
              <a:ext cx="454680" cy="487800"/>
              <a:chOff x="1693440" y="5186160"/>
              <a:chExt cx="454680" cy="487800"/>
            </a:xfrm>
          </p:grpSpPr>
          <p:pic>
            <p:nvPicPr>
              <p:cNvPr id="2235" name="" descr=""/>
              <p:cNvPicPr/>
              <p:nvPr/>
            </p:nvPicPr>
            <p:blipFill>
              <a:blip r:embed="rId92"/>
              <a:stretch/>
            </p:blipFill>
            <p:spPr>
              <a:xfrm rot="2160000">
                <a:off x="1755360" y="5394960"/>
                <a:ext cx="149400" cy="25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6" name="" descr=""/>
              <p:cNvPicPr/>
              <p:nvPr/>
            </p:nvPicPr>
            <p:blipFill>
              <a:blip r:embed="rId93"/>
              <a:stretch/>
            </p:blipFill>
            <p:spPr>
              <a:xfrm rot="2160000">
                <a:off x="1760760" y="5271120"/>
                <a:ext cx="358560" cy="21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7" name=""/>
          <p:cNvGrpSpPr/>
          <p:nvPr/>
        </p:nvGrpSpPr>
        <p:grpSpPr>
          <a:xfrm>
            <a:off x="6480" y="65880"/>
            <a:ext cx="2294640" cy="3501720"/>
            <a:chOff x="6480" y="65880"/>
            <a:chExt cx="2294640" cy="3501720"/>
          </a:xfrm>
        </p:grpSpPr>
        <p:grpSp>
          <p:nvGrpSpPr>
            <p:cNvPr id="2238" name=""/>
            <p:cNvGrpSpPr/>
            <p:nvPr/>
          </p:nvGrpSpPr>
          <p:grpSpPr>
            <a:xfrm>
              <a:off x="1590840" y="1413000"/>
              <a:ext cx="710280" cy="544320"/>
              <a:chOff x="1590840" y="1413000"/>
              <a:chExt cx="710280" cy="544320"/>
            </a:xfrm>
          </p:grpSpPr>
          <p:grpSp>
            <p:nvGrpSpPr>
              <p:cNvPr id="2239" name=""/>
              <p:cNvGrpSpPr/>
              <p:nvPr/>
            </p:nvGrpSpPr>
            <p:grpSpPr>
              <a:xfrm>
                <a:off x="1590840" y="1464480"/>
                <a:ext cx="607680" cy="492840"/>
                <a:chOff x="1590840" y="1464480"/>
                <a:chExt cx="607680" cy="492840"/>
              </a:xfrm>
            </p:grpSpPr>
            <p:pic>
              <p:nvPicPr>
                <p:cNvPr id="2240" name="" descr=""/>
                <p:cNvPicPr/>
                <p:nvPr/>
              </p:nvPicPr>
              <p:blipFill>
                <a:blip r:embed="rId94"/>
                <a:stretch/>
              </p:blipFill>
              <p:spPr>
                <a:xfrm rot="5940000">
                  <a:off x="1683360" y="1488240"/>
                  <a:ext cx="1886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1" name="" descr=""/>
                <p:cNvPicPr/>
                <p:nvPr/>
              </p:nvPicPr>
              <p:blipFill>
                <a:blip r:embed="rId95"/>
                <a:stretch/>
              </p:blipFill>
              <p:spPr>
                <a:xfrm rot="5940000">
                  <a:off x="1794240" y="1567080"/>
                  <a:ext cx="45360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42" name=""/>
              <p:cNvGrpSpPr/>
              <p:nvPr/>
            </p:nvGrpSpPr>
            <p:grpSpPr>
              <a:xfrm>
                <a:off x="1769760" y="1413000"/>
                <a:ext cx="531360" cy="486360"/>
                <a:chOff x="1769760" y="1413000"/>
                <a:chExt cx="531360" cy="486360"/>
              </a:xfrm>
            </p:grpSpPr>
            <p:sp>
              <p:nvSpPr>
                <p:cNvPr id="2243" name=""/>
                <p:cNvSpPr/>
                <p:nvPr/>
              </p:nvSpPr>
              <p:spPr>
                <a:xfrm flipH="1" rot="9420000">
                  <a:off x="2054160" y="1439280"/>
                  <a:ext cx="173520" cy="184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44" name=""/>
                <p:cNvGrpSpPr/>
                <p:nvPr/>
              </p:nvGrpSpPr>
              <p:grpSpPr>
                <a:xfrm>
                  <a:off x="1769760" y="1425960"/>
                  <a:ext cx="531360" cy="473400"/>
                  <a:chOff x="1769760" y="1425960"/>
                  <a:chExt cx="531360" cy="473400"/>
                </a:xfrm>
              </p:grpSpPr>
              <p:grpSp>
                <p:nvGrpSpPr>
                  <p:cNvPr id="2245" name=""/>
                  <p:cNvGrpSpPr/>
                  <p:nvPr/>
                </p:nvGrpSpPr>
                <p:grpSpPr>
                  <a:xfrm>
                    <a:off x="1769760" y="1425960"/>
                    <a:ext cx="531360" cy="473400"/>
                    <a:chOff x="1769760" y="1425960"/>
                    <a:chExt cx="531360" cy="473400"/>
                  </a:xfrm>
                </p:grpSpPr>
                <p:pic>
                  <p:nvPicPr>
                    <p:cNvPr id="2246" name="" descr=""/>
                    <p:cNvPicPr/>
                    <p:nvPr/>
                  </p:nvPicPr>
                  <p:blipFill>
                    <a:blip r:embed="rId96"/>
                    <a:stretch/>
                  </p:blipFill>
                  <p:spPr>
                    <a:xfrm rot="13980000">
                      <a:off x="1951920" y="1604880"/>
                      <a:ext cx="336600" cy="19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7" name=""/>
                    <p:cNvSpPr/>
                    <p:nvPr/>
                  </p:nvSpPr>
                  <p:spPr>
                    <a:xfrm flipH="1" rot="7620000">
                      <a:off x="1807560" y="1510920"/>
                      <a:ext cx="345600" cy="2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48" name=""/>
                  <p:cNvSpPr/>
                  <p:nvPr/>
                </p:nvSpPr>
                <p:spPr>
                  <a:xfrm flipH="1" rot="7620000">
                    <a:off x="2061720" y="1520640"/>
                    <a:ext cx="320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 flipH="1" rot="7620000">
                    <a:off x="2034360" y="1559520"/>
                    <a:ext cx="320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 flipH="1" rot="7620000">
                    <a:off x="2013120" y="1623600"/>
                    <a:ext cx="252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H="1" rot="7620000">
                    <a:off x="2092680" y="1640880"/>
                    <a:ext cx="41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H="1" rot="7620000">
                    <a:off x="2113920" y="1607040"/>
                    <a:ext cx="4536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53" name=""/>
            <p:cNvGrpSpPr/>
            <p:nvPr/>
          </p:nvGrpSpPr>
          <p:grpSpPr>
            <a:xfrm>
              <a:off x="1158480" y="65880"/>
              <a:ext cx="467280" cy="508680"/>
              <a:chOff x="1158480" y="65880"/>
              <a:chExt cx="467280" cy="508680"/>
            </a:xfrm>
          </p:grpSpPr>
          <p:pic>
            <p:nvPicPr>
              <p:cNvPr id="2254" name="" descr=""/>
              <p:cNvPicPr/>
              <p:nvPr/>
            </p:nvPicPr>
            <p:blipFill>
              <a:blip r:embed="rId97"/>
              <a:stretch/>
            </p:blipFill>
            <p:spPr>
              <a:xfrm rot="1680000">
                <a:off x="1231920" y="288720"/>
                <a:ext cx="1728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5" name="" descr=""/>
              <p:cNvPicPr/>
              <p:nvPr/>
            </p:nvPicPr>
            <p:blipFill>
              <a:blip r:embed="rId98"/>
              <a:stretch/>
            </p:blipFill>
            <p:spPr>
              <a:xfrm rot="1680000">
                <a:off x="1184040" y="150840"/>
                <a:ext cx="415440" cy="2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6" name=""/>
            <p:cNvSpPr/>
            <p:nvPr/>
          </p:nvSpPr>
          <p:spPr>
            <a:xfrm rot="21420000">
              <a:off x="302760" y="369360"/>
              <a:ext cx="1525680" cy="282744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1158480" y="353160"/>
              <a:ext cx="546120" cy="420480"/>
              <a:chOff x="1158480" y="353160"/>
              <a:chExt cx="546120" cy="420480"/>
            </a:xfrm>
          </p:grpSpPr>
          <p:pic>
            <p:nvPicPr>
              <p:cNvPr id="2258" name="" descr=""/>
              <p:cNvPicPr/>
              <p:nvPr/>
            </p:nvPicPr>
            <p:blipFill>
              <a:blip r:embed="rId99"/>
              <a:stretch/>
            </p:blipFill>
            <p:spPr>
              <a:xfrm rot="15120000">
                <a:off x="1461600" y="34560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9" name="" descr=""/>
              <p:cNvPicPr/>
              <p:nvPr/>
            </p:nvPicPr>
            <p:blipFill>
              <a:blip r:embed="rId100"/>
              <a:stretch/>
            </p:blipFill>
            <p:spPr>
              <a:xfrm rot="15120000">
                <a:off x="1151280" y="4388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0" name=""/>
            <p:cNvGrpSpPr/>
            <p:nvPr/>
          </p:nvGrpSpPr>
          <p:grpSpPr>
            <a:xfrm>
              <a:off x="1350000" y="445320"/>
              <a:ext cx="468360" cy="508320"/>
              <a:chOff x="1350000" y="445320"/>
              <a:chExt cx="468360" cy="508320"/>
            </a:xfrm>
          </p:grpSpPr>
          <p:pic>
            <p:nvPicPr>
              <p:cNvPr id="2261" name="" descr=""/>
              <p:cNvPicPr/>
              <p:nvPr/>
            </p:nvPicPr>
            <p:blipFill>
              <a:blip r:embed="rId101"/>
              <a:stretch/>
            </p:blipFill>
            <p:spPr>
              <a:xfrm rot="1680000">
                <a:off x="1422000" y="666360"/>
                <a:ext cx="17388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2" name="" descr=""/>
              <p:cNvPicPr/>
              <p:nvPr/>
            </p:nvPicPr>
            <p:blipFill>
              <a:blip r:embed="rId102"/>
              <a:stretch/>
            </p:blipFill>
            <p:spPr>
              <a:xfrm rot="1680000">
                <a:off x="1375920" y="530280"/>
                <a:ext cx="41580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3" name=""/>
            <p:cNvGrpSpPr/>
            <p:nvPr/>
          </p:nvGrpSpPr>
          <p:grpSpPr>
            <a:xfrm>
              <a:off x="1393200" y="729000"/>
              <a:ext cx="546480" cy="420840"/>
              <a:chOff x="1393200" y="729000"/>
              <a:chExt cx="546480" cy="420840"/>
            </a:xfrm>
          </p:grpSpPr>
          <p:pic>
            <p:nvPicPr>
              <p:cNvPr id="2264" name="" descr=""/>
              <p:cNvPicPr/>
              <p:nvPr/>
            </p:nvPicPr>
            <p:blipFill>
              <a:blip r:embed="rId103"/>
              <a:stretch/>
            </p:blipFill>
            <p:spPr>
              <a:xfrm rot="15120000">
                <a:off x="1696320" y="721080"/>
                <a:ext cx="150840" cy="30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5" name="" descr=""/>
              <p:cNvPicPr/>
              <p:nvPr/>
            </p:nvPicPr>
            <p:blipFill>
              <a:blip r:embed="rId104"/>
              <a:stretch/>
            </p:blipFill>
            <p:spPr>
              <a:xfrm rot="15120000">
                <a:off x="1386360" y="814680"/>
                <a:ext cx="361440" cy="24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6" name=""/>
            <p:cNvGrpSpPr/>
            <p:nvPr/>
          </p:nvGrpSpPr>
          <p:grpSpPr>
            <a:xfrm>
              <a:off x="1469160" y="905760"/>
              <a:ext cx="468000" cy="508680"/>
              <a:chOff x="1469160" y="905760"/>
              <a:chExt cx="468000" cy="508680"/>
            </a:xfrm>
          </p:grpSpPr>
          <p:pic>
            <p:nvPicPr>
              <p:cNvPr id="2267" name="" descr=""/>
              <p:cNvPicPr/>
              <p:nvPr/>
            </p:nvPicPr>
            <p:blipFill>
              <a:blip r:embed="rId105"/>
              <a:stretch/>
            </p:blipFill>
            <p:spPr>
              <a:xfrm rot="1680000">
                <a:off x="1540800" y="1126800"/>
                <a:ext cx="17316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8" name="" descr=""/>
              <p:cNvPicPr/>
              <p:nvPr/>
            </p:nvPicPr>
            <p:blipFill>
              <a:blip r:embed="rId106"/>
              <a:stretch/>
            </p:blipFill>
            <p:spPr>
              <a:xfrm rot="1680000">
                <a:off x="1495080" y="990360"/>
                <a:ext cx="41544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9" name=""/>
            <p:cNvGrpSpPr/>
            <p:nvPr/>
          </p:nvGrpSpPr>
          <p:grpSpPr>
            <a:xfrm>
              <a:off x="1512360" y="1189800"/>
              <a:ext cx="546120" cy="420480"/>
              <a:chOff x="1512360" y="1189800"/>
              <a:chExt cx="546120" cy="420480"/>
            </a:xfrm>
          </p:grpSpPr>
          <p:pic>
            <p:nvPicPr>
              <p:cNvPr id="2270" name="" descr=""/>
              <p:cNvPicPr/>
              <p:nvPr/>
            </p:nvPicPr>
            <p:blipFill>
              <a:blip r:embed="rId107"/>
              <a:stretch/>
            </p:blipFill>
            <p:spPr>
              <a:xfrm rot="15120000">
                <a:off x="1815480" y="118008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1" name="" descr=""/>
              <p:cNvPicPr/>
              <p:nvPr/>
            </p:nvPicPr>
            <p:blipFill>
              <a:blip r:embed="rId108"/>
              <a:stretch/>
            </p:blipFill>
            <p:spPr>
              <a:xfrm rot="15120000">
                <a:off x="1505160" y="127548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2" name=""/>
            <p:cNvGrpSpPr/>
            <p:nvPr/>
          </p:nvGrpSpPr>
          <p:grpSpPr>
            <a:xfrm>
              <a:off x="6480" y="1078560"/>
              <a:ext cx="1070280" cy="819360"/>
              <a:chOff x="6480" y="1078560"/>
              <a:chExt cx="1070280" cy="819360"/>
            </a:xfrm>
          </p:grpSpPr>
          <p:grpSp>
            <p:nvGrpSpPr>
              <p:cNvPr id="2273" name=""/>
              <p:cNvGrpSpPr/>
              <p:nvPr/>
            </p:nvGrpSpPr>
            <p:grpSpPr>
              <a:xfrm>
                <a:off x="6480" y="1156320"/>
                <a:ext cx="915480" cy="741600"/>
                <a:chOff x="6480" y="1156320"/>
                <a:chExt cx="915480" cy="741600"/>
              </a:xfrm>
            </p:grpSpPr>
            <p:pic>
              <p:nvPicPr>
                <p:cNvPr id="2274" name="" descr=""/>
                <p:cNvPicPr/>
                <p:nvPr/>
              </p:nvPicPr>
              <p:blipFill>
                <a:blip r:embed="rId109"/>
                <a:stretch/>
              </p:blipFill>
              <p:spPr>
                <a:xfrm rot="5940000">
                  <a:off x="144720" y="1192680"/>
                  <a:ext cx="285840" cy="524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5" name="" descr=""/>
                <p:cNvPicPr/>
                <p:nvPr/>
              </p:nvPicPr>
              <p:blipFill>
                <a:blip r:embed="rId110"/>
                <a:stretch/>
              </p:blipFill>
              <p:spPr>
                <a:xfrm rot="5940000">
                  <a:off x="313920" y="1310760"/>
                  <a:ext cx="68220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76" name=""/>
              <p:cNvGrpSpPr/>
              <p:nvPr/>
            </p:nvGrpSpPr>
            <p:grpSpPr>
              <a:xfrm>
                <a:off x="277560" y="1078560"/>
                <a:ext cx="799200" cy="732240"/>
                <a:chOff x="277560" y="1078560"/>
                <a:chExt cx="799200" cy="732240"/>
              </a:xfrm>
            </p:grpSpPr>
            <p:sp>
              <p:nvSpPr>
                <p:cNvPr id="2277" name=""/>
                <p:cNvSpPr/>
                <p:nvPr/>
              </p:nvSpPr>
              <p:spPr>
                <a:xfrm flipH="1" rot="9420000">
                  <a:off x="702000" y="1118520"/>
                  <a:ext cx="262440" cy="27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278" name=""/>
                <p:cNvGrpSpPr/>
                <p:nvPr/>
              </p:nvGrpSpPr>
              <p:grpSpPr>
                <a:xfrm>
                  <a:off x="277560" y="1101600"/>
                  <a:ext cx="799200" cy="709200"/>
                  <a:chOff x="277560" y="1101600"/>
                  <a:chExt cx="799200" cy="709200"/>
                </a:xfrm>
              </p:grpSpPr>
              <p:grpSp>
                <p:nvGrpSpPr>
                  <p:cNvPr id="2279" name=""/>
                  <p:cNvGrpSpPr/>
                  <p:nvPr/>
                </p:nvGrpSpPr>
                <p:grpSpPr>
                  <a:xfrm>
                    <a:off x="277560" y="1101600"/>
                    <a:ext cx="799200" cy="709200"/>
                    <a:chOff x="277560" y="1101600"/>
                    <a:chExt cx="799200" cy="709200"/>
                  </a:xfrm>
                </p:grpSpPr>
                <p:pic>
                  <p:nvPicPr>
                    <p:cNvPr id="2280" name="" descr=""/>
                    <p:cNvPicPr/>
                    <p:nvPr/>
                  </p:nvPicPr>
                  <p:blipFill>
                    <a:blip r:embed="rId111"/>
                    <a:stretch/>
                  </p:blipFill>
                  <p:spPr>
                    <a:xfrm rot="13980000">
                      <a:off x="552240" y="1367280"/>
                      <a:ext cx="504000" cy="30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1" name=""/>
                    <p:cNvSpPr/>
                    <p:nvPr/>
                  </p:nvSpPr>
                  <p:spPr>
                    <a:xfrm flipH="1" rot="7620000">
                      <a:off x="335160" y="1226880"/>
                      <a:ext cx="515520" cy="40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282" name=""/>
                  <p:cNvSpPr/>
                  <p:nvPr/>
                </p:nvSpPr>
                <p:spPr>
                  <a:xfrm flipH="1" rot="7620000">
                    <a:off x="719640" y="124488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H="1" rot="7620000">
                    <a:off x="675000" y="130176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H="1" rot="7620000">
                    <a:off x="640800" y="1393560"/>
                    <a:ext cx="39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H="1" rot="7620000">
                    <a:off x="760680" y="1421640"/>
                    <a:ext cx="633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H="1" rot="7620000">
                    <a:off x="799560" y="1369800"/>
                    <a:ext cx="673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287" name=""/>
            <p:cNvGrpSpPr/>
            <p:nvPr/>
          </p:nvGrpSpPr>
          <p:grpSpPr>
            <a:xfrm>
              <a:off x="1502640" y="1602720"/>
              <a:ext cx="468000" cy="507960"/>
              <a:chOff x="1502640" y="1602720"/>
              <a:chExt cx="468000" cy="507960"/>
            </a:xfrm>
          </p:grpSpPr>
          <p:pic>
            <p:nvPicPr>
              <p:cNvPr id="2288" name="" descr=""/>
              <p:cNvPicPr/>
              <p:nvPr/>
            </p:nvPicPr>
            <p:blipFill>
              <a:blip r:embed="rId112"/>
              <a:stretch/>
            </p:blipFill>
            <p:spPr>
              <a:xfrm rot="1680000">
                <a:off x="1574640" y="1823760"/>
                <a:ext cx="17280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9" name="" descr=""/>
              <p:cNvPicPr/>
              <p:nvPr/>
            </p:nvPicPr>
            <p:blipFill>
              <a:blip r:embed="rId113"/>
              <a:stretch/>
            </p:blipFill>
            <p:spPr>
              <a:xfrm rot="1680000">
                <a:off x="1528920" y="1687320"/>
                <a:ext cx="41544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0" name=""/>
            <p:cNvGrpSpPr/>
            <p:nvPr/>
          </p:nvGrpSpPr>
          <p:grpSpPr>
            <a:xfrm>
              <a:off x="1547280" y="1886760"/>
              <a:ext cx="546120" cy="420480"/>
              <a:chOff x="1547280" y="1886760"/>
              <a:chExt cx="546120" cy="420480"/>
            </a:xfrm>
          </p:grpSpPr>
          <p:pic>
            <p:nvPicPr>
              <p:cNvPr id="2291" name="" descr=""/>
              <p:cNvPicPr/>
              <p:nvPr/>
            </p:nvPicPr>
            <p:blipFill>
              <a:blip r:embed="rId114"/>
              <a:stretch/>
            </p:blipFill>
            <p:spPr>
              <a:xfrm rot="15120000">
                <a:off x="1850760" y="1879200"/>
                <a:ext cx="15084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2" name="" descr=""/>
              <p:cNvPicPr/>
              <p:nvPr/>
            </p:nvPicPr>
            <p:blipFill>
              <a:blip r:embed="rId115"/>
              <a:stretch/>
            </p:blipFill>
            <p:spPr>
              <a:xfrm rot="15120000">
                <a:off x="1540080" y="19724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3" name=""/>
            <p:cNvGrpSpPr/>
            <p:nvPr/>
          </p:nvGrpSpPr>
          <p:grpSpPr>
            <a:xfrm>
              <a:off x="1460160" y="2122920"/>
              <a:ext cx="545760" cy="420840"/>
              <a:chOff x="1460160" y="2122920"/>
              <a:chExt cx="545760" cy="420840"/>
            </a:xfrm>
          </p:grpSpPr>
          <p:pic>
            <p:nvPicPr>
              <p:cNvPr id="2294" name="" descr=""/>
              <p:cNvPicPr/>
              <p:nvPr/>
            </p:nvPicPr>
            <p:blipFill>
              <a:blip r:embed="rId116"/>
              <a:stretch/>
            </p:blipFill>
            <p:spPr>
              <a:xfrm rot="15120000">
                <a:off x="1762560" y="211536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5" name="" descr=""/>
              <p:cNvPicPr/>
              <p:nvPr/>
            </p:nvPicPr>
            <p:blipFill>
              <a:blip r:embed="rId117"/>
              <a:stretch/>
            </p:blipFill>
            <p:spPr>
              <a:xfrm rot="15120000">
                <a:off x="1453680" y="2208240"/>
                <a:ext cx="36144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6" name=""/>
            <p:cNvGrpSpPr/>
            <p:nvPr/>
          </p:nvGrpSpPr>
          <p:grpSpPr>
            <a:xfrm>
              <a:off x="1461240" y="2302560"/>
              <a:ext cx="468000" cy="508320"/>
              <a:chOff x="1461240" y="2302560"/>
              <a:chExt cx="468000" cy="508320"/>
            </a:xfrm>
          </p:grpSpPr>
          <p:pic>
            <p:nvPicPr>
              <p:cNvPr id="2297" name="" descr=""/>
              <p:cNvPicPr/>
              <p:nvPr/>
            </p:nvPicPr>
            <p:blipFill>
              <a:blip r:embed="rId118"/>
              <a:stretch/>
            </p:blipFill>
            <p:spPr>
              <a:xfrm rot="1680000">
                <a:off x="1533240" y="2523600"/>
                <a:ext cx="17280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8" name="" descr=""/>
              <p:cNvPicPr/>
              <p:nvPr/>
            </p:nvPicPr>
            <p:blipFill>
              <a:blip r:embed="rId119"/>
              <a:stretch/>
            </p:blipFill>
            <p:spPr>
              <a:xfrm rot="1680000">
                <a:off x="1487160" y="2387160"/>
                <a:ext cx="41544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9" name=""/>
            <p:cNvGrpSpPr/>
            <p:nvPr/>
          </p:nvGrpSpPr>
          <p:grpSpPr>
            <a:xfrm>
              <a:off x="685080" y="218880"/>
              <a:ext cx="546120" cy="421200"/>
              <a:chOff x="685080" y="218880"/>
              <a:chExt cx="546120" cy="421200"/>
            </a:xfrm>
          </p:grpSpPr>
          <p:pic>
            <p:nvPicPr>
              <p:cNvPr id="2300" name="" descr=""/>
              <p:cNvPicPr/>
              <p:nvPr/>
            </p:nvPicPr>
            <p:blipFill>
              <a:blip r:embed="rId120"/>
              <a:stretch/>
            </p:blipFill>
            <p:spPr>
              <a:xfrm rot="15120000">
                <a:off x="987840" y="21132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1" name="" descr=""/>
              <p:cNvPicPr/>
              <p:nvPr/>
            </p:nvPicPr>
            <p:blipFill>
              <a:blip r:embed="rId121"/>
              <a:stretch/>
            </p:blipFill>
            <p:spPr>
              <a:xfrm rot="15120000">
                <a:off x="678600" y="304560"/>
                <a:ext cx="36180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2" name=""/>
            <p:cNvGrpSpPr/>
            <p:nvPr/>
          </p:nvGrpSpPr>
          <p:grpSpPr>
            <a:xfrm>
              <a:off x="403920" y="466920"/>
              <a:ext cx="546480" cy="420840"/>
              <a:chOff x="403920" y="466920"/>
              <a:chExt cx="546480" cy="420840"/>
            </a:xfrm>
          </p:grpSpPr>
          <p:pic>
            <p:nvPicPr>
              <p:cNvPr id="2303" name="" descr=""/>
              <p:cNvPicPr/>
              <p:nvPr/>
            </p:nvPicPr>
            <p:blipFill>
              <a:blip r:embed="rId122"/>
              <a:stretch/>
            </p:blipFill>
            <p:spPr>
              <a:xfrm rot="15120000">
                <a:off x="707760" y="459360"/>
                <a:ext cx="15084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4" name="" descr=""/>
              <p:cNvPicPr/>
              <p:nvPr/>
            </p:nvPicPr>
            <p:blipFill>
              <a:blip r:embed="rId123"/>
              <a:stretch/>
            </p:blipFill>
            <p:spPr>
              <a:xfrm rot="15120000">
                <a:off x="397080" y="552960"/>
                <a:ext cx="36180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5" name=""/>
            <p:cNvGrpSpPr/>
            <p:nvPr/>
          </p:nvGrpSpPr>
          <p:grpSpPr>
            <a:xfrm>
              <a:off x="303840" y="573840"/>
              <a:ext cx="468360" cy="508680"/>
              <a:chOff x="303840" y="573840"/>
              <a:chExt cx="468360" cy="508680"/>
            </a:xfrm>
          </p:grpSpPr>
          <p:pic>
            <p:nvPicPr>
              <p:cNvPr id="2306" name="" descr=""/>
              <p:cNvPicPr/>
              <p:nvPr/>
            </p:nvPicPr>
            <p:blipFill>
              <a:blip r:embed="rId124"/>
              <a:stretch/>
            </p:blipFill>
            <p:spPr>
              <a:xfrm rot="1680000">
                <a:off x="375840" y="795240"/>
                <a:ext cx="17316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7" name="" descr=""/>
              <p:cNvPicPr/>
              <p:nvPr/>
            </p:nvPicPr>
            <p:blipFill>
              <a:blip r:embed="rId125"/>
              <a:stretch/>
            </p:blipFill>
            <p:spPr>
              <a:xfrm rot="1680000">
                <a:off x="330120" y="658800"/>
                <a:ext cx="415800" cy="21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8" name=""/>
            <p:cNvGrpSpPr/>
            <p:nvPr/>
          </p:nvGrpSpPr>
          <p:grpSpPr>
            <a:xfrm>
              <a:off x="134640" y="945360"/>
              <a:ext cx="546120" cy="420480"/>
              <a:chOff x="134640" y="945360"/>
              <a:chExt cx="546120" cy="420480"/>
            </a:xfrm>
          </p:grpSpPr>
          <p:pic>
            <p:nvPicPr>
              <p:cNvPr id="2309" name="" descr=""/>
              <p:cNvPicPr/>
              <p:nvPr/>
            </p:nvPicPr>
            <p:blipFill>
              <a:blip r:embed="rId126"/>
              <a:stretch/>
            </p:blipFill>
            <p:spPr>
              <a:xfrm rot="15120000">
                <a:off x="437760" y="93780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0" name="" descr=""/>
              <p:cNvPicPr/>
              <p:nvPr/>
            </p:nvPicPr>
            <p:blipFill>
              <a:blip r:embed="rId127"/>
              <a:stretch/>
            </p:blipFill>
            <p:spPr>
              <a:xfrm rot="15120000">
                <a:off x="127440" y="103104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1" name=""/>
            <p:cNvGrpSpPr/>
            <p:nvPr/>
          </p:nvGrpSpPr>
          <p:grpSpPr>
            <a:xfrm>
              <a:off x="63000" y="1491480"/>
              <a:ext cx="546120" cy="420480"/>
              <a:chOff x="63000" y="1491480"/>
              <a:chExt cx="546120" cy="420480"/>
            </a:xfrm>
          </p:grpSpPr>
          <p:pic>
            <p:nvPicPr>
              <p:cNvPr id="2312" name="" descr=""/>
              <p:cNvPicPr/>
              <p:nvPr/>
            </p:nvPicPr>
            <p:blipFill>
              <a:blip r:embed="rId128"/>
              <a:stretch/>
            </p:blipFill>
            <p:spPr>
              <a:xfrm rot="15120000">
                <a:off x="366120" y="1484280"/>
                <a:ext cx="151200" cy="30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3" name="" descr=""/>
              <p:cNvPicPr/>
              <p:nvPr/>
            </p:nvPicPr>
            <p:blipFill>
              <a:blip r:embed="rId129"/>
              <a:stretch/>
            </p:blipFill>
            <p:spPr>
              <a:xfrm rot="15120000">
                <a:off x="55800" y="157716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4" name=""/>
            <p:cNvGrpSpPr/>
            <p:nvPr/>
          </p:nvGrpSpPr>
          <p:grpSpPr>
            <a:xfrm>
              <a:off x="161280" y="1666080"/>
              <a:ext cx="467640" cy="508680"/>
              <a:chOff x="161280" y="1666080"/>
              <a:chExt cx="467640" cy="508680"/>
            </a:xfrm>
          </p:grpSpPr>
          <p:pic>
            <p:nvPicPr>
              <p:cNvPr id="2315" name="" descr=""/>
              <p:cNvPicPr/>
              <p:nvPr/>
            </p:nvPicPr>
            <p:blipFill>
              <a:blip r:embed="rId130"/>
              <a:stretch/>
            </p:blipFill>
            <p:spPr>
              <a:xfrm rot="1680000">
                <a:off x="232920" y="1888920"/>
                <a:ext cx="17388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6" name="" descr=""/>
              <p:cNvPicPr/>
              <p:nvPr/>
            </p:nvPicPr>
            <p:blipFill>
              <a:blip r:embed="rId131"/>
              <a:stretch/>
            </p:blipFill>
            <p:spPr>
              <a:xfrm rot="1680000">
                <a:off x="186840" y="1751040"/>
                <a:ext cx="415800" cy="21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7" name=""/>
            <p:cNvGrpSpPr/>
            <p:nvPr/>
          </p:nvGrpSpPr>
          <p:grpSpPr>
            <a:xfrm>
              <a:off x="769680" y="2748600"/>
              <a:ext cx="1069920" cy="819000"/>
              <a:chOff x="769680" y="2748600"/>
              <a:chExt cx="1069920" cy="819000"/>
            </a:xfrm>
          </p:grpSpPr>
          <p:grpSp>
            <p:nvGrpSpPr>
              <p:cNvPr id="2318" name=""/>
              <p:cNvGrpSpPr/>
              <p:nvPr/>
            </p:nvGrpSpPr>
            <p:grpSpPr>
              <a:xfrm>
                <a:off x="769680" y="2827800"/>
                <a:ext cx="915120" cy="739800"/>
                <a:chOff x="769680" y="2827800"/>
                <a:chExt cx="915120" cy="739800"/>
              </a:xfrm>
            </p:grpSpPr>
            <p:pic>
              <p:nvPicPr>
                <p:cNvPr id="2319" name="" descr=""/>
                <p:cNvPicPr/>
                <p:nvPr/>
              </p:nvPicPr>
              <p:blipFill>
                <a:blip r:embed="rId132"/>
                <a:stretch/>
              </p:blipFill>
              <p:spPr>
                <a:xfrm rot="5940000">
                  <a:off x="909000" y="2862720"/>
                  <a:ext cx="285120" cy="52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0" name="" descr=""/>
                <p:cNvPicPr/>
                <p:nvPr/>
              </p:nvPicPr>
              <p:blipFill>
                <a:blip r:embed="rId133"/>
                <a:stretch/>
              </p:blipFill>
              <p:spPr>
                <a:xfrm rot="5940000">
                  <a:off x="1077480" y="2980800"/>
                  <a:ext cx="680400" cy="43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1" name=""/>
              <p:cNvGrpSpPr/>
              <p:nvPr/>
            </p:nvGrpSpPr>
            <p:grpSpPr>
              <a:xfrm>
                <a:off x="1041120" y="2748600"/>
                <a:ext cx="798480" cy="731160"/>
                <a:chOff x="1041120" y="2748600"/>
                <a:chExt cx="798480" cy="731160"/>
              </a:xfrm>
            </p:grpSpPr>
            <p:sp>
              <p:nvSpPr>
                <p:cNvPr id="2322" name=""/>
                <p:cNvSpPr/>
                <p:nvPr/>
              </p:nvSpPr>
              <p:spPr>
                <a:xfrm flipH="1" rot="9420000">
                  <a:off x="1464840" y="2788560"/>
                  <a:ext cx="262440" cy="2746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23" name=""/>
                <p:cNvGrpSpPr/>
                <p:nvPr/>
              </p:nvGrpSpPr>
              <p:grpSpPr>
                <a:xfrm>
                  <a:off x="1041120" y="2770920"/>
                  <a:ext cx="798480" cy="708840"/>
                  <a:chOff x="1041120" y="2770920"/>
                  <a:chExt cx="798480" cy="708840"/>
                </a:xfrm>
              </p:grpSpPr>
              <p:grpSp>
                <p:nvGrpSpPr>
                  <p:cNvPr id="2324" name=""/>
                  <p:cNvGrpSpPr/>
                  <p:nvPr/>
                </p:nvGrpSpPr>
                <p:grpSpPr>
                  <a:xfrm>
                    <a:off x="1041120" y="2770920"/>
                    <a:ext cx="798480" cy="708840"/>
                    <a:chOff x="1041120" y="2770920"/>
                    <a:chExt cx="798480" cy="708840"/>
                  </a:xfrm>
                </p:grpSpPr>
                <p:pic>
                  <p:nvPicPr>
                    <p:cNvPr id="2325" name="" descr=""/>
                    <p:cNvPicPr/>
                    <p:nvPr/>
                  </p:nvPicPr>
                  <p:blipFill>
                    <a:blip r:embed="rId134"/>
                    <a:stretch/>
                  </p:blipFill>
                  <p:spPr>
                    <a:xfrm rot="13980000">
                      <a:off x="1315080" y="3034800"/>
                      <a:ext cx="5025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26" name=""/>
                    <p:cNvSpPr/>
                    <p:nvPr/>
                  </p:nvSpPr>
                  <p:spPr>
                    <a:xfrm flipH="1" rot="7620000">
                      <a:off x="1099800" y="2895840"/>
                      <a:ext cx="514800" cy="40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27" name=""/>
                  <p:cNvSpPr/>
                  <p:nvPr/>
                </p:nvSpPr>
                <p:spPr>
                  <a:xfrm flipH="1" rot="7620000">
                    <a:off x="1483200" y="291420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H="1" rot="7620000">
                    <a:off x="1440720" y="2971080"/>
                    <a:ext cx="48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H="1" rot="7620000">
                    <a:off x="1404720" y="3062160"/>
                    <a:ext cx="39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rot="7620000">
                    <a:off x="1524240" y="3090600"/>
                    <a:ext cx="633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 rot="7620000">
                    <a:off x="1563840" y="3041640"/>
                    <a:ext cx="666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332" name=""/>
            <p:cNvGrpSpPr/>
            <p:nvPr/>
          </p:nvGrpSpPr>
          <p:grpSpPr>
            <a:xfrm>
              <a:off x="1189800" y="2601720"/>
              <a:ext cx="546480" cy="421200"/>
              <a:chOff x="1189800" y="2601720"/>
              <a:chExt cx="546480" cy="421200"/>
            </a:xfrm>
          </p:grpSpPr>
          <p:pic>
            <p:nvPicPr>
              <p:cNvPr id="2333" name="" descr=""/>
              <p:cNvPicPr/>
              <p:nvPr/>
            </p:nvPicPr>
            <p:blipFill>
              <a:blip r:embed="rId135"/>
              <a:stretch/>
            </p:blipFill>
            <p:spPr>
              <a:xfrm rot="15120000">
                <a:off x="1493280" y="2594160"/>
                <a:ext cx="150840" cy="30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4" name="" descr=""/>
              <p:cNvPicPr/>
              <p:nvPr/>
            </p:nvPicPr>
            <p:blipFill>
              <a:blip r:embed="rId136"/>
              <a:stretch/>
            </p:blipFill>
            <p:spPr>
              <a:xfrm rot="15120000">
                <a:off x="1183320" y="2687400"/>
                <a:ext cx="36180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5" name=""/>
            <p:cNvGrpSpPr/>
            <p:nvPr/>
          </p:nvGrpSpPr>
          <p:grpSpPr>
            <a:xfrm>
              <a:off x="85320" y="1956600"/>
              <a:ext cx="546120" cy="420480"/>
              <a:chOff x="85320" y="1956600"/>
              <a:chExt cx="546120" cy="420480"/>
            </a:xfrm>
          </p:grpSpPr>
          <p:pic>
            <p:nvPicPr>
              <p:cNvPr id="2336" name="" descr=""/>
              <p:cNvPicPr/>
              <p:nvPr/>
            </p:nvPicPr>
            <p:blipFill>
              <a:blip r:embed="rId137"/>
              <a:stretch/>
            </p:blipFill>
            <p:spPr>
              <a:xfrm rot="15120000">
                <a:off x="388440" y="1949040"/>
                <a:ext cx="15084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7" name="" descr=""/>
              <p:cNvPicPr/>
              <p:nvPr/>
            </p:nvPicPr>
            <p:blipFill>
              <a:blip r:embed="rId138"/>
              <a:stretch/>
            </p:blipFill>
            <p:spPr>
              <a:xfrm rot="15120000">
                <a:off x="78120" y="2042280"/>
                <a:ext cx="361440" cy="24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8" name=""/>
            <p:cNvGrpSpPr/>
            <p:nvPr/>
          </p:nvGrpSpPr>
          <p:grpSpPr>
            <a:xfrm>
              <a:off x="266760" y="2066760"/>
              <a:ext cx="594360" cy="556920"/>
              <a:chOff x="266760" y="2066760"/>
              <a:chExt cx="594360" cy="556920"/>
            </a:xfrm>
          </p:grpSpPr>
          <p:pic>
            <p:nvPicPr>
              <p:cNvPr id="2339" name="" descr=""/>
              <p:cNvPicPr/>
              <p:nvPr/>
            </p:nvPicPr>
            <p:blipFill>
              <a:blip r:embed="rId139"/>
              <a:stretch/>
            </p:blipFill>
            <p:spPr>
              <a:xfrm rot="3060000">
                <a:off x="360360" y="2295720"/>
                <a:ext cx="168840" cy="32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0" name="" descr=""/>
              <p:cNvPicPr/>
              <p:nvPr/>
            </p:nvPicPr>
            <p:blipFill>
              <a:blip r:embed="rId140"/>
              <a:stretch/>
            </p:blipFill>
            <p:spPr>
              <a:xfrm rot="3060000">
                <a:off x="428040" y="2174760"/>
                <a:ext cx="405000" cy="26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1" name=""/>
            <p:cNvGrpSpPr/>
            <p:nvPr/>
          </p:nvGrpSpPr>
          <p:grpSpPr>
            <a:xfrm>
              <a:off x="523440" y="2945520"/>
              <a:ext cx="545760" cy="420480"/>
              <a:chOff x="523440" y="2945520"/>
              <a:chExt cx="545760" cy="420480"/>
            </a:xfrm>
          </p:grpSpPr>
          <p:pic>
            <p:nvPicPr>
              <p:cNvPr id="2342" name="" descr=""/>
              <p:cNvPicPr/>
              <p:nvPr/>
            </p:nvPicPr>
            <p:blipFill>
              <a:blip r:embed="rId141"/>
              <a:stretch/>
            </p:blipFill>
            <p:spPr>
              <a:xfrm rot="15120000">
                <a:off x="826560" y="2937960"/>
                <a:ext cx="150840" cy="30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3" name="" descr=""/>
              <p:cNvPicPr/>
              <p:nvPr/>
            </p:nvPicPr>
            <p:blipFill>
              <a:blip r:embed="rId142"/>
              <a:stretch/>
            </p:blipFill>
            <p:spPr>
              <a:xfrm rot="15120000">
                <a:off x="516600" y="3031200"/>
                <a:ext cx="361440" cy="24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4" name=""/>
            <p:cNvGrpSpPr/>
            <p:nvPr/>
          </p:nvGrpSpPr>
          <p:grpSpPr>
            <a:xfrm>
              <a:off x="107640" y="2421360"/>
              <a:ext cx="545760" cy="420840"/>
              <a:chOff x="107640" y="2421360"/>
              <a:chExt cx="545760" cy="420840"/>
            </a:xfrm>
          </p:grpSpPr>
          <p:pic>
            <p:nvPicPr>
              <p:cNvPr id="2345" name="" descr=""/>
              <p:cNvPicPr/>
              <p:nvPr/>
            </p:nvPicPr>
            <p:blipFill>
              <a:blip r:embed="rId143"/>
              <a:stretch/>
            </p:blipFill>
            <p:spPr>
              <a:xfrm rot="15120000">
                <a:off x="410040" y="2413800"/>
                <a:ext cx="15084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6" name="" descr=""/>
              <p:cNvPicPr/>
              <p:nvPr/>
            </p:nvPicPr>
            <p:blipFill>
              <a:blip r:embed="rId144"/>
              <a:stretch/>
            </p:blipFill>
            <p:spPr>
              <a:xfrm rot="15120000">
                <a:off x="101160" y="2506680"/>
                <a:ext cx="361440" cy="24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7" name=""/>
            <p:cNvGrpSpPr/>
            <p:nvPr/>
          </p:nvGrpSpPr>
          <p:grpSpPr>
            <a:xfrm>
              <a:off x="311760" y="2478960"/>
              <a:ext cx="495720" cy="555480"/>
              <a:chOff x="311760" y="2478960"/>
              <a:chExt cx="495720" cy="555480"/>
            </a:xfrm>
          </p:grpSpPr>
          <p:pic>
            <p:nvPicPr>
              <p:cNvPr id="2348" name="" descr=""/>
              <p:cNvPicPr/>
              <p:nvPr/>
            </p:nvPicPr>
            <p:blipFill>
              <a:blip r:embed="rId145"/>
              <a:stretch/>
            </p:blipFill>
            <p:spPr>
              <a:xfrm rot="1980000">
                <a:off x="376560" y="2718000"/>
                <a:ext cx="176760" cy="2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9" name="" descr=""/>
              <p:cNvPicPr/>
              <p:nvPr/>
            </p:nvPicPr>
            <p:blipFill>
              <a:blip r:embed="rId146"/>
              <a:stretch/>
            </p:blipFill>
            <p:spPr>
              <a:xfrm rot="1980000">
                <a:off x="351000" y="2575080"/>
                <a:ext cx="424800" cy="24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50" name="" descr=""/>
          <p:cNvPicPr/>
          <p:nvPr/>
        </p:nvPicPr>
        <p:blipFill>
          <a:blip r:embed="rId147"/>
          <a:stretch/>
        </p:blipFill>
        <p:spPr>
          <a:xfrm>
            <a:off x="762120" y="266760"/>
            <a:ext cx="85068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351" name=""/>
          <p:cNvGrpSpPr/>
          <p:nvPr/>
        </p:nvGrpSpPr>
        <p:grpSpPr>
          <a:xfrm>
            <a:off x="178200" y="-61200"/>
            <a:ext cx="1690560" cy="2788200"/>
            <a:chOff x="178200" y="-61200"/>
            <a:chExt cx="1690560" cy="2788200"/>
          </a:xfrm>
        </p:grpSpPr>
        <p:grpSp>
          <p:nvGrpSpPr>
            <p:cNvPr id="2352" name=""/>
            <p:cNvGrpSpPr/>
            <p:nvPr/>
          </p:nvGrpSpPr>
          <p:grpSpPr>
            <a:xfrm>
              <a:off x="1338120" y="999000"/>
              <a:ext cx="530640" cy="429120"/>
              <a:chOff x="1338120" y="999000"/>
              <a:chExt cx="530640" cy="429120"/>
            </a:xfrm>
          </p:grpSpPr>
          <p:grpSp>
            <p:nvGrpSpPr>
              <p:cNvPr id="2353" name=""/>
              <p:cNvGrpSpPr/>
              <p:nvPr/>
            </p:nvGrpSpPr>
            <p:grpSpPr>
              <a:xfrm>
                <a:off x="1338120" y="1044360"/>
                <a:ext cx="444600" cy="383760"/>
                <a:chOff x="1338120" y="1044360"/>
                <a:chExt cx="444600" cy="383760"/>
              </a:xfrm>
            </p:grpSpPr>
            <p:pic>
              <p:nvPicPr>
                <p:cNvPr id="2354" name="" descr=""/>
                <p:cNvPicPr/>
                <p:nvPr/>
              </p:nvPicPr>
              <p:blipFill>
                <a:blip r:embed="rId148"/>
                <a:stretch/>
              </p:blipFill>
              <p:spPr>
                <a:xfrm rot="5880000">
                  <a:off x="1399680" y="1080720"/>
                  <a:ext cx="149400" cy="25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5" name="" descr=""/>
                <p:cNvPicPr/>
                <p:nvPr/>
              </p:nvPicPr>
              <p:blipFill>
                <a:blip r:embed="rId149"/>
                <a:stretch/>
              </p:blipFill>
              <p:spPr>
                <a:xfrm rot="5880000">
                  <a:off x="1474560" y="1131120"/>
                  <a:ext cx="358200" cy="20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56" name=""/>
              <p:cNvGrpSpPr/>
              <p:nvPr/>
            </p:nvGrpSpPr>
            <p:grpSpPr>
              <a:xfrm>
                <a:off x="1460160" y="999000"/>
                <a:ext cx="408600" cy="381960"/>
                <a:chOff x="1460160" y="999000"/>
                <a:chExt cx="408600" cy="381960"/>
              </a:xfrm>
            </p:grpSpPr>
            <p:sp>
              <p:nvSpPr>
                <p:cNvPr id="2357" name=""/>
                <p:cNvSpPr/>
                <p:nvPr/>
              </p:nvSpPr>
              <p:spPr>
                <a:xfrm flipH="1" rot="9300000">
                  <a:off x="1674360" y="1019160"/>
                  <a:ext cx="127800" cy="1461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58" name=""/>
                <p:cNvGrpSpPr/>
                <p:nvPr/>
              </p:nvGrpSpPr>
              <p:grpSpPr>
                <a:xfrm>
                  <a:off x="1460160" y="1017360"/>
                  <a:ext cx="408600" cy="363600"/>
                  <a:chOff x="1460160" y="1017360"/>
                  <a:chExt cx="408600" cy="363600"/>
                </a:xfrm>
              </p:grpSpPr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1460160" y="1017360"/>
                    <a:ext cx="408600" cy="363600"/>
                    <a:chOff x="1460160" y="1017360"/>
                    <a:chExt cx="408600" cy="363600"/>
                  </a:xfrm>
                </p:grpSpPr>
                <p:pic>
                  <p:nvPicPr>
                    <p:cNvPr id="2360" name="" descr=""/>
                    <p:cNvPicPr/>
                    <p:nvPr/>
                  </p:nvPicPr>
                  <p:blipFill>
                    <a:blip r:embed="rId150"/>
                    <a:stretch/>
                  </p:blipFill>
                  <p:spPr>
                    <a:xfrm rot="14040000">
                      <a:off x="1594080" y="1152000"/>
                      <a:ext cx="268200" cy="15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61" name=""/>
                    <p:cNvSpPr/>
                    <p:nvPr/>
                  </p:nvSpPr>
                  <p:spPr>
                    <a:xfrm flipH="1" rot="7560000">
                      <a:off x="1485360" y="1086120"/>
                      <a:ext cx="272880" cy="20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62" name=""/>
                  <p:cNvSpPr/>
                  <p:nvPr/>
                </p:nvSpPr>
                <p:spPr>
                  <a:xfrm flipH="1" rot="7560000">
                    <a:off x="1686960" y="1088640"/>
                    <a:ext cx="248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 flipH="1" rot="7560000">
                    <a:off x="1663920" y="1121040"/>
                    <a:ext cx="248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 flipH="1" rot="7560000">
                    <a:off x="1646280" y="1169280"/>
                    <a:ext cx="20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 flipH="1" rot="7560000">
                    <a:off x="1706400" y="1176480"/>
                    <a:ext cx="334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 flipH="1" rot="7560000">
                    <a:off x="1728000" y="1152000"/>
                    <a:ext cx="352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367" name=""/>
            <p:cNvGrpSpPr/>
            <p:nvPr/>
          </p:nvGrpSpPr>
          <p:grpSpPr>
            <a:xfrm>
              <a:off x="992520" y="-61200"/>
              <a:ext cx="350280" cy="388800"/>
              <a:chOff x="992520" y="-61200"/>
              <a:chExt cx="350280" cy="388800"/>
            </a:xfrm>
          </p:grpSpPr>
          <p:pic>
            <p:nvPicPr>
              <p:cNvPr id="2368" name="" descr=""/>
              <p:cNvPicPr/>
              <p:nvPr/>
            </p:nvPicPr>
            <p:blipFill>
              <a:blip r:embed="rId151"/>
              <a:stretch/>
            </p:blipFill>
            <p:spPr>
              <a:xfrm rot="1620000">
                <a:off x="1044360" y="107280"/>
                <a:ext cx="128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9" name="" descr=""/>
              <p:cNvPicPr/>
              <p:nvPr/>
            </p:nvPicPr>
            <p:blipFill>
              <a:blip r:embed="rId152"/>
              <a:stretch/>
            </p:blipFill>
            <p:spPr>
              <a:xfrm rot="1620000">
                <a:off x="1013040" y="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0" name=""/>
            <p:cNvSpPr/>
            <p:nvPr/>
          </p:nvSpPr>
          <p:spPr>
            <a:xfrm rot="21360000">
              <a:off x="401040" y="171000"/>
              <a:ext cx="1111320" cy="2274840"/>
            </a:xfrm>
            <a:custGeom>
              <a:avLst/>
              <a:gdLst/>
              <a:ahLst/>
              <a:rect l="l" t="t" r="r" b="b"/>
              <a:pathLst>
                <a:path w="752" h="1752">
                  <a:moveTo>
                    <a:pt x="456" y="16"/>
                  </a:moveTo>
                  <a:cubicBezTo>
                    <a:pt x="384" y="32"/>
                    <a:pt x="240" y="56"/>
                    <a:pt x="168" y="160"/>
                  </a:cubicBezTo>
                  <a:cubicBezTo>
                    <a:pt x="96" y="264"/>
                    <a:pt x="48" y="488"/>
                    <a:pt x="24" y="640"/>
                  </a:cubicBezTo>
                  <a:cubicBezTo>
                    <a:pt x="0" y="792"/>
                    <a:pt x="0" y="904"/>
                    <a:pt x="24" y="1072"/>
                  </a:cubicBezTo>
                  <a:cubicBezTo>
                    <a:pt x="48" y="1240"/>
                    <a:pt x="96" y="1544"/>
                    <a:pt x="168" y="1648"/>
                  </a:cubicBezTo>
                  <a:cubicBezTo>
                    <a:pt x="240" y="1752"/>
                    <a:pt x="376" y="1752"/>
                    <a:pt x="456" y="1696"/>
                  </a:cubicBezTo>
                  <a:cubicBezTo>
                    <a:pt x="536" y="1640"/>
                    <a:pt x="600" y="1456"/>
                    <a:pt x="648" y="1312"/>
                  </a:cubicBezTo>
                  <a:cubicBezTo>
                    <a:pt x="696" y="1168"/>
                    <a:pt x="736" y="992"/>
                    <a:pt x="744" y="832"/>
                  </a:cubicBezTo>
                  <a:cubicBezTo>
                    <a:pt x="752" y="672"/>
                    <a:pt x="720" y="480"/>
                    <a:pt x="696" y="352"/>
                  </a:cubicBezTo>
                  <a:cubicBezTo>
                    <a:pt x="672" y="224"/>
                    <a:pt x="640" y="120"/>
                    <a:pt x="600" y="64"/>
                  </a:cubicBezTo>
                  <a:cubicBezTo>
                    <a:pt x="560" y="8"/>
                    <a:pt x="528" y="0"/>
                    <a:pt x="456" y="16"/>
                  </a:cubicBezTo>
                  <a:close/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987120" y="154080"/>
              <a:ext cx="414360" cy="333720"/>
              <a:chOff x="987120" y="154080"/>
              <a:chExt cx="414360" cy="333720"/>
            </a:xfrm>
          </p:grpSpPr>
          <p:pic>
            <p:nvPicPr>
              <p:cNvPr id="2372" name="" descr=""/>
              <p:cNvPicPr/>
              <p:nvPr/>
            </p:nvPicPr>
            <p:blipFill>
              <a:blip r:embed="rId153"/>
              <a:stretch/>
            </p:blipFill>
            <p:spPr>
              <a:xfrm rot="15000000">
                <a:off x="1215000" y="16092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3" name="" descr=""/>
              <p:cNvPicPr/>
              <p:nvPr/>
            </p:nvPicPr>
            <p:blipFill>
              <a:blip r:embed="rId154"/>
              <a:stretch/>
            </p:blipFill>
            <p:spPr>
              <a:xfrm rot="15000000">
                <a:off x="980640" y="22716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4" name=""/>
            <p:cNvGrpSpPr/>
            <p:nvPr/>
          </p:nvGrpSpPr>
          <p:grpSpPr>
            <a:xfrm>
              <a:off x="1140120" y="240480"/>
              <a:ext cx="350280" cy="388440"/>
              <a:chOff x="1140120" y="240480"/>
              <a:chExt cx="350280" cy="388440"/>
            </a:xfrm>
          </p:grpSpPr>
          <p:pic>
            <p:nvPicPr>
              <p:cNvPr id="2375" name="" descr=""/>
              <p:cNvPicPr/>
              <p:nvPr/>
            </p:nvPicPr>
            <p:blipFill>
              <a:blip r:embed="rId155"/>
              <a:stretch/>
            </p:blipFill>
            <p:spPr>
              <a:xfrm rot="1620000">
                <a:off x="1191960" y="408600"/>
                <a:ext cx="12816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6" name="" descr=""/>
              <p:cNvPicPr/>
              <p:nvPr/>
            </p:nvPicPr>
            <p:blipFill>
              <a:blip r:embed="rId156"/>
              <a:stretch/>
            </p:blipFill>
            <p:spPr>
              <a:xfrm rot="1620000">
                <a:off x="1160640" y="3013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7" name=""/>
            <p:cNvGrpSpPr/>
            <p:nvPr/>
          </p:nvGrpSpPr>
          <p:grpSpPr>
            <a:xfrm>
              <a:off x="1166400" y="454320"/>
              <a:ext cx="414720" cy="333360"/>
              <a:chOff x="1166400" y="454320"/>
              <a:chExt cx="414720" cy="333360"/>
            </a:xfrm>
          </p:grpSpPr>
          <p:pic>
            <p:nvPicPr>
              <p:cNvPr id="2378" name="" descr=""/>
              <p:cNvPicPr/>
              <p:nvPr/>
            </p:nvPicPr>
            <p:blipFill>
              <a:blip r:embed="rId157"/>
              <a:stretch/>
            </p:blipFill>
            <p:spPr>
              <a:xfrm rot="15000000">
                <a:off x="1394640" y="4590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9" name="" descr=""/>
              <p:cNvPicPr/>
              <p:nvPr/>
            </p:nvPicPr>
            <p:blipFill>
              <a:blip r:embed="rId158"/>
              <a:stretch/>
            </p:blipFill>
            <p:spPr>
              <a:xfrm rot="15000000">
                <a:off x="1159920" y="527400"/>
                <a:ext cx="28692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0" name=""/>
            <p:cNvGrpSpPr/>
            <p:nvPr/>
          </p:nvGrpSpPr>
          <p:grpSpPr>
            <a:xfrm>
              <a:off x="1236240" y="610560"/>
              <a:ext cx="351000" cy="388080"/>
              <a:chOff x="1236240" y="610560"/>
              <a:chExt cx="351000" cy="388080"/>
            </a:xfrm>
          </p:grpSpPr>
          <p:pic>
            <p:nvPicPr>
              <p:cNvPr id="2381" name="" descr=""/>
              <p:cNvPicPr/>
              <p:nvPr/>
            </p:nvPicPr>
            <p:blipFill>
              <a:blip r:embed="rId159"/>
              <a:stretch/>
            </p:blipFill>
            <p:spPr>
              <a:xfrm rot="1620000">
                <a:off x="1288080" y="777600"/>
                <a:ext cx="12816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2" name="" descr=""/>
              <p:cNvPicPr/>
              <p:nvPr/>
            </p:nvPicPr>
            <p:blipFill>
              <a:blip r:embed="rId160"/>
              <a:stretch/>
            </p:blipFill>
            <p:spPr>
              <a:xfrm rot="1620000">
                <a:off x="1257120" y="671400"/>
                <a:ext cx="308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3" name=""/>
            <p:cNvGrpSpPr/>
            <p:nvPr/>
          </p:nvGrpSpPr>
          <p:grpSpPr>
            <a:xfrm>
              <a:off x="1263240" y="822600"/>
              <a:ext cx="413280" cy="334080"/>
              <a:chOff x="1263240" y="822600"/>
              <a:chExt cx="413280" cy="334080"/>
            </a:xfrm>
          </p:grpSpPr>
          <p:pic>
            <p:nvPicPr>
              <p:cNvPr id="2384" name="" descr=""/>
              <p:cNvPicPr/>
              <p:nvPr/>
            </p:nvPicPr>
            <p:blipFill>
              <a:blip r:embed="rId161"/>
              <a:stretch/>
            </p:blipFill>
            <p:spPr>
              <a:xfrm rot="15000000">
                <a:off x="1489680" y="82728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5" name="" descr=""/>
              <p:cNvPicPr/>
              <p:nvPr/>
            </p:nvPicPr>
            <p:blipFill>
              <a:blip r:embed="rId162"/>
              <a:stretch/>
            </p:blipFill>
            <p:spPr>
              <a:xfrm rot="15000000">
                <a:off x="1256760" y="895680"/>
                <a:ext cx="287280" cy="18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6" name=""/>
            <p:cNvGrpSpPr/>
            <p:nvPr/>
          </p:nvGrpSpPr>
          <p:grpSpPr>
            <a:xfrm>
              <a:off x="178200" y="746640"/>
              <a:ext cx="795600" cy="646560"/>
              <a:chOff x="178200" y="746640"/>
              <a:chExt cx="795600" cy="646560"/>
            </a:xfrm>
          </p:grpSpPr>
          <p:grpSp>
            <p:nvGrpSpPr>
              <p:cNvPr id="2387" name=""/>
              <p:cNvGrpSpPr/>
              <p:nvPr/>
            </p:nvGrpSpPr>
            <p:grpSpPr>
              <a:xfrm>
                <a:off x="178200" y="816120"/>
                <a:ext cx="664200" cy="577080"/>
                <a:chOff x="178200" y="816120"/>
                <a:chExt cx="664200" cy="577080"/>
              </a:xfrm>
            </p:grpSpPr>
            <p:pic>
              <p:nvPicPr>
                <p:cNvPr id="2388" name="" descr=""/>
                <p:cNvPicPr/>
                <p:nvPr/>
              </p:nvPicPr>
              <p:blipFill>
                <a:blip r:embed="rId163"/>
                <a:stretch/>
              </p:blipFill>
              <p:spPr>
                <a:xfrm rot="5880000">
                  <a:off x="269640" y="867600"/>
                  <a:ext cx="224280" cy="38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9" name="" descr=""/>
                <p:cNvPicPr/>
                <p:nvPr/>
              </p:nvPicPr>
              <p:blipFill>
                <a:blip r:embed="rId164"/>
                <a:stretch/>
              </p:blipFill>
              <p:spPr>
                <a:xfrm rot="5880000">
                  <a:off x="379800" y="947520"/>
                  <a:ext cx="538920" cy="31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90" name=""/>
              <p:cNvGrpSpPr/>
              <p:nvPr/>
            </p:nvGrpSpPr>
            <p:grpSpPr>
              <a:xfrm>
                <a:off x="360360" y="746640"/>
                <a:ext cx="613440" cy="577080"/>
                <a:chOff x="360360" y="746640"/>
                <a:chExt cx="613440" cy="577080"/>
              </a:xfrm>
            </p:grpSpPr>
            <p:sp>
              <p:nvSpPr>
                <p:cNvPr id="2391" name=""/>
                <p:cNvSpPr/>
                <p:nvPr/>
              </p:nvSpPr>
              <p:spPr>
                <a:xfrm flipH="1" rot="9300000">
                  <a:off x="681480" y="776160"/>
                  <a:ext cx="190440" cy="2199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392" name=""/>
                <p:cNvGrpSpPr/>
                <p:nvPr/>
              </p:nvGrpSpPr>
              <p:grpSpPr>
                <a:xfrm>
                  <a:off x="360360" y="774360"/>
                  <a:ext cx="613440" cy="549360"/>
                  <a:chOff x="360360" y="774360"/>
                  <a:chExt cx="613440" cy="549360"/>
                </a:xfrm>
              </p:grpSpPr>
              <p:grpSp>
                <p:nvGrpSpPr>
                  <p:cNvPr id="2393" name=""/>
                  <p:cNvGrpSpPr/>
                  <p:nvPr/>
                </p:nvGrpSpPr>
                <p:grpSpPr>
                  <a:xfrm>
                    <a:off x="360360" y="774360"/>
                    <a:ext cx="613440" cy="549360"/>
                    <a:chOff x="360360" y="774360"/>
                    <a:chExt cx="613440" cy="549360"/>
                  </a:xfrm>
                </p:grpSpPr>
                <p:pic>
                  <p:nvPicPr>
                    <p:cNvPr id="2394" name="" descr=""/>
                    <p:cNvPicPr/>
                    <p:nvPr/>
                  </p:nvPicPr>
                  <p:blipFill>
                    <a:blip r:embed="rId165"/>
                    <a:stretch/>
                  </p:blipFill>
                  <p:spPr>
                    <a:xfrm rot="14040000">
                      <a:off x="561240" y="977040"/>
                      <a:ext cx="401400" cy="2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95" name=""/>
                    <p:cNvSpPr/>
                    <p:nvPr/>
                  </p:nvSpPr>
                  <p:spPr>
                    <a:xfrm flipH="1" rot="7560000">
                      <a:off x="398160" y="878040"/>
                      <a:ext cx="411840" cy="30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396" name=""/>
                  <p:cNvSpPr/>
                  <p:nvPr/>
                </p:nvSpPr>
                <p:spPr>
                  <a:xfrm flipH="1" rot="7560000">
                    <a:off x="700920" y="883440"/>
                    <a:ext cx="38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 flipH="1" rot="7560000">
                    <a:off x="668520" y="928800"/>
                    <a:ext cx="38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 flipH="1" rot="7560000">
                    <a:off x="638280" y="1003320"/>
                    <a:ext cx="31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flipH="1" rot="7560000">
                    <a:off x="730080" y="1017360"/>
                    <a:ext cx="504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 flipH="1" rot="7560000">
                    <a:off x="759600" y="978120"/>
                    <a:ext cx="54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401" name=""/>
            <p:cNvGrpSpPr/>
            <p:nvPr/>
          </p:nvGrpSpPr>
          <p:grpSpPr>
            <a:xfrm>
              <a:off x="1274760" y="1169280"/>
              <a:ext cx="350280" cy="388080"/>
              <a:chOff x="1274760" y="1169280"/>
              <a:chExt cx="350280" cy="388080"/>
            </a:xfrm>
          </p:grpSpPr>
          <p:pic>
            <p:nvPicPr>
              <p:cNvPr id="2402" name="" descr=""/>
              <p:cNvPicPr/>
              <p:nvPr/>
            </p:nvPicPr>
            <p:blipFill>
              <a:blip r:embed="rId166"/>
              <a:stretch/>
            </p:blipFill>
            <p:spPr>
              <a:xfrm rot="1620000">
                <a:off x="1326960" y="1337400"/>
                <a:ext cx="1281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3" name="" descr=""/>
              <p:cNvPicPr/>
              <p:nvPr/>
            </p:nvPicPr>
            <p:blipFill>
              <a:blip r:embed="rId167"/>
              <a:stretch/>
            </p:blipFill>
            <p:spPr>
              <a:xfrm rot="1620000">
                <a:off x="1295280" y="12301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4" name=""/>
            <p:cNvGrpSpPr/>
            <p:nvPr/>
          </p:nvGrpSpPr>
          <p:grpSpPr>
            <a:xfrm>
              <a:off x="1301040" y="1381320"/>
              <a:ext cx="414720" cy="333720"/>
              <a:chOff x="1301040" y="1381320"/>
              <a:chExt cx="414720" cy="333720"/>
            </a:xfrm>
          </p:grpSpPr>
          <p:pic>
            <p:nvPicPr>
              <p:cNvPr id="2405" name="" descr=""/>
              <p:cNvPicPr/>
              <p:nvPr/>
            </p:nvPicPr>
            <p:blipFill>
              <a:blip r:embed="rId168"/>
              <a:stretch/>
            </p:blipFill>
            <p:spPr>
              <a:xfrm rot="15000000">
                <a:off x="1528920" y="138600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6" name="" descr=""/>
              <p:cNvPicPr/>
              <p:nvPr/>
            </p:nvPicPr>
            <p:blipFill>
              <a:blip r:embed="rId169"/>
              <a:stretch/>
            </p:blipFill>
            <p:spPr>
              <a:xfrm rot="15000000">
                <a:off x="1294560" y="1454040"/>
                <a:ext cx="286920" cy="18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7" name=""/>
            <p:cNvGrpSpPr/>
            <p:nvPr/>
          </p:nvGrpSpPr>
          <p:grpSpPr>
            <a:xfrm>
              <a:off x="1244160" y="1573200"/>
              <a:ext cx="414720" cy="333720"/>
              <a:chOff x="1244160" y="1573200"/>
              <a:chExt cx="414720" cy="333720"/>
            </a:xfrm>
          </p:grpSpPr>
          <p:pic>
            <p:nvPicPr>
              <p:cNvPr id="2408" name="" descr=""/>
              <p:cNvPicPr/>
              <p:nvPr/>
            </p:nvPicPr>
            <p:blipFill>
              <a:blip r:embed="rId170"/>
              <a:stretch/>
            </p:blipFill>
            <p:spPr>
              <a:xfrm rot="15000000">
                <a:off x="1472400" y="15782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9" name="" descr=""/>
              <p:cNvPicPr/>
              <p:nvPr/>
            </p:nvPicPr>
            <p:blipFill>
              <a:blip r:embed="rId171"/>
              <a:stretch/>
            </p:blipFill>
            <p:spPr>
              <a:xfrm rot="15000000">
                <a:off x="1237680" y="164628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0" name=""/>
            <p:cNvGrpSpPr/>
            <p:nvPr/>
          </p:nvGrpSpPr>
          <p:grpSpPr>
            <a:xfrm>
              <a:off x="1258920" y="1732680"/>
              <a:ext cx="350280" cy="388440"/>
              <a:chOff x="1258920" y="1732680"/>
              <a:chExt cx="350280" cy="388440"/>
            </a:xfrm>
          </p:grpSpPr>
          <p:pic>
            <p:nvPicPr>
              <p:cNvPr id="2411" name="" descr=""/>
              <p:cNvPicPr/>
              <p:nvPr/>
            </p:nvPicPr>
            <p:blipFill>
              <a:blip r:embed="rId172"/>
              <a:stretch/>
            </p:blipFill>
            <p:spPr>
              <a:xfrm rot="1620000">
                <a:off x="1311120" y="1901160"/>
                <a:ext cx="1281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2" name="" descr=""/>
              <p:cNvPicPr/>
              <p:nvPr/>
            </p:nvPicPr>
            <p:blipFill>
              <a:blip r:embed="rId173"/>
              <a:stretch/>
            </p:blipFill>
            <p:spPr>
              <a:xfrm rot="1620000">
                <a:off x="1279440" y="179352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3" name=""/>
            <p:cNvGrpSpPr/>
            <p:nvPr/>
          </p:nvGrpSpPr>
          <p:grpSpPr>
            <a:xfrm>
              <a:off x="640080" y="52920"/>
              <a:ext cx="414720" cy="333360"/>
              <a:chOff x="640080" y="52920"/>
              <a:chExt cx="414720" cy="333360"/>
            </a:xfrm>
          </p:grpSpPr>
          <p:pic>
            <p:nvPicPr>
              <p:cNvPr id="2414" name="" descr=""/>
              <p:cNvPicPr/>
              <p:nvPr/>
            </p:nvPicPr>
            <p:blipFill>
              <a:blip r:embed="rId174"/>
              <a:stretch/>
            </p:blipFill>
            <p:spPr>
              <a:xfrm rot="15000000">
                <a:off x="868320" y="572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5" name="" descr=""/>
              <p:cNvPicPr/>
              <p:nvPr/>
            </p:nvPicPr>
            <p:blipFill>
              <a:blip r:embed="rId175"/>
              <a:stretch/>
            </p:blipFill>
            <p:spPr>
              <a:xfrm rot="15000000">
                <a:off x="633600" y="126000"/>
                <a:ext cx="28692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6" name=""/>
            <p:cNvGrpSpPr/>
            <p:nvPr/>
          </p:nvGrpSpPr>
          <p:grpSpPr>
            <a:xfrm>
              <a:off x="438840" y="254160"/>
              <a:ext cx="414720" cy="333720"/>
              <a:chOff x="438840" y="254160"/>
              <a:chExt cx="414720" cy="333720"/>
            </a:xfrm>
          </p:grpSpPr>
          <p:pic>
            <p:nvPicPr>
              <p:cNvPr id="2417" name="" descr=""/>
              <p:cNvPicPr/>
              <p:nvPr/>
            </p:nvPicPr>
            <p:blipFill>
              <a:blip r:embed="rId176"/>
              <a:stretch/>
            </p:blipFill>
            <p:spPr>
              <a:xfrm rot="15000000">
                <a:off x="667080" y="25884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8" name="" descr=""/>
              <p:cNvPicPr/>
              <p:nvPr/>
            </p:nvPicPr>
            <p:blipFill>
              <a:blip r:embed="rId177"/>
              <a:stretch/>
            </p:blipFill>
            <p:spPr>
              <a:xfrm rot="15000000">
                <a:off x="432360" y="32724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9" name=""/>
            <p:cNvGrpSpPr/>
            <p:nvPr/>
          </p:nvGrpSpPr>
          <p:grpSpPr>
            <a:xfrm>
              <a:off x="380520" y="356400"/>
              <a:ext cx="350280" cy="388800"/>
              <a:chOff x="380520" y="356400"/>
              <a:chExt cx="350280" cy="388800"/>
            </a:xfrm>
          </p:grpSpPr>
          <p:pic>
            <p:nvPicPr>
              <p:cNvPr id="2420" name="" descr=""/>
              <p:cNvPicPr/>
              <p:nvPr/>
            </p:nvPicPr>
            <p:blipFill>
              <a:blip r:embed="rId178"/>
              <a:stretch/>
            </p:blipFill>
            <p:spPr>
              <a:xfrm rot="1620000">
                <a:off x="432000" y="524520"/>
                <a:ext cx="128520" cy="2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1" name="" descr=""/>
              <p:cNvPicPr/>
              <p:nvPr/>
            </p:nvPicPr>
            <p:blipFill>
              <a:blip r:embed="rId179"/>
              <a:stretch/>
            </p:blipFill>
            <p:spPr>
              <a:xfrm rot="1620000">
                <a:off x="401040" y="417240"/>
                <a:ext cx="30888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2" name=""/>
            <p:cNvGrpSpPr/>
            <p:nvPr/>
          </p:nvGrpSpPr>
          <p:grpSpPr>
            <a:xfrm>
              <a:off x="251280" y="641520"/>
              <a:ext cx="414720" cy="333720"/>
              <a:chOff x="251280" y="641520"/>
              <a:chExt cx="414720" cy="333720"/>
            </a:xfrm>
          </p:grpSpPr>
          <p:pic>
            <p:nvPicPr>
              <p:cNvPr id="2423" name="" descr=""/>
              <p:cNvPicPr/>
              <p:nvPr/>
            </p:nvPicPr>
            <p:blipFill>
              <a:blip r:embed="rId180"/>
              <a:stretch/>
            </p:blipFill>
            <p:spPr>
              <a:xfrm rot="15000000">
                <a:off x="479520" y="6462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4" name="" descr=""/>
              <p:cNvPicPr/>
              <p:nvPr/>
            </p:nvPicPr>
            <p:blipFill>
              <a:blip r:embed="rId181"/>
              <a:stretch/>
            </p:blipFill>
            <p:spPr>
              <a:xfrm rot="15000000">
                <a:off x="244800" y="71460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5" name=""/>
            <p:cNvGrpSpPr/>
            <p:nvPr/>
          </p:nvGrpSpPr>
          <p:grpSpPr>
            <a:xfrm>
              <a:off x="211680" y="1082880"/>
              <a:ext cx="413280" cy="333720"/>
              <a:chOff x="211680" y="1082880"/>
              <a:chExt cx="413280" cy="333720"/>
            </a:xfrm>
          </p:grpSpPr>
          <p:pic>
            <p:nvPicPr>
              <p:cNvPr id="2426" name="" descr=""/>
              <p:cNvPicPr/>
              <p:nvPr/>
            </p:nvPicPr>
            <p:blipFill>
              <a:blip r:embed="rId182"/>
              <a:stretch/>
            </p:blipFill>
            <p:spPr>
              <a:xfrm rot="15000000">
                <a:off x="438120" y="1087560"/>
                <a:ext cx="119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7" name="" descr=""/>
              <p:cNvPicPr/>
              <p:nvPr/>
            </p:nvPicPr>
            <p:blipFill>
              <a:blip r:embed="rId183"/>
              <a:stretch/>
            </p:blipFill>
            <p:spPr>
              <a:xfrm rot="15000000">
                <a:off x="205200" y="115596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8" name=""/>
            <p:cNvGrpSpPr/>
            <p:nvPr/>
          </p:nvGrpSpPr>
          <p:grpSpPr>
            <a:xfrm>
              <a:off x="299160" y="1237680"/>
              <a:ext cx="351000" cy="387720"/>
              <a:chOff x="299160" y="1237680"/>
              <a:chExt cx="351000" cy="387720"/>
            </a:xfrm>
          </p:grpSpPr>
          <p:pic>
            <p:nvPicPr>
              <p:cNvPr id="2429" name="" descr=""/>
              <p:cNvPicPr/>
              <p:nvPr/>
            </p:nvPicPr>
            <p:blipFill>
              <a:blip r:embed="rId184"/>
              <a:stretch/>
            </p:blipFill>
            <p:spPr>
              <a:xfrm rot="1620000">
                <a:off x="351000" y="1404000"/>
                <a:ext cx="12852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0" name="" descr=""/>
              <p:cNvPicPr/>
              <p:nvPr/>
            </p:nvPicPr>
            <p:blipFill>
              <a:blip r:embed="rId185"/>
              <a:stretch/>
            </p:blipFill>
            <p:spPr>
              <a:xfrm rot="1620000">
                <a:off x="320040" y="1298520"/>
                <a:ext cx="308880" cy="16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1" name=""/>
            <p:cNvGrpSpPr/>
            <p:nvPr/>
          </p:nvGrpSpPr>
          <p:grpSpPr>
            <a:xfrm>
              <a:off x="769680" y="2079360"/>
              <a:ext cx="795240" cy="647640"/>
              <a:chOff x="769680" y="2079360"/>
              <a:chExt cx="795240" cy="647640"/>
            </a:xfrm>
          </p:grpSpPr>
          <p:grpSp>
            <p:nvGrpSpPr>
              <p:cNvPr id="2432" name=""/>
              <p:cNvGrpSpPr/>
              <p:nvPr/>
            </p:nvGrpSpPr>
            <p:grpSpPr>
              <a:xfrm>
                <a:off x="769680" y="2150640"/>
                <a:ext cx="665640" cy="576360"/>
                <a:chOff x="769680" y="2150640"/>
                <a:chExt cx="665640" cy="576360"/>
              </a:xfrm>
            </p:grpSpPr>
            <p:pic>
              <p:nvPicPr>
                <p:cNvPr id="2433" name="" descr=""/>
                <p:cNvPicPr/>
                <p:nvPr/>
              </p:nvPicPr>
              <p:blipFill>
                <a:blip r:embed="rId186"/>
                <a:stretch/>
              </p:blipFill>
              <p:spPr>
                <a:xfrm rot="5880000">
                  <a:off x="861840" y="2203200"/>
                  <a:ext cx="2239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4" name="" descr=""/>
                <p:cNvPicPr/>
                <p:nvPr/>
              </p:nvPicPr>
              <p:blipFill>
                <a:blip r:embed="rId187"/>
                <a:stretch/>
              </p:blipFill>
              <p:spPr>
                <a:xfrm rot="5880000">
                  <a:off x="972720" y="2281320"/>
                  <a:ext cx="537840" cy="31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35" name=""/>
              <p:cNvGrpSpPr/>
              <p:nvPr/>
            </p:nvGrpSpPr>
            <p:grpSpPr>
              <a:xfrm>
                <a:off x="951120" y="2079360"/>
                <a:ext cx="613800" cy="576000"/>
                <a:chOff x="951120" y="2079360"/>
                <a:chExt cx="613800" cy="576000"/>
              </a:xfrm>
            </p:grpSpPr>
            <p:sp>
              <p:nvSpPr>
                <p:cNvPr id="2436" name=""/>
                <p:cNvSpPr/>
                <p:nvPr/>
              </p:nvSpPr>
              <p:spPr>
                <a:xfrm flipH="1" rot="9300000">
                  <a:off x="1274040" y="2109240"/>
                  <a:ext cx="190800" cy="21996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437" name=""/>
                <p:cNvGrpSpPr/>
                <p:nvPr/>
              </p:nvGrpSpPr>
              <p:grpSpPr>
                <a:xfrm>
                  <a:off x="951120" y="2108880"/>
                  <a:ext cx="613800" cy="546480"/>
                  <a:chOff x="951120" y="2108880"/>
                  <a:chExt cx="613800" cy="546480"/>
                </a:xfrm>
              </p:grpSpPr>
              <p:grpSp>
                <p:nvGrpSpPr>
                  <p:cNvPr id="2438" name=""/>
                  <p:cNvGrpSpPr/>
                  <p:nvPr/>
                </p:nvGrpSpPr>
                <p:grpSpPr>
                  <a:xfrm>
                    <a:off x="951120" y="2108880"/>
                    <a:ext cx="613800" cy="546480"/>
                    <a:chOff x="951120" y="2108880"/>
                    <a:chExt cx="613800" cy="546480"/>
                  </a:xfrm>
                </p:grpSpPr>
                <p:pic>
                  <p:nvPicPr>
                    <p:cNvPr id="2439" name="" descr=""/>
                    <p:cNvPicPr/>
                    <p:nvPr/>
                  </p:nvPicPr>
                  <p:blipFill>
                    <a:blip r:embed="rId188"/>
                    <a:stretch/>
                  </p:blipFill>
                  <p:spPr>
                    <a:xfrm rot="14040000">
                      <a:off x="1154520" y="2311200"/>
                      <a:ext cx="399960" cy="22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40" name=""/>
                    <p:cNvSpPr/>
                    <p:nvPr/>
                  </p:nvSpPr>
                  <p:spPr>
                    <a:xfrm flipH="1" rot="7560000">
                      <a:off x="988560" y="2212200"/>
                      <a:ext cx="410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35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441" name=""/>
                  <p:cNvSpPr/>
                  <p:nvPr/>
                </p:nvSpPr>
                <p:spPr>
                  <a:xfrm flipH="1" rot="7560000">
                    <a:off x="1294560" y="2217600"/>
                    <a:ext cx="38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 flipH="1" rot="7560000">
                    <a:off x="1260000" y="2263680"/>
                    <a:ext cx="385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flipH="1" rot="7560000">
                    <a:off x="1231200" y="2336400"/>
                    <a:ext cx="31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flipH="1" rot="7560000">
                    <a:off x="1322280" y="2351880"/>
                    <a:ext cx="504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 flipH="1" rot="7560000">
                    <a:off x="1352160" y="2312280"/>
                    <a:ext cx="54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446" name=""/>
            <p:cNvGrpSpPr/>
            <p:nvPr/>
          </p:nvGrpSpPr>
          <p:grpSpPr>
            <a:xfrm>
              <a:off x="1055520" y="1962360"/>
              <a:ext cx="414720" cy="333720"/>
              <a:chOff x="1055520" y="1962360"/>
              <a:chExt cx="414720" cy="333720"/>
            </a:xfrm>
          </p:grpSpPr>
          <p:pic>
            <p:nvPicPr>
              <p:cNvPr id="2447" name="" descr=""/>
              <p:cNvPicPr/>
              <p:nvPr/>
            </p:nvPicPr>
            <p:blipFill>
              <a:blip r:embed="rId189"/>
              <a:stretch/>
            </p:blipFill>
            <p:spPr>
              <a:xfrm rot="15000000">
                <a:off x="1283760" y="1967400"/>
                <a:ext cx="11952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8" name="" descr=""/>
              <p:cNvPicPr/>
              <p:nvPr/>
            </p:nvPicPr>
            <p:blipFill>
              <a:blip r:embed="rId190"/>
              <a:stretch/>
            </p:blipFill>
            <p:spPr>
              <a:xfrm rot="15000000">
                <a:off x="1049040" y="203544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9" name=""/>
            <p:cNvGrpSpPr/>
            <p:nvPr/>
          </p:nvGrpSpPr>
          <p:grpSpPr>
            <a:xfrm>
              <a:off x="237240" y="1455840"/>
              <a:ext cx="414360" cy="333720"/>
              <a:chOff x="237240" y="1455840"/>
              <a:chExt cx="414360" cy="333720"/>
            </a:xfrm>
          </p:grpSpPr>
          <p:pic>
            <p:nvPicPr>
              <p:cNvPr id="2450" name="" descr=""/>
              <p:cNvPicPr/>
              <p:nvPr/>
            </p:nvPicPr>
            <p:blipFill>
              <a:blip r:embed="rId191"/>
              <a:stretch/>
            </p:blipFill>
            <p:spPr>
              <a:xfrm rot="15000000">
                <a:off x="465120" y="146268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1" name="" descr=""/>
              <p:cNvPicPr/>
              <p:nvPr/>
            </p:nvPicPr>
            <p:blipFill>
              <a:blip r:embed="rId192"/>
              <a:stretch/>
            </p:blipFill>
            <p:spPr>
              <a:xfrm rot="15000000">
                <a:off x="230760" y="152892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2" name=""/>
            <p:cNvGrpSpPr/>
            <p:nvPr/>
          </p:nvGrpSpPr>
          <p:grpSpPr>
            <a:xfrm>
              <a:off x="384480" y="1555200"/>
              <a:ext cx="449280" cy="422640"/>
              <a:chOff x="384480" y="1555200"/>
              <a:chExt cx="449280" cy="422640"/>
            </a:xfrm>
          </p:grpSpPr>
          <p:pic>
            <p:nvPicPr>
              <p:cNvPr id="2453" name="" descr=""/>
              <p:cNvPicPr/>
              <p:nvPr/>
            </p:nvPicPr>
            <p:blipFill>
              <a:blip r:embed="rId193"/>
              <a:stretch/>
            </p:blipFill>
            <p:spPr>
              <a:xfrm rot="3000000">
                <a:off x="453600" y="1728000"/>
                <a:ext cx="13212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4" name="" descr=""/>
              <p:cNvPicPr/>
              <p:nvPr/>
            </p:nvPicPr>
            <p:blipFill>
              <a:blip r:embed="rId194"/>
              <a:stretch/>
            </p:blipFill>
            <p:spPr>
              <a:xfrm rot="3000000">
                <a:off x="496440" y="1640520"/>
                <a:ext cx="317160" cy="20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5" name=""/>
            <p:cNvGrpSpPr/>
            <p:nvPr/>
          </p:nvGrpSpPr>
          <p:grpSpPr>
            <a:xfrm>
              <a:off x="576360" y="2244960"/>
              <a:ext cx="413280" cy="334080"/>
              <a:chOff x="576360" y="2244960"/>
              <a:chExt cx="413280" cy="334080"/>
            </a:xfrm>
          </p:grpSpPr>
          <p:pic>
            <p:nvPicPr>
              <p:cNvPr id="2456" name="" descr=""/>
              <p:cNvPicPr/>
              <p:nvPr/>
            </p:nvPicPr>
            <p:blipFill>
              <a:blip r:embed="rId195"/>
              <a:stretch/>
            </p:blipFill>
            <p:spPr>
              <a:xfrm rot="15000000">
                <a:off x="802800" y="2249640"/>
                <a:ext cx="119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7" name="" descr=""/>
              <p:cNvPicPr/>
              <p:nvPr/>
            </p:nvPicPr>
            <p:blipFill>
              <a:blip r:embed="rId196"/>
              <a:stretch/>
            </p:blipFill>
            <p:spPr>
              <a:xfrm rot="15000000">
                <a:off x="569520" y="2318400"/>
                <a:ext cx="28728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8" name=""/>
            <p:cNvGrpSpPr/>
            <p:nvPr/>
          </p:nvGrpSpPr>
          <p:grpSpPr>
            <a:xfrm>
              <a:off x="262440" y="1828800"/>
              <a:ext cx="414360" cy="333720"/>
              <a:chOff x="262440" y="1828800"/>
              <a:chExt cx="414360" cy="333720"/>
            </a:xfrm>
          </p:grpSpPr>
          <p:pic>
            <p:nvPicPr>
              <p:cNvPr id="2459" name="" descr=""/>
              <p:cNvPicPr/>
              <p:nvPr/>
            </p:nvPicPr>
            <p:blipFill>
              <a:blip r:embed="rId197"/>
              <a:stretch/>
            </p:blipFill>
            <p:spPr>
              <a:xfrm rot="15000000">
                <a:off x="490320" y="1833480"/>
                <a:ext cx="11916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0" name="" descr=""/>
              <p:cNvPicPr/>
              <p:nvPr/>
            </p:nvPicPr>
            <p:blipFill>
              <a:blip r:embed="rId198"/>
              <a:stretch/>
            </p:blipFill>
            <p:spPr>
              <a:xfrm rot="15000000">
                <a:off x="255960" y="1901880"/>
                <a:ext cx="28692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1" name=""/>
            <p:cNvGrpSpPr/>
            <p:nvPr/>
          </p:nvGrpSpPr>
          <p:grpSpPr>
            <a:xfrm>
              <a:off x="416880" y="1888200"/>
              <a:ext cx="381240" cy="426960"/>
              <a:chOff x="416880" y="1888200"/>
              <a:chExt cx="381240" cy="426960"/>
            </a:xfrm>
          </p:grpSpPr>
          <p:pic>
            <p:nvPicPr>
              <p:cNvPr id="2462" name="" descr=""/>
              <p:cNvPicPr/>
              <p:nvPr/>
            </p:nvPicPr>
            <p:blipFill>
              <a:blip r:embed="rId199"/>
              <a:stretch/>
            </p:blipFill>
            <p:spPr>
              <a:xfrm rot="1920000">
                <a:off x="466200" y="2071080"/>
                <a:ext cx="133560" cy="22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3" name="" descr=""/>
              <p:cNvPicPr/>
              <p:nvPr/>
            </p:nvPicPr>
            <p:blipFill>
              <a:blip r:embed="rId200"/>
              <a:stretch/>
            </p:blipFill>
            <p:spPr>
              <a:xfrm rot="1920000">
                <a:off x="451800" y="1959120"/>
                <a:ext cx="321480" cy="18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464" name="" descr=""/>
          <p:cNvPicPr/>
          <p:nvPr/>
        </p:nvPicPr>
        <p:blipFill>
          <a:blip r:embed="rId201"/>
          <a:stretch/>
        </p:blipFill>
        <p:spPr>
          <a:xfrm>
            <a:off x="3143160" y="5143680"/>
            <a:ext cx="657360" cy="590400"/>
          </a:xfrm>
          <a:prstGeom prst="rect">
            <a:avLst/>
          </a:prstGeom>
          <a:ln w="0">
            <a:noFill/>
          </a:ln>
        </p:spPr>
      </p:pic>
      <p:pic>
        <p:nvPicPr>
          <p:cNvPr id="2465" name="" descr=""/>
          <p:cNvPicPr/>
          <p:nvPr/>
        </p:nvPicPr>
        <p:blipFill>
          <a:blip r:embed="rId202"/>
          <a:stretch/>
        </p:blipFill>
        <p:spPr>
          <a:xfrm>
            <a:off x="5643720" y="607212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2466" name="" descr=""/>
          <p:cNvPicPr/>
          <p:nvPr/>
        </p:nvPicPr>
        <p:blipFill>
          <a:blip r:embed="rId203"/>
          <a:stretch/>
        </p:blipFill>
        <p:spPr>
          <a:xfrm>
            <a:off x="0" y="5857920"/>
            <a:ext cx="657360" cy="590400"/>
          </a:xfrm>
          <a:prstGeom prst="rect">
            <a:avLst/>
          </a:prstGeom>
          <a:ln w="0">
            <a:noFill/>
          </a:ln>
        </p:spPr>
      </p:pic>
      <p:pic>
        <p:nvPicPr>
          <p:cNvPr id="2467" name="" descr=""/>
          <p:cNvPicPr/>
          <p:nvPr/>
        </p:nvPicPr>
        <p:blipFill>
          <a:blip r:embed="rId204"/>
          <a:stretch/>
        </p:blipFill>
        <p:spPr>
          <a:xfrm>
            <a:off x="8215200" y="500076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0" name=""/>
          <p:cNvSpPr/>
          <p:nvPr/>
        </p:nvSpPr>
        <p:spPr>
          <a:xfrm>
            <a:off x="0" y="49291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зеро Таир – прекрасно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Берег удивительной красы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Осень – это золото в березках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А природа чудной красоты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:  6А класса Иванова Эльви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76320" y="152280"/>
            <a:ext cx="9067680" cy="320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Мише надо разложить 56 яблок в 2 корзины так, чтобы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число яблок в одной корзине составлял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DejaVu Sans"/>
              </a:rPr>
              <a:t>числ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DejaVu Sans"/>
              </a:rPr>
              <a:t>яблок в другой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2" name=""/>
          <p:cNvSpPr/>
          <p:nvPr/>
        </p:nvSpPr>
        <p:spPr>
          <a:xfrm>
            <a:off x="3963960" y="3048120"/>
            <a:ext cx="599760" cy="109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х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3" name=""/>
          <p:cNvSpPr/>
          <p:nvPr/>
        </p:nvSpPr>
        <p:spPr>
          <a:xfrm>
            <a:off x="6216480" y="4572000"/>
            <a:ext cx="202788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18,6 кг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4" name=""/>
          <p:cNvSpPr/>
          <p:nvPr/>
        </p:nvSpPr>
        <p:spPr>
          <a:xfrm>
            <a:off x="5334120" y="3276720"/>
            <a:ext cx="685800" cy="3200400"/>
          </a:xfrm>
          <a:custGeom>
            <a:avLst/>
            <a:gdLst/>
            <a:ahLst/>
            <a:rect l="l" t="t" r="r" b="b"/>
            <a:pathLst>
              <a:path w="1906" h="8891">
                <a:moveTo>
                  <a:pt x="0" y="0"/>
                </a:moveTo>
                <a:cubicBezTo>
                  <a:pt x="476" y="0"/>
                  <a:pt x="953" y="370"/>
                  <a:pt x="953" y="740"/>
                </a:cubicBezTo>
                <a:lnTo>
                  <a:pt x="953" y="3704"/>
                </a:lnTo>
                <a:cubicBezTo>
                  <a:pt x="953" y="4075"/>
                  <a:pt x="1429" y="4445"/>
                  <a:pt x="1906" y="4445"/>
                </a:cubicBezTo>
                <a:cubicBezTo>
                  <a:pt x="1429" y="4445"/>
                  <a:pt x="953" y="4815"/>
                  <a:pt x="953" y="5186"/>
                </a:cubicBezTo>
                <a:lnTo>
                  <a:pt x="953" y="8150"/>
                </a:lnTo>
                <a:cubicBezTo>
                  <a:pt x="953" y="8520"/>
                  <a:pt x="476" y="8891"/>
                  <a:pt x="0" y="889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7929720" y="500040"/>
                <a:ext cx="554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76" name=""/>
          <p:cNvGrpSpPr/>
          <p:nvPr/>
        </p:nvGrpSpPr>
        <p:grpSpPr>
          <a:xfrm>
            <a:off x="179280" y="4110840"/>
            <a:ext cx="3674520" cy="2751480"/>
            <a:chOff x="179280" y="4110840"/>
            <a:chExt cx="3674520" cy="2751480"/>
          </a:xfrm>
        </p:grpSpPr>
        <p:grpSp>
          <p:nvGrpSpPr>
            <p:cNvPr id="2477" name=""/>
            <p:cNvGrpSpPr/>
            <p:nvPr/>
          </p:nvGrpSpPr>
          <p:grpSpPr>
            <a:xfrm>
              <a:off x="387360" y="4252320"/>
              <a:ext cx="2846160" cy="2443680"/>
              <a:chOff x="387360" y="4252320"/>
              <a:chExt cx="2846160" cy="2443680"/>
            </a:xfrm>
          </p:grpSpPr>
          <p:pic>
            <p:nvPicPr>
              <p:cNvPr id="24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5264280"/>
                <a:ext cx="2774520" cy="14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9680" y="4948200"/>
                <a:ext cx="2823840" cy="63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0" name=""/>
              <p:cNvGrpSpPr/>
              <p:nvPr/>
            </p:nvGrpSpPr>
            <p:grpSpPr>
              <a:xfrm>
                <a:off x="387360" y="4252320"/>
                <a:ext cx="2818440" cy="1138320"/>
                <a:chOff x="387360" y="4252320"/>
                <a:chExt cx="2818440" cy="1138320"/>
              </a:xfrm>
            </p:grpSpPr>
            <p:sp>
              <p:nvSpPr>
                <p:cNvPr id="2481" name=""/>
                <p:cNvSpPr/>
                <p:nvPr/>
              </p:nvSpPr>
              <p:spPr>
                <a:xfrm rot="5160000">
                  <a:off x="2771280" y="4994280"/>
                  <a:ext cx="420480" cy="10008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482" name=""/>
                <p:cNvGrpSpPr/>
                <p:nvPr/>
              </p:nvGrpSpPr>
              <p:grpSpPr>
                <a:xfrm>
                  <a:off x="387360" y="4252320"/>
                  <a:ext cx="2818440" cy="1138320"/>
                  <a:chOff x="387360" y="4252320"/>
                  <a:chExt cx="2818440" cy="113832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 rot="20580000">
                    <a:off x="398520" y="5098320"/>
                    <a:ext cx="38556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rot="20580000">
                    <a:off x="498240" y="4955040"/>
                    <a:ext cx="377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788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1000000">
                    <a:off x="588600" y="4834440"/>
                    <a:ext cx="3780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318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486" name=""/>
                  <p:cNvGrpSpPr/>
                  <p:nvPr/>
                </p:nvGrpSpPr>
                <p:grpSpPr>
                  <a:xfrm>
                    <a:off x="711360" y="4491000"/>
                    <a:ext cx="672480" cy="384840"/>
                    <a:chOff x="711360" y="4491000"/>
                    <a:chExt cx="672480" cy="384840"/>
                  </a:xfrm>
                </p:grpSpPr>
                <p:sp>
                  <p:nvSpPr>
                    <p:cNvPr id="2487" name=""/>
                    <p:cNvSpPr/>
                    <p:nvPr/>
                  </p:nvSpPr>
                  <p:spPr>
                    <a:xfrm rot="300000">
                      <a:off x="715680" y="4733280"/>
                      <a:ext cx="3931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8" name=""/>
                    <p:cNvSpPr/>
                    <p:nvPr/>
                  </p:nvSpPr>
                  <p:spPr>
                    <a:xfrm rot="300000">
                      <a:off x="855000" y="4617000"/>
                      <a:ext cx="38520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 rot="780000">
                      <a:off x="984600" y="4532400"/>
                      <a:ext cx="386640" cy="15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0" name=""/>
                  <p:cNvGrpSpPr/>
                  <p:nvPr/>
                </p:nvGrpSpPr>
                <p:grpSpPr>
                  <a:xfrm>
                    <a:off x="1101240" y="4281120"/>
                    <a:ext cx="744840" cy="491400"/>
                    <a:chOff x="1101240" y="4281120"/>
                    <a:chExt cx="744840" cy="491400"/>
                  </a:xfrm>
                </p:grpSpPr>
                <p:sp>
                  <p:nvSpPr>
                    <p:cNvPr id="2491" name=""/>
                    <p:cNvSpPr/>
                    <p:nvPr/>
                  </p:nvSpPr>
                  <p:spPr>
                    <a:xfrm rot="1380000">
                      <a:off x="1123920" y="4507200"/>
                      <a:ext cx="39240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 rot="1380000">
                      <a:off x="1282320" y="4416840"/>
                      <a:ext cx="38448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3" name=""/>
                    <p:cNvSpPr/>
                    <p:nvPr/>
                  </p:nvSpPr>
                  <p:spPr>
                    <a:xfrm rot="1860000">
                      <a:off x="1425600" y="4362480"/>
                      <a:ext cx="38484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4" name=""/>
                  <p:cNvGrpSpPr/>
                  <p:nvPr/>
                </p:nvGrpSpPr>
                <p:grpSpPr>
                  <a:xfrm>
                    <a:off x="1541520" y="4252320"/>
                    <a:ext cx="768240" cy="497880"/>
                    <a:chOff x="1541520" y="4252320"/>
                    <a:chExt cx="768240" cy="497880"/>
                  </a:xfrm>
                </p:grpSpPr>
                <p:sp>
                  <p:nvSpPr>
                    <p:cNvPr id="2495" name=""/>
                    <p:cNvSpPr/>
                    <p:nvPr/>
                  </p:nvSpPr>
                  <p:spPr>
                    <a:xfrm rot="2220000">
                      <a:off x="1587960" y="4375800"/>
                      <a:ext cx="3639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6" name=""/>
                    <p:cNvSpPr/>
                    <p:nvPr/>
                  </p:nvSpPr>
                  <p:spPr>
                    <a:xfrm rot="2220000">
                      <a:off x="1742400" y="4331880"/>
                      <a:ext cx="35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497" name=""/>
                    <p:cNvSpPr/>
                    <p:nvPr/>
                  </p:nvSpPr>
                  <p:spPr>
                    <a:xfrm rot="2640000">
                      <a:off x="1882800" y="4327560"/>
                      <a:ext cx="35676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1924560" y="4344840"/>
                    <a:ext cx="796320" cy="546840"/>
                    <a:chOff x="1924560" y="4344840"/>
                    <a:chExt cx="796320" cy="546840"/>
                  </a:xfrm>
                </p:grpSpPr>
                <p:sp>
                  <p:nvSpPr>
                    <p:cNvPr id="2499" name=""/>
                    <p:cNvSpPr/>
                    <p:nvPr/>
                  </p:nvSpPr>
                  <p:spPr>
                    <a:xfrm rot="3240000">
                      <a:off x="1897920" y="4482000"/>
                      <a:ext cx="413280" cy="14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0" name=""/>
                    <p:cNvSpPr/>
                    <p:nvPr/>
                  </p:nvSpPr>
                  <p:spPr>
                    <a:xfrm rot="3240000">
                      <a:off x="2132280" y="4523040"/>
                      <a:ext cx="40536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 rot="3660000">
                      <a:off x="2341080" y="4581000"/>
                      <a:ext cx="40572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grpSp>
                <p:nvGrpSpPr>
                  <p:cNvPr id="2502" name=""/>
                  <p:cNvGrpSpPr/>
                  <p:nvPr/>
                </p:nvGrpSpPr>
                <p:grpSpPr>
                  <a:xfrm>
                    <a:off x="2407680" y="4514040"/>
                    <a:ext cx="609840" cy="633960"/>
                    <a:chOff x="2407680" y="4514040"/>
                    <a:chExt cx="609840" cy="633960"/>
                  </a:xfrm>
                </p:grpSpPr>
                <p:sp>
                  <p:nvSpPr>
                    <p:cNvPr id="2503" name=""/>
                    <p:cNvSpPr/>
                    <p:nvPr/>
                  </p:nvSpPr>
                  <p:spPr>
                    <a:xfrm rot="4080000">
                      <a:off x="2333880" y="4671720"/>
                      <a:ext cx="427680" cy="12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 rot="4080000">
                      <a:off x="2519280" y="4752720"/>
                      <a:ext cx="41976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505" name=""/>
                    <p:cNvSpPr/>
                    <p:nvPr/>
                  </p:nvSpPr>
                  <p:spPr>
                    <a:xfrm rot="4500000">
                      <a:off x="2676240" y="4844880"/>
                      <a:ext cx="419760" cy="1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33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06" name=""/>
                  <p:cNvSpPr/>
                  <p:nvPr/>
                </p:nvSpPr>
                <p:spPr>
                  <a:xfrm rot="5160000">
                    <a:off x="2854800" y="5091840"/>
                    <a:ext cx="412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2436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3034440" y="5064840"/>
                    <a:ext cx="1713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387360" y="5198400"/>
                    <a:ext cx="27144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142">
                        <a:moveTo>
                          <a:pt x="145" y="96"/>
                        </a:moveTo>
                        <a:cubicBezTo>
                          <a:pt x="126" y="103"/>
                          <a:pt x="48" y="142"/>
                          <a:pt x="25" y="136"/>
                        </a:cubicBezTo>
                        <a:cubicBezTo>
                          <a:pt x="2" y="130"/>
                          <a:pt x="0" y="75"/>
                          <a:pt x="7" y="61"/>
                        </a:cubicBezTo>
                        <a:cubicBezTo>
                          <a:pt x="14" y="47"/>
                          <a:pt x="42" y="48"/>
                          <a:pt x="66" y="53"/>
                        </a:cubicBezTo>
                        <a:cubicBezTo>
                          <a:pt x="89" y="58"/>
                          <a:pt x="126" y="85"/>
                          <a:pt x="150" y="88"/>
                        </a:cubicBezTo>
                        <a:cubicBezTo>
                          <a:pt x="173" y="89"/>
                          <a:pt x="194" y="74"/>
                          <a:pt x="207" y="60"/>
                        </a:cubicBezTo>
                        <a:cubicBezTo>
                          <a:pt x="221" y="46"/>
                          <a:pt x="224" y="12"/>
                          <a:pt x="228" y="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09" name=""/>
            <p:cNvGrpSpPr/>
            <p:nvPr/>
          </p:nvGrpSpPr>
          <p:grpSpPr>
            <a:xfrm>
              <a:off x="3093480" y="6206400"/>
              <a:ext cx="760320" cy="655920"/>
              <a:chOff x="3093480" y="6206400"/>
              <a:chExt cx="760320" cy="655920"/>
            </a:xfrm>
          </p:grpSpPr>
          <p:grpSp>
            <p:nvGrpSpPr>
              <p:cNvPr id="2510" name=""/>
              <p:cNvGrpSpPr/>
              <p:nvPr/>
            </p:nvGrpSpPr>
            <p:grpSpPr>
              <a:xfrm>
                <a:off x="3093480" y="6206400"/>
                <a:ext cx="760320" cy="655920"/>
                <a:chOff x="3093480" y="6206400"/>
                <a:chExt cx="760320" cy="655920"/>
              </a:xfrm>
            </p:grpSpPr>
            <p:pic>
              <p:nvPicPr>
                <p:cNvPr id="2511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10260000">
                  <a:off x="3165120" y="6536520"/>
                  <a:ext cx="67104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2" name="" descr=""/>
                <p:cNvPicPr/>
                <p:nvPr/>
              </p:nvPicPr>
              <p:blipFill>
                <a:blip r:embed="rId5"/>
                <a:stretch/>
              </p:blipFill>
              <p:spPr>
                <a:xfrm rot="10260000">
                  <a:off x="3117600" y="6257880"/>
                  <a:ext cx="685440" cy="36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13" name=""/>
              <p:cNvSpPr/>
              <p:nvPr/>
            </p:nvSpPr>
            <p:spPr>
              <a:xfrm rot="10260000">
                <a:off x="3231360" y="641160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rot="10260000">
                <a:off x="3322440" y="6397200"/>
                <a:ext cx="6336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rot="10260000">
                <a:off x="3425400" y="6431760"/>
                <a:ext cx="52560" cy="13500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0260000">
                <a:off x="3355200" y="661932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rot="10260000">
                <a:off x="3277440" y="663048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179280" y="6193080"/>
              <a:ext cx="760320" cy="657000"/>
              <a:chOff x="179280" y="6193080"/>
              <a:chExt cx="760320" cy="657000"/>
            </a:xfrm>
          </p:grpSpPr>
          <p:grpSp>
            <p:nvGrpSpPr>
              <p:cNvPr id="2519" name=""/>
              <p:cNvGrpSpPr/>
              <p:nvPr/>
            </p:nvGrpSpPr>
            <p:grpSpPr>
              <a:xfrm>
                <a:off x="179280" y="6193080"/>
                <a:ext cx="760320" cy="657000"/>
                <a:chOff x="179280" y="6193080"/>
                <a:chExt cx="760320" cy="657000"/>
              </a:xfrm>
            </p:grpSpPr>
            <p:pic>
              <p:nvPicPr>
                <p:cNvPr id="2520" name="" descr=""/>
                <p:cNvPicPr/>
                <p:nvPr/>
              </p:nvPicPr>
              <p:blipFill>
                <a:blip r:embed="rId6"/>
                <a:stretch/>
              </p:blipFill>
              <p:spPr>
                <a:xfrm rot="10260000">
                  <a:off x="196200" y="6523920"/>
                  <a:ext cx="673560" cy="27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1" name="" descr=""/>
                <p:cNvPicPr/>
                <p:nvPr/>
              </p:nvPicPr>
              <p:blipFill>
                <a:blip r:embed="rId7"/>
                <a:stretch/>
              </p:blipFill>
              <p:spPr>
                <a:xfrm rot="10260000">
                  <a:off x="226800" y="6244560"/>
                  <a:ext cx="688320" cy="36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22" name=""/>
              <p:cNvSpPr/>
              <p:nvPr/>
            </p:nvSpPr>
            <p:spPr>
              <a:xfrm flipH="1" rot="11340000">
                <a:off x="738720" y="6399360"/>
                <a:ext cx="63360" cy="21240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rot="11340000">
                <a:off x="646920" y="6384600"/>
                <a:ext cx="63720" cy="21276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rot="11340000">
                <a:off x="556560" y="6418800"/>
                <a:ext cx="52200" cy="1353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rot="11340000">
                <a:off x="597240" y="660816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rot="11340000">
                <a:off x="666720" y="6618240"/>
                <a:ext cx="88920" cy="1173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27" name=""/>
            <p:cNvSpPr/>
            <p:nvPr/>
          </p:nvSpPr>
          <p:spPr>
            <a:xfrm rot="21300000">
              <a:off x="1820520" y="6587640"/>
              <a:ext cx="5238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424080" y="5279040"/>
              <a:ext cx="2872440" cy="529920"/>
              <a:chOff x="424080" y="5279040"/>
              <a:chExt cx="2872440" cy="529920"/>
            </a:xfrm>
          </p:grpSpPr>
          <p:sp>
            <p:nvSpPr>
              <p:cNvPr id="2529" name=""/>
              <p:cNvSpPr/>
              <p:nvPr/>
            </p:nvSpPr>
            <p:spPr>
              <a:xfrm rot="11520000">
                <a:off x="2233080" y="5581440"/>
                <a:ext cx="303480" cy="4104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8844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1806120" y="5545440"/>
                <a:ext cx="517680" cy="228240"/>
                <a:chOff x="1806120" y="5545440"/>
                <a:chExt cx="517680" cy="228240"/>
              </a:xfrm>
            </p:grpSpPr>
            <p:sp>
              <p:nvSpPr>
                <p:cNvPr id="2531" name=""/>
                <p:cNvSpPr/>
                <p:nvPr/>
              </p:nvSpPr>
              <p:spPr>
                <a:xfrm rot="11460000">
                  <a:off x="2013480" y="5573880"/>
                  <a:ext cx="305280" cy="7992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1460000">
                  <a:off x="1913040" y="5598360"/>
                  <a:ext cx="298440" cy="1008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1880000">
                  <a:off x="1814040" y="5628960"/>
                  <a:ext cx="298800" cy="1008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1473840" y="5539680"/>
                <a:ext cx="531720" cy="266040"/>
                <a:chOff x="1473840" y="5539680"/>
                <a:chExt cx="531720" cy="266040"/>
              </a:xfrm>
            </p:grpSpPr>
            <p:sp>
              <p:nvSpPr>
                <p:cNvPr id="2535" name=""/>
                <p:cNvSpPr/>
                <p:nvPr/>
              </p:nvSpPr>
              <p:spPr>
                <a:xfrm rot="11820000">
                  <a:off x="1692360" y="5581080"/>
                  <a:ext cx="302040" cy="11916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1820000">
                  <a:off x="1591920" y="5581440"/>
                  <a:ext cx="295920" cy="15156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2240000">
                  <a:off x="1491840" y="5599440"/>
                  <a:ext cx="295920" cy="15264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1183680" y="5500080"/>
                <a:ext cx="515520" cy="308880"/>
                <a:chOff x="1183680" y="5500080"/>
                <a:chExt cx="515520" cy="308880"/>
              </a:xfrm>
            </p:grpSpPr>
            <p:sp>
              <p:nvSpPr>
                <p:cNvPr id="2539" name=""/>
                <p:cNvSpPr/>
                <p:nvPr/>
              </p:nvSpPr>
              <p:spPr>
                <a:xfrm rot="12300000">
                  <a:off x="1401120" y="5611320"/>
                  <a:ext cx="280440" cy="1436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2300000">
                  <a:off x="1303200" y="5580720"/>
                  <a:ext cx="275400" cy="1782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2780000">
                  <a:off x="1209600" y="5560560"/>
                  <a:ext cx="275760" cy="17820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33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424080" y="5337360"/>
                <a:ext cx="716760" cy="401400"/>
                <a:chOff x="424080" y="5337360"/>
                <a:chExt cx="716760" cy="401400"/>
              </a:xfrm>
            </p:grpSpPr>
            <p:grpSp>
              <p:nvGrpSpPr>
                <p:cNvPr id="2543" name=""/>
                <p:cNvGrpSpPr/>
                <p:nvPr/>
              </p:nvGrpSpPr>
              <p:grpSpPr>
                <a:xfrm>
                  <a:off x="561960" y="5398920"/>
                  <a:ext cx="578880" cy="339840"/>
                  <a:chOff x="561960" y="5398920"/>
                  <a:chExt cx="578880" cy="339840"/>
                </a:xfrm>
              </p:grpSpPr>
              <p:sp>
                <p:nvSpPr>
                  <p:cNvPr id="2544" name=""/>
                  <p:cNvSpPr/>
                  <p:nvPr/>
                </p:nvSpPr>
                <p:spPr>
                  <a:xfrm rot="16200000">
                    <a:off x="514080" y="5446440"/>
                    <a:ext cx="180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solidFill>
                    <a:srgbClr val="cc9900"/>
                  </a:soli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 rot="14460000">
                    <a:off x="992160" y="5612760"/>
                    <a:ext cx="153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 rot="14880000">
                    <a:off x="829440" y="5585040"/>
                    <a:ext cx="15012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94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547" name=""/>
                <p:cNvGrpSpPr/>
                <p:nvPr/>
              </p:nvGrpSpPr>
              <p:grpSpPr>
                <a:xfrm>
                  <a:off x="424080" y="5337360"/>
                  <a:ext cx="641880" cy="398880"/>
                  <a:chOff x="424080" y="5337360"/>
                  <a:chExt cx="641880" cy="398880"/>
                </a:xfrm>
              </p:grpSpPr>
              <p:grpSp>
                <p:nvGrpSpPr>
                  <p:cNvPr id="2548" name=""/>
                  <p:cNvGrpSpPr/>
                  <p:nvPr/>
                </p:nvGrpSpPr>
                <p:grpSpPr>
                  <a:xfrm>
                    <a:off x="494640" y="5349960"/>
                    <a:ext cx="571320" cy="386280"/>
                    <a:chOff x="494640" y="5349960"/>
                    <a:chExt cx="571320" cy="386280"/>
                  </a:xfrm>
                </p:grpSpPr>
                <p:sp>
                  <p:nvSpPr>
                    <p:cNvPr id="2549" name=""/>
                    <p:cNvSpPr/>
                    <p:nvPr/>
                  </p:nvSpPr>
                  <p:spPr>
                    <a:xfrm rot="14460000">
                      <a:off x="910080" y="5596560"/>
                      <a:ext cx="15192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150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grpSp>
                  <p:nvGrpSpPr>
                    <p:cNvPr id="2550" name=""/>
                    <p:cNvGrpSpPr/>
                    <p:nvPr/>
                  </p:nvGrpSpPr>
                  <p:grpSpPr>
                    <a:xfrm>
                      <a:off x="581040" y="5437440"/>
                      <a:ext cx="342360" cy="284400"/>
                      <a:chOff x="581040" y="5437440"/>
                      <a:chExt cx="342360" cy="284400"/>
                    </a:xfrm>
                  </p:grpSpPr>
                  <p:sp>
                    <p:nvSpPr>
                      <p:cNvPr id="2551" name=""/>
                      <p:cNvSpPr/>
                      <p:nvPr/>
                    </p:nvSpPr>
                    <p:spPr>
                      <a:xfrm rot="15120000">
                        <a:off x="750960" y="5567760"/>
                        <a:ext cx="195840" cy="9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080" bIns="4608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 rot="15120000">
                        <a:off x="653760" y="5522400"/>
                        <a:ext cx="190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53" name=""/>
                      <p:cNvSpPr/>
                      <p:nvPr/>
                    </p:nvSpPr>
                    <p:spPr>
                      <a:xfrm rot="15540000">
                        <a:off x="559800" y="5484960"/>
                        <a:ext cx="190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606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</p:grpSp>
                <p:sp>
                  <p:nvSpPr>
                    <p:cNvPr id="2554" name=""/>
                    <p:cNvSpPr/>
                    <p:nvPr/>
                  </p:nvSpPr>
                  <p:spPr>
                    <a:xfrm rot="16200000">
                      <a:off x="455400" y="5389200"/>
                      <a:ext cx="1785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324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55" name=""/>
                  <p:cNvSpPr/>
                  <p:nvPr/>
                </p:nvSpPr>
                <p:spPr>
                  <a:xfrm rot="11040000">
                    <a:off x="428040" y="5342040"/>
                    <a:ext cx="136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grpSp>
            <p:nvGrpSpPr>
              <p:cNvPr id="2556" name=""/>
              <p:cNvGrpSpPr/>
              <p:nvPr/>
            </p:nvGrpSpPr>
            <p:grpSpPr>
              <a:xfrm>
                <a:off x="2543760" y="5279040"/>
                <a:ext cx="752760" cy="427680"/>
                <a:chOff x="2543760" y="5279040"/>
                <a:chExt cx="752760" cy="427680"/>
              </a:xfrm>
            </p:grpSpPr>
            <p:grpSp>
              <p:nvGrpSpPr>
                <p:cNvPr id="2557" name=""/>
                <p:cNvGrpSpPr/>
                <p:nvPr/>
              </p:nvGrpSpPr>
              <p:grpSpPr>
                <a:xfrm>
                  <a:off x="2687400" y="5279040"/>
                  <a:ext cx="609120" cy="414720"/>
                  <a:chOff x="2687400" y="5279040"/>
                  <a:chExt cx="609120" cy="414720"/>
                </a:xfrm>
              </p:grpSpPr>
              <p:sp>
                <p:nvSpPr>
                  <p:cNvPr id="2558" name=""/>
                  <p:cNvSpPr/>
                  <p:nvPr/>
                </p:nvSpPr>
                <p:spPr>
                  <a:xfrm rot="13440000">
                    <a:off x="2696760" y="5547600"/>
                    <a:ext cx="1774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solidFill>
                    <a:srgbClr val="cc9900"/>
                  </a:soli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rot="11700000">
                    <a:off x="3135600" y="5296680"/>
                    <a:ext cx="1515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rot="12120000">
                    <a:off x="3013200" y="5409000"/>
                    <a:ext cx="1483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94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561" name=""/>
                <p:cNvGrpSpPr/>
                <p:nvPr/>
              </p:nvGrpSpPr>
              <p:grpSpPr>
                <a:xfrm>
                  <a:off x="2543760" y="5323680"/>
                  <a:ext cx="692280" cy="383040"/>
                  <a:chOff x="2543760" y="5323680"/>
                  <a:chExt cx="692280" cy="383040"/>
                </a:xfrm>
              </p:grpSpPr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2584080" y="5323680"/>
                    <a:ext cx="651960" cy="383040"/>
                    <a:chOff x="2584080" y="5323680"/>
                    <a:chExt cx="651960" cy="38304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1700000">
                      <a:off x="3070080" y="5341680"/>
                      <a:ext cx="15480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150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grpSp>
                  <p:nvGrpSpPr>
                    <p:cNvPr id="2564" name=""/>
                    <p:cNvGrpSpPr/>
                    <p:nvPr/>
                  </p:nvGrpSpPr>
                  <p:grpSpPr>
                    <a:xfrm>
                      <a:off x="2714400" y="5370120"/>
                      <a:ext cx="416880" cy="336600"/>
                      <a:chOff x="2714400" y="5370120"/>
                      <a:chExt cx="416880" cy="336600"/>
                    </a:xfrm>
                  </p:grpSpPr>
                  <p:sp>
                    <p:nvSpPr>
                      <p:cNvPr id="2565" name=""/>
                      <p:cNvSpPr/>
                      <p:nvPr/>
                    </p:nvSpPr>
                    <p:spPr>
                      <a:xfrm rot="12360000">
                        <a:off x="2915640" y="5406480"/>
                        <a:ext cx="19692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66" name=""/>
                      <p:cNvSpPr/>
                      <p:nvPr/>
                    </p:nvSpPr>
                    <p:spPr>
                      <a:xfrm rot="12360000">
                        <a:off x="2828520" y="5450760"/>
                        <a:ext cx="19152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174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  <p:sp>
                    <p:nvSpPr>
                      <p:cNvPr id="2567" name=""/>
                      <p:cNvSpPr/>
                      <p:nvPr/>
                    </p:nvSpPr>
                    <p:spPr>
                      <a:xfrm rot="12780000">
                        <a:off x="2742480" y="5506920"/>
                        <a:ext cx="19152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2606000"/>
                      </a:gradFill>
                      <a:ln w="9360">
                        <a:solidFill>
                          <a:srgbClr val="0066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98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DejaVu Sans"/>
                        </a:endParaRPr>
                      </a:p>
                    </p:txBody>
                  </p:sp>
                </p:grpSp>
                <p:sp>
                  <p:nvSpPr>
                    <p:cNvPr id="2568" name=""/>
                    <p:cNvSpPr/>
                    <p:nvPr/>
                  </p:nvSpPr>
                  <p:spPr>
                    <a:xfrm rot="13440000">
                      <a:off x="2596320" y="5530320"/>
                      <a:ext cx="182160" cy="10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3242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569" name=""/>
                  <p:cNvSpPr/>
                  <p:nvPr/>
                </p:nvSpPr>
                <p:spPr>
                  <a:xfrm rot="8280000">
                    <a:off x="2568240" y="5521680"/>
                    <a:ext cx="14004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1">
                        <a:moveTo>
                          <a:pt x="72" y="0"/>
                        </a:moveTo>
                        <a:cubicBezTo>
                          <a:pt x="82" y="7"/>
                          <a:pt x="115" y="23"/>
                          <a:pt x="127" y="39"/>
                        </a:cubicBezTo>
                        <a:cubicBezTo>
                          <a:pt x="139" y="57"/>
                          <a:pt x="145" y="86"/>
                          <a:pt x="144" y="106"/>
                        </a:cubicBezTo>
                        <a:cubicBezTo>
                          <a:pt x="143" y="125"/>
                          <a:pt x="139" y="141"/>
                          <a:pt x="123" y="158"/>
                        </a:cubicBezTo>
                        <a:cubicBezTo>
                          <a:pt x="107" y="176"/>
                          <a:pt x="69" y="203"/>
                          <a:pt x="50" y="212"/>
                        </a:cubicBezTo>
                        <a:cubicBezTo>
                          <a:pt x="31" y="221"/>
                          <a:pt x="12" y="213"/>
                          <a:pt x="6" y="214"/>
                        </a:cubicBezTo>
                        <a:cubicBezTo>
                          <a:pt x="0" y="215"/>
                          <a:pt x="12" y="217"/>
                          <a:pt x="14" y="21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</p:grpSp>
        <p:grpSp>
          <p:nvGrpSpPr>
            <p:cNvPr id="2570" name=""/>
            <p:cNvGrpSpPr/>
            <p:nvPr/>
          </p:nvGrpSpPr>
          <p:grpSpPr>
            <a:xfrm>
              <a:off x="902160" y="5475600"/>
              <a:ext cx="505080" cy="331560"/>
              <a:chOff x="902160" y="5475600"/>
              <a:chExt cx="505080" cy="331560"/>
            </a:xfrm>
          </p:grpSpPr>
          <p:sp>
            <p:nvSpPr>
              <p:cNvPr id="2571" name=""/>
              <p:cNvSpPr/>
              <p:nvPr/>
            </p:nvSpPr>
            <p:spPr>
              <a:xfrm rot="12480000">
                <a:off x="1113840" y="5614560"/>
                <a:ext cx="277920" cy="13500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rot="12480000">
                <a:off x="1017000" y="5566680"/>
                <a:ext cx="273600" cy="1677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rot="12900000">
                <a:off x="925200" y="5538600"/>
                <a:ext cx="273960" cy="1677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 rot="11760000">
              <a:off x="2425320" y="5568840"/>
              <a:ext cx="29700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5" name=""/>
            <p:cNvSpPr/>
            <p:nvPr/>
          </p:nvSpPr>
          <p:spPr>
            <a:xfrm rot="11760000">
              <a:off x="2350800" y="5570280"/>
              <a:ext cx="296640" cy="522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6" name=""/>
            <p:cNvSpPr/>
            <p:nvPr/>
          </p:nvSpPr>
          <p:spPr>
            <a:xfrm rot="11760000">
              <a:off x="2122560" y="5583240"/>
              <a:ext cx="29664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577" name=""/>
            <p:cNvGrpSpPr/>
            <p:nvPr/>
          </p:nvGrpSpPr>
          <p:grpSpPr>
            <a:xfrm>
              <a:off x="1697760" y="4381560"/>
              <a:ext cx="1645920" cy="1437840"/>
              <a:chOff x="1697760" y="4381560"/>
              <a:chExt cx="1645920" cy="1437840"/>
            </a:xfrm>
          </p:grpSpPr>
          <p:pic>
            <p:nvPicPr>
              <p:cNvPr id="2578" name="" descr=""/>
              <p:cNvPicPr/>
              <p:nvPr/>
            </p:nvPicPr>
            <p:blipFill>
              <a:blip r:embed="rId8"/>
              <a:stretch/>
            </p:blipFill>
            <p:spPr>
              <a:xfrm rot="3420000">
                <a:off x="1821600" y="4753800"/>
                <a:ext cx="997920" cy="83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9" name="" descr=""/>
              <p:cNvPicPr/>
              <p:nvPr/>
            </p:nvPicPr>
            <p:blipFill>
              <a:blip r:embed="rId9"/>
              <a:stretch/>
            </p:blipFill>
            <p:spPr>
              <a:xfrm rot="18120000">
                <a:off x="2188080" y="4977360"/>
                <a:ext cx="57960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0" name=""/>
              <p:cNvSpPr/>
              <p:nvPr/>
            </p:nvSpPr>
            <p:spPr>
              <a:xfrm rot="3420000">
                <a:off x="2054160" y="5396760"/>
                <a:ext cx="69120" cy="342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rot="3480000">
                <a:off x="2452320" y="4535280"/>
                <a:ext cx="281520" cy="3862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2455560" y="4381560"/>
                <a:ext cx="888120" cy="924480"/>
                <a:chOff x="2455560" y="4381560"/>
                <a:chExt cx="888120" cy="924480"/>
              </a:xfrm>
            </p:grpSpPr>
            <p:grpSp>
              <p:nvGrpSpPr>
                <p:cNvPr id="2583" name=""/>
                <p:cNvGrpSpPr/>
                <p:nvPr/>
              </p:nvGrpSpPr>
              <p:grpSpPr>
                <a:xfrm>
                  <a:off x="2455560" y="4381560"/>
                  <a:ext cx="888120" cy="924480"/>
                  <a:chOff x="2455560" y="4381560"/>
                  <a:chExt cx="888120" cy="924480"/>
                </a:xfrm>
              </p:grpSpPr>
              <p:pic>
                <p:nvPicPr>
                  <p:cNvPr id="25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9920000">
                    <a:off x="2602440" y="4527360"/>
                    <a:ext cx="704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9920000">
                    <a:off x="2516040" y="4723920"/>
                    <a:ext cx="721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586" name=""/>
                <p:cNvSpPr/>
                <p:nvPr/>
              </p:nvSpPr>
              <p:spPr>
                <a:xfrm flipH="1" rot="1680000">
                  <a:off x="2658240" y="4692240"/>
                  <a:ext cx="68400" cy="1605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 rot="1680000">
                  <a:off x="2745000" y="4737240"/>
                  <a:ext cx="68760" cy="1605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 rot="1680000">
                  <a:off x="2848680" y="4808520"/>
                  <a:ext cx="55800" cy="100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 rot="1680000">
                  <a:off x="2810880" y="4667760"/>
                  <a:ext cx="90360" cy="784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 rot="1680000">
                  <a:off x="2736000" y="4620960"/>
                  <a:ext cx="96120" cy="867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591" name=""/>
            <p:cNvGrpSpPr/>
            <p:nvPr/>
          </p:nvGrpSpPr>
          <p:grpSpPr>
            <a:xfrm>
              <a:off x="385920" y="4323600"/>
              <a:ext cx="1182600" cy="1446120"/>
              <a:chOff x="385920" y="4323600"/>
              <a:chExt cx="1182600" cy="1446120"/>
            </a:xfrm>
          </p:grpSpPr>
          <p:pic>
            <p:nvPicPr>
              <p:cNvPr id="2592" name="" descr=""/>
              <p:cNvPicPr/>
              <p:nvPr/>
            </p:nvPicPr>
            <p:blipFill>
              <a:blip r:embed="rId12"/>
              <a:stretch/>
            </p:blipFill>
            <p:spPr>
              <a:xfrm rot="1020000">
                <a:off x="482400" y="4846680"/>
                <a:ext cx="943920" cy="80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3" name="" descr=""/>
              <p:cNvPicPr/>
              <p:nvPr/>
            </p:nvPicPr>
            <p:blipFill>
              <a:blip r:embed="rId13"/>
              <a:stretch/>
            </p:blipFill>
            <p:spPr>
              <a:xfrm rot="20580000">
                <a:off x="833760" y="4946040"/>
                <a:ext cx="548280" cy="4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4" name=""/>
              <p:cNvSpPr/>
              <p:nvPr/>
            </p:nvSpPr>
            <p:spPr>
              <a:xfrm rot="1020000">
                <a:off x="905760" y="5551920"/>
                <a:ext cx="65880" cy="32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H="1" rot="1020000">
                <a:off x="743040" y="4572000"/>
                <a:ext cx="266040" cy="3700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596" name=""/>
              <p:cNvGrpSpPr/>
              <p:nvPr/>
            </p:nvGrpSpPr>
            <p:grpSpPr>
              <a:xfrm>
                <a:off x="803520" y="4323600"/>
                <a:ext cx="765000" cy="630000"/>
                <a:chOff x="803520" y="4323600"/>
                <a:chExt cx="765000" cy="630000"/>
              </a:xfrm>
            </p:grpSpPr>
            <p:grpSp>
              <p:nvGrpSpPr>
                <p:cNvPr id="2597" name=""/>
                <p:cNvGrpSpPr/>
                <p:nvPr/>
              </p:nvGrpSpPr>
              <p:grpSpPr>
                <a:xfrm>
                  <a:off x="803520" y="4323600"/>
                  <a:ext cx="765000" cy="630000"/>
                  <a:chOff x="803520" y="4323600"/>
                  <a:chExt cx="765000" cy="630000"/>
                </a:xfrm>
              </p:grpSpPr>
              <p:pic>
                <p:nvPicPr>
                  <p:cNvPr id="25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780000">
                    <a:off x="821520" y="4397040"/>
                    <a:ext cx="682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780000">
                    <a:off x="842760" y="4561920"/>
                    <a:ext cx="69912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00" name=""/>
                <p:cNvSpPr/>
                <p:nvPr/>
              </p:nvSpPr>
              <p:spPr>
                <a:xfrm flipH="1" rot="20820000">
                  <a:off x="942120" y="4647240"/>
                  <a:ext cx="65160" cy="152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 rot="20820000">
                  <a:off x="1033560" y="4624920"/>
                  <a:ext cx="65520" cy="152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 rot="20820000">
                  <a:off x="1135080" y="4622760"/>
                  <a:ext cx="53280" cy="9720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 rot="20820000">
                  <a:off x="1011240" y="4539600"/>
                  <a:ext cx="86400" cy="741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rot="20820000">
                  <a:off x="929160" y="4547880"/>
                  <a:ext cx="91080" cy="82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05" name=""/>
            <p:cNvGrpSpPr/>
            <p:nvPr/>
          </p:nvGrpSpPr>
          <p:grpSpPr>
            <a:xfrm>
              <a:off x="906840" y="4595760"/>
              <a:ext cx="1201680" cy="1250640"/>
              <a:chOff x="906840" y="4595760"/>
              <a:chExt cx="1201680" cy="1250640"/>
            </a:xfrm>
          </p:grpSpPr>
          <p:grpSp>
            <p:nvGrpSpPr>
              <p:cNvPr id="2606" name=""/>
              <p:cNvGrpSpPr/>
              <p:nvPr/>
            </p:nvGrpSpPr>
            <p:grpSpPr>
              <a:xfrm>
                <a:off x="906840" y="4595760"/>
                <a:ext cx="511560" cy="950760"/>
                <a:chOff x="906840" y="4595760"/>
                <a:chExt cx="511560" cy="950760"/>
              </a:xfrm>
            </p:grpSpPr>
            <p:sp>
              <p:nvSpPr>
                <p:cNvPr id="2607" name=""/>
                <p:cNvSpPr/>
                <p:nvPr/>
              </p:nvSpPr>
              <p:spPr>
                <a:xfrm flipH="1" rot="18060000">
                  <a:off x="1018080" y="5101920"/>
                  <a:ext cx="288000" cy="4237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608" name=""/>
                <p:cNvGrpSpPr/>
                <p:nvPr/>
              </p:nvGrpSpPr>
              <p:grpSpPr>
                <a:xfrm>
                  <a:off x="909720" y="4595760"/>
                  <a:ext cx="408960" cy="744120"/>
                  <a:chOff x="909720" y="4595760"/>
                  <a:chExt cx="408960" cy="744120"/>
                </a:xfrm>
              </p:grpSpPr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909720" y="4595760"/>
                    <a:ext cx="408960" cy="744120"/>
                    <a:chOff x="909720" y="4595760"/>
                    <a:chExt cx="408960" cy="744120"/>
                  </a:xfrm>
                </p:grpSpPr>
                <p:pic>
                  <p:nvPicPr>
                    <p:cNvPr id="261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 rot="5340000">
                      <a:off x="653760" y="4859280"/>
                      <a:ext cx="71928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 rot="5340000">
                      <a:off x="814680" y="4840560"/>
                      <a:ext cx="73692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612" name=""/>
                  <p:cNvSpPr/>
                  <p:nvPr/>
                </p:nvSpPr>
                <p:spPr>
                  <a:xfrm flipH="1" rot="16260000">
                    <a:off x="1116720" y="5111280"/>
                    <a:ext cx="705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 rot="16260000">
                    <a:off x="1118880" y="5010480"/>
                    <a:ext cx="705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rot="16260000">
                    <a:off x="1117800" y="4934880"/>
                    <a:ext cx="579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rot="16260000">
                    <a:off x="965160" y="5033160"/>
                    <a:ext cx="9360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rot="16260000">
                    <a:off x="955080" y="5113080"/>
                    <a:ext cx="99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617" name="" descr=""/>
              <p:cNvPicPr/>
              <p:nvPr/>
            </p:nvPicPr>
            <p:blipFill>
              <a:blip r:embed="rId18"/>
              <a:stretch/>
            </p:blipFill>
            <p:spPr>
              <a:xfrm rot="4380000">
                <a:off x="1201680" y="4962600"/>
                <a:ext cx="864720" cy="72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8" name="" descr=""/>
              <p:cNvPicPr/>
              <p:nvPr/>
            </p:nvPicPr>
            <p:blipFill>
              <a:blip r:embed="rId19"/>
              <a:stretch/>
            </p:blipFill>
            <p:spPr>
              <a:xfrm rot="4380000">
                <a:off x="1384200" y="4956120"/>
                <a:ext cx="5032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9" name=""/>
              <p:cNvSpPr/>
              <p:nvPr/>
            </p:nvSpPr>
            <p:spPr>
              <a:xfrm flipH="1" rot="17220000">
                <a:off x="1855440" y="5462280"/>
                <a:ext cx="5940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1493640" y="4829040"/>
              <a:ext cx="1166400" cy="1027800"/>
              <a:chOff x="1493640" y="4829040"/>
              <a:chExt cx="1166400" cy="1027800"/>
            </a:xfrm>
          </p:grpSpPr>
          <p:pic>
            <p:nvPicPr>
              <p:cNvPr id="2621" name="" descr=""/>
              <p:cNvPicPr/>
              <p:nvPr/>
            </p:nvPicPr>
            <p:blipFill>
              <a:blip r:embed="rId20"/>
              <a:stretch/>
            </p:blipFill>
            <p:spPr>
              <a:xfrm rot="3420000">
                <a:off x="1576800" y="5098680"/>
                <a:ext cx="721440" cy="5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2" name="" descr=""/>
              <p:cNvPicPr/>
              <p:nvPr/>
            </p:nvPicPr>
            <p:blipFill>
              <a:blip r:embed="rId21"/>
              <a:stretch/>
            </p:blipFill>
            <p:spPr>
              <a:xfrm rot="18120000">
                <a:off x="1838880" y="5257800"/>
                <a:ext cx="41940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3" name=""/>
              <p:cNvSpPr/>
              <p:nvPr/>
            </p:nvSpPr>
            <p:spPr>
              <a:xfrm rot="3420000">
                <a:off x="1749960" y="555768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rot="3480000">
                <a:off x="2026080" y="4935960"/>
                <a:ext cx="201960" cy="2703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25" name=""/>
              <p:cNvGrpSpPr/>
              <p:nvPr/>
            </p:nvGrpSpPr>
            <p:grpSpPr>
              <a:xfrm>
                <a:off x="2030760" y="4829040"/>
                <a:ext cx="629280" cy="653760"/>
                <a:chOff x="2030760" y="4829040"/>
                <a:chExt cx="629280" cy="653760"/>
              </a:xfrm>
            </p:grpSpPr>
            <p:grpSp>
              <p:nvGrpSpPr>
                <p:cNvPr id="2626" name=""/>
                <p:cNvGrpSpPr/>
                <p:nvPr/>
              </p:nvGrpSpPr>
              <p:grpSpPr>
                <a:xfrm>
                  <a:off x="2030760" y="4829040"/>
                  <a:ext cx="629280" cy="653760"/>
                  <a:chOff x="2030760" y="4829040"/>
                  <a:chExt cx="629280" cy="653760"/>
                </a:xfrm>
              </p:grpSpPr>
              <p:pic>
                <p:nvPicPr>
                  <p:cNvPr id="26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19920000">
                    <a:off x="2135520" y="4932000"/>
                    <a:ext cx="4986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2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19920000">
                    <a:off x="2073600" y="5069880"/>
                    <a:ext cx="5101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29" name=""/>
                <p:cNvSpPr/>
                <p:nvPr/>
              </p:nvSpPr>
              <p:spPr>
                <a:xfrm flipH="1" rot="1680000">
                  <a:off x="2175480" y="5048640"/>
                  <a:ext cx="4752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 rot="1680000">
                  <a:off x="2237760" y="5081760"/>
                  <a:ext cx="47520" cy="11628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680000">
                  <a:off x="2309040" y="5131080"/>
                  <a:ext cx="38160" cy="723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flipH="1" rot="1680000">
                  <a:off x="2283480" y="5030640"/>
                  <a:ext cx="61920" cy="565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 rot="1680000">
                  <a:off x="2232720" y="4997520"/>
                  <a:ext cx="67320" cy="637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34" name=""/>
            <p:cNvGrpSpPr/>
            <p:nvPr/>
          </p:nvGrpSpPr>
          <p:grpSpPr>
            <a:xfrm>
              <a:off x="1526400" y="4308840"/>
              <a:ext cx="1051560" cy="921240"/>
              <a:chOff x="1526400" y="4308840"/>
              <a:chExt cx="1051560" cy="921240"/>
            </a:xfrm>
          </p:grpSpPr>
          <p:pic>
            <p:nvPicPr>
              <p:cNvPr id="2635" name="" descr=""/>
              <p:cNvPicPr/>
              <p:nvPr/>
            </p:nvPicPr>
            <p:blipFill>
              <a:blip r:embed="rId24"/>
              <a:stretch/>
            </p:blipFill>
            <p:spPr>
              <a:xfrm rot="3420000">
                <a:off x="1602720" y="4547880"/>
                <a:ext cx="645120" cy="53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6" name="" descr=""/>
              <p:cNvPicPr/>
              <p:nvPr/>
            </p:nvPicPr>
            <p:blipFill>
              <a:blip r:embed="rId25"/>
              <a:stretch/>
            </p:blipFill>
            <p:spPr>
              <a:xfrm rot="18120000">
                <a:off x="1837800" y="4693320"/>
                <a:ext cx="3740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7" name=""/>
              <p:cNvSpPr/>
              <p:nvPr/>
            </p:nvSpPr>
            <p:spPr>
              <a:xfrm rot="3420000">
                <a:off x="1755360" y="4961880"/>
                <a:ext cx="43920" cy="201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 rot="3480000">
                <a:off x="2008800" y="4406040"/>
                <a:ext cx="181440" cy="2458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39" name=""/>
              <p:cNvGrpSpPr/>
              <p:nvPr/>
            </p:nvGrpSpPr>
            <p:grpSpPr>
              <a:xfrm>
                <a:off x="2010960" y="4308840"/>
                <a:ext cx="567000" cy="588600"/>
                <a:chOff x="2010960" y="4308840"/>
                <a:chExt cx="567000" cy="5886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2010960" y="4308840"/>
                  <a:ext cx="567000" cy="588600"/>
                  <a:chOff x="2010960" y="4308840"/>
                  <a:chExt cx="567000" cy="588600"/>
                </a:xfrm>
              </p:grpSpPr>
              <p:pic>
                <p:nvPicPr>
                  <p:cNvPr id="26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19920000">
                    <a:off x="2105640" y="4401720"/>
                    <a:ext cx="449280" cy="2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4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19920000">
                    <a:off x="2049840" y="4524120"/>
                    <a:ext cx="46080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43" name=""/>
                <p:cNvSpPr/>
                <p:nvPr/>
              </p:nvSpPr>
              <p:spPr>
                <a:xfrm flipH="1" rot="1680000">
                  <a:off x="2139480" y="4507920"/>
                  <a:ext cx="43560" cy="102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 rot="1680000">
                  <a:off x="2196000" y="4537080"/>
                  <a:ext cx="43560" cy="102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 rot="1680000">
                  <a:off x="2261880" y="4582800"/>
                  <a:ext cx="34200" cy="640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H="1" rot="1680000">
                  <a:off x="2238120" y="4491720"/>
                  <a:ext cx="56160" cy="504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 rot="1680000">
                  <a:off x="2190960" y="4461840"/>
                  <a:ext cx="59760" cy="568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48" name=""/>
            <p:cNvGrpSpPr/>
            <p:nvPr/>
          </p:nvGrpSpPr>
          <p:grpSpPr>
            <a:xfrm>
              <a:off x="983880" y="4110840"/>
              <a:ext cx="1130040" cy="1236240"/>
              <a:chOff x="983880" y="4110840"/>
              <a:chExt cx="1130040" cy="1236240"/>
            </a:xfrm>
          </p:grpSpPr>
          <p:pic>
            <p:nvPicPr>
              <p:cNvPr id="2649" name="" descr=""/>
              <p:cNvPicPr/>
              <p:nvPr/>
            </p:nvPicPr>
            <p:blipFill>
              <a:blip r:embed="rId28"/>
              <a:stretch/>
            </p:blipFill>
            <p:spPr>
              <a:xfrm rot="1380000">
                <a:off x="1096920" y="4476600"/>
                <a:ext cx="804960" cy="74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0" name="" descr=""/>
              <p:cNvPicPr/>
              <p:nvPr/>
            </p:nvPicPr>
            <p:blipFill>
              <a:blip r:embed="rId29"/>
              <a:stretch/>
            </p:blipFill>
            <p:spPr>
              <a:xfrm rot="20220000">
                <a:off x="1407240" y="4583880"/>
                <a:ext cx="46620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1" name=""/>
              <p:cNvSpPr/>
              <p:nvPr/>
            </p:nvSpPr>
            <p:spPr>
              <a:xfrm rot="1380000">
                <a:off x="1414440" y="5110920"/>
                <a:ext cx="54720" cy="302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rot="1380000">
                <a:off x="1379520" y="4241880"/>
                <a:ext cx="225720" cy="3416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53" name=""/>
              <p:cNvGrpSpPr/>
              <p:nvPr/>
            </p:nvGrpSpPr>
            <p:grpSpPr>
              <a:xfrm>
                <a:off x="1452240" y="4110840"/>
                <a:ext cx="661680" cy="433080"/>
                <a:chOff x="1452240" y="4110840"/>
                <a:chExt cx="661680" cy="433080"/>
              </a:xfrm>
            </p:grpSpPr>
            <p:grpSp>
              <p:nvGrpSpPr>
                <p:cNvPr id="2654" name=""/>
                <p:cNvGrpSpPr/>
                <p:nvPr/>
              </p:nvGrpSpPr>
              <p:grpSpPr>
                <a:xfrm>
                  <a:off x="1452240" y="4110840"/>
                  <a:ext cx="661680" cy="433080"/>
                  <a:chOff x="1452240" y="4110840"/>
                  <a:chExt cx="661680" cy="433080"/>
                </a:xfrm>
              </p:grpSpPr>
              <p:pic>
                <p:nvPicPr>
                  <p:cNvPr id="265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420000">
                    <a:off x="1460160" y="4147920"/>
                    <a:ext cx="62352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5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420000">
                    <a:off x="1464120" y="4274280"/>
                    <a:ext cx="637920" cy="23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57" name=""/>
                <p:cNvSpPr/>
                <p:nvPr/>
              </p:nvSpPr>
              <p:spPr>
                <a:xfrm flipH="1" rot="21180000">
                  <a:off x="1550880" y="4316760"/>
                  <a:ext cx="59760" cy="129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rot="21180000">
                  <a:off x="1637640" y="4305960"/>
                  <a:ext cx="59760" cy="129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rot="21180000">
                  <a:off x="1734480" y="4313520"/>
                  <a:ext cx="48960" cy="817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rot="21180000">
                  <a:off x="1629000" y="4231080"/>
                  <a:ext cx="79560" cy="6408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 rot="21180000">
                  <a:off x="1555200" y="4232880"/>
                  <a:ext cx="84600" cy="70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2662" name=""/>
            <p:cNvGrpSpPr/>
            <p:nvPr/>
          </p:nvGrpSpPr>
          <p:grpSpPr>
            <a:xfrm>
              <a:off x="2325600" y="5488200"/>
              <a:ext cx="998280" cy="1307160"/>
              <a:chOff x="2325600" y="5488200"/>
              <a:chExt cx="998280" cy="1307160"/>
            </a:xfrm>
          </p:grpSpPr>
          <p:grpSp>
            <p:nvGrpSpPr>
              <p:cNvPr id="2663" name=""/>
              <p:cNvGrpSpPr/>
              <p:nvPr/>
            </p:nvGrpSpPr>
            <p:grpSpPr>
              <a:xfrm>
                <a:off x="2479320" y="5488200"/>
                <a:ext cx="844560" cy="723960"/>
                <a:chOff x="2479320" y="5488200"/>
                <a:chExt cx="844560" cy="723960"/>
              </a:xfrm>
            </p:grpSpPr>
            <p:sp>
              <p:nvSpPr>
                <p:cNvPr id="2664" name=""/>
                <p:cNvSpPr/>
                <p:nvPr/>
              </p:nvSpPr>
              <p:spPr>
                <a:xfrm flipH="1" rot="660000">
                  <a:off x="2511000" y="5819040"/>
                  <a:ext cx="259560" cy="3571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665" name=""/>
                <p:cNvGrpSpPr/>
                <p:nvPr/>
              </p:nvGrpSpPr>
              <p:grpSpPr>
                <a:xfrm>
                  <a:off x="2545920" y="5488200"/>
                  <a:ext cx="777960" cy="723960"/>
                  <a:chOff x="2545920" y="5488200"/>
                  <a:chExt cx="777960" cy="723960"/>
                </a:xfrm>
              </p:grpSpPr>
              <p:grpSp>
                <p:nvGrpSpPr>
                  <p:cNvPr id="2666" name=""/>
                  <p:cNvGrpSpPr/>
                  <p:nvPr/>
                </p:nvGrpSpPr>
                <p:grpSpPr>
                  <a:xfrm>
                    <a:off x="2545920" y="5488200"/>
                    <a:ext cx="777960" cy="723960"/>
                    <a:chOff x="2545920" y="5488200"/>
                    <a:chExt cx="777960" cy="723960"/>
                  </a:xfrm>
                </p:grpSpPr>
                <p:pic>
                  <p:nvPicPr>
                    <p:cNvPr id="266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 rot="1140000">
                      <a:off x="2570040" y="5589360"/>
                      <a:ext cx="6670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8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 rot="1140000">
                      <a:off x="2603520" y="5766480"/>
                      <a:ext cx="682920" cy="34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669" name=""/>
                  <p:cNvSpPr/>
                  <p:nvPr/>
                </p:nvSpPr>
                <p:spPr>
                  <a:xfrm flipH="1" rot="20460000">
                    <a:off x="2705040" y="5875920"/>
                    <a:ext cx="64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 rot="20460000">
                    <a:off x="2791080" y="5845680"/>
                    <a:ext cx="64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H="1" rot="20460000">
                    <a:off x="2886840" y="5835960"/>
                    <a:ext cx="52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H="1" rot="20460000">
                    <a:off x="2755440" y="5766840"/>
                    <a:ext cx="842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 rot="20460000">
                    <a:off x="2679480" y="5782320"/>
                    <a:ext cx="892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674" name="" descr=""/>
              <p:cNvPicPr/>
              <p:nvPr/>
            </p:nvPicPr>
            <p:blipFill>
              <a:blip r:embed="rId34"/>
              <a:stretch/>
            </p:blipFill>
            <p:spPr>
              <a:xfrm rot="240000">
                <a:off x="2347920" y="6095520"/>
                <a:ext cx="82260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5" name="" descr=""/>
              <p:cNvPicPr/>
              <p:nvPr/>
            </p:nvPicPr>
            <p:blipFill>
              <a:blip r:embed="rId35"/>
              <a:stretch/>
            </p:blipFill>
            <p:spPr>
              <a:xfrm rot="240000">
                <a:off x="2649600" y="6173280"/>
                <a:ext cx="478440" cy="4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"/>
              <p:cNvSpPr/>
              <p:nvPr/>
            </p:nvSpPr>
            <p:spPr>
              <a:xfrm flipH="1" rot="21360000">
                <a:off x="2679120" y="6684480"/>
                <a:ext cx="5652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2677" name=""/>
          <p:cNvGrpSpPr/>
          <p:nvPr/>
        </p:nvGrpSpPr>
        <p:grpSpPr>
          <a:xfrm>
            <a:off x="213120" y="1519560"/>
            <a:ext cx="3372120" cy="2808720"/>
            <a:chOff x="213120" y="1519560"/>
            <a:chExt cx="3372120" cy="2808720"/>
          </a:xfrm>
        </p:grpSpPr>
        <p:grpSp>
          <p:nvGrpSpPr>
            <p:cNvPr id="2678" name=""/>
            <p:cNvGrpSpPr/>
            <p:nvPr/>
          </p:nvGrpSpPr>
          <p:grpSpPr>
            <a:xfrm>
              <a:off x="974160" y="1519560"/>
              <a:ext cx="466920" cy="880560"/>
              <a:chOff x="974160" y="1519560"/>
              <a:chExt cx="466920" cy="880560"/>
            </a:xfrm>
          </p:grpSpPr>
          <p:sp>
            <p:nvSpPr>
              <p:cNvPr id="2679" name=""/>
              <p:cNvSpPr/>
              <p:nvPr/>
            </p:nvSpPr>
            <p:spPr>
              <a:xfrm flipH="1" rot="18060000">
                <a:off x="1072800" y="1994400"/>
                <a:ext cx="268560" cy="383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80" name=""/>
              <p:cNvGrpSpPr/>
              <p:nvPr/>
            </p:nvGrpSpPr>
            <p:grpSpPr>
              <a:xfrm>
                <a:off x="976320" y="1519560"/>
                <a:ext cx="372240" cy="692640"/>
                <a:chOff x="976320" y="1519560"/>
                <a:chExt cx="372240" cy="692640"/>
              </a:xfrm>
            </p:grpSpPr>
            <p:grpSp>
              <p:nvGrpSpPr>
                <p:cNvPr id="2681" name=""/>
                <p:cNvGrpSpPr/>
                <p:nvPr/>
              </p:nvGrpSpPr>
              <p:grpSpPr>
                <a:xfrm>
                  <a:off x="976320" y="1519560"/>
                  <a:ext cx="372240" cy="692640"/>
                  <a:chOff x="976320" y="1519560"/>
                  <a:chExt cx="372240" cy="692640"/>
                </a:xfrm>
              </p:grpSpPr>
              <p:pic>
                <p:nvPicPr>
                  <p:cNvPr id="26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 rot="5340000">
                    <a:off x="735480" y="1767240"/>
                    <a:ext cx="669600" cy="1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83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 rot="5340000">
                    <a:off x="883080" y="1750680"/>
                    <a:ext cx="68616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84" name=""/>
                <p:cNvSpPr/>
                <p:nvPr/>
              </p:nvSpPr>
              <p:spPr>
                <a:xfrm flipH="1" rot="16260000">
                  <a:off x="1165320" y="2001960"/>
                  <a:ext cx="65880" cy="15912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rot="16260000">
                  <a:off x="1167120" y="190764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rot="16260000">
                  <a:off x="1166760" y="1836720"/>
                  <a:ext cx="54000" cy="1011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 rot="16260000">
                  <a:off x="1026360" y="192744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 rot="16260000">
                  <a:off x="1018440" y="2001960"/>
                  <a:ext cx="92160" cy="86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pic>
          <p:nvPicPr>
            <p:cNvPr id="2689" name="" descr=""/>
            <p:cNvPicPr/>
            <p:nvPr/>
          </p:nvPicPr>
          <p:blipFill>
            <a:blip r:embed="rId38"/>
            <a:stretch/>
          </p:blipFill>
          <p:spPr>
            <a:xfrm rot="4380000">
              <a:off x="1234800" y="1868400"/>
              <a:ext cx="80496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0" name="" descr=""/>
            <p:cNvPicPr/>
            <p:nvPr/>
          </p:nvPicPr>
          <p:blipFill>
            <a:blip r:embed="rId39"/>
            <a:stretch/>
          </p:blipFill>
          <p:spPr>
            <a:xfrm rot="4380000">
              <a:off x="1402560" y="1859400"/>
              <a:ext cx="4683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1" name=""/>
            <p:cNvSpPr/>
            <p:nvPr/>
          </p:nvSpPr>
          <p:spPr>
            <a:xfrm flipH="1" rot="17220000">
              <a:off x="1834200" y="232596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2692" name="" descr=""/>
            <p:cNvPicPr/>
            <p:nvPr/>
          </p:nvPicPr>
          <p:blipFill>
            <a:blip r:embed="rId40"/>
            <a:stretch/>
          </p:blipFill>
          <p:spPr>
            <a:xfrm>
              <a:off x="676440" y="2820960"/>
              <a:ext cx="21873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1"/>
            <a:stretch/>
          </p:blipFill>
          <p:spPr>
            <a:xfrm>
              <a:off x="660600" y="2570040"/>
              <a:ext cx="2228760" cy="50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4" name=""/>
            <p:cNvGrpSpPr/>
            <p:nvPr/>
          </p:nvGrpSpPr>
          <p:grpSpPr>
            <a:xfrm>
              <a:off x="642960" y="2015280"/>
              <a:ext cx="2223720" cy="905760"/>
              <a:chOff x="642960" y="2015280"/>
              <a:chExt cx="2223720" cy="905760"/>
            </a:xfrm>
          </p:grpSpPr>
          <p:sp>
            <p:nvSpPr>
              <p:cNvPr id="2695" name=""/>
              <p:cNvSpPr/>
              <p:nvPr/>
            </p:nvSpPr>
            <p:spPr>
              <a:xfrm rot="5160000">
                <a:off x="2521440" y="2606760"/>
                <a:ext cx="334800" cy="7776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696" name=""/>
              <p:cNvGrpSpPr/>
              <p:nvPr/>
            </p:nvGrpSpPr>
            <p:grpSpPr>
              <a:xfrm>
                <a:off x="642960" y="2015280"/>
                <a:ext cx="2223720" cy="905760"/>
                <a:chOff x="642960" y="2015280"/>
                <a:chExt cx="2223720" cy="905760"/>
              </a:xfrm>
            </p:grpSpPr>
            <p:sp>
              <p:nvSpPr>
                <p:cNvPr id="2697" name=""/>
                <p:cNvSpPr/>
                <p:nvPr/>
              </p:nvSpPr>
              <p:spPr>
                <a:xfrm rot="20580000">
                  <a:off x="650880" y="2688840"/>
                  <a:ext cx="304200" cy="824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788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20580000">
                  <a:off x="730800" y="2572920"/>
                  <a:ext cx="297720" cy="101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788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21000000">
                  <a:off x="802080" y="2479320"/>
                  <a:ext cx="298080" cy="101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318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700" name=""/>
                <p:cNvGrpSpPr/>
                <p:nvPr/>
              </p:nvGrpSpPr>
              <p:grpSpPr>
                <a:xfrm>
                  <a:off x="897840" y="2205720"/>
                  <a:ext cx="529200" cy="303840"/>
                  <a:chOff x="897840" y="2205720"/>
                  <a:chExt cx="529200" cy="30384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 rot="300000">
                    <a:off x="901440" y="2397240"/>
                    <a:ext cx="310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rot="300000">
                    <a:off x="1011600" y="2307240"/>
                    <a:ext cx="3042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rot="780000">
                    <a:off x="1112400" y="2238120"/>
                    <a:ext cx="3045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04" name=""/>
                <p:cNvGrpSpPr/>
                <p:nvPr/>
              </p:nvGrpSpPr>
              <p:grpSpPr>
                <a:xfrm>
                  <a:off x="1206720" y="2039040"/>
                  <a:ext cx="586440" cy="388080"/>
                  <a:chOff x="1206720" y="2039040"/>
                  <a:chExt cx="586440" cy="388080"/>
                </a:xfrm>
              </p:grpSpPr>
              <p:sp>
                <p:nvSpPr>
                  <p:cNvPr id="2705" name=""/>
                  <p:cNvSpPr/>
                  <p:nvPr/>
                </p:nvSpPr>
                <p:spPr>
                  <a:xfrm rot="1380000">
                    <a:off x="1224720" y="2218320"/>
                    <a:ext cx="30852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rot="1380000">
                    <a:off x="1350000" y="2144160"/>
                    <a:ext cx="30240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rot="1860000">
                    <a:off x="1463400" y="2103120"/>
                    <a:ext cx="30240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08" name=""/>
                <p:cNvGrpSpPr/>
                <p:nvPr/>
              </p:nvGrpSpPr>
              <p:grpSpPr>
                <a:xfrm>
                  <a:off x="1551600" y="2015280"/>
                  <a:ext cx="609120" cy="392760"/>
                  <a:chOff x="1551600" y="2015280"/>
                  <a:chExt cx="609120" cy="392760"/>
                </a:xfrm>
              </p:grpSpPr>
              <p:sp>
                <p:nvSpPr>
                  <p:cNvPr id="2709" name=""/>
                  <p:cNvSpPr/>
                  <p:nvPr/>
                </p:nvSpPr>
                <p:spPr>
                  <a:xfrm rot="2220000">
                    <a:off x="1588320" y="2115360"/>
                    <a:ext cx="287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rot="2220000">
                    <a:off x="1712520" y="2079360"/>
                    <a:ext cx="28260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rot="2640000">
                    <a:off x="1823040" y="2075040"/>
                    <a:ext cx="282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12" name=""/>
                <p:cNvGrpSpPr/>
                <p:nvPr/>
              </p:nvGrpSpPr>
              <p:grpSpPr>
                <a:xfrm>
                  <a:off x="1851840" y="2088720"/>
                  <a:ext cx="632160" cy="435240"/>
                  <a:chOff x="1851840" y="2088720"/>
                  <a:chExt cx="632160" cy="435240"/>
                </a:xfrm>
              </p:grpSpPr>
              <p:sp>
                <p:nvSpPr>
                  <p:cNvPr id="2713" name=""/>
                  <p:cNvSpPr/>
                  <p:nvPr/>
                </p:nvSpPr>
                <p:spPr>
                  <a:xfrm rot="3240000">
                    <a:off x="1830240" y="2197800"/>
                    <a:ext cx="3283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rot="3240000">
                    <a:off x="2016360" y="2231280"/>
                    <a:ext cx="3211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rot="3660000">
                    <a:off x="2182320" y="2277360"/>
                    <a:ext cx="322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grpSp>
              <p:nvGrpSpPr>
                <p:cNvPr id="2716" name=""/>
                <p:cNvGrpSpPr/>
                <p:nvPr/>
              </p:nvGrpSpPr>
              <p:grpSpPr>
                <a:xfrm>
                  <a:off x="2235240" y="2224080"/>
                  <a:ext cx="483840" cy="503640"/>
                  <a:chOff x="2235240" y="2224080"/>
                  <a:chExt cx="483840" cy="503640"/>
                </a:xfrm>
              </p:grpSpPr>
              <p:sp>
                <p:nvSpPr>
                  <p:cNvPr id="2717" name=""/>
                  <p:cNvSpPr/>
                  <p:nvPr/>
                </p:nvSpPr>
                <p:spPr>
                  <a:xfrm rot="4080000">
                    <a:off x="2175120" y="2350800"/>
                    <a:ext cx="3416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rot="4080000">
                    <a:off x="2321280" y="2413800"/>
                    <a:ext cx="3333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rot="4500000">
                    <a:off x="2448000" y="2487240"/>
                    <a:ext cx="334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33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sp>
              <p:nvSpPr>
                <p:cNvPr id="2720" name=""/>
                <p:cNvSpPr/>
                <p:nvPr/>
              </p:nvSpPr>
              <p:spPr>
                <a:xfrm rot="5160000">
                  <a:off x="2588040" y="2682360"/>
                  <a:ext cx="327240" cy="925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2436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2731320" y="2662200"/>
                  <a:ext cx="135360" cy="238320"/>
                </a:xfrm>
                <a:custGeom>
                  <a:avLst/>
                  <a:gdLst/>
                  <a:ahLst/>
                  <a:rect l="l" t="t" r="r" b="b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42960" y="2768760"/>
                  <a:ext cx="213480" cy="152280"/>
                </a:xfrm>
                <a:custGeom>
                  <a:avLst/>
                  <a:gdLst/>
                  <a:ahLst/>
                  <a:rect l="l" t="t" r="r" b="b"/>
                  <a:pathLst>
                    <a:path w="228" h="142">
                      <a:moveTo>
                        <a:pt x="145" y="96"/>
                      </a:moveTo>
                      <a:cubicBezTo>
                        <a:pt x="126" y="103"/>
                        <a:pt x="48" y="142"/>
                        <a:pt x="25" y="136"/>
                      </a:cubicBezTo>
                      <a:cubicBezTo>
                        <a:pt x="2" y="130"/>
                        <a:pt x="0" y="75"/>
                        <a:pt x="7" y="61"/>
                      </a:cubicBezTo>
                      <a:cubicBezTo>
                        <a:pt x="14" y="47"/>
                        <a:pt x="42" y="48"/>
                        <a:pt x="66" y="53"/>
                      </a:cubicBezTo>
                      <a:cubicBezTo>
                        <a:pt x="89" y="58"/>
                        <a:pt x="126" y="85"/>
                        <a:pt x="150" y="88"/>
                      </a:cubicBezTo>
                      <a:cubicBezTo>
                        <a:pt x="173" y="89"/>
                        <a:pt x="194" y="74"/>
                        <a:pt x="207" y="60"/>
                      </a:cubicBezTo>
                      <a:cubicBezTo>
                        <a:pt x="221" y="46"/>
                        <a:pt x="224" y="12"/>
                        <a:pt x="228" y="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sp>
          <p:nvSpPr>
            <p:cNvPr id="2723" name=""/>
            <p:cNvSpPr/>
            <p:nvPr/>
          </p:nvSpPr>
          <p:spPr>
            <a:xfrm rot="21300000">
              <a:off x="3051720" y="3803760"/>
              <a:ext cx="52596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2093760" y="304020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1253520" y="3027240"/>
              <a:ext cx="55440" cy="27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6" name=""/>
            <p:cNvSpPr/>
            <p:nvPr/>
          </p:nvSpPr>
          <p:spPr>
            <a:xfrm rot="21300000">
              <a:off x="220320" y="3714840"/>
              <a:ext cx="52596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7" name=""/>
            <p:cNvSpPr/>
            <p:nvPr/>
          </p:nvSpPr>
          <p:spPr>
            <a:xfrm rot="11520000">
              <a:off x="2406240" y="3024360"/>
              <a:ext cx="304560" cy="41040"/>
            </a:xfrm>
            <a:custGeom>
              <a:avLst/>
              <a:gdLst/>
              <a:ahLst/>
              <a:rect l="l" t="t" r="r" b="b"/>
              <a:pathLst>
                <a:path w="408" h="102">
                  <a:moveTo>
                    <a:pt x="0" y="99"/>
                  </a:moveTo>
                  <a:cubicBezTo>
                    <a:pt x="7" y="87"/>
                    <a:pt x="24" y="43"/>
                    <a:pt x="44" y="27"/>
                  </a:cubicBezTo>
                  <a:cubicBezTo>
                    <a:pt x="64" y="11"/>
                    <a:pt x="93" y="5"/>
                    <a:pt x="118" y="3"/>
                  </a:cubicBezTo>
                  <a:cubicBezTo>
                    <a:pt x="143" y="1"/>
                    <a:pt x="165" y="0"/>
                    <a:pt x="192" y="15"/>
                  </a:cubicBezTo>
                  <a:cubicBezTo>
                    <a:pt x="219" y="30"/>
                    <a:pt x="252" y="80"/>
                    <a:pt x="280" y="91"/>
                  </a:cubicBezTo>
                  <a:cubicBezTo>
                    <a:pt x="308" y="102"/>
                    <a:pt x="339" y="92"/>
                    <a:pt x="360" y="79"/>
                  </a:cubicBezTo>
                  <a:cubicBezTo>
                    <a:pt x="381" y="66"/>
                    <a:pt x="398" y="25"/>
                    <a:pt x="408" y="10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8844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8" name=""/>
            <p:cNvSpPr/>
            <p:nvPr/>
          </p:nvSpPr>
          <p:spPr>
            <a:xfrm rot="11760000">
              <a:off x="2496960" y="3007800"/>
              <a:ext cx="29772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9" name=""/>
            <p:cNvSpPr/>
            <p:nvPr/>
          </p:nvSpPr>
          <p:spPr>
            <a:xfrm rot="11520000">
              <a:off x="2297880" y="3036600"/>
              <a:ext cx="299520" cy="522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8808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30" name=""/>
            <p:cNvGrpSpPr/>
            <p:nvPr/>
          </p:nvGrpSpPr>
          <p:grpSpPr>
            <a:xfrm>
              <a:off x="1976400" y="2986200"/>
              <a:ext cx="520200" cy="228960"/>
              <a:chOff x="1976400" y="2986200"/>
              <a:chExt cx="520200" cy="228960"/>
            </a:xfrm>
          </p:grpSpPr>
          <p:sp>
            <p:nvSpPr>
              <p:cNvPr id="2731" name=""/>
              <p:cNvSpPr/>
              <p:nvPr/>
            </p:nvSpPr>
            <p:spPr>
              <a:xfrm rot="11460000">
                <a:off x="2185200" y="3014280"/>
                <a:ext cx="306360" cy="8136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rot="11460000">
                <a:off x="2083680" y="3040200"/>
                <a:ext cx="299880" cy="10296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rot="11880000">
                <a:off x="1984680" y="3067560"/>
                <a:ext cx="299880" cy="10368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34" name=""/>
            <p:cNvGrpSpPr/>
            <p:nvPr/>
          </p:nvGrpSpPr>
          <p:grpSpPr>
            <a:xfrm>
              <a:off x="1644840" y="2982960"/>
              <a:ext cx="532800" cy="265680"/>
              <a:chOff x="1644840" y="2982960"/>
              <a:chExt cx="532800" cy="265680"/>
            </a:xfrm>
          </p:grpSpPr>
          <p:sp>
            <p:nvSpPr>
              <p:cNvPr id="2735" name=""/>
              <p:cNvSpPr/>
              <p:nvPr/>
            </p:nvSpPr>
            <p:spPr>
              <a:xfrm rot="11820000">
                <a:off x="1864080" y="3024360"/>
                <a:ext cx="302400" cy="11952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11820000">
                <a:off x="1760400" y="3024000"/>
                <a:ext cx="296280" cy="15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rot="12240000">
                <a:off x="1662840" y="3042720"/>
                <a:ext cx="296280" cy="1519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1351440" y="2941920"/>
              <a:ext cx="518400" cy="310320"/>
              <a:chOff x="1351440" y="2941920"/>
              <a:chExt cx="518400" cy="310320"/>
            </a:xfrm>
          </p:grpSpPr>
          <p:sp>
            <p:nvSpPr>
              <p:cNvPr id="2739" name=""/>
              <p:cNvSpPr/>
              <p:nvPr/>
            </p:nvSpPr>
            <p:spPr>
              <a:xfrm rot="12300000">
                <a:off x="1570320" y="3053880"/>
                <a:ext cx="282240" cy="14364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rot="12300000">
                <a:off x="1472400" y="3023640"/>
                <a:ext cx="277560" cy="17820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rot="12780000">
                <a:off x="1377360" y="3002760"/>
                <a:ext cx="277560" cy="17820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587520" y="2779920"/>
              <a:ext cx="719640" cy="401400"/>
              <a:chOff x="587520" y="2779920"/>
              <a:chExt cx="719640" cy="401400"/>
            </a:xfrm>
          </p:grpSpPr>
          <p:grpSp>
            <p:nvGrpSpPr>
              <p:cNvPr id="2743" name=""/>
              <p:cNvGrpSpPr/>
              <p:nvPr/>
            </p:nvGrpSpPr>
            <p:grpSpPr>
              <a:xfrm>
                <a:off x="727200" y="2841120"/>
                <a:ext cx="579960" cy="340200"/>
                <a:chOff x="727200" y="2841120"/>
                <a:chExt cx="579960" cy="340200"/>
              </a:xfrm>
            </p:grpSpPr>
            <p:sp>
              <p:nvSpPr>
                <p:cNvPr id="2744" name=""/>
                <p:cNvSpPr/>
                <p:nvPr/>
              </p:nvSpPr>
              <p:spPr>
                <a:xfrm rot="16200000">
                  <a:off x="679680" y="2888640"/>
                  <a:ext cx="179640" cy="8460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14460000">
                  <a:off x="1158480" y="3055320"/>
                  <a:ext cx="153360" cy="7920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1502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14880000">
                  <a:off x="993600" y="3027600"/>
                  <a:ext cx="150120" cy="9792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194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587520" y="2779920"/>
                <a:ext cx="643320" cy="399240"/>
                <a:chOff x="587520" y="2779920"/>
                <a:chExt cx="643320" cy="399240"/>
              </a:xfrm>
            </p:grpSpPr>
            <p:grpSp>
              <p:nvGrpSpPr>
                <p:cNvPr id="2748" name=""/>
                <p:cNvGrpSpPr/>
                <p:nvPr/>
              </p:nvGrpSpPr>
              <p:grpSpPr>
                <a:xfrm>
                  <a:off x="657360" y="2792520"/>
                  <a:ext cx="573480" cy="386640"/>
                  <a:chOff x="657360" y="2792520"/>
                  <a:chExt cx="573480" cy="38664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 rot="14460000">
                    <a:off x="1074600" y="3039480"/>
                    <a:ext cx="1519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150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grpSp>
                <p:nvGrpSpPr>
                  <p:cNvPr id="2750" name=""/>
                  <p:cNvGrpSpPr/>
                  <p:nvPr/>
                </p:nvGrpSpPr>
                <p:grpSpPr>
                  <a:xfrm>
                    <a:off x="745920" y="2880000"/>
                    <a:ext cx="342000" cy="283680"/>
                    <a:chOff x="745920" y="2880000"/>
                    <a:chExt cx="342000" cy="283680"/>
                  </a:xfrm>
                </p:grpSpPr>
                <p:sp>
                  <p:nvSpPr>
                    <p:cNvPr id="2751" name=""/>
                    <p:cNvSpPr/>
                    <p:nvPr/>
                  </p:nvSpPr>
                  <p:spPr>
                    <a:xfrm rot="15120000">
                      <a:off x="916560" y="3010320"/>
                      <a:ext cx="1947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174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 rot="15120000">
                      <a:off x="817560" y="2965320"/>
                      <a:ext cx="1893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174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 rot="15540000">
                      <a:off x="725040" y="2926800"/>
                      <a:ext cx="1893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2606000"/>
                    </a:gradFill>
                    <a:ln w="9360">
                      <a:solidFill>
                        <a:srgbClr val="00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p:txBody>
                </p:sp>
              </p:grpSp>
              <p:sp>
                <p:nvSpPr>
                  <p:cNvPr id="2754" name=""/>
                  <p:cNvSpPr/>
                  <p:nvPr/>
                </p:nvSpPr>
                <p:spPr>
                  <a:xfrm rot="16200000">
                    <a:off x="618120" y="2831400"/>
                    <a:ext cx="17856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3242000"/>
                  </a:gradFill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  <p:sp>
              <p:nvSpPr>
                <p:cNvPr id="2755" name=""/>
                <p:cNvSpPr/>
                <p:nvPr/>
              </p:nvSpPr>
              <p:spPr>
                <a:xfrm rot="11040000">
                  <a:off x="591480" y="2784600"/>
                  <a:ext cx="136800" cy="125280"/>
                </a:xfrm>
                <a:custGeom>
                  <a:avLst/>
                  <a:gdLst/>
                  <a:ahLst/>
                  <a:rect l="l" t="t" r="r" b="b"/>
                  <a:pathLst>
                    <a:path w="145" h="221">
                      <a:moveTo>
                        <a:pt x="72" y="0"/>
                      </a:moveTo>
                      <a:cubicBezTo>
                        <a:pt x="82" y="7"/>
                        <a:pt x="115" y="23"/>
                        <a:pt x="127" y="39"/>
                      </a:cubicBezTo>
                      <a:cubicBezTo>
                        <a:pt x="139" y="57"/>
                        <a:pt x="145" y="86"/>
                        <a:pt x="144" y="106"/>
                      </a:cubicBezTo>
                      <a:cubicBezTo>
                        <a:pt x="143" y="125"/>
                        <a:pt x="139" y="141"/>
                        <a:pt x="123" y="158"/>
                      </a:cubicBezTo>
                      <a:cubicBezTo>
                        <a:pt x="107" y="176"/>
                        <a:pt x="69" y="203"/>
                        <a:pt x="50" y="212"/>
                      </a:cubicBezTo>
                      <a:cubicBezTo>
                        <a:pt x="31" y="221"/>
                        <a:pt x="12" y="213"/>
                        <a:pt x="6" y="214"/>
                      </a:cubicBezTo>
                      <a:cubicBezTo>
                        <a:pt x="0" y="215"/>
                        <a:pt x="12" y="217"/>
                        <a:pt x="14" y="21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8100000"/>
                </a:gradFill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sp>
          <p:nvSpPr>
            <p:cNvPr id="2756" name=""/>
            <p:cNvSpPr/>
            <p:nvPr/>
          </p:nvSpPr>
          <p:spPr>
            <a:xfrm rot="12720000">
              <a:off x="2676600" y="2932920"/>
              <a:ext cx="214920" cy="79560"/>
            </a:xfrm>
            <a:custGeom>
              <a:avLst/>
              <a:gdLst/>
              <a:ahLst/>
              <a:rect l="l" t="t" r="r" b="b"/>
              <a:pathLst>
                <a:path w="228" h="142">
                  <a:moveTo>
                    <a:pt x="145" y="96"/>
                  </a:moveTo>
                  <a:cubicBezTo>
                    <a:pt x="126" y="103"/>
                    <a:pt x="48" y="142"/>
                    <a:pt x="25" y="136"/>
                  </a:cubicBezTo>
                  <a:cubicBezTo>
                    <a:pt x="2" y="130"/>
                    <a:pt x="0" y="75"/>
                    <a:pt x="7" y="61"/>
                  </a:cubicBezTo>
                  <a:cubicBezTo>
                    <a:pt x="14" y="47"/>
                    <a:pt x="42" y="48"/>
                    <a:pt x="66" y="53"/>
                  </a:cubicBezTo>
                  <a:cubicBezTo>
                    <a:pt x="89" y="58"/>
                    <a:pt x="126" y="85"/>
                    <a:pt x="150" y="88"/>
                  </a:cubicBezTo>
                  <a:cubicBezTo>
                    <a:pt x="173" y="89"/>
                    <a:pt x="194" y="74"/>
                    <a:pt x="207" y="60"/>
                  </a:cubicBezTo>
                  <a:cubicBezTo>
                    <a:pt x="221" y="46"/>
                    <a:pt x="224" y="12"/>
                    <a:pt x="228" y="0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1002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57" name=""/>
            <p:cNvGrpSpPr/>
            <p:nvPr/>
          </p:nvGrpSpPr>
          <p:grpSpPr>
            <a:xfrm>
              <a:off x="1068480" y="2917080"/>
              <a:ext cx="507960" cy="333000"/>
              <a:chOff x="1068480" y="2917080"/>
              <a:chExt cx="507960" cy="333000"/>
            </a:xfrm>
          </p:grpSpPr>
          <p:sp>
            <p:nvSpPr>
              <p:cNvPr id="2758" name=""/>
              <p:cNvSpPr/>
              <p:nvPr/>
            </p:nvSpPr>
            <p:spPr>
              <a:xfrm rot="12480000">
                <a:off x="1279800" y="3054240"/>
                <a:ext cx="280440" cy="137880"/>
              </a:xfrm>
              <a:custGeom>
                <a:avLst/>
                <a:gdLst/>
                <a:ahLst/>
                <a:rect l="l" t="t" r="r" b="b"/>
                <a:pathLst>
                  <a:path w="408" h="102">
                    <a:moveTo>
                      <a:pt x="0" y="99"/>
                    </a:moveTo>
                    <a:cubicBezTo>
                      <a:pt x="7" y="87"/>
                      <a:pt x="24" y="43"/>
                      <a:pt x="44" y="27"/>
                    </a:cubicBezTo>
                    <a:cubicBezTo>
                      <a:pt x="64" y="11"/>
                      <a:pt x="93" y="5"/>
                      <a:pt x="118" y="3"/>
                    </a:cubicBezTo>
                    <a:cubicBezTo>
                      <a:pt x="143" y="1"/>
                      <a:pt x="165" y="0"/>
                      <a:pt x="192" y="15"/>
                    </a:cubicBezTo>
                    <a:cubicBezTo>
                      <a:pt x="219" y="30"/>
                      <a:pt x="252" y="80"/>
                      <a:pt x="280" y="91"/>
                    </a:cubicBezTo>
                    <a:cubicBezTo>
                      <a:pt x="308" y="102"/>
                      <a:pt x="339" y="92"/>
                      <a:pt x="360" y="79"/>
                    </a:cubicBezTo>
                    <a:cubicBezTo>
                      <a:pt x="381" y="66"/>
                      <a:pt x="398" y="25"/>
                      <a:pt x="408" y="1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rot="12480000">
                <a:off x="1184760" y="3009600"/>
                <a:ext cx="275400" cy="17244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rot="12900000">
                <a:off x="1092600" y="2980440"/>
                <a:ext cx="275760" cy="17244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9332000"/>
              </a:gra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761" name=""/>
            <p:cNvSpPr/>
            <p:nvPr/>
          </p:nvSpPr>
          <p:spPr>
            <a:xfrm rot="11760000">
              <a:off x="2578320" y="2979360"/>
              <a:ext cx="297720" cy="5256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0" y="97"/>
                  </a:moveTo>
                  <a:cubicBezTo>
                    <a:pt x="8" y="85"/>
                    <a:pt x="26" y="41"/>
                    <a:pt x="48" y="25"/>
                  </a:cubicBezTo>
                  <a:cubicBezTo>
                    <a:pt x="70" y="9"/>
                    <a:pt x="108" y="0"/>
                    <a:pt x="134" y="0"/>
                  </a:cubicBezTo>
                  <a:cubicBezTo>
                    <a:pt x="160" y="0"/>
                    <a:pt x="181" y="4"/>
                    <a:pt x="205" y="23"/>
                  </a:cubicBezTo>
                  <a:cubicBezTo>
                    <a:pt x="230" y="42"/>
                    <a:pt x="255" y="98"/>
                    <a:pt x="281" y="112"/>
                  </a:cubicBezTo>
                  <a:cubicBezTo>
                    <a:pt x="307" y="126"/>
                    <a:pt x="344" y="117"/>
                    <a:pt x="364" y="105"/>
                  </a:cubicBezTo>
                  <a:cubicBezTo>
                    <a:pt x="384" y="93"/>
                    <a:pt x="393" y="51"/>
                    <a:pt x="400" y="37"/>
                  </a:cubicBezTo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906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62" name=""/>
            <p:cNvGrpSpPr/>
            <p:nvPr/>
          </p:nvGrpSpPr>
          <p:grpSpPr>
            <a:xfrm>
              <a:off x="667800" y="1976760"/>
              <a:ext cx="466920" cy="880560"/>
              <a:chOff x="667800" y="1976760"/>
              <a:chExt cx="466920" cy="880560"/>
            </a:xfrm>
          </p:grpSpPr>
          <p:sp>
            <p:nvSpPr>
              <p:cNvPr id="2763" name=""/>
              <p:cNvSpPr/>
              <p:nvPr/>
            </p:nvSpPr>
            <p:spPr>
              <a:xfrm flipH="1" rot="18060000">
                <a:off x="766440" y="2451600"/>
                <a:ext cx="268560" cy="383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2764" name=""/>
              <p:cNvGrpSpPr/>
              <p:nvPr/>
            </p:nvGrpSpPr>
            <p:grpSpPr>
              <a:xfrm>
                <a:off x="670680" y="1976760"/>
                <a:ext cx="371880" cy="692640"/>
                <a:chOff x="670680" y="1976760"/>
                <a:chExt cx="371880" cy="692640"/>
              </a:xfrm>
            </p:grpSpPr>
            <p:grpSp>
              <p:nvGrpSpPr>
                <p:cNvPr id="2765" name=""/>
                <p:cNvGrpSpPr/>
                <p:nvPr/>
              </p:nvGrpSpPr>
              <p:grpSpPr>
                <a:xfrm>
                  <a:off x="670680" y="1976760"/>
                  <a:ext cx="371880" cy="692640"/>
                  <a:chOff x="670680" y="1976760"/>
                  <a:chExt cx="371880" cy="692640"/>
                </a:xfrm>
              </p:grpSpPr>
              <p:pic>
                <p:nvPicPr>
                  <p:cNvPr id="276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340000">
                    <a:off x="429840" y="2224800"/>
                    <a:ext cx="66960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67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340000">
                    <a:off x="577080" y="2207880"/>
                    <a:ext cx="68616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768" name=""/>
                <p:cNvSpPr/>
                <p:nvPr/>
              </p:nvSpPr>
              <p:spPr>
                <a:xfrm flipH="1" rot="16260000">
                  <a:off x="859320" y="245916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rot="16260000">
                  <a:off x="860760" y="2364840"/>
                  <a:ext cx="65880" cy="1587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 rot="16260000">
                  <a:off x="860400" y="2293920"/>
                  <a:ext cx="54000" cy="10116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 rot="16260000">
                  <a:off x="718920" y="2385000"/>
                  <a:ext cx="87120" cy="774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 rot="16260000">
                  <a:off x="710280" y="2459160"/>
                  <a:ext cx="92160" cy="864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pic>
          <p:nvPicPr>
            <p:cNvPr id="2773" name="" descr=""/>
            <p:cNvPicPr/>
            <p:nvPr/>
          </p:nvPicPr>
          <p:blipFill>
            <a:blip r:embed="rId44"/>
            <a:stretch/>
          </p:blipFill>
          <p:spPr>
            <a:xfrm rot="4380000">
              <a:off x="928440" y="2325600"/>
              <a:ext cx="80496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4" name="" descr=""/>
            <p:cNvPicPr/>
            <p:nvPr/>
          </p:nvPicPr>
          <p:blipFill>
            <a:blip r:embed="rId45"/>
            <a:stretch/>
          </p:blipFill>
          <p:spPr>
            <a:xfrm rot="4380000">
              <a:off x="1098360" y="2316600"/>
              <a:ext cx="4683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5" name=""/>
            <p:cNvSpPr/>
            <p:nvPr/>
          </p:nvSpPr>
          <p:spPr>
            <a:xfrm flipH="1" rot="17220000">
              <a:off x="1529280" y="2783520"/>
              <a:ext cx="55440" cy="255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pic>
          <p:nvPicPr>
            <p:cNvPr id="2776" name="" descr=""/>
            <p:cNvPicPr/>
            <p:nvPr/>
          </p:nvPicPr>
          <p:blipFill>
            <a:blip r:embed="rId46"/>
            <a:stretch/>
          </p:blipFill>
          <p:spPr>
            <a:xfrm rot="3420000">
              <a:off x="1166400" y="2349360"/>
              <a:ext cx="8665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7" name="" descr=""/>
            <p:cNvPicPr/>
            <p:nvPr/>
          </p:nvPicPr>
          <p:blipFill>
            <a:blip r:embed="rId47"/>
            <a:stretch/>
          </p:blipFill>
          <p:spPr>
            <a:xfrm rot="18120000">
              <a:off x="1486440" y="2544480"/>
              <a:ext cx="50328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8" name=""/>
            <p:cNvSpPr/>
            <p:nvPr/>
          </p:nvSpPr>
          <p:spPr>
            <a:xfrm rot="3420000">
              <a:off x="1365840" y="2913840"/>
              <a:ext cx="60480" cy="302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 rot="3480000">
              <a:off x="1717200" y="2161800"/>
              <a:ext cx="244440" cy="33948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80" name=""/>
            <p:cNvGrpSpPr/>
            <p:nvPr/>
          </p:nvGrpSpPr>
          <p:grpSpPr>
            <a:xfrm>
              <a:off x="1719360" y="2028960"/>
              <a:ext cx="779400" cy="806400"/>
              <a:chOff x="1719360" y="2028960"/>
              <a:chExt cx="779400" cy="806400"/>
            </a:xfrm>
          </p:grpSpPr>
          <p:grpSp>
            <p:nvGrpSpPr>
              <p:cNvPr id="2781" name=""/>
              <p:cNvGrpSpPr/>
              <p:nvPr/>
            </p:nvGrpSpPr>
            <p:grpSpPr>
              <a:xfrm>
                <a:off x="1719360" y="2028960"/>
                <a:ext cx="779400" cy="806400"/>
                <a:chOff x="1719360" y="2028960"/>
                <a:chExt cx="779400" cy="806400"/>
              </a:xfrm>
            </p:grpSpPr>
            <p:pic>
              <p:nvPicPr>
                <p:cNvPr id="2782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19920000">
                  <a:off x="1848960" y="2157480"/>
                  <a:ext cx="61848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3" name="" descr=""/>
                <p:cNvPicPr/>
                <p:nvPr/>
              </p:nvPicPr>
              <p:blipFill>
                <a:blip r:embed="rId49"/>
                <a:stretch/>
              </p:blipFill>
              <p:spPr>
                <a:xfrm rot="19920000">
                  <a:off x="1771560" y="2328120"/>
                  <a:ext cx="63288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84" name=""/>
              <p:cNvSpPr/>
              <p:nvPr/>
            </p:nvSpPr>
            <p:spPr>
              <a:xfrm flipH="1" rot="1680000">
                <a:off x="1895040" y="230004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 rot="1680000">
                <a:off x="1973160" y="233964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 rot="1680000">
                <a:off x="2064600" y="2401560"/>
                <a:ext cx="48960" cy="8712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 rot="1680000">
                <a:off x="2028600" y="2279520"/>
                <a:ext cx="79200" cy="6804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rot="1680000">
                <a:off x="1965600" y="223812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pic>
          <p:nvPicPr>
            <p:cNvPr id="2789" name="" descr=""/>
            <p:cNvPicPr/>
            <p:nvPr/>
          </p:nvPicPr>
          <p:blipFill>
            <a:blip r:embed="rId50"/>
            <a:stretch/>
          </p:blipFill>
          <p:spPr>
            <a:xfrm rot="1020000">
              <a:off x="1857600" y="2322000"/>
              <a:ext cx="87048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0" name="" descr=""/>
            <p:cNvPicPr/>
            <p:nvPr/>
          </p:nvPicPr>
          <p:blipFill>
            <a:blip r:embed="rId51"/>
            <a:stretch/>
          </p:blipFill>
          <p:spPr>
            <a:xfrm rot="20580000">
              <a:off x="2181240" y="2412720"/>
              <a:ext cx="50508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1" name=""/>
            <p:cNvSpPr/>
            <p:nvPr/>
          </p:nvSpPr>
          <p:spPr>
            <a:xfrm rot="1020000">
              <a:off x="2246760" y="2968200"/>
              <a:ext cx="60480" cy="302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6699"/>
            </a:solidFill>
            <a:ln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 rot="1020000">
              <a:off x="2095200" y="2072880"/>
              <a:ext cx="245880" cy="33804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793" name=""/>
            <p:cNvGrpSpPr/>
            <p:nvPr/>
          </p:nvGrpSpPr>
          <p:grpSpPr>
            <a:xfrm>
              <a:off x="2153520" y="1845000"/>
              <a:ext cx="705240" cy="577800"/>
              <a:chOff x="2153520" y="1845000"/>
              <a:chExt cx="705240" cy="577800"/>
            </a:xfrm>
          </p:grpSpPr>
          <p:grpSp>
            <p:nvGrpSpPr>
              <p:cNvPr id="2794" name=""/>
              <p:cNvGrpSpPr/>
              <p:nvPr/>
            </p:nvGrpSpPr>
            <p:grpSpPr>
              <a:xfrm>
                <a:off x="2153520" y="1845000"/>
                <a:ext cx="705240" cy="577800"/>
                <a:chOff x="2153520" y="1845000"/>
                <a:chExt cx="705240" cy="577800"/>
              </a:xfrm>
            </p:grpSpPr>
            <p:pic>
              <p:nvPicPr>
                <p:cNvPr id="2795" name="" descr=""/>
                <p:cNvPicPr/>
                <p:nvPr/>
              </p:nvPicPr>
              <p:blipFill>
                <a:blip r:embed="rId52"/>
                <a:stretch/>
              </p:blipFill>
              <p:spPr>
                <a:xfrm rot="780000">
                  <a:off x="2170080" y="1913040"/>
                  <a:ext cx="631440" cy="22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6" name="" descr=""/>
                <p:cNvPicPr/>
                <p:nvPr/>
              </p:nvPicPr>
              <p:blipFill>
                <a:blip r:embed="rId53"/>
                <a:stretch/>
              </p:blipFill>
              <p:spPr>
                <a:xfrm rot="780000">
                  <a:off x="2188080" y="2063880"/>
                  <a:ext cx="646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97" name=""/>
              <p:cNvSpPr/>
              <p:nvPr/>
            </p:nvSpPr>
            <p:spPr>
              <a:xfrm flipH="1" rot="20820000">
                <a:off x="2280960" y="214128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 rot="20820000">
                <a:off x="2365560" y="2120400"/>
                <a:ext cx="60480" cy="139680"/>
              </a:xfrm>
              <a:custGeom>
                <a:avLst/>
                <a:gdLst/>
                <a:ahLst/>
                <a:rect l="l" t="t" r="r" b="b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 rot="20820000">
                <a:off x="2457720" y="2119320"/>
                <a:ext cx="49320" cy="88560"/>
              </a:xfrm>
              <a:custGeom>
                <a:avLst/>
                <a:gdLst/>
                <a:ahLst/>
                <a:rect l="l" t="t" r="r" b="b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rot="20820000">
                <a:off x="2343600" y="204156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rot="20820000">
                <a:off x="2269800" y="2049120"/>
                <a:ext cx="84600" cy="76320"/>
              </a:xfrm>
              <a:custGeom>
                <a:avLst/>
                <a:gdLst/>
                <a:ahLst/>
                <a:rect l="l" t="t" r="r" b="b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14600" y="3020400"/>
              <a:ext cx="1001880" cy="1307880"/>
              <a:chOff x="714600" y="3020400"/>
              <a:chExt cx="1001880" cy="130788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869040" y="3020400"/>
                <a:ext cx="847440" cy="725400"/>
                <a:chOff x="869040" y="3020400"/>
                <a:chExt cx="847440" cy="72540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 rot="660000">
                  <a:off x="900720" y="3351960"/>
                  <a:ext cx="261720" cy="3571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grpSp>
              <p:nvGrpSpPr>
                <p:cNvPr id="2805" name=""/>
                <p:cNvGrpSpPr/>
                <p:nvPr/>
              </p:nvGrpSpPr>
              <p:grpSpPr>
                <a:xfrm>
                  <a:off x="934920" y="3020400"/>
                  <a:ext cx="781560" cy="725400"/>
                  <a:chOff x="934920" y="3020400"/>
                  <a:chExt cx="781560" cy="725400"/>
                </a:xfrm>
              </p:grpSpPr>
              <p:grpSp>
                <p:nvGrpSpPr>
                  <p:cNvPr id="2806" name=""/>
                  <p:cNvGrpSpPr/>
                  <p:nvPr/>
                </p:nvGrpSpPr>
                <p:grpSpPr>
                  <a:xfrm>
                    <a:off x="934920" y="3020400"/>
                    <a:ext cx="781560" cy="725400"/>
                    <a:chOff x="934920" y="3020400"/>
                    <a:chExt cx="781560" cy="725400"/>
                  </a:xfrm>
                </p:grpSpPr>
                <p:pic>
                  <p:nvPicPr>
                    <p:cNvPr id="28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 rot="1140000">
                      <a:off x="958680" y="3122640"/>
                      <a:ext cx="67176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808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 rot="1140000">
                      <a:off x="991800" y="3299400"/>
                      <a:ext cx="687240" cy="34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2809" name=""/>
                  <p:cNvSpPr/>
                  <p:nvPr/>
                </p:nvSpPr>
                <p:spPr>
                  <a:xfrm flipH="1" rot="20460000">
                    <a:off x="1094760" y="3408840"/>
                    <a:ext cx="644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 flipH="1" rot="20460000">
                    <a:off x="1182960" y="3378960"/>
                    <a:ext cx="644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rot="20460000">
                    <a:off x="1276920" y="3368520"/>
                    <a:ext cx="52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rot="20460000">
                    <a:off x="1146960" y="3299760"/>
                    <a:ext cx="846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rot="20460000">
                    <a:off x="1068120" y="3314880"/>
                    <a:ext cx="9000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pPr>
                      <a:lnSpc>
                        <a:spcPct val="98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DejaVu Sans"/>
                    </a:endParaRPr>
                  </a:p>
                </p:txBody>
              </p:sp>
            </p:grpSp>
          </p:grpSp>
          <p:pic>
            <p:nvPicPr>
              <p:cNvPr id="2814" name="" descr=""/>
              <p:cNvPicPr/>
              <p:nvPr/>
            </p:nvPicPr>
            <p:blipFill>
              <a:blip r:embed="rId56"/>
              <a:stretch/>
            </p:blipFill>
            <p:spPr>
              <a:xfrm rot="240000">
                <a:off x="736920" y="3628440"/>
                <a:ext cx="82620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5" name="" descr=""/>
              <p:cNvPicPr/>
              <p:nvPr/>
            </p:nvPicPr>
            <p:blipFill>
              <a:blip r:embed="rId57"/>
              <a:stretch/>
            </p:blipFill>
            <p:spPr>
              <a:xfrm rot="240000">
                <a:off x="1039680" y="3706560"/>
                <a:ext cx="480960" cy="4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6" name=""/>
              <p:cNvSpPr/>
              <p:nvPr/>
            </p:nvSpPr>
            <p:spPr>
              <a:xfrm flipH="1" rot="21360000">
                <a:off x="1069200" y="421740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9"/>
                    </a:moveTo>
                    <a:lnTo>
                      <a:pt x="21" y="18"/>
                    </a:lnTo>
                    <a:lnTo>
                      <a:pt x="3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6699"/>
              </a:solidFill>
              <a:ln w="1260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grpSp>
        <p:nvGrpSpPr>
          <p:cNvPr id="2817" name=""/>
          <p:cNvGrpSpPr/>
          <p:nvPr/>
        </p:nvGrpSpPr>
        <p:grpSpPr>
          <a:xfrm>
            <a:off x="3871800" y="4724280"/>
            <a:ext cx="1301040" cy="1598760"/>
            <a:chOff x="3871800" y="4724280"/>
            <a:chExt cx="1301040" cy="1598760"/>
          </a:xfrm>
        </p:grpSpPr>
        <mc:AlternateContent>
          <mc:Choice xmlns:a14="http://schemas.microsoft.com/office/drawing/2010/main" Requires="a14">
            <p:sp>
              <p:nvSpPr>
                <p:cNvPr id="2818" name=""/>
                <p:cNvSpPr txBox="1"/>
                <p:nvPr/>
              </p:nvSpPr>
              <p:spPr>
                <a:xfrm>
                  <a:off x="3871800" y="4724280"/>
                  <a:ext cx="774720" cy="15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19" name=""/>
            <p:cNvSpPr/>
            <p:nvPr/>
          </p:nvSpPr>
          <p:spPr>
            <a:xfrm>
              <a:off x="4573080" y="4876920"/>
              <a:ext cx="599760" cy="109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6600" spc="-1" strike="noStrike">
                  <a:solidFill>
                    <a:srgbClr val="990033"/>
                  </a:solidFill>
                  <a:latin typeface="Times New Roman"/>
                  <a:ea typeface="DejaVu Sans"/>
                </a:rPr>
                <a:t>х</a:t>
              </a:r>
              <a:endParaRPr b="0" lang="en-US" sz="66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20" name=""/>
          <p:cNvSpPr/>
          <p:nvPr/>
        </p:nvSpPr>
        <p:spPr>
          <a:xfrm>
            <a:off x="3286080" y="178596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  <a:ea typeface="DejaVu Sans"/>
              </a:rPr>
              <a:t>Сколько яблок он должен                                                положить в каждую корзину?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/>
          <p:nvPr/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то из математиков ввел обозначение переменных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2" name=""/>
          <p:cNvSpPr/>
          <p:nvPr/>
        </p:nvSpPr>
        <p:spPr>
          <a:xfrm>
            <a:off x="0" y="1000080"/>
            <a:ext cx="8686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н был разносторонним ученым,  занимался философией, физикой, математикой и другим науками. В математике он сделал много различных открытий, но самой большой его заслугой является введение в математику понятие переменной величины и функции, которые он изложил в книге « Геометрия», изданной в 1637 году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лучшил систему алгебраических обозначений, предложил обозначать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ЕМЕННЫЕ –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СТОЯННЫЕ -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3" name=""/>
          <p:cNvSpPr/>
          <p:nvPr/>
        </p:nvSpPr>
        <p:spPr>
          <a:xfrm>
            <a:off x="285840" y="55720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/>
          <p:nvPr/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Рене Декарт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25" name="" descr=""/>
          <p:cNvPicPr/>
          <p:nvPr/>
        </p:nvPicPr>
        <p:blipFill>
          <a:blip r:embed="rId2"/>
          <a:stretch/>
        </p:blipFill>
        <p:spPr>
          <a:xfrm>
            <a:off x="1500120" y="857160"/>
            <a:ext cx="4845240" cy="5715000"/>
          </a:xfrm>
          <a:prstGeom prst="rect">
            <a:avLst/>
          </a:prstGeom>
          <a:ln w="0">
            <a:noFill/>
          </a:ln>
        </p:spPr>
      </p:pic>
      <p:sp>
        <p:nvSpPr>
          <p:cNvPr id="2826" name=""/>
          <p:cNvSpPr/>
          <p:nvPr/>
        </p:nvSpPr>
        <p:spPr>
          <a:xfrm>
            <a:off x="1000080" y="62866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Times New Roman"/>
              </a:rPr>
              <a:t>31 марта 1596 г.-11 февраля 1650 г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"/>
          <p:cNvSpPr/>
          <p:nvPr/>
        </p:nvSpPr>
        <p:spPr>
          <a:xfrm>
            <a:off x="357120" y="214200"/>
            <a:ext cx="8610840" cy="283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За три дня турист прошел 40 км. В первый день он прошел 40 % всего пути, а во второй 30 % всего пути.         Сколько километров прошел турист в третий день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28" name="" descr=""/>
          <p:cNvPicPr/>
          <p:nvPr/>
        </p:nvPicPr>
        <p:blipFill>
          <a:blip r:embed="rId2"/>
          <a:stretch/>
        </p:blipFill>
        <p:spPr>
          <a:xfrm>
            <a:off x="-985680" y="3733920"/>
            <a:ext cx="985680" cy="1625400"/>
          </a:xfrm>
          <a:prstGeom prst="rect">
            <a:avLst/>
          </a:prstGeom>
          <a:ln w="0">
            <a:noFill/>
          </a:ln>
        </p:spPr>
      </p:pic>
      <p:sp>
        <p:nvSpPr>
          <p:cNvPr id="2829" name=""/>
          <p:cNvSpPr/>
          <p:nvPr/>
        </p:nvSpPr>
        <p:spPr>
          <a:xfrm flipV="1">
            <a:off x="316080" y="5331960"/>
            <a:ext cx="8458200" cy="79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830" name=""/>
          <p:cNvGrpSpPr/>
          <p:nvPr/>
        </p:nvGrpSpPr>
        <p:grpSpPr>
          <a:xfrm>
            <a:off x="8393040" y="4800600"/>
            <a:ext cx="631800" cy="684360"/>
            <a:chOff x="8393040" y="4800600"/>
            <a:chExt cx="631800" cy="684360"/>
          </a:xfrm>
        </p:grpSpPr>
        <p:grpSp>
          <p:nvGrpSpPr>
            <p:cNvPr id="2831" name=""/>
            <p:cNvGrpSpPr/>
            <p:nvPr/>
          </p:nvGrpSpPr>
          <p:grpSpPr>
            <a:xfrm>
              <a:off x="8393040" y="5257800"/>
              <a:ext cx="531720" cy="227160"/>
              <a:chOff x="8393040" y="5257800"/>
              <a:chExt cx="531720" cy="227160"/>
            </a:xfrm>
          </p:grpSpPr>
          <p:sp>
            <p:nvSpPr>
              <p:cNvPr id="2832" name=""/>
              <p:cNvSpPr/>
              <p:nvPr/>
            </p:nvSpPr>
            <p:spPr>
              <a:xfrm>
                <a:off x="83930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4661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5136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35" name=""/>
            <p:cNvSpPr/>
            <p:nvPr/>
          </p:nvSpPr>
          <p:spPr>
            <a:xfrm>
              <a:off x="86598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163440" y="4876920"/>
            <a:ext cx="631800" cy="684000"/>
            <a:chOff x="163440" y="4876920"/>
            <a:chExt cx="631800" cy="684000"/>
          </a:xfrm>
        </p:grpSpPr>
        <p:grpSp>
          <p:nvGrpSpPr>
            <p:cNvPr id="2837" name=""/>
            <p:cNvGrpSpPr/>
            <p:nvPr/>
          </p:nvGrpSpPr>
          <p:grpSpPr>
            <a:xfrm>
              <a:off x="163440" y="5334120"/>
              <a:ext cx="531720" cy="226800"/>
              <a:chOff x="163440" y="5334120"/>
              <a:chExt cx="531720" cy="226800"/>
            </a:xfrm>
          </p:grpSpPr>
          <p:sp>
            <p:nvSpPr>
              <p:cNvPr id="2838" name=""/>
              <p:cNvSpPr/>
              <p:nvPr/>
            </p:nvSpPr>
            <p:spPr>
              <a:xfrm>
                <a:off x="163440" y="5380200"/>
                <a:ext cx="531720" cy="18072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36520" y="535608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84040" y="533412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41" name=""/>
            <p:cNvSpPr/>
            <p:nvPr/>
          </p:nvSpPr>
          <p:spPr>
            <a:xfrm>
              <a:off x="430200" y="487692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3592440" y="4800600"/>
            <a:ext cx="631800" cy="684360"/>
            <a:chOff x="3592440" y="4800600"/>
            <a:chExt cx="631800" cy="684360"/>
          </a:xfrm>
        </p:grpSpPr>
        <p:grpSp>
          <p:nvGrpSpPr>
            <p:cNvPr id="2843" name=""/>
            <p:cNvGrpSpPr/>
            <p:nvPr/>
          </p:nvGrpSpPr>
          <p:grpSpPr>
            <a:xfrm>
              <a:off x="3592440" y="5257800"/>
              <a:ext cx="531720" cy="227160"/>
              <a:chOff x="3592440" y="5257800"/>
              <a:chExt cx="531720" cy="227160"/>
            </a:xfrm>
          </p:grpSpPr>
          <p:sp>
            <p:nvSpPr>
              <p:cNvPr id="2844" name=""/>
              <p:cNvSpPr/>
              <p:nvPr/>
            </p:nvSpPr>
            <p:spPr>
              <a:xfrm>
                <a:off x="35924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6655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7130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47" name=""/>
            <p:cNvSpPr/>
            <p:nvPr/>
          </p:nvSpPr>
          <p:spPr>
            <a:xfrm>
              <a:off x="38592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6107040" y="4800600"/>
            <a:ext cx="631800" cy="684360"/>
            <a:chOff x="6107040" y="4800600"/>
            <a:chExt cx="631800" cy="684360"/>
          </a:xfrm>
        </p:grpSpPr>
        <p:grpSp>
          <p:nvGrpSpPr>
            <p:cNvPr id="2849" name=""/>
            <p:cNvGrpSpPr/>
            <p:nvPr/>
          </p:nvGrpSpPr>
          <p:grpSpPr>
            <a:xfrm>
              <a:off x="6107040" y="5257800"/>
              <a:ext cx="531720" cy="227160"/>
              <a:chOff x="6107040" y="5257800"/>
              <a:chExt cx="531720" cy="227160"/>
            </a:xfrm>
          </p:grpSpPr>
          <p:sp>
            <p:nvSpPr>
              <p:cNvPr id="2850" name=""/>
              <p:cNvSpPr/>
              <p:nvPr/>
            </p:nvSpPr>
            <p:spPr>
              <a:xfrm>
                <a:off x="6107040" y="5303880"/>
                <a:ext cx="531720" cy="181080"/>
              </a:xfrm>
              <a:custGeom>
                <a:avLst/>
                <a:gdLst/>
                <a:ahLst/>
                <a:rect l="l" t="t" r="r" b="b"/>
                <a:pathLst>
                  <a:path w="741" h="254">
                    <a:moveTo>
                      <a:pt x="0" y="254"/>
                    </a:moveTo>
                    <a:lnTo>
                      <a:pt x="741" y="254"/>
                    </a:lnTo>
                    <a:lnTo>
                      <a:pt x="180" y="90"/>
                    </a:lnTo>
                    <a:lnTo>
                      <a:pt x="741" y="254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180120" y="5280120"/>
                <a:ext cx="409680" cy="135000"/>
              </a:xfrm>
              <a:custGeom>
                <a:avLst/>
                <a:gdLst/>
                <a:ahLst/>
                <a:rect l="l" t="t" r="r" b="b"/>
                <a:pathLst>
                  <a:path w="572" h="191">
                    <a:moveTo>
                      <a:pt x="0" y="191"/>
                    </a:moveTo>
                    <a:lnTo>
                      <a:pt x="572" y="191"/>
                    </a:lnTo>
                    <a:lnTo>
                      <a:pt x="180" y="90"/>
                    </a:lnTo>
                    <a:lnTo>
                      <a:pt x="572" y="191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227640" y="525780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w="404" h="95">
                    <a:moveTo>
                      <a:pt x="0" y="95"/>
                    </a:moveTo>
                    <a:lnTo>
                      <a:pt x="404" y="95"/>
                    </a:lnTo>
                    <a:lnTo>
                      <a:pt x="180" y="90"/>
                    </a:lnTo>
                    <a:lnTo>
                      <a:pt x="404" y="95"/>
                    </a:lnTo>
                    <a:lnTo>
                      <a:pt x="270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6373800" y="4800600"/>
              <a:ext cx="365040" cy="5032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1449000" y="533412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DejaVu Sans"/>
              </a:rPr>
              <a:t>40 %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5" name=""/>
          <p:cNvSpPr/>
          <p:nvPr/>
        </p:nvSpPr>
        <p:spPr>
          <a:xfrm>
            <a:off x="4485960" y="533412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DejaVu Sans"/>
              </a:rPr>
              <a:t>30 %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6" name=""/>
          <p:cNvSpPr/>
          <p:nvPr/>
        </p:nvSpPr>
        <p:spPr>
          <a:xfrm>
            <a:off x="7392960" y="5181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DejaVu San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7" name=""/>
          <p:cNvSpPr/>
          <p:nvPr/>
        </p:nvSpPr>
        <p:spPr>
          <a:xfrm>
            <a:off x="3143160" y="3357720"/>
            <a:ext cx="224496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  <a:ea typeface="DejaVu Sans"/>
              </a:rPr>
              <a:t>40 км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8" name=""/>
          <p:cNvSpPr/>
          <p:nvPr/>
        </p:nvSpPr>
        <p:spPr>
          <a:xfrm>
            <a:off x="8470800" y="3854520"/>
            <a:ext cx="625680" cy="109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6600" spc="-1" strike="noStrike">
                <a:solidFill>
                  <a:srgbClr val="006699"/>
                </a:solidFill>
                <a:latin typeface="Verdana"/>
                <a:ea typeface="DejaVu Sans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0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446 0.00371 E">
                                      <p:cBhvr>
                                        <p:cTn id="223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 0.00371 L 0.746 0.00371 E">
                                      <p:cBhvr>
                                        <p:cTn id="236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8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6 0.00371 L 0.98767 0.00371 E">
                                      <p:cBhvr>
                                        <p:cTn id="249" dur="5000" fill="hold"/>
                                        <p:tgtEl>
                                          <p:spTgt spid="2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1" name=""/>
          <p:cNvSpPr/>
          <p:nvPr/>
        </p:nvSpPr>
        <p:spPr>
          <a:xfrm>
            <a:off x="1482840" y="500040"/>
            <a:ext cx="59720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  <a:ea typeface="DejaVu Sans"/>
              </a:rPr>
              <a:t>Самое чистое озеро - Мушанер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533520" y="4343400"/>
            <a:ext cx="7924680" cy="144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63" name=""/>
          <p:cNvSpPr/>
          <p:nvPr/>
        </p:nvSpPr>
        <p:spPr>
          <a:xfrm>
            <a:off x="2743200" y="5486400"/>
            <a:ext cx="5715000" cy="1440"/>
          </a:xfrm>
          <a:custGeom>
            <a:avLst/>
            <a:gdLst/>
            <a:ahLst/>
            <a:rect l="l" t="t" r="r" b="b"/>
            <a:pathLst>
              <a:path w="3600" h="1">
                <a:moveTo>
                  <a:pt x="0" y="0"/>
                </a:moveTo>
                <a:lnTo>
                  <a:pt x="3600" y="1"/>
                </a:ln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2743200" y="4343400"/>
            <a:ext cx="5713560" cy="1293840"/>
            <a:chOff x="2743200" y="4343400"/>
            <a:chExt cx="5713560" cy="1293840"/>
          </a:xfrm>
        </p:grpSpPr>
        <p:sp>
          <p:nvSpPr>
            <p:cNvPr id="2865" name=""/>
            <p:cNvSpPr/>
            <p:nvPr/>
          </p:nvSpPr>
          <p:spPr>
            <a:xfrm>
              <a:off x="2743200" y="4343400"/>
              <a:ext cx="0" cy="1293840"/>
            </a:xfrm>
            <a:prstGeom prst="line">
              <a:avLst/>
            </a:prstGeom>
            <a:ln w="2844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56760" y="4343400"/>
              <a:ext cx="0" cy="1293840"/>
            </a:xfrm>
            <a:prstGeom prst="line">
              <a:avLst/>
            </a:prstGeom>
            <a:ln w="2844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533520" y="4114800"/>
            <a:ext cx="7923240" cy="379440"/>
            <a:chOff x="533520" y="4114800"/>
            <a:chExt cx="7923240" cy="379440"/>
          </a:xfrm>
        </p:grpSpPr>
        <p:sp>
          <p:nvSpPr>
            <p:cNvPr id="2868" name=""/>
            <p:cNvSpPr/>
            <p:nvPr/>
          </p:nvSpPr>
          <p:spPr>
            <a:xfrm>
              <a:off x="53352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4248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56760" y="4114800"/>
              <a:ext cx="0" cy="3794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871" name=""/>
          <p:cNvSpPr/>
          <p:nvPr/>
        </p:nvSpPr>
        <p:spPr>
          <a:xfrm rot="1320000">
            <a:off x="1080" y="2208240"/>
            <a:ext cx="2895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48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  <a:ea typeface="DejaVu Sans"/>
              </a:rPr>
              <a:t>Сварили уху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2" name=""/>
          <p:cNvSpPr/>
          <p:nvPr/>
        </p:nvSpPr>
        <p:spPr>
          <a:xfrm rot="300000">
            <a:off x="1601280" y="5637240"/>
            <a:ext cx="2895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48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  <a:ea typeface="DejaVu Sans"/>
              </a:rPr>
              <a:t>поджарил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4343400" y="4816440"/>
                <a:ext cx="1512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1239840" y="2895480"/>
                <a:ext cx="5889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5" name=""/>
          <p:cNvSpPr/>
          <p:nvPr/>
        </p:nvSpPr>
        <p:spPr>
          <a:xfrm>
            <a:off x="7162920" y="5257800"/>
            <a:ext cx="1440" cy="3808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6" name=""/>
          <p:cNvSpPr/>
          <p:nvPr/>
        </p:nvSpPr>
        <p:spPr>
          <a:xfrm>
            <a:off x="2743200" y="5473800"/>
            <a:ext cx="4419720" cy="12600"/>
          </a:xfrm>
          <a:custGeom>
            <a:avLst/>
            <a:gdLst/>
            <a:ahLst/>
            <a:rect l="l" t="t" r="r" b="b"/>
            <a:pathLst>
              <a:path w="2784" h="8">
                <a:moveTo>
                  <a:pt x="0" y="8"/>
                </a:moveTo>
                <a:lnTo>
                  <a:pt x="2784" y="0"/>
                </a:lnTo>
              </a:path>
            </a:pathLst>
          </a:custGeom>
          <a:noFill/>
          <a:ln w="57240">
            <a:solidFill>
              <a:srgbClr val="f42a02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7" name=""/>
          <p:cNvSpPr/>
          <p:nvPr/>
        </p:nvSpPr>
        <p:spPr>
          <a:xfrm>
            <a:off x="0" y="152280"/>
            <a:ext cx="914400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После удачной рыбалки Костя принес домой 1,4 кг рыбы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Из        этой рыбы сварили уху, а 80 % оставшейся –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          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DejaVu Sans"/>
              </a:rPr>
              <a:t>поджарил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8" name=""/>
          <p:cNvSpPr/>
          <p:nvPr/>
        </p:nvSpPr>
        <p:spPr>
          <a:xfrm>
            <a:off x="3963960" y="2895480"/>
            <a:ext cx="13618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  <a:ea typeface="DejaVu Sans"/>
              </a:rPr>
              <a:t>1,4 кг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714240" y="571680"/>
                <a:ext cx="44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0" name=""/>
          <p:cNvSpPr/>
          <p:nvPr/>
        </p:nvSpPr>
        <p:spPr>
          <a:xfrm>
            <a:off x="1714680" y="2057400"/>
            <a:ext cx="537192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  <a:ea typeface="DejaVu Sans"/>
              </a:rPr>
              <a:t>Сколько рыбы поджарили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1" name="" descr=""/>
          <p:cNvPicPr/>
          <p:nvPr/>
        </p:nvPicPr>
        <p:blipFill>
          <a:blip r:embed="rId2"/>
          <a:stretch/>
        </p:blipFill>
        <p:spPr>
          <a:xfrm>
            <a:off x="6929280" y="2071800"/>
            <a:ext cx="1635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3.33333E-006 L 0.02917 0.5 E">
                                      <p:cBhvr>
                                        <p:cTn id="326" dur="2000" fill="hold"/>
                                        <p:tgtEl>
                                          <p:spTgt spid="2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43240" y="103320"/>
            <a:ext cx="47865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Эпиграф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"/>
          <p:cNvSpPr/>
          <p:nvPr/>
        </p:nvSpPr>
        <p:spPr>
          <a:xfrm>
            <a:off x="4357800" y="1600200"/>
            <a:ext cx="4786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«Человек подобен дроби. Числительное - это то,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ем он является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 знаменательном - то, что он о себе думает. Чем больше знаменатель, тем меньше дробь.»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Л.Толстой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4" name=""/>
          <p:cNvSpPr/>
          <p:nvPr/>
        </p:nvSpPr>
        <p:spPr>
          <a:xfrm>
            <a:off x="0" y="45720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расота озер необъясним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Это надо видеть наяву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рай родной, ты удивительно красивый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Уголок Марийский я люблю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Газизова Айгюль 6А класс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"/>
          <p:cNvSpPr/>
          <p:nvPr/>
        </p:nvSpPr>
        <p:spPr>
          <a:xfrm>
            <a:off x="442800" y="428760"/>
            <a:ext cx="824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зера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это достояние Республики Марий Эл. Нужно оберегать от истощения и загрязнения эту уникальную экосистему. </a:t>
            </a:r>
            <a:br>
              <a:rPr sz="1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ность особо охраняемых озер, таких как, Яльчик, Табашинское, Морской глаз, Лесное Мушан Ер, Сурок и еще множество различных озер, не только в богатстве их растительного и животного мира, но и в том, что эти озера прекрасное место для отдыха и лечения.</a:t>
            </a:r>
            <a:br>
              <a:rPr sz="1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ОХРАНЯТЬ ПРИРОДУ – ЗНАЧИТ ОХРАНЯТЬ РОДИНУ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86" name=""/>
          <p:cNvSpPr/>
          <p:nvPr/>
        </p:nvSpPr>
        <p:spPr>
          <a:xfrm>
            <a:off x="214200" y="457200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Я люблю тебя, Россия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Голубые небеса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еки, земли и озера-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Это Родина мо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88" name="" descr=""/>
          <p:cNvPicPr/>
          <p:nvPr/>
        </p:nvPicPr>
        <p:blipFill>
          <a:blip r:embed="rId2"/>
          <a:stretch/>
        </p:blipFill>
        <p:spPr>
          <a:xfrm>
            <a:off x="-57168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1285920" y="5060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«Зима пришл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0" y="507204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Редкий кадр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«Лебедь на Кокшаге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Выполнил: ученик 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Стародубцев Сергей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4214880" y="591660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Царь пушка самое большо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по калибру орудие в мир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894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244680" cy="46101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2895" name="" descr=""/>
          <p:cNvPicPr/>
          <p:nvPr/>
        </p:nvPicPr>
        <p:blipFill>
          <a:blip r:embed="rId3"/>
          <a:stretch/>
        </p:blipFill>
        <p:spPr>
          <a:xfrm>
            <a:off x="714240" y="1714680"/>
            <a:ext cx="3294360" cy="46195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2896" name=""/>
          <p:cNvSpPr/>
          <p:nvPr/>
        </p:nvSpPr>
        <p:spPr>
          <a:xfrm>
            <a:off x="228600" y="47520"/>
            <a:ext cx="8915400" cy="155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В Московском Кремле находится Царь-колокол и Царь-пушка, отлитые русскими мастерами. Вес колокола 200 т, а вес пушки составляет 40% веса колокола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DejaVu Sans"/>
              </a:rPr>
              <a:t>Сколько весит Царь-пушка?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3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Ребята сочинили  стихи: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98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 каждым днем идем вперед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Изучаем наш урок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Тут задачи и решенья,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И, конечно, уравнения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Уравнения у нас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609480" indent="-60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а уроке просто класс.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0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Математика нас учи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равнения решать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И, задачи, и пример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се считать и вычислять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 жизни очень пригодитс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Математика всегда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ез нее не купишь хлеба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36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ез нее мы никуд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2" name=""/>
          <p:cNvSpPr/>
          <p:nvPr/>
        </p:nvSpPr>
        <p:spPr>
          <a:xfrm>
            <a:off x="500040" y="1143000"/>
            <a:ext cx="818676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Задачи из «Арифметики» Л. Ф. Магницкого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йдите число, такое, что если к нему добавить его третью часть и от полученной суммы отнять её шестую часть, то будет 100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кто купил сукно трех сортов, а всего 106 аршин. Первого купили на 12 аршин больше, чем второго, а второго – на 9 аршин больше, чем третьего. Сколько же сукна каждого сорта было куплено?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ва человека хотят купить корову. Говорит первый второму: «Если ты дашь мне 2/3 твоих денег, то я один смогу заплатить её цену». А второй отвечает первому: «Дай мне 3/4  твоих денег, тогда и я заплачу её цену». Сколько у каждого из них денег, если корова стоит 24 рубля?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kokch.kts.ru/cdo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(выбрать три задачи по пройденной теме и решить их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"/>
          <p:cNvSpPr/>
          <p:nvPr/>
        </p:nvSpPr>
        <p:spPr>
          <a:xfrm>
            <a:off x="442800" y="103320"/>
            <a:ext cx="87012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Желаем всем успехов при решении задач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4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5" name=""/>
          <p:cNvSpPr/>
          <p:nvPr/>
        </p:nvSpPr>
        <p:spPr>
          <a:xfrm>
            <a:off x="0" y="357120"/>
            <a:ext cx="1285920" cy="1285920"/>
          </a:xfrm>
          <a:prstGeom prst="rect">
            <a:avLst/>
          </a:prstGeom>
          <a:solidFill>
            <a:srgbClr val="ff6699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06" name="" descr=""/>
          <p:cNvPicPr/>
          <p:nvPr/>
        </p:nvPicPr>
        <p:blipFill>
          <a:blip r:embed="rId2"/>
          <a:stretch/>
        </p:blipFill>
        <p:spPr>
          <a:xfrm>
            <a:off x="947880" y="1500120"/>
            <a:ext cx="7775280" cy="5000760"/>
          </a:xfrm>
          <a:prstGeom prst="rect">
            <a:avLst/>
          </a:prstGeom>
          <a:ln w="0">
            <a:noFill/>
          </a:ln>
        </p:spPr>
      </p:pic>
      <p:sp>
        <p:nvSpPr>
          <p:cNvPr id="2907" name=""/>
          <p:cNvSpPr/>
          <p:nvPr/>
        </p:nvSpPr>
        <p:spPr>
          <a:xfrm>
            <a:off x="857160" y="1143000"/>
            <a:ext cx="1071720" cy="100008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08" name="" descr=""/>
          <p:cNvPicPr/>
          <p:nvPr/>
        </p:nvPicPr>
        <p:blipFill>
          <a:blip r:embed="rId3"/>
          <a:stretch/>
        </p:blipFill>
        <p:spPr>
          <a:xfrm rot="2160000">
            <a:off x="6428880" y="21427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"/>
          <p:cNvSpPr/>
          <p:nvPr/>
        </p:nvSpPr>
        <p:spPr>
          <a:xfrm>
            <a:off x="442800" y="103320"/>
            <a:ext cx="82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60480" y="571680"/>
            <a:ext cx="328500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  <a:ea typeface="DejaVu Sans"/>
              </a:rPr>
              <a:t>Озеро  Яльчик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9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ое число называют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ителем натурального числа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называют натуральное число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на которое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лится без остатк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: b , a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и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b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– натуральные числа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16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25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елители 42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кое число называют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ратным натуральному  числу а?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ратным натурального числа </a:t>
            </a:r>
            <a:r>
              <a:rPr b="1" i="1" lang="en-US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ывают натуральное число с, которое делится без остатка на </a:t>
            </a:r>
            <a:r>
              <a:rPr b="1" i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ратные 12: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тные 2 и 5 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тные 9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86080" y="457200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от березки у Кокшаги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Как невесты у воды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Наклонились и  смеются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Словно девицы стройны</a:t>
            </a:r>
            <a:r>
              <a:rPr b="1" lang="ru-RU" sz="2400" spc="-1" strike="noStrike">
                <a:solidFill>
                  <a:srgbClr val="000032"/>
                </a:solidFill>
                <a:latin typeface="Calibri"/>
                <a:ea typeface="DejaVu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7204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«Сосновая роща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Выполнила учениц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А класс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Филиппова Ан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2920" y="861840"/>
            <a:ext cx="9001080" cy="599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1680" y="214200"/>
            <a:ext cx="5214600" cy="257184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fbfef6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DejaVu Sans"/>
              </a:rPr>
              <a:t>НОК(6;8)=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8501040" y="6357960"/>
            <a:ext cx="571680" cy="428760"/>
          </a:xfrm>
          <a:custGeom>
            <a:avLst/>
            <a:gdLst/>
            <a:ahLst/>
            <a:rect l="l" t="t" r="r" b="b"/>
            <a:pathLst>
              <a:path w="1589" h="1192">
                <a:moveTo>
                  <a:pt x="0" y="0"/>
                </a:moveTo>
                <a:lnTo>
                  <a:pt x="1589" y="0"/>
                </a:lnTo>
                <a:lnTo>
                  <a:pt x="1589" y="1192"/>
                </a:lnTo>
                <a:lnTo>
                  <a:pt x="0" y="1192"/>
                </a:lnTo>
                <a:lnTo>
                  <a:pt x="0" y="0"/>
                </a:lnTo>
                <a:moveTo>
                  <a:pt x="0" y="0"/>
                </a:moveTo>
                <a:lnTo>
                  <a:pt x="1589" y="0"/>
                </a:lnTo>
                <a:lnTo>
                  <a:pt x="1511" y="77"/>
                </a:lnTo>
                <a:lnTo>
                  <a:pt x="77" y="77"/>
                </a:lnTo>
                <a:lnTo>
                  <a:pt x="0" y="0"/>
                </a:lnTo>
                <a:moveTo>
                  <a:pt x="1589" y="0"/>
                </a:moveTo>
                <a:lnTo>
                  <a:pt x="1589" y="1192"/>
                </a:lnTo>
                <a:lnTo>
                  <a:pt x="1511" y="1114"/>
                </a:lnTo>
                <a:lnTo>
                  <a:pt x="1511" y="77"/>
                </a:lnTo>
                <a:lnTo>
                  <a:pt x="1589" y="0"/>
                </a:lnTo>
                <a:moveTo>
                  <a:pt x="1589" y="1192"/>
                </a:moveTo>
                <a:lnTo>
                  <a:pt x="0" y="1192"/>
                </a:lnTo>
                <a:lnTo>
                  <a:pt x="77" y="1114"/>
                </a:lnTo>
                <a:lnTo>
                  <a:pt x="1511" y="1114"/>
                </a:lnTo>
                <a:lnTo>
                  <a:pt x="1589" y="1192"/>
                </a:lnTo>
                <a:moveTo>
                  <a:pt x="0" y="1192"/>
                </a:moveTo>
                <a:lnTo>
                  <a:pt x="0" y="0"/>
                </a:lnTo>
                <a:lnTo>
                  <a:pt x="77" y="77"/>
                </a:lnTo>
                <a:lnTo>
                  <a:pt x="77" y="1114"/>
                </a:lnTo>
                <a:lnTo>
                  <a:pt x="0" y="1192"/>
                </a:lnTo>
                <a:moveTo>
                  <a:pt x="407" y="209"/>
                </a:moveTo>
                <a:lnTo>
                  <a:pt x="1181" y="596"/>
                </a:lnTo>
                <a:lnTo>
                  <a:pt x="407" y="982"/>
                </a:lnTo>
                <a:lnTo>
                  <a:pt x="407" y="209"/>
                </a:lnTo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500280" y="591336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1928880" y="5913360"/>
            <a:ext cx="203976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531200" y="5072040"/>
            <a:ext cx="1612800" cy="8445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215040" y="50720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826240"/>
            <a:ext cx="1612800" cy="1031760"/>
          </a:xfrm>
          <a:custGeom>
            <a:avLst/>
            <a:gdLst/>
            <a:ahLst/>
            <a:rect l="l" t="t" r="r" b="b"/>
            <a:pathLst>
              <a:path w="1612238" h="1032387">
                <a:moveTo>
                  <a:pt x="34161" y="899652"/>
                </a:moveTo>
                <a:cubicBezTo>
                  <a:pt x="39077" y="806245"/>
                  <a:pt x="37765" y="712302"/>
                  <a:pt x="48909" y="619432"/>
                </a:cubicBezTo>
                <a:cubicBezTo>
                  <a:pt x="57844" y="544969"/>
                  <a:pt x="97385" y="502473"/>
                  <a:pt x="137399" y="442452"/>
                </a:cubicBezTo>
                <a:cubicBezTo>
                  <a:pt x="223812" y="312832"/>
                  <a:pt x="85754" y="517153"/>
                  <a:pt x="225890" y="324465"/>
                </a:cubicBezTo>
                <a:cubicBezTo>
                  <a:pt x="246741" y="295795"/>
                  <a:pt x="255386" y="255639"/>
                  <a:pt x="284883" y="235974"/>
                </a:cubicBezTo>
                <a:cubicBezTo>
                  <a:pt x="394747" y="162730"/>
                  <a:pt x="259801" y="256873"/>
                  <a:pt x="373373" y="162232"/>
                </a:cubicBezTo>
                <a:cubicBezTo>
                  <a:pt x="386990" y="150885"/>
                  <a:pt x="404002" y="144084"/>
                  <a:pt x="417619" y="132736"/>
                </a:cubicBezTo>
                <a:cubicBezTo>
                  <a:pt x="492936" y="69972"/>
                  <a:pt x="425362" y="97615"/>
                  <a:pt x="520857" y="73742"/>
                </a:cubicBezTo>
                <a:cubicBezTo>
                  <a:pt x="535606" y="63910"/>
                  <a:pt x="548811" y="51227"/>
                  <a:pt x="565103" y="44245"/>
                </a:cubicBezTo>
                <a:cubicBezTo>
                  <a:pt x="583734" y="36260"/>
                  <a:pt x="604346" y="34055"/>
                  <a:pt x="624096" y="29497"/>
                </a:cubicBezTo>
                <a:lnTo>
                  <a:pt x="756832" y="0"/>
                </a:lnTo>
                <a:cubicBezTo>
                  <a:pt x="874819" y="4916"/>
                  <a:pt x="993004" y="6334"/>
                  <a:pt x="1110793" y="14748"/>
                </a:cubicBezTo>
                <a:cubicBezTo>
                  <a:pt x="1131011" y="16192"/>
                  <a:pt x="1152187" y="19440"/>
                  <a:pt x="1169786" y="29497"/>
                </a:cubicBezTo>
                <a:cubicBezTo>
                  <a:pt x="1187895" y="39845"/>
                  <a:pt x="1198009" y="60389"/>
                  <a:pt x="1214032" y="73742"/>
                </a:cubicBezTo>
                <a:cubicBezTo>
                  <a:pt x="1257683" y="110118"/>
                  <a:pt x="1261045" y="103931"/>
                  <a:pt x="1317270" y="117987"/>
                </a:cubicBezTo>
                <a:cubicBezTo>
                  <a:pt x="1327102" y="132735"/>
                  <a:pt x="1332926" y="151159"/>
                  <a:pt x="1346767" y="162232"/>
                </a:cubicBezTo>
                <a:cubicBezTo>
                  <a:pt x="1358906" y="171944"/>
                  <a:pt x="1377107" y="170029"/>
                  <a:pt x="1391012" y="176981"/>
                </a:cubicBezTo>
                <a:cubicBezTo>
                  <a:pt x="1406866" y="184908"/>
                  <a:pt x="1420509" y="196645"/>
                  <a:pt x="1435257" y="206477"/>
                </a:cubicBezTo>
                <a:cubicBezTo>
                  <a:pt x="1465954" y="329260"/>
                  <a:pt x="1428576" y="207862"/>
                  <a:pt x="1479503" y="309716"/>
                </a:cubicBezTo>
                <a:cubicBezTo>
                  <a:pt x="1486455" y="323621"/>
                  <a:pt x="1486701" y="340371"/>
                  <a:pt x="1494251" y="353961"/>
                </a:cubicBezTo>
                <a:cubicBezTo>
                  <a:pt x="1511467" y="384951"/>
                  <a:pt x="1537390" y="410744"/>
                  <a:pt x="1553244" y="442452"/>
                </a:cubicBezTo>
                <a:cubicBezTo>
                  <a:pt x="1598747" y="533457"/>
                  <a:pt x="1576701" y="480305"/>
                  <a:pt x="1612238" y="604684"/>
                </a:cubicBezTo>
                <a:cubicBezTo>
                  <a:pt x="1607322" y="693174"/>
                  <a:pt x="1610024" y="782419"/>
                  <a:pt x="1597490" y="870155"/>
                </a:cubicBezTo>
                <a:cubicBezTo>
                  <a:pt x="1594983" y="887702"/>
                  <a:pt x="1581834" y="903327"/>
                  <a:pt x="1567993" y="914400"/>
                </a:cubicBezTo>
                <a:cubicBezTo>
                  <a:pt x="1555854" y="924111"/>
                  <a:pt x="1538496" y="924232"/>
                  <a:pt x="1523748" y="929148"/>
                </a:cubicBezTo>
                <a:cubicBezTo>
                  <a:pt x="1453633" y="975892"/>
                  <a:pt x="1496318" y="953040"/>
                  <a:pt x="1391012" y="988142"/>
                </a:cubicBezTo>
                <a:lnTo>
                  <a:pt x="1346767" y="1002890"/>
                </a:lnTo>
                <a:cubicBezTo>
                  <a:pt x="1332019" y="1007806"/>
                  <a:pt x="1317948" y="1015711"/>
                  <a:pt x="1302522" y="1017639"/>
                </a:cubicBezTo>
                <a:lnTo>
                  <a:pt x="1184535" y="1032387"/>
                </a:lnTo>
                <a:cubicBezTo>
                  <a:pt x="987890" y="1027471"/>
                  <a:pt x="791103" y="1026571"/>
                  <a:pt x="594599" y="1017639"/>
                </a:cubicBezTo>
                <a:cubicBezTo>
                  <a:pt x="574350" y="1016719"/>
                  <a:pt x="555549" y="1006516"/>
                  <a:pt x="535606" y="1002890"/>
                </a:cubicBezTo>
                <a:cubicBezTo>
                  <a:pt x="501404" y="996671"/>
                  <a:pt x="466656" y="993857"/>
                  <a:pt x="432367" y="988142"/>
                </a:cubicBezTo>
                <a:cubicBezTo>
                  <a:pt x="407641" y="984021"/>
                  <a:pt x="383473" y="976707"/>
                  <a:pt x="358625" y="973394"/>
                </a:cubicBezTo>
                <a:cubicBezTo>
                  <a:pt x="4139" y="926129"/>
                  <a:pt x="367155" y="984647"/>
                  <a:pt x="122651" y="943897"/>
                </a:cubicBezTo>
                <a:cubicBezTo>
                  <a:pt x="63467" y="924169"/>
                  <a:pt x="25114" y="931506"/>
                  <a:pt x="4664" y="870155"/>
                </a:cubicBezTo>
                <a:cubicBezTo>
                  <a:pt x="0" y="856164"/>
                  <a:pt x="4664" y="840658"/>
                  <a:pt x="4664" y="825910"/>
                </a:cubicBezTo>
              </a:path>
            </a:pathLst>
          </a:custGeom>
          <a:solidFill>
            <a:srgbClr val="eef3f5"/>
          </a:solidFill>
          <a:ln w="25560">
            <a:solidFill>
              <a:srgbClr val="ebf7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"/>
          <p:cNvSpPr/>
          <p:nvPr/>
        </p:nvSpPr>
        <p:spPr>
          <a:xfrm>
            <a:off x="5072040" y="5913360"/>
            <a:ext cx="2040120" cy="944640"/>
          </a:xfrm>
          <a:custGeom>
            <a:avLst/>
            <a:gdLst/>
            <a:ahLst/>
            <a:rect l="l" t="t" r="r" b="b"/>
            <a:pathLst>
              <a:path w="2039374" h="943897">
                <a:moveTo>
                  <a:pt x="130345" y="634181"/>
                </a:moveTo>
                <a:cubicBezTo>
                  <a:pt x="25039" y="669283"/>
                  <a:pt x="59102" y="689548"/>
                  <a:pt x="12358" y="619433"/>
                </a:cubicBezTo>
                <a:cubicBezTo>
                  <a:pt x="17274" y="555523"/>
                  <a:pt x="0" y="485789"/>
                  <a:pt x="27106" y="427704"/>
                </a:cubicBezTo>
                <a:cubicBezTo>
                  <a:pt x="40254" y="399529"/>
                  <a:pt x="115596" y="398207"/>
                  <a:pt x="115596" y="398207"/>
                </a:cubicBezTo>
                <a:lnTo>
                  <a:pt x="233584" y="309716"/>
                </a:lnTo>
                <a:cubicBezTo>
                  <a:pt x="253248" y="294968"/>
                  <a:pt x="272125" y="279106"/>
                  <a:pt x="292577" y="265471"/>
                </a:cubicBezTo>
                <a:lnTo>
                  <a:pt x="558048" y="88491"/>
                </a:lnTo>
                <a:cubicBezTo>
                  <a:pt x="628166" y="41746"/>
                  <a:pt x="585472" y="64601"/>
                  <a:pt x="690784" y="29497"/>
                </a:cubicBezTo>
                <a:lnTo>
                  <a:pt x="779274" y="0"/>
                </a:lnTo>
                <a:cubicBezTo>
                  <a:pt x="877597" y="4916"/>
                  <a:pt x="976623" y="2016"/>
                  <a:pt x="1074242" y="14749"/>
                </a:cubicBezTo>
                <a:cubicBezTo>
                  <a:pt x="1091818" y="17042"/>
                  <a:pt x="1102195" y="37263"/>
                  <a:pt x="1118487" y="44245"/>
                </a:cubicBezTo>
                <a:cubicBezTo>
                  <a:pt x="1137118" y="52230"/>
                  <a:pt x="1157816" y="54078"/>
                  <a:pt x="1177480" y="58994"/>
                </a:cubicBezTo>
                <a:cubicBezTo>
                  <a:pt x="1197145" y="73742"/>
                  <a:pt x="1214987" y="91302"/>
                  <a:pt x="1236474" y="103239"/>
                </a:cubicBezTo>
                <a:cubicBezTo>
                  <a:pt x="1259617" y="116096"/>
                  <a:pt x="1286024" y="121984"/>
                  <a:pt x="1310216" y="132736"/>
                </a:cubicBezTo>
                <a:cubicBezTo>
                  <a:pt x="1419559" y="181333"/>
                  <a:pt x="1322581" y="146691"/>
                  <a:pt x="1413455" y="176981"/>
                </a:cubicBezTo>
                <a:cubicBezTo>
                  <a:pt x="1428203" y="186813"/>
                  <a:pt x="1441846" y="198551"/>
                  <a:pt x="1457700" y="206478"/>
                </a:cubicBezTo>
                <a:cubicBezTo>
                  <a:pt x="1471605" y="213430"/>
                  <a:pt x="1489010" y="212603"/>
                  <a:pt x="1501945" y="221226"/>
                </a:cubicBezTo>
                <a:cubicBezTo>
                  <a:pt x="1519299" y="232795"/>
                  <a:pt x="1528836" y="253901"/>
                  <a:pt x="1546190" y="265471"/>
                </a:cubicBezTo>
                <a:cubicBezTo>
                  <a:pt x="1559125" y="274095"/>
                  <a:pt x="1576530" y="273268"/>
                  <a:pt x="1590435" y="280220"/>
                </a:cubicBezTo>
                <a:cubicBezTo>
                  <a:pt x="1606289" y="288147"/>
                  <a:pt x="1618826" y="301789"/>
                  <a:pt x="1634680" y="309716"/>
                </a:cubicBezTo>
                <a:cubicBezTo>
                  <a:pt x="1648585" y="316668"/>
                  <a:pt x="1665335" y="316915"/>
                  <a:pt x="1678925" y="324465"/>
                </a:cubicBezTo>
                <a:cubicBezTo>
                  <a:pt x="1709915" y="341681"/>
                  <a:pt x="1737919" y="363794"/>
                  <a:pt x="1767416" y="383458"/>
                </a:cubicBezTo>
                <a:lnTo>
                  <a:pt x="1855906" y="442452"/>
                </a:lnTo>
                <a:cubicBezTo>
                  <a:pt x="1870654" y="452284"/>
                  <a:pt x="1883335" y="466344"/>
                  <a:pt x="1900151" y="471949"/>
                </a:cubicBezTo>
                <a:lnTo>
                  <a:pt x="1944396" y="486697"/>
                </a:lnTo>
                <a:cubicBezTo>
                  <a:pt x="1961939" y="498392"/>
                  <a:pt x="2027950" y="538221"/>
                  <a:pt x="2032887" y="560439"/>
                </a:cubicBezTo>
                <a:cubicBezTo>
                  <a:pt x="2039374" y="589631"/>
                  <a:pt x="2024625" y="619738"/>
                  <a:pt x="2018138" y="648929"/>
                </a:cubicBezTo>
                <a:cubicBezTo>
                  <a:pt x="2011971" y="676681"/>
                  <a:pt x="1995838" y="718218"/>
                  <a:pt x="1973893" y="737420"/>
                </a:cubicBezTo>
                <a:cubicBezTo>
                  <a:pt x="1947214" y="760764"/>
                  <a:pt x="1914900" y="776749"/>
                  <a:pt x="1885403" y="796413"/>
                </a:cubicBezTo>
                <a:cubicBezTo>
                  <a:pt x="1870655" y="806245"/>
                  <a:pt x="1857974" y="820305"/>
                  <a:pt x="1841158" y="825910"/>
                </a:cubicBezTo>
                <a:lnTo>
                  <a:pt x="1752667" y="855407"/>
                </a:lnTo>
                <a:cubicBezTo>
                  <a:pt x="1737919" y="860323"/>
                  <a:pt x="1723812" y="867956"/>
                  <a:pt x="1708422" y="870155"/>
                </a:cubicBezTo>
                <a:lnTo>
                  <a:pt x="1605184" y="884904"/>
                </a:lnTo>
                <a:cubicBezTo>
                  <a:pt x="1575687" y="894736"/>
                  <a:pt x="1547182" y="908302"/>
                  <a:pt x="1516693" y="914400"/>
                </a:cubicBezTo>
                <a:cubicBezTo>
                  <a:pt x="1408864" y="935967"/>
                  <a:pt x="1467767" y="925604"/>
                  <a:pt x="1339713" y="943897"/>
                </a:cubicBezTo>
                <a:cubicBezTo>
                  <a:pt x="1226642" y="938981"/>
                  <a:pt x="1113443" y="936436"/>
                  <a:pt x="1000500" y="929149"/>
                </a:cubicBezTo>
                <a:cubicBezTo>
                  <a:pt x="960947" y="926597"/>
                  <a:pt x="921985" y="917988"/>
                  <a:pt x="882513" y="914400"/>
                </a:cubicBezTo>
                <a:cubicBezTo>
                  <a:pt x="813795" y="908153"/>
                  <a:pt x="744861" y="904568"/>
                  <a:pt x="676035" y="899652"/>
                </a:cubicBezTo>
                <a:cubicBezTo>
                  <a:pt x="643194" y="891442"/>
                  <a:pt x="574499" y="873275"/>
                  <a:pt x="543300" y="870155"/>
                </a:cubicBezTo>
                <a:cubicBezTo>
                  <a:pt x="469761" y="862801"/>
                  <a:pt x="395816" y="860323"/>
                  <a:pt x="322074" y="855407"/>
                </a:cubicBezTo>
                <a:cubicBezTo>
                  <a:pt x="292577" y="845575"/>
                  <a:pt x="263748" y="833451"/>
                  <a:pt x="233584" y="825910"/>
                </a:cubicBezTo>
                <a:cubicBezTo>
                  <a:pt x="159508" y="807392"/>
                  <a:pt x="193820" y="817572"/>
                  <a:pt x="130345" y="796413"/>
                </a:cubicBezTo>
                <a:cubicBezTo>
                  <a:pt x="97729" y="763797"/>
                  <a:pt x="77136" y="748988"/>
                  <a:pt x="56603" y="707923"/>
                </a:cubicBezTo>
                <a:cubicBezTo>
                  <a:pt x="49651" y="694018"/>
                  <a:pt x="47629" y="678112"/>
                  <a:pt x="41855" y="663678"/>
                </a:cubicBezTo>
                <a:cubicBezTo>
                  <a:pt x="37772" y="653471"/>
                  <a:pt x="32022" y="644013"/>
                  <a:pt x="27106" y="634181"/>
                </a:cubicBezTo>
                <a:lnTo>
                  <a:pt x="56603" y="678426"/>
                </a:lnTo>
              </a:path>
            </a:pathLst>
          </a:custGeom>
          <a:solidFill>
            <a:srgbClr val="eef3f5"/>
          </a:solidFill>
          <a:ln w="38160">
            <a:solidFill>
              <a:srgbClr val="517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32"/>
                </a:solidFill>
                <a:latin typeface="Times New Roman"/>
                <a:ea typeface="DejaVu Sans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" dur="indefinite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dur="indefinite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8" dur="indefinite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dur="indefinite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" dur="indefinite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-0.23837 -0.12662 E">
                                      <p:cBhvr>
                                        <p:cTn id="3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dur="indefinite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" dur="indefinite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dur="indefinite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3" dur="indefinite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dur="indefinite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8" dur="indefinite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8:16:03Z</dcterms:created>
  <dc:creator>Козлова Н.В.</dc:creator>
  <dc:description/>
  <dc:language>en-US</dc:language>
  <cp:lastModifiedBy>Дмитрий Николаев</cp:lastModifiedBy>
  <dcterms:modified xsi:type="dcterms:W3CDTF">2022-12-08T16:46:26Z</dcterms:modified>
  <cp:revision>319</cp:revision>
  <dc:subject/>
  <dc:title>СИМ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