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18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742-F588-4911-824E-511619BD7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35C4-CB5B-422F-9811-EC803A212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A68-42DE-48E8-8D45-013B682DE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лы законодательства – лазейка для недобросовестных природопользователей – например безразмерной добычи ресурсов для продажи за рубеж (ресурсоограбляющее развит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З «Об информации, информатизации и защите информации» предусматривает равный доступ пользователей к информационным ресурсам, обязывает органы госвласти создавать доступные информационные ресурсы, запрещает ограничивать доступ к информации о чрезвычайных ситуациях. Конституция установила ответственность должностных лиц за сокрытие фактов и обстоятельств, создающих угрозу для жизни и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F4D1-03A1-4728-ACE4-B7FDC6BEC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057-0F2F-4DEC-9C32-2A762C92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0F3-6EEC-44C0-B58C-D6320EC4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E67-56B2-4881-BAFE-79C29C71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BDA-BF71-4AEB-B467-F38E7A71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C87-056C-49C1-AC3E-76BAAB08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4DB-69C3-4C13-8DC8-CDFD9A8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2A7-F92B-4112-A849-EEED30FA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DC0-D503-4311-AD3B-076B5E74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926-B5CE-4DF6-A179-5E7745B5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02A-3FF6-47D1-81C4-B22ACF84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C94-6FBD-49AC-A627-F2B8E66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4B0-7673-4A94-849D-08869EEA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2F06-B466-4E8B-B1AF-6E59FF9ED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9160" y="2456640"/>
            <a:ext cx="3108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539640" y="1413000"/>
            <a:ext cx="8604360" cy="5005440"/>
            <a:chOff x="539640" y="1413000"/>
            <a:chExt cx="8604360" cy="5005440"/>
          </a:xfrm>
        </p:grpSpPr>
        <p:sp>
          <p:nvSpPr>
            <p:cNvPr id="50" name="Rectangle 5"/>
            <p:cNvSpPr/>
            <p:nvPr/>
          </p:nvSpPr>
          <p:spPr>
            <a:xfrm>
              <a:off x="539640" y="1413000"/>
              <a:ext cx="6048360" cy="500544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2414880" y="4374720"/>
              <a:ext cx="4173120" cy="20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217160" y="2372400"/>
              <a:ext cx="7926840" cy="32601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8"/>
          <p:cNvSpPr/>
          <p:nvPr/>
        </p:nvSpPr>
        <p:spPr>
          <a:xfrm>
            <a:off x="3089160" y="6678720"/>
            <a:ext cx="5516640" cy="179280"/>
          </a:xfrm>
          <a:prstGeom prst="roundRect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665520" y="4952880"/>
            <a:ext cx="46083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дрес: 35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г. Краснод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ул. Энгельса, 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29000" y="5486400"/>
            <a:ext cx="39625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Директор:   (861) 255-91-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екретарь: (861) 255-93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Факс:           255-93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айт: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//skool41kubanne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PHOTO41"/>
          <p:cNvPicPr/>
          <p:nvPr/>
        </p:nvPicPr>
        <p:blipFill>
          <a:blip r:embed="rId1"/>
          <a:stretch/>
        </p:blipFill>
        <p:spPr>
          <a:xfrm>
            <a:off x="2050920" y="2852640"/>
            <a:ext cx="4753080" cy="252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eneric_mail"/>
          <p:cNvPicPr/>
          <p:nvPr/>
        </p:nvPicPr>
        <p:blipFill>
          <a:blip r:embed="rId2"/>
          <a:stretch/>
        </p:blipFill>
        <p:spPr>
          <a:xfrm rot="20497200">
            <a:off x="4876560" y="4876560"/>
            <a:ext cx="826920" cy="471240"/>
          </a:xfrm>
          <a:prstGeom prst="rect">
            <a:avLst/>
          </a:prstGeom>
          <a:ln w="0">
            <a:noFill/>
          </a:ln>
        </p:spPr>
      </p:pic>
      <p:sp>
        <p:nvSpPr>
          <p:cNvPr id="58" name="phone3"/>
          <p:cNvSpPr/>
          <p:nvPr/>
        </p:nvSpPr>
        <p:spPr>
          <a:xfrm>
            <a:off x="7620120" y="5943600"/>
            <a:ext cx="647640" cy="425520"/>
          </a:xfrm>
          <a:custGeom>
            <a:avLst/>
            <a:gdLst>
              <a:gd name="textAreaLeft" fmla="*/ 5760 w 647640"/>
              <a:gd name="textAreaRight" fmla="*/ 641880 w 647640"/>
              <a:gd name="textAreaTop" fmla="*/ 463320 h 425520"/>
              <a:gd name="textAreaBottom" fmla="*/ 798120 h 425520"/>
            </a:gdLst>
            <a:ahLst/>
            <a:rect l="textAreaLeft" t="textAreaTop" r="textAreaRight" b="textAreaBottom"/>
            <a:pathLst>
              <a:path w="21600" h="21600">
                <a:moveTo>
                  <a:pt x="10692" y="21600"/>
                </a:moveTo>
                <a:lnTo>
                  <a:pt x="21600" y="21600"/>
                </a:lnTo>
                <a:lnTo>
                  <a:pt x="21600" y="10684"/>
                </a:lnTo>
                <a:lnTo>
                  <a:pt x="21600" y="0"/>
                </a:lnTo>
                <a:lnTo>
                  <a:pt x="10190" y="0"/>
                </a:lnTo>
                <a:lnTo>
                  <a:pt x="0" y="0"/>
                </a:lnTo>
                <a:lnTo>
                  <a:pt x="0" y="10916"/>
                </a:lnTo>
                <a:lnTo>
                  <a:pt x="0" y="21600"/>
                </a:lnTo>
                <a:lnTo>
                  <a:pt x="10692" y="21600"/>
                </a:lnTo>
                <a:close/>
              </a:path>
              <a:path w="21600" h="21600">
                <a:moveTo>
                  <a:pt x="3552" y="13565"/>
                </a:moveTo>
                <a:lnTo>
                  <a:pt x="3552" y="14206"/>
                </a:lnTo>
                <a:lnTo>
                  <a:pt x="3409" y="14584"/>
                </a:lnTo>
                <a:lnTo>
                  <a:pt x="3050" y="15021"/>
                </a:lnTo>
                <a:lnTo>
                  <a:pt x="2619" y="15429"/>
                </a:lnTo>
                <a:lnTo>
                  <a:pt x="2296" y="15836"/>
                </a:lnTo>
                <a:lnTo>
                  <a:pt x="2045" y="16244"/>
                </a:lnTo>
                <a:lnTo>
                  <a:pt x="1902" y="16564"/>
                </a:lnTo>
                <a:lnTo>
                  <a:pt x="1794" y="17001"/>
                </a:lnTo>
                <a:lnTo>
                  <a:pt x="1830" y="17466"/>
                </a:lnTo>
                <a:lnTo>
                  <a:pt x="2009" y="17932"/>
                </a:lnTo>
                <a:lnTo>
                  <a:pt x="2260" y="18311"/>
                </a:lnTo>
                <a:lnTo>
                  <a:pt x="2548" y="18718"/>
                </a:lnTo>
                <a:lnTo>
                  <a:pt x="3050" y="19126"/>
                </a:lnTo>
                <a:lnTo>
                  <a:pt x="3552" y="19533"/>
                </a:lnTo>
                <a:lnTo>
                  <a:pt x="4342" y="19737"/>
                </a:lnTo>
                <a:lnTo>
                  <a:pt x="5095" y="19737"/>
                </a:lnTo>
                <a:lnTo>
                  <a:pt x="5849" y="19737"/>
                </a:lnTo>
                <a:lnTo>
                  <a:pt x="6351" y="19533"/>
                </a:lnTo>
                <a:lnTo>
                  <a:pt x="7140" y="19126"/>
                </a:lnTo>
                <a:lnTo>
                  <a:pt x="7535" y="18747"/>
                </a:lnTo>
                <a:lnTo>
                  <a:pt x="7894" y="18311"/>
                </a:lnTo>
                <a:lnTo>
                  <a:pt x="8145" y="17903"/>
                </a:lnTo>
                <a:lnTo>
                  <a:pt x="8324" y="17408"/>
                </a:lnTo>
                <a:lnTo>
                  <a:pt x="8324" y="16942"/>
                </a:lnTo>
                <a:lnTo>
                  <a:pt x="8252" y="16593"/>
                </a:lnTo>
                <a:lnTo>
                  <a:pt x="8145" y="16244"/>
                </a:lnTo>
                <a:lnTo>
                  <a:pt x="7894" y="15836"/>
                </a:lnTo>
                <a:lnTo>
                  <a:pt x="7571" y="15429"/>
                </a:lnTo>
                <a:lnTo>
                  <a:pt x="7140" y="15021"/>
                </a:lnTo>
                <a:lnTo>
                  <a:pt x="6853" y="14613"/>
                </a:lnTo>
                <a:lnTo>
                  <a:pt x="6602" y="14206"/>
                </a:lnTo>
                <a:lnTo>
                  <a:pt x="6602" y="13565"/>
                </a:lnTo>
                <a:lnTo>
                  <a:pt x="6602" y="8035"/>
                </a:lnTo>
                <a:lnTo>
                  <a:pt x="6602" y="7598"/>
                </a:lnTo>
                <a:lnTo>
                  <a:pt x="6853" y="6987"/>
                </a:lnTo>
                <a:lnTo>
                  <a:pt x="7212" y="6579"/>
                </a:lnTo>
                <a:lnTo>
                  <a:pt x="7643" y="6171"/>
                </a:lnTo>
                <a:lnTo>
                  <a:pt x="7894" y="5764"/>
                </a:lnTo>
                <a:lnTo>
                  <a:pt x="8037" y="5531"/>
                </a:lnTo>
                <a:lnTo>
                  <a:pt x="8252" y="5153"/>
                </a:lnTo>
                <a:lnTo>
                  <a:pt x="8360" y="4599"/>
                </a:lnTo>
                <a:lnTo>
                  <a:pt x="8288" y="4134"/>
                </a:lnTo>
                <a:lnTo>
                  <a:pt x="8145" y="3697"/>
                </a:lnTo>
                <a:lnTo>
                  <a:pt x="7894" y="3289"/>
                </a:lnTo>
                <a:lnTo>
                  <a:pt x="7499" y="2853"/>
                </a:lnTo>
                <a:lnTo>
                  <a:pt x="7033" y="2533"/>
                </a:lnTo>
                <a:lnTo>
                  <a:pt x="6387" y="2242"/>
                </a:lnTo>
                <a:lnTo>
                  <a:pt x="5849" y="2067"/>
                </a:lnTo>
                <a:lnTo>
                  <a:pt x="5095" y="1950"/>
                </a:lnTo>
                <a:lnTo>
                  <a:pt x="4234" y="2038"/>
                </a:lnTo>
                <a:lnTo>
                  <a:pt x="3552" y="2271"/>
                </a:lnTo>
                <a:lnTo>
                  <a:pt x="3050" y="2504"/>
                </a:lnTo>
                <a:lnTo>
                  <a:pt x="2548" y="2882"/>
                </a:lnTo>
                <a:lnTo>
                  <a:pt x="2225" y="3231"/>
                </a:lnTo>
                <a:lnTo>
                  <a:pt x="1973" y="3697"/>
                </a:lnTo>
                <a:lnTo>
                  <a:pt x="1794" y="4308"/>
                </a:lnTo>
                <a:lnTo>
                  <a:pt x="1794" y="4745"/>
                </a:lnTo>
                <a:lnTo>
                  <a:pt x="1866" y="5123"/>
                </a:lnTo>
                <a:lnTo>
                  <a:pt x="2045" y="5560"/>
                </a:lnTo>
                <a:lnTo>
                  <a:pt x="2296" y="5851"/>
                </a:lnTo>
                <a:lnTo>
                  <a:pt x="2548" y="6171"/>
                </a:lnTo>
                <a:lnTo>
                  <a:pt x="3014" y="6608"/>
                </a:lnTo>
                <a:lnTo>
                  <a:pt x="3301" y="6987"/>
                </a:lnTo>
                <a:lnTo>
                  <a:pt x="3552" y="7598"/>
                </a:lnTo>
                <a:lnTo>
                  <a:pt x="3552" y="8035"/>
                </a:lnTo>
                <a:lnTo>
                  <a:pt x="3552" y="13565"/>
                </a:lnTo>
                <a:close/>
              </a:path>
              <a:path w="21600" h="21600">
                <a:moveTo>
                  <a:pt x="10154" y="1863"/>
                </a:moveTo>
                <a:lnTo>
                  <a:pt x="19088" y="1863"/>
                </a:lnTo>
                <a:lnTo>
                  <a:pt x="19088" y="8238"/>
                </a:lnTo>
                <a:lnTo>
                  <a:pt x="10154" y="8238"/>
                </a:lnTo>
                <a:lnTo>
                  <a:pt x="10154" y="1863"/>
                </a:lnTo>
                <a:moveTo>
                  <a:pt x="10441" y="10101"/>
                </a:moveTo>
                <a:lnTo>
                  <a:pt x="10441" y="9461"/>
                </a:lnTo>
                <a:lnTo>
                  <a:pt x="18837" y="9461"/>
                </a:lnTo>
                <a:lnTo>
                  <a:pt x="18837" y="10101"/>
                </a:lnTo>
                <a:lnTo>
                  <a:pt x="10441" y="10101"/>
                </a:lnTo>
                <a:moveTo>
                  <a:pt x="11374" y="11004"/>
                </a:moveTo>
                <a:lnTo>
                  <a:pt x="12630" y="11004"/>
                </a:lnTo>
                <a:lnTo>
                  <a:pt x="12630" y="12226"/>
                </a:lnTo>
                <a:lnTo>
                  <a:pt x="11374" y="12226"/>
                </a:lnTo>
                <a:lnTo>
                  <a:pt x="11374" y="11004"/>
                </a:lnTo>
                <a:moveTo>
                  <a:pt x="13993" y="11004"/>
                </a:moveTo>
                <a:lnTo>
                  <a:pt x="15249" y="11004"/>
                </a:lnTo>
                <a:lnTo>
                  <a:pt x="15249" y="12226"/>
                </a:lnTo>
                <a:lnTo>
                  <a:pt x="13993" y="12226"/>
                </a:lnTo>
                <a:lnTo>
                  <a:pt x="13993" y="11004"/>
                </a:lnTo>
                <a:moveTo>
                  <a:pt x="16649" y="11004"/>
                </a:moveTo>
                <a:lnTo>
                  <a:pt x="17904" y="11004"/>
                </a:lnTo>
                <a:lnTo>
                  <a:pt x="17904" y="12226"/>
                </a:lnTo>
                <a:lnTo>
                  <a:pt x="16649" y="12226"/>
                </a:lnTo>
                <a:lnTo>
                  <a:pt x="16649" y="11004"/>
                </a:lnTo>
                <a:moveTo>
                  <a:pt x="11374" y="12954"/>
                </a:moveTo>
                <a:lnTo>
                  <a:pt x="12630" y="12954"/>
                </a:lnTo>
                <a:lnTo>
                  <a:pt x="12630" y="14177"/>
                </a:lnTo>
                <a:lnTo>
                  <a:pt x="11374" y="14177"/>
                </a:lnTo>
                <a:lnTo>
                  <a:pt x="11374" y="12954"/>
                </a:lnTo>
                <a:moveTo>
                  <a:pt x="13993" y="12954"/>
                </a:moveTo>
                <a:lnTo>
                  <a:pt x="15249" y="12954"/>
                </a:lnTo>
                <a:lnTo>
                  <a:pt x="15249" y="14177"/>
                </a:lnTo>
                <a:lnTo>
                  <a:pt x="13993" y="14177"/>
                </a:lnTo>
                <a:lnTo>
                  <a:pt x="13993" y="12954"/>
                </a:lnTo>
                <a:moveTo>
                  <a:pt x="16649" y="12954"/>
                </a:moveTo>
                <a:lnTo>
                  <a:pt x="17904" y="12954"/>
                </a:lnTo>
                <a:lnTo>
                  <a:pt x="17904" y="14177"/>
                </a:lnTo>
                <a:lnTo>
                  <a:pt x="16649" y="14177"/>
                </a:lnTo>
                <a:lnTo>
                  <a:pt x="16649" y="12954"/>
                </a:lnTo>
                <a:moveTo>
                  <a:pt x="11374" y="14905"/>
                </a:moveTo>
                <a:lnTo>
                  <a:pt x="12630" y="14905"/>
                </a:lnTo>
                <a:lnTo>
                  <a:pt x="12630" y="16127"/>
                </a:lnTo>
                <a:lnTo>
                  <a:pt x="11374" y="16127"/>
                </a:lnTo>
                <a:lnTo>
                  <a:pt x="11374" y="14905"/>
                </a:lnTo>
                <a:moveTo>
                  <a:pt x="13993" y="14905"/>
                </a:moveTo>
                <a:lnTo>
                  <a:pt x="15249" y="14905"/>
                </a:lnTo>
                <a:lnTo>
                  <a:pt x="15249" y="16127"/>
                </a:lnTo>
                <a:lnTo>
                  <a:pt x="13993" y="16127"/>
                </a:lnTo>
                <a:lnTo>
                  <a:pt x="13993" y="14905"/>
                </a:lnTo>
                <a:moveTo>
                  <a:pt x="16649" y="14905"/>
                </a:moveTo>
                <a:lnTo>
                  <a:pt x="17904" y="14905"/>
                </a:lnTo>
                <a:lnTo>
                  <a:pt x="17904" y="16127"/>
                </a:lnTo>
                <a:lnTo>
                  <a:pt x="16649" y="16127"/>
                </a:lnTo>
                <a:lnTo>
                  <a:pt x="16649" y="14905"/>
                </a:lnTo>
                <a:moveTo>
                  <a:pt x="11374" y="16855"/>
                </a:moveTo>
                <a:lnTo>
                  <a:pt x="12630" y="16855"/>
                </a:lnTo>
                <a:lnTo>
                  <a:pt x="12630" y="18078"/>
                </a:lnTo>
                <a:lnTo>
                  <a:pt x="11374" y="18078"/>
                </a:lnTo>
                <a:lnTo>
                  <a:pt x="11374" y="16855"/>
                </a:lnTo>
                <a:moveTo>
                  <a:pt x="13993" y="16855"/>
                </a:moveTo>
                <a:lnTo>
                  <a:pt x="15249" y="16855"/>
                </a:lnTo>
                <a:lnTo>
                  <a:pt x="15249" y="18078"/>
                </a:lnTo>
                <a:lnTo>
                  <a:pt x="13993" y="18078"/>
                </a:lnTo>
                <a:lnTo>
                  <a:pt x="13993" y="16855"/>
                </a:lnTo>
                <a:moveTo>
                  <a:pt x="16649" y="16855"/>
                </a:moveTo>
                <a:lnTo>
                  <a:pt x="17904" y="16855"/>
                </a:lnTo>
                <a:lnTo>
                  <a:pt x="17904" y="18078"/>
                </a:lnTo>
                <a:lnTo>
                  <a:pt x="16649" y="18078"/>
                </a:lnTo>
                <a:lnTo>
                  <a:pt x="16649" y="16855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dArt 15" descr=""/>
          <p:cNvPicPr/>
          <p:nvPr/>
        </p:nvPicPr>
        <p:blipFill>
          <a:blip r:embed="rId3"/>
          <a:stretch/>
        </p:blipFill>
        <p:spPr>
          <a:xfrm>
            <a:off x="463680" y="-36360"/>
            <a:ext cx="5522760" cy="1639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C:\Users\27\Desktop\глобус - копия.jpeg"/>
          <p:cNvPicPr/>
          <p:nvPr/>
        </p:nvPicPr>
        <p:blipFill>
          <a:blip r:embed="rId4"/>
          <a:srcRect l="25420" t="49103" r="52262" b="0"/>
          <a:stretch/>
        </p:blipFill>
        <p:spPr>
          <a:xfrm>
            <a:off x="7524720" y="189000"/>
            <a:ext cx="129528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265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Задание № 28. Пояснение</a:t>
            </a: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явления и последствия экологического кризи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ути преодоления экологического кризи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менение отношения людей к приро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ука на службе эк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еждународное сотрудничество в решении экологических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C:\Users\27\Desktop\глобус - копия.jpeg"/>
          <p:cNvPicPr/>
          <p:nvPr/>
        </p:nvPicPr>
        <p:blipFill>
          <a:blip r:embed="rId2"/>
          <a:srcRect l="25420" t="49104" r="52256" b="0"/>
          <a:stretch/>
        </p:blipFill>
        <p:spPr>
          <a:xfrm>
            <a:off x="7596360" y="404640"/>
            <a:ext cx="1368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вокупность правовых нор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регулируют общественные отношения, возникающие в результат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а и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экологического прав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права человека на благоприятную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2388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836640"/>
            <a:ext cx="7920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Природные объекты (земля, вода, недра, воздух, флора, фауна, космо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Природно-антропогенные объекты (парки, сады, лесополосы, пру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Антропогенные объекты (здания, дороги, линии электропередач, мос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2000160" y="4005360"/>
            <a:ext cx="60278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Задание № 28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«Экологическое право как                                               совокупность юридических нор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2536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экологического права как совокупности юридических норм, предназначенных для регулирования поведения людей по отношению к окружающей природ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ы охраны окружающей среды от загряз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, недра,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ые и подземны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и иная растительность, животные и другие организмы и их генетический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ный воздух, озоновый слой атмосферы и околоземное космическ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ституция РФ,  статья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благоприят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достоверную информацию о состоянии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возмещение в полном объеме ущерба, причиненного здоровью или имуществу экологическим правонаруш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07920"/>
            <a:ext cx="7238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ларация по окружающей среде и развитию 1992 –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бота о людя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я РФ 1993, ст. 41,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З «Об охране окружающей сре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З «О недр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З «Об информации, информатизации и защите информ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аконные акты: СанП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320400"/>
            <a:ext cx="79930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знаки благоприятной сре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та (незагрязнен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оемкость (неисчерпаем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овое разнообраз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тетическое бог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Задание № 28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«Экологическое право как                                               совокупность юридических норм»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Источники экологическ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е законы «Об охране окружающей среды», «О недрах», «Об охране атмосферного воздуха», «О животном ми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ель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о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знаки благоприятной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ота (незагрязнен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оемкость (неисчерпаем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вое разнообра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тетическ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Arial"/>
              </a:rPr>
              <a:t>Система экологических нормат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рмативы качеств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нормативы предельно допустимых концентраций (ПД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рмативы предельно допустимого вредного  воздейств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остояние окружающей среды (ПД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рмативы допустимого изъятия природных ресурс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скопаемых, водных, земельных, лесных, животного м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экологических нормати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 качества – это нормативы предельно допустимых концентраций (ПД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 предельно допустимого вредного  воздействия на состояние окружающей среды (ПД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 допустимого изъятия природных ресурс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скопаемых, водных, земельных, лесных, животного ми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ЫПОЛНЕНИЕ ЗАДАНИЙ ЕГЭ ПО ОБЩЕСТВОЗНАНИЮ       № 26, 28 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тематики экологической направленности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C:\Users\27\Desktop\глобус - копия.jpeg"/>
          <p:cNvPicPr/>
          <p:nvPr/>
        </p:nvPicPr>
        <p:blipFill>
          <a:blip r:embed="rId1"/>
          <a:srcRect l="25419" t="49103" r="52261" b="0"/>
          <a:stretch/>
        </p:blipFill>
        <p:spPr>
          <a:xfrm>
            <a:off x="7596360" y="333360"/>
            <a:ext cx="115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 за нарушение законодательства об охране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рная (связана с трудовой деятельностью работников, не выполняющих требования по охране окружающей сре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(причинение вреда природной среде, здоровью челов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овная ответственность (нарушение правил охраны окружающей среды при производстве работ, загрязнение вод, атмосферы, порча зем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10920" y="260280"/>
            <a:ext cx="8302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ое право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щественно опасное вредное виновные деяние, нарушающее нормы законодательства об охране окружающей сре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ущественная (гражданско-правовая) (ГК РФ –гл.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ивная (КоАП РФ – гл.8) - 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рная (ТК РФ – гл.39) – возмещение ущер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вная  (УК РФ – гл.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совершеннолетние от 14 до 18 лет несут ответственность за причиненный вред на общих осн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Экологическое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Виды ответственности за экологическое правонару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ущественная (гражданско-правова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26. Назовите три несудебных способа защиты экологических прав и проиллюстрируйте каждый из них соответствующим пример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астие в общественных объединениях, фондах, осуществляющих деятельность в области охраны окружающей среды (пример: активисты общественного экологического движения приступили к разработке в области охраны окружающей среды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астие в собраниях, митингах, шествиях, демонстрациях и иных не противоречащих законодательству РФ акциях(пример: проведение референдума по вопросам охраны окружающей среды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ращение в органы  государственной власти РФ, ее субъектов и органы местного самоуправления по вопросам охраны окружающей среды (пример: группа жильцов дома, находящегося недалеко от промышленного предприятия обратилась в Ростехнадзор в целях получения достоверной информации о состоянии окружающей среды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26. Назовите три несудебных способа защиты экологических прав и проиллюстрируйте каждый из них соответствующим прим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"/>
          <p:cNvPicPr/>
          <p:nvPr/>
        </p:nvPicPr>
        <p:blipFill>
          <a:blip r:embed="rId1"/>
          <a:stretch/>
        </p:blipFill>
        <p:spPr>
          <a:xfrm>
            <a:off x="7380360" y="1341360"/>
            <a:ext cx="1392120" cy="144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L33"/>
          <p:cNvPicPr/>
          <p:nvPr/>
        </p:nvPicPr>
        <p:blipFill>
          <a:blip r:embed="rId2"/>
          <a:stretch/>
        </p:blipFill>
        <p:spPr>
          <a:xfrm>
            <a:off x="5940360" y="357336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27\Desktop\hqdefault.jpg"/>
          <p:cNvPicPr/>
          <p:nvPr/>
        </p:nvPicPr>
        <p:blipFill>
          <a:blip r:embed="rId3"/>
          <a:stretch/>
        </p:blipFill>
        <p:spPr>
          <a:xfrm>
            <a:off x="1476360" y="2852640"/>
            <a:ext cx="3097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Кодификатор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ов содержания и требований к уровн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и выпускников образователь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й для про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го государственного экзаме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бществознанию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3213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18.  Угрозы XXI в. (глобальные пробле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12. Право на благоприятную окружающую среду и способы его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C:\Users\27\Desktop\глобус - копия.jpeg"/>
          <p:cNvPicPr/>
          <p:nvPr/>
        </p:nvPicPr>
        <p:blipFill>
          <a:blip r:embed="rId1"/>
          <a:srcRect l="25420" t="49099" r="52256" b="0"/>
          <a:stretch/>
        </p:blipFill>
        <p:spPr>
          <a:xfrm>
            <a:off x="7524720" y="189000"/>
            <a:ext cx="1368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С помощью трёх примеров проиллюстрируйте взаимосвязь глобальных проблем современност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4422240"/>
            <a:ext cx="770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Э. Обществознание. Типовые тестовые зад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/ФИПИ 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Л. Рутковская, А.Ю. Лазебникова, Е.С. Корольк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Экзамен, 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843280" y="18900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Задание № 26</a:t>
            </a: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C:\Users\27\Desktop\глобус - копия.jpeg"/>
          <p:cNvPicPr/>
          <p:nvPr/>
        </p:nvPicPr>
        <p:blipFill>
          <a:blip r:embed="rId1"/>
          <a:srcRect l="25420" t="49108" r="52257" b="0"/>
          <a:stretch/>
        </p:blipFill>
        <p:spPr>
          <a:xfrm>
            <a:off x="7524720" y="189000"/>
            <a:ext cx="1440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26.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 помощью трёх примеров проиллюстрируйте взаимосвязь </a:t>
            </a: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глобальных проблем современност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отсталость развивающихся стран порождает использование технологий, наносящих большой урон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рост народонаселения в  развивающихся странах усугубляет экономические проблемы, увеличивает отставание от развиты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социально-экономический уровень ряда развивающихся стран, отсутствие развитых систем здравоохранения, образования ведёт к росту опас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C:\Users\27\Desktop\глобус - копия.jpeg"/>
          <p:cNvPicPr/>
          <p:nvPr/>
        </p:nvPicPr>
        <p:blipFill>
          <a:blip r:embed="rId1"/>
          <a:srcRect l="25420" t="49100" r="52256" b="0"/>
          <a:stretch/>
        </p:blipFill>
        <p:spPr>
          <a:xfrm>
            <a:off x="752472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Задание № 26</a:t>
            </a: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Назовите и проиллюстрируйте примерами три проявления процесса глобализации в современном ми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ГЭ. Обществознание. Подготовка к ЕГЭ-201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вторы: О.А. Чернышева,  Р.В. Пазин, М.Н. Руденко, П.А. Ушаков – Ростов-на-Дону.: Легион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C:\Users\27\Desktop\глобус - копия.jpeg"/>
          <p:cNvPicPr/>
          <p:nvPr/>
        </p:nvPicPr>
        <p:blipFill>
          <a:blip r:embed="rId1"/>
          <a:srcRect l="25420" t="49100" r="52256" b="0"/>
          <a:stretch/>
        </p:blipFill>
        <p:spPr>
          <a:xfrm>
            <a:off x="752472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7129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Назовите и проиллюстрируйте </a:t>
            </a: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мерами три проявления процесса </a:t>
            </a: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глобализации в современном мире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ояснени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915920"/>
            <a:ext cx="8785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ое экономическое пространство (создание транснациональных корпораций, трудовые миграци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Единое информационное пространство (Интерне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острение глобальных проблем современности, требующих совместных усилий народов всех стран (Международные научные конференции по решению экологических пробле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C:\Users\27\Desktop\глобус - копия.jpeg"/>
          <p:cNvPicPr/>
          <p:nvPr/>
        </p:nvPicPr>
        <p:blipFill>
          <a:blip r:embed="rId1"/>
          <a:srcRect l="25420" t="49100" r="52256" b="0"/>
          <a:stretch/>
        </p:blipFill>
        <p:spPr>
          <a:xfrm>
            <a:off x="752472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Задание № 2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120" y="1052640"/>
            <a:ext cx="8501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предстоит подготовить развернутый ответ по теме: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«Экологический кризис как глобальная проблема современност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, в соответствии с которым вы будете освещать эту тему. План должен содержать не менее трех пунктов, из которых два или более детализированы в подпунк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C:\Users\27\Desktop\глобус - копия.jpeg"/>
          <p:cNvPicPr/>
          <p:nvPr/>
        </p:nvPicPr>
        <p:blipFill>
          <a:blip r:embed="rId1"/>
          <a:srcRect l="25420" t="49104" r="52256" b="0"/>
          <a:stretch/>
        </p:blipFill>
        <p:spPr>
          <a:xfrm>
            <a:off x="7596360" y="260280"/>
            <a:ext cx="1368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349000"/>
            <a:ext cx="6562800" cy="37767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24000" y="1700280"/>
            <a:ext cx="79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ы ставшие  глобальными для человеч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ущность экологического кризиса и его связь с другими глобальными пробл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ем вызван экологический кризи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ост масштабов хозяйственной деятельност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требительск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57200" y="274680"/>
            <a:ext cx="8229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28.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«Экологический кризис как глобальная проблема современности»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27</cp:lastModifiedBy>
  <dcterms:modified xsi:type="dcterms:W3CDTF">2017-05-15T11:41:17Z</dcterms:modified>
  <cp:revision>30</cp:revision>
  <dc:subject/>
  <dc:title>«Организация процесса самообразования в педагогической деятельности учителя»</dc:title>
</cp:coreProperties>
</file>