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9.jpeg" ContentType="image/jpeg"/>
  <Override PartName="/ppt/media/image11.png" ContentType="image/png"/>
  <Override PartName="/ppt/media/image7.jpeg" ContentType="image/jpeg"/>
  <Override PartName="/ppt/media/image15.gif" ContentType="image/gif"/>
  <Override PartName="/ppt/media/image18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7468-C0AD-4482-BCF3-25EFA2A033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135B-AA6F-4A03-8F8B-CD790690F8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A30D-F6EF-480C-ABE5-0001915A96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елы законодательства – лазейка для недобросовестных природопользователей – например безразмерной добычи ресурсов для продажи за рубеж (ресурсоограбляющее развит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З «Об информации, информатизации и защите информации» предусматривает равный доступ пользователей к информационным ресурсам, обязывает органы госвласти создавать доступные информационные ресурсы, запрещает ограничивать доступ к информации о чрезвычайных ситуациях. Конституция установила ответственность должностных лиц за сокрытие фактов и обстоятельств, создающих угрозу для жизни и здоровья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93F2-F4C4-4E7D-BB8D-8111F7970C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438-EA0E-4097-A46D-732E0CF1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75A-1E7D-4125-8AAB-56EF9013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55C8-D7DF-4B10-9CF0-9321E8E0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43D-F65E-46FC-8481-3F0D2AC4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8FA-96E0-4A0D-8091-7E54DCFE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428-EBB4-436D-8649-F6B51BC3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346-473B-4991-BC6E-DA0438FB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A2F-CBA6-48A1-9C2E-03CD9E24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9149-6348-4BF9-947E-1D97C5A8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6F08-BB8F-4D9B-8192-E0293B42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111-A81B-46B3-BBD4-02004DB6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71E3-8C85-4A4E-B277-241DC4DB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AC00-EED8-4E8C-9D22-D219E4B89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29160" y="2456640"/>
            <a:ext cx="3108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539640" y="1413000"/>
            <a:ext cx="8604360" cy="5005440"/>
            <a:chOff x="539640" y="1413000"/>
            <a:chExt cx="8604360" cy="5005440"/>
          </a:xfrm>
        </p:grpSpPr>
        <p:sp>
          <p:nvSpPr>
            <p:cNvPr id="50" name="Rectangle 5"/>
            <p:cNvSpPr/>
            <p:nvPr/>
          </p:nvSpPr>
          <p:spPr>
            <a:xfrm>
              <a:off x="539640" y="1413000"/>
              <a:ext cx="6048360" cy="500544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2414880" y="4374720"/>
              <a:ext cx="4173120" cy="20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217160" y="2372400"/>
              <a:ext cx="7926840" cy="32601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AutoShape 8"/>
          <p:cNvSpPr/>
          <p:nvPr/>
        </p:nvSpPr>
        <p:spPr>
          <a:xfrm>
            <a:off x="3089160" y="6678720"/>
            <a:ext cx="5516640" cy="179280"/>
          </a:xfrm>
          <a:prstGeom prst="roundRect">
            <a:avLst>
              <a:gd name="adj" fmla="val 50000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665520" y="4952880"/>
            <a:ext cx="46083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Адрес: 350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                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г. Краснод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ул. Энгельса, 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429000" y="5486400"/>
            <a:ext cx="39625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Директор:   (861) 255-91-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Секретарь: (861) 255-93-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Факс:           255-93-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Сайт: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ttp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//skool41kubannet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PHOTO41"/>
          <p:cNvPicPr/>
          <p:nvPr/>
        </p:nvPicPr>
        <p:blipFill>
          <a:blip r:embed="rId1"/>
          <a:stretch/>
        </p:blipFill>
        <p:spPr>
          <a:xfrm>
            <a:off x="2050920" y="2852640"/>
            <a:ext cx="4753080" cy="2525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generic_mail"/>
          <p:cNvPicPr/>
          <p:nvPr/>
        </p:nvPicPr>
        <p:blipFill>
          <a:blip r:embed="rId2"/>
          <a:stretch/>
        </p:blipFill>
        <p:spPr>
          <a:xfrm rot="20497200">
            <a:off x="4876560" y="4876560"/>
            <a:ext cx="826920" cy="471240"/>
          </a:xfrm>
          <a:prstGeom prst="rect">
            <a:avLst/>
          </a:prstGeom>
          <a:ln w="0">
            <a:noFill/>
          </a:ln>
        </p:spPr>
      </p:pic>
      <p:sp>
        <p:nvSpPr>
          <p:cNvPr id="58" name="phone3"/>
          <p:cNvSpPr/>
          <p:nvPr/>
        </p:nvSpPr>
        <p:spPr>
          <a:xfrm>
            <a:off x="7620120" y="5943600"/>
            <a:ext cx="647640" cy="425520"/>
          </a:xfrm>
          <a:custGeom>
            <a:avLst/>
            <a:gdLst>
              <a:gd name="textAreaLeft" fmla="*/ 5760 w 647640"/>
              <a:gd name="textAreaRight" fmla="*/ 641880 w 647640"/>
              <a:gd name="textAreaTop" fmla="*/ 463320 h 425520"/>
              <a:gd name="textAreaBottom" fmla="*/ 798120 h 425520"/>
            </a:gdLst>
            <a:ahLst/>
            <a:rect l="textAreaLeft" t="textAreaTop" r="textAreaRight" b="textAreaBottom"/>
            <a:pathLst>
              <a:path w="21600" h="21600">
                <a:moveTo>
                  <a:pt x="10692" y="21600"/>
                </a:moveTo>
                <a:lnTo>
                  <a:pt x="21600" y="21600"/>
                </a:lnTo>
                <a:lnTo>
                  <a:pt x="21600" y="10684"/>
                </a:lnTo>
                <a:lnTo>
                  <a:pt x="21600" y="0"/>
                </a:lnTo>
                <a:lnTo>
                  <a:pt x="10190" y="0"/>
                </a:lnTo>
                <a:lnTo>
                  <a:pt x="0" y="0"/>
                </a:lnTo>
                <a:lnTo>
                  <a:pt x="0" y="10916"/>
                </a:lnTo>
                <a:lnTo>
                  <a:pt x="0" y="21600"/>
                </a:lnTo>
                <a:lnTo>
                  <a:pt x="10692" y="21600"/>
                </a:lnTo>
                <a:close/>
              </a:path>
              <a:path w="21600" h="21600">
                <a:moveTo>
                  <a:pt x="3552" y="13565"/>
                </a:moveTo>
                <a:lnTo>
                  <a:pt x="3552" y="14206"/>
                </a:lnTo>
                <a:lnTo>
                  <a:pt x="3409" y="14584"/>
                </a:lnTo>
                <a:lnTo>
                  <a:pt x="3050" y="15021"/>
                </a:lnTo>
                <a:lnTo>
                  <a:pt x="2619" y="15429"/>
                </a:lnTo>
                <a:lnTo>
                  <a:pt x="2296" y="15836"/>
                </a:lnTo>
                <a:lnTo>
                  <a:pt x="2045" y="16244"/>
                </a:lnTo>
                <a:lnTo>
                  <a:pt x="1902" y="16564"/>
                </a:lnTo>
                <a:lnTo>
                  <a:pt x="1794" y="17001"/>
                </a:lnTo>
                <a:lnTo>
                  <a:pt x="1830" y="17466"/>
                </a:lnTo>
                <a:lnTo>
                  <a:pt x="2009" y="17932"/>
                </a:lnTo>
                <a:lnTo>
                  <a:pt x="2260" y="18311"/>
                </a:lnTo>
                <a:lnTo>
                  <a:pt x="2548" y="18718"/>
                </a:lnTo>
                <a:lnTo>
                  <a:pt x="3050" y="19126"/>
                </a:lnTo>
                <a:lnTo>
                  <a:pt x="3552" y="19533"/>
                </a:lnTo>
                <a:lnTo>
                  <a:pt x="4342" y="19737"/>
                </a:lnTo>
                <a:lnTo>
                  <a:pt x="5095" y="19737"/>
                </a:lnTo>
                <a:lnTo>
                  <a:pt x="5849" y="19737"/>
                </a:lnTo>
                <a:lnTo>
                  <a:pt x="6351" y="19533"/>
                </a:lnTo>
                <a:lnTo>
                  <a:pt x="7140" y="19126"/>
                </a:lnTo>
                <a:lnTo>
                  <a:pt x="7535" y="18747"/>
                </a:lnTo>
                <a:lnTo>
                  <a:pt x="7894" y="18311"/>
                </a:lnTo>
                <a:lnTo>
                  <a:pt x="8145" y="17903"/>
                </a:lnTo>
                <a:lnTo>
                  <a:pt x="8324" y="17408"/>
                </a:lnTo>
                <a:lnTo>
                  <a:pt x="8324" y="16942"/>
                </a:lnTo>
                <a:lnTo>
                  <a:pt x="8252" y="16593"/>
                </a:lnTo>
                <a:lnTo>
                  <a:pt x="8145" y="16244"/>
                </a:lnTo>
                <a:lnTo>
                  <a:pt x="7894" y="15836"/>
                </a:lnTo>
                <a:lnTo>
                  <a:pt x="7571" y="15429"/>
                </a:lnTo>
                <a:lnTo>
                  <a:pt x="7140" y="15021"/>
                </a:lnTo>
                <a:lnTo>
                  <a:pt x="6853" y="14613"/>
                </a:lnTo>
                <a:lnTo>
                  <a:pt x="6602" y="14206"/>
                </a:lnTo>
                <a:lnTo>
                  <a:pt x="6602" y="13565"/>
                </a:lnTo>
                <a:lnTo>
                  <a:pt x="6602" y="8035"/>
                </a:lnTo>
                <a:lnTo>
                  <a:pt x="6602" y="7598"/>
                </a:lnTo>
                <a:lnTo>
                  <a:pt x="6853" y="6987"/>
                </a:lnTo>
                <a:lnTo>
                  <a:pt x="7212" y="6579"/>
                </a:lnTo>
                <a:lnTo>
                  <a:pt x="7643" y="6171"/>
                </a:lnTo>
                <a:lnTo>
                  <a:pt x="7894" y="5764"/>
                </a:lnTo>
                <a:lnTo>
                  <a:pt x="8037" y="5531"/>
                </a:lnTo>
                <a:lnTo>
                  <a:pt x="8252" y="5153"/>
                </a:lnTo>
                <a:lnTo>
                  <a:pt x="8360" y="4599"/>
                </a:lnTo>
                <a:lnTo>
                  <a:pt x="8288" y="4134"/>
                </a:lnTo>
                <a:lnTo>
                  <a:pt x="8145" y="3697"/>
                </a:lnTo>
                <a:lnTo>
                  <a:pt x="7894" y="3289"/>
                </a:lnTo>
                <a:lnTo>
                  <a:pt x="7499" y="2853"/>
                </a:lnTo>
                <a:lnTo>
                  <a:pt x="7033" y="2533"/>
                </a:lnTo>
                <a:lnTo>
                  <a:pt x="6387" y="2242"/>
                </a:lnTo>
                <a:lnTo>
                  <a:pt x="5849" y="2067"/>
                </a:lnTo>
                <a:lnTo>
                  <a:pt x="5095" y="1950"/>
                </a:lnTo>
                <a:lnTo>
                  <a:pt x="4234" y="2038"/>
                </a:lnTo>
                <a:lnTo>
                  <a:pt x="3552" y="2271"/>
                </a:lnTo>
                <a:lnTo>
                  <a:pt x="3050" y="2504"/>
                </a:lnTo>
                <a:lnTo>
                  <a:pt x="2548" y="2882"/>
                </a:lnTo>
                <a:lnTo>
                  <a:pt x="2225" y="3231"/>
                </a:lnTo>
                <a:lnTo>
                  <a:pt x="1973" y="3697"/>
                </a:lnTo>
                <a:lnTo>
                  <a:pt x="1794" y="4308"/>
                </a:lnTo>
                <a:lnTo>
                  <a:pt x="1794" y="4745"/>
                </a:lnTo>
                <a:lnTo>
                  <a:pt x="1866" y="5123"/>
                </a:lnTo>
                <a:lnTo>
                  <a:pt x="2045" y="5560"/>
                </a:lnTo>
                <a:lnTo>
                  <a:pt x="2296" y="5851"/>
                </a:lnTo>
                <a:lnTo>
                  <a:pt x="2548" y="6171"/>
                </a:lnTo>
                <a:lnTo>
                  <a:pt x="3014" y="6608"/>
                </a:lnTo>
                <a:lnTo>
                  <a:pt x="3301" y="6987"/>
                </a:lnTo>
                <a:lnTo>
                  <a:pt x="3552" y="7598"/>
                </a:lnTo>
                <a:lnTo>
                  <a:pt x="3552" y="8035"/>
                </a:lnTo>
                <a:lnTo>
                  <a:pt x="3552" y="13565"/>
                </a:lnTo>
                <a:close/>
              </a:path>
              <a:path w="21600" h="21600">
                <a:moveTo>
                  <a:pt x="10154" y="1863"/>
                </a:moveTo>
                <a:lnTo>
                  <a:pt x="19088" y="1863"/>
                </a:lnTo>
                <a:lnTo>
                  <a:pt x="19088" y="8238"/>
                </a:lnTo>
                <a:lnTo>
                  <a:pt x="10154" y="8238"/>
                </a:lnTo>
                <a:lnTo>
                  <a:pt x="10154" y="1863"/>
                </a:lnTo>
                <a:moveTo>
                  <a:pt x="10441" y="10101"/>
                </a:moveTo>
                <a:lnTo>
                  <a:pt x="10441" y="9461"/>
                </a:lnTo>
                <a:lnTo>
                  <a:pt x="18837" y="9461"/>
                </a:lnTo>
                <a:lnTo>
                  <a:pt x="18837" y="10101"/>
                </a:lnTo>
                <a:lnTo>
                  <a:pt x="10441" y="10101"/>
                </a:lnTo>
                <a:moveTo>
                  <a:pt x="11374" y="11004"/>
                </a:moveTo>
                <a:lnTo>
                  <a:pt x="12630" y="11004"/>
                </a:lnTo>
                <a:lnTo>
                  <a:pt x="12630" y="12226"/>
                </a:lnTo>
                <a:lnTo>
                  <a:pt x="11374" y="12226"/>
                </a:lnTo>
                <a:lnTo>
                  <a:pt x="11374" y="11004"/>
                </a:lnTo>
                <a:moveTo>
                  <a:pt x="13993" y="11004"/>
                </a:moveTo>
                <a:lnTo>
                  <a:pt x="15249" y="11004"/>
                </a:lnTo>
                <a:lnTo>
                  <a:pt x="15249" y="12226"/>
                </a:lnTo>
                <a:lnTo>
                  <a:pt x="13993" y="12226"/>
                </a:lnTo>
                <a:lnTo>
                  <a:pt x="13993" y="11004"/>
                </a:lnTo>
                <a:moveTo>
                  <a:pt x="16649" y="11004"/>
                </a:moveTo>
                <a:lnTo>
                  <a:pt x="17904" y="11004"/>
                </a:lnTo>
                <a:lnTo>
                  <a:pt x="17904" y="12226"/>
                </a:lnTo>
                <a:lnTo>
                  <a:pt x="16649" y="12226"/>
                </a:lnTo>
                <a:lnTo>
                  <a:pt x="16649" y="11004"/>
                </a:lnTo>
                <a:moveTo>
                  <a:pt x="11374" y="12954"/>
                </a:moveTo>
                <a:lnTo>
                  <a:pt x="12630" y="12954"/>
                </a:lnTo>
                <a:lnTo>
                  <a:pt x="12630" y="14177"/>
                </a:lnTo>
                <a:lnTo>
                  <a:pt x="11374" y="14177"/>
                </a:lnTo>
                <a:lnTo>
                  <a:pt x="11374" y="12954"/>
                </a:lnTo>
                <a:moveTo>
                  <a:pt x="13993" y="12954"/>
                </a:moveTo>
                <a:lnTo>
                  <a:pt x="15249" y="12954"/>
                </a:lnTo>
                <a:lnTo>
                  <a:pt x="15249" y="14177"/>
                </a:lnTo>
                <a:lnTo>
                  <a:pt x="13993" y="14177"/>
                </a:lnTo>
                <a:lnTo>
                  <a:pt x="13993" y="12954"/>
                </a:lnTo>
                <a:moveTo>
                  <a:pt x="16649" y="12954"/>
                </a:moveTo>
                <a:lnTo>
                  <a:pt x="17904" y="12954"/>
                </a:lnTo>
                <a:lnTo>
                  <a:pt x="17904" y="14177"/>
                </a:lnTo>
                <a:lnTo>
                  <a:pt x="16649" y="14177"/>
                </a:lnTo>
                <a:lnTo>
                  <a:pt x="16649" y="12954"/>
                </a:lnTo>
                <a:moveTo>
                  <a:pt x="11374" y="14905"/>
                </a:moveTo>
                <a:lnTo>
                  <a:pt x="12630" y="14905"/>
                </a:lnTo>
                <a:lnTo>
                  <a:pt x="12630" y="16127"/>
                </a:lnTo>
                <a:lnTo>
                  <a:pt x="11374" y="16127"/>
                </a:lnTo>
                <a:lnTo>
                  <a:pt x="11374" y="14905"/>
                </a:lnTo>
                <a:moveTo>
                  <a:pt x="13993" y="14905"/>
                </a:moveTo>
                <a:lnTo>
                  <a:pt x="15249" y="14905"/>
                </a:lnTo>
                <a:lnTo>
                  <a:pt x="15249" y="16127"/>
                </a:lnTo>
                <a:lnTo>
                  <a:pt x="13993" y="16127"/>
                </a:lnTo>
                <a:lnTo>
                  <a:pt x="13993" y="14905"/>
                </a:lnTo>
                <a:moveTo>
                  <a:pt x="16649" y="14905"/>
                </a:moveTo>
                <a:lnTo>
                  <a:pt x="17904" y="14905"/>
                </a:lnTo>
                <a:lnTo>
                  <a:pt x="17904" y="16127"/>
                </a:lnTo>
                <a:lnTo>
                  <a:pt x="16649" y="16127"/>
                </a:lnTo>
                <a:lnTo>
                  <a:pt x="16649" y="14905"/>
                </a:lnTo>
                <a:moveTo>
                  <a:pt x="11374" y="16855"/>
                </a:moveTo>
                <a:lnTo>
                  <a:pt x="12630" y="16855"/>
                </a:lnTo>
                <a:lnTo>
                  <a:pt x="12630" y="18078"/>
                </a:lnTo>
                <a:lnTo>
                  <a:pt x="11374" y="18078"/>
                </a:lnTo>
                <a:lnTo>
                  <a:pt x="11374" y="16855"/>
                </a:lnTo>
                <a:moveTo>
                  <a:pt x="13993" y="16855"/>
                </a:moveTo>
                <a:lnTo>
                  <a:pt x="15249" y="16855"/>
                </a:lnTo>
                <a:lnTo>
                  <a:pt x="15249" y="18078"/>
                </a:lnTo>
                <a:lnTo>
                  <a:pt x="13993" y="18078"/>
                </a:lnTo>
                <a:lnTo>
                  <a:pt x="13993" y="16855"/>
                </a:lnTo>
                <a:moveTo>
                  <a:pt x="16649" y="16855"/>
                </a:moveTo>
                <a:lnTo>
                  <a:pt x="17904" y="16855"/>
                </a:lnTo>
                <a:lnTo>
                  <a:pt x="17904" y="18078"/>
                </a:lnTo>
                <a:lnTo>
                  <a:pt x="16649" y="18078"/>
                </a:lnTo>
                <a:lnTo>
                  <a:pt x="16649" y="16855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WordArt 15" descr=""/>
          <p:cNvPicPr/>
          <p:nvPr/>
        </p:nvPicPr>
        <p:blipFill>
          <a:blip r:embed="rId3"/>
          <a:stretch/>
        </p:blipFill>
        <p:spPr>
          <a:xfrm>
            <a:off x="463680" y="-36360"/>
            <a:ext cx="5522760" cy="16398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C:\Users\27\Desktop\глобус - копия.jpeg"/>
          <p:cNvPicPr/>
          <p:nvPr/>
        </p:nvPicPr>
        <p:blipFill>
          <a:blip r:embed="rId4"/>
          <a:srcRect l="25420" t="49103" r="52262" b="0"/>
          <a:stretch/>
        </p:blipFill>
        <p:spPr>
          <a:xfrm>
            <a:off x="7524720" y="189000"/>
            <a:ext cx="129528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62658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Задание № 28. Пояснение</a:t>
            </a:r>
            <a:br>
              <a:rPr sz="1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оявления и последствия экологического кризи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ути преодоления экологического кризи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зменение отношения людей к природ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аука на службе эк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еждународное сотрудничество в решении экологических проб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C:\Documents and Settings\Чупров Леонид\Мои документы\А. наглядность\Анимации исторические\MAN50.gif"/>
          <p:cNvPicPr/>
          <p:nvPr/>
        </p:nvPicPr>
        <p:blipFill>
          <a:blip r:embed="rId1"/>
          <a:stretch/>
        </p:blipFill>
        <p:spPr>
          <a:xfrm>
            <a:off x="7572240" y="5072040"/>
            <a:ext cx="96516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C:\Users\27\Desktop\глобус - копия.jpeg"/>
          <p:cNvPicPr/>
          <p:nvPr/>
        </p:nvPicPr>
        <p:blipFill>
          <a:blip r:embed="rId2"/>
          <a:srcRect l="25420" t="49104" r="52256" b="0"/>
          <a:stretch/>
        </p:blipFill>
        <p:spPr>
          <a:xfrm>
            <a:off x="7596360" y="404640"/>
            <a:ext cx="13683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вокупность правовых нор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е регулируют общественные отношения, возникающие в результат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заимо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а и окружающе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экологического права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блюдение права человека на благоприятную окружающую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2388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9640" y="836640"/>
            <a:ext cx="79200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Природные объекты (земля, вода, недра, воздух, флора, фауна, космо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Природно-антропогенные объекты (парки, сады, лесополосы, пруд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Антропогенные объекты (здания, дороги, линии электропередач, мос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2000160" y="4005360"/>
            <a:ext cx="602784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Задание № 28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«Экологическое право как                                               совокупность юридических норм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25360"/>
            <a:ext cx="8075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экологического права как совокупности юридических норм, предназначенных для регулирования поведения людей по отношению к окружающей природной ср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ы охраны окружающей среды от загряз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и, недра, поч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ые и подземные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а и иная растительность, животные и другие организмы и их генетический фо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мосферный воздух, озоновый слой атмосферы и околоземное космическое простр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ституция РФ,  статья 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 на благоприятную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 на достоверную информацию о состоянии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 на возмещение в полном объеме ущерба, причиненного здоровью или имуществу экологическим правонаруш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тивно-правовая б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907920"/>
            <a:ext cx="723888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ларация по окружающей среде и развитию 1992 –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бота о людя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титуция РФ 1993, ст. 41,4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З «Об охране окружающей сре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З «О недра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З «Об информации, информатизации и защите информац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законные акты: СанП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640" y="320400"/>
            <a:ext cx="799308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знаки благоприятной сред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тота (незагрязнен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сурсоемкость (неисчерпаем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овое разнообраз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стетическое богат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:\Documents and Settings\Администратор\Мои документы\Мои рисунки\картинки\CLIPART\ресурсы\Анимированные рисунки\Люди\Работа, профессии\image127.gif"/>
          <p:cNvPicPr/>
          <p:nvPr/>
        </p:nvPicPr>
        <p:blipFill>
          <a:blip r:embed="rId1"/>
          <a:stretch/>
        </p:blipFill>
        <p:spPr>
          <a:xfrm>
            <a:off x="7786800" y="5500800"/>
            <a:ext cx="928440" cy="8427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Задание № 28.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«Экологическое право как                                               совокупность юридических норм»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 Источники экологического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ые законы «Об охране окружающей среды», «О недрах», «Об охране атмосферного воздуха», «О животном мир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ельный Кодек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ный Кодек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ной Кодек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изнаки благоприятной окружающ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тота (незагрязнен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сурсоемкость (неисчерпаем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вое разнообраз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стетическое бога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d2d8a"/>
                </a:solidFill>
                <a:latin typeface="Arial"/>
              </a:rPr>
              <a:t>Система экологических нормати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ормативы качеств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нормативы предельно допустимых концентраций (ПД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ормативы предельно допустимого вредного  воздейств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остояние окружающей среды (ПД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ормативы допустимого изъятия природных ресурсо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скопаемых, водных, земельных, лесных, животного ми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а экологических нормати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ы качества – это нормативы предельно допустимых концентраций (ПД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ы предельно допустимого вредного  воздействия на состояние окружающей среды (ПД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ы допустимого изъятия природных ресурсо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скопаемых, водных, земельных, лесных, животного мир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040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ВЫПОЛНЕНИЕ ЗАДАНИЙ ЕГЭ ПО ОБЩЕСТВОЗНАНИЮ       № 26, 28 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тематики экологической направленности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C:\Users\27\Desktop\глобус - копия.jpeg"/>
          <p:cNvPicPr/>
          <p:nvPr/>
        </p:nvPicPr>
        <p:blipFill>
          <a:blip r:embed="rId1"/>
          <a:srcRect l="25419" t="49103" r="52261" b="0"/>
          <a:stretch/>
        </p:blipFill>
        <p:spPr>
          <a:xfrm>
            <a:off x="7596360" y="333360"/>
            <a:ext cx="1152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11280" y="148392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министративная ответственность за нарушение законодательства об охране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рная (связана с трудовой деятельностью работников, не выполняющих требования по охране окружающей сред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жданско-правовая ответственность (причинение вреда природной среде, здоровью челове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ловная ответственность (нарушение правил охраны окружающей среды при производстве работ, загрязнение вод, атмосферы, порча зем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10920" y="260280"/>
            <a:ext cx="83026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ое правонаруш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бщественно опасное вредное виновные деяние, нарушающее нормы законодательства об охране окружающей сред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ответ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ущественная (гражданско-правовая) (ГК РФ –гл.5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министративная (КоАП РФ – гл.8) - шт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арная (ТК РФ – гл.39) – возмещение ущер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оловная  (УК РФ – гл.2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совершеннолетние от 14 до 18 лет несут ответственность за причиненный вред на общих основ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84280"/>
            <a:ext cx="8507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Экологическое правонару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Виды ответственности за экологическое правонару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ущественная (гражданско-правова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министратив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ар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олов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№ </a:t>
            </a: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26. Назовите три несудебных способа защиты экологических прав и проиллюстрируйте каждый из них соответствующим пример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частие в общественных объединениях, фондах, осуществляющих деятельность в области охраны окружающей среды (пример: активисты общественного экологического движения приступили к разработке в области охраны окружающей среды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частие в собраниях, митингах, шествиях, демонстрациях и иных не противоречащих законодательству РФ акциях(пример: проведение референдума по вопросам охраны окружающей среды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бращение в органы  государственной власти РФ, ее субъектов и органы местного самоуправления по вопросам охраны окружающей среды (пример: группа жильцов дома, находящегося недалеко от промышленного предприятия обратилась в Ростехнадзор в целях получения достоверной информации о состоянии окружающей среды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Arial"/>
              </a:rPr>
              <a:t>№ </a:t>
            </a:r>
            <a:r>
              <a:rPr b="1" lang="ru-RU" sz="2000" spc="-1" strike="noStrike">
                <a:solidFill>
                  <a:srgbClr val="2d2d8a"/>
                </a:solidFill>
                <a:latin typeface="Arial"/>
              </a:rPr>
              <a:t>26. Назовите три несудебных способа защиты экологических прав и проиллюстрируйте каждый из них соответствующим примеро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3" descr=""/>
          <p:cNvPicPr/>
          <p:nvPr/>
        </p:nvPicPr>
        <p:blipFill>
          <a:blip r:embed="rId1"/>
          <a:stretch/>
        </p:blipFill>
        <p:spPr>
          <a:xfrm>
            <a:off x="7380360" y="1341360"/>
            <a:ext cx="1392120" cy="1440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L33"/>
          <p:cNvPicPr/>
          <p:nvPr/>
        </p:nvPicPr>
        <p:blipFill>
          <a:blip r:embed="rId2"/>
          <a:stretch/>
        </p:blipFill>
        <p:spPr>
          <a:xfrm>
            <a:off x="5940360" y="3573360"/>
            <a:ext cx="1068480" cy="1068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27\Desktop\hqdefault.jpg"/>
          <p:cNvPicPr/>
          <p:nvPr/>
        </p:nvPicPr>
        <p:blipFill>
          <a:blip r:embed="rId3"/>
          <a:stretch/>
        </p:blipFill>
        <p:spPr>
          <a:xfrm>
            <a:off x="1476360" y="2852640"/>
            <a:ext cx="309708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915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Кодификатор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ов содержания и требований к уровню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ки выпускников образовательны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й для провед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ого государственного экзаме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обществознанию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3213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18.  Угрозы XXI в. (глобальные пробле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12. Право на благоприятную окружающую среду и способы его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C:\Users\27\Desktop\глобус - копия.jpeg"/>
          <p:cNvPicPr/>
          <p:nvPr/>
        </p:nvPicPr>
        <p:blipFill>
          <a:blip r:embed="rId1"/>
          <a:srcRect l="25420" t="49099" r="52256" b="0"/>
          <a:stretch/>
        </p:blipFill>
        <p:spPr>
          <a:xfrm>
            <a:off x="7524720" y="189000"/>
            <a:ext cx="1368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7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С помощью трёх примеров проиллюстрируйте взаимосвязь глобальных проблем современност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4360" y="4422240"/>
            <a:ext cx="770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ГЭ. Обществознание. Типовые тестовые зад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/ФИПИ ав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.Л. Рутковская, А.Ю. Лазебникова, Е.С. Королько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М.: Экзамен, 20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2843280" y="18900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Задание № 26</a:t>
            </a:r>
            <a:r>
              <a:rPr b="0" lang="ru-RU" sz="44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C:\Users\27\Desktop\глобус - копия.jpeg"/>
          <p:cNvPicPr/>
          <p:nvPr/>
        </p:nvPicPr>
        <p:blipFill>
          <a:blip r:embed="rId1"/>
          <a:srcRect l="25420" t="49108" r="52257" b="0"/>
          <a:stretch/>
        </p:blipFill>
        <p:spPr>
          <a:xfrm>
            <a:off x="7524720" y="189000"/>
            <a:ext cx="1440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26.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С помощью трёх примеров проиллюстрируйте взаимосвязь </a:t>
            </a:r>
            <a:br>
              <a:rPr sz="2400"/>
            </a:b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глобальных проблем современности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яс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ая отсталость развивающихся стран порождает использование технологий, наносящих большой урон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ый рост народонаселения в  развивающихся странах усугубляет экономические проблемы, увеличивает отставание от развитых ст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ий социально-экономический уровень ряда развивающихся стран, отсутствие развитых систем здравоохранения, образования ведёт к росту опасн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C:\Users\27\Desktop\глобус - копия.jpeg"/>
          <p:cNvPicPr/>
          <p:nvPr/>
        </p:nvPicPr>
        <p:blipFill>
          <a:blip r:embed="rId1"/>
          <a:srcRect l="25420" t="49100" r="52256" b="0"/>
          <a:stretch/>
        </p:blipFill>
        <p:spPr>
          <a:xfrm>
            <a:off x="7524720" y="0"/>
            <a:ext cx="13683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Задание № 26</a:t>
            </a:r>
            <a:r>
              <a:rPr b="0" lang="ru-RU" sz="4400" spc="-1" strike="noStrike">
                <a:solidFill>
                  <a:srgbClr val="2d2d8a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Назовите и проиллюстрируйте примерами три проявления процесса глобализации в современном ми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ГЭ. Обществознание. Подготовка к ЕГЭ-201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авторы: О.А. Чернышева,  Р.В. Пазин, М.Н. Руденко, П.А. Ушаков – Ростов-на-Дону.: Легион, 20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C:\Users\27\Desktop\глобус - копия.jpeg"/>
          <p:cNvPicPr/>
          <p:nvPr/>
        </p:nvPicPr>
        <p:blipFill>
          <a:blip r:embed="rId1"/>
          <a:srcRect l="25420" t="49100" r="52256" b="0"/>
          <a:stretch/>
        </p:blipFill>
        <p:spPr>
          <a:xfrm>
            <a:off x="7524720" y="0"/>
            <a:ext cx="13683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7129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Назовите и проиллюстрируйте </a:t>
            </a:r>
            <a:br>
              <a:rPr sz="2400"/>
            </a:b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примерами три проявления процесса </a:t>
            </a:r>
            <a:br>
              <a:rPr sz="2400"/>
            </a:b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глобализации в современном мире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Пояснени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9280" y="1915920"/>
            <a:ext cx="8785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диное экономическое пространство (создание транснациональных корпораций, трудовые миграци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Единое информационное пространство (Интерне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бострение глобальных проблем современности, требующих совместных усилий народов всех стран (Международные научные конференции по решению экологических пробле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C:\Users\27\Desktop\глобус - копия.jpeg"/>
          <p:cNvPicPr/>
          <p:nvPr/>
        </p:nvPicPr>
        <p:blipFill>
          <a:blip r:embed="rId1"/>
          <a:srcRect l="25420" t="49100" r="52256" b="0"/>
          <a:stretch/>
        </p:blipFill>
        <p:spPr>
          <a:xfrm>
            <a:off x="7524720" y="0"/>
            <a:ext cx="13683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4400" spc="-1" strike="noStrike">
                <a:solidFill>
                  <a:srgbClr val="2d2d8a"/>
                </a:solidFill>
                <a:latin typeface="Arial"/>
              </a:rPr>
              <a:t>Задание № 28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57120" y="1052640"/>
            <a:ext cx="8501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м предстоит подготовить развернутый ответ по теме: </a:t>
            </a: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«Экологический кризис как глобальная проблема современност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те план, в соответствии с которым вы будете освещать эту тему. План должен содержать не менее трех пунктов, из которых два или более детализированы в подпунк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C:\Users\27\Desktop\глобус - копия.jpeg"/>
          <p:cNvPicPr/>
          <p:nvPr/>
        </p:nvPicPr>
        <p:blipFill>
          <a:blip r:embed="rId1"/>
          <a:srcRect l="25420" t="49104" r="52256" b="0"/>
          <a:stretch/>
        </p:blipFill>
        <p:spPr>
          <a:xfrm>
            <a:off x="7596360" y="260280"/>
            <a:ext cx="13683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2349000"/>
            <a:ext cx="6562800" cy="37767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324000" y="1700280"/>
            <a:ext cx="792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облемы ставшие  глобальными для человечест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ущность экологического кризиса и его связь с другими глобальными пробле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ем вызван экологический кризи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Рост масштабов хозяйственной деятельности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требительское отношение к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57200" y="274680"/>
            <a:ext cx="82296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28.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«Экологический кризис как глобальная проблема современности»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яс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05:10Z</dcterms:created>
  <dc:creator>Speed_XP</dc:creator>
  <dc:description/>
  <dc:language>en-US</dc:language>
  <cp:lastModifiedBy>27</cp:lastModifiedBy>
  <dcterms:modified xsi:type="dcterms:W3CDTF">2017-05-15T11:41:17Z</dcterms:modified>
  <cp:revision>30</cp:revision>
  <dc:subject/>
  <dc:title>«Организация процесса самообразования в педагогической деятельности учителя»</dc:title>
</cp:coreProperties>
</file>