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20.png" ContentType="image/png"/>
  <Override PartName="/ppt/media/image3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4.jpeg" ContentType="image/jpeg"/>
  <Override PartName="/ppt/media/image2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298E-E4AA-436F-9251-90B8C31DF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B8E9-0EB4-465F-8332-135856B77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B39B-0A24-4918-A90D-1DF1A5424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057A-AFE4-4CDF-B831-594F06C76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F280-1C76-469C-9279-C8D5CA329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7434-F9B5-4563-94AD-37D895A93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D33C-90D3-49EF-AF0B-415ECEC3C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A353-EDFF-4BAE-8660-5932E9FA3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A998-E9AF-409A-825A-299CCE593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D3EB-9725-48A9-B650-F0C6180E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82D4-B778-4131-9D7A-2DBA4F04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85EE-06A5-49BB-B919-D5A1821F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F7E88-A1C2-42AD-B18F-BDD5E679CF7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58213-D635-4176-92A1-F48A3363F9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Группа 7"/>
          <p:cNvGrpSpPr/>
          <p:nvPr/>
        </p:nvGrpSpPr>
        <p:grpSpPr>
          <a:xfrm>
            <a:off x="0" y="7920"/>
            <a:ext cx="9144000" cy="1260360"/>
            <a:chOff x="0" y="7920"/>
            <a:chExt cx="9144000" cy="1260360"/>
          </a:xfrm>
        </p:grpSpPr>
        <p:grpSp>
          <p:nvGrpSpPr>
            <p:cNvPr id="42" name="Группа 6"/>
            <p:cNvGrpSpPr/>
            <p:nvPr/>
          </p:nvGrpSpPr>
          <p:grpSpPr>
            <a:xfrm>
              <a:off x="0" y="230400"/>
              <a:ext cx="9144000" cy="768240"/>
              <a:chOff x="0" y="230400"/>
              <a:chExt cx="9144000" cy="768240"/>
            </a:xfrm>
          </p:grpSpPr>
          <p:sp>
            <p:nvSpPr>
              <p:cNvPr id="43" name="Прямоугольник 3"/>
              <p:cNvSpPr/>
              <p:nvPr/>
            </p:nvSpPr>
            <p:spPr>
              <a:xfrm rot="5400000">
                <a:off x="4187880" y="-3957480"/>
                <a:ext cx="768240" cy="914400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" name="Прямоугольник 4"/>
              <p:cNvSpPr/>
              <p:nvPr/>
            </p:nvSpPr>
            <p:spPr>
              <a:xfrm>
                <a:off x="0" y="259920"/>
                <a:ext cx="914400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Министерство образования и науки Челябинской области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r>
                  <a:rPr b="1" lang="ru-RU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Государственное бюджетное профессиональное образовательное учреждение 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«Челябинский педагогический колледж № 1»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45" name="Picture 8" descr="C:\Users\user217-4\Desktop\РАБОТА\HTG Locker\Эмблема новая круглая.png"/>
            <p:cNvPicPr/>
            <p:nvPr/>
          </p:nvPicPr>
          <p:blipFill>
            <a:blip r:embed="rId1"/>
            <a:stretch/>
          </p:blipFill>
          <p:spPr>
            <a:xfrm>
              <a:off x="107280" y="7920"/>
              <a:ext cx="1278360" cy="126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" name="Прямоугольник 11"/>
          <p:cNvGrpSpPr/>
          <p:nvPr/>
        </p:nvGrpSpPr>
        <p:grpSpPr>
          <a:xfrm>
            <a:off x="66600" y="1908000"/>
            <a:ext cx="9144000" cy="2206800"/>
            <a:chOff x="66600" y="1908000"/>
            <a:chExt cx="9144000" cy="2206800"/>
          </a:xfrm>
        </p:grpSpPr>
        <p:pic>
          <p:nvPicPr>
            <p:cNvPr id="47" name="Прямоугольник 11" descr=""/>
            <p:cNvPicPr/>
            <p:nvPr/>
          </p:nvPicPr>
          <p:blipFill>
            <a:blip r:embed="rId2"/>
            <a:stretch/>
          </p:blipFill>
          <p:spPr>
            <a:xfrm>
              <a:off x="66600" y="1908000"/>
              <a:ext cx="9144000" cy="220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179280" y="1941480"/>
              <a:ext cx="8856720" cy="20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«МЕТОДИЧЕСКИЕ ПОДХОДЫ К РАЗВИТИЮ СПЕЦИАЛИЗИРОВАННОГО ВОСПРИЯТИЯ У ОБУЩАЮЩИХСЯ 16-17 ЛЕТ ВО ВНЕУРОЧНОЙ ДЕЯТЕЛЬНОСТИ ПО ВОЛЕЙБОЛУ»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" name="TextBox 14"/>
          <p:cNvSpPr/>
          <p:nvPr/>
        </p:nvSpPr>
        <p:spPr>
          <a:xfrm>
            <a:off x="3564000" y="4483080"/>
            <a:ext cx="54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ент 39 группы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кин Кирилл Владимирови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ный руководитель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рная.Ю.Н. Преподаватель психологии первой категор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15"/>
          <p:cNvSpPr/>
          <p:nvPr/>
        </p:nvSpPr>
        <p:spPr>
          <a:xfrm>
            <a:off x="0" y="6434280"/>
            <a:ext cx="903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ябинск, 2021 г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Прямоугольник 3"/>
          <p:cNvSpPr/>
          <p:nvPr/>
        </p:nvSpPr>
        <p:spPr>
          <a:xfrm rot="5400000">
            <a:off x="5409000" y="3194640"/>
            <a:ext cx="6858000" cy="4683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1"/>
          <p:cNvSpPr/>
          <p:nvPr/>
        </p:nvSpPr>
        <p:spPr>
          <a:xfrm>
            <a:off x="8604360" y="6356520"/>
            <a:ext cx="468360" cy="365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4E53C-AF3E-47E4-89DC-C7C5BE043A62}" type="slidenum"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7" name="Прямоугольник 5"/>
          <p:cNvGrpSpPr/>
          <p:nvPr/>
        </p:nvGrpSpPr>
        <p:grpSpPr>
          <a:xfrm>
            <a:off x="171360" y="60480"/>
            <a:ext cx="8423280" cy="1420560"/>
            <a:chOff x="171360" y="60480"/>
            <a:chExt cx="8423280" cy="1420560"/>
          </a:xfrm>
        </p:grpSpPr>
        <p:pic>
          <p:nvPicPr>
            <p:cNvPr id="118" name="Прямоугольник 5" descr=""/>
            <p:cNvPicPr/>
            <p:nvPr/>
          </p:nvPicPr>
          <p:blipFill>
            <a:blip r:embed="rId1"/>
            <a:stretch/>
          </p:blipFill>
          <p:spPr>
            <a:xfrm>
              <a:off x="171360" y="60480"/>
              <a:ext cx="8423280" cy="142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324000" y="189000"/>
              <a:ext cx="8208720" cy="105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446040"/>
                  <a:tab algn="l" pos="895320"/>
                  <a:tab algn="l" pos="1344600"/>
                  <a:tab algn="l" pos="1793880"/>
                  <a:tab algn="l" pos="2243160"/>
                  <a:tab algn="l" pos="2692440"/>
                  <a:tab algn="l" pos="3141720"/>
                  <a:tab algn="l" pos="3591000"/>
                  <a:tab algn="l" pos="4040280"/>
                  <a:tab algn="l" pos="4489560"/>
                  <a:tab algn="l" pos="4938840"/>
                  <a:tab algn="l" pos="5388120"/>
                  <a:tab algn="l" pos="5837400"/>
                  <a:tab algn="l" pos="6286680"/>
                  <a:tab algn="l" pos="6735600"/>
                  <a:tab algn="l" pos="7184880"/>
                  <a:tab algn="l" pos="7634160"/>
                  <a:tab algn="l" pos="8083440"/>
                  <a:tab algn="l" pos="8532720"/>
                  <a:tab algn="l" pos="89820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2.2. Комплекс специальных упражнений для развития специализированного восприятия у обучающихся 16-17 ле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0" name="TextBox 6"/>
          <p:cNvSpPr/>
          <p:nvPr/>
        </p:nvSpPr>
        <p:spPr>
          <a:xfrm>
            <a:off x="-14400" y="1535040"/>
            <a:ext cx="846144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пункте 2.2 мы разработали  комплекс специальных упражнений для развития специализированного восприятия, расписали на какое качество эти упражнения будут влия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3"/>
          <p:cNvSpPr/>
          <p:nvPr/>
        </p:nvSpPr>
        <p:spPr>
          <a:xfrm rot="5400000">
            <a:off x="5409000" y="3194640"/>
            <a:ext cx="6858000" cy="4683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1"/>
          <p:cNvSpPr/>
          <p:nvPr/>
        </p:nvSpPr>
        <p:spPr>
          <a:xfrm>
            <a:off x="8604360" y="6356520"/>
            <a:ext cx="468360" cy="365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6163E-918D-4942-BD26-CA9BF8DF30C1}" type="slidenum"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Прямоугольник 5"/>
          <p:cNvGrpSpPr/>
          <p:nvPr/>
        </p:nvGrpSpPr>
        <p:grpSpPr>
          <a:xfrm>
            <a:off x="262080" y="66600"/>
            <a:ext cx="8332560" cy="1122480"/>
            <a:chOff x="262080" y="66600"/>
            <a:chExt cx="8332560" cy="1122480"/>
          </a:xfrm>
        </p:grpSpPr>
        <p:pic>
          <p:nvPicPr>
            <p:cNvPr id="124" name="Прямоугольник 5" descr=""/>
            <p:cNvPicPr/>
            <p:nvPr/>
          </p:nvPicPr>
          <p:blipFill>
            <a:blip r:embed="rId1"/>
            <a:stretch/>
          </p:blipFill>
          <p:spPr>
            <a:xfrm>
              <a:off x="262080" y="66600"/>
              <a:ext cx="8332560" cy="11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324000" y="189000"/>
              <a:ext cx="8208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2.3. Диагностический инструментарий для оценки развития специализированного восприятия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TextBox 7"/>
          <p:cNvSpPr/>
          <p:nvPr/>
        </p:nvSpPr>
        <p:spPr>
          <a:xfrm>
            <a:off x="179280" y="1197000"/>
            <a:ext cx="82090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третьем параграфе мы подобрали и объяснили диагностический инструментар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9"/>
          <p:cNvSpPr/>
          <p:nvPr/>
        </p:nvSpPr>
        <p:spPr>
          <a:xfrm>
            <a:off x="0" y="2430360"/>
            <a:ext cx="8532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 для оценки простой пространственной характеристик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ытуемому даётся сантиметровая лента в левую руку, он с открытыми газами, ведя по ленте правой рукой останавливается на отметке 100 см (1 м), далее он отпускает край ленты, которой держал правой рукой, закрывает глаза и должен с закрытыми глазами остановиться так же на отметке 100 см (1м). Записываются результаты отклонений в сантиметрах от заданной величины и в дальнейшем с этими данными производится статистическая обработка [Марищук]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3"/>
          <p:cNvSpPr/>
          <p:nvPr/>
        </p:nvSpPr>
        <p:spPr>
          <a:xfrm rot="5400000">
            <a:off x="5409000" y="3194640"/>
            <a:ext cx="6858000" cy="4683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Номер слайда 1"/>
          <p:cNvSpPr/>
          <p:nvPr/>
        </p:nvSpPr>
        <p:spPr>
          <a:xfrm>
            <a:off x="8604360" y="6356520"/>
            <a:ext cx="468360" cy="365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CFD5B-6719-4018-BB88-7E955BB8BD6E}" type="slidenum"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71280" y="260280"/>
          <a:ext cx="8388360" cy="3168720"/>
        </p:xfrm>
        <a:graphic>
          <a:graphicData uri="http://schemas.openxmlformats.org/drawingml/2006/table">
            <a:tbl>
              <a:tblPr/>
              <a:tblGrid>
                <a:gridCol w="4194360"/>
                <a:gridCol w="1398600"/>
                <a:gridCol w="1398600"/>
                <a:gridCol w="1396800"/>
              </a:tblGrid>
              <a:tr h="44136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нтрольный тес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овень результативности (см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7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Высокий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Средний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Низкий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00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странственная характеристи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31" name="TextBox 5"/>
          <p:cNvSpPr/>
          <p:nvPr/>
        </p:nvSpPr>
        <p:spPr>
          <a:xfrm>
            <a:off x="71280" y="3645000"/>
            <a:ext cx="8388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 для оценки простой временной характеристики. Испытуемому даётся секундомер, ему необходимо остановить секундомер через 7 секунд, ему даётся три тренировочных попытки без контроля над временем, т.е. не глядя на секундомер. Фиксируются «+» как переотмер и «–» как недоотмер. Например, «-0,5; 0,3; -0,6», складываем числа, получаем -0,8, что будет свидетельствовать о перевозбуждении нервной системы и готовности к быстрой работе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Марищук]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3"/>
          <p:cNvSpPr/>
          <p:nvPr/>
        </p:nvSpPr>
        <p:spPr>
          <a:xfrm rot="5400000">
            <a:off x="5409000" y="3194640"/>
            <a:ext cx="6858000" cy="4683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Номер слайда 1"/>
          <p:cNvSpPr/>
          <p:nvPr/>
        </p:nvSpPr>
        <p:spPr>
          <a:xfrm>
            <a:off x="8604360" y="6356520"/>
            <a:ext cx="468360" cy="365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8F3A0-FD32-4D7B-9521-D04AF383BEEE}" type="slidenum"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71280" y="115920"/>
          <a:ext cx="8388360" cy="2808360"/>
        </p:xfrm>
        <a:graphic>
          <a:graphicData uri="http://schemas.openxmlformats.org/drawingml/2006/table">
            <a:tbl>
              <a:tblPr/>
              <a:tblGrid>
                <a:gridCol w="4146840"/>
                <a:gridCol w="1414440"/>
                <a:gridCol w="1414440"/>
                <a:gridCol w="1412640"/>
              </a:tblGrid>
              <a:tr h="74772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нтрольный те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овень результативности (секунды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4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Высокий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Средний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Низкий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85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ременная характеристик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0,4 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0,4 с до 0,7 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е 1 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35" name="TextBox 5"/>
          <p:cNvSpPr/>
          <p:nvPr/>
        </p:nvSpPr>
        <p:spPr>
          <a:xfrm>
            <a:off x="71280" y="2852640"/>
            <a:ext cx="838836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ние ощущений и восприятий может проводиться как в целях психологического отбора, так и для определения изменений в психологических функциях после различных периодов физической и спортивной тренировки. По результатам оценки ощущений у одного и того же определенного человека можно судить также о его функциональном состоянии, утомлении. Зрительное ощущение (определение нижнего порога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ейший способ приблизительного измерения описан К.К. Платоновым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ются плакаты с рисунками кольца Ландольта (рисунок 1). Диаметр кольца 7,5 мм, толщина линии 1,5 мм, разрыв линии 1,5 м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3"/>
          <p:cNvSpPr/>
          <p:nvPr/>
        </p:nvSpPr>
        <p:spPr>
          <a:xfrm rot="5400000">
            <a:off x="5409000" y="3194640"/>
            <a:ext cx="6858000" cy="4683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1"/>
          <p:cNvSpPr/>
          <p:nvPr/>
        </p:nvSpPr>
        <p:spPr>
          <a:xfrm>
            <a:off x="8604360" y="6356520"/>
            <a:ext cx="468360" cy="365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E2361-604A-4BC7-A89B-3724805470FA}" type="slidenum"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4"/>
          <p:cNvSpPr/>
          <p:nvPr/>
        </p:nvSpPr>
        <p:spPr>
          <a:xfrm>
            <a:off x="0" y="189000"/>
            <a:ext cx="860436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а также рулетка для измерения от испытуемого до плаката или соответствующая разметка по полу. В месте измерения всегда должно быть хорошее расстояни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ытуемый становится на расстоянии 6 м спиной к плакату, затем поворачивается и приближается к нему пока не увидит разрыв. Испытание становится следует повторить 3 раза. За основу берётся средний результат. Чем больше расстояние с которого испытуемый увидел направление разрыва, тем ниже его абсолютный порог зрительного различения (выше зрительная чувствительность) [Марищук]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рямоугольник 3"/>
          <p:cNvSpPr/>
          <p:nvPr/>
        </p:nvSpPr>
        <p:spPr>
          <a:xfrm rot="5400000">
            <a:off x="5409000" y="3194640"/>
            <a:ext cx="6858000" cy="4683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1"/>
          <p:cNvSpPr/>
          <p:nvPr/>
        </p:nvSpPr>
        <p:spPr>
          <a:xfrm>
            <a:off x="8604360" y="6356520"/>
            <a:ext cx="468360" cy="365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41EE0-A60E-4D96-A250-8C6F9FA5852E}" type="slidenum"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250920" y="-3207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Рисунок 1" descr=""/>
          <p:cNvPicPr/>
          <p:nvPr/>
        </p:nvPicPr>
        <p:blipFill>
          <a:blip r:embed="rId1"/>
          <a:srcRect l="0" t="0" r="0" b="5577"/>
          <a:stretch/>
        </p:blipFill>
        <p:spPr>
          <a:xfrm>
            <a:off x="250920" y="136440"/>
            <a:ext cx="5113080" cy="43992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3"/>
          <p:cNvSpPr/>
          <p:nvPr/>
        </p:nvSpPr>
        <p:spPr>
          <a:xfrm flipV="1" rot="10800000">
            <a:off x="610920" y="4915080"/>
            <a:ext cx="744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ок 1 – Кольцо Ландольдт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Прямоугольник 3"/>
          <p:cNvSpPr/>
          <p:nvPr/>
        </p:nvSpPr>
        <p:spPr>
          <a:xfrm rot="5400000">
            <a:off x="5409000" y="3194640"/>
            <a:ext cx="6858000" cy="4683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Номер слайда 1"/>
          <p:cNvSpPr/>
          <p:nvPr/>
        </p:nvSpPr>
        <p:spPr>
          <a:xfrm>
            <a:off x="8604360" y="6356520"/>
            <a:ext cx="468360" cy="3650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BB9CD-69D6-477A-A177-02C2106F7A3D}" type="slidenum"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4"/>
          <p:cNvSpPr/>
          <p:nvPr/>
        </p:nvSpPr>
        <p:spPr>
          <a:xfrm>
            <a:off x="71280" y="189000"/>
            <a:ext cx="838836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исследования распределения и переключения внимания успешно применялась методика «отыскание чисел с переключением внимания по красно-черными клетками». Исследование проводится с помощью специальных бланков, на которых 25 чёрных и 24 красных числ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ытуемые должны отыскивать попеременно красные числа в возрастающей степени( от 1 до 24), черные в убывающем порядке (от 25 до 1) в течении 5 мину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Рисунок 5" descr=""/>
          <p:cNvPicPr/>
          <p:nvPr/>
        </p:nvPicPr>
        <p:blipFill>
          <a:blip r:embed="rId1"/>
          <a:stretch/>
        </p:blipFill>
        <p:spPr>
          <a:xfrm>
            <a:off x="2771640" y="3413160"/>
            <a:ext cx="410400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Прямоугольник 3"/>
          <p:cNvSpPr/>
          <p:nvPr/>
        </p:nvSpPr>
        <p:spPr>
          <a:xfrm rot="5400000">
            <a:off x="5409000" y="3194640"/>
            <a:ext cx="6858000" cy="4683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Номер слайда 1"/>
          <p:cNvSpPr/>
          <p:nvPr/>
        </p:nvSpPr>
        <p:spPr>
          <a:xfrm>
            <a:off x="8604360" y="6356520"/>
            <a:ext cx="468360" cy="365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AE982-F462-4E71-8F4D-F7530C56309C}" type="slidenum"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0" name="Прямоугольник 5"/>
          <p:cNvGrpSpPr/>
          <p:nvPr/>
        </p:nvGrpSpPr>
        <p:grpSpPr>
          <a:xfrm>
            <a:off x="262080" y="66600"/>
            <a:ext cx="8332560" cy="1182600"/>
            <a:chOff x="262080" y="66600"/>
            <a:chExt cx="8332560" cy="1182600"/>
          </a:xfrm>
        </p:grpSpPr>
        <p:pic>
          <p:nvPicPr>
            <p:cNvPr id="151" name="Прямоугольник 5" descr=""/>
            <p:cNvPicPr/>
            <p:nvPr/>
          </p:nvPicPr>
          <p:blipFill>
            <a:blip r:embed="rId1"/>
            <a:stretch/>
          </p:blipFill>
          <p:spPr>
            <a:xfrm>
              <a:off x="262080" y="66600"/>
              <a:ext cx="833256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324000" y="189000"/>
              <a:ext cx="8208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аключение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3" name="TextBox 7"/>
          <p:cNvSpPr/>
          <p:nvPr/>
        </p:nvSpPr>
        <p:spPr>
          <a:xfrm>
            <a:off x="36360" y="920880"/>
            <a:ext cx="8460000" cy="43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заключении мы бы хотели сказать что развитие специализированного восприятия у обучающихся старших классов является важным фактором успешности игры, т.к. игровая деятельность в этом звене является ведущей.  В нашей курсовой работе мы описали то при  помощи чего мы будем измерять и развивать наше восприяти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перспективе дипломной работы мы планируе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провести комплекс специальных упражнений направленный развитие специализированного восприятия, а так же определить уровень его развития при помощи подобранных нами тест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Группа 7"/>
          <p:cNvGrpSpPr/>
          <p:nvPr/>
        </p:nvGrpSpPr>
        <p:grpSpPr>
          <a:xfrm>
            <a:off x="0" y="7920"/>
            <a:ext cx="9144000" cy="1260360"/>
            <a:chOff x="0" y="7920"/>
            <a:chExt cx="9144000" cy="1260360"/>
          </a:xfrm>
        </p:grpSpPr>
        <p:grpSp>
          <p:nvGrpSpPr>
            <p:cNvPr id="155" name="Группа 6"/>
            <p:cNvGrpSpPr/>
            <p:nvPr/>
          </p:nvGrpSpPr>
          <p:grpSpPr>
            <a:xfrm>
              <a:off x="0" y="230400"/>
              <a:ext cx="9144000" cy="768240"/>
              <a:chOff x="0" y="230400"/>
              <a:chExt cx="9144000" cy="768240"/>
            </a:xfrm>
          </p:grpSpPr>
          <p:sp>
            <p:nvSpPr>
              <p:cNvPr id="156" name="Прямоугольник 3"/>
              <p:cNvSpPr/>
              <p:nvPr/>
            </p:nvSpPr>
            <p:spPr>
              <a:xfrm rot="5400000">
                <a:off x="4187880" y="-3957480"/>
                <a:ext cx="768240" cy="914400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" name="Прямоугольник 4"/>
              <p:cNvSpPr/>
              <p:nvPr/>
            </p:nvSpPr>
            <p:spPr>
              <a:xfrm>
                <a:off x="0" y="259920"/>
                <a:ext cx="914400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Министерство образования и науки Челябинской области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r>
                  <a:rPr b="1" lang="ru-RU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Государственное бюджетное профессиональное образовательное учреждение 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«Челябинский педагогический колледж № 1»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58" name="Picture 8" descr="C:\Users\user217-4\Desktop\РАБОТА\HTG Locker\Эмблема новая круглая.png"/>
            <p:cNvPicPr/>
            <p:nvPr/>
          </p:nvPicPr>
          <p:blipFill>
            <a:blip r:embed="rId1"/>
            <a:stretch/>
          </p:blipFill>
          <p:spPr>
            <a:xfrm>
              <a:off x="107280" y="7920"/>
              <a:ext cx="1278360" cy="126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9" name="Прямоугольник 11"/>
          <p:cNvGrpSpPr/>
          <p:nvPr/>
        </p:nvGrpSpPr>
        <p:grpSpPr>
          <a:xfrm>
            <a:off x="49320" y="2352600"/>
            <a:ext cx="8978760" cy="2255760"/>
            <a:chOff x="49320" y="2352600"/>
            <a:chExt cx="8978760" cy="2255760"/>
          </a:xfrm>
        </p:grpSpPr>
        <p:pic>
          <p:nvPicPr>
            <p:cNvPr id="160" name="Прямоугольник 11" descr=""/>
            <p:cNvPicPr/>
            <p:nvPr/>
          </p:nvPicPr>
          <p:blipFill>
            <a:blip r:embed="rId2"/>
            <a:stretch/>
          </p:blipFill>
          <p:spPr>
            <a:xfrm>
              <a:off x="49320" y="2352600"/>
              <a:ext cx="8978760" cy="22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108000" y="2384280"/>
              <a:ext cx="8856720" cy="208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пасибо за внимание!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ы готовы ответить на Ваши вопросы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3"/>
          <p:cNvSpPr/>
          <p:nvPr/>
        </p:nvSpPr>
        <p:spPr>
          <a:xfrm rot="5400000">
            <a:off x="5409000" y="3194640"/>
            <a:ext cx="6858000" cy="4683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Прямоугольник 11"/>
          <p:cNvGrpSpPr/>
          <p:nvPr/>
        </p:nvGrpSpPr>
        <p:grpSpPr>
          <a:xfrm>
            <a:off x="262080" y="158760"/>
            <a:ext cx="8259480" cy="1268280"/>
            <a:chOff x="262080" y="158760"/>
            <a:chExt cx="8259480" cy="1268280"/>
          </a:xfrm>
        </p:grpSpPr>
        <p:pic>
          <p:nvPicPr>
            <p:cNvPr id="53" name="Прямоугольник 11" descr=""/>
            <p:cNvPicPr/>
            <p:nvPr/>
          </p:nvPicPr>
          <p:blipFill>
            <a:blip r:embed="rId1"/>
            <a:stretch/>
          </p:blipFill>
          <p:spPr>
            <a:xfrm>
              <a:off x="262080" y="158760"/>
              <a:ext cx="825948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324000" y="189000"/>
              <a:ext cx="8135640" cy="10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ктуальность исследования: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" name="Номер слайда 1"/>
          <p:cNvSpPr/>
          <p:nvPr/>
        </p:nvSpPr>
        <p:spPr>
          <a:xfrm>
            <a:off x="8604360" y="6356520"/>
            <a:ext cx="468360" cy="3650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26A16-381C-4155-92E6-DC262F3EBF92}" type="slidenum"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1"/>
          <p:cNvSpPr/>
          <p:nvPr/>
        </p:nvSpPr>
        <p:spPr>
          <a:xfrm>
            <a:off x="324000" y="3105000"/>
            <a:ext cx="79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0" y="1484280"/>
            <a:ext cx="85885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Ход и результативность игры зависит от многих факторов, таких как: правильное использование техники, тактики, слаженной работы членов команды, развитие физических качеств таких 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  <a:ea typeface="Calibri"/>
              </a:rPr>
              <a:t>сила, быстрота, выносливость, ловкость, гибкость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витие специализированных ощущений игроков («чувство мяча», «чувство поля», «чувство сетки», «чувство времени», «чувство партнера»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9" descr=""/>
          <p:cNvPicPr/>
          <p:nvPr/>
        </p:nvPicPr>
        <p:blipFill>
          <a:blip r:embed="rId2"/>
          <a:stretch/>
        </p:blipFill>
        <p:spPr>
          <a:xfrm>
            <a:off x="0" y="3921120"/>
            <a:ext cx="4356000" cy="29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3"/>
          <p:cNvSpPr/>
          <p:nvPr/>
        </p:nvSpPr>
        <p:spPr>
          <a:xfrm rot="5400000">
            <a:off x="5409000" y="3194640"/>
            <a:ext cx="6858000" cy="4683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" name="Прямоугольник 11"/>
          <p:cNvGrpSpPr/>
          <p:nvPr/>
        </p:nvGrpSpPr>
        <p:grpSpPr>
          <a:xfrm>
            <a:off x="262080" y="42840"/>
            <a:ext cx="8259480" cy="1182600"/>
            <a:chOff x="262080" y="42840"/>
            <a:chExt cx="8259480" cy="1182600"/>
          </a:xfrm>
        </p:grpSpPr>
        <p:pic>
          <p:nvPicPr>
            <p:cNvPr id="61" name="Прямоугольник 11" descr=""/>
            <p:cNvPicPr/>
            <p:nvPr/>
          </p:nvPicPr>
          <p:blipFill>
            <a:blip r:embed="rId2"/>
            <a:stretch/>
          </p:blipFill>
          <p:spPr>
            <a:xfrm>
              <a:off x="262080" y="42840"/>
              <a:ext cx="825948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324000" y="189000"/>
              <a:ext cx="8135640" cy="6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Цель исследования: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" name="Номер слайда 1"/>
          <p:cNvSpPr/>
          <p:nvPr/>
        </p:nvSpPr>
        <p:spPr>
          <a:xfrm>
            <a:off x="8604360" y="6356520"/>
            <a:ext cx="468360" cy="3650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B4D8D-F6C1-4F0D-9907-9622577A424E}" type="slidenum"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12"/>
          <p:cNvSpPr/>
          <p:nvPr/>
        </p:nvSpPr>
        <p:spPr>
          <a:xfrm>
            <a:off x="324000" y="1268280"/>
            <a:ext cx="813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ть комплекс упражнений для развития специализированного восприятия у обучающихся 16-17 лет во внеурочной деятель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Прямоугольник 13"/>
          <p:cNvGrpSpPr/>
          <p:nvPr/>
        </p:nvGrpSpPr>
        <p:grpSpPr>
          <a:xfrm>
            <a:off x="262080" y="2309760"/>
            <a:ext cx="8259480" cy="1189080"/>
            <a:chOff x="262080" y="2309760"/>
            <a:chExt cx="8259480" cy="1189080"/>
          </a:xfrm>
        </p:grpSpPr>
        <p:pic>
          <p:nvPicPr>
            <p:cNvPr id="66" name="Прямоугольник 13" descr=""/>
            <p:cNvPicPr/>
            <p:nvPr/>
          </p:nvPicPr>
          <p:blipFill>
            <a:blip r:embed="rId3"/>
            <a:stretch/>
          </p:blipFill>
          <p:spPr>
            <a:xfrm>
              <a:off x="262080" y="2309760"/>
              <a:ext cx="825948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324000" y="2457360"/>
              <a:ext cx="8135640" cy="6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бъект исследования: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" name="TextBox 16"/>
          <p:cNvSpPr/>
          <p:nvPr/>
        </p:nvSpPr>
        <p:spPr>
          <a:xfrm>
            <a:off x="324000" y="3429000"/>
            <a:ext cx="81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бный процесс обучающихся старших классов по физической культур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" name="Прямоугольник 7"/>
          <p:cNvGrpSpPr/>
          <p:nvPr/>
        </p:nvGrpSpPr>
        <p:grpSpPr>
          <a:xfrm>
            <a:off x="262080" y="4145040"/>
            <a:ext cx="8253360" cy="1189080"/>
            <a:chOff x="262080" y="4145040"/>
            <a:chExt cx="8253360" cy="1189080"/>
          </a:xfrm>
        </p:grpSpPr>
        <p:pic>
          <p:nvPicPr>
            <p:cNvPr id="70" name="Прямоугольник 7" descr=""/>
            <p:cNvPicPr/>
            <p:nvPr/>
          </p:nvPicPr>
          <p:blipFill>
            <a:blip r:embed="rId4"/>
            <a:stretch/>
          </p:blipFill>
          <p:spPr>
            <a:xfrm>
              <a:off x="262080" y="4145040"/>
              <a:ext cx="825336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320760" y="4292640"/>
              <a:ext cx="8137440" cy="6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едмет исследования: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" name="TextBox 8"/>
          <p:cNvSpPr/>
          <p:nvPr/>
        </p:nvSpPr>
        <p:spPr>
          <a:xfrm>
            <a:off x="320760" y="5504040"/>
            <a:ext cx="813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 упражнений для развития специализированного восприятия у обучающихся 16-17 лет во внеурочной деятель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3"/>
          <p:cNvSpPr/>
          <p:nvPr/>
        </p:nvSpPr>
        <p:spPr>
          <a:xfrm rot="5400000">
            <a:off x="5409000" y="3194640"/>
            <a:ext cx="6858000" cy="4683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Номер слайда 1"/>
          <p:cNvSpPr/>
          <p:nvPr/>
        </p:nvSpPr>
        <p:spPr>
          <a:xfrm>
            <a:off x="8604360" y="6356520"/>
            <a:ext cx="468360" cy="3650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A08F9-6AD5-403D-9350-CFC79EAD9583}" type="slidenum"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" name="Прямоугольник 13"/>
          <p:cNvGrpSpPr/>
          <p:nvPr/>
        </p:nvGrpSpPr>
        <p:grpSpPr>
          <a:xfrm>
            <a:off x="189000" y="-139680"/>
            <a:ext cx="8253360" cy="1182600"/>
            <a:chOff x="189000" y="-139680"/>
            <a:chExt cx="8253360" cy="1182600"/>
          </a:xfrm>
        </p:grpSpPr>
        <p:pic>
          <p:nvPicPr>
            <p:cNvPr id="76" name="Прямоугольник 13" descr=""/>
            <p:cNvPicPr/>
            <p:nvPr/>
          </p:nvPicPr>
          <p:blipFill>
            <a:blip r:embed="rId1"/>
            <a:stretch/>
          </p:blipFill>
          <p:spPr>
            <a:xfrm>
              <a:off x="189000" y="-139680"/>
              <a:ext cx="825336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247680" y="6480"/>
              <a:ext cx="8137440" cy="6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адачи исследования: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8" name="TextBox 16"/>
          <p:cNvSpPr/>
          <p:nvPr/>
        </p:nvSpPr>
        <p:spPr>
          <a:xfrm>
            <a:off x="277920" y="725400"/>
            <a:ext cx="7993080" cy="40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понятие специализированного восприят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ть возрастные особенности старших школьников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анализировать особенности реализации подготовки школьников во внеурочной программе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олейболу и  подобрать наиболее подходящие темы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азвития специализированного восприят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ть комплекс упражнений для развития специализированного восприяти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обрать тесты для оценки развития специализированного восприятия у старших школьников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Прямоугольник 7"/>
          <p:cNvGrpSpPr/>
          <p:nvPr/>
        </p:nvGrpSpPr>
        <p:grpSpPr>
          <a:xfrm>
            <a:off x="158760" y="4505400"/>
            <a:ext cx="8259840" cy="1189080"/>
            <a:chOff x="158760" y="4505400"/>
            <a:chExt cx="8259840" cy="1189080"/>
          </a:xfrm>
        </p:grpSpPr>
        <p:pic>
          <p:nvPicPr>
            <p:cNvPr id="80" name="Прямоугольник 7" descr=""/>
            <p:cNvPicPr/>
            <p:nvPr/>
          </p:nvPicPr>
          <p:blipFill>
            <a:blip r:embed="rId2"/>
            <a:stretch/>
          </p:blipFill>
          <p:spPr>
            <a:xfrm>
              <a:off x="158760" y="4505400"/>
              <a:ext cx="825984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220680" y="4653000"/>
              <a:ext cx="8136000" cy="6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етоды исследования: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" name="TextBox 8"/>
          <p:cNvSpPr/>
          <p:nvPr/>
        </p:nvSpPr>
        <p:spPr>
          <a:xfrm>
            <a:off x="291960" y="5648400"/>
            <a:ext cx="799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етического характера: теоретический анализ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пирического характера: обобщение литератур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3"/>
          <p:cNvSpPr/>
          <p:nvPr/>
        </p:nvSpPr>
        <p:spPr>
          <a:xfrm rot="5400000">
            <a:off x="5409000" y="3194640"/>
            <a:ext cx="6858000" cy="4683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" name="Прямоугольник 11"/>
          <p:cNvGrpSpPr/>
          <p:nvPr/>
        </p:nvGrpSpPr>
        <p:grpSpPr>
          <a:xfrm>
            <a:off x="212760" y="158760"/>
            <a:ext cx="8358120" cy="1700280"/>
            <a:chOff x="212760" y="158760"/>
            <a:chExt cx="8358120" cy="1700280"/>
          </a:xfrm>
        </p:grpSpPr>
        <p:pic>
          <p:nvPicPr>
            <p:cNvPr id="85" name="Прямоугольник 11" descr=""/>
            <p:cNvPicPr/>
            <p:nvPr/>
          </p:nvPicPr>
          <p:blipFill>
            <a:blip r:embed="rId2"/>
            <a:stretch/>
          </p:blipFill>
          <p:spPr>
            <a:xfrm>
              <a:off x="212760" y="158760"/>
              <a:ext cx="8358120" cy="17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324000" y="189000"/>
              <a:ext cx="813564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ЛАВА 1. </a:t>
              </a: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ТЕОРЕТИЧЕСКИЕ ПРЕДПОСЫЛКИ </a:t>
              </a: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ЗВИТИЯ СПЕЦИАЛИЗИРОВАННОГО ВОСПРИЯТИЯ У ОБУЧАЮЩИХСЯ 16-17 ЛЕТ ВО ВНЕУРОЧНОЙ ДЕЯТЕЛЬНОСТИ ПО ВОЛЕЙБОЛУ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Номер слайда 1"/>
          <p:cNvSpPr/>
          <p:nvPr/>
        </p:nvSpPr>
        <p:spPr>
          <a:xfrm>
            <a:off x="8604360" y="6356520"/>
            <a:ext cx="468360" cy="365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1644C-A89D-4ADD-BAC9-5EABEC8A17EF}" type="slidenum"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Прямоугольник 4"/>
          <p:cNvSpPr/>
          <p:nvPr/>
        </p:nvSpPr>
        <p:spPr>
          <a:xfrm>
            <a:off x="324000" y="2133720"/>
            <a:ext cx="813564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ории нами рассмотрены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нятие специализированного восприятия в волейбол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1.2. Возрастные особенности обучающихся 16-17 ле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1.3. Анализ современных программ курса внеурочной деятельности по волейболу в старших класса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1.4. Возможности использования специальных физических упражнений для развития специализированного восприятия в волейбол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3"/>
          <p:cNvSpPr/>
          <p:nvPr/>
        </p:nvSpPr>
        <p:spPr>
          <a:xfrm rot="5400000">
            <a:off x="5409000" y="3194640"/>
            <a:ext cx="6858000" cy="4683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Номер слайда 1"/>
          <p:cNvSpPr/>
          <p:nvPr/>
        </p:nvSpPr>
        <p:spPr>
          <a:xfrm>
            <a:off x="8604360" y="6356520"/>
            <a:ext cx="468360" cy="365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8898B-A604-40EB-8641-ADE3DED088CD}" type="slidenum"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" name="Прямоугольник 5"/>
          <p:cNvGrpSpPr/>
          <p:nvPr/>
        </p:nvGrpSpPr>
        <p:grpSpPr>
          <a:xfrm>
            <a:off x="262080" y="42840"/>
            <a:ext cx="8259480" cy="1182600"/>
            <a:chOff x="262080" y="42840"/>
            <a:chExt cx="8259480" cy="1182600"/>
          </a:xfrm>
        </p:grpSpPr>
        <p:pic>
          <p:nvPicPr>
            <p:cNvPr id="92" name="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262080" y="42840"/>
              <a:ext cx="825948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324000" y="189000"/>
              <a:ext cx="8135640" cy="6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сновные понятия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4" name="Прямоугольник 6"/>
          <p:cNvSpPr/>
          <p:nvPr/>
        </p:nvSpPr>
        <p:spPr>
          <a:xfrm>
            <a:off x="71280" y="1413000"/>
            <a:ext cx="8390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ейбо́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вид спорта, командная спортивная игра, в процессе которой две команды соревнуются на специальной площадке, разделённой сеткой, стремясь направить мяч на сторону соперника таким образом, чтобы он приземлился на площадке противник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ое восприят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специфический для различных видов спорта тип сенсорного восприятия, регулирующий его деятельность по ходу выполнения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урочная деятельность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обязательная часть образовательной деятельности, форма образовательного процесса, направленная на повышение качества образовательного результата, организуемая участниками образовательного процес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3"/>
          <p:cNvSpPr/>
          <p:nvPr/>
        </p:nvSpPr>
        <p:spPr>
          <a:xfrm rot="5400000">
            <a:off x="5409000" y="3194640"/>
            <a:ext cx="6858000" cy="4683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Номер слайда 1"/>
          <p:cNvSpPr/>
          <p:nvPr/>
        </p:nvSpPr>
        <p:spPr>
          <a:xfrm>
            <a:off x="8604360" y="6356520"/>
            <a:ext cx="468360" cy="365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AB512-1052-421E-AB1C-C711E8E0AAFA}" type="slidenum"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" name="Прямоугольник 5"/>
          <p:cNvGrpSpPr/>
          <p:nvPr/>
        </p:nvGrpSpPr>
        <p:grpSpPr>
          <a:xfrm>
            <a:off x="262080" y="158760"/>
            <a:ext cx="8259480" cy="1987560"/>
            <a:chOff x="262080" y="158760"/>
            <a:chExt cx="8259480" cy="1987560"/>
          </a:xfrm>
        </p:grpSpPr>
        <p:pic>
          <p:nvPicPr>
            <p:cNvPr id="98" name="Прямоугольник 5" descr=""/>
            <p:cNvPicPr/>
            <p:nvPr/>
          </p:nvPicPr>
          <p:blipFill>
            <a:blip r:embed="rId1"/>
            <a:stretch/>
          </p:blipFill>
          <p:spPr>
            <a:xfrm>
              <a:off x="262080" y="158760"/>
              <a:ext cx="825948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324000" y="189000"/>
              <a:ext cx="8135640" cy="18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ыводы по первой главе: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0" name="Прямоугольник 6"/>
          <p:cNvSpPr/>
          <p:nvPr/>
        </p:nvSpPr>
        <p:spPr>
          <a:xfrm>
            <a:off x="324000" y="2421000"/>
            <a:ext cx="81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7"/>
          <p:cNvSpPr/>
          <p:nvPr/>
        </p:nvSpPr>
        <p:spPr>
          <a:xfrm>
            <a:off x="179280" y="2274840"/>
            <a:ext cx="82803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 2.1 мы рассмотрели что такое специализированное восприятие, какие бывают виды, и какую роль играет в волейболе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пециализированное восприятие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  <a:ea typeface="Calibri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специфический для различных видов спорта тип сенсорного восприятия, регулирующий его деятельность по ходу выполн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 2.2 Нами были рассмотрены возрастные особенности избранного нами возраста. В нём мы рассмотрели как психологические так и физиологические особенности этого возрас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 2.3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мы рассмотрели современные программы  внеурочной деятельности по волейбол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 2.4 мы рассмотрел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зможности использования специальных физических упражнений для развития специализированного восприятия в волейбол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3"/>
          <p:cNvSpPr/>
          <p:nvPr/>
        </p:nvSpPr>
        <p:spPr>
          <a:xfrm rot="5400000">
            <a:off x="5409000" y="3194640"/>
            <a:ext cx="6858000" cy="4683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3" name="Прямоугольник 11"/>
          <p:cNvGrpSpPr/>
          <p:nvPr/>
        </p:nvGrpSpPr>
        <p:grpSpPr>
          <a:xfrm>
            <a:off x="201600" y="128520"/>
            <a:ext cx="8381880" cy="1730520"/>
            <a:chOff x="201600" y="128520"/>
            <a:chExt cx="8381880" cy="1730520"/>
          </a:xfrm>
        </p:grpSpPr>
        <p:pic>
          <p:nvPicPr>
            <p:cNvPr id="104" name="Прямоугольник 11" descr=""/>
            <p:cNvPicPr/>
            <p:nvPr/>
          </p:nvPicPr>
          <p:blipFill>
            <a:blip r:embed="rId2"/>
            <a:stretch/>
          </p:blipFill>
          <p:spPr>
            <a:xfrm>
              <a:off x="201600" y="128520"/>
              <a:ext cx="8381880" cy="17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324000" y="189000"/>
              <a:ext cx="813564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ЛАВА 2. 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ЕТОДИЧЕСКИЕ ПОДХОДЫ К РАЗВИТИЮ СПЕЦИАЛИЗИРОВАННОГО ВОСПРИЯТИЯ У ОБУЩАЮЩИХСЯ 16-17 ЛЕТ СРЕДСТВАМИ СПЕЦИАЛЬНЫХ УПРАЖНЕНИЙ ПО ВОЛЕЙБОЛУ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6" name="Номер слайда 1"/>
          <p:cNvSpPr/>
          <p:nvPr/>
        </p:nvSpPr>
        <p:spPr>
          <a:xfrm>
            <a:off x="8604360" y="6356520"/>
            <a:ext cx="468360" cy="365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9E42A-AC0E-4247-8CD5-AA27C3CB4BC6}" type="slidenum"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7"/>
          <p:cNvSpPr/>
          <p:nvPr/>
        </p:nvSpPr>
        <p:spPr>
          <a:xfrm>
            <a:off x="61920" y="1989000"/>
            <a:ext cx="8318520" cy="35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.1. Методические подходы к развитию специализированного восприятия во внеурочной деятельности по волейбол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.2. Комплекс специальных упражнений для развития специализированного восприятия у обучающихся 16-17 л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.3. Диагностический инструментарий для оценки развития специализированного восприят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3"/>
          <p:cNvSpPr/>
          <p:nvPr/>
        </p:nvSpPr>
        <p:spPr>
          <a:xfrm rot="5400000">
            <a:off x="5409000" y="3194640"/>
            <a:ext cx="6858000" cy="4683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Номер слайда 1"/>
          <p:cNvSpPr/>
          <p:nvPr/>
        </p:nvSpPr>
        <p:spPr>
          <a:xfrm>
            <a:off x="8604360" y="6356520"/>
            <a:ext cx="468360" cy="365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94D4D-AAFF-4B50-853F-78CCF7868AA4}" type="slidenum"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" name="Прямоугольник 5"/>
          <p:cNvGrpSpPr/>
          <p:nvPr/>
        </p:nvGrpSpPr>
        <p:grpSpPr>
          <a:xfrm>
            <a:off x="262080" y="158760"/>
            <a:ext cx="8332560" cy="1914480"/>
            <a:chOff x="262080" y="158760"/>
            <a:chExt cx="8332560" cy="1914480"/>
          </a:xfrm>
        </p:grpSpPr>
        <p:pic>
          <p:nvPicPr>
            <p:cNvPr id="111" name="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262080" y="158760"/>
              <a:ext cx="8332560" cy="191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324000" y="189000"/>
              <a:ext cx="8208720" cy="180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1 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Calibri"/>
                </a:rPr>
                <a:t> 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Методические подходы к развитию специализированного восприятия во внеурочной деятельности по волейболу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" name="Прямоугольник 6"/>
          <p:cNvSpPr/>
          <p:nvPr/>
        </p:nvSpPr>
        <p:spPr>
          <a:xfrm>
            <a:off x="324000" y="2421000"/>
            <a:ext cx="81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7"/>
          <p:cNvSpPr/>
          <p:nvPr/>
        </p:nvSpPr>
        <p:spPr>
          <a:xfrm>
            <a:off x="324000" y="2352600"/>
            <a:ext cx="8135640" cy="28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пункте 2.1 мы рассмотрели и изучили методические подходы к развитию специализированного восприятия. Рассмотрели весь ход работы, описали какие упражнения, и в какой части будем проводить. Так же описали диагностический инструментар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6T16:20:24Z</dcterms:created>
  <dc:creator>валерия яковлева</dc:creator>
  <dc:description/>
  <dc:language>en-US</dc:language>
  <cp:lastModifiedBy>маркин кирилл</cp:lastModifiedBy>
  <dcterms:modified xsi:type="dcterms:W3CDTF">2021-12-27T21:37:15Z</dcterms:modified>
  <cp:revision>46</cp:revision>
  <dc:subject/>
  <dc:title>МИНИСТЕРСТВО ОБРАЗОВАНИЯ И НАУКИ РОССИЙСКОЙ ФЕДЕРАЦИИ Федеральное государственное автономное образовательное учреждение высшего образования «Санкт-Петербургский политехнический университет  Петра Великого» (ФГАОУ ВО «СПбПУ») Университетский политехнический колледж</dc:title>
</cp:coreProperties>
</file>