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8F1-8D57-47C4-8C4B-06281DE6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44E-F505-4471-AAB0-6B987BE5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302-12C6-4200-A44D-4326DFAF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FC0-97D8-44CD-A994-8327B495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079-1D33-4C09-84A9-F6DD849F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844-ED3B-4BAC-9908-BAA4984B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9DC-532E-4C71-A4C7-247A0067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D5D-1142-4BAA-84F4-9882108E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F8D-7833-4AAD-A4C2-7F31A8A4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B0D-0B47-43F9-A708-C57B2DAE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6E8-005C-46D9-A01A-81AF986E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F06-B59A-4195-BECC-A287D467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B75E-8266-4E4F-9F39-EAEF51E5643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930B-BCE6-4BE4-8C00-78B7AA95A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7"/>
          <p:cNvGrpSpPr/>
          <p:nvPr/>
        </p:nvGrpSpPr>
        <p:grpSpPr>
          <a:xfrm>
            <a:off x="0" y="7920"/>
            <a:ext cx="9144000" cy="1260360"/>
            <a:chOff x="0" y="7920"/>
            <a:chExt cx="9144000" cy="1260360"/>
          </a:xfrm>
        </p:grpSpPr>
        <p:grpSp>
          <p:nvGrpSpPr>
            <p:cNvPr id="42" name="Группа 6"/>
            <p:cNvGrpSpPr/>
            <p:nvPr/>
          </p:nvGrpSpPr>
          <p:grpSpPr>
            <a:xfrm>
              <a:off x="0" y="230400"/>
              <a:ext cx="9144000" cy="768240"/>
              <a:chOff x="0" y="230400"/>
              <a:chExt cx="9144000" cy="768240"/>
            </a:xfrm>
          </p:grpSpPr>
          <p:sp>
            <p:nvSpPr>
              <p:cNvPr id="43" name="Прямоугольник 3"/>
              <p:cNvSpPr/>
              <p:nvPr/>
            </p:nvSpPr>
            <p:spPr>
              <a:xfrm rot="5400000">
                <a:off x="4187880" y="-3957480"/>
                <a:ext cx="768240" cy="91440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Прямоугольник 4"/>
              <p:cNvSpPr/>
              <p:nvPr/>
            </p:nvSpPr>
            <p:spPr>
              <a:xfrm>
                <a:off x="0" y="25992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Министерство образования и науки Челябинской области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Государственное бюджетное профессиональное образовательное учреждение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«Челябинский педагогический колледж № 1»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5" name="Picture 8" descr="C:\Users\user217-4\Desktop\РАБОТА\HTG Locker\Эмблема новая круглая.png"/>
            <p:cNvPicPr/>
            <p:nvPr/>
          </p:nvPicPr>
          <p:blipFill>
            <a:blip r:embed="rId1"/>
            <a:stretch/>
          </p:blipFill>
          <p:spPr>
            <a:xfrm>
              <a:off x="107280" y="7920"/>
              <a:ext cx="127836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Прямоугольник 11"/>
          <p:cNvGrpSpPr/>
          <p:nvPr/>
        </p:nvGrpSpPr>
        <p:grpSpPr>
          <a:xfrm>
            <a:off x="66600" y="1908000"/>
            <a:ext cx="9144000" cy="2206800"/>
            <a:chOff x="66600" y="1908000"/>
            <a:chExt cx="9144000" cy="2206800"/>
          </a:xfrm>
        </p:grpSpPr>
        <p:pic>
          <p:nvPicPr>
            <p:cNvPr id="47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66600" y="1908000"/>
              <a:ext cx="914400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79280" y="1941480"/>
              <a:ext cx="885672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МЕТОДИЧЕСКИЕ ПОДХОДЫ К РАЗВИТИЮ СПЕЦИАЛИЗИРОВАННОГО ВОСПРИЯТИЯ У ОБУЩАЮЩИХСЯ 16-17 ЛЕТ ВО ВНЕУРОЧНОЙ ДЕЯТЕЛЬНОСТИ ПО ВОЛЕЙБОЛУ»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14"/>
          <p:cNvSpPr/>
          <p:nvPr/>
        </p:nvSpPr>
        <p:spPr>
          <a:xfrm>
            <a:off x="3564000" y="448308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39 групп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ин Кирилл Владимир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рная.Ю.Н. Преподаватель психологии первой категор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0" y="6434280"/>
            <a:ext cx="903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ябинск, 202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418A-A8E1-4A4F-B4D0-A33C34C917E5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Прямоугольник 5"/>
          <p:cNvGrpSpPr/>
          <p:nvPr/>
        </p:nvGrpSpPr>
        <p:grpSpPr>
          <a:xfrm>
            <a:off x="171360" y="60480"/>
            <a:ext cx="8423280" cy="1420560"/>
            <a:chOff x="171360" y="60480"/>
            <a:chExt cx="8423280" cy="1420560"/>
          </a:xfrm>
        </p:grpSpPr>
        <p:pic>
          <p:nvPicPr>
            <p:cNvPr id="118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71360" y="60480"/>
              <a:ext cx="842328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24000" y="189000"/>
              <a:ext cx="82087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446040"/>
                  <a:tab algn="l" pos="895320"/>
                  <a:tab algn="l" pos="1344600"/>
                  <a:tab algn="l" pos="1793880"/>
                  <a:tab algn="l" pos="2243160"/>
                  <a:tab algn="l" pos="2692440"/>
                  <a:tab algn="l" pos="3141720"/>
                  <a:tab algn="l" pos="3591000"/>
                  <a:tab algn="l" pos="4040280"/>
                  <a:tab algn="l" pos="4489560"/>
                  <a:tab algn="l" pos="4938840"/>
                  <a:tab algn="l" pos="5388120"/>
                  <a:tab algn="l" pos="5837400"/>
                  <a:tab algn="l" pos="6286680"/>
                  <a:tab algn="l" pos="6735600"/>
                  <a:tab algn="l" pos="7184880"/>
                  <a:tab algn="l" pos="7634160"/>
                  <a:tab algn="l" pos="8083440"/>
                  <a:tab algn="l" pos="8532720"/>
                  <a:tab algn="l" pos="89820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2.2. Комплекс специальных упражнений для развития специализированного восприятия у обучающихся 16-17 ле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Box 6"/>
          <p:cNvSpPr/>
          <p:nvPr/>
        </p:nvSpPr>
        <p:spPr>
          <a:xfrm>
            <a:off x="-14400" y="1535040"/>
            <a:ext cx="84614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ункте 2.2 мы разработали  комплекс специальных упражнений для развития специализированного восприятия, расписали на какое качество эти упражнения будут влия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48D3-0A47-43B4-B94D-6A26EE39CA54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Прямоугольник 5"/>
          <p:cNvGrpSpPr/>
          <p:nvPr/>
        </p:nvGrpSpPr>
        <p:grpSpPr>
          <a:xfrm>
            <a:off x="262080" y="66600"/>
            <a:ext cx="8332560" cy="1122480"/>
            <a:chOff x="262080" y="66600"/>
            <a:chExt cx="8332560" cy="1122480"/>
          </a:xfrm>
        </p:grpSpPr>
        <p:pic>
          <p:nvPicPr>
            <p:cNvPr id="124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262080" y="66600"/>
              <a:ext cx="833256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24000" y="189000"/>
              <a:ext cx="8208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2.3. Диагностический инструментарий для оценки развития специализированного восприяти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7"/>
          <p:cNvSpPr/>
          <p:nvPr/>
        </p:nvSpPr>
        <p:spPr>
          <a:xfrm>
            <a:off x="179280" y="1197000"/>
            <a:ext cx="820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третьем параграфе мы подобрали и объяснили диагностический инструментар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0" y="2430360"/>
            <a:ext cx="85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для оценки простой пространственной характеристи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уемому даётся сантиметровая лента в левую руку, он с открытыми газами, ведя по ленте правой рукой останавливается на отметке 100 см (1 м), далее он отпускает край ленты, которой держал правой рукой, закрывает глаза и должен с закрытыми глазами остановиться так же на отметке 100 см (1м). Записываются результаты отклонений в сантиметрах от заданной величины и в дальнейшем с этими данными производится статистическая обработка [Марищук]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AAEA-2020-4824-9A8F-1C01276FC7D2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1280" y="260280"/>
          <a:ext cx="8388360" cy="3168720"/>
        </p:xfrm>
        <a:graphic>
          <a:graphicData uri="http://schemas.openxmlformats.org/drawingml/2006/table">
            <a:tbl>
              <a:tblPr/>
              <a:tblGrid>
                <a:gridCol w="4194360"/>
                <a:gridCol w="1398600"/>
                <a:gridCol w="1398600"/>
                <a:gridCol w="1396800"/>
              </a:tblGrid>
              <a:tr h="4413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ый те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результативности (с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ысок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редн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изк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0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ранственная 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5"/>
          <p:cNvSpPr/>
          <p:nvPr/>
        </p:nvSpPr>
        <p:spPr>
          <a:xfrm>
            <a:off x="71280" y="3645000"/>
            <a:ext cx="838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для оценки простой временной характеристики. Испытуемому даётся секундомер, ему необходимо остановить секундомер через 7 секунд, ему даётся три тренировочных попытки без контроля над временем, т.е. не глядя на секундомер. Фиксируются «+» как переотмер и «–» как недоотмер. Например, «-0,5; 0,3; -0,6», складываем числа, получаем -0,8, что будет свидетельствовать о перевозбуждении нервной системы и готовности к быстрой работ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Марищук]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407F-46E2-4401-B99C-3B596B239EFF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15920"/>
          <a:ext cx="8388360" cy="2808360"/>
        </p:xfrm>
        <a:graphic>
          <a:graphicData uri="http://schemas.openxmlformats.org/drawingml/2006/table">
            <a:tbl>
              <a:tblPr/>
              <a:tblGrid>
                <a:gridCol w="4146840"/>
                <a:gridCol w="1414440"/>
                <a:gridCol w="1414440"/>
                <a:gridCol w="1412640"/>
              </a:tblGrid>
              <a:tr h="747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ый те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результативности (секунд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ысок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редн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изки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8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енная характерис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0,4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0,4 с до 0,7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5"/>
          <p:cNvSpPr/>
          <p:nvPr/>
        </p:nvSpPr>
        <p:spPr>
          <a:xfrm>
            <a:off x="71280" y="2852640"/>
            <a:ext cx="8388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ощущений и восприятий может проводиться как в целях психологического отбора, так и для определения изменений в психологических функциях после различных периодов физической и спортивной тренировки. По результатам оценки ощущений у одного и того же определенного человека можно судить также о его функциональном состоянии, утомлении. Зрительное ощущение (определение нижнего порог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способ приблизительного измерения описан К.К. Платоновы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плакаты с рисунками кольца Ландольта (рисунок 1). Диаметр кольца 7,5 мм, толщина линии 1,5 мм, разрыв линии 1,5 м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C9A0-5B71-4630-AB51-73E6389BD1C6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0" y="189000"/>
            <a:ext cx="8604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 также рулетка для измерения от испытуемого до плаката или соответствующая разметка по полу. В месте измерения всегда должно быть хорошее расстоя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уемый становится на расстоянии 6 м спиной к плакату, затем поворачивается и приближается к нему пока не увидит разрыв. Испытание становится следует повторить 3 раза. За основу берётся средний результат. Чем больше расстояние с которого испытуемый увидел направление разрыва, тем ниже его абсолютный порог зрительного различения (выше зрительная чувствительность) [Марищук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5791-8009-4753-9A62-05F7B8DC5713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50920" y="-320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1" descr=""/>
          <p:cNvPicPr/>
          <p:nvPr/>
        </p:nvPicPr>
        <p:blipFill>
          <a:blip r:embed="rId1"/>
          <a:srcRect l="0" t="0" r="0" b="5577"/>
          <a:stretch/>
        </p:blipFill>
        <p:spPr>
          <a:xfrm>
            <a:off x="250920" y="136440"/>
            <a:ext cx="5113080" cy="4399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 flipV="1" rot="10800000">
            <a:off x="610920" y="4915080"/>
            <a:ext cx="74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 – Кольцо Ландольд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2A89-B2F1-4176-AB16-AB93FC89BAF8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71280" y="189000"/>
            <a:ext cx="838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распределения и переключения внимания успешно применялась методика «отыскание чисел с переключением внимания по красно-черными клетками». Исследование проводится с помощью специальных бланков, на которых 25 чёрных и 24 красных числ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уемые должны отыскивать попеременно красные числа в возрастающей степени( от 1 до 24), черные в убывающем порядке (от 25 до 1) в течении 5 мину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5" descr=""/>
          <p:cNvPicPr/>
          <p:nvPr/>
        </p:nvPicPr>
        <p:blipFill>
          <a:blip r:embed="rId1"/>
          <a:stretch/>
        </p:blipFill>
        <p:spPr>
          <a:xfrm>
            <a:off x="2771640" y="3413160"/>
            <a:ext cx="4104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64BE-0214-4BC3-93D2-F5B85F5C7BDD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Прямоугольник 5"/>
          <p:cNvGrpSpPr/>
          <p:nvPr/>
        </p:nvGrpSpPr>
        <p:grpSpPr>
          <a:xfrm>
            <a:off x="262080" y="66600"/>
            <a:ext cx="8332560" cy="1182600"/>
            <a:chOff x="262080" y="66600"/>
            <a:chExt cx="8332560" cy="1182600"/>
          </a:xfrm>
        </p:grpSpPr>
        <p:pic>
          <p:nvPicPr>
            <p:cNvPr id="151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262080" y="66600"/>
              <a:ext cx="83325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24000" y="189000"/>
              <a:ext cx="8208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ключение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7"/>
          <p:cNvSpPr/>
          <p:nvPr/>
        </p:nvSpPr>
        <p:spPr>
          <a:xfrm>
            <a:off x="36360" y="920880"/>
            <a:ext cx="846000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заключении мы бы хотели сказать что развитие специализированного восприятия у обучающихся старших классов является важным фактором успешности игры, т.к. игровая деятельность в этом звене является ведущей.  В нашей курсовой работе мы описали то при  помощи чего мы будем измерять и развивать наше восприят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ерспективе дипломной работы мы планиру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вести комплекс специальных упражнений направленный развитие специализированного восприятия, а так же определить уровень его развития при помощи подобранных нами тес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Группа 7"/>
          <p:cNvGrpSpPr/>
          <p:nvPr/>
        </p:nvGrpSpPr>
        <p:grpSpPr>
          <a:xfrm>
            <a:off x="0" y="7920"/>
            <a:ext cx="9144000" cy="1260360"/>
            <a:chOff x="0" y="7920"/>
            <a:chExt cx="9144000" cy="1260360"/>
          </a:xfrm>
        </p:grpSpPr>
        <p:grpSp>
          <p:nvGrpSpPr>
            <p:cNvPr id="155" name="Группа 6"/>
            <p:cNvGrpSpPr/>
            <p:nvPr/>
          </p:nvGrpSpPr>
          <p:grpSpPr>
            <a:xfrm>
              <a:off x="0" y="230400"/>
              <a:ext cx="9144000" cy="768240"/>
              <a:chOff x="0" y="230400"/>
              <a:chExt cx="9144000" cy="768240"/>
            </a:xfrm>
          </p:grpSpPr>
          <p:sp>
            <p:nvSpPr>
              <p:cNvPr id="156" name="Прямоугольник 3"/>
              <p:cNvSpPr/>
              <p:nvPr/>
            </p:nvSpPr>
            <p:spPr>
              <a:xfrm rot="5400000">
                <a:off x="4187880" y="-3957480"/>
                <a:ext cx="768240" cy="91440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Прямоугольник 4"/>
              <p:cNvSpPr/>
              <p:nvPr/>
            </p:nvSpPr>
            <p:spPr>
              <a:xfrm>
                <a:off x="0" y="25992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Министерство образования и науки Челябинской области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Государственное бюджетное профессиональное образовательное учреждение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«Челябинский педагогический колледж № 1»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8" name="Picture 8" descr="C:\Users\user217-4\Desktop\РАБОТА\HTG Locker\Эмблема новая круглая.png"/>
            <p:cNvPicPr/>
            <p:nvPr/>
          </p:nvPicPr>
          <p:blipFill>
            <a:blip r:embed="rId1"/>
            <a:stretch/>
          </p:blipFill>
          <p:spPr>
            <a:xfrm>
              <a:off x="107280" y="7920"/>
              <a:ext cx="127836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Прямоугольник 11"/>
          <p:cNvGrpSpPr/>
          <p:nvPr/>
        </p:nvGrpSpPr>
        <p:grpSpPr>
          <a:xfrm>
            <a:off x="49320" y="2352600"/>
            <a:ext cx="8978760" cy="2255760"/>
            <a:chOff x="49320" y="2352600"/>
            <a:chExt cx="8978760" cy="2255760"/>
          </a:xfrm>
        </p:grpSpPr>
        <p:pic>
          <p:nvPicPr>
            <p:cNvPr id="160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49320" y="2352600"/>
              <a:ext cx="897876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08000" y="2384280"/>
              <a:ext cx="8856720" cy="20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асибо за внимание!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 готовы ответить на Ваши вопросы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Прямоугольник 11"/>
          <p:cNvGrpSpPr/>
          <p:nvPr/>
        </p:nvGrpSpPr>
        <p:grpSpPr>
          <a:xfrm>
            <a:off x="262080" y="158760"/>
            <a:ext cx="8259480" cy="1268280"/>
            <a:chOff x="262080" y="158760"/>
            <a:chExt cx="8259480" cy="1268280"/>
          </a:xfrm>
        </p:grpSpPr>
        <p:pic>
          <p:nvPicPr>
            <p:cNvPr id="53" name="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262080" y="158760"/>
              <a:ext cx="82594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24000" y="189000"/>
              <a:ext cx="813564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туальность исследования: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0F55-7B6A-4ED5-8842-EA8D44C5691C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324000" y="3105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484280"/>
            <a:ext cx="85885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д и результативность игры зависит от многих факторов, таких как: правильное использование техники, тактики, слаженной работы членов команды, развитие физических качеств таких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сила, быстрота, выносливость, ловкость, гибкость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специализированных ощущений игроков («чувство мяча», «чувство поля», «чувство сетки», «чувство времени», «чувство партнера»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0" y="3921120"/>
            <a:ext cx="43560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Прямоугольник 11"/>
          <p:cNvGrpSpPr/>
          <p:nvPr/>
        </p:nvGrpSpPr>
        <p:grpSpPr>
          <a:xfrm>
            <a:off x="262080" y="42840"/>
            <a:ext cx="8259480" cy="1182600"/>
            <a:chOff x="262080" y="42840"/>
            <a:chExt cx="8259480" cy="1182600"/>
          </a:xfrm>
        </p:grpSpPr>
        <p:pic>
          <p:nvPicPr>
            <p:cNvPr id="61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262080" y="42840"/>
              <a:ext cx="82594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4000" y="189000"/>
              <a:ext cx="81356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ль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AFDD-82DB-4408-AE8D-61810A1A9800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324000" y="126828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комплекс упражнений для развития специализированного восприятия у обучающихся 16-17 лет во внеуроч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Прямоугольник 13"/>
          <p:cNvGrpSpPr/>
          <p:nvPr/>
        </p:nvGrpSpPr>
        <p:grpSpPr>
          <a:xfrm>
            <a:off x="262080" y="2309760"/>
            <a:ext cx="8259480" cy="1189080"/>
            <a:chOff x="262080" y="2309760"/>
            <a:chExt cx="8259480" cy="1189080"/>
          </a:xfrm>
        </p:grpSpPr>
        <p:pic>
          <p:nvPicPr>
            <p:cNvPr id="66" name="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262080" y="2309760"/>
              <a:ext cx="82594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24000" y="2457360"/>
              <a:ext cx="813564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ъект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>
            <a:off x="324000" y="3429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бный процесс обучающихся старших классов по физической культу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Прямоугольник 7"/>
          <p:cNvGrpSpPr/>
          <p:nvPr/>
        </p:nvGrpSpPr>
        <p:grpSpPr>
          <a:xfrm>
            <a:off x="262080" y="4145040"/>
            <a:ext cx="8253360" cy="1189080"/>
            <a:chOff x="262080" y="4145040"/>
            <a:chExt cx="8253360" cy="1189080"/>
          </a:xfrm>
        </p:grpSpPr>
        <p:pic>
          <p:nvPicPr>
            <p:cNvPr id="70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62080" y="4145040"/>
              <a:ext cx="82533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20760" y="4292640"/>
              <a:ext cx="81374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мет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TextBox 8"/>
          <p:cNvSpPr/>
          <p:nvPr/>
        </p:nvSpPr>
        <p:spPr>
          <a:xfrm>
            <a:off x="320760" y="550404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упражнений для развития специализированного восприятия у обучающихся 16-17 лет во внеуроч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6BEE-9E01-4AE8-BDE0-DD2FE49E0979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Прямоугольник 13"/>
          <p:cNvGrpSpPr/>
          <p:nvPr/>
        </p:nvGrpSpPr>
        <p:grpSpPr>
          <a:xfrm>
            <a:off x="189000" y="-139680"/>
            <a:ext cx="8253360" cy="1182600"/>
            <a:chOff x="189000" y="-139680"/>
            <a:chExt cx="8253360" cy="1182600"/>
          </a:xfrm>
        </p:grpSpPr>
        <p:pic>
          <p:nvPicPr>
            <p:cNvPr id="76" name="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189000" y="-139680"/>
              <a:ext cx="82533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47680" y="6480"/>
              <a:ext cx="81374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чи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TextBox 16"/>
          <p:cNvSpPr/>
          <p:nvPr/>
        </p:nvSpPr>
        <p:spPr>
          <a:xfrm>
            <a:off x="277920" y="725400"/>
            <a:ext cx="799308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онятие специализированного восприят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ь возрастные особенности старших школьник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особенности реализации подготовки школьников во внеурочной программ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ейболу и  подобрать наиболее подходящие темы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специализированного восприят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комплекс упражнений для развития специализированного восприя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тесты для оценки развития специализированного восприятия у старших школьни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Прямоугольник 7"/>
          <p:cNvGrpSpPr/>
          <p:nvPr/>
        </p:nvGrpSpPr>
        <p:grpSpPr>
          <a:xfrm>
            <a:off x="158760" y="4505400"/>
            <a:ext cx="8259840" cy="1189080"/>
            <a:chOff x="158760" y="4505400"/>
            <a:chExt cx="8259840" cy="1189080"/>
          </a:xfrm>
        </p:grpSpPr>
        <p:pic>
          <p:nvPicPr>
            <p:cNvPr id="80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158760" y="4505400"/>
              <a:ext cx="8259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20680" y="4653000"/>
              <a:ext cx="8136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оды исследования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TextBox 8"/>
          <p:cNvSpPr/>
          <p:nvPr/>
        </p:nvSpPr>
        <p:spPr>
          <a:xfrm>
            <a:off x="291960" y="5648400"/>
            <a:ext cx="799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ого характера: теоретический анализ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ирического характера: обобщение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Прямоугольник 11"/>
          <p:cNvGrpSpPr/>
          <p:nvPr/>
        </p:nvGrpSpPr>
        <p:grpSpPr>
          <a:xfrm>
            <a:off x="212760" y="158760"/>
            <a:ext cx="8358120" cy="1700280"/>
            <a:chOff x="212760" y="158760"/>
            <a:chExt cx="8358120" cy="1700280"/>
          </a:xfrm>
        </p:grpSpPr>
        <p:pic>
          <p:nvPicPr>
            <p:cNvPr id="85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212760" y="158760"/>
              <a:ext cx="83581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24000" y="189000"/>
              <a:ext cx="81356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АВА 1.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ТЕОРЕТИЧЕСКИЕ ПРЕДПОСЫЛКИ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Я СПЕЦИАЛИЗИРОВАННОГО ВОСПРИЯТИЯ У ОБУЧАЮЩИХСЯ 16-17 ЛЕТ ВО ВНЕУРОЧНОЙ ДЕЯТЕЛЬНОСТИ ПО ВОЛЕЙБОЛ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B7A2-8C88-4F40-94C4-CDEEBC667585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324000" y="2133720"/>
            <a:ext cx="813564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ории нами рассмотр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ятие специализированного восприятия в волейб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2. Возрастные особенности обучающихся 16-17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3. Анализ современных программ курса внеурочной деятельности по волейболу в старших класс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4. Возможности использования специальных физических упражнений для развития специализированного восприятия в волейб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FDCA-90A4-429D-93B9-708A617915BB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Прямоугольник 5"/>
          <p:cNvGrpSpPr/>
          <p:nvPr/>
        </p:nvGrpSpPr>
        <p:grpSpPr>
          <a:xfrm>
            <a:off x="262080" y="42840"/>
            <a:ext cx="8259480" cy="1182600"/>
            <a:chOff x="262080" y="42840"/>
            <a:chExt cx="8259480" cy="1182600"/>
          </a:xfrm>
        </p:grpSpPr>
        <p:pic>
          <p:nvPicPr>
            <p:cNvPr id="92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62080" y="42840"/>
              <a:ext cx="82594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24000" y="189000"/>
              <a:ext cx="813564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нят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Прямоугольник 6"/>
          <p:cNvSpPr/>
          <p:nvPr/>
        </p:nvSpPr>
        <p:spPr>
          <a:xfrm>
            <a:off x="71280" y="1413000"/>
            <a:ext cx="8390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йбо́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ид спорта, командная спортивная игра, в процессе которой две команды соревнуются на специальной площадке, разделённой сеткой, стремясь направить мяч на сторону соперника таким образом, чтобы он приземлился на площадке противни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ое восприят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пецифический для различных видов спорта тип сенсорного восприятия, регулирующий его деятельность по ходу выполн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ая деятель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бязательная часть образовательной деятельности, форма образовательного процесса, направленная на повышение качества образовательного результата, организуемая участниками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CE16-D7BA-406A-83AC-E7DEBD98EB01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Прямоугольник 5"/>
          <p:cNvGrpSpPr/>
          <p:nvPr/>
        </p:nvGrpSpPr>
        <p:grpSpPr>
          <a:xfrm>
            <a:off x="262080" y="158760"/>
            <a:ext cx="8259480" cy="1987560"/>
            <a:chOff x="262080" y="158760"/>
            <a:chExt cx="8259480" cy="1987560"/>
          </a:xfrm>
        </p:grpSpPr>
        <p:pic>
          <p:nvPicPr>
            <p:cNvPr id="98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262080" y="158760"/>
              <a:ext cx="82594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24000" y="189000"/>
              <a:ext cx="813564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воды по первой главе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Прямоугольник 6"/>
          <p:cNvSpPr/>
          <p:nvPr/>
        </p:nvSpPr>
        <p:spPr>
          <a:xfrm>
            <a:off x="324000" y="242100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79280" y="2274840"/>
            <a:ext cx="828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.1 мы рассмотрели что такое специализированное восприятие, какие бывают виды, и какую роль играет в волейболе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ализированное восприятие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пецифический для различных видов спорта тип сенсорного восприятия, регулирующий его деятельность по ходу выпол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.2 Нами были рассмотрены возрастные особенности избранного нами возраста. В нём мы рассмотрели как психологические так и физиологические особенности этого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.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рассмотрели современные программы  внеурочной деятельности по волейбол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.4 мы рассмотре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и использования специальных физических упражнений для развития специализированного восприятия в волейбол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Прямоугольник 11"/>
          <p:cNvGrpSpPr/>
          <p:nvPr/>
        </p:nvGrpSpPr>
        <p:grpSpPr>
          <a:xfrm>
            <a:off x="201600" y="128520"/>
            <a:ext cx="8381880" cy="1730520"/>
            <a:chOff x="201600" y="128520"/>
            <a:chExt cx="8381880" cy="1730520"/>
          </a:xfrm>
        </p:grpSpPr>
        <p:pic>
          <p:nvPicPr>
            <p:cNvPr id="104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201600" y="128520"/>
              <a:ext cx="838188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24000" y="189000"/>
              <a:ext cx="81356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АВА 2.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ОДИЧЕСКИЕ ПОДХОДЫ К РАЗВИТИЮ СПЕЦИАЛИЗИРОВАННОГО ВОСПРИЯТИЯ У ОБУЩАЮЩИХСЯ 16-17 ЛЕТ СРЕДСТВАМИ СПЕЦИАЛЬНЫХ УПРАЖНЕНИЙ ПО ВОЛЕЙБОЛУ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61F9-3E44-4607-BC2B-9D1FED4CBD94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61920" y="1989000"/>
            <a:ext cx="8318520" cy="35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1. Методические подходы к развитию специализированного восприятия во внеурочной деятельности по волейбо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2. Комплекс специальных упражнений для развития специализированного восприятия у обучающихся 16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3. Диагностический инструментарий для оценки развития специализированного воспри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 rot="5400000">
            <a:off x="5409000" y="3194640"/>
            <a:ext cx="6858000" cy="468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1"/>
          <p:cNvSpPr/>
          <p:nvPr/>
        </p:nvSpPr>
        <p:spPr>
          <a:xfrm>
            <a:off x="8604360" y="6356520"/>
            <a:ext cx="468360" cy="365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DD5D-703C-4FA0-82A0-90F27331D604}" type="slidenum"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Прямоугольник 5"/>
          <p:cNvGrpSpPr/>
          <p:nvPr/>
        </p:nvGrpSpPr>
        <p:grpSpPr>
          <a:xfrm>
            <a:off x="262080" y="158760"/>
            <a:ext cx="8332560" cy="1914480"/>
            <a:chOff x="262080" y="158760"/>
            <a:chExt cx="8332560" cy="1914480"/>
          </a:xfrm>
        </p:grpSpPr>
        <p:pic>
          <p:nvPicPr>
            <p:cNvPr id="111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62080" y="158760"/>
              <a:ext cx="83325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24000" y="189000"/>
              <a:ext cx="820872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Calibri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Методические подходы к развитию специализированного восприятия во внеурочной деятельности по волейболу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Прямоугольник 6"/>
          <p:cNvSpPr/>
          <p:nvPr/>
        </p:nvSpPr>
        <p:spPr>
          <a:xfrm>
            <a:off x="324000" y="242100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24000" y="2352600"/>
            <a:ext cx="8135640" cy="28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ункте 2.1 мы рассмотрели и изучили методические подходы к развитию специализированного восприятия. Рассмотрели весь ход работы, описали какие упражнения, и в какой части будем проводить. Так же описали диагностический инструментар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6T16:20:24Z</dcterms:created>
  <dc:creator>валерия яковлева</dc:creator>
  <dc:description/>
  <dc:language>en-US</dc:language>
  <cp:lastModifiedBy>маркин кирилл</cp:lastModifiedBy>
  <dcterms:modified xsi:type="dcterms:W3CDTF">2021-12-27T21:37:15Z</dcterms:modified>
  <cp:revision>46</cp:revision>
  <dc:subject/>
  <dc:title>МИНИСТЕРСТВО ОБРАЗОВАНИЯ И НАУКИ РОССИЙСКОЙ ФЕДЕРАЦИИ Федеральное государственное автономное образовательное учреждение высшего образования «Санкт-Петербургский политехнический университет  Петра Великого» (ФГАОУ ВО «СПбПУ») Университетский политехнический колледж</dc:title>
</cp:coreProperties>
</file>