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26D-8E2A-44EF-B55E-FA65496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CF1-EEED-4268-8FD1-EDDEAB5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C03-8FD3-4AA5-9DD9-FE415A0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FD4-9FC0-4E7B-B78A-EC555121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5B7-8ED9-4D64-822A-E7BEADBB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D57-8459-4930-8A06-67AA81D7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099-88B3-41CE-9DBD-418A9EA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FE9-C315-4A0D-B2F3-B8CC445F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99F-3A6C-4817-A0C1-FB4E278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89E-C5DE-47E0-A03C-8795433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61A-53E6-4C36-9BAF-DACCC63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7A1-EA7E-4AFF-BFA6-44D75225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17C-741E-4211-B15F-9CE5308C77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molsk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3163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1619280" y="918000"/>
            <a:ext cx="611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43.02.10 Туриз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http://www.smolsk.ru/img/smolbuidcolled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9" descr="D:\ЕЛЕНА\картинки\Гербы Смоленска\Герб Смоленска красный.bmp"/>
          <p:cNvPicPr/>
          <p:nvPr/>
        </p:nvPicPr>
        <p:blipFill>
          <a:blip r:embed="rId3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4"/>
          <a:stretch/>
        </p:blipFill>
        <p:spPr>
          <a:xfrm>
            <a:off x="426960" y="1835280"/>
            <a:ext cx="8290080" cy="5022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619280" y="704880"/>
            <a:ext cx="61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 и эксплуатация  внутренних сантехнических устройст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онирования воздуха и венти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5550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8" descr=""/>
          <p:cNvPicPr/>
          <p:nvPr/>
        </p:nvPicPr>
        <p:blipFill>
          <a:blip r:embed="rId1"/>
          <a:srcRect l="1862" t="0" r="4104" b="-941"/>
          <a:stretch/>
        </p:blipFill>
        <p:spPr>
          <a:xfrm>
            <a:off x="-49320" y="1312920"/>
            <a:ext cx="91807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3725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414360" y="1523880"/>
            <a:ext cx="8339040" cy="4322880"/>
            <a:chOff x="414360" y="1523880"/>
            <a:chExt cx="8339040" cy="432288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3904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68360" y="1628640"/>
              <a:ext cx="8229600" cy="38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84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ЖЕЛАЮ ВСЕМ </a:t>
              </a:r>
              <a:br>
                <a:rPr sz="4800"/>
              </a:b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ЗДОРОВЬЯ,  УСПЕХОВ В УЧЁБЕ, ТВОРЧЕСТВЕ, ЛИЧНОГО И СЕМЕЙНОГО СЧАСТЬЯ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Рисунок 2" descr="987.jpg"/>
          <p:cNvPicPr/>
          <p:nvPr/>
        </p:nvPicPr>
        <p:blipFill>
          <a:blip r:embed="rId2"/>
          <a:stretch/>
        </p:blipFill>
        <p:spPr>
          <a:xfrm>
            <a:off x="6199200" y="450720"/>
            <a:ext cx="2311560" cy="1920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643200" y="5500800"/>
            <a:ext cx="47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айвороню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лена Гафу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2-12-09T13:47:45Z</dcterms:modified>
  <cp:revision>224</cp:revision>
  <dc:subject/>
  <dc:title>Технология устройства отделочных покрытий</dc:title>
</cp:coreProperties>
</file>