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9CA5-BC4F-484A-B19C-F279519F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101D-B823-4323-A52A-97AF422E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D766-2F4F-4EA2-A443-4D05839F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62E1-8729-458F-9C11-7CEC2608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CDC4-5B18-46E1-95CB-1C38D67B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03F7-54F3-4448-BA11-5FD30367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3C2-528A-4592-9475-0758BCF8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CD98-1274-4479-B1D7-99CBE431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F7A2-55BF-4E6A-A6A7-308184BC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D45C-3231-4F17-8D88-B7D09496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DB91-C417-4704-87DD-003B704F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E67-9D86-46CD-86E3-80EB922B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AC25-9CC0-42A1-AD58-2EDAE51E0C2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Учитель\Desktop\9б\с-цветками-и-ladybird-38963306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684360" y="3213000"/>
            <a:ext cx="568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ль родителе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егулировании детских школьных конфли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BD06200_"/>
          <p:cNvPicPr/>
          <p:nvPr/>
        </p:nvPicPr>
        <p:blipFill>
          <a:blip r:embed="rId2"/>
          <a:stretch/>
        </p:blipFill>
        <p:spPr>
          <a:xfrm>
            <a:off x="6348240" y="1628640"/>
            <a:ext cx="2448000" cy="2382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4140360" y="5732640"/>
            <a:ext cx="54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ла: Просверикова Ольга Вадим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матема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Ш №13 г. Йошкар-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Учитель\Downloads\scale_1200.jpg"/>
          <p:cNvPicPr/>
          <p:nvPr/>
        </p:nvPicPr>
        <p:blipFill>
          <a:blip r:embed="rId1"/>
          <a:stretch/>
        </p:blipFill>
        <p:spPr>
          <a:xfrm>
            <a:off x="-1143000" y="-210960"/>
            <a:ext cx="11430000" cy="7277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973080" y="4648320"/>
            <a:ext cx="2450880" cy="2384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640" y="1844280"/>
            <a:ext cx="1000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кольные конфликты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ли повод для недовольств…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родитель-педагог –ученик)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92360" y="3141360"/>
            <a:ext cx="662472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заимоотношение детей (враждующие сторон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отметок (болезненная реакция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ъем зна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фликт с  учителе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здоровая обстановка в класс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826920" y="2997360"/>
            <a:ext cx="245124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Учитель\Downloads\scale_1200.jpg"/>
          <p:cNvPicPr/>
          <p:nvPr/>
        </p:nvPicPr>
        <p:blipFill>
          <a:blip r:embed="rId1"/>
          <a:stretch/>
        </p:blipFill>
        <p:spPr>
          <a:xfrm>
            <a:off x="-1144440" y="-243000"/>
            <a:ext cx="11430000" cy="7277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-828720" y="4649760"/>
            <a:ext cx="2451240" cy="23842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119700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спроигрышный метод решения конфликтов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(Томас Гордон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79640" y="2060640"/>
            <a:ext cx="813744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г 1 -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познавание и определение конфли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- Вовлечь оппонента в процесс решения пробле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г 2 -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работка возможных альтернативных реш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- Собрать как можно больше вариантов реш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г 3 -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ка альтернативных реш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- Активизировать оппонента на высказывания по поводу различных решений, сообщить свое мнение по каждому вариан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г 4 -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ор наиболее приемлемого реш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- Принять окончательное реш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г 5 -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работка способов выполнения реш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- Спланировать процесс претворения в жизнь принятого реш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г 6 -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роль и оценка его результа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- Способствовать реализации решения. Выявить обстоятельства, требующие пересмотра принятого реш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Учитель\Downloads\scale_1200.jpg"/>
          <p:cNvPicPr/>
          <p:nvPr/>
        </p:nvPicPr>
        <p:blipFill>
          <a:blip r:embed="rId1"/>
          <a:stretch/>
        </p:blipFill>
        <p:spPr>
          <a:xfrm>
            <a:off x="-998640" y="-210960"/>
            <a:ext cx="11430000" cy="7277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-973080" y="4648320"/>
            <a:ext cx="2450880" cy="2384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40000" y="1989000"/>
            <a:ext cx="5616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ль родителей в школьных конфликтах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39640" y="2997360"/>
            <a:ext cx="777708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андал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гроз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алобы админист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б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кусство дипломат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учиться взаимодействовать педагогам, родителям учеников, правильно реагировать на конфликтную ситуацию через разные формы работы: анкетирование; лектории; круглые столы; тренинги;  распространение буклетов (памяток и т.п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7308720" y="2637000"/>
            <a:ext cx="245772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C:\Users\Учитель\Desktop\9б\с-цветками-и-ladybird-38963306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BD06200_"/>
          <p:cNvPicPr/>
          <p:nvPr/>
        </p:nvPicPr>
        <p:blipFill>
          <a:blip r:embed="rId2"/>
          <a:stretch/>
        </p:blipFill>
        <p:spPr>
          <a:xfrm>
            <a:off x="6348240" y="2271600"/>
            <a:ext cx="2448000" cy="2382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3"/>
          <a:stretch/>
        </p:blipFill>
        <p:spPr>
          <a:xfrm>
            <a:off x="227160" y="3100320"/>
            <a:ext cx="2487600" cy="1584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2000" y="274680"/>
            <a:ext cx="6897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ль родителей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регулировании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тских школьных конфлик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4" descr="3D1.jpg"/>
          <p:cNvPicPr/>
          <p:nvPr/>
        </p:nvPicPr>
        <p:blipFill>
          <a:blip r:embed="rId4"/>
          <a:stretch/>
        </p:blipFill>
        <p:spPr>
          <a:xfrm>
            <a:off x="233280" y="5342040"/>
            <a:ext cx="2508480" cy="1515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69201627.jpg"/>
          <p:cNvPicPr/>
          <p:nvPr/>
        </p:nvPicPr>
        <p:blipFill>
          <a:blip r:embed="rId5"/>
          <a:stretch/>
        </p:blipFill>
        <p:spPr>
          <a:xfrm>
            <a:off x="3276720" y="3998880"/>
            <a:ext cx="2232000" cy="1800360"/>
          </a:xfrm>
          <a:prstGeom prst="rect">
            <a:avLst/>
          </a:prstGeom>
          <a:ln w="0">
            <a:noFill/>
          </a:ln>
        </p:spPr>
      </p:pic>
      <p:sp>
        <p:nvSpPr>
          <p:cNvPr id="106" name="Стрелка вниз 9"/>
          <p:cNvSpPr/>
          <p:nvPr/>
        </p:nvSpPr>
        <p:spPr>
          <a:xfrm>
            <a:off x="1477800" y="4684680"/>
            <a:ext cx="459000" cy="68256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c00000"/>
          </a:solidFill>
          <a:ln w="25560">
            <a:solidFill>
              <a:srgbClr val="5050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трелка вправо 12"/>
          <p:cNvSpPr/>
          <p:nvPr/>
        </p:nvSpPr>
        <p:spPr>
          <a:xfrm>
            <a:off x="2741760" y="4149720"/>
            <a:ext cx="601560" cy="43164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c00000"/>
          </a:solidFill>
          <a:ln w="25560">
            <a:solidFill>
              <a:srgbClr val="5050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14"/>
          <p:cNvSpPr/>
          <p:nvPr/>
        </p:nvSpPr>
        <p:spPr>
          <a:xfrm>
            <a:off x="2712960" y="5367240"/>
            <a:ext cx="630360" cy="4320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c00000"/>
          </a:solidFill>
          <a:ln w="25560">
            <a:solidFill>
              <a:srgbClr val="5050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17"/>
          <p:cNvSpPr/>
          <p:nvPr/>
        </p:nvSpPr>
        <p:spPr>
          <a:xfrm rot="10800000">
            <a:off x="806040" y="4654440"/>
            <a:ext cx="459000" cy="6876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c00000"/>
          </a:solidFill>
          <a:ln w="25560">
            <a:solidFill>
              <a:srgbClr val="5050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право 18"/>
          <p:cNvSpPr/>
          <p:nvPr/>
        </p:nvSpPr>
        <p:spPr>
          <a:xfrm rot="11448000">
            <a:off x="2712600" y="3568320"/>
            <a:ext cx="1386000" cy="432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c00000"/>
          </a:solidFill>
          <a:ln w="25560">
            <a:solidFill>
              <a:srgbClr val="5050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трелка вправо 19"/>
          <p:cNvSpPr/>
          <p:nvPr/>
        </p:nvSpPr>
        <p:spPr>
          <a:xfrm rot="8645400">
            <a:off x="2655360" y="6054480"/>
            <a:ext cx="1279800" cy="4316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c00000"/>
          </a:solidFill>
          <a:ln w="25560">
            <a:solidFill>
              <a:srgbClr val="5050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Учитель\Downloads\scale_1200.jpg"/>
          <p:cNvPicPr/>
          <p:nvPr/>
        </p:nvPicPr>
        <p:blipFill>
          <a:blip r:embed="rId1"/>
          <a:stretch/>
        </p:blipFill>
        <p:spPr>
          <a:xfrm>
            <a:off x="-1143000" y="-196920"/>
            <a:ext cx="11430000" cy="7277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-900000" y="4695840"/>
            <a:ext cx="2450880" cy="2384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4920" y="1052280"/>
            <a:ext cx="66229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ьность пробл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58560" y="2060640"/>
            <a:ext cx="87138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ышение роли родителей в воспитательном и образовательном процессе является  важнейшим требованием развития общества в современном мир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предполагает полноправное партнёрство педагогов  и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овременных социальных условия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исходит интенсивное расслоение общества по имущественному призна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ители отчуждены от своих детей и полностью поглощены социально-бытовыми проблем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предоставлены самим себе и пресловутой улиц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этом увеличивается количество детских конфликтов и  особую актуальность приобретает приобщение родителей к  их урегулирова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Учитель\Downloads\scale_1200.jpg"/>
          <p:cNvPicPr/>
          <p:nvPr/>
        </p:nvPicPr>
        <p:blipFill>
          <a:blip r:embed="rId1"/>
          <a:stretch/>
        </p:blipFill>
        <p:spPr>
          <a:xfrm>
            <a:off x="-1143000" y="-196920"/>
            <a:ext cx="11430000" cy="7277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-900000" y="4695840"/>
            <a:ext cx="2450880" cy="2384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34920" y="1628280"/>
            <a:ext cx="619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и 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50880" y="2349360"/>
            <a:ext cx="8205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: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оль родителей в урегулировании детских конфликтов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азание помощи родителям в урегулировании детских школьных конфлик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Определить значение роли родителей в школьных конфликтных ситуация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Выявить возможности родителей в оказании помощи в школьных конфликта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Разработать информационное сопровождение педагогического образования родителей, обеспечивающее формирование активной педагогической позиции родител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  Разработать методические рекомендации по проблеме в помощь родител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Учитель\Downloads\scale_1200.jpg"/>
          <p:cNvPicPr/>
          <p:nvPr/>
        </p:nvPicPr>
        <p:blipFill>
          <a:blip r:embed="rId1"/>
          <a:stretch/>
        </p:blipFill>
        <p:spPr>
          <a:xfrm>
            <a:off x="-1143000" y="-196920"/>
            <a:ext cx="11430000" cy="7277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-900000" y="4695840"/>
            <a:ext cx="2450880" cy="2384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1640" y="1341000"/>
            <a:ext cx="84963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нятие конфликта,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го сущ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692000" y="242064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фликт изучал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циологи (Г. Спенсер, М. Вебер, Т. Парсонс и др.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ествоиспытатели ( Ч. Дарвин, У. Самнер и др.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лософы (Платон, Геродот ,Т. Гоббс, Г. Гегель…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сихологи ( К. Томас, Г. Томас, Л. С. Выготский, А. С. Залужский, Б. Т. Лихачев, Л. А. Петровская, О. Н. Лукашенок, Н. Е...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во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конфликт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исходит от латинского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conflictus – столкновение, противоборст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фликт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— это столкновение противоположно направленных целей, интересов, позиций, мнений, взглядов оппонентов или субъектов взаимодейств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Учитель\Downloads\scale_1200.jpg"/>
          <p:cNvPicPr/>
          <p:nvPr/>
        </p:nvPicPr>
        <p:blipFill>
          <a:blip r:embed="rId1"/>
          <a:stretch/>
        </p:blipFill>
        <p:spPr>
          <a:xfrm>
            <a:off x="-1143000" y="-196920"/>
            <a:ext cx="11430000" cy="7277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-900000" y="4695840"/>
            <a:ext cx="2450880" cy="2384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1640" y="1773000"/>
            <a:ext cx="8496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ы конфликтов</a:t>
            </a:r>
            <a:br>
              <a:rPr sz="25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355640" y="2491920"/>
            <a:ext cx="57610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жличнос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утриличностны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лово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рыты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глаженны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ры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1568520" y="4695840"/>
            <a:ext cx="2450880" cy="2384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4"/>
          <a:stretch/>
        </p:blipFill>
        <p:spPr>
          <a:xfrm>
            <a:off x="1332000" y="2311560"/>
            <a:ext cx="2450880" cy="238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5"/>
          <a:stretch/>
        </p:blipFill>
        <p:spPr>
          <a:xfrm>
            <a:off x="7308720" y="4019400"/>
            <a:ext cx="245124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Учитель\Downloads\scale_1200.jpg"/>
          <p:cNvPicPr/>
          <p:nvPr/>
        </p:nvPicPr>
        <p:blipFill>
          <a:blip r:embed="rId1"/>
          <a:stretch/>
        </p:blipFill>
        <p:spPr>
          <a:xfrm>
            <a:off x="-1143000" y="-196920"/>
            <a:ext cx="11430000" cy="7277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-900000" y="4695840"/>
            <a:ext cx="2450880" cy="2384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23640" y="1052280"/>
            <a:ext cx="6264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атегия поведения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в конфликт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692360" y="2420640"/>
            <a:ext cx="859464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куренция, соперничество («акула») — стремление добиться удовлетворения своих интересов в ущерб друго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трудничество («сова») — выбор альтернативы, максимально отвечающей интересам обеих сторо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 •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промисс («лиса») — выбор, при котором каждая сторона что-то выигрывает, но что-то и теря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бегание, уклонение («черепашка») — уход от конфликтных ситуаций, отсутствие как стремления к кооперации, так и попыток достижения собственных ц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 •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способление («медвежонок») — принесение в жертву собственных интересов ради интересов друг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Учитель\Downloads\scale_1200.jpg"/>
          <p:cNvPicPr/>
          <p:nvPr/>
        </p:nvPicPr>
        <p:blipFill>
          <a:blip r:embed="rId1"/>
          <a:stretch/>
        </p:blipFill>
        <p:spPr>
          <a:xfrm>
            <a:off x="-1143000" y="-196920"/>
            <a:ext cx="11430000" cy="727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900000" y="4695840"/>
            <a:ext cx="2450880" cy="23842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1640" y="1773000"/>
            <a:ext cx="8496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ы конфликтов</a:t>
            </a:r>
            <a:br>
              <a:rPr sz="25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355640" y="2491920"/>
            <a:ext cx="57610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жличнос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утриличностны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лово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рыты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глаженны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ры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1568520" y="4695840"/>
            <a:ext cx="2450880" cy="2384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4"/>
          <a:stretch/>
        </p:blipFill>
        <p:spPr>
          <a:xfrm>
            <a:off x="1332000" y="2311560"/>
            <a:ext cx="2450880" cy="2384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5"/>
          <a:stretch/>
        </p:blipFill>
        <p:spPr>
          <a:xfrm>
            <a:off x="7308720" y="4019400"/>
            <a:ext cx="245124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Учитель\Downloads\scale_1200.jpg"/>
          <p:cNvPicPr/>
          <p:nvPr/>
        </p:nvPicPr>
        <p:blipFill>
          <a:blip r:embed="rId1"/>
          <a:stretch/>
        </p:blipFill>
        <p:spPr>
          <a:xfrm>
            <a:off x="-1143000" y="-196920"/>
            <a:ext cx="11430000" cy="7277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-900000" y="4695840"/>
            <a:ext cx="2450880" cy="23842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1640" y="1125000"/>
            <a:ext cx="79930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рицательный последствия конфликта</a:t>
            </a:r>
            <a:br>
              <a:rPr sz="2500"/>
            </a:br>
            <a:br>
              <a:rPr sz="25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211640" y="1988640"/>
            <a:ext cx="590544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сихическая и физиологическая дезорганизация (снижение активности и эффективности деятельнос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ояние сомнения (неуверенность в себе, в своих сила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вление агрессии или покорности (внутриличностный конфлик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никает чувство неполноцен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тог: стресс; фрустрация; невроз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1568520" y="4695840"/>
            <a:ext cx="2450880" cy="2384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4"/>
          <a:stretch/>
        </p:blipFill>
        <p:spPr>
          <a:xfrm>
            <a:off x="1332000" y="2311560"/>
            <a:ext cx="2450880" cy="2384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5"/>
          <a:stretch/>
        </p:blipFill>
        <p:spPr>
          <a:xfrm>
            <a:off x="-684360" y="2565360"/>
            <a:ext cx="245124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Учитель\Downloads\scale_1200.jpg"/>
          <p:cNvPicPr/>
          <p:nvPr/>
        </p:nvPicPr>
        <p:blipFill>
          <a:blip r:embed="rId1"/>
          <a:stretch/>
        </p:blipFill>
        <p:spPr>
          <a:xfrm>
            <a:off x="-1143000" y="-196920"/>
            <a:ext cx="11430000" cy="7277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900000" y="4695840"/>
            <a:ext cx="2450880" cy="2384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56000" y="1844280"/>
            <a:ext cx="6408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ожительные стороны конфликт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07640" y="2491920"/>
            <a:ext cx="82090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рядка напряженности между конфликтующими сторон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учение новой информации об оппонент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 инноваций, стимулирование к изменениям и развити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ятие «синдрома покорности» 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агностика возможностей оппонентов, выявление вероятных ответных действий другой сторо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05:41:05Z</dcterms:created>
  <dc:creator>Женя</dc:creator>
  <dc:description/>
  <dc:language>en-US</dc:language>
  <cp:lastModifiedBy>Учитель</cp:lastModifiedBy>
  <dcterms:modified xsi:type="dcterms:W3CDTF">2022-12-03T15:31:07Z</dcterms:modified>
  <cp:revision>115</cp:revision>
  <dc:subject/>
  <dc:title>Слайд 1</dc:title>
</cp:coreProperties>
</file>