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3BA-FD51-40F0-A4DF-F71C9C00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C10-149A-4494-ACD4-FE4930B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66C-805B-4D46-BAF8-FD9F238C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8D8-CD7A-4D90-A0F2-4731B54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DF5-578B-4F4F-91A3-884581C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430-26A2-4D83-8828-CFB0750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86D-4FA9-4509-A20A-592B6D7D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0BB-6F6A-4171-853A-4BF0F17B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4C2-EC7D-4A99-B222-5328CFD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F40-6D6C-4D43-9BBD-C6595DA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747-B270-4285-BE99-8A2D0F71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632-3439-44C8-80A4-6258362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CB6D-AD50-47F5-9F19-8A7C4A3581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Учитель\Desktop\9б\с-цветками-и-ladybird-38963306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684360" y="321300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гулировании детских школьных конфли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D06200_"/>
          <p:cNvPicPr/>
          <p:nvPr/>
        </p:nvPicPr>
        <p:blipFill>
          <a:blip r:embed="rId2"/>
          <a:stretch/>
        </p:blipFill>
        <p:spPr>
          <a:xfrm>
            <a:off x="6348240" y="1628640"/>
            <a:ext cx="2448000" cy="238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140360" y="573264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Просверикова Ольга Вадим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Ш №13 г. Йошкар-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21096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973080" y="464832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40" y="1844280"/>
            <a:ext cx="1000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ые конфликты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и повод для недовольств…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одитель-педагог –ученик)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92360" y="3141360"/>
            <a:ext cx="6624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отношение детей (враждующие сторон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отметок (болезненная реакция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м зна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 с  учител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здоровая обстановка в класс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24512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4440" y="-24300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828720" y="4649760"/>
            <a:ext cx="2451240" cy="2384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119700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спроигрышный метод решения конфликтов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(Томас Гордон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79640" y="2060640"/>
            <a:ext cx="81374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1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ознавание и определение конфли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Вовлечь оппонента в процесс решения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2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ботка возможных альтернативн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обрать как можно больше вариантов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3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альтернативн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Активизировать оппонента на высказывания по поводу различных решений, сообщить свое мнение по каждому вариа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4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наиболее приемлем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Принять окончательное 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5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ботка способов выполнения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планировать процесс претворения в жизнь принят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6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 и оценка его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пособствовать реализации решения. Выявить обстоятельства, требующие пересмотра принят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998640" y="-21096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973080" y="464832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1989000"/>
            <a:ext cx="561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родителей в школьных конфликтах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39640" y="2997360"/>
            <a:ext cx="777708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нда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ро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лобы админист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усство дипломат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взаимодействовать педагогам, родителям учеников, правильно реагировать на конфликтную ситуацию через разные формы работы: анкетирование; лектории; круглые столы; тренинги;  распространение буклетов (памяток и т.п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7308720" y="2637000"/>
            <a:ext cx="2457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:\Users\Учитель\Desktop\9б\с-цветками-и-ladybird-38963306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BD06200_"/>
          <p:cNvPicPr/>
          <p:nvPr/>
        </p:nvPicPr>
        <p:blipFill>
          <a:blip r:embed="rId2"/>
          <a:stretch/>
        </p:blipFill>
        <p:spPr>
          <a:xfrm>
            <a:off x="6348240" y="2271600"/>
            <a:ext cx="2448000" cy="238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227160" y="3100320"/>
            <a:ext cx="2487600" cy="158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6897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родителей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егулирован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ских школьных конфли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3D1.jpg"/>
          <p:cNvPicPr/>
          <p:nvPr/>
        </p:nvPicPr>
        <p:blipFill>
          <a:blip r:embed="rId4"/>
          <a:stretch/>
        </p:blipFill>
        <p:spPr>
          <a:xfrm>
            <a:off x="233280" y="5342040"/>
            <a:ext cx="2508480" cy="1515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69201627.jpg"/>
          <p:cNvPicPr/>
          <p:nvPr/>
        </p:nvPicPr>
        <p:blipFill>
          <a:blip r:embed="rId5"/>
          <a:stretch/>
        </p:blipFill>
        <p:spPr>
          <a:xfrm>
            <a:off x="3276720" y="399888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низ 9"/>
          <p:cNvSpPr/>
          <p:nvPr/>
        </p:nvSpPr>
        <p:spPr>
          <a:xfrm>
            <a:off x="1477800" y="4684680"/>
            <a:ext cx="459000" cy="6825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2741760" y="4149720"/>
            <a:ext cx="601560" cy="4316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>
            <a:off x="2712960" y="5367240"/>
            <a:ext cx="630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7"/>
          <p:cNvSpPr/>
          <p:nvPr/>
        </p:nvSpPr>
        <p:spPr>
          <a:xfrm rot="10800000">
            <a:off x="806040" y="4654440"/>
            <a:ext cx="459000" cy="6876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18"/>
          <p:cNvSpPr/>
          <p:nvPr/>
        </p:nvSpPr>
        <p:spPr>
          <a:xfrm rot="11448000">
            <a:off x="2712600" y="3568320"/>
            <a:ext cx="138600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9"/>
          <p:cNvSpPr/>
          <p:nvPr/>
        </p:nvSpPr>
        <p:spPr>
          <a:xfrm rot="8645400">
            <a:off x="2655360" y="6054480"/>
            <a:ext cx="1279800" cy="431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4920" y="1052280"/>
            <a:ext cx="662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роли родителей в воспитательном и образовательном процессе является  важнейшим требованием развития общества в современном м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редполагает полноправное партнёрство педагогов  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временных социальных услов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сходит интенсивное расслоение общества по имущественному призна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отчуждены от своих детей и полностью поглощены социально-бытовыми проблем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предоставлены самим себе и пресловутой ул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этом увеличивается количество детских конфликтов и  особую актуальность приобретает приобщение родителей к  их урегулиро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4920" y="162828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50880" y="2349360"/>
            <a:ext cx="8205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ль родителей в урегулировании детских конфлик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ние помощи родителям в урегулировании детских школьных конфли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Определить значение роли родителей в школьных конфликтных ситуац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Выявить возможности родителей в оказании помощи в школьных конфликт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зработать информационное сопровождение педагогического образования родителей, обеспечивающее формирование активной педагогической позиции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Разработать методические рекомендации по проблеме в помощь родител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конфликта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 су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92000" y="2420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 изуча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ологи (Г. Спенсер, М. Вебер, Т. Парсонс и др.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оиспытатели ( Ч. Дарвин, У. Самнер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ософы (Платон, Геродот ,Т. Гоббс, Г. Гегель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 ( К. Томас, Г. Томас, Л. С. Выготский, А. С. Залужский, Б. Т. Лихачев, Л. А. Петровская, О. Н. Лукашенок, Н. Е...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онфлик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сходит от латинског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onflictus – столкновение, противобор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фликт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столкновение противоположно направленных целей, интересов, позиций, мнений, взглядов оппонентов или субъектов взаимо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конфликтов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355640" y="2491920"/>
            <a:ext cx="5761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лич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илич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ыт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глажен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5"/>
          <a:stretch/>
        </p:blipFill>
        <p:spPr>
          <a:xfrm>
            <a:off x="7308720" y="401940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23640" y="1052280"/>
            <a:ext cx="6264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тегия повед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в конфлик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692360" y="2420640"/>
            <a:ext cx="85946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енция, соперничество («акула») — стремление добиться удовлетворения своих интересов в ущерб друг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трудничество («сова») — выбор альтернативы, максимально отвечающей интересам обеих стор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 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ромисс («лиса») — выбор, при котором каждая сторона что-то выигрывает, но что-то и тер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бегание, уклонение («черепашка») — уход от конфликтных ситуаций, отсутствие как стремления к кооперации, так и попыток достижения собственных ц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 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способление («медвежонок») — принесение в жертву собственных интересов ради интересов друг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конфликтов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355640" y="2491920"/>
            <a:ext cx="5761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лич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илич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ыт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глажен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5"/>
          <a:stretch/>
        </p:blipFill>
        <p:spPr>
          <a:xfrm>
            <a:off x="7308720" y="401940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799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рицательный последствия конфликта</a:t>
            </a:r>
            <a:br>
              <a:rPr sz="2500"/>
            </a:b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211640" y="1988640"/>
            <a:ext cx="59054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ическая и физиологическая дезорганизация (снижение активности и эффективности деятель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 сомнения (неуверенность в себе, в своих сил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ление агрессии или покорности (внутриличностный конфлик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ает чувство неполноц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: стресс; фрустрация; невро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5"/>
          <a:stretch/>
        </p:blipFill>
        <p:spPr>
          <a:xfrm>
            <a:off x="-684360" y="256536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184428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стороны конфлик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7640" y="2491920"/>
            <a:ext cx="8209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ядка напряженности между конфликтующими сторон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е новой информации об оппонен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 инноваций, стимулирование к изменениям и развит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ятие «синдрома покорности»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ностика возможностей оппонентов, выявление вероятных ответных действий другой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41:05Z</dcterms:created>
  <dc:creator>Женя</dc:creator>
  <dc:description/>
  <dc:language>en-US</dc:language>
  <cp:lastModifiedBy>Учитель</cp:lastModifiedBy>
  <dcterms:modified xsi:type="dcterms:W3CDTF">2022-12-03T15:31:07Z</dcterms:modified>
  <cp:revision>115</cp:revision>
  <dc:subject/>
  <dc:title>Слайд 1</dc:title>
</cp:coreProperties>
</file>