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2A639-DB12-4A23-B488-3DF25348F03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76221-9538-4301-86F2-A1D59A611E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88CD-787F-466E-A7A4-7C99024ED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F43A-9DDC-43AA-9991-811B50C47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D93E-3B02-4419-8EAE-B64FB6A6F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04AB-CB62-44E3-8E9D-7760DD7AC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5905A-F602-4691-881B-DF4BF2720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E8255-E894-406F-BD75-C542E6129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45913-D062-4814-A161-4ECE3188F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78917-513C-416F-97F2-08F6AC5CF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05AA8-4812-48E0-83DD-45A2E5568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12979-9262-4A55-9513-BA2F72685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53A4B-4DED-4019-A3DF-775B017B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4396-98C3-4ED0-9594-E0384E4FA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DDE90-6847-433D-AB4F-9372D52E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2B020-3315-4B78-A6DC-1AE5CC9C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E5F73-9FF6-4E34-956B-C91418396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17AD2-B44F-42D0-B6ED-663900BE7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7A0E9-EABF-43E1-B62E-35052A9D7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DD96E-19C8-46E0-A16A-1359EAE3B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DA632-AC65-4528-B5DD-0035F1068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0A072-7EF9-4565-9F99-A7C2B9D08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EF497-2BCB-44DF-8DCE-074D65EBF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7833C-9F9C-4B87-A2E3-468EA87BB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1617-939C-4926-B95B-EC20E96E2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AD1D8-626B-40A8-B607-FEBB46462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45993-2B43-4037-B3D0-3F12524A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CB0E5-8EF5-4A50-B711-2B1B3018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B2F65-6129-48BB-B56D-657E2E4D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8B11C-CA48-4C7A-8224-410AA985D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5EFCB-73D2-45ED-A843-587F44D77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A0577-A822-448B-A821-C80C51F93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EF17-0C5A-4ED8-A0A7-277B33901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0369-41CC-4F03-A690-FFA0DDE67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A415-2367-42F9-B439-DCBD4B27B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C480-C3DA-4C17-873E-2014D3BB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1CB0-34DB-46B1-8A0A-C2DD6733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2290-5DA9-498A-8178-A55A1AE1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3788A-94DD-424E-9471-D8BFF843CBB2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73750-894E-442F-B03F-658037700D4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1C23B-69EA-43D1-A570-2C6AE140510D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Гайворонюк Елена Гафур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EA4AC-4480-4432-8E9C-F24FCD79BD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molsk.ru/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molsk.ru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Rectangle 2" descr=""/>
          <p:cNvPicPr/>
          <p:nvPr/>
        </p:nvPicPr>
        <p:blipFill>
          <a:blip r:embed="rId1"/>
          <a:stretch/>
        </p:blipFill>
        <p:spPr>
          <a:xfrm>
            <a:off x="0" y="2346480"/>
            <a:ext cx="9144000" cy="381636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8" descr="http://www.smolsk.ru/img/smolbuidcolledge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5840" y="357120"/>
            <a:ext cx="1285920" cy="142884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10"/>
          <p:cNvSpPr/>
          <p:nvPr/>
        </p:nvSpPr>
        <p:spPr>
          <a:xfrm>
            <a:off x="1785960" y="285840"/>
            <a:ext cx="56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a35"/>
                </a:solidFill>
                <a:latin typeface="Times New Roman"/>
                <a:ea typeface="Times New Roman"/>
              </a:rPr>
              <a:t>ОГБПОУ «Смоленский строительный колледж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9" descr="D:\ЕЛЕНА\картинки\Гербы Смоленска\Герб Смоленска красный.bmp"/>
          <p:cNvPicPr/>
          <p:nvPr/>
        </p:nvPicPr>
        <p:blipFill>
          <a:blip r:embed="rId4"/>
          <a:stretch/>
        </p:blipFill>
        <p:spPr>
          <a:xfrm>
            <a:off x="7786800" y="285840"/>
            <a:ext cx="1154160" cy="146376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1"/>
          <p:cNvSpPr/>
          <p:nvPr/>
        </p:nvSpPr>
        <p:spPr>
          <a:xfrm>
            <a:off x="1619280" y="750240"/>
            <a:ext cx="611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я: 08.01.24 Мастер столярно-плотничных, паркетных и стекольных рабо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Рисунок 3" descr=""/>
          <p:cNvPicPr/>
          <p:nvPr/>
        </p:nvPicPr>
        <p:blipFill>
          <a:blip r:embed="rId1"/>
          <a:stretch/>
        </p:blipFill>
        <p:spPr>
          <a:xfrm>
            <a:off x="304920" y="404640"/>
            <a:ext cx="8636040" cy="6120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Заголовок 1"/>
          <p:cNvGrpSpPr/>
          <p:nvPr/>
        </p:nvGrpSpPr>
        <p:grpSpPr>
          <a:xfrm>
            <a:off x="414360" y="1523880"/>
            <a:ext cx="8339040" cy="4322880"/>
            <a:chOff x="414360" y="1523880"/>
            <a:chExt cx="8339040" cy="4322880"/>
          </a:xfrm>
        </p:grpSpPr>
        <p:pic>
          <p:nvPicPr>
            <p:cNvPr id="154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14360" y="1523880"/>
              <a:ext cx="8339040" cy="432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468360" y="1628640"/>
              <a:ext cx="8229600" cy="38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842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ffffff"/>
                  </a:solidFill>
                  <a:latin typeface="Calibri"/>
                </a:rPr>
                <a:t>ЖЕЛАЮ ВСЕМ </a:t>
              </a:r>
              <a:br>
                <a:rPr sz="4800"/>
              </a:br>
              <a:r>
                <a:rPr b="0" lang="ru-RU" sz="4800" spc="-1" strike="noStrike">
                  <a:solidFill>
                    <a:srgbClr val="ffffff"/>
                  </a:solidFill>
                  <a:latin typeface="Calibri"/>
                </a:rPr>
                <a:t>ЗДОРОВЬЯ,  УСПЕХОВ В УЧЁБЕ, ТВОРЧЕСТВЕ, ЛИЧНОГО И СЕМЕЙНОГО СЧАСТЬЯ!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6" name="Рисунок 2" descr="987.jpg"/>
          <p:cNvPicPr/>
          <p:nvPr/>
        </p:nvPicPr>
        <p:blipFill>
          <a:blip r:embed="rId2"/>
          <a:stretch/>
        </p:blipFill>
        <p:spPr>
          <a:xfrm>
            <a:off x="6199200" y="450720"/>
            <a:ext cx="2311560" cy="1920960"/>
          </a:xfrm>
          <a:prstGeom prst="rect">
            <a:avLst/>
          </a:prstGeom>
          <a:ln w="0">
            <a:noFill/>
          </a:ln>
        </p:spPr>
      </p:pic>
      <p:sp>
        <p:nvSpPr>
          <p:cNvPr id="157" name="TextBox 3"/>
          <p:cNvSpPr/>
          <p:nvPr/>
        </p:nvSpPr>
        <p:spPr>
          <a:xfrm>
            <a:off x="3643200" y="5500800"/>
            <a:ext cx="4786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Преподавател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Гайвороню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Елена Гафуро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5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Рисунок 8" descr="http://www.smolsk.ru/img/smolbuidcolledge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5840" y="357120"/>
            <a:ext cx="1285920" cy="142884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оугольник 10"/>
          <p:cNvSpPr/>
          <p:nvPr/>
        </p:nvSpPr>
        <p:spPr>
          <a:xfrm>
            <a:off x="1785960" y="285840"/>
            <a:ext cx="56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a35"/>
                </a:solidFill>
                <a:latin typeface="Times New Roman"/>
                <a:ea typeface="Times New Roman"/>
              </a:rPr>
              <a:t>ОГБПОУ «Смоленский строительный колледж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9" descr="D:\ЕЛЕНА\картинки\Гербы Смоленска\Герб Смоленска красный.bmp"/>
          <p:cNvPicPr/>
          <p:nvPr/>
        </p:nvPicPr>
        <p:blipFill>
          <a:blip r:embed="rId3"/>
          <a:stretch/>
        </p:blipFill>
        <p:spPr>
          <a:xfrm>
            <a:off x="7786800" y="285840"/>
            <a:ext cx="1154160" cy="1463760"/>
          </a:xfrm>
          <a:prstGeom prst="rect">
            <a:avLst/>
          </a:prstGeom>
          <a:ln w="0">
            <a:noFill/>
          </a:ln>
        </p:spPr>
      </p:pic>
      <p:pic>
        <p:nvPicPr>
          <p:cNvPr id="138" name="Rectangle 2" descr=""/>
          <p:cNvPicPr/>
          <p:nvPr/>
        </p:nvPicPr>
        <p:blipFill>
          <a:blip r:embed="rId4"/>
          <a:stretch/>
        </p:blipFill>
        <p:spPr>
          <a:xfrm>
            <a:off x="426960" y="1835280"/>
            <a:ext cx="8290080" cy="502272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"/>
          <p:cNvSpPr/>
          <p:nvPr/>
        </p:nvSpPr>
        <p:spPr>
          <a:xfrm>
            <a:off x="1619280" y="750240"/>
            <a:ext cx="611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я: 08.01.24 Мастер столярно-плотничных, паркетных и стекольных рабо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179280" y="189000"/>
          <a:ext cx="8507520" cy="6627600"/>
        </p:xfrm>
        <a:graphic>
          <a:graphicData uri="http://schemas.openxmlformats.org/drawingml/2006/table">
            <a:tbl>
              <a:tblPr/>
              <a:tblGrid>
                <a:gridCol w="717480"/>
                <a:gridCol w="7026480"/>
                <a:gridCol w="763560"/>
              </a:tblGrid>
              <a:tr h="260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лащенков Алексей Павлови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62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ронцов Николай Андрееви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60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лькевич Иван Станиславович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60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ндаренков Артем Андреевич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62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втушик Богдан Степанови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2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амиерашвили Михаил Зурабович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60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ляев Алексей Янисови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62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харов Александр Андрееви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60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харов Артемий Викторови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15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ерев Алексей Вадимови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17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арев Даниил Петрови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17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мзалов Евгений Сергеевич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15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калин Игорь Александрович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17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иков Андрей Сергееви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15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зоненков Никита Михайлович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17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ваков Артём Ренатови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15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дорчук Руслан Васильеви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17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отов Роман Эдуардови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14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мичев Илья Александрович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4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4C13A-FCA5-4975-9F0A-4E6268B59C2C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Гайворонюк Елена Гафур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A068E-45C0-437C-969A-91F18864766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Рисунок 1" descr=""/>
          <p:cNvPicPr/>
          <p:nvPr/>
        </p:nvPicPr>
        <p:blipFill>
          <a:blip r:embed="rId1"/>
          <a:stretch/>
        </p:blipFill>
        <p:spPr>
          <a:xfrm>
            <a:off x="190440" y="333360"/>
            <a:ext cx="8520120" cy="6048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nsportal</a:t>
            </a: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Гайворонюк Елена Гафуровн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Объект 8" descr=""/>
          <p:cNvPicPr/>
          <p:nvPr/>
        </p:nvPicPr>
        <p:blipFill>
          <a:blip r:embed="rId1"/>
          <a:srcRect l="1862" t="0" r="4104" b="-941"/>
          <a:stretch/>
        </p:blipFill>
        <p:spPr>
          <a:xfrm>
            <a:off x="-49320" y="1312920"/>
            <a:ext cx="9180720" cy="5545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Рисунок 3" descr=""/>
          <p:cNvPicPr/>
          <p:nvPr/>
        </p:nvPicPr>
        <p:blipFill>
          <a:blip r:embed="rId1"/>
          <a:stretch/>
        </p:blipFill>
        <p:spPr>
          <a:xfrm>
            <a:off x="108000" y="620640"/>
            <a:ext cx="8618400" cy="5138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nsportal</a:t>
            </a: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Гайворонюк Елена Гафуровн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Рисунок 7" descr=""/>
          <p:cNvPicPr/>
          <p:nvPr/>
        </p:nvPicPr>
        <p:blipFill>
          <a:blip r:embed="rId1"/>
          <a:stretch/>
        </p:blipFill>
        <p:spPr>
          <a:xfrm>
            <a:off x="824040" y="1557360"/>
            <a:ext cx="7495920" cy="49626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Рисунок 1" descr=""/>
          <p:cNvPicPr/>
          <p:nvPr/>
        </p:nvPicPr>
        <p:blipFill>
          <a:blip r:embed="rId1"/>
          <a:stretch/>
        </p:blipFill>
        <p:spPr>
          <a:xfrm>
            <a:off x="250920" y="343080"/>
            <a:ext cx="8454960" cy="6038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Рисунок 1" descr=""/>
          <p:cNvPicPr/>
          <p:nvPr/>
        </p:nvPicPr>
        <p:blipFill>
          <a:blip r:embed="rId1"/>
          <a:stretch/>
        </p:blipFill>
        <p:spPr>
          <a:xfrm>
            <a:off x="1066680" y="905040"/>
            <a:ext cx="7010640" cy="5047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5T06:22:59Z</dcterms:created>
  <dc:creator>Luk</dc:creator>
  <dc:description/>
  <dc:language>en-US</dc:language>
  <cp:lastModifiedBy>Admin</cp:lastModifiedBy>
  <dcterms:modified xsi:type="dcterms:W3CDTF">2022-12-09T13:28:15Z</dcterms:modified>
  <cp:revision>216</cp:revision>
  <dc:subject/>
  <dc:title>Технология устройства отделочных покрытий</dc:title>
</cp:coreProperties>
</file>