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5440"/>
            <a:ext cx="4464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4D16-D5C9-4989-B265-EBA3A0A2FE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4CF1-2AB1-4101-9818-3407C16FB1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7A1E-EBCC-49C4-9EDE-5EA533BBE8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CAFB-C659-48D6-8471-5B2274EB17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D76A-CF26-49BA-A496-17731B5377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DE7-2DAA-4EBF-A9AC-4C1373DAE8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D4C-44AA-4C10-830F-5D334E81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058-C9C9-49D4-B57C-D8D12333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E6C-CF47-4E95-B88D-EECE7682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F91-67D1-4974-8540-320DEAD2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F55-F4D6-4B9B-A93F-AA3C4648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511-BEDC-45E7-84BD-A6AF3211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091-7279-43B0-B1CC-23725C40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038-50C8-4C56-9D69-605F4F8A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1160"/>
            <a:ext cx="82296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B71-57A1-49CE-A45C-854A979B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7CD-EAA8-4774-A3CF-90A2A78B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F81-9075-4085-ADAD-29C2881C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AD7-B7A7-478C-B51B-3530E2A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3960"/>
            <a:ext cx="2133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3960"/>
            <a:ext cx="28958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3960"/>
            <a:ext cx="2133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514-5A0B-4741-A3D5-983A34AEE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kalininskayscho.ucoz.ru/foto/Internet.png"/>
          <p:cNvPicPr/>
          <p:nvPr/>
        </p:nvPicPr>
        <p:blipFill>
          <a:blip r:embed="rId1"/>
          <a:stretch/>
        </p:blipFill>
        <p:spPr>
          <a:xfrm>
            <a:off x="1547640" y="2575080"/>
            <a:ext cx="4692960" cy="4032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908000" y="198360"/>
            <a:ext cx="583272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безопасности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ей в сети 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084720" y="617544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ШКОВА Е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560" y="135072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217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Экстремизм, национализм, фаш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217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е широкие возможности Интернета используются представителями экстремистских течений для того, чтобы заманить в свои ряды нови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"/>
          <p:cNvPicPr/>
          <p:nvPr/>
        </p:nvPicPr>
        <p:blipFill>
          <a:blip r:embed="rId1"/>
          <a:stretch/>
        </p:blipFill>
        <p:spPr>
          <a:xfrm>
            <a:off x="1908000" y="3078000"/>
            <a:ext cx="5977080" cy="36784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17"/>
          <p:cNvGrpSpPr/>
          <p:nvPr/>
        </p:nvGrpSpPr>
        <p:grpSpPr>
          <a:xfrm>
            <a:off x="6948360" y="5942160"/>
            <a:ext cx="1079640" cy="1079280"/>
            <a:chOff x="6948360" y="5942160"/>
            <a:chExt cx="1079640" cy="1079280"/>
          </a:xfrm>
        </p:grpSpPr>
        <p:sp>
          <p:nvSpPr>
            <p:cNvPr id="103" name="Oval 18"/>
            <p:cNvSpPr/>
            <p:nvPr/>
          </p:nvSpPr>
          <p:spPr>
            <a:xfrm>
              <a:off x="6948360" y="5942160"/>
              <a:ext cx="1079640" cy="1079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7164360" y="6373800"/>
              <a:ext cx="647640" cy="286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5"/>
          <p:cNvSpPr txBox="1"/>
          <p:nvPr/>
        </p:nvSpPr>
        <p:spPr>
          <a:xfrm>
            <a:off x="1332000" y="414360"/>
            <a:ext cx="677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в Интернете (в%)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rcRect l="3666" t="0" r="3466" b="0"/>
          <a:stretch/>
        </p:blipFill>
        <p:spPr>
          <a:xfrm>
            <a:off x="0" y="846000"/>
            <a:ext cx="8964720" cy="56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0" y="5383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ько 41% родителей считают, что нужно уделять внимание безопасности детей в сети Интернет до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1979640" y="270000"/>
            <a:ext cx="5762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знаки того, что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ёнка обижают в Сети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24000" y="1494000"/>
            <a:ext cx="83516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ение изменилось в худшую 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егает обществен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л отношение к Интерн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тилась частота использования мобильного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лась реакция на приходящие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л свою страницу в соци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"/>
          <p:cNvPicPr/>
          <p:nvPr/>
        </p:nvPicPr>
        <p:blipFill>
          <a:blip r:embed="rId1"/>
          <a:srcRect l="0" t="4942" r="0" b="5372"/>
          <a:stretch/>
        </p:blipFill>
        <p:spPr>
          <a:xfrm>
            <a:off x="2268360" y="3511440"/>
            <a:ext cx="5257800" cy="331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23640" y="26964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31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- прекрасный источник для новых знаний, помогает в учебе, занимает дос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31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ит в себе много опасностей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язательно нужно поговорить с деть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ъяснить, что могут возникать различные неприятные ситуации и то, как из них лучшим образом вых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31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мните, что безопасность ваших детей в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нтернете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, на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90%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зависит от 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8920" y="1544760"/>
            <a:ext cx="871380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жите ребёнку о возможных опасностях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ко определите время, которое Ваш ребенок может проводить в Интернете, и сайты, которые он может посещ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шивайте ребенка о том, что он видел и делал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pbs.twimg.com/media/CHEOqu9UAAAzsJD.jpg:medium"/>
          <p:cNvPicPr/>
          <p:nvPr/>
        </p:nvPicPr>
        <p:blipFill>
          <a:blip r:embed="rId1"/>
          <a:stretch/>
        </p:blipFill>
        <p:spPr>
          <a:xfrm>
            <a:off x="2627280" y="3438360"/>
            <a:ext cx="3949560" cy="32608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684360" y="198360"/>
            <a:ext cx="7153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правила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и для  родител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545472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560" y="1350720"/>
            <a:ext cx="85690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ите ребенку понять, что далеко не все, что он может прочесть или увидеть в Интернете - правда. Приучите его спрашивать то, в чем он не увер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аивайте, чтобы  никогда не давали своего адреса, номера телефона или другой лич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67.media.tumblr.com/tumblr_m9mgxjHWMM1r5krer.jpg"/>
          <p:cNvPicPr/>
          <p:nvPr/>
        </p:nvPicPr>
        <p:blipFill>
          <a:blip r:embed="rId1"/>
          <a:stretch/>
        </p:blipFill>
        <p:spPr>
          <a:xfrm>
            <a:off x="2700360" y="3206880"/>
            <a:ext cx="3529080" cy="38145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755640" y="198360"/>
            <a:ext cx="7153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правила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и для  родител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8920" y="1350720"/>
            <a:ext cx="86425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учите ребен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оваться со взросл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немедленно сообщать о появлении нежелатель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зволяйте Вашему ребен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чаться с онлайн-знаком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Вашего разрешения или в отсутствии взросл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755640" y="198360"/>
            <a:ext cx="7153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правила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и для  родител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2340000" y="3727440"/>
            <a:ext cx="451332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050920" y="3294000"/>
            <a:ext cx="5413680" cy="33339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755640" y="198360"/>
            <a:ext cx="7153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правила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и для  родител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0" y="1351080"/>
            <a:ext cx="8893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регулярно проверя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ок контактов своих де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бы убедиться, что они знают всех, с кем они общ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е время для общения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6"/>
          <p:cNvSpPr txBox="1"/>
          <p:nvPr/>
        </p:nvSpPr>
        <p:spPr>
          <a:xfrm>
            <a:off x="2050920" y="41436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й контроль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95280" y="2502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роля и подстраховки можно воспользоваться специально созданными программными средствами называемыми 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ьским контро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419640" y="3798720"/>
            <a:ext cx="57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М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 предназначена  для  ограничения  времени доступа ребёнка  к компьютер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ив  его  в  Ваше  отсутствие,  он  не  сможет играть  больше  разрешённого  Вами  промежутка 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1"/>
          <a:stretch/>
        </p:blipFill>
        <p:spPr>
          <a:xfrm>
            <a:off x="250920" y="3798720"/>
            <a:ext cx="3000240" cy="3019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3"/>
          <p:cNvSpPr/>
          <p:nvPr/>
        </p:nvSpPr>
        <p:spPr>
          <a:xfrm>
            <a:off x="250920" y="9190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напоминает нерегулируемый перекресток с напряженным движением. Сайтов с нежелательным и вредоносным содержимым в Сети огромное количество. Попасть на них можно как специально так и случа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250920" y="142236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131" name="WordArt 9"/>
          <p:cNvSpPr txBox="1"/>
          <p:nvPr/>
        </p:nvSpPr>
        <p:spPr>
          <a:xfrm>
            <a:off x="2050920" y="41436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й контроль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276720" y="1782720"/>
            <a:ext cx="5472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ЗА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 предназначена  для  периодического прерывания  работы  компьютера  через  установленные  родителями  промежутки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ёлый Компик  делает зарядку на экране, приглашая ребёнка выполнять упражнения вмес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0920" y="1927080"/>
            <a:ext cx="3578040" cy="3946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555480" y="5210280"/>
            <a:ext cx="3014640" cy="68256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780000" y="2143080"/>
            <a:ext cx="496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позволяет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ться с друзь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ь доступ к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ся, встречаться с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вать н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1763640" y="270000"/>
            <a:ext cx="637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 - мир широких 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можност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395280" y="2070000"/>
            <a:ext cx="2857680" cy="31435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9"/>
          <p:cNvSpPr txBox="1"/>
          <p:nvPr/>
        </p:nvSpPr>
        <p:spPr>
          <a:xfrm>
            <a:off x="2050920" y="41436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й контроль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492360" y="2070000"/>
            <a:ext cx="5327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ЧУ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 напомнит отвлёкшемуся ребёнку о том, что компьютер  работает  и  ждёт  его,  чтобы  продолжить  учёб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у  можно использовать и в офисе для стимуляции работы сотрудников, любящих разго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7"/>
          <p:cNvSpPr txBox="1"/>
          <p:nvPr/>
        </p:nvSpPr>
        <p:spPr>
          <a:xfrm>
            <a:off x="2050920" y="41436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тельский контроль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1"/>
          <a:srcRect l="0" t="0" r="67" b="0"/>
          <a:stretch/>
        </p:blipFill>
        <p:spPr>
          <a:xfrm>
            <a:off x="250920" y="1135080"/>
            <a:ext cx="2160360" cy="2438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9"/>
          <p:cNvSpPr/>
          <p:nvPr/>
        </p:nvSpPr>
        <p:spPr>
          <a:xfrm>
            <a:off x="2411280" y="1135080"/>
            <a:ext cx="67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  Шери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программа блокировки нежелательных  с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ает  ребёнка  от  вредной  и  развращающей  информации, блокирует  развлечения  и  социальные  сет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250920" y="4230720"/>
            <a:ext cx="626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-ЦЕНЗ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уникальные вручную проверенные «белые списки»,  включающие  все  безопасные  сайты  Рунета  и  основные  иностранные ресурсы. Программа надежно защищена от взлома и обхода филь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2" descr=""/>
          <p:cNvPicPr/>
          <p:nvPr/>
        </p:nvPicPr>
        <p:blipFill>
          <a:blip r:embed="rId2"/>
          <a:stretch/>
        </p:blipFill>
        <p:spPr>
          <a:xfrm>
            <a:off x="5867280" y="4662360"/>
            <a:ext cx="302256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280" y="3727080"/>
            <a:ext cx="799308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адеюсь, что предоставленная информация, помогающая узнать об опасностях в Интернете и о том, как им противостоять будет в дальнейшем полезна вам и вашим дет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2627280" y="485640"/>
            <a:ext cx="3990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заключении...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5280" y="1206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ебенок должен усвоить мысль, что Интернет – это друг, и если правильно с ним «дружить», можно извлечь из этого много пользы. А правильно «дружить» с ним научить может только взрос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3" descr="Семья.jpg"/>
          <p:cNvPicPr/>
          <p:nvPr/>
        </p:nvPicPr>
        <p:blipFill>
          <a:blip r:embed="rId1"/>
          <a:stretch/>
        </p:blipFill>
        <p:spPr>
          <a:xfrm>
            <a:off x="2411280" y="2143080"/>
            <a:ext cx="3892680" cy="2343240"/>
          </a:xfrm>
          <a:prstGeom prst="rect">
            <a:avLst/>
          </a:prstGeom>
          <a:ln w="0">
            <a:noFill/>
          </a:ln>
        </p:spPr>
      </p:pic>
      <p:sp>
        <p:nvSpPr>
          <p:cNvPr id="145" name="WordArt 6"/>
          <p:cNvSpPr txBox="1"/>
          <p:nvPr/>
        </p:nvSpPr>
        <p:spPr>
          <a:xfrm>
            <a:off x="684360" y="919080"/>
            <a:ext cx="7410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i="1" lang="en-US" sz="44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WordArt 8"/>
          <p:cNvSpPr txBox="1"/>
          <p:nvPr/>
        </p:nvSpPr>
        <p:spPr>
          <a:xfrm>
            <a:off x="1692360" y="5167440"/>
            <a:ext cx="58006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ьте для ребёнка</a:t>
            </a:r>
            <a:endParaRPr b="1" i="1" lang="en-US" sz="44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4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МЕРОМ! </a:t>
            </a:r>
            <a:endParaRPr b="1" i="1" lang="en-US" sz="44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280" y="1638000"/>
            <a:ext cx="8280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ждым годом сообщество российских интернет-пользователей молоде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258920" y="414360"/>
            <a:ext cx="65055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и подростки - активные 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ьзователи Интернета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900000" y="2498760"/>
            <a:ext cx="79725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042920" y="198360"/>
            <a:ext cx="720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интересует детей в Интернете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9190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: лаборатория Каспе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rcRect l="0" t="-356" r="-29" b="19"/>
          <a:stretch/>
        </p:blipFill>
        <p:spPr>
          <a:xfrm>
            <a:off x="0" y="137952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920" y="1351080"/>
            <a:ext cx="8642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орн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пасна избыточной информацией и грубым, часто извращенным, натурализ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ешает развитию естественных эмоциональных прив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2987640" y="3294000"/>
            <a:ext cx="5205600" cy="34718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9"/>
          <p:cNvGrpSpPr/>
          <p:nvPr/>
        </p:nvGrpSpPr>
        <p:grpSpPr>
          <a:xfrm>
            <a:off x="7236000" y="5743440"/>
            <a:ext cx="1079280" cy="1079640"/>
            <a:chOff x="7236000" y="5743440"/>
            <a:chExt cx="1079280" cy="1079640"/>
          </a:xfrm>
        </p:grpSpPr>
        <p:sp>
          <p:nvSpPr>
            <p:cNvPr id="65" name="Oval 17"/>
            <p:cNvSpPr/>
            <p:nvPr/>
          </p:nvSpPr>
          <p:spPr>
            <a:xfrm>
              <a:off x="7236000" y="5743440"/>
              <a:ext cx="107928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7451640" y="6175440"/>
              <a:ext cx="64728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560" y="1494000"/>
            <a:ext cx="8893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Депрессивные молодежные т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ебенок может поверить, что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шрамы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лучшее украшение, а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уицид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всего лишь способ избавления от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2627280" y="2790720"/>
            <a:ext cx="4367160" cy="39006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8"/>
          <p:cNvGrpSpPr/>
          <p:nvPr/>
        </p:nvGrpSpPr>
        <p:grpSpPr>
          <a:xfrm>
            <a:off x="6156360" y="5743440"/>
            <a:ext cx="1079640" cy="1079640"/>
            <a:chOff x="6156360" y="5743440"/>
            <a:chExt cx="1079640" cy="1079640"/>
          </a:xfrm>
        </p:grpSpPr>
        <p:sp>
          <p:nvSpPr>
            <p:cNvPr id="71" name="Oval 9"/>
            <p:cNvSpPr/>
            <p:nvPr/>
          </p:nvSpPr>
          <p:spPr>
            <a:xfrm>
              <a:off x="6156360" y="5743440"/>
              <a:ext cx="107964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6372360" y="6175440"/>
              <a:ext cx="64764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1692360" y="2862360"/>
            <a:ext cx="6278400" cy="3778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95280" y="1422000"/>
            <a:ext cx="874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130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Нарко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130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нтернет пестрит новостями о «пользе» употребления марихуаны, рецептами и советами изготовления «зель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6948360" y="5599080"/>
            <a:ext cx="1079640" cy="1079640"/>
            <a:chOff x="6948360" y="5599080"/>
            <a:chExt cx="1079640" cy="1079640"/>
          </a:xfrm>
        </p:grpSpPr>
        <p:sp>
          <p:nvSpPr>
            <p:cNvPr id="77" name="Oval 7"/>
            <p:cNvSpPr/>
            <p:nvPr/>
          </p:nvSpPr>
          <p:spPr>
            <a:xfrm>
              <a:off x="6948360" y="5599080"/>
              <a:ext cx="107964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8"/>
            <p:cNvSpPr/>
            <p:nvPr/>
          </p:nvSpPr>
          <p:spPr>
            <a:xfrm>
              <a:off x="7164360" y="6031080"/>
              <a:ext cx="64764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0920" y="1350720"/>
            <a:ext cx="8424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3193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Сайты знакомств, социальные сети, блоги и ч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3193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едофилы могут выдавать себя за одного из детей, чтобы войти к ним в доверие и завести пошлые или открыто сексуальные беседы с ними или даже договориться о личной встр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1476360" y="3438360"/>
            <a:ext cx="5743440" cy="340704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6"/>
          <p:cNvGrpSpPr/>
          <p:nvPr/>
        </p:nvGrpSpPr>
        <p:grpSpPr>
          <a:xfrm>
            <a:off x="6300720" y="5743440"/>
            <a:ext cx="1079640" cy="1079640"/>
            <a:chOff x="6300720" y="5743440"/>
            <a:chExt cx="1079640" cy="1079640"/>
          </a:xfrm>
        </p:grpSpPr>
        <p:sp>
          <p:nvSpPr>
            <p:cNvPr id="83" name="Oval 7"/>
            <p:cNvSpPr/>
            <p:nvPr/>
          </p:nvSpPr>
          <p:spPr>
            <a:xfrm>
              <a:off x="6300720" y="5743440"/>
              <a:ext cx="107964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6516720" y="6175440"/>
              <a:ext cx="64764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4920" y="1422360"/>
            <a:ext cx="8209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319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С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 indent="31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иртуальный собеседник не схватит за руку, но ему вполне по силам «проникнуть в мысли» и повлиять на взгляды на 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розы, подстерегающие ребёнк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Интернете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2556000" y="3367080"/>
            <a:ext cx="3841560" cy="32194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3"/>
          <p:cNvGrpSpPr/>
          <p:nvPr/>
        </p:nvGrpSpPr>
        <p:grpSpPr>
          <a:xfrm>
            <a:off x="5508720" y="5670720"/>
            <a:ext cx="1079280" cy="1079280"/>
            <a:chOff x="5508720" y="5670720"/>
            <a:chExt cx="1079280" cy="1079280"/>
          </a:xfrm>
        </p:grpSpPr>
        <p:sp>
          <p:nvSpPr>
            <p:cNvPr id="92" name="Oval 14"/>
            <p:cNvSpPr/>
            <p:nvPr/>
          </p:nvSpPr>
          <p:spPr>
            <a:xfrm>
              <a:off x="5508720" y="5670720"/>
              <a:ext cx="1079280" cy="1079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5724360" y="6102360"/>
              <a:ext cx="647280" cy="286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19:23:27Z</dcterms:created>
  <dc:creator>user</dc:creator>
  <dc:description/>
  <dc:language>en-US</dc:language>
  <cp:lastModifiedBy>Пешкова</cp:lastModifiedBy>
  <dcterms:modified xsi:type="dcterms:W3CDTF">2022-10-12T15:19:33Z</dcterms:modified>
  <cp:revision>84</cp:revision>
  <dc:subject/>
  <dc:title>Родителям о безопасности в Интер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40000000000010243100207f6000400038000</vt:lpwstr>
  </property>
</Properties>
</file>