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183-099D-4AA5-91B4-F30A18D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D98-6CBF-450D-8081-7FB3AA1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E4F-93A9-40F7-8F38-0A7493A4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A44-ABF3-4B99-90A4-1DC3B24E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34BD-7870-456F-955E-92CA22C2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9C75-60C2-49FB-AEEF-4A555A9B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E448-727F-4077-95E8-ED42552F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25A0-DB6E-4634-88CE-8A5A56C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BD5B-A6E4-418B-B2D0-5E695D9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81C8-5191-4F1E-A24E-10865867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6B88-A43E-4D24-92CB-B69171D0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070-A8B2-44C7-88DA-929A67E4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7468-1441-4F1E-8A06-3A271C0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E621-7055-42D3-A46E-819D640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FBAE-9ADA-4CA8-85B3-032EF99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2F41-4144-454C-9319-37E7A913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62EF-7089-4C66-A652-84D5C3FB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F52-0784-4B72-8550-E3C862DA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062-8E74-4C41-8A11-29229548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438-BEA9-45CE-B888-59BAC601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A9D-6A91-4B5F-9B35-C037350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14E-96E7-4C22-BFDD-B99BB57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D80-08D6-4FF2-9897-0B5CF9A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4BD-9E27-4FEB-90E1-BF0211D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5DD-E250-4404-80D1-2BAE69D337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41D6-CEDC-4433-91CA-37165709E3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image" Target="../media/image11.png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5.xml"/><Relationship Id="rId26" Type="http://schemas.openxmlformats.org/officeDocument/2006/relationships/slide" Target="slide17.xml"/><Relationship Id="rId27" Type="http://schemas.openxmlformats.org/officeDocument/2006/relationships/image" Target="../media/image14.png"/><Relationship Id="rId28" Type="http://schemas.openxmlformats.org/officeDocument/2006/relationships/slide" Target="slide17.xml"/><Relationship Id="rId29" Type="http://schemas.openxmlformats.org/officeDocument/2006/relationships/slide" Target="slide19.xml"/><Relationship Id="rId30" Type="http://schemas.openxmlformats.org/officeDocument/2006/relationships/image" Target="../media/image15.png"/><Relationship Id="rId31" Type="http://schemas.openxmlformats.org/officeDocument/2006/relationships/slide" Target="slide19.xml"/><Relationship Id="rId32" Type="http://schemas.openxmlformats.org/officeDocument/2006/relationships/slide" Target="slide21.xml"/><Relationship Id="rId33" Type="http://schemas.openxmlformats.org/officeDocument/2006/relationships/image" Target="../media/image16.png"/><Relationship Id="rId34" Type="http://schemas.openxmlformats.org/officeDocument/2006/relationships/slide" Target="slide21.xml"/><Relationship Id="rId35" Type="http://schemas.openxmlformats.org/officeDocument/2006/relationships/slide" Target="slide23.xml"/><Relationship Id="rId36" Type="http://schemas.openxmlformats.org/officeDocument/2006/relationships/image" Target="../media/image17.png"/><Relationship Id="rId37" Type="http://schemas.openxmlformats.org/officeDocument/2006/relationships/slide" Target="slide23.xml"/><Relationship Id="rId38" Type="http://schemas.openxmlformats.org/officeDocument/2006/relationships/slide" Target="slide25.xml"/><Relationship Id="rId39" Type="http://schemas.openxmlformats.org/officeDocument/2006/relationships/image" Target="../media/image18.png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image" Target="../media/image19.png"/><Relationship Id="rId43" Type="http://schemas.openxmlformats.org/officeDocument/2006/relationships/slide" Target="slide27.xml"/><Relationship Id="rId44" Type="http://schemas.openxmlformats.org/officeDocument/2006/relationships/slide" Target="slide29.xml"/><Relationship Id="rId45" Type="http://schemas.openxmlformats.org/officeDocument/2006/relationships/image" Target="../media/image20.png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image" Target="../media/image21.png"/><Relationship Id="rId49" Type="http://schemas.openxmlformats.org/officeDocument/2006/relationships/slide" Target="slide31.xml"/><Relationship Id="rId50" Type="http://schemas.openxmlformats.org/officeDocument/2006/relationships/slide" Target="slide33.xml"/><Relationship Id="rId51" Type="http://schemas.openxmlformats.org/officeDocument/2006/relationships/image" Target="../media/image22.png"/><Relationship Id="rId52" Type="http://schemas.openxmlformats.org/officeDocument/2006/relationships/slide" Target="slide33.xml"/><Relationship Id="rId53" Type="http://schemas.openxmlformats.org/officeDocument/2006/relationships/slide" Target="slide35.xml"/><Relationship Id="rId54" Type="http://schemas.openxmlformats.org/officeDocument/2006/relationships/image" Target="../media/image23.png"/><Relationship Id="rId55" Type="http://schemas.openxmlformats.org/officeDocument/2006/relationships/slide" Target="slide35.xml"/><Relationship Id="rId56" Type="http://schemas.openxmlformats.org/officeDocument/2006/relationships/slide" Target="slide37.xml"/><Relationship Id="rId57" Type="http://schemas.openxmlformats.org/officeDocument/2006/relationships/image" Target="../media/image24.png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image" Target="../media/image25.png"/><Relationship Id="rId61" Type="http://schemas.openxmlformats.org/officeDocument/2006/relationships/slide" Target="slide39.xml"/><Relationship Id="rId62" Type="http://schemas.openxmlformats.org/officeDocument/2006/relationships/slide" Target="slide41.xml"/><Relationship Id="rId63" Type="http://schemas.openxmlformats.org/officeDocument/2006/relationships/image" Target="../media/image26.png"/><Relationship Id="rId64" Type="http://schemas.openxmlformats.org/officeDocument/2006/relationships/slide" Target="slide41.xml"/><Relationship Id="rId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1670040"/>
            <a:ext cx="92966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877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все пешеходы обязаны двигаться только прямо, так как движение наискосок дороги, удлиняет путь и следовательно делает его более опасны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3840" y="9997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цвет светофора пешеходы должны переходить улицу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7716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зеленый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7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Содержимое 5" descr="780_sotrudniki_politsii_provodya.gif"/>
          <p:cNvPicPr/>
          <p:nvPr/>
        </p:nvPicPr>
        <p:blipFill>
          <a:blip r:embed="rId2"/>
          <a:stretch/>
        </p:blipFill>
        <p:spPr>
          <a:xfrm>
            <a:off x="2771640" y="1125360"/>
            <a:ext cx="33894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1559160" y="1916280"/>
            <a:ext cx="48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ШЕХ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Рисунок 6" descr="viktorina-dlia-dietiei-podghotovitiel-noi-k-shkolie-ghruppy-po-pravilam-biezopasnogho-dvizhieniia-na-ulitsie-pravila-dorozhnyie-vazhny-pravila-dorozhnyie-nuzhny_21.png"/>
          <p:cNvPicPr/>
          <p:nvPr/>
        </p:nvPicPr>
        <p:blipFill>
          <a:blip r:embed="rId2"/>
          <a:stretch/>
        </p:blipFill>
        <p:spPr>
          <a:xfrm>
            <a:off x="2627280" y="1125360"/>
            <a:ext cx="360540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066680" y="229860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4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6" descr="830831c82ed88ff64583420dcc946781.jpg"/>
          <p:cNvPicPr/>
          <p:nvPr/>
        </p:nvPicPr>
        <p:blipFill>
          <a:blip r:embed="rId1"/>
          <a:stretch/>
        </p:blipFill>
        <p:spPr>
          <a:xfrm>
            <a:off x="2484360" y="1484280"/>
            <a:ext cx="3164040" cy="31654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2717280" y="3071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0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0" y="2781360"/>
            <a:ext cx="87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5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0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9" descr="http://www.clipart.net.ua/images/clip7246.jpg"/>
          <p:cNvPicPr/>
          <p:nvPr/>
        </p:nvPicPr>
        <p:blipFill>
          <a:blip r:embed="rId2"/>
          <a:stretch/>
        </p:blipFill>
        <p:spPr>
          <a:xfrm>
            <a:off x="2987640" y="1484280"/>
            <a:ext cx="33242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AutoShape 39"/>
          <p:cNvGrpSpPr/>
          <p:nvPr/>
        </p:nvGrpSpPr>
        <p:grpSpPr>
          <a:xfrm>
            <a:off x="152280" y="969840"/>
            <a:ext cx="3035520" cy="1224000"/>
            <a:chOff x="152280" y="969840"/>
            <a:chExt cx="3035520" cy="1224000"/>
          </a:xfrm>
        </p:grpSpPr>
        <p:pic>
          <p:nvPicPr>
            <p:cNvPr id="84" name="AutoShape 39" descr=""/>
            <p:cNvPicPr/>
            <p:nvPr/>
          </p:nvPicPr>
          <p:blipFill>
            <a:blip r:embed="rId1"/>
            <a:stretch/>
          </p:blipFill>
          <p:spPr>
            <a:xfrm>
              <a:off x="152280" y="969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5960" y="1170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ОПРО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40"/>
          <p:cNvGrpSpPr/>
          <p:nvPr/>
        </p:nvGrpSpPr>
        <p:grpSpPr>
          <a:xfrm>
            <a:off x="49320" y="2193840"/>
            <a:ext cx="3138480" cy="1219320"/>
            <a:chOff x="49320" y="2193840"/>
            <a:chExt cx="3138480" cy="1219320"/>
          </a:xfrm>
        </p:grpSpPr>
        <p:pic>
          <p:nvPicPr>
            <p:cNvPr id="87" name="AutoShape 40" descr=""/>
            <p:cNvPicPr/>
            <p:nvPr/>
          </p:nvPicPr>
          <p:blipFill>
            <a:blip r:embed="rId2"/>
            <a:stretch/>
          </p:blipFill>
          <p:spPr>
            <a:xfrm>
              <a:off x="49320" y="2193840"/>
              <a:ext cx="3138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5960" y="2394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41"/>
          <p:cNvGrpSpPr/>
          <p:nvPr/>
        </p:nvGrpSpPr>
        <p:grpSpPr>
          <a:xfrm>
            <a:off x="152280" y="3633840"/>
            <a:ext cx="3035520" cy="1224000"/>
            <a:chOff x="152280" y="3633840"/>
            <a:chExt cx="3035520" cy="1224000"/>
          </a:xfrm>
        </p:grpSpPr>
        <p:pic>
          <p:nvPicPr>
            <p:cNvPr id="90" name="AutoShape 41" descr=""/>
            <p:cNvPicPr/>
            <p:nvPr/>
          </p:nvPicPr>
          <p:blipFill>
            <a:blip r:embed="rId3"/>
            <a:stretch/>
          </p:blipFill>
          <p:spPr>
            <a:xfrm>
              <a:off x="152280" y="3633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5960" y="383364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ПРАВИ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42"/>
          <p:cNvGrpSpPr/>
          <p:nvPr/>
        </p:nvGrpSpPr>
        <p:grpSpPr>
          <a:xfrm>
            <a:off x="152280" y="4932360"/>
            <a:ext cx="3035520" cy="1219320"/>
            <a:chOff x="152280" y="4932360"/>
            <a:chExt cx="3035520" cy="1219320"/>
          </a:xfrm>
        </p:grpSpPr>
        <p:pic>
          <p:nvPicPr>
            <p:cNvPr id="93" name="AutoShape 42" descr=""/>
            <p:cNvPicPr/>
            <p:nvPr/>
          </p:nvPicPr>
          <p:blipFill>
            <a:blip r:embed="rId4"/>
            <a:stretch/>
          </p:blipFill>
          <p:spPr>
            <a:xfrm>
              <a:off x="152280" y="493236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5960" y="512928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АГАД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6"/>
          <p:cNvGrpSpPr/>
          <p:nvPr/>
        </p:nvGrpSpPr>
        <p:grpSpPr>
          <a:xfrm>
            <a:off x="2865600" y="731880"/>
            <a:ext cx="1614240" cy="1523880"/>
            <a:chOff x="2865600" y="731880"/>
            <a:chExt cx="1614240" cy="1523880"/>
          </a:xfrm>
        </p:grpSpPr>
        <p:pic>
          <p:nvPicPr>
            <p:cNvPr id="96" name="AutoShape 4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65600" y="73188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01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47"/>
          <p:cNvGrpSpPr/>
          <p:nvPr/>
        </p:nvGrpSpPr>
        <p:grpSpPr>
          <a:xfrm>
            <a:off x="4022640" y="731880"/>
            <a:ext cx="1609920" cy="1523880"/>
            <a:chOff x="4022640" y="731880"/>
            <a:chExt cx="1609920" cy="1523880"/>
          </a:xfrm>
        </p:grpSpPr>
        <p:pic>
          <p:nvPicPr>
            <p:cNvPr id="99" name="AutoShape 4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022640" y="73188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5464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48"/>
          <p:cNvGrpSpPr/>
          <p:nvPr/>
        </p:nvGrpSpPr>
        <p:grpSpPr>
          <a:xfrm>
            <a:off x="5175360" y="731880"/>
            <a:ext cx="1609560" cy="1523880"/>
            <a:chOff x="5175360" y="731880"/>
            <a:chExt cx="1609560" cy="1523880"/>
          </a:xfrm>
        </p:grpSpPr>
        <p:pic>
          <p:nvPicPr>
            <p:cNvPr id="102" name="AutoShape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175360" y="73188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0700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49"/>
          <p:cNvGrpSpPr/>
          <p:nvPr/>
        </p:nvGrpSpPr>
        <p:grpSpPr>
          <a:xfrm>
            <a:off x="6321600" y="731880"/>
            <a:ext cx="1616040" cy="1523880"/>
            <a:chOff x="6321600" y="731880"/>
            <a:chExt cx="1616040" cy="1523880"/>
          </a:xfrm>
        </p:grpSpPr>
        <p:pic>
          <p:nvPicPr>
            <p:cNvPr id="105" name="AutoShape 4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3216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57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0"/>
          <p:cNvGrpSpPr/>
          <p:nvPr/>
        </p:nvGrpSpPr>
        <p:grpSpPr>
          <a:xfrm>
            <a:off x="7583400" y="731880"/>
            <a:ext cx="1616040" cy="1523880"/>
            <a:chOff x="7583400" y="731880"/>
            <a:chExt cx="1616040" cy="1523880"/>
          </a:xfrm>
        </p:grpSpPr>
        <p:pic>
          <p:nvPicPr>
            <p:cNvPr id="108" name="AutoShape 5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5834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18640" y="118584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1"/>
          <p:cNvGrpSpPr/>
          <p:nvPr/>
        </p:nvGrpSpPr>
        <p:grpSpPr>
          <a:xfrm>
            <a:off x="2865600" y="1809720"/>
            <a:ext cx="1614240" cy="1530360"/>
            <a:chOff x="2865600" y="1809720"/>
            <a:chExt cx="1614240" cy="1530360"/>
          </a:xfrm>
        </p:grpSpPr>
        <p:pic>
          <p:nvPicPr>
            <p:cNvPr id="111" name="AutoShape 51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865600" y="1809720"/>
              <a:ext cx="1614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01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2"/>
          <p:cNvGrpSpPr/>
          <p:nvPr/>
        </p:nvGrpSpPr>
        <p:grpSpPr>
          <a:xfrm>
            <a:off x="4022640" y="1809720"/>
            <a:ext cx="1609920" cy="1530360"/>
            <a:chOff x="4022640" y="1809720"/>
            <a:chExt cx="1609920" cy="1530360"/>
          </a:xfrm>
        </p:grpSpPr>
        <p:pic>
          <p:nvPicPr>
            <p:cNvPr id="114" name="AutoShape 52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022640" y="1809720"/>
              <a:ext cx="16099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45464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3"/>
          <p:cNvGrpSpPr/>
          <p:nvPr/>
        </p:nvGrpSpPr>
        <p:grpSpPr>
          <a:xfrm>
            <a:off x="5175360" y="1809720"/>
            <a:ext cx="1609560" cy="1530360"/>
            <a:chOff x="5175360" y="1809720"/>
            <a:chExt cx="1609560" cy="1530360"/>
          </a:xfrm>
        </p:grpSpPr>
        <p:pic>
          <p:nvPicPr>
            <p:cNvPr id="117" name="AutoShape 53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5175360" y="1809720"/>
              <a:ext cx="16095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60700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4"/>
          <p:cNvGrpSpPr/>
          <p:nvPr/>
        </p:nvGrpSpPr>
        <p:grpSpPr>
          <a:xfrm>
            <a:off x="6321600" y="1809720"/>
            <a:ext cx="1616040" cy="1530360"/>
            <a:chOff x="6321600" y="1809720"/>
            <a:chExt cx="1616040" cy="1530360"/>
          </a:xfrm>
        </p:grpSpPr>
        <p:pic>
          <p:nvPicPr>
            <p:cNvPr id="120" name="AutoShape 5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321600" y="1809720"/>
              <a:ext cx="1616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757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5"/>
          <p:cNvGrpSpPr/>
          <p:nvPr/>
        </p:nvGrpSpPr>
        <p:grpSpPr>
          <a:xfrm>
            <a:off x="7583400" y="1822320"/>
            <a:ext cx="1616040" cy="1524240"/>
            <a:chOff x="7583400" y="1822320"/>
            <a:chExt cx="1616040" cy="1524240"/>
          </a:xfrm>
        </p:grpSpPr>
        <p:pic>
          <p:nvPicPr>
            <p:cNvPr id="123" name="AutoShape 55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7583400" y="182232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018640" y="2276640"/>
              <a:ext cx="6426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6"/>
          <p:cNvGrpSpPr/>
          <p:nvPr/>
        </p:nvGrpSpPr>
        <p:grpSpPr>
          <a:xfrm>
            <a:off x="2865600" y="3108240"/>
            <a:ext cx="1614240" cy="1524240"/>
            <a:chOff x="2865600" y="3108240"/>
            <a:chExt cx="1614240" cy="1524240"/>
          </a:xfrm>
        </p:grpSpPr>
        <p:pic>
          <p:nvPicPr>
            <p:cNvPr id="126" name="AutoShape 56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2865600" y="3108240"/>
              <a:ext cx="161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0192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57"/>
          <p:cNvGrpSpPr/>
          <p:nvPr/>
        </p:nvGrpSpPr>
        <p:grpSpPr>
          <a:xfrm>
            <a:off x="4022640" y="3108240"/>
            <a:ext cx="1609920" cy="1524240"/>
            <a:chOff x="4022640" y="3108240"/>
            <a:chExt cx="1609920" cy="1524240"/>
          </a:xfrm>
        </p:grpSpPr>
        <p:pic>
          <p:nvPicPr>
            <p:cNvPr id="129" name="AutoShape 57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4022640" y="3108240"/>
              <a:ext cx="16099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5464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58"/>
          <p:cNvGrpSpPr/>
          <p:nvPr/>
        </p:nvGrpSpPr>
        <p:grpSpPr>
          <a:xfrm>
            <a:off x="5175360" y="3108240"/>
            <a:ext cx="1609560" cy="1524240"/>
            <a:chOff x="5175360" y="3108240"/>
            <a:chExt cx="1609560" cy="1524240"/>
          </a:xfrm>
        </p:grpSpPr>
        <p:pic>
          <p:nvPicPr>
            <p:cNvPr id="132" name="AutoShape 58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175360" y="3108240"/>
              <a:ext cx="16095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0700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59"/>
          <p:cNvGrpSpPr/>
          <p:nvPr/>
        </p:nvGrpSpPr>
        <p:grpSpPr>
          <a:xfrm>
            <a:off x="6394320" y="3035160"/>
            <a:ext cx="1616040" cy="1524240"/>
            <a:chOff x="6394320" y="3035160"/>
            <a:chExt cx="1616040" cy="1524240"/>
          </a:xfrm>
        </p:grpSpPr>
        <p:pic>
          <p:nvPicPr>
            <p:cNvPr id="135" name="AutoShape 5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6394320" y="303516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31000" y="3490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0"/>
          <p:cNvGrpSpPr/>
          <p:nvPr/>
        </p:nvGrpSpPr>
        <p:grpSpPr>
          <a:xfrm>
            <a:off x="7583400" y="3108240"/>
            <a:ext cx="1616040" cy="1524240"/>
            <a:chOff x="7583400" y="3108240"/>
            <a:chExt cx="1616040" cy="1524240"/>
          </a:xfrm>
        </p:grpSpPr>
        <p:pic>
          <p:nvPicPr>
            <p:cNvPr id="138" name="AutoShape 60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583400" y="310824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18640" y="356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2865600" y="4548240"/>
            <a:ext cx="1614240" cy="1523880"/>
            <a:chOff x="2865600" y="4548240"/>
            <a:chExt cx="1614240" cy="1523880"/>
          </a:xfrm>
        </p:grpSpPr>
        <p:pic>
          <p:nvPicPr>
            <p:cNvPr id="141" name="AutoShape 61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2865600" y="454824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301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2"/>
          <p:cNvGrpSpPr/>
          <p:nvPr/>
        </p:nvGrpSpPr>
        <p:grpSpPr>
          <a:xfrm>
            <a:off x="4022640" y="4548240"/>
            <a:ext cx="1609920" cy="1523880"/>
            <a:chOff x="4022640" y="4548240"/>
            <a:chExt cx="1609920" cy="1523880"/>
          </a:xfrm>
        </p:grpSpPr>
        <p:pic>
          <p:nvPicPr>
            <p:cNvPr id="144" name="AutoShape 62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022640" y="454824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5464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3"/>
          <p:cNvGrpSpPr/>
          <p:nvPr/>
        </p:nvGrpSpPr>
        <p:grpSpPr>
          <a:xfrm>
            <a:off x="5175360" y="4548240"/>
            <a:ext cx="1609560" cy="1523880"/>
            <a:chOff x="5175360" y="4548240"/>
            <a:chExt cx="1609560" cy="1523880"/>
          </a:xfrm>
        </p:grpSpPr>
        <p:pic>
          <p:nvPicPr>
            <p:cNvPr id="147" name="AutoShape 63" descr="">
              <a:hlinkClick r:id="rId56" action="ppaction://hlinksldjump"/>
            </p:cNvPr>
            <p:cNvPicPr/>
            <p:nvPr/>
          </p:nvPicPr>
          <p:blipFill>
            <a:blip r:embed="rId57"/>
            <a:stretch/>
          </p:blipFill>
          <p:spPr>
            <a:xfrm>
              <a:off x="5175360" y="454824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0700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4"/>
          <p:cNvGrpSpPr/>
          <p:nvPr/>
        </p:nvGrpSpPr>
        <p:grpSpPr>
          <a:xfrm>
            <a:off x="6321600" y="4548240"/>
            <a:ext cx="1616040" cy="1523880"/>
            <a:chOff x="6321600" y="4548240"/>
            <a:chExt cx="1616040" cy="1523880"/>
          </a:xfrm>
        </p:grpSpPr>
        <p:pic>
          <p:nvPicPr>
            <p:cNvPr id="150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63216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57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5"/>
          <p:cNvGrpSpPr/>
          <p:nvPr/>
        </p:nvGrpSpPr>
        <p:grpSpPr>
          <a:xfrm>
            <a:off x="7583400" y="4548240"/>
            <a:ext cx="1616040" cy="1523880"/>
            <a:chOff x="7583400" y="4548240"/>
            <a:chExt cx="1616040" cy="1523880"/>
          </a:xfrm>
        </p:grpSpPr>
        <p:pic>
          <p:nvPicPr>
            <p:cNvPr id="153" name="AutoShape 65" descr="">
              <a:hlinkClick r:id="rId62" action="ppaction://hlinksldjump"/>
            </p:cNvPr>
            <p:cNvPicPr/>
            <p:nvPr/>
          </p:nvPicPr>
          <p:blipFill>
            <a:blip r:embed="rId63"/>
            <a:stretch/>
          </p:blipFill>
          <p:spPr>
            <a:xfrm>
              <a:off x="75834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018640" y="500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53520" y="1484280"/>
            <a:ext cx="632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ВЕЛОСИПЕДА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РЕЩ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6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560" y="1125360"/>
            <a:ext cx="8412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1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9" descr="http://plan-evaco.ru/d/599603/d/data-roadsign-3-3-10-700x700.png"/>
          <p:cNvPicPr/>
          <p:nvPr/>
        </p:nvPicPr>
        <p:blipFill>
          <a:blip r:embed="rId2"/>
          <a:stretch/>
        </p:blipFill>
        <p:spPr>
          <a:xfrm>
            <a:off x="2124000" y="1052640"/>
            <a:ext cx="3932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2500200" y="271476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2852280" y="1413000"/>
            <a:ext cx="350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3840" y="1071360"/>
            <a:ext cx="8412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дорожного движения должны знать и выполня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 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вод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ители и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1041480" y="1989000"/>
            <a:ext cx="64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дители и пешех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55640" y="980640"/>
            <a:ext cx="8143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часть улицы предназначена для пешеходов?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  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зжая 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2496240" y="2133720"/>
            <a:ext cx="280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тротуа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142640"/>
            <a:ext cx="7715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сколько лет можно выезжать на велосипеде на проезжую часть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4 л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627280" y="273060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 лет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00000" y="404640"/>
            <a:ext cx="77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    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и дорожного движения нужн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красоты проезжей ч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установления порядка движения пешеходов и транспорта на дор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пешех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560" y="1268280"/>
            <a:ext cx="8412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гут ли машины двигаться с места, если горит желт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5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755640" y="907920"/>
            <a:ext cx="757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для устан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рядка движ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анспорта на дороге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197000"/>
            <a:ext cx="841212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авильно переходить дорогу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леный сигнал светоф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установленном ме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Прямоугольник 4"/>
          <p:cNvSpPr/>
          <p:nvPr/>
        </p:nvSpPr>
        <p:spPr>
          <a:xfrm>
            <a:off x="900000" y="213372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ый сигнал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становлен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3330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500040" y="1071720"/>
            <a:ext cx="8001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езд есть впереди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и и подожд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ущен - ход сбавля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днимут - проезжай.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AutoShape 65"/>
          <p:cNvGrpSpPr/>
          <p:nvPr/>
        </p:nvGrpSpPr>
        <p:grpSpPr>
          <a:xfrm>
            <a:off x="5224320" y="4608360"/>
            <a:ext cx="3975120" cy="2109960"/>
            <a:chOff x="5224320" y="4608360"/>
            <a:chExt cx="3975120" cy="2109960"/>
          </a:xfrm>
        </p:grpSpPr>
        <p:pic>
          <p:nvPicPr>
            <p:cNvPr id="31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224320" y="4608360"/>
              <a:ext cx="39751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245280" y="52340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003480" y="2714760"/>
            <a:ext cx="30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лагбау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1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500040" y="1071720"/>
            <a:ext cx="8643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уя жезлом, он всех направля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м перекрёстком один управля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  словно  волшебник, машин дрессировщи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я ему -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3007440" y="2714760"/>
            <a:ext cx="45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539640" y="1071720"/>
            <a:ext cx="7488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стился над дорог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ргает очень много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я каждый раз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своих округлых глаз.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411280" y="198900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324000" y="907920"/>
            <a:ext cx="70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е катится автобус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трамваи не прой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покойно пешеходы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по улице и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ашин и для трамвая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-дорога есть другая.</a:t>
            </a:r>
            <a:br>
              <a:rPr sz="40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907920"/>
            <a:ext cx="7877160" cy="29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желтый цвет светофора означает всего лишь необходимость приготовиться к движению, но не само движ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7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4"/>
          <p:cNvSpPr/>
          <p:nvPr/>
        </p:nvSpPr>
        <p:spPr>
          <a:xfrm>
            <a:off x="3245760" y="155736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ту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500040" y="1071720"/>
            <a:ext cx="8001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лошадь, вся в полоску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загорает?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едут и  идут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а – не убегает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000240" y="2714760"/>
            <a:ext cx="23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412640"/>
            <a:ext cx="841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дорожка, по которой пешеход переходит дорогу, не нарушая правил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обходить припаркованное транспортное средство сза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любой транспорт, вне зависимости от его положения необходимо обходить спереди, так, чтобы водитель мог увидеть пешех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о ли переходить дорогу наискосок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54Z</dcterms:created>
  <dc:creator>student</dc:creator>
  <dc:description/>
  <dc:language>en-US</dc:language>
  <cp:lastModifiedBy>Zver</cp:lastModifiedBy>
  <dcterms:modified xsi:type="dcterms:W3CDTF">2016-10-13T17:48:00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d0000000000010243100207f6000400038000</vt:lpwstr>
  </property>
</Properties>
</file>