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4.png" ContentType="image/png"/>
  <Override PartName="/ppt/media/image23.png" ContentType="image/png"/>
  <Override PartName="/ppt/media/image21.png" ContentType="image/png"/>
  <Override PartName="/ppt/media/image26.png" ContentType="image/png"/>
  <Override PartName="/ppt/media/image17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media/image12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31.wmf" ContentType="image/x-wmf"/>
  <Override PartName="/ppt/media/image29.wmf" ContentType="image/x-wmf"/>
  <Override PartName="/ppt/media/image3.png" ContentType="image/png"/>
  <Override PartName="/ppt/media/image33.png" ContentType="image/png"/>
  <Override PartName="/ppt/media/image32.wmf" ContentType="image/x-wmf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media/image6.png" ContentType="image/png"/>
  <Override PartName="/ppt/media/image14.wmf" ContentType="image/x-wmf"/>
  <Override PartName="/ppt/media/image11.wmf" ContentType="image/x-wmf"/>
  <Override PartName="/ppt/media/image5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6.png" ContentType="image/pn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E3E-E900-4F2E-ABA5-FEF1DF5E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8C8-A772-4293-A22C-456989A7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2F0-5B4D-4999-AFA3-828D7586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13E-3CC1-4DE9-B0C0-2EE11A23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F5ED-B0F9-4DD2-9567-D997344A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0781-8214-475C-94D4-6AF1C004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8614-2E50-430E-8D62-46331C4C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11EC-C17C-4261-B0AD-3D83044D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C6C3-CC3F-4DCC-85F0-238842FB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A881-143E-43B4-86EE-38D54317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2DB3-23E3-4F31-BA2C-381F804A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C4B-8FA3-4C33-A3C2-E97A982F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A632-F015-4E09-A243-C3B91EF6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1FC9-8AEC-4636-BF8F-12C7C17B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3E88-8DF9-4E4F-BE2B-73A52596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5105-9D80-4E5B-881A-987DDE58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5576-F3C6-4E5E-B9DB-AE7202A7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1F93F-792E-4379-BDAD-F8DDC48A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E09A9-74B4-4FFC-B443-452924A7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A73C-AFB3-4714-9B55-B7FADA54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64F18-F005-4CBA-8DE1-78515ADC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B863B-19C3-48A3-812D-53514DB9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CC4-0E11-4B99-A7FC-7143630A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ACA7E-74E0-4889-A503-93E2DB4E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2487-EB4C-47EE-8988-6AE1BE2E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91B3D-F9BF-4B20-BEDF-21F87BF0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12BFD-3350-4DB6-B05C-1092C42E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4222C-2D74-4F48-AD9F-423BEE98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E214-27FD-4CFB-995D-99EF54E1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904F3-5976-4A77-BF15-02A0EB8C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2C9B1-FF23-414D-AF29-89EFFC8C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7ADBA-0737-4040-BEE9-44A4014A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B15F2-34D5-4DBE-872E-C39FCE87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0E5-A13D-4C96-9204-88FDA2C2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D4896-3F77-4CB5-9451-82F8F079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8ECCA-6588-4F29-B386-8D3A121B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EF44E-1FEA-48CA-B211-30097E86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83AF3-370F-4A42-A02C-6E8F5D76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6CA88-EBEF-47FF-BAB7-B2ABF5EC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4038C-022B-42C7-9A5F-EE18E49F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A62B1-AF67-4272-927F-D285AE0D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3F043-06F5-414F-8B25-B2E4C61D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8615F-5689-4030-BE48-1E410D17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DEBA8-44AA-4E7F-AE2E-93071092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47E-3D2A-4E1C-974A-0315EE0D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F9CBF-709E-43B9-9D88-D8932BB6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08CDA-4E6F-48C2-A44B-D8223CB2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F65B1-8FC8-4C91-BFBF-6CF5C3B8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A6A4E-A897-487E-8ECB-23805AD6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8F450-190F-4262-A97B-62250425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E4CB6-89F0-4201-A888-BF2E8B2D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11AFE-1776-4801-8A68-3AEF1A51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10ACC-CA4B-4343-A0F2-D21172BB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CCE74-E574-4936-97E5-377C076C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94B23-423E-4519-9611-08C659C3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98A-395F-4D1B-84E0-7E30D56D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9E9C8-D75F-4E31-A6F7-A897D4B9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5C4-729C-4F28-9214-5AB01FFB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113-C349-4C48-A1D1-E0077294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C30-D653-4EBF-A288-926A8AB9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DAD6-CE1F-43D0-A28E-C312A69775A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F1F3-8E94-4192-8DE6-CD4D57E803C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E848-7DCA-4492-9ED1-57BAB91D05B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F1D4-A0DA-4246-8AE2-27E582D4183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" descr=""/>
          <p:cNvPicPr/>
          <p:nvPr/>
        </p:nvPicPr>
        <p:blipFill>
          <a:blip r:embed="rId4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3AB3-8896-4865-8ACF-F6844EAF58C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2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4"/>
          <p:cNvSpPr/>
          <p:nvPr/>
        </p:nvSpPr>
        <p:spPr>
          <a:xfrm flipH="1">
            <a:off x="1571760" y="4714920"/>
            <a:ext cx="712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Басков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48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2"/>
          <p:cNvSpPr/>
          <p:nvPr/>
        </p:nvSpPr>
        <p:spPr>
          <a:xfrm>
            <a:off x="2124000" y="62064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1" descr="C41-12 копия"/>
          <p:cNvPicPr/>
          <p:nvPr/>
        </p:nvPicPr>
        <p:blipFill>
          <a:blip r:embed="rId1"/>
          <a:stretch/>
        </p:blipFill>
        <p:spPr>
          <a:xfrm>
            <a:off x="179280" y="0"/>
            <a:ext cx="1728720" cy="194472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5"/>
          <p:cNvSpPr/>
          <p:nvPr/>
        </p:nvSpPr>
        <p:spPr>
          <a:xfrm>
            <a:off x="755640" y="2060640"/>
            <a:ext cx="684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7"/>
          <p:cNvSpPr/>
          <p:nvPr/>
        </p:nvSpPr>
        <p:spPr>
          <a:xfrm>
            <a:off x="611280" y="1125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8"/>
          <p:cNvSpPr/>
          <p:nvPr/>
        </p:nvSpPr>
        <p:spPr>
          <a:xfrm>
            <a:off x="611280" y="1341360"/>
            <a:ext cx="784836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b5395"/>
                </a:solidFill>
                <a:latin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Составим математическую модель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5, 10, 15,</a:t>
            </a:r>
            <a:r>
              <a:rPr b="0" lang="ru-RU" sz="2400" spc="-1" strike="noStrike">
                <a:solidFill>
                  <a:srgbClr val="0b5395"/>
                </a:solidFill>
                <a:latin typeface="Lucida Sans Unicode"/>
              </a:rPr>
              <a:t>…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,40, 40, 40, 35, 30,</a:t>
            </a:r>
            <a:r>
              <a:rPr b="0" lang="ru-RU" sz="2400" spc="-1" strike="noStrike">
                <a:solidFill>
                  <a:srgbClr val="0b5395"/>
                </a:solidFill>
                <a:latin typeface="Lucida Sans Unicode"/>
              </a:rPr>
              <a:t>…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возрастающая              убыва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арифметическая  прог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b5395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</a:rPr>
              <a:t>а</a:t>
            </a:r>
            <a:r>
              <a:rPr b="0" i="1" lang="ru-RU" sz="2400" spc="-1" strike="noStrike" baseline="-25000">
                <a:solidFill>
                  <a:srgbClr val="0b5395"/>
                </a:solidFill>
                <a:latin typeface="Times New Roman"/>
              </a:rPr>
              <a:t>п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</a:rPr>
              <a:t>=а</a:t>
            </a:r>
            <a:r>
              <a:rPr b="0" i="1" lang="ru-RU" sz="2400" spc="-1" strike="noStrike" baseline="-25000">
                <a:solidFill>
                  <a:srgbClr val="0b5395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d(n-1)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40=5+5(п-1),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п=8,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S</a:t>
            </a:r>
            <a:r>
              <a:rPr b="0" i="1" lang="ru-RU" sz="24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п</a:t>
            </a:r>
            <a:r>
              <a:rPr b="0" i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=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((</a:t>
            </a:r>
            <a:r>
              <a:rPr b="0" i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+a</a:t>
            </a:r>
            <a:r>
              <a:rPr b="0" i="1" lang="ru-RU" sz="24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п</a:t>
            </a:r>
            <a:r>
              <a:rPr b="0" i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)n)/2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   </a:t>
            </a:r>
            <a:r>
              <a:rPr b="0" i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S</a:t>
            </a:r>
            <a:r>
              <a:rPr b="0" i="1" lang="ru-RU" sz="24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8 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=(5+40)</a:t>
            </a:r>
            <a:r>
              <a:rPr b="0" i="1" lang="el-GR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·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8:2=18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80 капель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больной принимал по схеме в первый период и столько же по второй период. Всего он принял 180+40+180=400(капель), всего больной выпьет 400:250=1,6 (пузырька). Значит, надо купить 2 пузыр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"/>
          <p:cNvSpPr/>
          <p:nvPr/>
        </p:nvSpPr>
        <p:spPr>
          <a:xfrm rot="5400000">
            <a:off x="2232000" y="1449000"/>
            <a:ext cx="144720" cy="1944720"/>
          </a:xfrm>
          <a:custGeom>
            <a:avLst/>
            <a:gdLst>
              <a:gd name="textAreaLeft" fmla="*/ 0 w 144720"/>
              <a:gd name="textAreaRight" fmla="*/ 52200 w 14472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c000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"/>
          <p:cNvSpPr/>
          <p:nvPr/>
        </p:nvSpPr>
        <p:spPr>
          <a:xfrm rot="5400000">
            <a:off x="4752720" y="1520640"/>
            <a:ext cx="142920" cy="1800000"/>
          </a:xfrm>
          <a:custGeom>
            <a:avLst/>
            <a:gdLst>
              <a:gd name="textAreaLeft" fmla="*/ 0 w 142920"/>
              <a:gd name="textAreaRight" fmla="*/ 51480 w 142920"/>
              <a:gd name="textAreaTop" fmla="*/ 50040 h 1800000"/>
              <a:gd name="textAreaBottom" fmla="*/ 174996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62"/>
                  <a:pt x="10800" y="1923"/>
                </a:cubicBezTo>
                <a:lnTo>
                  <a:pt x="10800" y="9069"/>
                </a:lnTo>
                <a:cubicBezTo>
                  <a:pt x="10800" y="10031"/>
                  <a:pt x="16200" y="10992"/>
                  <a:pt x="21600" y="10992"/>
                </a:cubicBezTo>
                <a:cubicBezTo>
                  <a:pt x="16200" y="10992"/>
                  <a:pt x="10800" y="11954"/>
                  <a:pt x="10800" y="12915"/>
                </a:cubicBezTo>
                <a:lnTo>
                  <a:pt x="10800" y="19677"/>
                </a:lnTo>
                <a:cubicBezTo>
                  <a:pt x="10800" y="20639"/>
                  <a:pt x="5400" y="21600"/>
                  <a:pt x="0" y="21600"/>
                </a:cubicBezTo>
              </a:path>
            </a:pathLst>
          </a:custGeom>
          <a:solidFill>
            <a:srgbClr val="ffc000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2"/>
          <p:cNvSpPr/>
          <p:nvPr/>
        </p:nvSpPr>
        <p:spPr>
          <a:xfrm>
            <a:off x="1908000" y="549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Задача №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Рисунок 1" descr="C41-12 копия"/>
          <p:cNvPicPr/>
          <p:nvPr/>
        </p:nvPicPr>
        <p:blipFill>
          <a:blip r:embed="rId1"/>
          <a:stretch/>
        </p:blipFill>
        <p:spPr>
          <a:xfrm>
            <a:off x="468360" y="260280"/>
            <a:ext cx="1727280" cy="194472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5"/>
          <p:cNvSpPr/>
          <p:nvPr/>
        </p:nvSpPr>
        <p:spPr>
          <a:xfrm>
            <a:off x="755640" y="2060640"/>
            <a:ext cx="684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7"/>
          <p:cNvSpPr/>
          <p:nvPr/>
        </p:nvSpPr>
        <p:spPr>
          <a:xfrm>
            <a:off x="611280" y="1125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8"/>
          <p:cNvSpPr/>
          <p:nvPr/>
        </p:nvSpPr>
        <p:spPr>
          <a:xfrm>
            <a:off x="826920" y="241308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литка ползет по дереву. За первую минуту она проползла 30 см, а за каждую следующую минуту — на 5 см больше, чем за предыдущую. За какое время достигнет улитка вершины дерева длиной 5,25 м, если считать, что движение начато от его основ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2"/>
          <p:cNvSpPr/>
          <p:nvPr/>
        </p:nvSpPr>
        <p:spPr>
          <a:xfrm>
            <a:off x="1908000" y="549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Задача №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Рисунок 1" descr="C41-12 копия"/>
          <p:cNvPicPr/>
          <p:nvPr/>
        </p:nvPicPr>
        <p:blipFill>
          <a:blip r:embed="rId1"/>
          <a:stretch/>
        </p:blipFill>
        <p:spPr>
          <a:xfrm>
            <a:off x="468360" y="260280"/>
            <a:ext cx="1727280" cy="194472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5"/>
          <p:cNvSpPr/>
          <p:nvPr/>
        </p:nvSpPr>
        <p:spPr>
          <a:xfrm>
            <a:off x="755640" y="2060640"/>
            <a:ext cx="684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7"/>
          <p:cNvSpPr/>
          <p:nvPr/>
        </p:nvSpPr>
        <p:spPr>
          <a:xfrm>
            <a:off x="611280" y="1125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8"/>
          <p:cNvSpPr/>
          <p:nvPr/>
        </p:nvSpPr>
        <p:spPr>
          <a:xfrm>
            <a:off x="1476360" y="2133720"/>
            <a:ext cx="698328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Решение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=30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5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525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= (2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d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-1))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2;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525= (2</a:t>
            </a:r>
            <a:r>
              <a:rPr b="0" lang="el-GR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·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0+ 5 (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-1))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2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050= (60+ 5 (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-1))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050= 55 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+ 5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 baseline="30000">
                <a:solidFill>
                  <a:srgbClr val="0b5395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;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 baseline="30000">
                <a:solidFill>
                  <a:srgbClr val="0b5395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+11 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-210=0,      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=-21,  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=10   (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&gt;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лика достигнет вершины за 10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Знаете ли вы, что такое магический квадрат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Квадрат, состоящий из 9 клеток, в него вписывают числа, так чтобы сумма чисел по вертикали, горизонтали диагонали была одним и тем же числом- constan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      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Замечание об арифметической прогрессии само по себе очень интересно. Дело в том, что из каждых девяти последовательных членов любой арифметической прогрессии натуральных чисел можно составить магический квадра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843280" y="2349360"/>
          <a:ext cx="3405240" cy="2521080"/>
        </p:xfrm>
        <a:graphic>
          <a:graphicData uri="http://schemas.openxmlformats.org/drawingml/2006/table">
            <a:tbl>
              <a:tblPr/>
              <a:tblGrid>
                <a:gridCol w="1135080"/>
                <a:gridCol w="1135080"/>
                <a:gridCol w="113508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мсей жил в начале ХХ века. Им была создана теория, доказывающая, что в мире нет абсолютного хаоса. Что даже, казалось бы, самая неупорядоченная система имеет определенные математические закономерности. Вспомните, когда Вы смотрите на звезды, то может показаться, что расположены они в самом случайном порядке. Но еще в древности люди увидели там созвездия Рыб и Касеопеи, Льва и Орион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9" name="Прямоугольник 3" descr=""/>
          <p:cNvPicPr/>
          <p:nvPr/>
        </p:nvPicPr>
        <p:blipFill>
          <a:blip r:embed="rId1"/>
          <a:stretch/>
        </p:blipFill>
        <p:spPr>
          <a:xfrm>
            <a:off x="1322280" y="-49320"/>
            <a:ext cx="7035840" cy="197496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5"/>
          <p:cNvSpPr/>
          <p:nvPr/>
        </p:nvSpPr>
        <p:spPr>
          <a:xfrm>
            <a:off x="457200" y="5410080"/>
            <a:ext cx="60948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6"/>
          <p:cNvSpPr/>
          <p:nvPr/>
        </p:nvSpPr>
        <p:spPr>
          <a:xfrm>
            <a:off x="5410080" y="5410080"/>
            <a:ext cx="60984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7"/>
          <p:cNvSpPr/>
          <p:nvPr/>
        </p:nvSpPr>
        <p:spPr>
          <a:xfrm>
            <a:off x="8077320" y="5410080"/>
            <a:ext cx="60948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8"/>
          <p:cNvSpPr/>
          <p:nvPr/>
        </p:nvSpPr>
        <p:spPr>
          <a:xfrm>
            <a:off x="4495680" y="5410080"/>
            <a:ext cx="609840" cy="914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9"/>
          <p:cNvSpPr/>
          <p:nvPr/>
        </p:nvSpPr>
        <p:spPr>
          <a:xfrm>
            <a:off x="2438280" y="5410080"/>
            <a:ext cx="60984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10"/>
          <p:cNvSpPr/>
          <p:nvPr/>
        </p:nvSpPr>
        <p:spPr>
          <a:xfrm>
            <a:off x="1447920" y="5410080"/>
            <a:ext cx="609480" cy="914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11"/>
          <p:cNvSpPr/>
          <p:nvPr/>
        </p:nvSpPr>
        <p:spPr>
          <a:xfrm>
            <a:off x="3505320" y="5410080"/>
            <a:ext cx="609480" cy="914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2"/>
          <p:cNvSpPr/>
          <p:nvPr/>
        </p:nvSpPr>
        <p:spPr>
          <a:xfrm>
            <a:off x="7238880" y="5410080"/>
            <a:ext cx="609840" cy="914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3"/>
          <p:cNvSpPr/>
          <p:nvPr/>
        </p:nvSpPr>
        <p:spPr>
          <a:xfrm>
            <a:off x="6324480" y="5410080"/>
            <a:ext cx="60984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extBox 3" descr=""/>
          <p:cNvPicPr/>
          <p:nvPr/>
        </p:nvPicPr>
        <p:blipFill>
          <a:blip r:embed="rId1"/>
          <a:stretch/>
        </p:blipFill>
        <p:spPr>
          <a:xfrm>
            <a:off x="360360" y="328680"/>
            <a:ext cx="8539200" cy="693720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Рисунок3"/>
          <p:cNvPicPr/>
          <p:nvPr/>
        </p:nvPicPr>
        <p:blipFill>
          <a:blip r:embed="rId2"/>
          <a:stretch/>
        </p:blipFill>
        <p:spPr>
          <a:xfrm>
            <a:off x="-181080" y="-316080"/>
            <a:ext cx="268776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extBox 3" descr=""/>
          <p:cNvPicPr/>
          <p:nvPr/>
        </p:nvPicPr>
        <p:blipFill>
          <a:blip r:embed="rId1"/>
          <a:stretch/>
        </p:blipFill>
        <p:spPr>
          <a:xfrm>
            <a:off x="895320" y="-201600"/>
            <a:ext cx="8004240" cy="1994040"/>
          </a:xfrm>
          <a:prstGeom prst="rect">
            <a:avLst/>
          </a:prstGeom>
          <a:ln w="0">
            <a:noFill/>
          </a:ln>
        </p:spPr>
      </p:pic>
      <p:pic>
        <p:nvPicPr>
          <p:cNvPr id="353" name="TextBox 7" descr=""/>
          <p:cNvPicPr/>
          <p:nvPr/>
        </p:nvPicPr>
        <p:blipFill>
          <a:blip r:embed="rId2"/>
          <a:stretch/>
        </p:blipFill>
        <p:spPr>
          <a:xfrm>
            <a:off x="536400" y="1011240"/>
            <a:ext cx="8436240" cy="830160"/>
          </a:xfrm>
          <a:prstGeom prst="rect">
            <a:avLst/>
          </a:prstGeom>
          <a:ln w="0">
            <a:noFill/>
          </a:ln>
        </p:spPr>
      </p:pic>
      <p:grpSp>
        <p:nvGrpSpPr>
          <p:cNvPr id="354" name="Группа 39"/>
          <p:cNvGrpSpPr/>
          <p:nvPr/>
        </p:nvGrpSpPr>
        <p:grpSpPr>
          <a:xfrm>
            <a:off x="5508720" y="2060640"/>
            <a:ext cx="2735280" cy="1081080"/>
            <a:chOff x="5508720" y="2060640"/>
            <a:chExt cx="2735280" cy="1081080"/>
          </a:xfrm>
        </p:grpSpPr>
        <p:sp>
          <p:nvSpPr>
            <p:cNvPr id="355" name="Oval 16"/>
            <p:cNvSpPr/>
            <p:nvPr/>
          </p:nvSpPr>
          <p:spPr>
            <a:xfrm>
              <a:off x="5508720" y="2060640"/>
              <a:ext cx="2735280" cy="1081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16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56" name="Object 17"/>
            <p:cNvGraphicFramePr/>
            <p:nvPr/>
          </p:nvGraphicFramePr>
          <p:xfrm>
            <a:off x="5803560" y="2095920"/>
            <a:ext cx="1985040" cy="959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03560" y="2095920"/>
                      <a:ext cx="1985040" cy="95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58" name="Группа 15"/>
          <p:cNvGrpSpPr/>
          <p:nvPr/>
        </p:nvGrpSpPr>
        <p:grpSpPr>
          <a:xfrm>
            <a:off x="826920" y="2133720"/>
            <a:ext cx="2592720" cy="865080"/>
            <a:chOff x="826920" y="2133720"/>
            <a:chExt cx="2592720" cy="865080"/>
          </a:xfrm>
        </p:grpSpPr>
        <p:graphicFrame>
          <p:nvGraphicFramePr>
            <p:cNvPr id="359" name="Object 14"/>
            <p:cNvGraphicFramePr/>
            <p:nvPr/>
          </p:nvGraphicFramePr>
          <p:xfrm>
            <a:off x="970920" y="2277720"/>
            <a:ext cx="2296080" cy="62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70920" y="2277720"/>
                      <a:ext cx="2296080" cy="62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1" name="Скругленный прямоугольник 14"/>
            <p:cNvSpPr/>
            <p:nvPr/>
          </p:nvSpPr>
          <p:spPr>
            <a:xfrm>
              <a:off x="826920" y="2133720"/>
              <a:ext cx="2592720" cy="865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Группа 51"/>
          <p:cNvGrpSpPr/>
          <p:nvPr/>
        </p:nvGrpSpPr>
        <p:grpSpPr>
          <a:xfrm>
            <a:off x="2987640" y="3357720"/>
            <a:ext cx="2592360" cy="1079280"/>
            <a:chOff x="2987640" y="3357720"/>
            <a:chExt cx="2592360" cy="1079280"/>
          </a:xfrm>
        </p:grpSpPr>
        <p:sp>
          <p:nvSpPr>
            <p:cNvPr id="363" name="Oval 16"/>
            <p:cNvSpPr/>
            <p:nvPr/>
          </p:nvSpPr>
          <p:spPr>
            <a:xfrm>
              <a:off x="2987640" y="3357720"/>
              <a:ext cx="2592360" cy="1079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16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4" name="Object 37"/>
            <p:cNvGraphicFramePr/>
            <p:nvPr/>
          </p:nvGraphicFramePr>
          <p:xfrm>
            <a:off x="3167280" y="3596400"/>
            <a:ext cx="2251080" cy="531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5" name="Object 3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67280" y="3596400"/>
                      <a:ext cx="2251080" cy="5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6" name="Группа 42"/>
          <p:cNvGrpSpPr/>
          <p:nvPr/>
        </p:nvGrpSpPr>
        <p:grpSpPr>
          <a:xfrm>
            <a:off x="755640" y="4724280"/>
            <a:ext cx="2406600" cy="1152720"/>
            <a:chOff x="755640" y="4724280"/>
            <a:chExt cx="2406600" cy="1152720"/>
          </a:xfrm>
        </p:grpSpPr>
        <p:sp>
          <p:nvSpPr>
            <p:cNvPr id="367" name="Oval 16"/>
            <p:cNvSpPr/>
            <p:nvPr/>
          </p:nvSpPr>
          <p:spPr>
            <a:xfrm>
              <a:off x="755640" y="4724280"/>
              <a:ext cx="2406600" cy="115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16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8" name="Object 34"/>
            <p:cNvGraphicFramePr/>
            <p:nvPr/>
          </p:nvGraphicFramePr>
          <p:xfrm>
            <a:off x="1003320" y="4875120"/>
            <a:ext cx="2005200" cy="846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69" name="Object 3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03320" y="4875120"/>
                      <a:ext cx="2005200" cy="84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0" name="Группа 45"/>
          <p:cNvGrpSpPr/>
          <p:nvPr/>
        </p:nvGrpSpPr>
        <p:grpSpPr>
          <a:xfrm>
            <a:off x="4643280" y="4797360"/>
            <a:ext cx="3745080" cy="1440000"/>
            <a:chOff x="4643280" y="4797360"/>
            <a:chExt cx="3745080" cy="1440000"/>
          </a:xfrm>
        </p:grpSpPr>
        <p:sp>
          <p:nvSpPr>
            <p:cNvPr id="371" name="Oval 16"/>
            <p:cNvSpPr/>
            <p:nvPr/>
          </p:nvSpPr>
          <p:spPr>
            <a:xfrm>
              <a:off x="4662720" y="4797360"/>
              <a:ext cx="3725640" cy="144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16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72" name="Object 35"/>
            <p:cNvGraphicFramePr/>
            <p:nvPr/>
          </p:nvGraphicFramePr>
          <p:xfrm>
            <a:off x="4643280" y="4918680"/>
            <a:ext cx="3529440" cy="941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73" name="Object 3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643280" y="4918680"/>
                      <a:ext cx="3529440" cy="9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3" descr=""/>
          <p:cNvPicPr/>
          <p:nvPr/>
        </p:nvPicPr>
        <p:blipFill>
          <a:blip r:embed="rId1"/>
          <a:stretch/>
        </p:blipFill>
        <p:spPr>
          <a:xfrm>
            <a:off x="281160" y="487440"/>
            <a:ext cx="8313480" cy="198756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1071720" y="1785960"/>
            <a:ext cx="741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*      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Сегодня я узна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*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Было интерес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*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Было труд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*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Я выполнял задани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*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Я понял, ч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*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Теперь я мог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*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Я научилс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0492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Прямоугольник 5" descr=""/>
          <p:cNvPicPr/>
          <p:nvPr/>
        </p:nvPicPr>
        <p:blipFill>
          <a:blip r:embed="rId1"/>
          <a:stretch/>
        </p:blipFill>
        <p:spPr>
          <a:xfrm>
            <a:off x="480960" y="3492360"/>
            <a:ext cx="8186760" cy="32562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47280" y="1916280"/>
            <a:ext cx="7596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знание, упорство ,труд</a:t>
            </a:r>
            <a:br>
              <a:rPr sz="5000"/>
            </a:br>
            <a:r>
              <a:rPr b="0" lang="ru-RU" sz="5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Тебя к прогрессу   приведут!</a:t>
            </a:r>
            <a:br>
              <a:rPr sz="5000"/>
            </a:br>
            <a:r>
              <a:rPr b="0" lang="ru-RU" sz="5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Picture 5" descr="Шкетана"/>
          <p:cNvPicPr/>
          <p:nvPr/>
        </p:nvPicPr>
        <p:blipFill>
          <a:blip r:embed="rId2"/>
          <a:stretch/>
        </p:blipFill>
        <p:spPr>
          <a:xfrm>
            <a:off x="0" y="1916280"/>
            <a:ext cx="3348000" cy="231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0492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Прямоугольник 5" descr=""/>
          <p:cNvPicPr/>
          <p:nvPr/>
        </p:nvPicPr>
        <p:blipFill>
          <a:blip r:embed="rId1"/>
          <a:stretch/>
        </p:blipFill>
        <p:spPr>
          <a:xfrm>
            <a:off x="658800" y="2992320"/>
            <a:ext cx="7832880" cy="32562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785988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c9b74"/>
                </a:solidFill>
                <a:latin typeface="Calibri"/>
              </a:rPr>
              <a:t>              </a:t>
            </a:r>
            <a:r>
              <a:rPr b="0" lang="ru-RU" sz="5000" spc="-1" strike="noStrike">
                <a:solidFill>
                  <a:srgbClr val="0c9b74"/>
                </a:solidFill>
                <a:latin typeface="Calibri"/>
              </a:rPr>
              <a:t>Проблема:</a:t>
            </a: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0c9b74"/>
                </a:solidFill>
                <a:latin typeface="Calibri"/>
              </a:rPr>
              <a:t>            </a:t>
            </a: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Для чего нужна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Рисунок 1" descr="C41-12 копия"/>
          <p:cNvPicPr/>
          <p:nvPr/>
        </p:nvPicPr>
        <p:blipFill>
          <a:blip r:embed="rId2"/>
          <a:stretch/>
        </p:blipFill>
        <p:spPr>
          <a:xfrm>
            <a:off x="468360" y="907920"/>
            <a:ext cx="2066760" cy="2449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Группа 33"/>
          <p:cNvGrpSpPr/>
          <p:nvPr/>
        </p:nvGrpSpPr>
        <p:grpSpPr>
          <a:xfrm>
            <a:off x="3780000" y="1989000"/>
            <a:ext cx="2592360" cy="1297080"/>
            <a:chOff x="3780000" y="1989000"/>
            <a:chExt cx="2592360" cy="1297080"/>
          </a:xfrm>
        </p:grpSpPr>
        <p:sp>
          <p:nvSpPr>
            <p:cNvPr id="258" name="Oval 13"/>
            <p:cNvSpPr/>
            <p:nvPr/>
          </p:nvSpPr>
          <p:spPr>
            <a:xfrm>
              <a:off x="3780000" y="1989000"/>
              <a:ext cx="2592360" cy="12970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9" name="Object 14"/>
            <p:cNvGraphicFramePr/>
            <p:nvPr/>
          </p:nvGraphicFramePr>
          <p:xfrm>
            <a:off x="3996360" y="2277000"/>
            <a:ext cx="2295720" cy="62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0" name="Object 1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96360" y="2277000"/>
                      <a:ext cx="2295720" cy="6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1" name="Text Box 15"/>
          <p:cNvSpPr/>
          <p:nvPr/>
        </p:nvSpPr>
        <p:spPr>
          <a:xfrm>
            <a:off x="193680" y="63360"/>
            <a:ext cx="298764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Определение арифметической  прогр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179280" y="1252440"/>
            <a:ext cx="30751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Формула п –го члена арифметической  прогр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138240" y="2435400"/>
            <a:ext cx="31352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Характеристическое свойство членов арифметической прогр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11240" y="3933720"/>
            <a:ext cx="3135240" cy="12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Сумма первых п членов арифметической прогр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11240" y="5334120"/>
            <a:ext cx="3144600" cy="14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Формула для нахождения разности арифметической прогр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0" y="147636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4481640" y="11858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0" y="178128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4481640" y="175752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0" y="212400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4481640" y="206244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0" y="242892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0"/>
          <p:cNvSpPr/>
          <p:nvPr/>
        </p:nvSpPr>
        <p:spPr>
          <a:xfrm>
            <a:off x="0" y="390528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Группа 39"/>
          <p:cNvGrpSpPr/>
          <p:nvPr/>
        </p:nvGrpSpPr>
        <p:grpSpPr>
          <a:xfrm>
            <a:off x="5867280" y="476280"/>
            <a:ext cx="2895840" cy="1366920"/>
            <a:chOff x="5867280" y="476280"/>
            <a:chExt cx="2895840" cy="1366920"/>
          </a:xfrm>
        </p:grpSpPr>
        <p:sp>
          <p:nvSpPr>
            <p:cNvPr id="276" name="Oval 16"/>
            <p:cNvSpPr/>
            <p:nvPr/>
          </p:nvSpPr>
          <p:spPr>
            <a:xfrm>
              <a:off x="5867280" y="476280"/>
              <a:ext cx="2895840" cy="13669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7" name="Object 17"/>
            <p:cNvGraphicFramePr/>
            <p:nvPr/>
          </p:nvGraphicFramePr>
          <p:xfrm>
            <a:off x="6460200" y="483480"/>
            <a:ext cx="2101680" cy="1213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60200" y="483480"/>
                      <a:ext cx="2101680" cy="121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9" name="Группа 42"/>
          <p:cNvGrpSpPr/>
          <p:nvPr/>
        </p:nvGrpSpPr>
        <p:grpSpPr>
          <a:xfrm>
            <a:off x="6516720" y="2637000"/>
            <a:ext cx="2406600" cy="1152360"/>
            <a:chOff x="6516720" y="2637000"/>
            <a:chExt cx="2406600" cy="1152360"/>
          </a:xfrm>
        </p:grpSpPr>
        <p:sp>
          <p:nvSpPr>
            <p:cNvPr id="280" name="Oval 16"/>
            <p:cNvSpPr/>
            <p:nvPr/>
          </p:nvSpPr>
          <p:spPr>
            <a:xfrm>
              <a:off x="6516720" y="2637000"/>
              <a:ext cx="2406600" cy="1152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1" name="Object 34"/>
            <p:cNvGraphicFramePr/>
            <p:nvPr/>
          </p:nvGraphicFramePr>
          <p:xfrm>
            <a:off x="6764400" y="2787480"/>
            <a:ext cx="2005200" cy="84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2" name="Object 3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64400" y="2787480"/>
                      <a:ext cx="2005200" cy="84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3" name="Группа 45"/>
          <p:cNvGrpSpPr/>
          <p:nvPr/>
        </p:nvGrpSpPr>
        <p:grpSpPr>
          <a:xfrm>
            <a:off x="4788000" y="5362560"/>
            <a:ext cx="3744720" cy="1440000"/>
            <a:chOff x="4788000" y="5362560"/>
            <a:chExt cx="3744720" cy="1440000"/>
          </a:xfrm>
        </p:grpSpPr>
        <p:sp>
          <p:nvSpPr>
            <p:cNvPr id="284" name="Oval 16"/>
            <p:cNvSpPr/>
            <p:nvPr/>
          </p:nvSpPr>
          <p:spPr>
            <a:xfrm>
              <a:off x="4807440" y="5362560"/>
              <a:ext cx="3725280" cy="1440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5" name="Object 35"/>
            <p:cNvGraphicFramePr/>
            <p:nvPr/>
          </p:nvGraphicFramePr>
          <p:xfrm>
            <a:off x="4788000" y="5483880"/>
            <a:ext cx="3529080" cy="941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6" name="Object 3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88000" y="5483880"/>
                      <a:ext cx="3529080" cy="9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7" name="Группа 51"/>
          <p:cNvGrpSpPr/>
          <p:nvPr/>
        </p:nvGrpSpPr>
        <p:grpSpPr>
          <a:xfrm>
            <a:off x="5867280" y="4005360"/>
            <a:ext cx="2592360" cy="1224000"/>
            <a:chOff x="5867280" y="4005360"/>
            <a:chExt cx="2592360" cy="1224000"/>
          </a:xfrm>
        </p:grpSpPr>
        <p:sp>
          <p:nvSpPr>
            <p:cNvPr id="288" name="Oval 16"/>
            <p:cNvSpPr/>
            <p:nvPr/>
          </p:nvSpPr>
          <p:spPr>
            <a:xfrm>
              <a:off x="5867280" y="4005360"/>
              <a:ext cx="2592360" cy="1224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9" name="Object 37"/>
            <p:cNvGraphicFramePr/>
            <p:nvPr/>
          </p:nvGraphicFramePr>
          <p:xfrm>
            <a:off x="6046920" y="4276080"/>
            <a:ext cx="2251080" cy="60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90" name="Object 3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46920" y="4276080"/>
                      <a:ext cx="225108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291" name="Прямая со стрелкой 55"/>
          <p:cNvCxnSpPr/>
          <p:nvPr/>
        </p:nvCxnSpPr>
        <p:spPr>
          <a:xfrm>
            <a:off x="3131640" y="549360"/>
            <a:ext cx="2809080" cy="792720"/>
          </a:xfrm>
          <a:prstGeom prst="straightConnector1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292" name="Прямая со стрелкой 57"/>
          <p:cNvCxnSpPr/>
          <p:nvPr/>
        </p:nvCxnSpPr>
        <p:spPr>
          <a:xfrm>
            <a:off x="3203280" y="1628640"/>
            <a:ext cx="1152720" cy="432720"/>
          </a:xfrm>
          <a:prstGeom prst="straightConnector1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293" name="Прямая со стрелкой 61"/>
          <p:cNvCxnSpPr>
            <a:stCxn id="264" idx="3"/>
          </p:cNvCxnSpPr>
          <p:nvPr/>
        </p:nvCxnSpPr>
        <p:spPr>
          <a:xfrm flipV="1">
            <a:off x="3246480" y="3644280"/>
            <a:ext cx="3270960" cy="913320"/>
          </a:xfrm>
          <a:prstGeom prst="straightConnector1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294" name="Прямая со стрелкой 63"/>
          <p:cNvCxnSpPr/>
          <p:nvPr/>
        </p:nvCxnSpPr>
        <p:spPr>
          <a:xfrm>
            <a:off x="3203280" y="4581360"/>
            <a:ext cx="2305440" cy="1152000"/>
          </a:xfrm>
          <a:prstGeom prst="straightConnector1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295" name="Прямая со стрелкой 66"/>
          <p:cNvCxnSpPr>
            <a:stCxn id="265" idx="3"/>
          </p:cNvCxnSpPr>
          <p:nvPr/>
        </p:nvCxnSpPr>
        <p:spPr>
          <a:xfrm flipV="1">
            <a:off x="3255840" y="4797000"/>
            <a:ext cx="2687040" cy="1270800"/>
          </a:xfrm>
          <a:prstGeom prst="straightConnector1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</p:cxnSp>
      <p:sp>
        <p:nvSpPr>
          <p:cNvPr id="296" name="Rectangle 40"/>
          <p:cNvSpPr/>
          <p:nvPr/>
        </p:nvSpPr>
        <p:spPr>
          <a:xfrm>
            <a:off x="2484360" y="1421280"/>
            <a:ext cx="8136000" cy="4504680"/>
          </a:xfrm>
          <a:prstGeom prst="pentagon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помните, друзья, соль истины тако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еория мертва без практики жив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extBox 1" descr=""/>
          <p:cNvPicPr/>
          <p:nvPr/>
        </p:nvPicPr>
        <p:blipFill>
          <a:blip r:embed="rId1"/>
          <a:stretch/>
        </p:blipFill>
        <p:spPr>
          <a:xfrm>
            <a:off x="371520" y="-96840"/>
            <a:ext cx="8759880" cy="1219320"/>
          </a:xfrm>
          <a:prstGeom prst="rect">
            <a:avLst/>
          </a:prstGeom>
          <a:ln w="0">
            <a:noFill/>
          </a:ln>
        </p:spPr>
      </p:pic>
      <p:sp>
        <p:nvSpPr>
          <p:cNvPr id="298" name="TextBox 2"/>
          <p:cNvSpPr/>
          <p:nvPr/>
        </p:nvSpPr>
        <p:spPr>
          <a:xfrm>
            <a:off x="0" y="549360"/>
            <a:ext cx="9144000" cy="67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Являются ли следующие последовательности арифметической прогрессией? Почему?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а) 1; 3; 5; 7; 9;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)  1; 4; 9; 16; 25; …..    в) 1; 3; 5; 7; 11; 13; 17;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Найти разность арифметической прогрессии:          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) 1; 5; 9…  б)  105; 100…. в) -13; -15; -17 г) 11;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2800" spc="-1" strike="noStrike" baseline="-25000">
                <a:solidFill>
                  <a:srgbClr val="8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; 19,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ГИА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арифметических прогрессий выберите ту, среди членов которой есть число  – 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)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 +10</a:t>
            </a:r>
            <a:r>
              <a:rPr b="1" i="1" lang="en-US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;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)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n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– 3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;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в)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n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=  – 3n +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;</a:t>
            </a:r>
            <a:r>
              <a:rPr b="1" i="1" lang="ru-RU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)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n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=  –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 – 8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ГИА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е число </a:t>
            </a:r>
            <a:r>
              <a:rPr b="1" lang="ru-RU" sz="24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не является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леном арифметической прогрессии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4; 8; 12; 16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) 60;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) 64;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) 66;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) 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050560" y="1197000"/>
            <a:ext cx="66358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у равна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сумма от1 до 100 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(1777-1855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3492360" y="3068640"/>
            <a:ext cx="5651640" cy="25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В Германии молодой Карл Гаусс нашел моментально сумму всех натуральных чис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от 1 до 100, будучи ещё учеником начальной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3" descr="Gayssa"/>
          <p:cNvPicPr/>
          <p:nvPr/>
        </p:nvPicPr>
        <p:blipFill>
          <a:blip r:embed="rId1"/>
          <a:srcRect l="0" t="0" r="0" b="8823"/>
          <a:stretch/>
        </p:blipFill>
        <p:spPr>
          <a:xfrm>
            <a:off x="395280" y="1773360"/>
            <a:ext cx="2925720" cy="42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Содержимое 4" descr="brevno.png"/>
          <p:cNvPicPr/>
          <p:nvPr/>
        </p:nvPicPr>
        <p:blipFill>
          <a:blip r:embed="rId1"/>
          <a:stretch/>
        </p:blipFill>
        <p:spPr>
          <a:xfrm>
            <a:off x="4492800" y="3133800"/>
            <a:ext cx="4846320" cy="265104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2"/>
          <p:cNvSpPr/>
          <p:nvPr/>
        </p:nvSpPr>
        <p:spPr>
          <a:xfrm>
            <a:off x="468360" y="549360"/>
            <a:ext cx="7991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Решение    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1+2+3+4+…+98+99+100(1+100)+(2+99)+(3+98)+…+(50+51)=101x50 =505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Constantia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№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   При х</a:t>
            </a:r>
            <a:r>
              <a:rPr b="0" lang="ru-RU" sz="2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ане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ии брёвен строев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еса их укладывают так,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казано на рису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колько брёвен на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одной кладке, если в её основании положе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2 брёве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34"/>
          <p:cNvGraphicFramePr/>
          <p:nvPr/>
        </p:nvGraphicFramePr>
        <p:xfrm>
          <a:off x="1979640" y="2852640"/>
          <a:ext cx="2448000" cy="93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2852640"/>
                    <a:ext cx="2448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8" name="Рисунок 1" descr="C41-12 копия"/>
          <p:cNvPicPr/>
          <p:nvPr/>
        </p:nvPicPr>
        <p:blipFill>
          <a:blip r:embed="rId4"/>
          <a:stretch/>
        </p:blipFill>
        <p:spPr>
          <a:xfrm>
            <a:off x="395280" y="189000"/>
            <a:ext cx="1476360" cy="174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14"/>
          <p:cNvSpPr/>
          <p:nvPr/>
        </p:nvSpPr>
        <p:spPr>
          <a:xfrm flipH="1">
            <a:off x="1571760" y="4714920"/>
            <a:ext cx="712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3"/>
          <p:cNvSpPr/>
          <p:nvPr/>
        </p:nvSpPr>
        <p:spPr>
          <a:xfrm>
            <a:off x="395280" y="1628640"/>
            <a:ext cx="646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Ямб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Мой дЯдя  сАмых  чЕстных  прАвил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Арифметическая прогрессия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2; 4; 6; 8;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Х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БУря  мглОю  нЕбо  крОет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Арифметическая прогрессия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1; 3; 5; 7;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Пушкин"/>
          <p:cNvPicPr/>
          <p:nvPr/>
        </p:nvPicPr>
        <p:blipFill>
          <a:blip r:embed="rId1"/>
          <a:stretch/>
        </p:blipFill>
        <p:spPr>
          <a:xfrm>
            <a:off x="6732720" y="2349360"/>
            <a:ext cx="2089080" cy="259236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684e"/>
                </a:solidFill>
                <a:latin typeface="Calibri"/>
              </a:rPr>
              <a:t>Арифметическая прогрессия в литератур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2"/>
          <p:cNvSpPr/>
          <p:nvPr/>
        </p:nvSpPr>
        <p:spPr>
          <a:xfrm>
            <a:off x="1908000" y="549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Задача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Рисунок 1" descr="C41-12 копия"/>
          <p:cNvPicPr/>
          <p:nvPr/>
        </p:nvPicPr>
        <p:blipFill>
          <a:blip r:embed="rId1"/>
          <a:stretch/>
        </p:blipFill>
        <p:spPr>
          <a:xfrm>
            <a:off x="468360" y="260280"/>
            <a:ext cx="1727280" cy="194472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5"/>
          <p:cNvSpPr/>
          <p:nvPr/>
        </p:nvSpPr>
        <p:spPr>
          <a:xfrm>
            <a:off x="755640" y="2060640"/>
            <a:ext cx="684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611280" y="112536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Больной принимает лекарство по следующей схеме: в первый день он принимает 5 капель, а в каждый следующий день </a:t>
            </a:r>
            <a:r>
              <a:rPr b="0" lang="ru-RU" sz="2400" spc="-1" strike="noStrike">
                <a:solidFill>
                  <a:srgbClr val="0b5395"/>
                </a:solidFill>
                <a:latin typeface="Lucida Sans Unicode"/>
              </a:rPr>
              <a:t>—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 на 5 капель больше, чем в предыдущий. Приняв 40 капель, он 3 дня пьет по 40 капель лекарства, а потом ежедневно уменьшает прием на 5 капель, доведя его до 5 капель. Сколько пузырьков лекарства нужно купить больному, если в каждом содержится 20 мл лекарства (что составляет 250 капель)?</a:t>
            </a:r>
            <a:r>
              <a:rPr b="0" lang="ru-RU" sz="2400" spc="-1" strike="noStrike">
                <a:solidFill>
                  <a:srgbClr val="0b5395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C41-33 копия"/>
          <p:cNvPicPr/>
          <p:nvPr/>
        </p:nvPicPr>
        <p:blipFill>
          <a:blip r:embed="rId2"/>
          <a:stretch/>
        </p:blipFill>
        <p:spPr>
          <a:xfrm>
            <a:off x="7236000" y="4581360"/>
            <a:ext cx="1658880" cy="2276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Ольга</cp:lastModifiedBy>
  <dcterms:modified xsi:type="dcterms:W3CDTF">2016-03-21T05:56:11Z</dcterms:modified>
  <cp:revision>58</cp:revision>
  <dc:subject/>
  <dc:title>Слайд 1</dc:title>
</cp:coreProperties>
</file>