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33C-B5CC-4128-A97D-F1F26ADF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170-0BF8-4E53-B0C3-A8C96296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423-1FB2-43BC-BA23-BE07E03D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ACB-71AD-44E6-8A77-2BBFBD2A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DB3E-52FC-4FCD-A9E3-AC274226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CB9D-AE96-4F83-9609-E2C09855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F3F-F25D-49BC-A7E4-54E16D3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D293-3132-4057-861D-CB65DC1F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6E1F-9F61-4588-9D6C-A46A4D1F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1D05-1122-4FFC-A462-7FA017B1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228A-27C4-4F24-BAE1-CBAF13D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BC1-2AC8-41F5-8D02-9472C94A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794C-1F6B-4148-A8E0-E9F51190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FD43-09E8-4713-AC41-E010482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D130-E207-4645-BD51-2165C442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CCA4-3D07-4CF2-A93B-07F3FAFB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7841-8E76-4B59-A8F0-D34DF601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8DF-A226-44B6-8540-E1962E83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304-77D1-4122-89C3-3705A7F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3B8-FEF0-403B-ADF4-0E9F14B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1B8-1D92-4666-B88B-CAACAC6E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A43-567C-4036-91E2-637F68C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1AD-075F-47C4-BC1F-E68E3E9B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123-4257-4182-82C9-D82C55AF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448-A6FF-4057-9F46-D708CE82A1A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7466-F1F3-4849-A03C-5E0A27708E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molsk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0" y="2346480"/>
            <a:ext cx="9144000" cy="3024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1619280" y="704880"/>
            <a:ext cx="611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08.02.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таж и эксплуатация  внутренних сантехнических устройст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ционирования воздуха и венти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8" descr="http://www.smolsk.ru/img/smolbuidcolled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9" descr="D:\ЕЛЕНА\картинки\Гербы Смоленска\Герб Смоленска красный.bmp"/>
          <p:cNvPicPr/>
          <p:nvPr/>
        </p:nvPicPr>
        <p:blipFill>
          <a:blip r:embed="rId3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2" descr=""/>
          <p:cNvPicPr/>
          <p:nvPr/>
        </p:nvPicPr>
        <p:blipFill>
          <a:blip r:embed="rId4"/>
          <a:stretch/>
        </p:blipFill>
        <p:spPr>
          <a:xfrm>
            <a:off x="426960" y="1835280"/>
            <a:ext cx="8290080" cy="5022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1619280" y="704880"/>
            <a:ext cx="611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08.02.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таж и эксплуатация  внутренних сантехнических устройст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ционирования воздуха и венти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8" descr=""/>
          <p:cNvPicPr/>
          <p:nvPr/>
        </p:nvPicPr>
        <p:blipFill>
          <a:blip r:embed="rId1"/>
          <a:srcRect l="1862" t="0" r="4104" b="-941"/>
          <a:stretch/>
        </p:blipFill>
        <p:spPr>
          <a:xfrm>
            <a:off x="-49320" y="1312920"/>
            <a:ext cx="91807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1"/>
          <a:stretch/>
        </p:blipFill>
        <p:spPr>
          <a:xfrm>
            <a:off x="824040" y="1557360"/>
            <a:ext cx="749592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Заголовок 1"/>
          <p:cNvGrpSpPr/>
          <p:nvPr/>
        </p:nvGrpSpPr>
        <p:grpSpPr>
          <a:xfrm>
            <a:off x="414360" y="1523880"/>
            <a:ext cx="8339040" cy="4322880"/>
            <a:chOff x="414360" y="1523880"/>
            <a:chExt cx="8339040" cy="4322880"/>
          </a:xfrm>
        </p:grpSpPr>
        <p:pic>
          <p:nvPicPr>
            <p:cNvPr id="9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14360" y="1523880"/>
              <a:ext cx="833904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68360" y="1628640"/>
              <a:ext cx="8229600" cy="38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84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ЖЕЛАЮ ВСЕМ </a:t>
              </a:r>
              <a:br>
                <a:rPr sz="4800"/>
              </a:b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ЗДОРОВЬЯ,  УСПЕХОВ В УЧЁБЕ, ТВОРЧЕСТВЕ, ЛИЧНОГО И СЕМЕЙНОГО СЧАСТЬЯ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Рисунок 2" descr="987.jpg"/>
          <p:cNvPicPr/>
          <p:nvPr/>
        </p:nvPicPr>
        <p:blipFill>
          <a:blip r:embed="rId2"/>
          <a:stretch/>
        </p:blipFill>
        <p:spPr>
          <a:xfrm>
            <a:off x="6199200" y="450720"/>
            <a:ext cx="2311560" cy="1920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3643200" y="5500800"/>
            <a:ext cx="47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айвороню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лена Гафу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22:59Z</dcterms:created>
  <dc:creator>Luk</dc:creator>
  <dc:description/>
  <dc:language>en-US</dc:language>
  <cp:lastModifiedBy>Admin</cp:lastModifiedBy>
  <dcterms:modified xsi:type="dcterms:W3CDTF">2022-12-10T10:23:03Z</dcterms:modified>
  <cp:revision>217</cp:revision>
  <dc:subject/>
  <dc:title>Технология устройства отделочных покрытий</dc:title>
</cp:coreProperties>
</file>