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4A7-699C-41AA-9866-8193B13F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F09-5A9E-4DB5-89EF-9120D7F2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F92-F249-4047-9C5E-93E0695B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3AF-F9B9-47C3-8612-5E16A50D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DBC-EC49-4481-96E1-5CE3480E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66C-D2F8-43FC-83A5-4D9C87B1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14A-458B-45E5-9EAA-2E0CC081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8F7-0F6A-438A-A785-39BF9BE0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34F-8D7F-40AF-B872-8FEB85CE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BE5-8C0F-4819-A00A-0D4A669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278-0DD5-41A9-9D1F-FAA0AC8C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EB3-3EE9-402C-AD3F-8934E70C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28F8-BFBF-4CF6-AD04-9A1517ED3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5257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Ы ИЗ ФЕТРА В РАБОТЕ С ДЕТЬМИ С ОВ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429000" cy="468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9880" y="5334120"/>
            <a:ext cx="5334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еева Любовь Игор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ТИВИЗАЦИЯ РЕЧЕ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486400"/>
            <a:ext cx="822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ТВОРЧЕСКИХ ВАМ УСПЕХОВ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9436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ГРА РАБОТЕ С ДЕТЬМИ С ОВ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одаря игре   ненавязчиво и   незаметно происходит присвоение опыта и адаптация к окружающему  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8772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ы своими ру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Игры и игрушки, сделанные своими руками,  способствуют решению стоящих перед педагогом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Игры, сделанные своими руками,  способствуют осуществлению индивидуального подхода, ведь создаются они для конкретных  детей, значит, будут учтены их желания, склонности,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именно фет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безопасный, прочный, теплый и приятный на ощупь материал, который очень удобен в использовании при изготовлении игруше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ы из фетра многофункциональны, позволяют решать сразу несколько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3526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ВАЕМ ПАМЯТЬ, ВНИМАНИЕ,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62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3213000" cy="481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1676520"/>
            <a:ext cx="190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«Что это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«Что изменилос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«Что ты видел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«Найди похожее(самое непохоже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«Найди по описа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«Найди ошиб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ВАЕМ ВНИМАНИЕ, ПАМЯТЬ,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181480" cy="390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48520" y="5029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а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КОМИМ С ОКРУЖАЮЩ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829440" y="3276360"/>
            <a:ext cx="152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200400" cy="237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4495680" cy="276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038480" y="4141800"/>
            <a:ext cx="4834080" cy="271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4495680"/>
            <a:ext cx="3048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ижки из фет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ВАЕМ МЕЛКУЮ МОТОР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858000" cy="251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590920" cy="221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69880" y="3429000"/>
            <a:ext cx="2424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ИВАЕМ ВООБ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3348000" cy="229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24280" y="3886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1T13:07:52Z</dcterms:created>
  <dc:creator>User</dc:creator>
  <dc:description/>
  <dc:language>en-US</dc:language>
  <cp:lastModifiedBy>User</cp:lastModifiedBy>
  <dcterms:modified xsi:type="dcterms:W3CDTF">2022-12-10T06:44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