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1F0F-B5FA-401B-9E2E-64B97880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4A45-D74B-4BF5-A876-65EE1230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23E-05BC-4FEA-96D6-3A231B27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D33F-DF6F-4B65-BBD2-AB03C0B8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F82-D818-4A61-9C9E-C6C58351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83B8-08DA-4487-A189-71AD3B7C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79AE-0AD2-4CB3-BBC1-B8521B21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9334-B818-4799-BEB7-B479F73B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8771-7856-4F41-8191-7CA1ED96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F3F-B762-4D55-8B26-E13ADC2F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18CE-4493-4755-BA76-EAB65C74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1B6C-8FC5-474E-8EFE-7C50404E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9D0B-D142-4959-B46C-CE2284621A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5257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ГРЫ ИЗ ФЕТРА В РАБОТЕ С ДЕТЬМИ С ОВ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62720" y="533520"/>
            <a:ext cx="3429000" cy="4686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9880" y="5334120"/>
            <a:ext cx="5334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ексеева Любовь Игор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КТИВИЗАЦИЯ РЕЧЕВ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486400"/>
            <a:ext cx="8229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ТВОРЧЕСКИХ ВАМ УСПЕХОВ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9436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ГРА РАБОТЕ С ДЕТЬМИ С ОВ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агодаря игре   ненавязчиво и   незаметно происходит присвоение опыта и адаптация к окружающему  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08772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гры своими ру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Игры и игрушки, сделанные своими руками,  способствуют решению стоящих перед педагогом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Игры, сделанные своими руками,  способствуют осуществлению индивидуального подхода, ведь создаются они для конкретных  детей, значит, будут учтены их желания, склонности, возм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чему именно фет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безопасный, прочный, теплый и приятный на ощупь материал, который очень удобен в использовании при изготовлении игрушек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ы из фетра многофункциональны, позволяют решать сразу несколько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86400" y="2895480"/>
            <a:ext cx="33526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ВИВАЕМ ПАМЯТЬ, ВНИМАНИЕ, МЫШ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4629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3213000" cy="481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81280" y="1676520"/>
            <a:ext cx="190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«Что это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«Что изменилось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«Что ты видел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«Найди похожее(самое непохоже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«Найди по описан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«Найди ошиб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ВИВАЕМ ВНИМАНИЕ, ПАМЯТЬ, МЫШ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5181480" cy="390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86400" y="1981080"/>
            <a:ext cx="3429000" cy="2514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248520" y="50292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кал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КОМИМ С ОКРУЖАЮЩ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829440" y="3276360"/>
            <a:ext cx="1522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3200400" cy="2374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4495680" cy="2768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038480" y="4141800"/>
            <a:ext cx="4834080" cy="2716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4495680"/>
            <a:ext cx="3048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н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нижки из фет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а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ВИВАЕМ МЕЛКУЮ МОТОРИ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6858000" cy="2516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352680" y="44197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2590920" cy="221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69880" y="3429000"/>
            <a:ext cx="2424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ВИВАЕМ ВООБРА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4120" y="1447920"/>
            <a:ext cx="3348000" cy="2293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724280" y="38862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01T13:07:52Z</dcterms:created>
  <dc:creator>User</dc:creator>
  <dc:description/>
  <dc:language>en-US</dc:language>
  <cp:lastModifiedBy>User</cp:lastModifiedBy>
  <dcterms:modified xsi:type="dcterms:W3CDTF">2022-12-10T06:44:4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