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59B-2547-465C-9C64-831F6A10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739-810D-44CB-9E8B-BD2613F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067-26E7-48FB-B38E-99FCB9C3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D3D-E44F-4D71-9870-B1A2E366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606-57F5-46EF-8BC8-100939C5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A94-7F31-4F34-9C7C-CA999B7C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5B7-3316-447D-9421-67F7D771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51C-8BA1-43E2-860B-8DC2CF9C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383-DFDC-411A-8EF8-2C146B7A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EDE-8148-4BF2-B114-05053C3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231-CAF6-4E4E-8A07-8E11B412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E8B-07FE-451C-A379-154BFCF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9565-44A1-45C0-94C4-9C90C2BD3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img1.jpg"/>
          <p:cNvPicPr/>
          <p:nvPr/>
        </p:nvPicPr>
        <p:blipFill>
          <a:blip r:embed="rId2"/>
          <a:stretch/>
        </p:blipFill>
        <p:spPr>
          <a:xfrm>
            <a:off x="6203880" y="0"/>
            <a:ext cx="2940120" cy="220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24000" y="2276640"/>
            <a:ext cx="85690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 презентация о празднике 23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Есть такая профессия-Родину защища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ршая группа «Светлячки»)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826920" y="26028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такая профессия – защищать Родину. «Военному делу учиться всегда пригодится», «Смелый боец — в ученье и в бою молодец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х, кто в данный момент защищает рубежи нашей Родины, лежит особая ответственность. Именно эти люди сейчас охраняют покой, мир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16810921-pozdravitelnaya-otkrytka-s-23-fevralya-muzhchine.jpg"/>
          <p:cNvPicPr/>
          <p:nvPr/>
        </p:nvPicPr>
        <p:blipFill>
          <a:blip r:embed="rId2"/>
          <a:stretch/>
        </p:blipFill>
        <p:spPr>
          <a:xfrm>
            <a:off x="2050920" y="2637000"/>
            <a:ext cx="53787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мальчики-будущие Защитники Род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ряки и пехотинцы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Объект 6" descr="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104" name="Объект 7" descr=""/>
          <p:cNvPicPr/>
          <p:nvPr/>
        </p:nvPicPr>
        <p:blipFill>
          <a:blip r:embed="rId2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ем в армии служить ..будем Родину храни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вочки тоже смелые и си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6" descr="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равые солдаты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7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Рисунок 3" descr="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img1.jpg"/>
          <p:cNvPicPr/>
          <p:nvPr/>
        </p:nvPicPr>
        <p:blipFill>
          <a:blip r:embed="rId2"/>
          <a:stretch/>
        </p:blipFill>
        <p:spPr>
          <a:xfrm>
            <a:off x="6203880" y="0"/>
            <a:ext cx="29401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324000" y="2276640"/>
            <a:ext cx="85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Есть такая профессия –Родину защища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755640" y="765000"/>
            <a:ext cx="7416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закрепление знаний у  детей старшего дошкольного возраста представления о празднике 23 февр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ы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Продолжать формировать представления детей о празднике 23 февр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Развивать сообразительность, смекалку, логическое мышление, память, внимание; стимулировать речевую актив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спитывать чувство гордости за свою арм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Fevral_55.png"/>
          <p:cNvPicPr/>
          <p:nvPr/>
        </p:nvPicPr>
        <p:blipFill>
          <a:blip r:embed="rId2"/>
          <a:stretch/>
        </p:blipFill>
        <p:spPr>
          <a:xfrm>
            <a:off x="7223040" y="4937040"/>
            <a:ext cx="19209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684360" y="765000"/>
            <a:ext cx="7991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февраля очен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здник для нашей страны 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нь Защитника Оте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ики Отечества — это воины, которые защищают свой народ, свою Родину от врагов. Это арм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народа, в каждой стране есть своя армия. В России тоже есть армия. И она не раз защищала свой народ от захватч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Fevral_55.png"/>
          <p:cNvPicPr/>
          <p:nvPr/>
        </p:nvPicPr>
        <p:blipFill>
          <a:blip r:embed="rId2"/>
          <a:stretch/>
        </p:blipFill>
        <p:spPr>
          <a:xfrm>
            <a:off x="6804000" y="4797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-7128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900000" y="18900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ооруженные Силы включают в себя три ВИДЫ ВОЙС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img3.jpg"/>
          <p:cNvPicPr/>
          <p:nvPr/>
        </p:nvPicPr>
        <p:blipFill>
          <a:blip r:embed="rId2"/>
          <a:stretch/>
        </p:blipFill>
        <p:spPr>
          <a:xfrm>
            <a:off x="539640" y="907920"/>
            <a:ext cx="7956720" cy="5670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Fevral_55.png"/>
          <p:cNvPicPr/>
          <p:nvPr/>
        </p:nvPicPr>
        <p:blipFill>
          <a:blip r:embed="rId3"/>
          <a:stretch/>
        </p:blipFill>
        <p:spPr>
          <a:xfrm>
            <a:off x="7870680" y="530064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755640" y="189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А ВОЙСК РОССИЙСКОЙ АРМ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443640" y="549360"/>
            <a:ext cx="270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анични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лдаты, которые охраняют границу. Они первыми встречают вражеские войска, когда переходят границу. В пограничном отряде есть проводник с собакой. Собака помогает пограничникам, идёт по сле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02.jpg"/>
          <p:cNvPicPr/>
          <p:nvPr/>
        </p:nvPicPr>
        <p:blipFill>
          <a:blip r:embed="rId2"/>
          <a:stretch/>
        </p:blipFill>
        <p:spPr>
          <a:xfrm>
            <a:off x="250920" y="1052640"/>
            <a:ext cx="6192720" cy="5181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Fevral_55.png"/>
          <p:cNvPicPr/>
          <p:nvPr/>
        </p:nvPicPr>
        <p:blipFill>
          <a:blip r:embed="rId3"/>
          <a:stretch/>
        </p:blipFill>
        <p:spPr>
          <a:xfrm>
            <a:off x="7596360" y="531036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5148360" y="476280"/>
            <a:ext cx="3995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 – воздушные силы (десант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 защищать в случае необходимости наше Отечество с воздуха. Лётчики – члены экипажа самолёта или вертолёта – должны не бояться высоты и уметь в критической ситуации брать ответственность на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5D1K4997-1-9x6.jpg"/>
          <p:cNvPicPr/>
          <p:nvPr/>
        </p:nvPicPr>
        <p:blipFill>
          <a:blip r:embed="rId2"/>
          <a:stretch/>
        </p:blipFill>
        <p:spPr>
          <a:xfrm>
            <a:off x="250920" y="549360"/>
            <a:ext cx="4827600" cy="3216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565504_(www.Gde-Fon.com).jpg"/>
          <p:cNvPicPr/>
          <p:nvPr/>
        </p:nvPicPr>
        <p:blipFill>
          <a:blip r:embed="rId3"/>
          <a:stretch/>
        </p:blipFill>
        <p:spPr>
          <a:xfrm>
            <a:off x="2916360" y="3803760"/>
            <a:ext cx="4282920" cy="30542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Fevral_55.png"/>
          <p:cNvPicPr/>
          <p:nvPr/>
        </p:nvPicPr>
        <p:blipFill>
          <a:blip r:embed="rId4"/>
          <a:stretch/>
        </p:blipFill>
        <p:spPr>
          <a:xfrm>
            <a:off x="7223040" y="4797360"/>
            <a:ext cx="19209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-7128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5940360" y="620640"/>
            <a:ext cx="3203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хопутных войска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ат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хотинцы, артиллеристы, ракетчики, танкист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нки – самоходные машины на гусеничном ходу, что позволяет им проходить по любой местности. Танки снабжены пушками и пулемётами.  Ещё в сухопутных войсках служат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язисты, минёр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130f8ca91b1356991f62bc4416cf2295.jpg"/>
          <p:cNvPicPr/>
          <p:nvPr/>
        </p:nvPicPr>
        <p:blipFill>
          <a:blip r:embed="rId2"/>
          <a:stretch/>
        </p:blipFill>
        <p:spPr>
          <a:xfrm>
            <a:off x="250920" y="260280"/>
            <a:ext cx="2743200" cy="1873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250920" y="2205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хоти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Artilleristy-proveli-boevye-strelby-v-Severnoy-i-YUzhnoy-Osetii.jpg"/>
          <p:cNvPicPr/>
          <p:nvPr/>
        </p:nvPicPr>
        <p:blipFill>
          <a:blip r:embed="rId3"/>
          <a:stretch/>
        </p:blipFill>
        <p:spPr>
          <a:xfrm>
            <a:off x="250920" y="2565360"/>
            <a:ext cx="2816280" cy="1584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611280" y="4292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ртиллер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9" descr="157327697.jpg"/>
          <p:cNvPicPr/>
          <p:nvPr/>
        </p:nvPicPr>
        <p:blipFill>
          <a:blip r:embed="rId4"/>
          <a:stretch/>
        </p:blipFill>
        <p:spPr>
          <a:xfrm>
            <a:off x="3348000" y="333360"/>
            <a:ext cx="1871640" cy="2087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334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кет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1" descr="Artilleristy-proveli-boevye-strelby-v-Severnoy-i-YUzhnoy-Osetii.jpg"/>
          <p:cNvPicPr/>
          <p:nvPr/>
        </p:nvPicPr>
        <p:blipFill>
          <a:blip r:embed="rId5"/>
          <a:stretch/>
        </p:blipFill>
        <p:spPr>
          <a:xfrm>
            <a:off x="3276720" y="2852640"/>
            <a:ext cx="2522520" cy="1419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2"/>
          <p:cNvSpPr/>
          <p:nvPr/>
        </p:nvSpPr>
        <p:spPr>
          <a:xfrm>
            <a:off x="3419640" y="443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нк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1019667556.jpg"/>
          <p:cNvPicPr/>
          <p:nvPr/>
        </p:nvPicPr>
        <p:blipFill>
          <a:blip r:embed="rId6"/>
          <a:stretch/>
        </p:blipFill>
        <p:spPr>
          <a:xfrm>
            <a:off x="250920" y="4724280"/>
            <a:ext cx="3168720" cy="1714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14"/>
          <p:cNvSpPr/>
          <p:nvPr/>
        </p:nvSpPr>
        <p:spPr>
          <a:xfrm>
            <a:off x="468360" y="65246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яз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5" descr="729_486_560d73a261f1b.jpg"/>
          <p:cNvPicPr/>
          <p:nvPr/>
        </p:nvPicPr>
        <p:blipFill>
          <a:blip r:embed="rId7"/>
          <a:stretch/>
        </p:blipFill>
        <p:spPr>
          <a:xfrm>
            <a:off x="3780000" y="4797360"/>
            <a:ext cx="1944360" cy="1656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6"/>
          <p:cNvSpPr/>
          <p:nvPr/>
        </p:nvSpPr>
        <p:spPr>
          <a:xfrm>
            <a:off x="3924360" y="6524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7" descr="Fevral_55.png"/>
          <p:cNvPicPr/>
          <p:nvPr/>
        </p:nvPicPr>
        <p:blipFill>
          <a:blip r:embed="rId8"/>
          <a:stretch/>
        </p:blipFill>
        <p:spPr>
          <a:xfrm>
            <a:off x="7380360" y="5084640"/>
            <a:ext cx="15606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900000" y="549360"/>
            <a:ext cx="77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иком Отечества, своей Родины может быть любой человек, который любит свою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ими качествами он должен облад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бр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чив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уметь принимать быстро важ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Fevral_55.png"/>
          <p:cNvPicPr/>
          <p:nvPr/>
        </p:nvPicPr>
        <p:blipFill>
          <a:blip r:embed="rId2"/>
          <a:stretch/>
        </p:blipFill>
        <p:spPr>
          <a:xfrm>
            <a:off x="7020000" y="4869000"/>
            <a:ext cx="1778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1403280" y="476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в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родолжи фраз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755640" y="148428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 – (за Родину гор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армия сильна – (непобедима и стр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 в учении – (легко в бо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мелость – (там и побед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– (Родине служи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герой - (кто за Родину гор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в поле - (не во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 в учении – (легко в бо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– (Родине служить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– мать, (умей за нее постоя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Fevral_55.png"/>
          <p:cNvPicPr/>
          <p:nvPr/>
        </p:nvPicPr>
        <p:blipFill>
          <a:blip r:embed="rId2"/>
          <a:stretch/>
        </p:blipFill>
        <p:spPr>
          <a:xfrm>
            <a:off x="7151760" y="4581360"/>
            <a:ext cx="199224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02:13:00Z</dcterms:created>
  <dc:creator>Виктор</dc:creator>
  <dc:description/>
  <dc:language>en-US</dc:language>
  <cp:lastModifiedBy>Ирина</cp:lastModifiedBy>
  <dcterms:modified xsi:type="dcterms:W3CDTF">2022-06-18T15:44:29Z</dcterms:modified>
  <cp:revision>20</cp:revision>
  <dc:subject/>
  <dc:title>Слайд 1</dc:title>
</cp:coreProperties>
</file>