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9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media/image4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33.png" ContentType="image/pn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2E3-C530-4202-853E-6C0794D5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026-8842-4DC7-AF05-6372A2CB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69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1FA-D99A-47BD-A96A-6B3D1EB7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4800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528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4800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528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5A5-C1E5-4C42-A651-8A05ECEE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DEA2-201B-4BBB-83F6-155F9677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519A-33F5-4F50-896F-C5E7B6BE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EE91-FEA2-4404-AF4F-5F520328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2DCC-F458-4B13-942E-BFAF0DFA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A8A5-6B8E-4EA5-AFEA-47FB2F71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2743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E738-5550-4E85-9E54-DA02D738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07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D18E-352E-42A2-BFC1-C9795959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0E8-52F0-4EF6-AAEF-C224E6C2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169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1BD7-DDF8-477F-9800-2F7A74A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072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B08F-0AA8-4C97-94DE-E75CCCB1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072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7539-BF85-4BEA-86AC-E509A1BC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07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169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D8D4-020F-47E1-8DB3-1BC6B545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4800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528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072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4800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528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CA7E-4AE1-429D-ADD9-D09F8B93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56C-E616-4693-BC82-FAB0A655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35E-31F0-4D8A-ABEB-5B9CDE37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BBB-A978-4DEA-9D00-DE60B89B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2743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5C9-70F9-443A-A251-C4822A59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CC0-0FA5-4833-AE3F-C03648A1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69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7E3-8868-43D2-82E2-B120C457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747-4D81-4E42-973A-2EE1743A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2A24-F7E6-43E3-8DC6-242EEF562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8AA0-C1A3-4103-AFE2-48CF68013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981080" y="7632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КУ «Центр помощи детям, оставшимся без попечения родителей , Зырянск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2514600" cy="37353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2400480" y="124452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мя Героя- улицы им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Героя Советского Союз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силия Ивановича Смирнова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6400800" y="396252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чков Данил, воспитан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цева Н.И. воспитат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2" descr="F:\ПЕЧАТЬ ЗА НОЯБРЬ\1dcc31edbf96117c6925ecaf151b4f2e_crop.jpg"/>
          <p:cNvPicPr/>
          <p:nvPr/>
        </p:nvPicPr>
        <p:blipFill>
          <a:blip r:embed="rId1"/>
          <a:stretch/>
        </p:blipFill>
        <p:spPr>
          <a:xfrm>
            <a:off x="3048120" y="76320"/>
            <a:ext cx="3306600" cy="42670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"/>
          <p:cNvSpPr/>
          <p:nvPr/>
        </p:nvSpPr>
        <p:spPr>
          <a:xfrm>
            <a:off x="2666880" y="44197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екречено в соответствии с приказом Министра обороны РФ от 8 мая 2007 года N181 «О рассекречивании архивных документов Красной Армии и Военно-Морского Флота за период Великой Отечественной войны 1941-1945 годов» (с изменениями на 30 мая 2009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1" descr=""/>
          <p:cNvPicPr/>
          <p:nvPr/>
        </p:nvPicPr>
        <p:blipFill>
          <a:blip r:embed="rId1"/>
          <a:stretch/>
        </p:blipFill>
        <p:spPr>
          <a:xfrm>
            <a:off x="4881600" y="3886200"/>
            <a:ext cx="4230720" cy="2770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2" descr=""/>
          <p:cNvPicPr/>
          <p:nvPr/>
        </p:nvPicPr>
        <p:blipFill>
          <a:blip r:embed="rId2"/>
          <a:stretch/>
        </p:blipFill>
        <p:spPr>
          <a:xfrm>
            <a:off x="2209680" y="2833560"/>
            <a:ext cx="3238560" cy="2438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3" descr=""/>
          <p:cNvPicPr/>
          <p:nvPr/>
        </p:nvPicPr>
        <p:blipFill>
          <a:blip r:embed="rId3"/>
          <a:stretch/>
        </p:blipFill>
        <p:spPr>
          <a:xfrm>
            <a:off x="2306520" y="609480"/>
            <a:ext cx="3141720" cy="20196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4" descr=""/>
          <p:cNvPicPr/>
          <p:nvPr/>
        </p:nvPicPr>
        <p:blipFill>
          <a:blip r:embed="rId4"/>
          <a:stretch/>
        </p:blipFill>
        <p:spPr>
          <a:xfrm>
            <a:off x="5791320" y="1219320"/>
            <a:ext cx="2900160" cy="2438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7"/>
          <p:cNvSpPr/>
          <p:nvPr/>
        </p:nvSpPr>
        <p:spPr>
          <a:xfrm>
            <a:off x="4353840" y="22860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ва за Дне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https://pamyat-naroda.ru/local/templates/pn/img/awards/new/Medal_zolotaya_Zvezda.png"/>
          <p:cNvPicPr/>
          <p:nvPr/>
        </p:nvPicPr>
        <p:blipFill>
          <a:blip r:embed="rId1"/>
          <a:stretch/>
        </p:blipFill>
        <p:spPr>
          <a:xfrm>
            <a:off x="5778360" y="642960"/>
            <a:ext cx="1954440" cy="19558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"/>
          <p:cNvPicPr/>
          <p:nvPr/>
        </p:nvPicPr>
        <p:blipFill>
          <a:blip r:embed="rId2"/>
          <a:srcRect l="0" t="0" r="0" b="144"/>
          <a:stretch/>
        </p:blipFill>
        <p:spPr>
          <a:xfrm>
            <a:off x="7410600" y="809640"/>
            <a:ext cx="1577880" cy="141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2760840" y="2862360"/>
            <a:ext cx="2730240" cy="3751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3286440" y="304920"/>
            <a:ext cx="530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Иванович Смирнов - Герой Советского Сою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4"/>
          <a:stretch/>
        </p:blipFill>
        <p:spPr>
          <a:xfrm>
            <a:off x="6400800" y="2666880"/>
            <a:ext cx="2664000" cy="37972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" descr=""/>
          <p:cNvPicPr/>
          <p:nvPr/>
        </p:nvPicPr>
        <p:blipFill>
          <a:blip r:embed="rId5"/>
          <a:stretch/>
        </p:blipFill>
        <p:spPr>
          <a:xfrm>
            <a:off x="3594240" y="755640"/>
            <a:ext cx="1252440" cy="16574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2692440" y="2365200"/>
            <a:ext cx="28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И. Калинин вручил награду В.И.Смирно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2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3276720" cy="44323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3429000" y="51814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Иванович Смирнов, участник финской войны, во время отпуска в с. Зыря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https://pamyat-naroda.ru/local/templates/pn/img/awards/new/Orden_Aleksandra_Nevskogo.png"/>
          <p:cNvPicPr/>
          <p:nvPr/>
        </p:nvPicPr>
        <p:blipFill>
          <a:blip r:embed="rId1"/>
          <a:stretch/>
        </p:blipFill>
        <p:spPr>
          <a:xfrm>
            <a:off x="5975280" y="0"/>
            <a:ext cx="3168720" cy="309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2200320" y="1447920"/>
            <a:ext cx="3651120" cy="50133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2369880" y="53352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Александра Н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3276720" cy="44690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"/>
          <p:cNvSpPr/>
          <p:nvPr/>
        </p:nvSpPr>
        <p:spPr>
          <a:xfrm>
            <a:off x="2014920" y="289080"/>
            <a:ext cx="40806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 отечественной войны 1 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4" descr="https://pamyat-naroda.ru/local/templates/pn/img/awards/new/Orden_Otechestvennoj_vojny_1st.png"/>
          <p:cNvPicPr/>
          <p:nvPr/>
        </p:nvPicPr>
        <p:blipFill>
          <a:blip r:embed="rId2"/>
          <a:stretch/>
        </p:blipFill>
        <p:spPr>
          <a:xfrm>
            <a:off x="6129360" y="9144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535200" cy="5029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4800240" y="60840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 Богдана Хмельницкого 3  степен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4" descr=""/>
          <p:cNvPicPr/>
          <p:nvPr/>
        </p:nvPicPr>
        <p:blipFill>
          <a:blip r:embed="rId2"/>
          <a:stretch/>
        </p:blipFill>
        <p:spPr>
          <a:xfrm>
            <a:off x="5943600" y="1065240"/>
            <a:ext cx="29098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2901960" cy="40384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3231720" y="49320"/>
            <a:ext cx="394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Кузьмич Никитин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вший командир 805-го гаубичного пол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полчанин Василия Ивановича Смир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3300120" cy="45133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" descr=""/>
          <p:cNvPicPr/>
          <p:nvPr/>
        </p:nvPicPr>
        <p:blipFill>
          <a:blip r:embed="rId2"/>
          <a:stretch/>
        </p:blipFill>
        <p:spPr>
          <a:xfrm>
            <a:off x="2119320" y="755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1905120" y="4419720"/>
            <a:ext cx="338112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ин Иванович Смирнов у  могилы брата- Героя Советского Союза Василия Ивановича Смирнова  в г. Золоче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5629320" y="4029120"/>
            <a:ext cx="3524040" cy="24955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"/>
          <p:cNvPicPr/>
          <p:nvPr/>
        </p:nvPicPr>
        <p:blipFill>
          <a:blip r:embed="rId2"/>
          <a:stretch/>
        </p:blipFill>
        <p:spPr>
          <a:xfrm>
            <a:off x="1981080" y="4029120"/>
            <a:ext cx="3532320" cy="24955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5"/>
          <p:cNvSpPr/>
          <p:nvPr/>
        </p:nvSpPr>
        <p:spPr>
          <a:xfrm>
            <a:off x="2452680" y="288756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ориальный комплек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олочевском п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" descr=""/>
          <p:cNvPicPr/>
          <p:nvPr/>
        </p:nvPicPr>
        <p:blipFill>
          <a:blip r:embed="rId3"/>
          <a:stretch/>
        </p:blipFill>
        <p:spPr>
          <a:xfrm>
            <a:off x="3475080" y="169920"/>
            <a:ext cx="4076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"/>
          <p:cNvSpPr/>
          <p:nvPr/>
        </p:nvSpPr>
        <p:spPr>
          <a:xfrm>
            <a:off x="3200400" y="304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мя Героя- улицы им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Героя Советского Союз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силия Ивановича Смирнова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5486400" y="1728720"/>
            <a:ext cx="28195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 исслед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Василия Ивановича Смир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мет исслед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я Василия Ивановича Смирно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я Советского Сою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анализа документальных и архивных источников, поисковых материалов изучить жизнь и подвиг Василия Ивановича Смир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F:\ПЕЧАТЬ ЗА НОЯБРЬ\1dcc31edbf96117c6925ecaf151b4f2e_crop.jpg"/>
          <p:cNvPicPr/>
          <p:nvPr/>
        </p:nvPicPr>
        <p:blipFill>
          <a:blip r:embed="rId1"/>
          <a:stretch/>
        </p:blipFill>
        <p:spPr>
          <a:xfrm>
            <a:off x="2438280" y="1773360"/>
            <a:ext cx="26672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3657600" cy="50529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"/>
          <p:cNvSpPr/>
          <p:nvPr/>
        </p:nvSpPr>
        <p:spPr>
          <a:xfrm>
            <a:off x="3200400" y="571500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ориальная до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. Золоче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1981080" y="679320"/>
            <a:ext cx="2059200" cy="27432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" descr=""/>
          <p:cNvPicPr/>
          <p:nvPr/>
        </p:nvPicPr>
        <p:blipFill>
          <a:blip r:embed="rId2"/>
          <a:srcRect l="0" t="0" r="-31" b="-34"/>
          <a:stretch/>
        </p:blipFill>
        <p:spPr>
          <a:xfrm>
            <a:off x="4419720" y="565200"/>
            <a:ext cx="4367160" cy="2971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" descr=""/>
          <p:cNvPicPr/>
          <p:nvPr/>
        </p:nvPicPr>
        <p:blipFill>
          <a:blip r:embed="rId3"/>
          <a:stretch/>
        </p:blipFill>
        <p:spPr>
          <a:xfrm>
            <a:off x="3581280" y="364824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"/>
          <p:cNvSpPr/>
          <p:nvPr/>
        </p:nvSpPr>
        <p:spPr>
          <a:xfrm>
            <a:off x="2819520" y="76320"/>
            <a:ext cx="53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ее  В.И.Смирнова школы № 11 г.Том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3581280" y="61657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ориальная доска на здании Мирового суда в г. Том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78168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Павлович Дедков-скульптор и одноклассник В.И.Смирно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5" descr=""/>
          <p:cNvPicPr/>
          <p:nvPr/>
        </p:nvPicPr>
        <p:blipFill>
          <a:blip r:embed="rId1"/>
          <a:stretch/>
        </p:blipFill>
        <p:spPr>
          <a:xfrm>
            <a:off x="5867280" y="1639800"/>
            <a:ext cx="2900520" cy="25066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"/>
          <p:cNvPicPr/>
          <p:nvPr/>
        </p:nvPicPr>
        <p:blipFill>
          <a:blip r:embed="rId2"/>
          <a:stretch/>
        </p:blipFill>
        <p:spPr>
          <a:xfrm>
            <a:off x="2347920" y="1639800"/>
            <a:ext cx="2697120" cy="39369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7"/>
          <p:cNvSpPr/>
          <p:nvPr/>
        </p:nvSpPr>
        <p:spPr>
          <a:xfrm>
            <a:off x="2677320" y="579924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Павлович Дед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019920" y="45720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ст В.И. Смир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"/>
          <p:cNvPicPr/>
          <p:nvPr/>
        </p:nvPicPr>
        <p:blipFill>
          <a:blip r:embed="rId1"/>
          <a:stretch/>
        </p:blipFill>
        <p:spPr>
          <a:xfrm>
            <a:off x="5870520" y="4448160"/>
            <a:ext cx="3252960" cy="20685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" descr=""/>
          <p:cNvPicPr/>
          <p:nvPr/>
        </p:nvPicPr>
        <p:blipFill>
          <a:blip r:embed="rId2"/>
          <a:stretch/>
        </p:blipFill>
        <p:spPr>
          <a:xfrm>
            <a:off x="2171880" y="914400"/>
            <a:ext cx="4800600" cy="3195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3" descr=""/>
          <p:cNvPicPr/>
          <p:nvPr/>
        </p:nvPicPr>
        <p:blipFill>
          <a:blip r:embed="rId3"/>
          <a:stretch/>
        </p:blipFill>
        <p:spPr>
          <a:xfrm>
            <a:off x="7238880" y="1176480"/>
            <a:ext cx="1552680" cy="20682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"/>
          <p:cNvPicPr/>
          <p:nvPr/>
        </p:nvPicPr>
        <p:blipFill>
          <a:blip r:embed="rId4"/>
          <a:stretch/>
        </p:blipFill>
        <p:spPr>
          <a:xfrm>
            <a:off x="3124080" y="4300560"/>
            <a:ext cx="1771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3581280" y="2362320"/>
            <a:ext cx="42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3659400" y="5256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В. И. Смирнова в с. Зырян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"/>
          <p:cNvPicPr/>
          <p:nvPr/>
        </p:nvPicPr>
        <p:blipFill>
          <a:blip r:embed="rId1"/>
          <a:stretch/>
        </p:blipFill>
        <p:spPr>
          <a:xfrm>
            <a:off x="1947960" y="2370240"/>
            <a:ext cx="2317680" cy="162396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flipV="1" rot="10800000">
            <a:off x="2039400" y="4059720"/>
            <a:ext cx="21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ета «Борец за темпы», 27.02.196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2"/>
          <a:stretch/>
        </p:blipFill>
        <p:spPr>
          <a:xfrm>
            <a:off x="1832040" y="4745160"/>
            <a:ext cx="1925640" cy="19414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"/>
          <p:cNvPicPr/>
          <p:nvPr/>
        </p:nvPicPr>
        <p:blipFill>
          <a:blip r:embed="rId3"/>
          <a:stretch/>
        </p:blipFill>
        <p:spPr>
          <a:xfrm>
            <a:off x="4010040" y="4645080"/>
            <a:ext cx="2482920" cy="1655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4"/>
          <a:stretch/>
        </p:blipFill>
        <p:spPr>
          <a:xfrm>
            <a:off x="6492960" y="5030640"/>
            <a:ext cx="2482920" cy="165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"/>
          <p:cNvPicPr/>
          <p:nvPr/>
        </p:nvPicPr>
        <p:blipFill>
          <a:blip r:embed="rId5"/>
          <a:stretch/>
        </p:blipFill>
        <p:spPr>
          <a:xfrm>
            <a:off x="4484520" y="2676600"/>
            <a:ext cx="1194120" cy="1790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"/>
          <p:cNvPicPr/>
          <p:nvPr/>
        </p:nvPicPr>
        <p:blipFill>
          <a:blip r:embed="rId6"/>
          <a:stretch/>
        </p:blipFill>
        <p:spPr>
          <a:xfrm>
            <a:off x="6919920" y="3641760"/>
            <a:ext cx="1946160" cy="12985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"/>
          <p:cNvPicPr/>
          <p:nvPr/>
        </p:nvPicPr>
        <p:blipFill>
          <a:blip r:embed="rId7"/>
          <a:stretch/>
        </p:blipFill>
        <p:spPr>
          <a:xfrm>
            <a:off x="7524720" y="422280"/>
            <a:ext cx="1451160" cy="2174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"/>
          <p:cNvPicPr/>
          <p:nvPr/>
        </p:nvPicPr>
        <p:blipFill>
          <a:blip r:embed="rId8"/>
          <a:stretch/>
        </p:blipFill>
        <p:spPr>
          <a:xfrm>
            <a:off x="5853240" y="2340000"/>
            <a:ext cx="1195200" cy="1790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"/>
          <p:cNvPicPr/>
          <p:nvPr/>
        </p:nvPicPr>
        <p:blipFill>
          <a:blip r:embed="rId9"/>
          <a:stretch/>
        </p:blipFill>
        <p:spPr>
          <a:xfrm>
            <a:off x="3322800" y="493560"/>
            <a:ext cx="407664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1" descr=""/>
          <p:cNvPicPr/>
          <p:nvPr/>
        </p:nvPicPr>
        <p:blipFill>
          <a:blip r:embed="rId1"/>
          <a:stretch/>
        </p:blipFill>
        <p:spPr>
          <a:xfrm>
            <a:off x="2084400" y="884160"/>
            <a:ext cx="3160800" cy="21463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273400" y="3040200"/>
            <a:ext cx="278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в селе Окунеево, где родил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Иванович Смир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4125600" y="228600"/>
            <a:ext cx="26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о В.И. Смирн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о Окуне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"/>
          <p:cNvPicPr/>
          <p:nvPr/>
        </p:nvPicPr>
        <p:blipFill>
          <a:blip r:embed="rId2"/>
          <a:stretch/>
        </p:blipFill>
        <p:spPr>
          <a:xfrm>
            <a:off x="5791320" y="874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"/>
          <p:cNvPicPr/>
          <p:nvPr/>
        </p:nvPicPr>
        <p:blipFill>
          <a:blip r:embed="rId3"/>
          <a:stretch/>
        </p:blipFill>
        <p:spPr>
          <a:xfrm>
            <a:off x="3743280" y="3807000"/>
            <a:ext cx="3081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8" descr=""/>
          <p:cNvPicPr/>
          <p:nvPr/>
        </p:nvPicPr>
        <p:blipFill>
          <a:blip r:embed="rId1"/>
          <a:stretch/>
        </p:blipFill>
        <p:spPr>
          <a:xfrm>
            <a:off x="2087640" y="798480"/>
            <a:ext cx="3006720" cy="2287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3860640" y="18900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ёлок Пруши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2"/>
          <a:stretch/>
        </p:blipFill>
        <p:spPr>
          <a:xfrm>
            <a:off x="5272200" y="752400"/>
            <a:ext cx="3590640" cy="2319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"/>
          <p:cNvPicPr/>
          <p:nvPr/>
        </p:nvPicPr>
        <p:blipFill>
          <a:blip r:embed="rId3"/>
          <a:stretch/>
        </p:blipFill>
        <p:spPr>
          <a:xfrm>
            <a:off x="3327480" y="3227400"/>
            <a:ext cx="3533760" cy="25891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067560" y="5958000"/>
            <a:ext cx="39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вные фото жителей с. Прушин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0" y="609480"/>
            <a:ext cx="65530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о Берл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192720" y="1523880"/>
            <a:ext cx="2286000" cy="2316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6178320" y="4114800"/>
            <a:ext cx="25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мемориальная до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ела раньше на Берлинской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2952720" cy="36324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3055320" y="5334120"/>
            <a:ext cx="21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линская семилет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76320" y="38160"/>
            <a:ext cx="8991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ское артиллерийское уч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2819520" y="4408560"/>
            <a:ext cx="136836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"/>
          <p:cNvPicPr/>
          <p:nvPr/>
        </p:nvPicPr>
        <p:blipFill>
          <a:blip r:embed="rId2"/>
          <a:stretch/>
        </p:blipFill>
        <p:spPr>
          <a:xfrm>
            <a:off x="2112840" y="1554120"/>
            <a:ext cx="3183120" cy="2540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3"/>
          <a:stretch/>
        </p:blipFill>
        <p:spPr>
          <a:xfrm>
            <a:off x="5486400" y="1554120"/>
            <a:ext cx="36147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2133720" y="633240"/>
            <a:ext cx="3897360" cy="5196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"/>
          <p:cNvPicPr/>
          <p:nvPr/>
        </p:nvPicPr>
        <p:blipFill>
          <a:blip r:embed="rId2"/>
          <a:stretch/>
        </p:blipFill>
        <p:spPr>
          <a:xfrm>
            <a:off x="6197760" y="1066680"/>
            <a:ext cx="2832120" cy="2590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4660560" y="22860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 с белофин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6410160" y="38782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ь «За отвагу» В. И. Смирно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sional</dc:creator>
  <dc:description/>
  <dc:language>en-US</dc:language>
  <cp:lastModifiedBy>Семья</cp:lastModifiedBy>
  <dcterms:modified xsi:type="dcterms:W3CDTF">2021-05-07T12:01:24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f0000000000010292010207f7000400038000</vt:lpwstr>
  </property>
  <property fmtid="{D5CDD505-2E9C-101B-9397-08002B2CF9AE}" pid="3" name="Version">
    <vt:r8>1</vt:r8>
  </property>
</Properties>
</file>