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6FB-0920-48AE-A79C-70D73ECA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94F5-A165-4874-8E82-8F85A192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6A32-BAA8-4DC9-8126-DAE18FA0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1854-1451-4B2F-AFDF-8748DAC6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D3F-BFB4-4711-986A-3B14D296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04DF-A439-447F-8A33-A0496008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8FD-CB95-4C84-AAA8-D449F446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153A-6405-4691-91FF-6C0D7149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ED17-538A-4E47-93D8-E65F96AE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108-35F3-416A-B847-5BC4678D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13FF-BDEB-437D-B961-765C473D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04D-482E-4385-8B47-9D4A6981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E1CCE-AE99-42E7-AB65-7115A84FDC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3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3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5.png"/><Relationship Id="rId14" Type="http://schemas.openxmlformats.org/officeDocument/2006/relationships/image" Target="../media/image35.png"/><Relationship Id="rId15" Type="http://schemas.openxmlformats.org/officeDocument/2006/relationships/image" Target="../media/image35.png"/><Relationship Id="rId16" Type="http://schemas.openxmlformats.org/officeDocument/2006/relationships/image" Target="../media/image35.png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4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1.pn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46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7.png"/><Relationship Id="rId13" Type="http://schemas.openxmlformats.org/officeDocument/2006/relationships/image" Target="../media/image47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1.png"/><Relationship Id="rId7" Type="http://schemas.openxmlformats.org/officeDocument/2006/relationships/image" Target="../media/image1.png"/><Relationship Id="rId8" Type="http://schemas.openxmlformats.org/officeDocument/2006/relationships/image" Target="../media/image1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2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18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1.png"/><Relationship Id="rId9" Type="http://schemas.openxmlformats.org/officeDocument/2006/relationships/image" Target="../media/image23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4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75b6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1760" y="1386000"/>
            <a:ext cx="88534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ff0000"/>
                </a:solidFill>
                <a:latin typeface="Adventure"/>
              </a:rPr>
              <a:t>Зимние ритмы.</a:t>
            </a:r>
            <a:endParaRPr b="0" lang="en-US" sz="8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55520" y="3055680"/>
            <a:ext cx="8174160" cy="26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имние ритмические загадки для дошкольников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s://img-fotki.yandex.ru/get/6411/34907849.167/0_9da93_b249646e_L.jpg"/>
          <p:cNvPicPr/>
          <p:nvPr/>
        </p:nvPicPr>
        <p:blipFill>
          <a:blip r:embed="rId1"/>
          <a:stretch/>
        </p:blipFill>
        <p:spPr>
          <a:xfrm>
            <a:off x="301680" y="2868480"/>
            <a:ext cx="1245960" cy="1497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s://img-fotki.yandex.ru/get/6411/34907849.167/0_9da93_b249646e_L.jpg"/>
          <p:cNvPicPr/>
          <p:nvPr/>
        </p:nvPicPr>
        <p:blipFill>
          <a:blip r:embed="rId2"/>
          <a:stretch/>
        </p:blipFill>
        <p:spPr>
          <a:xfrm>
            <a:off x="8569440" y="2925720"/>
            <a:ext cx="1245960" cy="149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s://img-fotki.yandex.ru/get/5818/136487634.0/0_6d4f3_a026da61_S"/>
          <p:cNvPicPr/>
          <p:nvPr/>
        </p:nvPicPr>
        <p:blipFill>
          <a:blip r:embed="rId3"/>
          <a:stretch/>
        </p:blipFill>
        <p:spPr>
          <a:xfrm>
            <a:off x="7551720" y="3983040"/>
            <a:ext cx="1548000" cy="154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s://img-fotki.yandex.ru/get/5818/136487634.0/0_6d4f3_a026da61_S"/>
          <p:cNvPicPr/>
          <p:nvPr/>
        </p:nvPicPr>
        <p:blipFill>
          <a:blip r:embed="rId4"/>
          <a:stretch/>
        </p:blipFill>
        <p:spPr>
          <a:xfrm>
            <a:off x="1055520" y="413064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" descr="C:\Documents and Settings\Admin\Рабочий стол\oooo.png"/>
          <p:cNvPicPr/>
          <p:nvPr/>
        </p:nvPicPr>
        <p:blipFill>
          <a:blip r:embed="rId5"/>
          <a:stretch/>
        </p:blipFill>
        <p:spPr>
          <a:xfrm>
            <a:off x="3857760" y="4570560"/>
            <a:ext cx="2360520" cy="1930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pic4you.ru/allimage/y2011/10-03/12216/1247646.png"/>
          <p:cNvPicPr/>
          <p:nvPr/>
        </p:nvPicPr>
        <p:blipFill>
          <a:blip r:embed="rId6"/>
          <a:stretch/>
        </p:blipFill>
        <p:spPr>
          <a:xfrm>
            <a:off x="2862360" y="4570560"/>
            <a:ext cx="917640" cy="1801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pic4you.ru/allimage/y2011/10-03/12216/1247646.png"/>
          <p:cNvPicPr/>
          <p:nvPr/>
        </p:nvPicPr>
        <p:blipFill>
          <a:blip r:embed="rId7"/>
          <a:stretch/>
        </p:blipFill>
        <p:spPr>
          <a:xfrm>
            <a:off x="6297480" y="4554360"/>
            <a:ext cx="849600" cy="180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lenagold.narod.ru/fon/clipart/n/nogo/novgod278.png"/>
          <p:cNvPicPr/>
          <p:nvPr/>
        </p:nvPicPr>
        <p:blipFill>
          <a:blip r:embed="rId8"/>
          <a:stretch/>
        </p:blipFill>
        <p:spPr>
          <a:xfrm>
            <a:off x="392040" y="5646600"/>
            <a:ext cx="1309680" cy="889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lenagold.narod.ru/fon/clipart/n/nogo/novgod278.png"/>
          <p:cNvPicPr/>
          <p:nvPr/>
        </p:nvPicPr>
        <p:blipFill>
          <a:blip r:embed="rId9"/>
          <a:stretch/>
        </p:blipFill>
        <p:spPr>
          <a:xfrm>
            <a:off x="8308800" y="5611680"/>
            <a:ext cx="1308240" cy="88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lenagold.narod.ru/fon/clipart/n/nogo/novgod278.png"/>
          <p:cNvPicPr/>
          <p:nvPr/>
        </p:nvPicPr>
        <p:blipFill>
          <a:blip r:embed="rId10"/>
          <a:stretch/>
        </p:blipFill>
        <p:spPr>
          <a:xfrm>
            <a:off x="4264200" y="236520"/>
            <a:ext cx="1309680" cy="88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lenagold.narod.ru/fon/clipart/d/dedm/dedmoroz99.png"/>
          <p:cNvPicPr/>
          <p:nvPr/>
        </p:nvPicPr>
        <p:blipFill>
          <a:blip r:embed="rId11"/>
          <a:stretch/>
        </p:blipFill>
        <p:spPr>
          <a:xfrm>
            <a:off x="8308800" y="318960"/>
            <a:ext cx="1231920" cy="1125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lenagold.narod.ru/fon/clipart/d/dedm/dedmoroz99.png"/>
          <p:cNvPicPr/>
          <p:nvPr/>
        </p:nvPicPr>
        <p:blipFill>
          <a:blip r:embed="rId12"/>
          <a:stretch/>
        </p:blipFill>
        <p:spPr>
          <a:xfrm>
            <a:off x="681120" y="447840"/>
            <a:ext cx="1328760" cy="11268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3" descr="5b3c487f157f.png"/>
          <p:cNvPicPr/>
          <p:nvPr/>
        </p:nvPicPr>
        <p:blipFill>
          <a:blip r:embed="rId13"/>
          <a:stretch/>
        </p:blipFill>
        <p:spPr>
          <a:xfrm>
            <a:off x="6477120" y="-549360"/>
            <a:ext cx="1074600" cy="17352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3" descr="5b3c487f157f.png"/>
          <p:cNvPicPr/>
          <p:nvPr/>
        </p:nvPicPr>
        <p:blipFill>
          <a:blip r:embed="rId14"/>
          <a:stretch/>
        </p:blipFill>
        <p:spPr>
          <a:xfrm>
            <a:off x="2581200" y="-608040"/>
            <a:ext cx="1074960" cy="17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095120" y="5236920"/>
            <a:ext cx="799596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И, пароВОЗ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Оны  поВЁ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1" descr="C:\Documents and Settings\Admin\Рабочий стол\oooo.png"/>
          <p:cNvPicPr/>
          <p:nvPr/>
        </p:nvPicPr>
        <p:blipFill>
          <a:blip r:embed="rId1"/>
          <a:stretch/>
        </p:blipFill>
        <p:spPr>
          <a:xfrm>
            <a:off x="4686480" y="1076400"/>
            <a:ext cx="1685880" cy="1377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" descr="C:\Documents and Settings\Admin\Рабочий стол\oooo.png"/>
          <p:cNvPicPr/>
          <p:nvPr/>
        </p:nvPicPr>
        <p:blipFill>
          <a:blip r:embed="rId2"/>
          <a:stretch/>
        </p:blipFill>
        <p:spPr>
          <a:xfrm>
            <a:off x="5661000" y="1300320"/>
            <a:ext cx="1685880" cy="1374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" descr="C:\Documents and Settings\Admin\Рабочий стол\oooo.png"/>
          <p:cNvPicPr/>
          <p:nvPr/>
        </p:nvPicPr>
        <p:blipFill>
          <a:blip r:embed="rId3"/>
          <a:stretch/>
        </p:blipFill>
        <p:spPr>
          <a:xfrm>
            <a:off x="104760" y="630360"/>
            <a:ext cx="2362320" cy="1930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" descr="C:\Documents and Settings\Admin\Рабочий стол\oooo.png"/>
          <p:cNvPicPr/>
          <p:nvPr/>
        </p:nvPicPr>
        <p:blipFill>
          <a:blip r:embed="rId4"/>
          <a:stretch/>
        </p:blipFill>
        <p:spPr>
          <a:xfrm>
            <a:off x="2246400" y="669960"/>
            <a:ext cx="2440080" cy="1995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" descr="C:\Documents and Settings\Admin\Рабочий стол\oooo.png"/>
          <p:cNvPicPr/>
          <p:nvPr/>
        </p:nvPicPr>
        <p:blipFill>
          <a:blip r:embed="rId5"/>
          <a:stretch/>
        </p:blipFill>
        <p:spPr>
          <a:xfrm>
            <a:off x="6924600" y="682560"/>
            <a:ext cx="2440080" cy="1992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" descr="C:\Documents and Settings\Admin\Рабочий стол\oooo.png"/>
          <p:cNvPicPr/>
          <p:nvPr/>
        </p:nvPicPr>
        <p:blipFill>
          <a:blip r:embed="rId6"/>
          <a:stretch/>
        </p:blipFill>
        <p:spPr>
          <a:xfrm>
            <a:off x="4686480" y="3002040"/>
            <a:ext cx="1685880" cy="1377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" descr="C:\Documents and Settings\Admin\Рабочий стол\oooo.png"/>
          <p:cNvPicPr/>
          <p:nvPr/>
        </p:nvPicPr>
        <p:blipFill>
          <a:blip r:embed="rId7"/>
          <a:stretch/>
        </p:blipFill>
        <p:spPr>
          <a:xfrm>
            <a:off x="5661000" y="3227400"/>
            <a:ext cx="1685880" cy="1378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" descr="C:\Documents and Settings\Admin\Рабочий стол\oooo.png"/>
          <p:cNvPicPr/>
          <p:nvPr/>
        </p:nvPicPr>
        <p:blipFill>
          <a:blip r:embed="rId8"/>
          <a:stretch/>
        </p:blipFill>
        <p:spPr>
          <a:xfrm>
            <a:off x="109440" y="2676600"/>
            <a:ext cx="2362320" cy="1928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" descr="C:\Documents and Settings\Admin\Рабочий стол\oooo.png"/>
          <p:cNvPicPr/>
          <p:nvPr/>
        </p:nvPicPr>
        <p:blipFill>
          <a:blip r:embed="rId9"/>
          <a:stretch/>
        </p:blipFill>
        <p:spPr>
          <a:xfrm>
            <a:off x="2297160" y="2665440"/>
            <a:ext cx="2441520" cy="1994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C:\Documents and Settings\Admin\Рабочий стол\oooo.png"/>
          <p:cNvPicPr/>
          <p:nvPr/>
        </p:nvPicPr>
        <p:blipFill>
          <a:blip r:embed="rId10"/>
          <a:stretch/>
        </p:blipFill>
        <p:spPr>
          <a:xfrm>
            <a:off x="7070760" y="2693880"/>
            <a:ext cx="2440080" cy="1994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82520" y="5451480"/>
            <a:ext cx="799632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, СНЕГ кружитСЯ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вся улиЦ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1"/>
          <a:stretch/>
        </p:blipFill>
        <p:spPr>
          <a:xfrm>
            <a:off x="92160" y="330120"/>
            <a:ext cx="2379600" cy="2281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2"/>
          <a:stretch/>
        </p:blipFill>
        <p:spPr>
          <a:xfrm>
            <a:off x="2328840" y="363600"/>
            <a:ext cx="2378160" cy="2279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3"/>
          <a:stretch/>
        </p:blipFill>
        <p:spPr>
          <a:xfrm>
            <a:off x="7130880" y="480960"/>
            <a:ext cx="2379960" cy="2281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4"/>
          <a:stretch/>
        </p:blipFill>
        <p:spPr>
          <a:xfrm>
            <a:off x="7526160" y="2643120"/>
            <a:ext cx="2379960" cy="2281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5"/>
          <a:stretch/>
        </p:blipFill>
        <p:spPr>
          <a:xfrm>
            <a:off x="4738680" y="1128600"/>
            <a:ext cx="1222560" cy="1173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6"/>
          <a:stretch/>
        </p:blipFill>
        <p:spPr>
          <a:xfrm>
            <a:off x="5961240" y="1146240"/>
            <a:ext cx="1222200" cy="1173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7"/>
          <a:stretch/>
        </p:blipFill>
        <p:spPr>
          <a:xfrm>
            <a:off x="6107040" y="3154320"/>
            <a:ext cx="1222560" cy="1171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8"/>
          <a:stretch/>
        </p:blipFill>
        <p:spPr>
          <a:xfrm>
            <a:off x="3638520" y="3222720"/>
            <a:ext cx="1224000" cy="1173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9"/>
          <a:stretch/>
        </p:blipFill>
        <p:spPr>
          <a:xfrm>
            <a:off x="2668680" y="3722760"/>
            <a:ext cx="1222200" cy="1171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10"/>
          <a:stretch/>
        </p:blipFill>
        <p:spPr>
          <a:xfrm>
            <a:off x="1209600" y="3355920"/>
            <a:ext cx="1222560" cy="1173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11"/>
          <a:stretch/>
        </p:blipFill>
        <p:spPr>
          <a:xfrm>
            <a:off x="160200" y="3722760"/>
            <a:ext cx="1224000" cy="1171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12"/>
          <a:stretch/>
        </p:blipFill>
        <p:spPr>
          <a:xfrm>
            <a:off x="5068800" y="3722760"/>
            <a:ext cx="1222560" cy="1171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598320" y="4854240"/>
            <a:ext cx="8544240" cy="20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 моРОЗ, дед моРОЗ,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кам ёлочку приНЁС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1"/>
          <a:stretch/>
        </p:blipFill>
        <p:spPr>
          <a:xfrm>
            <a:off x="-71280" y="844560"/>
            <a:ext cx="1649160" cy="1649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2"/>
          <a:stretch/>
        </p:blipFill>
        <p:spPr>
          <a:xfrm>
            <a:off x="1336680" y="83016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3"/>
          <a:stretch/>
        </p:blipFill>
        <p:spPr>
          <a:xfrm>
            <a:off x="1373040" y="3059280"/>
            <a:ext cx="1649520" cy="1649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4"/>
          <a:stretch/>
        </p:blipFill>
        <p:spPr>
          <a:xfrm>
            <a:off x="119160" y="3094200"/>
            <a:ext cx="1649160" cy="1649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5"/>
          <a:stretch/>
        </p:blipFill>
        <p:spPr>
          <a:xfrm>
            <a:off x="5964120" y="74448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6"/>
          <a:stretch/>
        </p:blipFill>
        <p:spPr>
          <a:xfrm>
            <a:off x="4735440" y="79200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7"/>
          <a:stretch/>
        </p:blipFill>
        <p:spPr>
          <a:xfrm>
            <a:off x="6494400" y="286056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8"/>
          <a:stretch/>
        </p:blipFill>
        <p:spPr>
          <a:xfrm>
            <a:off x="5295960" y="294480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9"/>
          <a:stretch/>
        </p:blipFill>
        <p:spPr>
          <a:xfrm>
            <a:off x="2838600" y="85680"/>
            <a:ext cx="2357280" cy="2355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10"/>
          <a:stretch/>
        </p:blipFill>
        <p:spPr>
          <a:xfrm>
            <a:off x="7637400" y="33480"/>
            <a:ext cx="2357640" cy="2355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11"/>
          <a:stretch/>
        </p:blipFill>
        <p:spPr>
          <a:xfrm>
            <a:off x="7802640" y="2384280"/>
            <a:ext cx="2357280" cy="2355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12"/>
          <a:stretch/>
        </p:blipFill>
        <p:spPr>
          <a:xfrm>
            <a:off x="2692440" y="301932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13"/>
          <a:stretch/>
        </p:blipFill>
        <p:spPr>
          <a:xfrm>
            <a:off x="3984480" y="2981160"/>
            <a:ext cx="1649520" cy="1649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98320" y="4854240"/>
            <a:ext cx="8544240" cy="20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е МАЛ, не веЛИК,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оВИК озорНИК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https://i.pinimg.com/736x/3e/a3/e4/3ea3e40634cae77de3b23207249eb8ad--winter-clipart-cel.jpg"/>
          <p:cNvPicPr/>
          <p:nvPr/>
        </p:nvPicPr>
        <p:blipFill>
          <a:blip r:embed="rId1"/>
          <a:stretch/>
        </p:blipFill>
        <p:spPr>
          <a:xfrm>
            <a:off x="2955960" y="414360"/>
            <a:ext cx="2079720" cy="2077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https://i.pinimg.com/736x/3e/a3/e4/3ea3e40634cae77de3b23207249eb8ad--winter-clipart-cel.jpg"/>
          <p:cNvPicPr/>
          <p:nvPr/>
        </p:nvPicPr>
        <p:blipFill>
          <a:blip r:embed="rId2"/>
          <a:stretch/>
        </p:blipFill>
        <p:spPr>
          <a:xfrm>
            <a:off x="3116160" y="2697120"/>
            <a:ext cx="2079720" cy="2079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https://i.pinimg.com/736x/3e/a3/e4/3ea3e40634cae77de3b23207249eb8ad--winter-clipart-cel.jpg"/>
          <p:cNvPicPr/>
          <p:nvPr/>
        </p:nvPicPr>
        <p:blipFill>
          <a:blip r:embed="rId3"/>
          <a:stretch/>
        </p:blipFill>
        <p:spPr>
          <a:xfrm>
            <a:off x="7616880" y="2527200"/>
            <a:ext cx="2077920" cy="2079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s://i.pinimg.com/736x/3e/a3/e4/3ea3e40634cae77de3b23207249eb8ad--winter-clipart-cel.jpg"/>
          <p:cNvPicPr/>
          <p:nvPr/>
        </p:nvPicPr>
        <p:blipFill>
          <a:blip r:embed="rId4"/>
          <a:stretch/>
        </p:blipFill>
        <p:spPr>
          <a:xfrm>
            <a:off x="7734240" y="297000"/>
            <a:ext cx="2077920" cy="2079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https://i.pinimg.com/736x/3e/a3/e4/3ea3e40634cae77de3b23207249eb8ad--winter-clipart-cel.jpg"/>
          <p:cNvPicPr/>
          <p:nvPr/>
        </p:nvPicPr>
        <p:blipFill>
          <a:blip r:embed="rId5"/>
          <a:stretch/>
        </p:blipFill>
        <p:spPr>
          <a:xfrm>
            <a:off x="339840" y="1100160"/>
            <a:ext cx="1274760" cy="1276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https://i.pinimg.com/736x/3e/a3/e4/3ea3e40634cae77de3b23207249eb8ad--winter-clipart-cel.jpg"/>
          <p:cNvPicPr/>
          <p:nvPr/>
        </p:nvPicPr>
        <p:blipFill>
          <a:blip r:embed="rId6"/>
          <a:stretch/>
        </p:blipFill>
        <p:spPr>
          <a:xfrm>
            <a:off x="1636560" y="1100160"/>
            <a:ext cx="1274760" cy="1276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https://i.pinimg.com/736x/3e/a3/e4/3ea3e40634cae77de3b23207249eb8ad--winter-clipart-cel.jpg"/>
          <p:cNvPicPr/>
          <p:nvPr/>
        </p:nvPicPr>
        <p:blipFill>
          <a:blip r:embed="rId7"/>
          <a:stretch/>
        </p:blipFill>
        <p:spPr>
          <a:xfrm>
            <a:off x="1763640" y="3209760"/>
            <a:ext cx="1276560" cy="1276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ttps://i.pinimg.com/736x/3e/a3/e4/3ea3e40634cae77de3b23207249eb8ad--winter-clipart-cel.jpg"/>
          <p:cNvPicPr/>
          <p:nvPr/>
        </p:nvPicPr>
        <p:blipFill>
          <a:blip r:embed="rId8"/>
          <a:stretch/>
        </p:blipFill>
        <p:spPr>
          <a:xfrm>
            <a:off x="193680" y="3209760"/>
            <a:ext cx="1274760" cy="1276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https://i.pinimg.com/736x/3e/a3/e4/3ea3e40634cae77de3b23207249eb8ad--winter-clipart-cel.jpg"/>
          <p:cNvPicPr/>
          <p:nvPr/>
        </p:nvPicPr>
        <p:blipFill>
          <a:blip r:embed="rId9"/>
          <a:stretch/>
        </p:blipFill>
        <p:spPr>
          <a:xfrm>
            <a:off x="6413400" y="1066680"/>
            <a:ext cx="1276560" cy="1276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s://i.pinimg.com/736x/3e/a3/e4/3ea3e40634cae77de3b23207249eb8ad--winter-clipart-cel.jpg"/>
          <p:cNvPicPr/>
          <p:nvPr/>
        </p:nvPicPr>
        <p:blipFill>
          <a:blip r:embed="rId10"/>
          <a:stretch/>
        </p:blipFill>
        <p:spPr>
          <a:xfrm>
            <a:off x="5079960" y="1066680"/>
            <a:ext cx="1274760" cy="1276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https://i.pinimg.com/736x/3e/a3/e4/3ea3e40634cae77de3b23207249eb8ad--winter-clipart-cel.jpg"/>
          <p:cNvPicPr/>
          <p:nvPr/>
        </p:nvPicPr>
        <p:blipFill>
          <a:blip r:embed="rId11"/>
          <a:stretch/>
        </p:blipFill>
        <p:spPr>
          <a:xfrm>
            <a:off x="5329080" y="3282840"/>
            <a:ext cx="1276560" cy="1276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https://i.pinimg.com/736x/3e/a3/e4/3ea3e40634cae77de3b23207249eb8ad--winter-clipart-cel.jpg"/>
          <p:cNvPicPr/>
          <p:nvPr/>
        </p:nvPicPr>
        <p:blipFill>
          <a:blip r:embed="rId12"/>
          <a:stretch/>
        </p:blipFill>
        <p:spPr>
          <a:xfrm>
            <a:off x="6568920" y="3292560"/>
            <a:ext cx="1276560" cy="1276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39960" y="5087880"/>
            <a:ext cx="808488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ики     РАзны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ЁЛтые   КРАсные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https://www.fonstola.ru/download.php?file=202006/2560x1600/fonstola.ru-391406.jpg"/>
          <p:cNvPicPr/>
          <p:nvPr/>
        </p:nvPicPr>
        <p:blipFill>
          <a:blip r:embed="rId1"/>
          <a:stretch/>
        </p:blipFill>
        <p:spPr>
          <a:xfrm>
            <a:off x="2282760" y="735120"/>
            <a:ext cx="1244520" cy="1579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https://images.ua.prom.st/325678796_w640_h640_novogodnie-tovary-yolki.jpg"/>
          <p:cNvPicPr/>
          <p:nvPr/>
        </p:nvPicPr>
        <p:blipFill>
          <a:blip r:embed="rId2"/>
          <a:srcRect l="0" t="0" r="0" b="-4212"/>
          <a:stretch/>
        </p:blipFill>
        <p:spPr>
          <a:xfrm>
            <a:off x="-58680" y="-96840"/>
            <a:ext cx="2536920" cy="2773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https://images.ua.prom.st/325678796_w640_h640_novogodnie-tovary-yolki.jpg"/>
          <p:cNvPicPr/>
          <p:nvPr/>
        </p:nvPicPr>
        <p:blipFill>
          <a:blip r:embed="rId3"/>
          <a:srcRect l="0" t="0" r="0" b="-4212"/>
          <a:stretch/>
        </p:blipFill>
        <p:spPr>
          <a:xfrm>
            <a:off x="4816440" y="2314440"/>
            <a:ext cx="2535120" cy="2773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https://images.ua.prom.st/325678796_w640_h640_novogodnie-tovary-yolki.jpg"/>
          <p:cNvPicPr/>
          <p:nvPr/>
        </p:nvPicPr>
        <p:blipFill>
          <a:blip r:embed="rId4"/>
          <a:srcRect l="0" t="0" r="0" b="-4212"/>
          <a:stretch/>
        </p:blipFill>
        <p:spPr>
          <a:xfrm>
            <a:off x="4722840" y="-69840"/>
            <a:ext cx="2536920" cy="2773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https://images.ua.prom.st/325678796_w640_h640_novogodnie-tovary-yolki.jpg"/>
          <p:cNvPicPr/>
          <p:nvPr/>
        </p:nvPicPr>
        <p:blipFill>
          <a:blip r:embed="rId5"/>
          <a:srcRect l="0" t="0" r="0" b="-4212"/>
          <a:stretch/>
        </p:blipFill>
        <p:spPr>
          <a:xfrm>
            <a:off x="-149400" y="2314440"/>
            <a:ext cx="2535480" cy="2773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https://www.fonstola.ru/download.php?file=202006/2560x1600/fonstola.ru-391406.jpg"/>
          <p:cNvPicPr/>
          <p:nvPr/>
        </p:nvPicPr>
        <p:blipFill>
          <a:blip r:embed="rId6"/>
          <a:stretch/>
        </p:blipFill>
        <p:spPr>
          <a:xfrm>
            <a:off x="3614760" y="735120"/>
            <a:ext cx="1244520" cy="1579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https://www.fonstola.ru/download.php?file=202006/2560x1600/fonstola.ru-391406.jpg"/>
          <p:cNvPicPr/>
          <p:nvPr/>
        </p:nvPicPr>
        <p:blipFill>
          <a:blip r:embed="rId7"/>
          <a:stretch/>
        </p:blipFill>
        <p:spPr>
          <a:xfrm>
            <a:off x="3479760" y="3092400"/>
            <a:ext cx="1244520" cy="1579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https://www.fonstola.ru/download.php?file=202006/2560x1600/fonstola.ru-391406.jpg"/>
          <p:cNvPicPr/>
          <p:nvPr/>
        </p:nvPicPr>
        <p:blipFill>
          <a:blip r:embed="rId8"/>
          <a:stretch/>
        </p:blipFill>
        <p:spPr>
          <a:xfrm>
            <a:off x="2189160" y="3092400"/>
            <a:ext cx="1243080" cy="1579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ttps://www.fonstola.ru/download.php?file=202006/2560x1600/fonstola.ru-391406.jpg"/>
          <p:cNvPicPr/>
          <p:nvPr/>
        </p:nvPicPr>
        <p:blipFill>
          <a:blip r:embed="rId9"/>
          <a:stretch/>
        </p:blipFill>
        <p:spPr>
          <a:xfrm>
            <a:off x="8602560" y="801720"/>
            <a:ext cx="1244880" cy="1579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https://www.fonstola.ru/download.php?file=202006/2560x1600/fonstola.ru-391406.jpg"/>
          <p:cNvPicPr/>
          <p:nvPr/>
        </p:nvPicPr>
        <p:blipFill>
          <a:blip r:embed="rId10"/>
          <a:stretch/>
        </p:blipFill>
        <p:spPr>
          <a:xfrm>
            <a:off x="7210440" y="822240"/>
            <a:ext cx="1244520" cy="1579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https://www.fonstola.ru/download.php?file=202006/2560x1600/fonstola.ru-391406.jpg"/>
          <p:cNvPicPr/>
          <p:nvPr/>
        </p:nvPicPr>
        <p:blipFill>
          <a:blip r:embed="rId11"/>
          <a:stretch/>
        </p:blipFill>
        <p:spPr>
          <a:xfrm>
            <a:off x="8520120" y="2978280"/>
            <a:ext cx="1243080" cy="1581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https://www.fonstola.ru/download.php?file=202006/2560x1600/fonstola.ru-391406.jpg"/>
          <p:cNvPicPr/>
          <p:nvPr/>
        </p:nvPicPr>
        <p:blipFill>
          <a:blip r:embed="rId12"/>
          <a:stretch/>
        </p:blipFill>
        <p:spPr>
          <a:xfrm>
            <a:off x="7183440" y="3008160"/>
            <a:ext cx="1244520" cy="1579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11080" y="4919400"/>
            <a:ext cx="821376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м на ёлку ой ой 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 мороз идёт жиВ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1"/>
          <a:stretch/>
        </p:blipFill>
        <p:spPr>
          <a:xfrm>
            <a:off x="-271440" y="671400"/>
            <a:ext cx="1854000" cy="1852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2"/>
          <a:stretch/>
        </p:blipFill>
        <p:spPr>
          <a:xfrm>
            <a:off x="808200" y="671400"/>
            <a:ext cx="1852560" cy="1852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3"/>
          <a:stretch/>
        </p:blipFill>
        <p:spPr>
          <a:xfrm>
            <a:off x="2179800" y="671400"/>
            <a:ext cx="1854000" cy="1852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4"/>
          <a:stretch/>
        </p:blipFill>
        <p:spPr>
          <a:xfrm>
            <a:off x="3259080" y="671400"/>
            <a:ext cx="1854360" cy="1852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5"/>
          <a:stretch/>
        </p:blipFill>
        <p:spPr>
          <a:xfrm>
            <a:off x="4784760" y="671400"/>
            <a:ext cx="1854000" cy="1852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6"/>
          <a:stretch/>
        </p:blipFill>
        <p:spPr>
          <a:xfrm>
            <a:off x="5864400" y="671400"/>
            <a:ext cx="1854000" cy="1852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7"/>
          <a:stretch/>
        </p:blipFill>
        <p:spPr>
          <a:xfrm>
            <a:off x="-338040" y="3171960"/>
            <a:ext cx="1854000" cy="1854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8"/>
          <a:stretch/>
        </p:blipFill>
        <p:spPr>
          <a:xfrm>
            <a:off x="920880" y="3121200"/>
            <a:ext cx="1854000" cy="1854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9"/>
          <a:stretch/>
        </p:blipFill>
        <p:spPr>
          <a:xfrm>
            <a:off x="2206800" y="3086280"/>
            <a:ext cx="1854000" cy="1854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10"/>
          <a:stretch/>
        </p:blipFill>
        <p:spPr>
          <a:xfrm>
            <a:off x="3259080" y="3065400"/>
            <a:ext cx="1854360" cy="1854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11"/>
          <a:stretch/>
        </p:blipFill>
        <p:spPr>
          <a:xfrm>
            <a:off x="4816440" y="3121200"/>
            <a:ext cx="1854360" cy="1854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12"/>
          <a:stretch/>
        </p:blipFill>
        <p:spPr>
          <a:xfrm>
            <a:off x="5932440" y="3121200"/>
            <a:ext cx="1854360" cy="1854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13"/>
          <a:stretch/>
        </p:blipFill>
        <p:spPr>
          <a:xfrm>
            <a:off x="7156440" y="-90360"/>
            <a:ext cx="2749680" cy="2751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14"/>
          <a:stretch/>
        </p:blipFill>
        <p:spPr>
          <a:xfrm>
            <a:off x="7305840" y="2414520"/>
            <a:ext cx="2751120" cy="2749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939960" y="5087880"/>
            <a:ext cx="808488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есёлая снегурк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граю с вами в жмур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https://www.toyway.ru/upload/iblock/0ed/17005_3.jpg"/>
          <p:cNvPicPr/>
          <p:nvPr/>
        </p:nvPicPr>
        <p:blipFill>
          <a:blip r:embed="rId1"/>
          <a:stretch/>
        </p:blipFill>
        <p:spPr>
          <a:xfrm>
            <a:off x="-50760" y="606600"/>
            <a:ext cx="1949400" cy="1947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https://www.toyway.ru/upload/iblock/0ed/17005_3.jpg"/>
          <p:cNvPicPr/>
          <p:nvPr/>
        </p:nvPicPr>
        <p:blipFill>
          <a:blip r:embed="rId2"/>
          <a:stretch/>
        </p:blipFill>
        <p:spPr>
          <a:xfrm>
            <a:off x="31680" y="3449520"/>
            <a:ext cx="1951200" cy="1947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https://www.toyway.ru/upload/iblock/0ed/17005_3.jpg"/>
          <p:cNvPicPr/>
          <p:nvPr/>
        </p:nvPicPr>
        <p:blipFill>
          <a:blip r:embed="rId3"/>
          <a:stretch/>
        </p:blipFill>
        <p:spPr>
          <a:xfrm>
            <a:off x="939960" y="41400"/>
            <a:ext cx="2074680" cy="2071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ttps://www.toyway.ru/upload/iblock/0ed/17005_3.jpg"/>
          <p:cNvPicPr/>
          <p:nvPr/>
        </p:nvPicPr>
        <p:blipFill>
          <a:blip r:embed="rId4"/>
          <a:stretch/>
        </p:blipFill>
        <p:spPr>
          <a:xfrm>
            <a:off x="2352600" y="720720"/>
            <a:ext cx="1949400" cy="1947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https://www.toyway.ru/upload/iblock/0ed/17005_3.jpg"/>
          <p:cNvPicPr/>
          <p:nvPr/>
        </p:nvPicPr>
        <p:blipFill>
          <a:blip r:embed="rId5"/>
          <a:stretch/>
        </p:blipFill>
        <p:spPr>
          <a:xfrm>
            <a:off x="3355920" y="144360"/>
            <a:ext cx="1949400" cy="1947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https://www.toyway.ru/upload/iblock/0ed/17005_3.jpg"/>
          <p:cNvPicPr/>
          <p:nvPr/>
        </p:nvPicPr>
        <p:blipFill>
          <a:blip r:embed="rId6"/>
          <a:stretch/>
        </p:blipFill>
        <p:spPr>
          <a:xfrm>
            <a:off x="4853160" y="606600"/>
            <a:ext cx="1949400" cy="1947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https://www.toyway.ru/upload/iblock/0ed/17005_3.jpg"/>
          <p:cNvPicPr/>
          <p:nvPr/>
        </p:nvPicPr>
        <p:blipFill>
          <a:blip r:embed="rId7"/>
          <a:stretch/>
        </p:blipFill>
        <p:spPr>
          <a:xfrm>
            <a:off x="5780160" y="55440"/>
            <a:ext cx="1949400" cy="1946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s://www.toyway.ru/upload/iblock/0ed/17005_3.jpg"/>
          <p:cNvPicPr/>
          <p:nvPr/>
        </p:nvPicPr>
        <p:blipFill>
          <a:blip r:embed="rId8"/>
          <a:stretch/>
        </p:blipFill>
        <p:spPr>
          <a:xfrm>
            <a:off x="6961320" y="557280"/>
            <a:ext cx="1949400" cy="1947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https://www.toyway.ru/upload/iblock/0ed/17005_3.jpg"/>
          <p:cNvPicPr/>
          <p:nvPr/>
        </p:nvPicPr>
        <p:blipFill>
          <a:blip r:embed="rId9"/>
          <a:stretch/>
        </p:blipFill>
        <p:spPr>
          <a:xfrm>
            <a:off x="7845480" y="196920"/>
            <a:ext cx="1950840" cy="1947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https://www.toyway.ru/upload/iblock/0ed/17005_3.jpg"/>
          <p:cNvPicPr/>
          <p:nvPr/>
        </p:nvPicPr>
        <p:blipFill>
          <a:blip r:embed="rId10"/>
          <a:stretch/>
        </p:blipFill>
        <p:spPr>
          <a:xfrm>
            <a:off x="2646360" y="3193920"/>
            <a:ext cx="1949400" cy="1947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s://www.toyway.ru/upload/iblock/0ed/17005_3.jpg"/>
          <p:cNvPicPr/>
          <p:nvPr/>
        </p:nvPicPr>
        <p:blipFill>
          <a:blip r:embed="rId11"/>
          <a:stretch/>
        </p:blipFill>
        <p:spPr>
          <a:xfrm>
            <a:off x="3440160" y="2589120"/>
            <a:ext cx="1949400" cy="1946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https://www.toyway.ru/upload/iblock/0ed/17005_3.jpg"/>
          <p:cNvPicPr/>
          <p:nvPr/>
        </p:nvPicPr>
        <p:blipFill>
          <a:blip r:embed="rId12"/>
          <a:stretch/>
        </p:blipFill>
        <p:spPr>
          <a:xfrm>
            <a:off x="4983120" y="3073320"/>
            <a:ext cx="1949400" cy="1947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https://www.toyway.ru/upload/iblock/0ed/17005_3.jpg"/>
          <p:cNvPicPr/>
          <p:nvPr/>
        </p:nvPicPr>
        <p:blipFill>
          <a:blip r:embed="rId13"/>
          <a:stretch/>
        </p:blipFill>
        <p:spPr>
          <a:xfrm>
            <a:off x="5896080" y="2476440"/>
            <a:ext cx="1949400" cy="1947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s://www.toyway.ru/upload/iblock/0ed/17005_3.jpg"/>
          <p:cNvPicPr/>
          <p:nvPr/>
        </p:nvPicPr>
        <p:blipFill>
          <a:blip r:embed="rId14"/>
          <a:stretch/>
        </p:blipFill>
        <p:spPr>
          <a:xfrm>
            <a:off x="7227720" y="3043080"/>
            <a:ext cx="1949760" cy="1947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https://www.toyway.ru/upload/iblock/0ed/17005_3.jpg"/>
          <p:cNvPicPr/>
          <p:nvPr/>
        </p:nvPicPr>
        <p:blipFill>
          <a:blip r:embed="rId15"/>
          <a:stretch/>
        </p:blipFill>
        <p:spPr>
          <a:xfrm>
            <a:off x="8317080" y="2382840"/>
            <a:ext cx="1949400" cy="1946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https://www.toyway.ru/upload/iblock/0ed/17005_3.jpg"/>
          <p:cNvPicPr/>
          <p:nvPr/>
        </p:nvPicPr>
        <p:blipFill>
          <a:blip r:embed="rId16"/>
          <a:stretch/>
        </p:blipFill>
        <p:spPr>
          <a:xfrm>
            <a:off x="1006560" y="2603520"/>
            <a:ext cx="1950840" cy="1946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85960" y="5048280"/>
            <a:ext cx="813888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, ДВА – ТР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лочка , гоР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https://god-tigra.ru/wp-content/uploads/2021/01/novogodnjaja-jolka-1624x2048.png"/>
          <p:cNvPicPr/>
          <p:nvPr/>
        </p:nvPicPr>
        <p:blipFill>
          <a:blip r:embed="rId1"/>
          <a:stretch/>
        </p:blipFill>
        <p:spPr>
          <a:xfrm>
            <a:off x="1168560" y="358920"/>
            <a:ext cx="1741320" cy="2197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https://god-tigra.ru/wp-content/uploads/2021/01/novogodnjaja-jolka-1624x2048.png"/>
          <p:cNvPicPr/>
          <p:nvPr/>
        </p:nvPicPr>
        <p:blipFill>
          <a:blip r:embed="rId2"/>
          <a:stretch/>
        </p:blipFill>
        <p:spPr>
          <a:xfrm>
            <a:off x="3408480" y="358920"/>
            <a:ext cx="1741320" cy="2197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https://god-tigra.ru/wp-content/uploads/2021/01/novogodnjaja-jolka-1624x2048.png"/>
          <p:cNvPicPr/>
          <p:nvPr/>
        </p:nvPicPr>
        <p:blipFill>
          <a:blip r:embed="rId3"/>
          <a:stretch/>
        </p:blipFill>
        <p:spPr>
          <a:xfrm>
            <a:off x="5648400" y="316080"/>
            <a:ext cx="1741320" cy="2195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https://god-tigra.ru/wp-content/uploads/2021/01/novogodnjaja-jolka-1624x2048.png"/>
          <p:cNvPicPr/>
          <p:nvPr/>
        </p:nvPicPr>
        <p:blipFill>
          <a:blip r:embed="rId4"/>
          <a:stretch/>
        </p:blipFill>
        <p:spPr>
          <a:xfrm>
            <a:off x="5757840" y="2556000"/>
            <a:ext cx="1739880" cy="2195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https://god-tigra.ru/wp-content/uploads/2021/01/novogodnjaja-jolka-1624x2048.png"/>
          <p:cNvPicPr/>
          <p:nvPr/>
        </p:nvPicPr>
        <p:blipFill>
          <a:blip r:embed="rId5"/>
          <a:stretch/>
        </p:blipFill>
        <p:spPr>
          <a:xfrm>
            <a:off x="439560" y="3179880"/>
            <a:ext cx="1127160" cy="1422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ttps://god-tigra.ru/wp-content/uploads/2021/01/novogodnjaja-jolka-1624x2048.png"/>
          <p:cNvPicPr/>
          <p:nvPr/>
        </p:nvPicPr>
        <p:blipFill>
          <a:blip r:embed="rId6"/>
          <a:stretch/>
        </p:blipFill>
        <p:spPr>
          <a:xfrm>
            <a:off x="1698480" y="3195720"/>
            <a:ext cx="1127160" cy="1422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ttps://god-tigra.ru/wp-content/uploads/2021/01/novogodnjaja-jolka-1624x2048.png"/>
          <p:cNvPicPr/>
          <p:nvPr/>
        </p:nvPicPr>
        <p:blipFill>
          <a:blip r:embed="rId7"/>
          <a:stretch/>
        </p:blipFill>
        <p:spPr>
          <a:xfrm>
            <a:off x="3276720" y="3173400"/>
            <a:ext cx="1128600" cy="1422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https://god-tigra.ru/wp-content/uploads/2021/01/novogodnjaja-jolka-1624x2048.png"/>
          <p:cNvPicPr/>
          <p:nvPr/>
        </p:nvPicPr>
        <p:blipFill>
          <a:blip r:embed="rId8"/>
          <a:stretch/>
        </p:blipFill>
        <p:spPr>
          <a:xfrm>
            <a:off x="4475160" y="3203640"/>
            <a:ext cx="1127160" cy="142236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13" descr="5b3c487f157f.png"/>
          <p:cNvPicPr/>
          <p:nvPr/>
        </p:nvPicPr>
        <p:blipFill>
          <a:blip r:embed="rId9"/>
          <a:stretch/>
        </p:blipFill>
        <p:spPr>
          <a:xfrm>
            <a:off x="7888320" y="192240"/>
            <a:ext cx="1566720" cy="252864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13" descr="5b3c487f157f.png"/>
          <p:cNvPicPr/>
          <p:nvPr/>
        </p:nvPicPr>
        <p:blipFill>
          <a:blip r:embed="rId10"/>
          <a:stretch/>
        </p:blipFill>
        <p:spPr>
          <a:xfrm>
            <a:off x="7810560" y="2503440"/>
            <a:ext cx="1566720" cy="2529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701640" y="4230360"/>
            <a:ext cx="83232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корее посмот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тели снегиР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но их и сквозь пурГ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яблоки в снеГ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https://cf.ppt-online.org/files1/slide/4/4AGupJ9RbxDBNilvkrwtUFE7Vq0cyLZIX3K1o5/slide-2.jpg"/>
          <p:cNvPicPr/>
          <p:nvPr/>
        </p:nvPicPr>
        <p:blipFill>
          <a:blip r:embed="rId1"/>
          <a:stretch/>
        </p:blipFill>
        <p:spPr>
          <a:xfrm>
            <a:off x="179280" y="1022400"/>
            <a:ext cx="1028880" cy="770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https://cf.ppt-online.org/files1/slide/4/4AGupJ9RbxDBNilvkrwtUFE7Vq0cyLZIX3K1o5/slide-2.jpg"/>
          <p:cNvPicPr/>
          <p:nvPr/>
        </p:nvPicPr>
        <p:blipFill>
          <a:blip r:embed="rId2"/>
          <a:stretch/>
        </p:blipFill>
        <p:spPr>
          <a:xfrm>
            <a:off x="1252440" y="965160"/>
            <a:ext cx="1013040" cy="757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https://cf.ppt-online.org/files1/slide/4/4AGupJ9RbxDBNilvkrwtUFE7Vq0cyLZIX3K1o5/slide-2.jpg"/>
          <p:cNvPicPr/>
          <p:nvPr/>
        </p:nvPicPr>
        <p:blipFill>
          <a:blip r:embed="rId3"/>
          <a:stretch/>
        </p:blipFill>
        <p:spPr>
          <a:xfrm>
            <a:off x="7539120" y="163440"/>
            <a:ext cx="2281320" cy="1708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https://cf.ppt-online.org/files1/slide/4/4AGupJ9RbxDBNilvkrwtUFE7Vq0cyLZIX3K1o5/slide-2.jpg"/>
          <p:cNvPicPr/>
          <p:nvPr/>
        </p:nvPicPr>
        <p:blipFill>
          <a:blip r:embed="rId4"/>
          <a:stretch/>
        </p:blipFill>
        <p:spPr>
          <a:xfrm>
            <a:off x="2793960" y="993600"/>
            <a:ext cx="1042920" cy="782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https://cf.ppt-online.org/files1/slide/4/4AGupJ9RbxDBNilvkrwtUFE7Vq0cyLZIX3K1o5/slide-2.jpg"/>
          <p:cNvPicPr/>
          <p:nvPr/>
        </p:nvPicPr>
        <p:blipFill>
          <a:blip r:embed="rId5"/>
          <a:stretch/>
        </p:blipFill>
        <p:spPr>
          <a:xfrm>
            <a:off x="3740040" y="993600"/>
            <a:ext cx="1122480" cy="839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https://cf.ppt-online.org/files1/slide/4/4AGupJ9RbxDBNilvkrwtUFE7Vq0cyLZIX3K1o5/slide-2.jpg"/>
          <p:cNvPicPr/>
          <p:nvPr/>
        </p:nvPicPr>
        <p:blipFill>
          <a:blip r:embed="rId6"/>
          <a:stretch/>
        </p:blipFill>
        <p:spPr>
          <a:xfrm>
            <a:off x="6378480" y="993600"/>
            <a:ext cx="1055880" cy="789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https://cf.ppt-online.org/files1/slide/4/4AGupJ9RbxDBNilvkrwtUFE7Vq0cyLZIX3K1o5/slide-2.jpg"/>
          <p:cNvPicPr/>
          <p:nvPr/>
        </p:nvPicPr>
        <p:blipFill>
          <a:blip r:embed="rId7"/>
          <a:stretch/>
        </p:blipFill>
        <p:spPr>
          <a:xfrm>
            <a:off x="5381640" y="1017720"/>
            <a:ext cx="1077840" cy="807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https://cf.ppt-online.org/files1/slide/4/4AGupJ9RbxDBNilvkrwtUFE7Vq0cyLZIX3K1o5/slide-2.jpg"/>
          <p:cNvPicPr/>
          <p:nvPr/>
        </p:nvPicPr>
        <p:blipFill>
          <a:blip r:embed="rId8"/>
          <a:stretch/>
        </p:blipFill>
        <p:spPr>
          <a:xfrm>
            <a:off x="282600" y="3370320"/>
            <a:ext cx="1057320" cy="792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https://cf.ppt-online.org/files1/slide/4/4AGupJ9RbxDBNilvkrwtUFE7Vq0cyLZIX3K1o5/slide-2.jpg"/>
          <p:cNvPicPr/>
          <p:nvPr/>
        </p:nvPicPr>
        <p:blipFill>
          <a:blip r:embed="rId9"/>
          <a:stretch/>
        </p:blipFill>
        <p:spPr>
          <a:xfrm>
            <a:off x="1087560" y="3300480"/>
            <a:ext cx="1057320" cy="792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https://cf.ppt-online.org/files1/slide/4/4AGupJ9RbxDBNilvkrwtUFE7Vq0cyLZIX3K1o5/slide-2.jpg"/>
          <p:cNvPicPr/>
          <p:nvPr/>
        </p:nvPicPr>
        <p:blipFill>
          <a:blip r:embed="rId10"/>
          <a:stretch/>
        </p:blipFill>
        <p:spPr>
          <a:xfrm>
            <a:off x="2854440" y="3249720"/>
            <a:ext cx="1057320" cy="792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https://cf.ppt-online.org/files1/slide/4/4AGupJ9RbxDBNilvkrwtUFE7Vq0cyLZIX3K1o5/slide-2.jpg"/>
          <p:cNvPicPr/>
          <p:nvPr/>
        </p:nvPicPr>
        <p:blipFill>
          <a:blip r:embed="rId11"/>
          <a:stretch/>
        </p:blipFill>
        <p:spPr>
          <a:xfrm>
            <a:off x="3813120" y="3193920"/>
            <a:ext cx="1057320" cy="792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s://cf.ppt-online.org/files1/slide/4/4AGupJ9RbxDBNilvkrwtUFE7Vq0cyLZIX3K1o5/slide-2.jpg"/>
          <p:cNvPicPr/>
          <p:nvPr/>
        </p:nvPicPr>
        <p:blipFill>
          <a:blip r:embed="rId12"/>
          <a:stretch/>
        </p:blipFill>
        <p:spPr>
          <a:xfrm>
            <a:off x="5429160" y="3195720"/>
            <a:ext cx="1057320" cy="792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https://cf.ppt-online.org/files1/slide/4/4AGupJ9RbxDBNilvkrwtUFE7Vq0cyLZIX3K1o5/slide-2.jpg"/>
          <p:cNvPicPr/>
          <p:nvPr/>
        </p:nvPicPr>
        <p:blipFill>
          <a:blip r:embed="rId13"/>
          <a:stretch/>
        </p:blipFill>
        <p:spPr>
          <a:xfrm>
            <a:off x="6486480" y="3193920"/>
            <a:ext cx="1057320" cy="792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https://cf.ppt-online.org/files1/slide/4/4AGupJ9RbxDBNilvkrwtUFE7Vq0cyLZIX3K1o5/slide-2.jpg"/>
          <p:cNvPicPr/>
          <p:nvPr/>
        </p:nvPicPr>
        <p:blipFill>
          <a:blip r:embed="rId14"/>
          <a:stretch/>
        </p:blipFill>
        <p:spPr>
          <a:xfrm>
            <a:off x="7624800" y="2351160"/>
            <a:ext cx="2281320" cy="1708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-360" y="5451480"/>
            <a:ext cx="907884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ь динь  ДОН динь динь ДОН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кольчик звонкий М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1"/>
          <a:stretch/>
        </p:blipFill>
        <p:spPr>
          <a:xfrm>
            <a:off x="6066000" y="2898720"/>
            <a:ext cx="1468440" cy="1643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2"/>
          <a:stretch/>
        </p:blipFill>
        <p:spPr>
          <a:xfrm>
            <a:off x="5079960" y="2935440"/>
            <a:ext cx="1468440" cy="16430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3"/>
          <a:stretch/>
        </p:blipFill>
        <p:spPr>
          <a:xfrm>
            <a:off x="3643200" y="2935440"/>
            <a:ext cx="1468440" cy="16430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4"/>
          <a:stretch/>
        </p:blipFill>
        <p:spPr>
          <a:xfrm>
            <a:off x="2747880" y="2898720"/>
            <a:ext cx="1468440" cy="16430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5"/>
          <a:stretch/>
        </p:blipFill>
        <p:spPr>
          <a:xfrm>
            <a:off x="1128600" y="2959200"/>
            <a:ext cx="1468440" cy="1643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6"/>
          <a:stretch/>
        </p:blipFill>
        <p:spPr>
          <a:xfrm>
            <a:off x="108000" y="2935440"/>
            <a:ext cx="1466640" cy="16430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7"/>
          <a:stretch/>
        </p:blipFill>
        <p:spPr>
          <a:xfrm>
            <a:off x="225360" y="852480"/>
            <a:ext cx="1467000" cy="1643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8"/>
          <a:stretch/>
        </p:blipFill>
        <p:spPr>
          <a:xfrm>
            <a:off x="1325520" y="852480"/>
            <a:ext cx="1468440" cy="1643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9"/>
          <a:stretch/>
        </p:blipFill>
        <p:spPr>
          <a:xfrm>
            <a:off x="4832280" y="808200"/>
            <a:ext cx="1468440" cy="1643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10"/>
          <a:stretch/>
        </p:blipFill>
        <p:spPr>
          <a:xfrm>
            <a:off x="5910120" y="800280"/>
            <a:ext cx="1468440" cy="1643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11"/>
          <a:stretch/>
        </p:blipFill>
        <p:spPr>
          <a:xfrm>
            <a:off x="2427120" y="0"/>
            <a:ext cx="2313000" cy="2590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12"/>
          <a:stretch/>
        </p:blipFill>
        <p:spPr>
          <a:xfrm>
            <a:off x="7226280" y="-44280"/>
            <a:ext cx="2314440" cy="2590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13"/>
          <a:stretch/>
        </p:blipFill>
        <p:spPr>
          <a:xfrm>
            <a:off x="7124760" y="2021040"/>
            <a:ext cx="231444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1360" y="-11520"/>
            <a:ext cx="8420040" cy="197172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</a:t>
            </a:r>
            <a:endParaRPr b="0" lang="en-US" sz="6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743040" y="1957320"/>
            <a:ext cx="85294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хлопай и произнеси ритмослогами ритмические картин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Щёлкни мышкой – проговори стихи со звучащими жеста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ыграй ритм на музыкальном инструмент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БОЛЬШИЕ КАРТИНКИ – ДЛИННЫЕ ЗВУКИ (ТА), МАЛЕНЬКИЕ КАРТИНКИ – КОРОТКИЕ ЗВУКИ (Т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98320" y="4854240"/>
            <a:ext cx="8544240" cy="20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лочКА, ёлочКА,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каЯ чёлочКА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s://img-fotki.yandex.ru/get/6411/34907849.167/0_9da93_b249646e_L.jpg"/>
          <p:cNvPicPr/>
          <p:nvPr/>
        </p:nvPicPr>
        <p:blipFill>
          <a:blip r:embed="rId1"/>
          <a:stretch/>
        </p:blipFill>
        <p:spPr>
          <a:xfrm>
            <a:off x="239760" y="995400"/>
            <a:ext cx="1246320" cy="1498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s://img-fotki.yandex.ru/get/6411/34907849.167/0_9da93_b249646e_L.jpg"/>
          <p:cNvPicPr/>
          <p:nvPr/>
        </p:nvPicPr>
        <p:blipFill>
          <a:blip r:embed="rId2"/>
          <a:stretch/>
        </p:blipFill>
        <p:spPr>
          <a:xfrm>
            <a:off x="1065240" y="995400"/>
            <a:ext cx="1246320" cy="1498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s://img-fotki.yandex.ru/get/6411/34907849.167/0_9da93_b249646e_L.jpg"/>
          <p:cNvPicPr/>
          <p:nvPr/>
        </p:nvPicPr>
        <p:blipFill>
          <a:blip r:embed="rId3"/>
          <a:stretch/>
        </p:blipFill>
        <p:spPr>
          <a:xfrm>
            <a:off x="2457360" y="152280"/>
            <a:ext cx="1949400" cy="2341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s://img-fotki.yandex.ru/get/6411/34907849.167/0_9da93_b249646e_L.jpg"/>
          <p:cNvPicPr/>
          <p:nvPr/>
        </p:nvPicPr>
        <p:blipFill>
          <a:blip r:embed="rId4"/>
          <a:stretch/>
        </p:blipFill>
        <p:spPr>
          <a:xfrm>
            <a:off x="4540320" y="995400"/>
            <a:ext cx="1245960" cy="149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s://img-fotki.yandex.ru/get/6411/34907849.167/0_9da93_b249646e_L.jpg"/>
          <p:cNvPicPr/>
          <p:nvPr/>
        </p:nvPicPr>
        <p:blipFill>
          <a:blip r:embed="rId5"/>
          <a:stretch/>
        </p:blipFill>
        <p:spPr>
          <a:xfrm>
            <a:off x="5411880" y="995400"/>
            <a:ext cx="1247760" cy="1498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s://img-fotki.yandex.ru/get/6411/34907849.167/0_9da93_b249646e_L.jpg"/>
          <p:cNvPicPr/>
          <p:nvPr/>
        </p:nvPicPr>
        <p:blipFill>
          <a:blip r:embed="rId6"/>
          <a:stretch/>
        </p:blipFill>
        <p:spPr>
          <a:xfrm>
            <a:off x="6748560" y="55440"/>
            <a:ext cx="2028600" cy="2438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s://img-fotki.yandex.ru/get/6411/34907849.167/0_9da93_b249646e_L.jpg"/>
          <p:cNvPicPr/>
          <p:nvPr/>
        </p:nvPicPr>
        <p:blipFill>
          <a:blip r:embed="rId7"/>
          <a:stretch/>
        </p:blipFill>
        <p:spPr>
          <a:xfrm>
            <a:off x="1328760" y="3003480"/>
            <a:ext cx="1247760" cy="1498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s://img-fotki.yandex.ru/get/6411/34907849.167/0_9da93_b249646e_L.jpg"/>
          <p:cNvPicPr/>
          <p:nvPr/>
        </p:nvPicPr>
        <p:blipFill>
          <a:blip r:embed="rId8"/>
          <a:stretch/>
        </p:blipFill>
        <p:spPr>
          <a:xfrm>
            <a:off x="2868480" y="2174760"/>
            <a:ext cx="1936800" cy="232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s://img-fotki.yandex.ru/get/6411/34907849.167/0_9da93_b249646e_L.jpg"/>
          <p:cNvPicPr/>
          <p:nvPr/>
        </p:nvPicPr>
        <p:blipFill>
          <a:blip r:embed="rId9"/>
          <a:stretch/>
        </p:blipFill>
        <p:spPr>
          <a:xfrm>
            <a:off x="4805280" y="3003480"/>
            <a:ext cx="1246320" cy="1498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s://img-fotki.yandex.ru/get/6411/34907849.167/0_9da93_b249646e_L.jpg"/>
          <p:cNvPicPr/>
          <p:nvPr/>
        </p:nvPicPr>
        <p:blipFill>
          <a:blip r:embed="rId10"/>
          <a:stretch/>
        </p:blipFill>
        <p:spPr>
          <a:xfrm>
            <a:off x="5676840" y="3003480"/>
            <a:ext cx="1247760" cy="149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s://img-fotki.yandex.ru/get/6411/34907849.167/0_9da93_b249646e_L.jpg"/>
          <p:cNvPicPr/>
          <p:nvPr/>
        </p:nvPicPr>
        <p:blipFill>
          <a:blip r:embed="rId11"/>
          <a:stretch/>
        </p:blipFill>
        <p:spPr>
          <a:xfrm>
            <a:off x="7099200" y="2166840"/>
            <a:ext cx="1943280" cy="2335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s://img-fotki.yandex.ru/get/6411/34907849.167/0_9da93_b249646e_L.jpg"/>
          <p:cNvPicPr/>
          <p:nvPr/>
        </p:nvPicPr>
        <p:blipFill>
          <a:blip r:embed="rId12"/>
          <a:stretch/>
        </p:blipFill>
        <p:spPr>
          <a:xfrm>
            <a:off x="404640" y="3003480"/>
            <a:ext cx="1246320" cy="1498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468080" y="4881600"/>
            <a:ext cx="7358040" cy="14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рху звеЗДА 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сы в два ряДА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1"/>
          <a:stretch/>
        </p:blipFill>
        <p:spPr>
          <a:xfrm>
            <a:off x="395280" y="773280"/>
            <a:ext cx="1649520" cy="1649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2"/>
          <a:stretch/>
        </p:blipFill>
        <p:spPr>
          <a:xfrm>
            <a:off x="1220760" y="773280"/>
            <a:ext cx="1649520" cy="1649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3"/>
          <a:stretch/>
        </p:blipFill>
        <p:spPr>
          <a:xfrm>
            <a:off x="2529000" y="773280"/>
            <a:ext cx="1647720" cy="1649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4"/>
          <a:stretch/>
        </p:blipFill>
        <p:spPr>
          <a:xfrm>
            <a:off x="3430440" y="773280"/>
            <a:ext cx="1649520" cy="1649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5"/>
          <a:stretch/>
        </p:blipFill>
        <p:spPr>
          <a:xfrm>
            <a:off x="258840" y="2685960"/>
            <a:ext cx="1647720" cy="1649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6"/>
          <a:stretch/>
        </p:blipFill>
        <p:spPr>
          <a:xfrm>
            <a:off x="1084320" y="2685960"/>
            <a:ext cx="1647720" cy="1649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7"/>
          <a:stretch/>
        </p:blipFill>
        <p:spPr>
          <a:xfrm>
            <a:off x="5330880" y="111240"/>
            <a:ext cx="2357280" cy="2355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8"/>
          <a:stretch/>
        </p:blipFill>
        <p:spPr>
          <a:xfrm>
            <a:off x="2606760" y="2685960"/>
            <a:ext cx="1649160" cy="1649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9"/>
          <a:stretch/>
        </p:blipFill>
        <p:spPr>
          <a:xfrm>
            <a:off x="3467160" y="268596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10"/>
          <a:stretch/>
        </p:blipFill>
        <p:spPr>
          <a:xfrm>
            <a:off x="5408640" y="1979640"/>
            <a:ext cx="2355840" cy="23558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3" descr="5b3c487f157f.png"/>
          <p:cNvPicPr/>
          <p:nvPr/>
        </p:nvPicPr>
        <p:blipFill>
          <a:blip r:embed="rId11"/>
          <a:stretch/>
        </p:blipFill>
        <p:spPr>
          <a:xfrm>
            <a:off x="7942320" y="1805040"/>
            <a:ext cx="1566720" cy="25304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3" descr="5b3c487f157f.png"/>
          <p:cNvPicPr/>
          <p:nvPr/>
        </p:nvPicPr>
        <p:blipFill>
          <a:blip r:embed="rId12"/>
          <a:stretch/>
        </p:blipFill>
        <p:spPr>
          <a:xfrm>
            <a:off x="7942320" y="-106200"/>
            <a:ext cx="1566720" cy="2528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11080" y="4919400"/>
            <a:ext cx="821376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в белый пухоВ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ился снегоВИ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s://img-fotki.yandex.ru/get/5818/136487634.0/0_6d4f3_a026da61_S"/>
          <p:cNvPicPr/>
          <p:nvPr/>
        </p:nvPicPr>
        <p:blipFill>
          <a:blip r:embed="rId1"/>
          <a:stretch/>
        </p:blipFill>
        <p:spPr>
          <a:xfrm>
            <a:off x="390600" y="84312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s://img-fotki.yandex.ru/get/5818/136487634.0/0_6d4f3_a026da61_S"/>
          <p:cNvPicPr/>
          <p:nvPr/>
        </p:nvPicPr>
        <p:blipFill>
          <a:blip r:embed="rId2"/>
          <a:stretch/>
        </p:blipFill>
        <p:spPr>
          <a:xfrm>
            <a:off x="1163520" y="843120"/>
            <a:ext cx="1548000" cy="154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s://img-fotki.yandex.ru/get/5818/136487634.0/0_6d4f3_a026da61_S"/>
          <p:cNvPicPr/>
          <p:nvPr/>
        </p:nvPicPr>
        <p:blipFill>
          <a:blip r:embed="rId3"/>
          <a:stretch/>
        </p:blipFill>
        <p:spPr>
          <a:xfrm>
            <a:off x="2405160" y="84312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s://img-fotki.yandex.ru/get/5818/136487634.0/0_6d4f3_a026da61_S"/>
          <p:cNvPicPr/>
          <p:nvPr/>
        </p:nvPicPr>
        <p:blipFill>
          <a:blip r:embed="rId4"/>
          <a:stretch/>
        </p:blipFill>
        <p:spPr>
          <a:xfrm>
            <a:off x="3065400" y="843120"/>
            <a:ext cx="1548000" cy="154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s://img-fotki.yandex.ru/get/5818/136487634.0/0_6d4f3_a026da61_S"/>
          <p:cNvPicPr/>
          <p:nvPr/>
        </p:nvPicPr>
        <p:blipFill>
          <a:blip r:embed="rId5"/>
          <a:stretch/>
        </p:blipFill>
        <p:spPr>
          <a:xfrm>
            <a:off x="4233960" y="84312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s://img-fotki.yandex.ru/get/5818/136487634.0/0_6d4f3_a026da61_S"/>
          <p:cNvPicPr/>
          <p:nvPr/>
        </p:nvPicPr>
        <p:blipFill>
          <a:blip r:embed="rId6"/>
          <a:stretch/>
        </p:blipFill>
        <p:spPr>
          <a:xfrm>
            <a:off x="5008680" y="84312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s://img-fotki.yandex.ru/get/5818/136487634.0/0_6d4f3_a026da61_S"/>
          <p:cNvPicPr/>
          <p:nvPr/>
        </p:nvPicPr>
        <p:blipFill>
          <a:blip r:embed="rId7"/>
          <a:stretch/>
        </p:blipFill>
        <p:spPr>
          <a:xfrm>
            <a:off x="6610320" y="29196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s://img-fotki.yandex.ru/get/5818/136487634.0/0_6d4f3_a026da61_S"/>
          <p:cNvPicPr/>
          <p:nvPr/>
        </p:nvPicPr>
        <p:blipFill>
          <a:blip r:embed="rId8"/>
          <a:stretch/>
        </p:blipFill>
        <p:spPr>
          <a:xfrm>
            <a:off x="555480" y="298116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s://img-fotki.yandex.ru/get/5818/136487634.0/0_6d4f3_a026da61_S"/>
          <p:cNvPicPr/>
          <p:nvPr/>
        </p:nvPicPr>
        <p:blipFill>
          <a:blip r:embed="rId9"/>
          <a:stretch/>
        </p:blipFill>
        <p:spPr>
          <a:xfrm>
            <a:off x="1328760" y="298116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s://img-fotki.yandex.ru/get/5818/136487634.0/0_6d4f3_a026da61_S"/>
          <p:cNvPicPr/>
          <p:nvPr/>
        </p:nvPicPr>
        <p:blipFill>
          <a:blip r:embed="rId10"/>
          <a:stretch/>
        </p:blipFill>
        <p:spPr>
          <a:xfrm>
            <a:off x="2570040" y="298116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s://img-fotki.yandex.ru/get/5818/136487634.0/0_6d4f3_a026da61_S"/>
          <p:cNvPicPr/>
          <p:nvPr/>
        </p:nvPicPr>
        <p:blipFill>
          <a:blip r:embed="rId11"/>
          <a:stretch/>
        </p:blipFill>
        <p:spPr>
          <a:xfrm>
            <a:off x="3230640" y="298116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s://img-fotki.yandex.ru/get/5818/136487634.0/0_6d4f3_a026da61_S"/>
          <p:cNvPicPr/>
          <p:nvPr/>
        </p:nvPicPr>
        <p:blipFill>
          <a:blip r:embed="rId12"/>
          <a:stretch/>
        </p:blipFill>
        <p:spPr>
          <a:xfrm>
            <a:off x="4398840" y="298116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s://img-fotki.yandex.ru/get/5818/136487634.0/0_6d4f3_a026da61_S"/>
          <p:cNvPicPr/>
          <p:nvPr/>
        </p:nvPicPr>
        <p:blipFill>
          <a:blip r:embed="rId13"/>
          <a:stretch/>
        </p:blipFill>
        <p:spPr>
          <a:xfrm>
            <a:off x="5173560" y="298116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s://img-fotki.yandex.ru/get/5818/136487634.0/0_6d4f3_a026da61_S"/>
          <p:cNvPicPr/>
          <p:nvPr/>
        </p:nvPicPr>
        <p:blipFill>
          <a:blip r:embed="rId14"/>
          <a:stretch/>
        </p:blipFill>
        <p:spPr>
          <a:xfrm>
            <a:off x="6775560" y="2432160"/>
            <a:ext cx="2181240" cy="2179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91720" y="5442120"/>
            <a:ext cx="813276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снежная фиГУ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евочка снеГУ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pic4you.ru/allimage/y2011/10-03/12216/1247646.png"/>
          <p:cNvPicPr/>
          <p:nvPr/>
        </p:nvPicPr>
        <p:blipFill>
          <a:blip r:embed="rId1"/>
          <a:stretch/>
        </p:blipFill>
        <p:spPr>
          <a:xfrm>
            <a:off x="966960" y="801720"/>
            <a:ext cx="915840" cy="1801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pic4you.ru/allimage/y2011/10-03/12216/1247646.png"/>
          <p:cNvPicPr/>
          <p:nvPr/>
        </p:nvPicPr>
        <p:blipFill>
          <a:blip r:embed="rId2"/>
          <a:stretch/>
        </p:blipFill>
        <p:spPr>
          <a:xfrm>
            <a:off x="1859040" y="801720"/>
            <a:ext cx="917640" cy="1801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pic4you.ru/allimage/y2011/10-03/12216/1247646.png"/>
          <p:cNvPicPr/>
          <p:nvPr/>
        </p:nvPicPr>
        <p:blipFill>
          <a:blip r:embed="rId3"/>
          <a:stretch/>
        </p:blipFill>
        <p:spPr>
          <a:xfrm>
            <a:off x="3014640" y="801720"/>
            <a:ext cx="917640" cy="180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pic4you.ru/allimage/y2011/10-03/12216/1247646.png"/>
          <p:cNvPicPr/>
          <p:nvPr/>
        </p:nvPicPr>
        <p:blipFill>
          <a:blip r:embed="rId4"/>
          <a:stretch/>
        </p:blipFill>
        <p:spPr>
          <a:xfrm>
            <a:off x="3886200" y="801720"/>
            <a:ext cx="917640" cy="180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pic4you.ru/allimage/y2011/10-03/12216/1247646.png"/>
          <p:cNvPicPr/>
          <p:nvPr/>
        </p:nvPicPr>
        <p:blipFill>
          <a:blip r:embed="rId5"/>
          <a:stretch/>
        </p:blipFill>
        <p:spPr>
          <a:xfrm>
            <a:off x="5146560" y="801720"/>
            <a:ext cx="917640" cy="180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http://pic4you.ru/allimage/y2011/10-03/12216/1247646.png"/>
          <p:cNvPicPr/>
          <p:nvPr/>
        </p:nvPicPr>
        <p:blipFill>
          <a:blip r:embed="rId6"/>
          <a:stretch/>
        </p:blipFill>
        <p:spPr>
          <a:xfrm>
            <a:off x="5913360" y="801720"/>
            <a:ext cx="916200" cy="180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pic4you.ru/allimage/y2011/10-03/12216/1247646.png"/>
          <p:cNvPicPr/>
          <p:nvPr/>
        </p:nvPicPr>
        <p:blipFill>
          <a:blip r:embed="rId7"/>
          <a:stretch/>
        </p:blipFill>
        <p:spPr>
          <a:xfrm>
            <a:off x="7115040" y="88920"/>
            <a:ext cx="1260720" cy="2478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pic4you.ru/allimage/y2011/10-03/12216/1247646.png"/>
          <p:cNvPicPr/>
          <p:nvPr/>
        </p:nvPicPr>
        <p:blipFill>
          <a:blip r:embed="rId8"/>
          <a:stretch/>
        </p:blipFill>
        <p:spPr>
          <a:xfrm>
            <a:off x="8375760" y="120600"/>
            <a:ext cx="1244520" cy="2446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pic4you.ru/allimage/y2011/10-03/12216/1247646.png"/>
          <p:cNvPicPr/>
          <p:nvPr/>
        </p:nvPicPr>
        <p:blipFill>
          <a:blip r:embed="rId9"/>
          <a:stretch/>
        </p:blipFill>
        <p:spPr>
          <a:xfrm>
            <a:off x="879480" y="3378240"/>
            <a:ext cx="915840" cy="1801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pic4you.ru/allimage/y2011/10-03/12216/1247646.png"/>
          <p:cNvPicPr/>
          <p:nvPr/>
        </p:nvPicPr>
        <p:blipFill>
          <a:blip r:embed="rId10"/>
          <a:stretch/>
        </p:blipFill>
        <p:spPr>
          <a:xfrm>
            <a:off x="1846440" y="3378240"/>
            <a:ext cx="915840" cy="1801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http://pic4you.ru/allimage/y2011/10-03/12216/1247646.png"/>
          <p:cNvPicPr/>
          <p:nvPr/>
        </p:nvPicPr>
        <p:blipFill>
          <a:blip r:embed="rId11"/>
          <a:stretch/>
        </p:blipFill>
        <p:spPr>
          <a:xfrm>
            <a:off x="2863800" y="3371760"/>
            <a:ext cx="916200" cy="180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pic4you.ru/allimage/y2011/10-03/12216/1247646.png"/>
          <p:cNvPicPr/>
          <p:nvPr/>
        </p:nvPicPr>
        <p:blipFill>
          <a:blip r:embed="rId12"/>
          <a:stretch/>
        </p:blipFill>
        <p:spPr>
          <a:xfrm>
            <a:off x="3755880" y="3371760"/>
            <a:ext cx="916200" cy="1801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pic4you.ru/allimage/y2011/10-03/12216/1247646.png"/>
          <p:cNvPicPr/>
          <p:nvPr/>
        </p:nvPicPr>
        <p:blipFill>
          <a:blip r:embed="rId13"/>
          <a:stretch/>
        </p:blipFill>
        <p:spPr>
          <a:xfrm>
            <a:off x="4959360" y="3378240"/>
            <a:ext cx="915840" cy="1801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http://pic4you.ru/allimage/y2011/10-03/12216/1247646.png"/>
          <p:cNvPicPr/>
          <p:nvPr/>
        </p:nvPicPr>
        <p:blipFill>
          <a:blip r:embed="rId14"/>
          <a:stretch/>
        </p:blipFill>
        <p:spPr>
          <a:xfrm>
            <a:off x="5751360" y="3371760"/>
            <a:ext cx="916200" cy="1801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http://pic4you.ru/allimage/y2011/10-03/12216/1247646.png"/>
          <p:cNvPicPr/>
          <p:nvPr/>
        </p:nvPicPr>
        <p:blipFill>
          <a:blip r:embed="rId15"/>
          <a:stretch/>
        </p:blipFill>
        <p:spPr>
          <a:xfrm>
            <a:off x="6829560" y="2824200"/>
            <a:ext cx="1195200" cy="2349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pic4you.ru/allimage/y2011/10-03/12216/1247646.png"/>
          <p:cNvPicPr/>
          <p:nvPr/>
        </p:nvPicPr>
        <p:blipFill>
          <a:blip r:embed="rId16"/>
          <a:stretch/>
        </p:blipFill>
        <p:spPr>
          <a:xfrm>
            <a:off x="8375760" y="2824200"/>
            <a:ext cx="1243080" cy="2442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85960" y="5048280"/>
            <a:ext cx="813888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Ь – ДОН, ДИНЬ – ДОН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н смеха, шуток Д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http://pic4you.ru/allimage/y2011/11-26/12216/1444428.png"/>
          <p:cNvPicPr/>
          <p:nvPr/>
        </p:nvPicPr>
        <p:blipFill>
          <a:blip r:embed="rId1"/>
          <a:stretch/>
        </p:blipFill>
        <p:spPr>
          <a:xfrm>
            <a:off x="885960" y="731880"/>
            <a:ext cx="1925640" cy="1706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pic4you.ru/allimage/y2011/11-26/12216/1444428.png"/>
          <p:cNvPicPr/>
          <p:nvPr/>
        </p:nvPicPr>
        <p:blipFill>
          <a:blip r:embed="rId2"/>
          <a:stretch/>
        </p:blipFill>
        <p:spPr>
          <a:xfrm>
            <a:off x="2976480" y="814320"/>
            <a:ext cx="1924200" cy="1706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pic4you.ru/allimage/y2011/11-26/12216/1444428.png"/>
          <p:cNvPicPr/>
          <p:nvPr/>
        </p:nvPicPr>
        <p:blipFill>
          <a:blip r:embed="rId3"/>
          <a:stretch/>
        </p:blipFill>
        <p:spPr>
          <a:xfrm>
            <a:off x="5511960" y="814320"/>
            <a:ext cx="1923840" cy="1706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://pic4you.ru/allimage/y2011/11-26/12216/1444428.png"/>
          <p:cNvPicPr/>
          <p:nvPr/>
        </p:nvPicPr>
        <p:blipFill>
          <a:blip r:embed="rId4"/>
          <a:stretch/>
        </p:blipFill>
        <p:spPr>
          <a:xfrm>
            <a:off x="7666200" y="814320"/>
            <a:ext cx="1927080" cy="1706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pic4you.ru/allimage/y2011/11-26/12216/1444428.png"/>
          <p:cNvPicPr/>
          <p:nvPr/>
        </p:nvPicPr>
        <p:blipFill>
          <a:blip r:embed="rId5"/>
          <a:stretch/>
        </p:blipFill>
        <p:spPr>
          <a:xfrm>
            <a:off x="569880" y="2906640"/>
            <a:ext cx="1490760" cy="1320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http://pic4you.ru/allimage/y2011/11-26/12216/1444428.png"/>
          <p:cNvPicPr/>
          <p:nvPr/>
        </p:nvPicPr>
        <p:blipFill>
          <a:blip r:embed="rId6"/>
          <a:stretch/>
        </p:blipFill>
        <p:spPr>
          <a:xfrm>
            <a:off x="1486080" y="2906640"/>
            <a:ext cx="1490400" cy="1320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ttp://pic4you.ru/allimage/y2011/11-26/12216/1444428.png"/>
          <p:cNvPicPr/>
          <p:nvPr/>
        </p:nvPicPr>
        <p:blipFill>
          <a:blip r:embed="rId7"/>
          <a:stretch/>
        </p:blipFill>
        <p:spPr>
          <a:xfrm>
            <a:off x="2778120" y="2906640"/>
            <a:ext cx="1490760" cy="1320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://pic4you.ru/allimage/y2011/11-26/12216/1444428.png"/>
          <p:cNvPicPr/>
          <p:nvPr/>
        </p:nvPicPr>
        <p:blipFill>
          <a:blip r:embed="rId8"/>
          <a:stretch/>
        </p:blipFill>
        <p:spPr>
          <a:xfrm>
            <a:off x="3743280" y="2906640"/>
            <a:ext cx="1490760" cy="1320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pic4you.ru/allimage/y2011/11-26/12216/1444428.png"/>
          <p:cNvPicPr/>
          <p:nvPr/>
        </p:nvPicPr>
        <p:blipFill>
          <a:blip r:embed="rId9"/>
          <a:stretch/>
        </p:blipFill>
        <p:spPr>
          <a:xfrm>
            <a:off x="5102280" y="2906640"/>
            <a:ext cx="1488960" cy="1320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http://pic4you.ru/allimage/y2011/11-26/12216/1444428.png"/>
          <p:cNvPicPr/>
          <p:nvPr/>
        </p:nvPicPr>
        <p:blipFill>
          <a:blip r:embed="rId10"/>
          <a:stretch/>
        </p:blipFill>
        <p:spPr>
          <a:xfrm>
            <a:off x="6207120" y="2906640"/>
            <a:ext cx="1488960" cy="1320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pic4you.ru/allimage/y2011/11-26/12216/1444428.png"/>
          <p:cNvPicPr/>
          <p:nvPr/>
        </p:nvPicPr>
        <p:blipFill>
          <a:blip r:embed="rId11"/>
          <a:stretch/>
        </p:blipFill>
        <p:spPr>
          <a:xfrm>
            <a:off x="7854840" y="2712960"/>
            <a:ext cx="1924200" cy="1706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939960" y="4944600"/>
            <a:ext cx="808488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етела вдруг пур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ужила, заме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http://gallery.yopriceville.com/var/resizes/Free-Clipart-Pictures/Christmas-PNG/Winter_House_with_Snow_PNG_Picture.png?m=1399681669"/>
          <p:cNvPicPr/>
          <p:nvPr/>
        </p:nvPicPr>
        <p:blipFill>
          <a:blip r:embed="rId1"/>
          <a:stretch/>
        </p:blipFill>
        <p:spPr>
          <a:xfrm>
            <a:off x="326880" y="1030320"/>
            <a:ext cx="1384560" cy="1003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gallery.yopriceville.com/var/resizes/Free-Clipart-Pictures/Christmas-PNG/Winter_House_with_Snow_PNG_Picture.png?m=1399681669"/>
          <p:cNvPicPr/>
          <p:nvPr/>
        </p:nvPicPr>
        <p:blipFill>
          <a:blip r:embed="rId2"/>
          <a:stretch/>
        </p:blipFill>
        <p:spPr>
          <a:xfrm>
            <a:off x="1298520" y="1285920"/>
            <a:ext cx="1384200" cy="1004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gallery.yopriceville.com/var/resizes/Free-Clipart-Pictures/Christmas-PNG/Winter_House_with_Snow_PNG_Picture.png?m=1399681669"/>
          <p:cNvPicPr/>
          <p:nvPr/>
        </p:nvPicPr>
        <p:blipFill>
          <a:blip r:embed="rId3"/>
          <a:stretch/>
        </p:blipFill>
        <p:spPr>
          <a:xfrm>
            <a:off x="2908440" y="938160"/>
            <a:ext cx="1384200" cy="1003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gallery.yopriceville.com/var/resizes/Free-Clipart-Pictures/Christmas-PNG/Winter_House_with_Snow_PNG_Picture.png?m=1399681669"/>
          <p:cNvPicPr/>
          <p:nvPr/>
        </p:nvPicPr>
        <p:blipFill>
          <a:blip r:embed="rId4"/>
          <a:stretch/>
        </p:blipFill>
        <p:spPr>
          <a:xfrm>
            <a:off x="3706920" y="1316160"/>
            <a:ext cx="1384200" cy="1003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gallery.yopriceville.com/var/resizes/Free-Clipart-Pictures/Christmas-PNG/Winter_House_with_Snow_PNG_Picture.png?m=1399681669"/>
          <p:cNvPicPr/>
          <p:nvPr/>
        </p:nvPicPr>
        <p:blipFill>
          <a:blip r:embed="rId5"/>
          <a:stretch/>
        </p:blipFill>
        <p:spPr>
          <a:xfrm>
            <a:off x="5310360" y="917640"/>
            <a:ext cx="1384200" cy="1003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gallery.yopriceville.com/var/resizes/Free-Clipart-Pictures/Christmas-PNG/Winter_House_with_Snow_PNG_Picture.png?m=1399681669"/>
          <p:cNvPicPr/>
          <p:nvPr/>
        </p:nvPicPr>
        <p:blipFill>
          <a:blip r:embed="rId6"/>
          <a:stretch/>
        </p:blipFill>
        <p:spPr>
          <a:xfrm>
            <a:off x="6154560" y="1285920"/>
            <a:ext cx="1384560" cy="1004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gallery.yopriceville.com/var/resizes/Free-Clipart-Pictures/Christmas-PNG/Winter_House_with_Snow_PNG_Picture.png?m=1399681669"/>
          <p:cNvPicPr/>
          <p:nvPr/>
        </p:nvPicPr>
        <p:blipFill>
          <a:blip r:embed="rId7"/>
          <a:stretch/>
        </p:blipFill>
        <p:spPr>
          <a:xfrm>
            <a:off x="7620120" y="738360"/>
            <a:ext cx="2195280" cy="1589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gallery.yopriceville.com/var/resizes/Free-Clipart-Pictures/Christmas-PNG/Winter_House_with_Snow_PNG_Picture.png?m=1399681669"/>
          <p:cNvPicPr/>
          <p:nvPr/>
        </p:nvPicPr>
        <p:blipFill>
          <a:blip r:embed="rId8"/>
          <a:stretch/>
        </p:blipFill>
        <p:spPr>
          <a:xfrm>
            <a:off x="263520" y="3240000"/>
            <a:ext cx="1384200" cy="1003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gallery.yopriceville.com/var/resizes/Free-Clipart-Pictures/Christmas-PNG/Winter_House_with_Snow_PNG_Picture.png?m=1399681669"/>
          <p:cNvPicPr/>
          <p:nvPr/>
        </p:nvPicPr>
        <p:blipFill>
          <a:blip r:embed="rId9"/>
          <a:stretch/>
        </p:blipFill>
        <p:spPr>
          <a:xfrm>
            <a:off x="2809800" y="3092400"/>
            <a:ext cx="1249560" cy="905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ttp://gallery.yopriceville.com/var/resizes/Free-Clipart-Pictures/Christmas-PNG/Winter_House_with_Snow_PNG_Picture.png?m=1399681669"/>
          <p:cNvPicPr/>
          <p:nvPr/>
        </p:nvPicPr>
        <p:blipFill>
          <a:blip r:embed="rId10"/>
          <a:stretch/>
        </p:blipFill>
        <p:spPr>
          <a:xfrm>
            <a:off x="3564000" y="3344760"/>
            <a:ext cx="1384200" cy="1003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gallery.yopriceville.com/var/resizes/Free-Clipart-Pictures/Christmas-PNG/Winter_House_with_Snow_PNG_Picture.png?m=1399681669"/>
          <p:cNvPicPr/>
          <p:nvPr/>
        </p:nvPicPr>
        <p:blipFill>
          <a:blip r:embed="rId11"/>
          <a:stretch/>
        </p:blipFill>
        <p:spPr>
          <a:xfrm>
            <a:off x="5310360" y="3040200"/>
            <a:ext cx="1384200" cy="1004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http://gallery.yopriceville.com/var/resizes/Free-Clipart-Pictures/Christmas-PNG/Winter_House_with_Snow_PNG_Picture.png?m=1399681669"/>
          <p:cNvPicPr/>
          <p:nvPr/>
        </p:nvPicPr>
        <p:blipFill>
          <a:blip r:embed="rId12"/>
          <a:stretch/>
        </p:blipFill>
        <p:spPr>
          <a:xfrm>
            <a:off x="6235560" y="3344760"/>
            <a:ext cx="1384560" cy="1003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ttp://gallery.yopriceville.com/var/resizes/Free-Clipart-Pictures/Christmas-PNG/Winter_House_with_Snow_PNG_Picture.png?m=1399681669"/>
          <p:cNvPicPr/>
          <p:nvPr/>
        </p:nvPicPr>
        <p:blipFill>
          <a:blip r:embed="rId13"/>
          <a:stretch/>
        </p:blipFill>
        <p:spPr>
          <a:xfrm>
            <a:off x="1157400" y="3543480"/>
            <a:ext cx="1384200" cy="1001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http://gallery.yopriceville.com/var/resizes/Free-Clipart-Pictures/Christmas-PNG/Winter_House_with_Snow_PNG_Picture.png?m=1399681669"/>
          <p:cNvPicPr/>
          <p:nvPr/>
        </p:nvPicPr>
        <p:blipFill>
          <a:blip r:embed="rId14"/>
          <a:stretch/>
        </p:blipFill>
        <p:spPr>
          <a:xfrm>
            <a:off x="7756560" y="2708280"/>
            <a:ext cx="2193840" cy="158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29960" y="4919400"/>
            <a:ext cx="799452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амоЛЁТ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ём летит пиЛО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http://lenagold.narod.ru/fon/clipart/d/dedm/dedmoroz99.png"/>
          <p:cNvPicPr/>
          <p:nvPr/>
        </p:nvPicPr>
        <p:blipFill>
          <a:blip r:embed="rId1"/>
          <a:stretch/>
        </p:blipFill>
        <p:spPr>
          <a:xfrm>
            <a:off x="423720" y="973080"/>
            <a:ext cx="1231920" cy="1127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lenagold.narod.ru/fon/clipart/d/dedm/dedmoroz99.png"/>
          <p:cNvPicPr/>
          <p:nvPr/>
        </p:nvPicPr>
        <p:blipFill>
          <a:blip r:embed="rId2"/>
          <a:stretch/>
        </p:blipFill>
        <p:spPr>
          <a:xfrm>
            <a:off x="1406520" y="1138320"/>
            <a:ext cx="1233360" cy="1127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://lenagold.narod.ru/fon/clipart/d/dedm/dedmoroz99.png"/>
          <p:cNvPicPr/>
          <p:nvPr/>
        </p:nvPicPr>
        <p:blipFill>
          <a:blip r:embed="rId3"/>
          <a:stretch/>
        </p:blipFill>
        <p:spPr>
          <a:xfrm>
            <a:off x="2873520" y="973080"/>
            <a:ext cx="1231920" cy="1127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ttp://lenagold.narod.ru/fon/clipart/d/dedm/dedmoroz99.png"/>
          <p:cNvPicPr/>
          <p:nvPr/>
        </p:nvPicPr>
        <p:blipFill>
          <a:blip r:embed="rId4"/>
          <a:stretch/>
        </p:blipFill>
        <p:spPr>
          <a:xfrm>
            <a:off x="3929040" y="1138320"/>
            <a:ext cx="1233360" cy="1127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://lenagold.narod.ru/fon/clipart/d/dedm/dedmoroz99.png"/>
          <p:cNvPicPr/>
          <p:nvPr/>
        </p:nvPicPr>
        <p:blipFill>
          <a:blip r:embed="rId5"/>
          <a:stretch/>
        </p:blipFill>
        <p:spPr>
          <a:xfrm>
            <a:off x="5619600" y="431640"/>
            <a:ext cx="2106720" cy="1925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ttp://lenagold.narod.ru/fon/clipart/d/dedm/dedmoroz99.png"/>
          <p:cNvPicPr/>
          <p:nvPr/>
        </p:nvPicPr>
        <p:blipFill>
          <a:blip r:embed="rId6"/>
          <a:stretch/>
        </p:blipFill>
        <p:spPr>
          <a:xfrm>
            <a:off x="673200" y="3094200"/>
            <a:ext cx="1231920" cy="1125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://lenagold.narod.ru/fon/clipart/d/dedm/dedmoroz99.png"/>
          <p:cNvPicPr/>
          <p:nvPr/>
        </p:nvPicPr>
        <p:blipFill>
          <a:blip r:embed="rId7"/>
          <a:stretch/>
        </p:blipFill>
        <p:spPr>
          <a:xfrm>
            <a:off x="1655640" y="3259080"/>
            <a:ext cx="1233720" cy="1125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lenagold.narod.ru/fon/clipart/d/dedm/dedmoroz99.png"/>
          <p:cNvPicPr/>
          <p:nvPr/>
        </p:nvPicPr>
        <p:blipFill>
          <a:blip r:embed="rId8"/>
          <a:stretch/>
        </p:blipFill>
        <p:spPr>
          <a:xfrm>
            <a:off x="3121200" y="3094200"/>
            <a:ext cx="1233360" cy="1125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lenagold.narod.ru/fon/clipart/d/dedm/dedmoroz99.png"/>
          <p:cNvPicPr/>
          <p:nvPr/>
        </p:nvPicPr>
        <p:blipFill>
          <a:blip r:embed="rId9"/>
          <a:stretch/>
        </p:blipFill>
        <p:spPr>
          <a:xfrm>
            <a:off x="4179960" y="3259080"/>
            <a:ext cx="1231920" cy="1125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://lenagold.narod.ru/fon/clipart/d/dedm/dedmoroz99.png"/>
          <p:cNvPicPr/>
          <p:nvPr/>
        </p:nvPicPr>
        <p:blipFill>
          <a:blip r:embed="rId10"/>
          <a:stretch/>
        </p:blipFill>
        <p:spPr>
          <a:xfrm>
            <a:off x="5869080" y="2554200"/>
            <a:ext cx="2108160" cy="19242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3" descr="5b3c487f157f.png"/>
          <p:cNvPicPr/>
          <p:nvPr/>
        </p:nvPicPr>
        <p:blipFill>
          <a:blip r:embed="rId11"/>
          <a:stretch/>
        </p:blipFill>
        <p:spPr>
          <a:xfrm>
            <a:off x="7942320" y="-106200"/>
            <a:ext cx="1566720" cy="25286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3" descr="5b3c487f157f.png"/>
          <p:cNvPicPr/>
          <p:nvPr/>
        </p:nvPicPr>
        <p:blipFill>
          <a:blip r:embed="rId12"/>
          <a:stretch/>
        </p:blipFill>
        <p:spPr>
          <a:xfrm>
            <a:off x="8107200" y="1855800"/>
            <a:ext cx="1567080" cy="2529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4:28:54Z</dcterms:created>
  <dc:creator>Инна</dc:creator>
  <dc:description/>
  <dc:language>en-US</dc:language>
  <cp:lastModifiedBy>Пользователь</cp:lastModifiedBy>
  <cp:lastPrinted>2021-12-06T19:24:19Z</cp:lastPrinted>
  <dcterms:modified xsi:type="dcterms:W3CDTF">2022-12-10T16:56:15Z</dcterms:modified>
  <cp:revision>61</cp:revision>
  <dc:subject/>
  <dc:title>Презентация PowerPoint</dc:title>
</cp:coreProperties>
</file>