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DECC-581E-4EA3-8582-BFE9250495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6CA0-208D-4F27-B7AA-27DDBD192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631-F278-4851-B8D2-AEA50F59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5CE-1811-415E-9BA1-F55E052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DC6-FBF1-452C-98EE-A2ACFD39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F01-A954-49C7-8F02-54EC0C1B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BD47-E621-4754-9769-AAFCE17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529-5000-449E-B4AD-A6514669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DCF-D9B2-4123-91A5-19D94C9A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D9F-3A72-49EA-8899-8B3EBC6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ACA9-6BD4-4E2F-ADB4-C4A80A4F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746D-E1F8-4446-B54B-3968E64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13D-3BA3-464F-AA33-6425B46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F5E-20EA-4599-91C6-7D6EAC5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571E-2C77-4EF5-BB78-B3E01E8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27B-F51F-493D-8E91-6A93ED8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DF85-F084-4BA1-8D9C-9822C176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3D2-45DF-429C-A840-131634B9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728-79B4-4675-B8AC-6722602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429-92B7-4027-9384-EF54DEF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5FA-5C79-4210-9998-80C79E78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E6B-6516-4F43-A7D3-5B2463C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79D-AAEA-47E3-ABD5-25DE6F4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0FD-00D2-4466-B567-56F1A9F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115-1584-4FAB-9DE6-95A594C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DF8-B0B3-4508-931D-C705807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7E8-CC78-496C-8ADA-1C1D2B479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2FD8-F5ED-4BE6-8C17-FE8A47A6C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47560" y="4568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36760" indent="-14367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cd044"/>
                </a:solidFill>
                <a:latin typeface="Arial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1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Функции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Биосинтез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1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Первооткрыватели           биосинтеза 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2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2.3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Транс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d044"/>
                </a:solidFill>
                <a:latin typeface="Arial"/>
              </a:rPr>
              <a:t>3. </a:t>
            </a:r>
            <a:r>
              <a:rPr b="0" lang="ru-RU" sz="40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36760" indent="-1436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Bookman Old Style"/>
              </a:rPr>
              <a:t>БИОСИНТЕЗ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Bookman Old Style"/>
              </a:rPr>
              <a:t>БЕЛКА</a:t>
            </a:r>
            <a:br>
              <a:rPr sz="7200"/>
            </a:br>
            <a:endParaRPr b="0" lang="en-US" sz="7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609480" y="34290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04920" y="259092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cd044"/>
                </a:solidFill>
                <a:latin typeface="Arial"/>
              </a:rPr>
              <a:t>Реплика́ция ДН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 Репликацию ДНК осуществляет фермент ДНК-полимер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>
            <a:hlinkClick r:id="rId1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ервооткрыватели биосинтеза белк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2" name="Picture 7" descr="фото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90720" y="1371600"/>
            <a:ext cx="2531880" cy="2801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57200" y="4233960"/>
            <a:ext cx="34797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фото 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4120" y="1371600"/>
            <a:ext cx="244152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4952880" y="4191120"/>
            <a:ext cx="3581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>
            <a:hlinkClick r:id="rId4" action="ppaction://hlinksldjump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3276360"/>
            <a:ext cx="34797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фото"/>
          <p:cNvPicPr/>
          <p:nvPr/>
        </p:nvPicPr>
        <p:blipFill>
          <a:blip r:embed="rId1"/>
          <a:stretch/>
        </p:blipFill>
        <p:spPr>
          <a:xfrm>
            <a:off x="380880" y="228600"/>
            <a:ext cx="2743200" cy="280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733920" y="228600"/>
            <a:ext cx="5029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ЖАКОБ Франсуа один из авторов гипотезы переноса генетической информации и регуляции синтеза белка в бактериальных клетках (концепция оперона). Лауреат нобелевской премия за открытия, касающиеся генетического контроля синтеза ферментов и вирусов.(196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2" action="ppaction://hlinksldjump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фото 2"/>
          <p:cNvPicPr/>
          <p:nvPr/>
        </p:nvPicPr>
        <p:blipFill>
          <a:blip r:embed="rId1"/>
          <a:stretch/>
        </p:blipFill>
        <p:spPr>
          <a:xfrm>
            <a:off x="685800" y="304920"/>
            <a:ext cx="2276640" cy="2651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04920" y="320040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>
            <a:hlinkClick r:id="rId2" action="ppaction://hlinksldjump"/>
          </p:cNvPr>
          <p:cNvSpPr/>
          <p:nvPr/>
        </p:nvSpPr>
        <p:spPr>
          <a:xfrm>
            <a:off x="80010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733920" y="228600"/>
            <a:ext cx="5105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Лауреат Нобелевской премии 1965 г. по физиологии и медицине «за открытия, связанные с генетическим контролем синтеза ферментов и вирусов». Его труды совместно с Ф.Жакоб и </a:t>
            </a:r>
            <a:r>
              <a:rPr b="0" lang="en-US" sz="2800" spc="-1" strike="noStrike">
                <a:solidFill>
                  <a:srgbClr val="ecd044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ecd044"/>
                </a:solidFill>
                <a:latin typeface="Arial"/>
              </a:rPr>
              <a:t>А. Львовым открыли такую область исследования, которую в полном смысле слова можно назвать молекулярной биолог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280" y="263520"/>
            <a:ext cx="3861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Транскрипция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723888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914400"/>
            <a:ext cx="86868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Первый этап биосинтеза белка—транскрипция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Транскрипци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это переписы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информации с последовательности нуклеотидов ДНК в последовательность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нуклеотидов Р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>
            <a:off x="6705720" y="2209680"/>
            <a:ext cx="1008000" cy="46483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35" h="2928">
                <a:moveTo>
                  <a:pt x="251" y="0"/>
                </a:moveTo>
                <a:cubicBezTo>
                  <a:pt x="135" y="84"/>
                  <a:pt x="19" y="168"/>
                  <a:pt x="59" y="240"/>
                </a:cubicBezTo>
                <a:cubicBezTo>
                  <a:pt x="99" y="312"/>
                  <a:pt x="483" y="352"/>
                  <a:pt x="491" y="432"/>
                </a:cubicBezTo>
                <a:cubicBezTo>
                  <a:pt x="499" y="512"/>
                  <a:pt x="91" y="616"/>
                  <a:pt x="107" y="720"/>
                </a:cubicBezTo>
                <a:cubicBezTo>
                  <a:pt x="123" y="824"/>
                  <a:pt x="603" y="863"/>
                  <a:pt x="587" y="1056"/>
                </a:cubicBezTo>
                <a:cubicBezTo>
                  <a:pt x="571" y="1249"/>
                  <a:pt x="0" y="1567"/>
                  <a:pt x="8" y="1879"/>
                </a:cubicBezTo>
                <a:cubicBezTo>
                  <a:pt x="16" y="2191"/>
                  <a:pt x="505" y="2710"/>
                  <a:pt x="635" y="29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6858000" y="2286000"/>
            <a:ext cx="1587600" cy="457200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000" h="2880">
                <a:moveTo>
                  <a:pt x="64" y="0"/>
                </a:moveTo>
                <a:cubicBezTo>
                  <a:pt x="236" y="12"/>
                  <a:pt x="408" y="24"/>
                  <a:pt x="400" y="96"/>
                </a:cubicBezTo>
                <a:cubicBezTo>
                  <a:pt x="392" y="168"/>
                  <a:pt x="0" y="336"/>
                  <a:pt x="16" y="432"/>
                </a:cubicBezTo>
                <a:cubicBezTo>
                  <a:pt x="32" y="528"/>
                  <a:pt x="480" y="568"/>
                  <a:pt x="496" y="672"/>
                </a:cubicBezTo>
                <a:cubicBezTo>
                  <a:pt x="512" y="776"/>
                  <a:pt x="32" y="896"/>
                  <a:pt x="112" y="1056"/>
                </a:cubicBezTo>
                <a:cubicBezTo>
                  <a:pt x="192" y="1216"/>
                  <a:pt x="952" y="1328"/>
                  <a:pt x="976" y="1632"/>
                </a:cubicBezTo>
                <a:cubicBezTo>
                  <a:pt x="1000" y="1936"/>
                  <a:pt x="628" y="2408"/>
                  <a:pt x="256" y="28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7178760" y="4484520"/>
            <a:ext cx="152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026120" y="463716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6873840" y="47894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797520" y="4941720"/>
            <a:ext cx="152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6721560" y="509436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6721560" y="52466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6797520" y="539892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6873840" y="555156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6950160" y="570384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7026120" y="593244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7178760" y="60847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7254720" y="623736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7407360" y="6389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73152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731700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7164360" y="4495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7012440" y="4648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6936120" y="48006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678348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6858000" y="510552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6934320" y="5257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6860160" y="52578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6936120" y="5410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7086600" y="5562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7010280" y="555156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3"/>
          <p:cNvSpPr/>
          <p:nvPr/>
        </p:nvSpPr>
        <p:spPr>
          <a:xfrm>
            <a:off x="7088040" y="5791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3"/>
          <p:cNvSpPr/>
          <p:nvPr/>
        </p:nvSpPr>
        <p:spPr>
          <a:xfrm>
            <a:off x="1028880" y="2286000"/>
            <a:ext cx="965160" cy="4572000"/>
          </a:xfrm>
          <a:custGeom>
            <a:avLst/>
            <a:gdLst>
              <a:gd name="textAreaLeft" fmla="*/ 0 w 965160"/>
              <a:gd name="textAreaRight" fmla="*/ 965520 w 96516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608" h="2880">
                <a:moveTo>
                  <a:pt x="264" y="0"/>
                </a:moveTo>
                <a:cubicBezTo>
                  <a:pt x="132" y="80"/>
                  <a:pt x="0" y="160"/>
                  <a:pt x="24" y="240"/>
                </a:cubicBezTo>
                <a:cubicBezTo>
                  <a:pt x="48" y="320"/>
                  <a:pt x="408" y="400"/>
                  <a:pt x="408" y="480"/>
                </a:cubicBezTo>
                <a:cubicBezTo>
                  <a:pt x="408" y="560"/>
                  <a:pt x="24" y="624"/>
                  <a:pt x="24" y="720"/>
                </a:cubicBezTo>
                <a:cubicBezTo>
                  <a:pt x="24" y="816"/>
                  <a:pt x="400" y="960"/>
                  <a:pt x="408" y="1056"/>
                </a:cubicBezTo>
                <a:cubicBezTo>
                  <a:pt x="416" y="1152"/>
                  <a:pt x="56" y="1200"/>
                  <a:pt x="72" y="1296"/>
                </a:cubicBezTo>
                <a:cubicBezTo>
                  <a:pt x="88" y="1392"/>
                  <a:pt x="504" y="1528"/>
                  <a:pt x="504" y="1632"/>
                </a:cubicBezTo>
                <a:cubicBezTo>
                  <a:pt x="504" y="1736"/>
                  <a:pt x="72" y="1816"/>
                  <a:pt x="72" y="1920"/>
                </a:cubicBezTo>
                <a:cubicBezTo>
                  <a:pt x="72" y="2024"/>
                  <a:pt x="504" y="2160"/>
                  <a:pt x="504" y="2256"/>
                </a:cubicBezTo>
                <a:cubicBezTo>
                  <a:pt x="504" y="2352"/>
                  <a:pt x="64" y="2416"/>
                  <a:pt x="72" y="2496"/>
                </a:cubicBezTo>
                <a:cubicBezTo>
                  <a:pt x="80" y="2576"/>
                  <a:pt x="496" y="2672"/>
                  <a:pt x="552" y="2736"/>
                </a:cubicBezTo>
                <a:cubicBezTo>
                  <a:pt x="608" y="2800"/>
                  <a:pt x="432" y="2856"/>
                  <a:pt x="408" y="28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64"/>
          <p:cNvSpPr/>
          <p:nvPr/>
        </p:nvSpPr>
        <p:spPr>
          <a:xfrm>
            <a:off x="990720" y="2362320"/>
            <a:ext cx="876240" cy="4495680"/>
          </a:xfrm>
          <a:custGeom>
            <a:avLst/>
            <a:gdLst>
              <a:gd name="textAreaLeft" fmla="*/ 0 w 876240"/>
              <a:gd name="textAreaRight" fmla="*/ 876600 w 876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552" h="2832">
                <a:moveTo>
                  <a:pt x="104" y="0"/>
                </a:moveTo>
                <a:cubicBezTo>
                  <a:pt x="280" y="40"/>
                  <a:pt x="456" y="80"/>
                  <a:pt x="440" y="144"/>
                </a:cubicBezTo>
                <a:cubicBezTo>
                  <a:pt x="424" y="208"/>
                  <a:pt x="0" y="296"/>
                  <a:pt x="8" y="384"/>
                </a:cubicBezTo>
                <a:cubicBezTo>
                  <a:pt x="16" y="472"/>
                  <a:pt x="480" y="576"/>
                  <a:pt x="488" y="672"/>
                </a:cubicBezTo>
                <a:cubicBezTo>
                  <a:pt x="496" y="768"/>
                  <a:pt x="48" y="856"/>
                  <a:pt x="56" y="960"/>
                </a:cubicBezTo>
                <a:cubicBezTo>
                  <a:pt x="64" y="1064"/>
                  <a:pt x="520" y="1192"/>
                  <a:pt x="536" y="1296"/>
                </a:cubicBezTo>
                <a:cubicBezTo>
                  <a:pt x="552" y="1400"/>
                  <a:pt x="152" y="1480"/>
                  <a:pt x="152" y="1584"/>
                </a:cubicBezTo>
                <a:cubicBezTo>
                  <a:pt x="152" y="1688"/>
                  <a:pt x="552" y="1816"/>
                  <a:pt x="536" y="1920"/>
                </a:cubicBezTo>
                <a:cubicBezTo>
                  <a:pt x="520" y="2024"/>
                  <a:pt x="56" y="2112"/>
                  <a:pt x="56" y="2208"/>
                </a:cubicBezTo>
                <a:cubicBezTo>
                  <a:pt x="56" y="2304"/>
                  <a:pt x="528" y="2424"/>
                  <a:pt x="536" y="2496"/>
                </a:cubicBezTo>
                <a:cubicBezTo>
                  <a:pt x="544" y="2568"/>
                  <a:pt x="152" y="2584"/>
                  <a:pt x="104" y="2640"/>
                </a:cubicBezTo>
                <a:cubicBezTo>
                  <a:pt x="56" y="2696"/>
                  <a:pt x="224" y="2800"/>
                  <a:pt x="248" y="2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5"/>
          <p:cNvSpPr/>
          <p:nvPr/>
        </p:nvSpPr>
        <p:spPr>
          <a:xfrm>
            <a:off x="2057400" y="57150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1981080" y="2362320"/>
            <a:ext cx="4648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В определенном участке ДНК под действием ферментов белки-гистоны отделяются, водородные связи рвутся, и двойная спираль ДНК раскручивается. Одна из цепочек станови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атрицей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для построения и-РНК. Участок ДНК в определенном месте начинает раскручиваться под действием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7"/>
          <p:cNvSpPr/>
          <p:nvPr/>
        </p:nvSpPr>
        <p:spPr>
          <a:xfrm>
            <a:off x="60480" y="6335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8"/>
          <p:cNvSpPr/>
          <p:nvPr/>
        </p:nvSpPr>
        <p:spPr>
          <a:xfrm flipH="1">
            <a:off x="7162560" y="4191120"/>
            <a:ext cx="990360" cy="99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9"/>
          <p:cNvSpPr/>
          <p:nvPr/>
        </p:nvSpPr>
        <p:spPr>
          <a:xfrm>
            <a:off x="7848360" y="3886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матр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0"/>
          <p:cNvSpPr/>
          <p:nvPr/>
        </p:nvSpPr>
        <p:spPr>
          <a:xfrm>
            <a:off x="304920" y="6324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Затем на основе матрицы под действием фермента РНК-полимеразы из свободных нуклеотидов по принципу комплементарности начинается сборка мРНК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"/>
          <p:cNvSpPr/>
          <p:nvPr/>
        </p:nvSpPr>
        <p:spPr>
          <a:xfrm>
            <a:off x="685800" y="1371600"/>
            <a:ext cx="1333440" cy="54864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840" h="3456">
                <a:moveTo>
                  <a:pt x="640" y="0"/>
                </a:moveTo>
                <a:cubicBezTo>
                  <a:pt x="528" y="48"/>
                  <a:pt x="416" y="96"/>
                  <a:pt x="448" y="192"/>
                </a:cubicBezTo>
                <a:cubicBezTo>
                  <a:pt x="480" y="288"/>
                  <a:pt x="840" y="440"/>
                  <a:pt x="832" y="576"/>
                </a:cubicBezTo>
                <a:cubicBezTo>
                  <a:pt x="824" y="712"/>
                  <a:pt x="528" y="832"/>
                  <a:pt x="400" y="1008"/>
                </a:cubicBezTo>
                <a:cubicBezTo>
                  <a:pt x="272" y="1184"/>
                  <a:pt x="128" y="1440"/>
                  <a:pt x="64" y="1632"/>
                </a:cubicBezTo>
                <a:cubicBezTo>
                  <a:pt x="0" y="1824"/>
                  <a:pt x="7" y="1980"/>
                  <a:pt x="16" y="2160"/>
                </a:cubicBezTo>
                <a:cubicBezTo>
                  <a:pt x="25" y="2340"/>
                  <a:pt x="73" y="2555"/>
                  <a:pt x="121" y="2711"/>
                </a:cubicBezTo>
                <a:cubicBezTo>
                  <a:pt x="169" y="2867"/>
                  <a:pt x="234" y="2971"/>
                  <a:pt x="304" y="3095"/>
                </a:cubicBezTo>
                <a:cubicBezTo>
                  <a:pt x="374" y="3219"/>
                  <a:pt x="494" y="3381"/>
                  <a:pt x="544" y="3456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>
            <a:off x="1295280" y="1335240"/>
            <a:ext cx="1422360" cy="552276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5522760"/>
              <a:gd name="textAreaBottom" fmla="*/ 5523120 h 5522760"/>
            </a:gdLst>
            <a:ahLst/>
            <a:rect l="textAreaLeft" t="textAreaTop" r="textAreaRight" b="textAreaBottom"/>
            <a:pathLst>
              <a:path w="896" h="3479">
                <a:moveTo>
                  <a:pt x="89" y="0"/>
                </a:moveTo>
                <a:cubicBezTo>
                  <a:pt x="145" y="37"/>
                  <a:pt x="431" y="115"/>
                  <a:pt x="432" y="215"/>
                </a:cubicBezTo>
                <a:cubicBezTo>
                  <a:pt x="433" y="315"/>
                  <a:pt x="80" y="423"/>
                  <a:pt x="96" y="599"/>
                </a:cubicBezTo>
                <a:cubicBezTo>
                  <a:pt x="112" y="775"/>
                  <a:pt x="416" y="1063"/>
                  <a:pt x="528" y="1271"/>
                </a:cubicBezTo>
                <a:cubicBezTo>
                  <a:pt x="640" y="1479"/>
                  <a:pt x="728" y="1631"/>
                  <a:pt x="768" y="1847"/>
                </a:cubicBezTo>
                <a:cubicBezTo>
                  <a:pt x="808" y="2063"/>
                  <a:pt x="896" y="2295"/>
                  <a:pt x="768" y="2567"/>
                </a:cubicBezTo>
                <a:cubicBezTo>
                  <a:pt x="640" y="2839"/>
                  <a:pt x="136" y="3327"/>
                  <a:pt x="0" y="3479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371600" y="3048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10666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9144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8380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7621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76212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76212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838080" y="5486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99072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3716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1295280" y="3048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1433880" y="2906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1203480" y="321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127880" y="3211560"/>
            <a:ext cx="3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1068840" y="3505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976680" y="3821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900360" y="4202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899640" y="45831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900360" y="4964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976680" y="5345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1051560" y="572616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1280880" y="6107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16765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18306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13716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1525680" y="3200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12952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373040" y="35053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>
            <a:off x="1219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1356840" y="3821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3"/>
          <p:cNvSpPr/>
          <p:nvPr/>
        </p:nvSpPr>
        <p:spPr>
          <a:xfrm>
            <a:off x="11430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1297080" y="4191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11430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1281600" y="4583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11430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1280880" y="4964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9"/>
          <p:cNvSpPr/>
          <p:nvPr/>
        </p:nvSpPr>
        <p:spPr>
          <a:xfrm>
            <a:off x="12193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1"/>
          <p:cNvSpPr/>
          <p:nvPr/>
        </p:nvSpPr>
        <p:spPr>
          <a:xfrm>
            <a:off x="1280520" y="5345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2"/>
          <p:cNvSpPr/>
          <p:nvPr/>
        </p:nvSpPr>
        <p:spPr>
          <a:xfrm>
            <a:off x="137160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1510200" y="5726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4"/>
          <p:cNvSpPr/>
          <p:nvPr/>
        </p:nvSpPr>
        <p:spPr>
          <a:xfrm>
            <a:off x="1523880" y="6248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1678320" y="6095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6"/>
          <p:cNvSpPr/>
          <p:nvPr/>
        </p:nvSpPr>
        <p:spPr>
          <a:xfrm flipH="1">
            <a:off x="1752480" y="3124080"/>
            <a:ext cx="15264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7"/>
          <p:cNvSpPr/>
          <p:nvPr/>
        </p:nvSpPr>
        <p:spPr>
          <a:xfrm flipH="1">
            <a:off x="1600200" y="3429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8"/>
          <p:cNvSpPr/>
          <p:nvPr/>
        </p:nvSpPr>
        <p:spPr>
          <a:xfrm flipH="1">
            <a:off x="1523880" y="3733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0"/>
          <p:cNvSpPr/>
          <p:nvPr/>
        </p:nvSpPr>
        <p:spPr>
          <a:xfrm flipH="1">
            <a:off x="1447560" y="4114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1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2"/>
          <p:cNvSpPr/>
          <p:nvPr/>
        </p:nvSpPr>
        <p:spPr>
          <a:xfrm>
            <a:off x="1447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447920" y="5257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1523880" y="5638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6"/>
          <p:cNvSpPr/>
          <p:nvPr/>
        </p:nvSpPr>
        <p:spPr>
          <a:xfrm>
            <a:off x="1676520" y="5943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7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8"/>
          <p:cNvSpPr/>
          <p:nvPr/>
        </p:nvSpPr>
        <p:spPr>
          <a:xfrm>
            <a:off x="1828800" y="6324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H="1">
            <a:off x="2209320" y="25146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3506040" y="2209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9"/>
          <p:cNvSpPr/>
          <p:nvPr/>
        </p:nvSpPr>
        <p:spPr>
          <a:xfrm>
            <a:off x="4572000" y="25909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жду азотистыми основаниями ДНК и  РНК возникают водородные связи, а  между нуклеотидами самой матричной  РНК образуются сложно-эфир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0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3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4"/>
          <p:cNvSpPr/>
          <p:nvPr/>
        </p:nvSpPr>
        <p:spPr>
          <a:xfrm flipH="1">
            <a:off x="1600200" y="579132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5"/>
          <p:cNvSpPr/>
          <p:nvPr/>
        </p:nvSpPr>
        <p:spPr>
          <a:xfrm flipH="1">
            <a:off x="1676520" y="5410080"/>
            <a:ext cx="18288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6"/>
          <p:cNvSpPr/>
          <p:nvPr/>
        </p:nvSpPr>
        <p:spPr>
          <a:xfrm flipH="1">
            <a:off x="1599840" y="5562720"/>
            <a:ext cx="152388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8"/>
          <p:cNvSpPr/>
          <p:nvPr/>
        </p:nvSpPr>
        <p:spPr>
          <a:xfrm flipH="1">
            <a:off x="1599840" y="53341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9"/>
          <p:cNvSpPr/>
          <p:nvPr/>
        </p:nvSpPr>
        <p:spPr>
          <a:xfrm>
            <a:off x="3278160" y="51814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0"/>
          <p:cNvSpPr/>
          <p:nvPr/>
        </p:nvSpPr>
        <p:spPr>
          <a:xfrm flipH="1">
            <a:off x="1447560" y="48006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1"/>
          <p:cNvSpPr/>
          <p:nvPr/>
        </p:nvSpPr>
        <p:spPr>
          <a:xfrm>
            <a:off x="3124800" y="4495680"/>
            <a:ext cx="2382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ложно-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cc66"/>
                </a:solidFill>
                <a:latin typeface="Arial"/>
              </a:rPr>
              <a:t>св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5"/>
          <p:cNvSpPr/>
          <p:nvPr/>
        </p:nvSpPr>
        <p:spPr>
          <a:xfrm>
            <a:off x="2669760" y="38098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739800" y="3813120"/>
            <a:ext cx="3324240" cy="1047960"/>
          </a:xfrm>
          <a:custGeom>
            <a:avLst/>
            <a:gdLst>
              <a:gd name="textAreaLeft" fmla="*/ 0 w 3324240"/>
              <a:gd name="textAreaRight" fmla="*/ 3324600 w 332424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w="2094" h="660">
                <a:moveTo>
                  <a:pt x="0" y="182"/>
                </a:moveTo>
                <a:cubicBezTo>
                  <a:pt x="72" y="153"/>
                  <a:pt x="276" y="24"/>
                  <a:pt x="430" y="12"/>
                </a:cubicBezTo>
                <a:cubicBezTo>
                  <a:pt x="584" y="0"/>
                  <a:pt x="796" y="100"/>
                  <a:pt x="927" y="108"/>
                </a:cubicBezTo>
                <a:cubicBezTo>
                  <a:pt x="1058" y="116"/>
                  <a:pt x="1079" y="53"/>
                  <a:pt x="1215" y="61"/>
                </a:cubicBezTo>
                <a:cubicBezTo>
                  <a:pt x="1351" y="69"/>
                  <a:pt x="1631" y="69"/>
                  <a:pt x="1743" y="155"/>
                </a:cubicBezTo>
                <a:cubicBezTo>
                  <a:pt x="1856" y="242"/>
                  <a:pt x="1845" y="500"/>
                  <a:pt x="1888" y="580"/>
                </a:cubicBezTo>
                <a:cubicBezTo>
                  <a:pt x="1931" y="660"/>
                  <a:pt x="1969" y="621"/>
                  <a:pt x="2003" y="633"/>
                </a:cubicBezTo>
                <a:cubicBezTo>
                  <a:pt x="2037" y="645"/>
                  <a:pt x="2075" y="648"/>
                  <a:pt x="2094" y="65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609480" y="3124080"/>
            <a:ext cx="3200400" cy="327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7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ccff66"/>
                </a:solidFill>
                <a:latin typeface="Arial"/>
              </a:rPr>
              <a:t>После  сборки мРНК водородные связи между азотистыми основаниями ДНК и мРНК рвутся, и новообразованная мРНК через поры в ядре уходит в цитоплазму, где прикрепляется к рибосомам. А две цепочки ДНК вновь соединяются, восстанавливая двойную спираль, и опять связываются с белками-гистон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ccff66"/>
                </a:solidFill>
                <a:latin typeface="Arial"/>
              </a:rPr>
              <a:t>МРНК присоединяется к  поверхности малой субъединицы в присутствии ионов магния. Причем два ее триплета нуклеотидов оказываются обращенными к большой субъединице рибосомы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684360" y="4489560"/>
            <a:ext cx="3201840" cy="39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2741760" y="396072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2438280" y="5029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12193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1752480" y="5715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048120" y="5715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828800" y="37339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914400" y="39625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914400" y="5486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3276720" y="48769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2438280" y="3352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2286000" y="6172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1828800" y="4495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3429000" y="41911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286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Я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5"/>
          <p:cNvSpPr/>
          <p:nvPr/>
        </p:nvSpPr>
        <p:spPr>
          <a:xfrm>
            <a:off x="632448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6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7"/>
          <p:cNvSpPr/>
          <p:nvPr/>
        </p:nvSpPr>
        <p:spPr>
          <a:xfrm>
            <a:off x="777240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8"/>
          <p:cNvSpPr/>
          <p:nvPr/>
        </p:nvSpPr>
        <p:spPr>
          <a:xfrm>
            <a:off x="777240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0"/>
          <p:cNvSpPr/>
          <p:nvPr/>
        </p:nvSpPr>
        <p:spPr>
          <a:xfrm>
            <a:off x="88390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37339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7072560" y="4227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4634280" y="5827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8320320" y="2743200"/>
            <a:ext cx="6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66"/>
                </a:solidFill>
                <a:latin typeface="Arial"/>
              </a:rPr>
              <a:t>Mg</a:t>
            </a:r>
            <a:r>
              <a:rPr b="1" i="1" lang="en-US" sz="1600" spc="-1" strike="noStrike" baseline="30000">
                <a:solidFill>
                  <a:srgbClr val="00cc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1">
            <a:hlinkClick r:id="rId2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C 0.2533 -0.02312 0.50677 -0.04624 0.60834 -0.05549 E">
                                      <p:cBhvr>
                                        <p:cTn id="35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439 C 0.18264 -0.06451 0.31806 -0.12462 0.37222 -0.14867 E">
                                      <p:cBhvr>
                                        <p:cTn id="35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Трансляция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Второй этап биосинтеза– транс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Трансляция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это перевод последовательности нуклеотидов в последовательность аминокислот б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В цитоплазме  аминокислоты под строгим контролем ферментов аминоацил-тРНК-синтетаз соединяются с тРНК, образуя аминоацил-тРНК. Это очень видоспецифичные реакции: определенный фермент способен узнавать и связывать с соответствующей тРНК только свою аминокислоту.</a:t>
            </a:r>
            <a:r>
              <a:rPr b="1" lang="ru-RU" sz="16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1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2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3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6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7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9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0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1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2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3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8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9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0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1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2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3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"/>
          <p:cNvSpPr/>
          <p:nvPr/>
        </p:nvSpPr>
        <p:spPr>
          <a:xfrm rot="18457200">
            <a:off x="2515320" y="533304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7"/>
          <p:cNvSpPr/>
          <p:nvPr/>
        </p:nvSpPr>
        <p:spPr>
          <a:xfrm>
            <a:off x="4311720" y="573408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8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2440080" y="5334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2516040" y="51055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27450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4268880" y="571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4345560" y="5562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4481640" y="54975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86"/>
          <p:cNvSpPr/>
          <p:nvPr/>
        </p:nvSpPr>
        <p:spPr>
          <a:xfrm>
            <a:off x="6141960" y="410076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87"/>
          <p:cNvSpPr/>
          <p:nvPr/>
        </p:nvSpPr>
        <p:spPr>
          <a:xfrm>
            <a:off x="7589880" y="402444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88"/>
          <p:cNvSpPr/>
          <p:nvPr/>
        </p:nvSpPr>
        <p:spPr>
          <a:xfrm>
            <a:off x="7924680" y="560484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2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3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4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5"/>
          <p:cNvSpPr/>
          <p:nvPr/>
        </p:nvSpPr>
        <p:spPr>
          <a:xfrm>
            <a:off x="3352680" y="5867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6"/>
          <p:cNvSpPr/>
          <p:nvPr/>
        </p:nvSpPr>
        <p:spPr>
          <a:xfrm>
            <a:off x="5029200" y="6324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7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8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9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0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01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2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3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1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2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3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5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6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58 0.09849 -0.23142 0.19722 -0.27778 0.23676 E">
                                      <p:cBhvr>
                                        <p:cTn id="37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452 0.12717 -0.20886 0.25457 -0.24931 0.30451 E">
                                      <p:cBhvr>
                                        <p:cTn id="37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348 0.01271 -0.10678 0.02543 -0.12865 0.02959 E">
                                      <p:cBhvr>
                                        <p:cTn id="379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Далее тРНК движется к и-РНК и связывается комплементарно своим антикодоном с кодоном и-РНК. Затем второй кодон соединяется с  комплексом второй аминоацил-тРНК, содержащей свой  специфический антикодон.</a:t>
            </a: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Антикодон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– триплет нуклеотидов на верхушке тР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Кодон</a:t>
            </a:r>
            <a:r>
              <a:rPr b="1" i="1" lang="ru-RU" sz="1800" spc="-1" strike="noStrike">
                <a:solidFill>
                  <a:srgbClr val="ccff66"/>
                </a:solidFill>
                <a:latin typeface="Arial"/>
              </a:rPr>
              <a:t>– триплет нуклеотидов на и-РН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3"/>
          <p:cNvSpPr/>
          <p:nvPr/>
        </p:nvSpPr>
        <p:spPr>
          <a:xfrm rot="21018600">
            <a:off x="2514240" y="533376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4"/>
          <p:cNvSpPr/>
          <p:nvPr/>
        </p:nvSpPr>
        <p:spPr>
          <a:xfrm rot="1643400">
            <a:off x="4311720" y="573372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 rot="21137400">
            <a:off x="2820960" y="51051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2973240" y="50292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32022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4497480" y="548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0"/>
          <p:cNvSpPr/>
          <p:nvPr/>
        </p:nvSpPr>
        <p:spPr>
          <a:xfrm rot="21221400">
            <a:off x="4650120" y="5409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4802400" y="54864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2"/>
          <p:cNvSpPr/>
          <p:nvPr/>
        </p:nvSpPr>
        <p:spPr>
          <a:xfrm>
            <a:off x="3352680" y="5909760"/>
            <a:ext cx="577800" cy="820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3"/>
          <p:cNvSpPr/>
          <p:nvPr/>
        </p:nvSpPr>
        <p:spPr>
          <a:xfrm>
            <a:off x="5151240" y="639612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4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"/>
          <p:cNvSpPr/>
          <p:nvPr/>
        </p:nvSpPr>
        <p:spPr>
          <a:xfrm>
            <a:off x="3256560" y="6028560"/>
            <a:ext cx="11628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4987440" y="6411240"/>
            <a:ext cx="2354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0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1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2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3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4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5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6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7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1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2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5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6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7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8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1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2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3"/>
          <p:cNvSpPr/>
          <p:nvPr/>
        </p:nvSpPr>
        <p:spPr>
          <a:xfrm flipH="1">
            <a:off x="2133360" y="2895480"/>
            <a:ext cx="106668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4"/>
          <p:cNvSpPr/>
          <p:nvPr/>
        </p:nvSpPr>
        <p:spPr>
          <a:xfrm>
            <a:off x="2295000" y="2286000"/>
            <a:ext cx="385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Водородные связи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комплементарными нуклеоти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4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404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1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0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42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После присоединения к мРНК двух тРНК под действием фермента происходит образование пептидной связи между аминокислотами; первая аминокислота перемещается на вторую тРНК, а освободившаяся первая тРНК уходит. После этого  рибосома передвигается по нити для того, чтобы поставить на рабочее место следующий кодон.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e42b00"/>
              </a:gs>
              <a:gs pos="100000">
                <a:srgbClr val="6a1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7"/>
          <p:cNvSpPr/>
          <p:nvPr/>
        </p:nvSpPr>
        <p:spPr>
          <a:xfrm>
            <a:off x="609480" y="3886200"/>
            <a:ext cx="4032360" cy="3999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8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78120" y="3809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3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4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5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9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1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2"/>
          <p:cNvSpPr/>
          <p:nvPr/>
        </p:nvSpPr>
        <p:spPr>
          <a:xfrm rot="21018600">
            <a:off x="685800" y="4648320"/>
            <a:ext cx="1082520" cy="119052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3"/>
          <p:cNvSpPr/>
          <p:nvPr/>
        </p:nvSpPr>
        <p:spPr>
          <a:xfrm rot="1643400">
            <a:off x="1676520" y="4419360"/>
            <a:ext cx="1027080" cy="99216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4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5"/>
          <p:cNvSpPr/>
          <p:nvPr/>
        </p:nvSpPr>
        <p:spPr>
          <a:xfrm rot="21137400">
            <a:off x="990720" y="4419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1143000" y="434340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1371600" y="4419720"/>
            <a:ext cx="2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1754280" y="4267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9"/>
          <p:cNvSpPr/>
          <p:nvPr/>
        </p:nvSpPr>
        <p:spPr>
          <a:xfrm rot="21221400">
            <a:off x="1906920" y="41144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2135160" y="41148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2"/>
          <p:cNvSpPr/>
          <p:nvPr/>
        </p:nvSpPr>
        <p:spPr>
          <a:xfrm>
            <a:off x="2484360" y="516744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3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5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1418040" y="5409720"/>
            <a:ext cx="149760" cy="19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>
            <a:off x="2320920" y="5115600"/>
            <a:ext cx="235080" cy="20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0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41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42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43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44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45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6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7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8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9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1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2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3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4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5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6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7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2"/>
          <p:cNvSpPr/>
          <p:nvPr/>
        </p:nvSpPr>
        <p:spPr>
          <a:xfrm flipV="1">
            <a:off x="1828800" y="5638680"/>
            <a:ext cx="106668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3"/>
          <p:cNvSpPr/>
          <p:nvPr/>
        </p:nvSpPr>
        <p:spPr>
          <a:xfrm>
            <a:off x="914400" y="62769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Пептидн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1523880" y="5300280"/>
            <a:ext cx="604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61"/>
          <p:cNvSpPr/>
          <p:nvPr/>
        </p:nvSpPr>
        <p:spPr>
          <a:xfrm>
            <a:off x="297180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3885 C 0.08785 -0.01966 0.13403 -0.000229999999999999 0.15278 0.00763 E">
                                      <p:cBhvr>
                                        <p:cTn id="44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троитель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(протеины) необходимы каждой клетке организма. Белки - структурная основа всех тканей организма. Это основной материал для построения всех клеток - от мышц и костей, до волос и ног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Такое последовательное считывание рибосомой заключенного в и-РНК «текста» продолжается до тех пор, пока процесс не доходит до одного из стоп-кодонов (</a:t>
            </a:r>
            <a:r>
              <a:rPr b="1" i="1" lang="ru-RU" sz="2000" spc="-1" strike="noStrike">
                <a:solidFill>
                  <a:srgbClr val="ccff66"/>
                </a:solidFill>
                <a:latin typeface="Arial"/>
              </a:rPr>
              <a:t>терминальных кодонов).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 Такими триплетами являются триплеты УАА, УАГ,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Одна молекула мРНК может заключать в себе инструкции для синтеза нескольких полипептидных нитей. Кроме того, большинство молекул  и-РНК транслируется в белок много раз, так как к одной молекуле и-РНК  прикрепляется обычно много риб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9907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7"/>
          <p:cNvSpPr/>
          <p:nvPr/>
        </p:nvSpPr>
        <p:spPr>
          <a:xfrm>
            <a:off x="2286000" y="2819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2286000" y="31240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3"/>
          <p:cNvSpPr/>
          <p:nvPr/>
        </p:nvSpPr>
        <p:spPr>
          <a:xfrm>
            <a:off x="525780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5181480" y="3657600"/>
            <a:ext cx="53352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7"/>
          <p:cNvSpPr/>
          <p:nvPr/>
        </p:nvSpPr>
        <p:spPr>
          <a:xfrm>
            <a:off x="66294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16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8"/>
          <p:cNvSpPr/>
          <p:nvPr/>
        </p:nvSpPr>
        <p:spPr>
          <a:xfrm>
            <a:off x="668160" y="3110040"/>
            <a:ext cx="6850080" cy="583920"/>
          </a:xfrm>
          <a:custGeom>
            <a:avLst/>
            <a:gdLst>
              <a:gd name="textAreaLeft" fmla="*/ 0 w 6850080"/>
              <a:gd name="textAreaRight" fmla="*/ 6850440 w 685008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4315" h="368">
                <a:moveTo>
                  <a:pt x="0" y="107"/>
                </a:moveTo>
                <a:cubicBezTo>
                  <a:pt x="39" y="94"/>
                  <a:pt x="69" y="75"/>
                  <a:pt x="109" y="62"/>
                </a:cubicBezTo>
                <a:cubicBezTo>
                  <a:pt x="118" y="59"/>
                  <a:pt x="128" y="55"/>
                  <a:pt x="137" y="52"/>
                </a:cubicBezTo>
                <a:cubicBezTo>
                  <a:pt x="146" y="49"/>
                  <a:pt x="164" y="43"/>
                  <a:pt x="164" y="43"/>
                </a:cubicBezTo>
                <a:cubicBezTo>
                  <a:pt x="321" y="50"/>
                  <a:pt x="476" y="67"/>
                  <a:pt x="630" y="98"/>
                </a:cubicBezTo>
                <a:cubicBezTo>
                  <a:pt x="764" y="104"/>
                  <a:pt x="723" y="97"/>
                  <a:pt x="785" y="93"/>
                </a:cubicBezTo>
                <a:cubicBezTo>
                  <a:pt x="842" y="86"/>
                  <a:pt x="927" y="64"/>
                  <a:pt x="971" y="54"/>
                </a:cubicBezTo>
                <a:cubicBezTo>
                  <a:pt x="983" y="52"/>
                  <a:pt x="1029" y="42"/>
                  <a:pt x="1051" y="34"/>
                </a:cubicBezTo>
                <a:cubicBezTo>
                  <a:pt x="1073" y="26"/>
                  <a:pt x="1084" y="12"/>
                  <a:pt x="1106" y="7"/>
                </a:cubicBezTo>
                <a:cubicBezTo>
                  <a:pt x="1125" y="2"/>
                  <a:pt x="1166" y="9"/>
                  <a:pt x="1184" y="3"/>
                </a:cubicBezTo>
                <a:cubicBezTo>
                  <a:pt x="1193" y="0"/>
                  <a:pt x="1235" y="12"/>
                  <a:pt x="1235" y="12"/>
                </a:cubicBezTo>
                <a:cubicBezTo>
                  <a:pt x="1330" y="24"/>
                  <a:pt x="1255" y="17"/>
                  <a:pt x="1334" y="43"/>
                </a:cubicBezTo>
                <a:cubicBezTo>
                  <a:pt x="1343" y="46"/>
                  <a:pt x="1362" y="52"/>
                  <a:pt x="1362" y="52"/>
                </a:cubicBezTo>
                <a:cubicBezTo>
                  <a:pt x="1405" y="98"/>
                  <a:pt x="1495" y="105"/>
                  <a:pt x="1554" y="116"/>
                </a:cubicBezTo>
                <a:cubicBezTo>
                  <a:pt x="1599" y="125"/>
                  <a:pt x="1647" y="131"/>
                  <a:pt x="1691" y="144"/>
                </a:cubicBezTo>
                <a:cubicBezTo>
                  <a:pt x="1719" y="152"/>
                  <a:pt x="1745" y="167"/>
                  <a:pt x="1773" y="171"/>
                </a:cubicBezTo>
                <a:cubicBezTo>
                  <a:pt x="1868" y="184"/>
                  <a:pt x="1825" y="159"/>
                  <a:pt x="1938" y="171"/>
                </a:cubicBezTo>
                <a:cubicBezTo>
                  <a:pt x="2113" y="160"/>
                  <a:pt x="2088" y="174"/>
                  <a:pt x="2267" y="190"/>
                </a:cubicBezTo>
                <a:cubicBezTo>
                  <a:pt x="2337" y="196"/>
                  <a:pt x="2404" y="239"/>
                  <a:pt x="2468" y="263"/>
                </a:cubicBezTo>
                <a:cubicBezTo>
                  <a:pt x="2517" y="282"/>
                  <a:pt x="2573" y="290"/>
                  <a:pt x="2624" y="299"/>
                </a:cubicBezTo>
                <a:cubicBezTo>
                  <a:pt x="2672" y="308"/>
                  <a:pt x="2715" y="321"/>
                  <a:pt x="2761" y="336"/>
                </a:cubicBezTo>
                <a:cubicBezTo>
                  <a:pt x="2810" y="352"/>
                  <a:pt x="2864" y="342"/>
                  <a:pt x="2916" y="345"/>
                </a:cubicBezTo>
                <a:cubicBezTo>
                  <a:pt x="3032" y="368"/>
                  <a:pt x="3148" y="349"/>
                  <a:pt x="3264" y="336"/>
                </a:cubicBezTo>
                <a:cubicBezTo>
                  <a:pt x="3394" y="321"/>
                  <a:pt x="3523" y="294"/>
                  <a:pt x="3648" y="254"/>
                </a:cubicBezTo>
                <a:cubicBezTo>
                  <a:pt x="3691" y="224"/>
                  <a:pt x="3664" y="239"/>
                  <a:pt x="3730" y="217"/>
                </a:cubicBezTo>
                <a:cubicBezTo>
                  <a:pt x="3739" y="214"/>
                  <a:pt x="3748" y="211"/>
                  <a:pt x="3757" y="208"/>
                </a:cubicBezTo>
                <a:cubicBezTo>
                  <a:pt x="3766" y="205"/>
                  <a:pt x="3785" y="199"/>
                  <a:pt x="3785" y="199"/>
                </a:cubicBezTo>
                <a:cubicBezTo>
                  <a:pt x="3821" y="161"/>
                  <a:pt x="3882" y="165"/>
                  <a:pt x="3931" y="153"/>
                </a:cubicBezTo>
                <a:cubicBezTo>
                  <a:pt x="4004" y="135"/>
                  <a:pt x="4077" y="123"/>
                  <a:pt x="4150" y="107"/>
                </a:cubicBezTo>
                <a:cubicBezTo>
                  <a:pt x="4203" y="95"/>
                  <a:pt x="4260" y="80"/>
                  <a:pt x="4315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313320" y="2498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и-РНК на рибосо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1"/>
          <p:cNvSpPr/>
          <p:nvPr/>
        </p:nvSpPr>
        <p:spPr>
          <a:xfrm>
            <a:off x="985680" y="3208320"/>
            <a:ext cx="614520" cy="2351160"/>
          </a:xfrm>
          <a:custGeom>
            <a:avLst/>
            <a:gdLst>
              <a:gd name="textAreaLeft" fmla="*/ 0 w 614520"/>
              <a:gd name="textAreaRight" fmla="*/ 614880 w 61452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87" h="1481">
                <a:moveTo>
                  <a:pt x="147" y="0"/>
                </a:moveTo>
                <a:cubicBezTo>
                  <a:pt x="209" y="93"/>
                  <a:pt x="179" y="196"/>
                  <a:pt x="83" y="228"/>
                </a:cubicBezTo>
                <a:cubicBezTo>
                  <a:pt x="68" y="225"/>
                  <a:pt x="47" y="231"/>
                  <a:pt x="37" y="219"/>
                </a:cubicBezTo>
                <a:cubicBezTo>
                  <a:pt x="10" y="185"/>
                  <a:pt x="64" y="176"/>
                  <a:pt x="74" y="173"/>
                </a:cubicBezTo>
                <a:cubicBezTo>
                  <a:pt x="116" y="184"/>
                  <a:pt x="132" y="192"/>
                  <a:pt x="156" y="228"/>
                </a:cubicBezTo>
                <a:cubicBezTo>
                  <a:pt x="168" y="265"/>
                  <a:pt x="181" y="301"/>
                  <a:pt x="193" y="338"/>
                </a:cubicBezTo>
                <a:cubicBezTo>
                  <a:pt x="187" y="414"/>
                  <a:pt x="195" y="503"/>
                  <a:pt x="110" y="530"/>
                </a:cubicBezTo>
                <a:cubicBezTo>
                  <a:pt x="75" y="554"/>
                  <a:pt x="38" y="560"/>
                  <a:pt x="19" y="603"/>
                </a:cubicBezTo>
                <a:cubicBezTo>
                  <a:pt x="11" y="621"/>
                  <a:pt x="1" y="658"/>
                  <a:pt x="1" y="658"/>
                </a:cubicBezTo>
                <a:cubicBezTo>
                  <a:pt x="4" y="691"/>
                  <a:pt x="0" y="778"/>
                  <a:pt x="46" y="804"/>
                </a:cubicBezTo>
                <a:cubicBezTo>
                  <a:pt x="71" y="818"/>
                  <a:pt x="101" y="815"/>
                  <a:pt x="129" y="822"/>
                </a:cubicBezTo>
                <a:cubicBezTo>
                  <a:pt x="165" y="860"/>
                  <a:pt x="261" y="882"/>
                  <a:pt x="312" y="896"/>
                </a:cubicBezTo>
                <a:cubicBezTo>
                  <a:pt x="344" y="917"/>
                  <a:pt x="363" y="918"/>
                  <a:pt x="385" y="950"/>
                </a:cubicBezTo>
                <a:cubicBezTo>
                  <a:pt x="382" y="990"/>
                  <a:pt x="387" y="1031"/>
                  <a:pt x="376" y="1069"/>
                </a:cubicBezTo>
                <a:cubicBezTo>
                  <a:pt x="373" y="1078"/>
                  <a:pt x="356" y="1073"/>
                  <a:pt x="348" y="1078"/>
                </a:cubicBezTo>
                <a:cubicBezTo>
                  <a:pt x="341" y="1083"/>
                  <a:pt x="337" y="1092"/>
                  <a:pt x="330" y="1097"/>
                </a:cubicBezTo>
                <a:cubicBezTo>
                  <a:pt x="312" y="1110"/>
                  <a:pt x="293" y="1121"/>
                  <a:pt x="275" y="1133"/>
                </a:cubicBezTo>
                <a:cubicBezTo>
                  <a:pt x="244" y="1153"/>
                  <a:pt x="271" y="1151"/>
                  <a:pt x="238" y="1170"/>
                </a:cubicBezTo>
                <a:cubicBezTo>
                  <a:pt x="228" y="1176"/>
                  <a:pt x="182" y="1186"/>
                  <a:pt x="174" y="1188"/>
                </a:cubicBezTo>
                <a:cubicBezTo>
                  <a:pt x="148" y="1215"/>
                  <a:pt x="132" y="1234"/>
                  <a:pt x="120" y="1270"/>
                </a:cubicBezTo>
                <a:cubicBezTo>
                  <a:pt x="123" y="1325"/>
                  <a:pt x="138" y="1416"/>
                  <a:pt x="138" y="148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2"/>
          <p:cNvSpPr/>
          <p:nvPr/>
        </p:nvSpPr>
        <p:spPr>
          <a:xfrm>
            <a:off x="2286000" y="3124080"/>
            <a:ext cx="700200" cy="2597400"/>
          </a:xfrm>
          <a:custGeom>
            <a:avLst/>
            <a:gdLst>
              <a:gd name="textAreaLeft" fmla="*/ 0 w 700200"/>
              <a:gd name="textAreaRight" fmla="*/ 700560 w 700200"/>
              <a:gd name="textAreaTop" fmla="*/ 0 h 2597400"/>
              <a:gd name="textAreaBottom" fmla="*/ 2597400 h 2597400"/>
            </a:gdLst>
            <a:ahLst/>
            <a:rect l="textAreaLeft" t="textAreaTop" r="textAreaRight" b="textAreaBottom"/>
            <a:pathLst>
              <a:path w="441" h="1636">
                <a:moveTo>
                  <a:pt x="93" y="0"/>
                </a:moveTo>
                <a:cubicBezTo>
                  <a:pt x="64" y="44"/>
                  <a:pt x="62" y="37"/>
                  <a:pt x="47" y="91"/>
                </a:cubicBezTo>
                <a:cubicBezTo>
                  <a:pt x="42" y="110"/>
                  <a:pt x="29" y="146"/>
                  <a:pt x="29" y="146"/>
                </a:cubicBezTo>
                <a:cubicBezTo>
                  <a:pt x="18" y="215"/>
                  <a:pt x="0" y="304"/>
                  <a:pt x="38" y="366"/>
                </a:cubicBezTo>
                <a:cubicBezTo>
                  <a:pt x="52" y="388"/>
                  <a:pt x="77" y="409"/>
                  <a:pt x="93" y="430"/>
                </a:cubicBezTo>
                <a:cubicBezTo>
                  <a:pt x="117" y="460"/>
                  <a:pt x="129" y="472"/>
                  <a:pt x="166" y="484"/>
                </a:cubicBezTo>
                <a:cubicBezTo>
                  <a:pt x="202" y="520"/>
                  <a:pt x="215" y="571"/>
                  <a:pt x="249" y="603"/>
                </a:cubicBezTo>
                <a:cubicBezTo>
                  <a:pt x="262" y="643"/>
                  <a:pt x="290" y="673"/>
                  <a:pt x="303" y="713"/>
                </a:cubicBezTo>
                <a:cubicBezTo>
                  <a:pt x="300" y="750"/>
                  <a:pt x="307" y="789"/>
                  <a:pt x="294" y="823"/>
                </a:cubicBezTo>
                <a:cubicBezTo>
                  <a:pt x="276" y="868"/>
                  <a:pt x="201" y="907"/>
                  <a:pt x="166" y="942"/>
                </a:cubicBezTo>
                <a:cubicBezTo>
                  <a:pt x="143" y="1012"/>
                  <a:pt x="177" y="927"/>
                  <a:pt x="130" y="987"/>
                </a:cubicBezTo>
                <a:cubicBezTo>
                  <a:pt x="124" y="995"/>
                  <a:pt x="125" y="1006"/>
                  <a:pt x="121" y="1015"/>
                </a:cubicBezTo>
                <a:cubicBezTo>
                  <a:pt x="116" y="1025"/>
                  <a:pt x="108" y="1033"/>
                  <a:pt x="102" y="1042"/>
                </a:cubicBezTo>
                <a:cubicBezTo>
                  <a:pt x="105" y="1103"/>
                  <a:pt x="103" y="1164"/>
                  <a:pt x="111" y="1225"/>
                </a:cubicBezTo>
                <a:cubicBezTo>
                  <a:pt x="114" y="1251"/>
                  <a:pt x="178" y="1284"/>
                  <a:pt x="185" y="1289"/>
                </a:cubicBezTo>
                <a:cubicBezTo>
                  <a:pt x="201" y="1300"/>
                  <a:pt x="212" y="1318"/>
                  <a:pt x="230" y="1326"/>
                </a:cubicBezTo>
                <a:cubicBezTo>
                  <a:pt x="253" y="1336"/>
                  <a:pt x="279" y="1336"/>
                  <a:pt x="303" y="1344"/>
                </a:cubicBezTo>
                <a:cubicBezTo>
                  <a:pt x="408" y="1335"/>
                  <a:pt x="412" y="1358"/>
                  <a:pt x="441" y="1280"/>
                </a:cubicBezTo>
                <a:cubicBezTo>
                  <a:pt x="438" y="1246"/>
                  <a:pt x="441" y="1211"/>
                  <a:pt x="431" y="1179"/>
                </a:cubicBezTo>
                <a:cubicBezTo>
                  <a:pt x="426" y="1164"/>
                  <a:pt x="388" y="1157"/>
                  <a:pt x="377" y="1152"/>
                </a:cubicBezTo>
                <a:cubicBezTo>
                  <a:pt x="348" y="1138"/>
                  <a:pt x="325" y="1125"/>
                  <a:pt x="294" y="1115"/>
                </a:cubicBezTo>
                <a:cubicBezTo>
                  <a:pt x="197" y="1127"/>
                  <a:pt x="239" y="1120"/>
                  <a:pt x="175" y="1161"/>
                </a:cubicBezTo>
                <a:cubicBezTo>
                  <a:pt x="169" y="1170"/>
                  <a:pt x="161" y="1178"/>
                  <a:pt x="157" y="1188"/>
                </a:cubicBezTo>
                <a:cubicBezTo>
                  <a:pt x="149" y="1206"/>
                  <a:pt x="139" y="1243"/>
                  <a:pt x="139" y="1243"/>
                </a:cubicBezTo>
                <a:cubicBezTo>
                  <a:pt x="117" y="1396"/>
                  <a:pt x="139" y="1215"/>
                  <a:pt x="139" y="1508"/>
                </a:cubicBezTo>
                <a:cubicBezTo>
                  <a:pt x="139" y="1545"/>
                  <a:pt x="145" y="1585"/>
                  <a:pt x="130" y="1618"/>
                </a:cubicBezTo>
                <a:cubicBezTo>
                  <a:pt x="123" y="1632"/>
                  <a:pt x="99" y="1623"/>
                  <a:pt x="84" y="1627"/>
                </a:cubicBezTo>
                <a:cubicBezTo>
                  <a:pt x="75" y="1629"/>
                  <a:pt x="57" y="1636"/>
                  <a:pt x="57" y="16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3"/>
          <p:cNvSpPr/>
          <p:nvPr/>
        </p:nvSpPr>
        <p:spPr>
          <a:xfrm>
            <a:off x="3801960" y="3379680"/>
            <a:ext cx="378000" cy="1938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938600"/>
              <a:gd name="textAreaBottom" fmla="*/ 1938960 h 1938600"/>
            </a:gdLst>
            <a:ahLst/>
            <a:rect l="textAreaLeft" t="textAreaTop" r="textAreaRight" b="textAreaBottom"/>
            <a:pathLst>
              <a:path w="238" h="1221">
                <a:moveTo>
                  <a:pt x="0" y="1"/>
                </a:moveTo>
                <a:cubicBezTo>
                  <a:pt x="12" y="4"/>
                  <a:pt x="29" y="0"/>
                  <a:pt x="37" y="10"/>
                </a:cubicBezTo>
                <a:cubicBezTo>
                  <a:pt x="50" y="25"/>
                  <a:pt x="55" y="65"/>
                  <a:pt x="55" y="65"/>
                </a:cubicBezTo>
                <a:cubicBezTo>
                  <a:pt x="64" y="138"/>
                  <a:pt x="67" y="236"/>
                  <a:pt x="101" y="303"/>
                </a:cubicBezTo>
                <a:cubicBezTo>
                  <a:pt x="117" y="334"/>
                  <a:pt x="173" y="395"/>
                  <a:pt x="202" y="422"/>
                </a:cubicBezTo>
                <a:cubicBezTo>
                  <a:pt x="223" y="487"/>
                  <a:pt x="209" y="461"/>
                  <a:pt x="238" y="504"/>
                </a:cubicBezTo>
                <a:cubicBezTo>
                  <a:pt x="235" y="541"/>
                  <a:pt x="236" y="578"/>
                  <a:pt x="229" y="614"/>
                </a:cubicBezTo>
                <a:cubicBezTo>
                  <a:pt x="222" y="650"/>
                  <a:pt x="121" y="720"/>
                  <a:pt x="83" y="733"/>
                </a:cubicBezTo>
                <a:cubicBezTo>
                  <a:pt x="57" y="758"/>
                  <a:pt x="40" y="798"/>
                  <a:pt x="28" y="833"/>
                </a:cubicBezTo>
                <a:cubicBezTo>
                  <a:pt x="35" y="892"/>
                  <a:pt x="40" y="941"/>
                  <a:pt x="101" y="961"/>
                </a:cubicBezTo>
                <a:cubicBezTo>
                  <a:pt x="134" y="1063"/>
                  <a:pt x="137" y="984"/>
                  <a:pt x="119" y="1172"/>
                </a:cubicBezTo>
                <a:cubicBezTo>
                  <a:pt x="117" y="1192"/>
                  <a:pt x="106" y="1213"/>
                  <a:pt x="83" y="1217"/>
                </a:cubicBezTo>
                <a:cubicBezTo>
                  <a:pt x="56" y="1221"/>
                  <a:pt x="28" y="1217"/>
                  <a:pt x="0" y="1217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4"/>
          <p:cNvSpPr/>
          <p:nvPr/>
        </p:nvSpPr>
        <p:spPr>
          <a:xfrm>
            <a:off x="914400" y="5545080"/>
            <a:ext cx="304920" cy="782640"/>
          </a:xfrm>
          <a:custGeom>
            <a:avLst/>
            <a:gdLst>
              <a:gd name="textAreaLeft" fmla="*/ 0 w 304920"/>
              <a:gd name="textAreaRight" fmla="*/ 305280 w 3049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92" h="493">
                <a:moveTo>
                  <a:pt x="183" y="0"/>
                </a:moveTo>
                <a:cubicBezTo>
                  <a:pt x="186" y="39"/>
                  <a:pt x="192" y="79"/>
                  <a:pt x="192" y="118"/>
                </a:cubicBezTo>
                <a:cubicBezTo>
                  <a:pt x="192" y="217"/>
                  <a:pt x="170" y="400"/>
                  <a:pt x="55" y="438"/>
                </a:cubicBezTo>
                <a:cubicBezTo>
                  <a:pt x="37" y="457"/>
                  <a:pt x="18" y="475"/>
                  <a:pt x="0" y="4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25"/>
          <p:cNvSpPr/>
          <p:nvPr/>
        </p:nvSpPr>
        <p:spPr>
          <a:xfrm>
            <a:off x="5224320" y="3672000"/>
            <a:ext cx="755640" cy="1060200"/>
          </a:xfrm>
          <a:custGeom>
            <a:avLst/>
            <a:gdLst>
              <a:gd name="textAreaLeft" fmla="*/ 0 w 755640"/>
              <a:gd name="textAreaRight" fmla="*/ 756000 w 75564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476" h="668">
                <a:moveTo>
                  <a:pt x="147" y="0"/>
                </a:moveTo>
                <a:cubicBezTo>
                  <a:pt x="163" y="48"/>
                  <a:pt x="167" y="66"/>
                  <a:pt x="202" y="101"/>
                </a:cubicBezTo>
                <a:cubicBezTo>
                  <a:pt x="222" y="183"/>
                  <a:pt x="212" y="150"/>
                  <a:pt x="229" y="201"/>
                </a:cubicBezTo>
                <a:cubicBezTo>
                  <a:pt x="226" y="256"/>
                  <a:pt x="227" y="311"/>
                  <a:pt x="220" y="366"/>
                </a:cubicBezTo>
                <a:cubicBezTo>
                  <a:pt x="211" y="443"/>
                  <a:pt x="155" y="458"/>
                  <a:pt x="101" y="494"/>
                </a:cubicBezTo>
                <a:cubicBezTo>
                  <a:pt x="77" y="491"/>
                  <a:pt x="48" y="499"/>
                  <a:pt x="28" y="485"/>
                </a:cubicBezTo>
                <a:cubicBezTo>
                  <a:pt x="12" y="474"/>
                  <a:pt x="10" y="430"/>
                  <a:pt x="10" y="430"/>
                </a:cubicBezTo>
                <a:cubicBezTo>
                  <a:pt x="13" y="409"/>
                  <a:pt x="0" y="376"/>
                  <a:pt x="19" y="366"/>
                </a:cubicBezTo>
                <a:cubicBezTo>
                  <a:pt x="45" y="352"/>
                  <a:pt x="105" y="373"/>
                  <a:pt x="138" y="384"/>
                </a:cubicBezTo>
                <a:cubicBezTo>
                  <a:pt x="144" y="393"/>
                  <a:pt x="148" y="404"/>
                  <a:pt x="156" y="412"/>
                </a:cubicBezTo>
                <a:cubicBezTo>
                  <a:pt x="164" y="420"/>
                  <a:pt x="176" y="422"/>
                  <a:pt x="183" y="430"/>
                </a:cubicBezTo>
                <a:cubicBezTo>
                  <a:pt x="189" y="437"/>
                  <a:pt x="187" y="449"/>
                  <a:pt x="192" y="457"/>
                </a:cubicBezTo>
                <a:cubicBezTo>
                  <a:pt x="203" y="476"/>
                  <a:pt x="229" y="512"/>
                  <a:pt x="229" y="512"/>
                </a:cubicBezTo>
                <a:cubicBezTo>
                  <a:pt x="239" y="542"/>
                  <a:pt x="256" y="564"/>
                  <a:pt x="266" y="594"/>
                </a:cubicBezTo>
                <a:cubicBezTo>
                  <a:pt x="269" y="603"/>
                  <a:pt x="268" y="615"/>
                  <a:pt x="275" y="622"/>
                </a:cubicBezTo>
                <a:cubicBezTo>
                  <a:pt x="282" y="629"/>
                  <a:pt x="293" y="627"/>
                  <a:pt x="302" y="631"/>
                </a:cubicBezTo>
                <a:cubicBezTo>
                  <a:pt x="330" y="645"/>
                  <a:pt x="354" y="657"/>
                  <a:pt x="384" y="668"/>
                </a:cubicBezTo>
                <a:cubicBezTo>
                  <a:pt x="415" y="665"/>
                  <a:pt x="476" y="658"/>
                  <a:pt x="476" y="65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6"/>
          <p:cNvSpPr/>
          <p:nvPr/>
        </p:nvSpPr>
        <p:spPr>
          <a:xfrm>
            <a:off x="6850080" y="3381480"/>
            <a:ext cx="201600" cy="831600"/>
          </a:xfrm>
          <a:custGeom>
            <a:avLst/>
            <a:gdLst>
              <a:gd name="textAreaLeft" fmla="*/ 0 w 201600"/>
              <a:gd name="textAreaRight" fmla="*/ 201960 w 20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127" h="524">
                <a:moveTo>
                  <a:pt x="0" y="0"/>
                </a:moveTo>
                <a:cubicBezTo>
                  <a:pt x="6" y="6"/>
                  <a:pt x="14" y="11"/>
                  <a:pt x="19" y="19"/>
                </a:cubicBezTo>
                <a:cubicBezTo>
                  <a:pt x="24" y="27"/>
                  <a:pt x="22" y="38"/>
                  <a:pt x="28" y="46"/>
                </a:cubicBezTo>
                <a:cubicBezTo>
                  <a:pt x="55" y="82"/>
                  <a:pt x="69" y="89"/>
                  <a:pt x="101" y="110"/>
                </a:cubicBezTo>
                <a:cubicBezTo>
                  <a:pt x="127" y="190"/>
                  <a:pt x="119" y="258"/>
                  <a:pt x="92" y="339"/>
                </a:cubicBezTo>
                <a:cubicBezTo>
                  <a:pt x="86" y="357"/>
                  <a:pt x="80" y="375"/>
                  <a:pt x="74" y="393"/>
                </a:cubicBezTo>
                <a:cubicBezTo>
                  <a:pt x="71" y="402"/>
                  <a:pt x="64" y="421"/>
                  <a:pt x="64" y="421"/>
                </a:cubicBezTo>
                <a:cubicBezTo>
                  <a:pt x="67" y="445"/>
                  <a:pt x="69" y="470"/>
                  <a:pt x="74" y="494"/>
                </a:cubicBezTo>
                <a:cubicBezTo>
                  <a:pt x="80" y="524"/>
                  <a:pt x="75" y="521"/>
                  <a:pt x="92" y="52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066680" y="61722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c66"/>
                </a:solidFill>
                <a:latin typeface="Arial"/>
              </a:rPr>
              <a:t>бе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8"/>
          <p:cNvSpPr/>
          <p:nvPr/>
        </p:nvSpPr>
        <p:spPr>
          <a:xfrm>
            <a:off x="4650480" y="533412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Наконец, ферменты разрушают 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молекулу и-РНК, расщепляя ее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отдельных нуклеот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0">
            <a:hlinkClick r:id="rId1" action="ppaction://hlinksldjump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beecd"/>
                </a:solidFill>
                <a:latin typeface="Arial"/>
              </a:rPr>
              <a:t>3. Контроль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1. Матрицей для синтеза молекулы м-РНК при транскрипции служ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вся молекула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полностью одна из цепей молекулы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участок одной из цепей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в одних случаях одна из цепей молекулы ДНК, в других– вся   молекула   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2. Транскрипция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в яд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на рибос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7" action="ppaction://hlinksldjump"/>
              </a:rPr>
              <a:t>в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8" action="ppaction://hlinksldjump"/>
              </a:rPr>
              <a:t>на каналах гладкой Э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3. Последовательность нуклеотидов в антикодоне т-РНК строго   комплементар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9" action="ppaction://hlinksldjump"/>
              </a:rPr>
              <a:t>триплету, кодирующему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0" action="ppaction://hlinksldjump"/>
              </a:rPr>
              <a:t>аминокислоте, с которой связана данная  т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1" action="ppaction://hlinksldjump"/>
              </a:rPr>
              <a:t>последовательности нуклеотидов г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2" action="ppaction://hlinksldjump"/>
              </a:rPr>
              <a:t>кодону м-РНК, осуществляющему трансля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4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4. Трансляция в клетке осущ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в яд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на рибос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в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на каналах гладкой Э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5. При трансляции матрицей для сборки полипептидной цепи белка  служ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обе цепочк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одна из цепей молекулы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7" action="ppaction://hlinksldjump"/>
              </a:rPr>
              <a:t>молекула м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8" action="ppaction://hlinksldjump"/>
              </a:rPr>
              <a:t>в одних случаях одна из цепей ДНК, в других– молекула м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6. При  биосинтезе белка в клетке энергия АТ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9" action="ppaction://hlinksldjump"/>
              </a:rPr>
              <a:t>расход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bde06"/>
                </a:solidFill>
                <a:uFillTx/>
                <a:latin typeface="Arial"/>
                <a:hlinkClick r:id="rId10" action="ppaction://hlinksldjump"/>
              </a:rPr>
              <a:t>запас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расходуется и не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дних этапах синтеза расходуется, на других–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7. </a:t>
            </a:r>
            <a:r>
              <a:rPr b="1" i="1" lang="ru-RU" sz="1800" spc="-1" strike="noStrike">
                <a:solidFill>
                  <a:srgbClr val="00cc66"/>
                </a:solidFill>
                <a:latin typeface="Arial"/>
              </a:rPr>
              <a:t>Исключите лишне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босомы, т-РНК, м-РНК, аминокислоты,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4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4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8. Участок молекулы т-РНК из трех нуклеотидов, комплемента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связывающийся с определенным участком м-РНК по принци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комплементарности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9.  Последовательность азотистых оснований в молекуле ДНК следующая: АТТААЦГЦТАТ. Какова будет последовательность  азотистых оснований в м-РН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АТТГЦГ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ЦЦГТТАТЦ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ААУЦЦГУТ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ААУУГЦГА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4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5"/>
          <p:cNvSpPr/>
          <p:nvPr/>
        </p:nvSpPr>
        <p:spPr>
          <a:xfrm>
            <a:off x="4495680" y="57913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66"/>
                </a:solidFill>
                <a:uFillTx/>
                <a:latin typeface="Arial"/>
              </a:rPr>
              <a:t>Thank you</a:t>
            </a:r>
            <a:r>
              <a:rPr b="0" i="1" lang="ru-RU" sz="4400" spc="-1" strike="noStrike" u="sng">
                <a:solidFill>
                  <a:srgbClr val="00cc66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029200" y="533520"/>
            <a:ext cx="38098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beecd"/>
                </a:solidFill>
                <a:latin typeface="Arial"/>
              </a:rPr>
              <a:t>Понимание механизма синтеза белка—результат длительной и сложнейшей работы многих ученых. Это блестящее  достижение сейчас является одним из основных положений биологической науки. Но все же еще многое  из этого процесса осталось за гранью нашего знания.</a:t>
            </a:r>
            <a:r>
              <a:rPr b="1" i="1" lang="ru-RU" sz="2400" spc="-1" strike="noStrike">
                <a:solidFill>
                  <a:srgbClr val="fbeec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beec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beecd"/>
                </a:solidFill>
                <a:latin typeface="Arial"/>
              </a:rPr>
              <a:t>Неверно!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0" name="AutoShape 4">
            <a:hlinkClick r:id="" action="ppaction://hlinkshowjump?jump=previousslide"/>
          </p:cNvPr>
          <p:cNvSpPr/>
          <p:nvPr/>
        </p:nvSpPr>
        <p:spPr>
          <a:xfrm>
            <a:off x="7620120" y="58672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10800"/>
                </a:moveTo>
                <a:lnTo>
                  <a:pt x="24541" y="3794"/>
                </a:lnTo>
                <a:lnTo>
                  <a:pt x="2454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beecd"/>
                </a:solidFill>
                <a:latin typeface="Arial"/>
              </a:rPr>
              <a:t>Верно!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2" name="AutoShape 4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10800"/>
                </a:moveTo>
                <a:lnTo>
                  <a:pt x="23801" y="3794"/>
                </a:lnTo>
                <a:lnTo>
                  <a:pt x="2380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Hitchhiker-Thumb.gif"/>
          <p:cNvPicPr/>
          <p:nvPr/>
        </p:nvPicPr>
        <p:blipFill>
          <a:blip r:embed="rId1"/>
          <a:stretch/>
        </p:blipFill>
        <p:spPr>
          <a:xfrm>
            <a:off x="1752480" y="3505320"/>
            <a:ext cx="169884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ерментатив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537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в виде ферментов, катализирующих химические реакции, участвуют в регуляции многих обменных процессов и совершенно необходимы для нормального обмена веществ в организме. Усвоение питательных веществ в организме возможно только в присутствии определенных ферментов. А ферменты - это белковые структуры, и соответственно недостаток белка приведет к серьезным нарушениям в питани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ормональ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Гормоны, регулирующие физиологические процессы, тоже являются белками. Для обеспечения нормального уровня гормонов в организме необходимо достаточное поступление протеинов. И прежде всего при гормональных нарушениях необходимо обратить внимание на достаточное поступления с пищей полноценных бел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ащит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4614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К белкам относятся антитела, которые связывают, нейтрализуют и способствуют выведению токсичных веществ из организма. Дефицит белка в питании уменьшает устойчивость организма к инфекциям, так как снижается уровень образования антит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Транспортн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Белки участвуют в транспорте кровью липидов, углеводов, некоторых витаминов, гормонов, лекарственных веществ.  При дефиците белка вода не удерживается в клетках и переходит в межклеточную жид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Энергетическая функц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66"/>
                </a:solidFill>
                <a:latin typeface="Arial"/>
              </a:rPr>
              <a:t>Хотя белки и не служат главным источником энергии, тем не менее, они при определенных условиях могут выполнять эту функцию. Однако, в качестве энергетической субстанции белки очень не выгодны и требуют большое количество энергии на свое усвоение и синте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772400" y="6019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809880" y="28954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8168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1" action="ppaction://hlinksldjump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7816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2" action="ppaction://hlinksldjump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80880" y="5105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3" action="ppaction://hlinksldjump"/>
              </a:rPr>
              <a:t>стро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8088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4" action="ppaction://hlinksldjump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808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5" action="ppaction://hlinksldjump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78168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bde06"/>
                </a:solidFill>
                <a:uFillTx/>
                <a:latin typeface="Arial"/>
                <a:hlinkClick r:id="rId6" action="ppaction://hlinksldjump"/>
              </a:rPr>
              <a:t>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5867280" y="1828800"/>
            <a:ext cx="8384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"/>
          <p:cNvSpPr/>
          <p:nvPr/>
        </p:nvSpPr>
        <p:spPr>
          <a:xfrm>
            <a:off x="5791320" y="3505320"/>
            <a:ext cx="1342800" cy="1643040"/>
          </a:xfrm>
          <a:custGeom>
            <a:avLst/>
            <a:gdLst>
              <a:gd name="textAreaLeft" fmla="*/ 0 w 1342800"/>
              <a:gd name="textAreaRight" fmla="*/ 1343160 w 13428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558" h="843">
                <a:moveTo>
                  <a:pt x="0" y="0"/>
                </a:moveTo>
                <a:lnTo>
                  <a:pt x="558" y="843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5850000" y="3352680"/>
            <a:ext cx="928800" cy="14400"/>
          </a:xfrm>
          <a:custGeom>
            <a:avLst/>
            <a:gdLst>
              <a:gd name="textAreaLeft" fmla="*/ 0 w 928800"/>
              <a:gd name="textAreaRight" fmla="*/ 929160 w 928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85" h="9">
                <a:moveTo>
                  <a:pt x="0" y="0"/>
                </a:moveTo>
                <a:lnTo>
                  <a:pt x="585" y="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2612880" y="3352680"/>
            <a:ext cx="1273320" cy="1440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802" h="9">
                <a:moveTo>
                  <a:pt x="802" y="0"/>
                </a:moveTo>
                <a:lnTo>
                  <a:pt x="0" y="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265560" y="3657600"/>
            <a:ext cx="849240" cy="1552680"/>
          </a:xfrm>
          <a:custGeom>
            <a:avLst/>
            <a:gdLst>
              <a:gd name="textAreaLeft" fmla="*/ 0 w 849240"/>
              <a:gd name="textAreaRight" fmla="*/ 849600 w 84924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535" h="978">
                <a:moveTo>
                  <a:pt x="535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Функции белков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2684520" y="1871640"/>
            <a:ext cx="1289160" cy="11178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812" h="704">
                <a:moveTo>
                  <a:pt x="812" y="7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0">
            <a:hlinkClick r:id="rId7" action="ppaction://hlinksldjump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«БИОСИНТЕЗ БЕЛКА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Content Placeholder 3" descr="DNA.gif"/>
          <p:cNvPicPr/>
          <p:nvPr/>
        </p:nvPicPr>
        <p:blipFill>
          <a:blip r:embed="rId1"/>
          <a:stretch/>
        </p:blipFill>
        <p:spPr>
          <a:xfrm>
            <a:off x="228600" y="457200"/>
            <a:ext cx="925560" cy="449568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3" descr="DNA.gif"/>
          <p:cNvPicPr/>
          <p:nvPr/>
        </p:nvPicPr>
        <p:blipFill>
          <a:blip r:embed="rId2"/>
          <a:stretch/>
        </p:blipFill>
        <p:spPr>
          <a:xfrm>
            <a:off x="8001000" y="457200"/>
            <a:ext cx="9255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IRINA</cp:lastModifiedBy>
  <dcterms:modified xsi:type="dcterms:W3CDTF">2022-12-11T12:18:17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