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017-C80D-4CED-8160-1E84006F7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90AD-63F7-4830-AB89-390D7D19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FE3-2EED-47FF-B9E2-CEBDE7C1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7DC-490F-4929-BC16-5770D6F6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E59-20BC-41DF-910D-D7ADC2D8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388-42C6-4727-BE52-B6EAEF1F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B63-6FED-4691-BB01-D0DBAB81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787E-9A7F-4F7A-B1A5-3E74301F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BC78-3730-4B42-8A20-21D2FF7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8E22-0C4E-4BD1-8B02-6E76A11A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08D3-7D26-4BF8-975B-8FA8AD54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D5E1-CA9E-4ACA-8BC9-6808E00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F71-23B5-40EB-A801-7220034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94E-2CAA-47FE-AD8E-5896D63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85C-B4FE-4281-AE13-D4C1F7B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C13B-F900-4E58-8CF7-0575E12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5100-048A-40DD-A553-825FC62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0C26-7112-417E-B7CF-0B622F8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292-CF97-4A53-8A83-97EDDC5C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3FC5-DFEC-4B78-9906-522CE6B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590-DBDC-4DA0-96B7-555A6D23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866-074C-4F5D-A524-5128120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08A-F270-4EF7-8221-8649914C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46A-AC43-41F1-B2BA-D4398FE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8AD-156A-4C62-8503-1C79594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028-C2DF-4C0C-939E-FAE3BCD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B55-CA4B-4F34-9575-6FB122B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83D-8BEF-45BB-9DE0-BFCE91BD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7800" y="130248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6440" y="163008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7200" cy="6857640"/>
            <a:chOff x="152280" y="0"/>
            <a:chExt cx="45720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80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0"/>
              <a:ext cx="2959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7200" cy="262080"/>
            <a:chOff x="152280" y="0"/>
            <a:chExt cx="45720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800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3560" y="0"/>
              <a:ext cx="29592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7800" y="421704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6440" y="454464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7800" y="78480"/>
              <a:ext cx="32148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6440" y="406080"/>
              <a:ext cx="1245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6360" y="189000"/>
              <a:ext cx="63216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3360" y="315720"/>
              <a:ext cx="54936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480" y="360"/>
            <a:ext cx="462240" cy="6857640"/>
            <a:chOff x="-6480" y="360"/>
            <a:chExt cx="46224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6120" y="360"/>
              <a:ext cx="299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0760" cy="394920"/>
            <a:chOff x="-11160" y="6462720"/>
            <a:chExt cx="2120760" cy="39492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6040" y="5466960"/>
              <a:ext cx="12780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8960" y="5698080"/>
              <a:ext cx="19908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680" y="-372960"/>
                <a:ext cx="12708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4800" y="-64080"/>
                <a:ext cx="3492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42B4-E3F2-4C49-AF55-D37B82E3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985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Использование конструктора </a:t>
            </a:r>
            <a:br>
              <a:rPr sz="3200"/>
            </a:b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SOFT   </a:t>
            </a:r>
            <a:br>
              <a:rPr sz="3200"/>
            </a:br>
            <a:r>
              <a:rPr b="1" lang="ru-RU" sz="32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в физическом развитии дошкольников  в условиях ДО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651640" y="5229000"/>
            <a:ext cx="3241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Подготовле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инструктором по Ф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МБДОУ  ЗАТО г. Североморс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д\с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Лаврентьевой М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ALEXEY\Desktop\Фото в ДОУ\Лего софт на фк\IMG_3109.JPG"/>
          <p:cNvPicPr/>
          <p:nvPr/>
        </p:nvPicPr>
        <p:blipFill>
          <a:blip r:embed="rId1"/>
          <a:stretch/>
        </p:blipFill>
        <p:spPr>
          <a:xfrm>
            <a:off x="3328920" y="3425760"/>
            <a:ext cx="43880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48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из главных задач - сохранение и укрепление здоровья де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Эффективность  физкультурно - оздоровительной работы в ДОО зависит от разумной организации развивающей среды, которая максимально ориентирована на интересы дошкольника и укрепление его здоровья</a:t>
            </a:r>
            <a:br>
              <a:rPr sz="4400"/>
            </a:br>
            <a:br>
              <a:rPr sz="4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:\Users\ALEXEY\Desktop\Фото в ДОУ\Лего софт на фк\IMG_2785.JPG"/>
          <p:cNvPicPr/>
          <p:nvPr/>
        </p:nvPicPr>
        <p:blipFill>
          <a:blip r:embed="rId1"/>
          <a:stretch/>
        </p:blipFill>
        <p:spPr>
          <a:xfrm>
            <a:off x="2955960" y="3724200"/>
            <a:ext cx="225576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ALEXEY\Desktop\Фото в ДОУ\Лего софт на фк\IMG_2803.JPG"/>
          <p:cNvPicPr/>
          <p:nvPr/>
        </p:nvPicPr>
        <p:blipFill>
          <a:blip r:embed="rId2"/>
          <a:stretch/>
        </p:blipFill>
        <p:spPr>
          <a:xfrm>
            <a:off x="6059520" y="4632480"/>
            <a:ext cx="1798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о -  пространственная  развивающая среда в ДОО – 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основа  для приобретения опыта двигательной деятельности, успешного  физического и познавательного  развития воспитанников ДОО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педагога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открыть перед детьми весь спектр возможностей среды и направить их усилия на использование ее отдельных элемент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Users\ALEXEY\Desktop\Фото в ДОУ\Лего софт на фк\IMG_2817.JPG"/>
          <p:cNvPicPr/>
          <p:nvPr/>
        </p:nvPicPr>
        <p:blipFill>
          <a:blip r:embed="rId1"/>
          <a:stretch/>
        </p:blipFill>
        <p:spPr>
          <a:xfrm>
            <a:off x="4552920" y="4334040"/>
            <a:ext cx="24274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76200" y="333000"/>
            <a:ext cx="76168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конструктор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ствует решению задач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Сенсорного развития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Коммуникативных навыков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Сплочению детского коллектива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:\Users\ALEXEY\Desktop\Фото в ДОУ\Лего софт на фк\IMG_2939.JPG"/>
          <p:cNvPicPr/>
          <p:nvPr/>
        </p:nvPicPr>
        <p:blipFill>
          <a:blip r:embed="rId1"/>
          <a:stretch/>
        </p:blipFill>
        <p:spPr>
          <a:xfrm>
            <a:off x="4267080" y="1895400"/>
            <a:ext cx="14684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489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использования конструктора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бразовательной практике с детьми дошкольного возраста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042920" y="155736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доступность и нагля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последовательность и систематичность обучения и воспит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- учет возрастных и индивидуальных особенностей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C:\Users\ALEXEY\Desktop\Фото в ДОУ\Лего софт на фк\IMG_2845.JPG"/>
          <p:cNvPicPr/>
          <p:nvPr/>
        </p:nvPicPr>
        <p:blipFill>
          <a:blip r:embed="rId1"/>
          <a:stretch/>
        </p:blipFill>
        <p:spPr>
          <a:xfrm>
            <a:off x="2419200" y="4419720"/>
            <a:ext cx="2397240" cy="173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ALEXEY\Desktop\Фото в ДОУ\Лего софт на фк\IMG_2929.JPG"/>
          <p:cNvPicPr/>
          <p:nvPr/>
        </p:nvPicPr>
        <p:blipFill>
          <a:blip r:embed="rId2"/>
          <a:stretch/>
        </p:blipFill>
        <p:spPr>
          <a:xfrm>
            <a:off x="6649920" y="3986280"/>
            <a:ext cx="1683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конструктора </a:t>
            </a:r>
            <a:r>
              <a:rPr b="1" lang="ru-RU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SOFT  </a:t>
            </a:r>
            <a:r>
              <a:rPr b="1" lang="ru-RU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и L</a:t>
            </a:r>
            <a:r>
              <a:rPr b="1" lang="en-US" sz="2400" spc="-1" strike="noStrike">
                <a:solidFill>
                  <a:srgbClr val="1d4263"/>
                </a:solidFill>
                <a:latin typeface="Times New Roman"/>
                <a:ea typeface="Times New Roman"/>
              </a:rPr>
              <a:t>EGO  DUPLO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 двигательной деятельности с дошкольниками в режиме дня ДОО:</a:t>
            </a:r>
            <a:br>
              <a:rPr sz="2400"/>
            </a:br>
            <a:br>
              <a:rPr sz="28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Утренняя гимнастика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Образовательная деятельность на физкультурных занятиях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Индивидуальная оздоровительная деятельность </a:t>
            </a:r>
            <a:br>
              <a:rPr sz="2400"/>
            </a:br>
            <a:r>
              <a:rPr b="0" lang="ru-RU" sz="2400" spc="-1" strike="noStrike">
                <a:solidFill>
                  <a:srgbClr val="224d19"/>
                </a:solidFill>
                <a:latin typeface="Times New Roman"/>
                <a:ea typeface="Times New Roman"/>
              </a:rPr>
              <a:t>Досуги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Users\ALEXEY\Desktop\Фото в ДОУ\Лего софт на фк\IMG_2903.JPG"/>
          <p:cNvPicPr/>
          <p:nvPr/>
        </p:nvPicPr>
        <p:blipFill>
          <a:blip r:embed="rId1"/>
          <a:stretch/>
        </p:blipFill>
        <p:spPr>
          <a:xfrm>
            <a:off x="6059520" y="4419720"/>
            <a:ext cx="2041560" cy="210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Users\ALEXEY\Desktop\Фото в ДОУ\Лего софт на фк\IMG_2956.JPG"/>
          <p:cNvPicPr/>
          <p:nvPr/>
        </p:nvPicPr>
        <p:blipFill>
          <a:blip r:embed="rId2"/>
          <a:stretch/>
        </p:blipFill>
        <p:spPr>
          <a:xfrm>
            <a:off x="3041640" y="4200480"/>
            <a:ext cx="17985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iRU</cp:lastModifiedBy>
  <dcterms:modified xsi:type="dcterms:W3CDTF">2022-12-11T19:36:47Z</dcterms:modified>
  <cp:revision>17</cp:revision>
  <dc:subject/>
  <dc:title>ThemeGallery PowerTemplate</dc:title>
</cp:coreProperties>
</file>