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127-9CC7-458B-881E-91335F490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CCE-2649-4D37-8DB7-ABF7FE35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729A-A6B9-4A08-8929-564EC0CD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98F-300F-4BE0-B10A-119D0510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D30-AAFC-4B7A-8134-5280E32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DA4-CAF4-4215-9CC8-1B44FFDF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6ED-6F74-40C0-AD9D-F2E0E481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F69-E674-4546-BE75-0597329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C28-DB72-47CC-A6B4-A399868E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44DC-54EB-44EB-852B-A71E47D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A92-307C-4306-8173-70F4C906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E553-6C47-4CC4-AF9C-3FCB2E18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929-1323-4D2D-97B4-6B075C66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C44-EFFB-41FE-BA66-BFE3E88B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95D-B168-4413-BFF5-48BDF71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7A50-C14C-4FDB-AE94-6897CAB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85E-7A34-41CB-B40C-DB33DCC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667-A96F-4969-9270-035C8D1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E72-1B35-4CB9-B0C8-FC0D7708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01C-201C-4365-8782-FD1B58E6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9A5-2BA1-4E5F-8A72-F466775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B5B-7C3B-44CF-857D-D96C029C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80B-748E-4116-8002-7B147BA9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579-EABB-4146-A43B-F72A5E58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5C5-E779-4EC3-9D15-589B0BD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303-CCDD-482E-AE25-7261693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5B7-D229-45D6-8912-52A4213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103-8A01-4B20-A4B2-806C54FB6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7800" y="130248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6440" y="163008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7200" cy="6857640"/>
            <a:chOff x="152280" y="0"/>
            <a:chExt cx="45720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80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0"/>
              <a:ext cx="2959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7200" cy="262080"/>
            <a:chOff x="152280" y="0"/>
            <a:chExt cx="45720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800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3560" y="0"/>
              <a:ext cx="29592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7800" y="421704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6440" y="454464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7800" y="7848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6440" y="40608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6360" y="189000"/>
              <a:ext cx="63216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3360" y="315720"/>
              <a:ext cx="54936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480" y="360"/>
            <a:ext cx="462240" cy="6857640"/>
            <a:chOff x="-6480" y="360"/>
            <a:chExt cx="46224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6120" y="360"/>
              <a:ext cx="299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0760" cy="394920"/>
            <a:chOff x="-11160" y="6462720"/>
            <a:chExt cx="2120760" cy="39492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6040" y="5466960"/>
              <a:ext cx="12780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8960" y="5698080"/>
              <a:ext cx="19908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680" y="-372960"/>
                <a:ext cx="12708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4800" y="-64080"/>
                <a:ext cx="3492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71A-6BA2-40BA-8D50-536A45CD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985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Использование конструктора </a:t>
            </a:r>
            <a:br>
              <a:rPr sz="3200"/>
            </a:b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SOFT   </a:t>
            </a:r>
            <a:br>
              <a:rPr sz="3200"/>
            </a:b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в физическом развитии дошкольников  в условиях ДО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651640" y="5229000"/>
            <a:ext cx="3241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Подготовле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инструктором по Ф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МБДОУ  ЗАТО г. Североморс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д\с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Лаврентьевой М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ALEXEY\Desktop\Фото в ДОУ\Лего софт на фк\IMG_3109.JPG"/>
          <p:cNvPicPr/>
          <p:nvPr/>
        </p:nvPicPr>
        <p:blipFill>
          <a:blip r:embed="rId1"/>
          <a:stretch/>
        </p:blipFill>
        <p:spPr>
          <a:xfrm>
            <a:off x="3328920" y="3425760"/>
            <a:ext cx="43880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48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из главных задач - сохранение и укрепление здоровья де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Эффективность  физкультурно - оздоровительной работы в ДОО зависит от разумной организации развивающей среды, которая максимально ориентирована на интересы дошкольника и укрепление его здоровья</a:t>
            </a:r>
            <a:br>
              <a:rPr sz="4400"/>
            </a:br>
            <a:br>
              <a:rPr sz="4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:\Users\ALEXEY\Desktop\Фото в ДОУ\Лего софт на фк\IMG_2785.JPG"/>
          <p:cNvPicPr/>
          <p:nvPr/>
        </p:nvPicPr>
        <p:blipFill>
          <a:blip r:embed="rId1"/>
          <a:stretch/>
        </p:blipFill>
        <p:spPr>
          <a:xfrm>
            <a:off x="2955960" y="3724200"/>
            <a:ext cx="225576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ALEXEY\Desktop\Фото в ДОУ\Лего софт на фк\IMG_2803.JPG"/>
          <p:cNvPicPr/>
          <p:nvPr/>
        </p:nvPicPr>
        <p:blipFill>
          <a:blip r:embed="rId2"/>
          <a:stretch/>
        </p:blipFill>
        <p:spPr>
          <a:xfrm>
            <a:off x="6059520" y="4632480"/>
            <a:ext cx="1798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о -  пространственная  развивающая среда в ДОО – 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основа  для приобретения опыта двигательной деятельности, успешного  физического и познавательного  развития воспитанников ДОО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педагога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открыть перед детьми весь спектр возможностей среды и направить их усилия на использование ее отдельных элемент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Users\ALEXEY\Desktop\Фото в ДОУ\Лего софт на фк\IMG_2817.JPG"/>
          <p:cNvPicPr/>
          <p:nvPr/>
        </p:nvPicPr>
        <p:blipFill>
          <a:blip r:embed="rId1"/>
          <a:stretch/>
        </p:blipFill>
        <p:spPr>
          <a:xfrm>
            <a:off x="4552920" y="4334040"/>
            <a:ext cx="24274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76200" y="333000"/>
            <a:ext cx="76168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конструктор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ствует решению задач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Сенсорного развития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Коммуникативных навыков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Сплочению детского коллектива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:\Users\ALEXEY\Desktop\Фото в ДОУ\Лего софт на фк\IMG_2939.JPG"/>
          <p:cNvPicPr/>
          <p:nvPr/>
        </p:nvPicPr>
        <p:blipFill>
          <a:blip r:embed="rId1"/>
          <a:stretch/>
        </p:blipFill>
        <p:spPr>
          <a:xfrm>
            <a:off x="4267080" y="1895400"/>
            <a:ext cx="14684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489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использования конструктор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бразовательной практике с детьми дошкольного возраста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042920" y="155736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доступность и нагля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последовательность и систематичность обучения и воспит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учет возрастных и индивидуальных особенностей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C:\Users\ALEXEY\Desktop\Фото в ДОУ\Лего софт на фк\IMG_2845.JPG"/>
          <p:cNvPicPr/>
          <p:nvPr/>
        </p:nvPicPr>
        <p:blipFill>
          <a:blip r:embed="rId1"/>
          <a:stretch/>
        </p:blipFill>
        <p:spPr>
          <a:xfrm>
            <a:off x="2419200" y="4419720"/>
            <a:ext cx="2397240" cy="173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ALEXEY\Desktop\Фото в ДОУ\Лего софт на фк\IMG_2929.JPG"/>
          <p:cNvPicPr/>
          <p:nvPr/>
        </p:nvPicPr>
        <p:blipFill>
          <a:blip r:embed="rId2"/>
          <a:stretch/>
        </p:blipFill>
        <p:spPr>
          <a:xfrm>
            <a:off x="6649920" y="3986280"/>
            <a:ext cx="1683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конструктора </a:t>
            </a:r>
            <a:r>
              <a:rPr b="1" lang="ru-RU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SOFT  </a:t>
            </a:r>
            <a:r>
              <a:rPr b="1" lang="ru-RU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и L</a:t>
            </a:r>
            <a:r>
              <a:rPr b="1" lang="en-US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DUPL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 двигательной деятельности с дошкольниками в режиме дня ДОО:</a:t>
            </a:r>
            <a:br>
              <a:rPr sz="2400"/>
            </a:br>
            <a:br>
              <a:rPr sz="28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Утренняя гимнастика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Образовательная деятельность на физкультурных занятиях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Индивидуальная оздоровительная деятельность 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Досуги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Users\ALEXEY\Desktop\Фото в ДОУ\Лего софт на фк\IMG_2903.JPG"/>
          <p:cNvPicPr/>
          <p:nvPr/>
        </p:nvPicPr>
        <p:blipFill>
          <a:blip r:embed="rId1"/>
          <a:stretch/>
        </p:blipFill>
        <p:spPr>
          <a:xfrm>
            <a:off x="6059520" y="4419720"/>
            <a:ext cx="2041560" cy="210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Users\ALEXEY\Desktop\Фото в ДОУ\Лего софт на фк\IMG_2956.JPG"/>
          <p:cNvPicPr/>
          <p:nvPr/>
        </p:nvPicPr>
        <p:blipFill>
          <a:blip r:embed="rId2"/>
          <a:stretch/>
        </p:blipFill>
        <p:spPr>
          <a:xfrm>
            <a:off x="3041640" y="4200480"/>
            <a:ext cx="17985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iRU</cp:lastModifiedBy>
  <dcterms:modified xsi:type="dcterms:W3CDTF">2022-12-11T19:36:47Z</dcterms:modified>
  <cp:revision>17</cp:revision>
  <dc:subject/>
  <dc:title>ThemeGallery PowerTemplate</dc:title>
</cp:coreProperties>
</file>