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CF78-087C-450D-8E12-BE10337BE5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шему глубокому убеждению мало использовать разные формы обучения в их конкретном проявлении – работа учащихся на уроке. Чтобы сформировать ЛСКК необходимо искать способы включения школьников в активный диалог культур, чтобы они на практике могли познавать особенности функционирования английского языка в новой для них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составлена на основе работ В.В.Сафон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8A3-018A-4D30-9DE7-9FB74FB8C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использован для разработки и теперь уже активной реализации такой формы обучения, как «Юношеский образовательный туризм» в Школе «Свиблово». Чтобы сформировать ЛСКК необходимо искать способы включения школьников в активный диалог культур, чтобы они на практике могли познавать особенности функционирования английского языка в новой для них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составлена на основе работ В.В.Сафон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7052-FE83-4B26-AE86-1FD06DC328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вид деятельности имеет ряд положительных сторон и трудностей в реализации. Остановимся на несомненных плюсах, главным из которых является высокая результативность решения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C51-728A-4C98-9FA6-35E8207A6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ми видами речевой деятельности у школьников до участия в данном виде деятельности являлись чтение и письмо.. После участия – чтение по-прежнему лидирует, но наиболее впечатляющими результатами оказались говорение и ау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73D-3B23-41DE-AB2B-04D9D1A6AC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обществе по мере насыщения рынка образовательных услуг происходит изменение формата изучения языка: все большое значение приобретает возможность транснациональных контактов и т.п. Представленная форма организации процесса обучения ИЯ, основанная на культурной вариативности, является ключевым стержнем процесса обучения и многократно увеличивает эффективность формирования ЛСКК.В рамках участия в данном виде деятельности обучающиеся реализуют свои исследовательские работы и мини проекты в различных видах рече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5BF1-2D16-4C02-BEDD-C0034FDDA2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AF3-ECE0-455C-94D5-0157CE2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5D1-C7EC-4EE0-8BB3-625813AB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2A3E-FBC8-458C-9000-A2F771C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5EE1F-F92F-41DA-898F-0A5A2D5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9D117-A43E-41B4-BA1C-E62FF4EC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2A7F5-7014-43FE-8C6E-7FA8235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1748D-E85B-4DF4-A8C6-3DA73FC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64F3B-42EA-4F5C-827E-107C317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6C663-C31C-4D0E-A631-6E79F17F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527B8-F829-4591-8999-E67C476A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091AC-51C3-44BB-9DC3-630C2634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059-EA6D-4F22-909E-630D646B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358-A9DC-4425-823C-D8EB2C8F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525-DA89-43E3-98F3-0E26CA75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C512-E6D8-4778-9728-CBF610E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C39-AEE3-4E1A-8B26-67F3EC8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EE1-FA8C-4AF8-9A01-D1671F0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CFA0-79F8-44EB-9D17-09DE289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A5AB-814D-4070-8F3A-6B036E8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055A-2491-48A8-BEB0-847B674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CDF-A0C4-4D59-ACAA-3EB74FD2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CBE9-A364-4544-AE6C-6E9952F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F58-24B3-47F9-83CD-D276095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9C2-8EB1-4BB3-850D-9441F057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1901-550D-4B3C-B354-C49A1825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7AA-C84D-4DFF-BE74-9448A8FA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3FAF-8DF2-42CB-B44A-D2E67E14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1034-F46A-4CD6-9214-A570782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F5FA-70FE-4F06-9F7B-1018C8B1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0700-0568-42FE-8FEB-ABE4B08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755F-9C99-4177-B467-501C6B29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605-4823-456A-84B0-D981ABC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D485-3F43-4C3D-9FB8-5D066E1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A20F-4F16-4D26-AC31-3F92F73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1BC5-B765-40AD-BC67-1A2B50C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9459-CB34-44EB-86DC-0486F93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6887-DB3C-4D59-99D0-0A1B017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2B79-EB2B-4443-A9E3-757DD100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0572-1C21-438B-B324-58F27330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3386-2049-4984-AD10-8F73494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C886-81EE-456E-8A5E-01AEBB96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A4F8-5B3B-455B-BEB8-F31D5EA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815-A6BE-4CF1-B9BB-68F86CD0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2EFC-80FA-4ADE-86D7-E14B509F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B2FC-0001-4F9F-A9F2-7C32F75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79E2-476B-4D78-BA18-AAD94B42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0EFC-EC34-4E9C-9347-EBD5768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B498-E997-466A-9C42-DBE3267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D77C-6475-4B0C-BBF5-FFB7860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B564-96AB-4B79-922A-00F462A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2CAD-7603-4CCF-B06F-9866F8B0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3F52-BDD3-4F8F-A6CE-E5439E50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8013-8281-4518-8E41-05A3EF29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8A6-B298-4655-AA14-DE3A484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0626-E873-4CC8-98BF-9642A8C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8932C-65FC-4D5F-AC3F-93625FCD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EA6A-297D-4F09-BACA-53E77806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41BF-C604-494E-8DF7-B90D08F4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6660-ACEF-4101-B6ED-1B094520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E01B-8B7B-46A1-B644-9D8142E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4E2B-E916-4E70-AE0B-5F1AF45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B311-B4D2-4BA7-B927-5A0E05B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9C9C-55B8-485D-8625-655170E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8A9D-D036-49D4-B988-6005B649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3A8-A913-475F-B4A3-2A51CD1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D0F52-8F33-477E-93ED-36E06BF1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56B8-7335-4F71-9BAF-F7C0A726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E070A-A079-4B3F-90AD-0FCD3D1F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A8D2-2081-4958-911A-0C394E4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66CBB-359E-4C83-B9C9-927E71C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BDAA-4FA2-4C31-8148-F4D6EFA2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0B9B-E81A-4EEC-A3D0-6A2327B0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93254-15A6-4594-A356-1018494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451C3-7DA5-4852-B4B6-9B881DB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5ECC-DE7A-4963-9829-3D6DC28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CC9-C4F0-40CB-9A3C-63D7F5C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EF30-A7EB-4BFA-A87A-633EA25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A8EF-FC30-4241-84FA-6CED53E8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0E7A-1EE2-4679-AD0E-1B7F3CE3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C2EF-B2C0-4BF7-98C2-4DF1EAED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EA3CC-4A31-4D3E-B780-BC8F504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2BAD-7D71-44E7-80CE-8B4DA5C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DDF8-7D51-4CC5-AE0D-53B2100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F2EA-6296-4538-B530-548DB454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2F33-2881-43E8-BC82-C5BC0DC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8A48-3F34-4521-B3C5-18DF6A4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FDE-641A-4964-84FD-DD79627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0778-6314-48AA-A610-4D764C4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DE21-FC19-4410-94CA-CB9306F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164B-0563-4BAB-968B-9678FBAD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7D33-A354-4F2E-94FB-4BB78F25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9294-904E-4D71-B6EE-53A141A3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83F4B-7CAD-4CE0-BD0E-B63D8939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1CA3-F3FD-4BF8-BF39-A37D2713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C91C-4320-4075-A93D-5C0618C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DCDA-8EB9-4612-A806-5B78A21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A307-DB55-4B95-A280-7B1D029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85C-FFFE-4356-9E47-AE6EB4D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1FC7-0507-4DDA-83A9-E70DE3E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47DF-62FD-449D-B643-21FA9DBF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6122-4E82-4C2E-8626-1749D84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7E233-80CB-44DF-90B9-0ACDF7B5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5A54-4076-4704-8038-D9CF2130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6987-9200-4171-AFAE-C1CB43EE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8B67-EFED-4E4D-ADBC-D4F2273A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74150-5A23-4F6E-99B7-F32954CB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09E8-E72F-4125-B804-1F68993E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7BE1C-3276-440F-9000-550F7E1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9822-4579-47FE-B0A0-207ED253CDC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67A-7B47-438C-8306-1FF9FB9DB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0"/>
          <p:cNvSpPr/>
          <p:nvPr/>
        </p:nvSpPr>
        <p:spPr>
          <a:xfrm>
            <a:off x="677880" y="486396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85800" y="6730920"/>
            <a:ext cx="5486400" cy="9144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77880" y="486396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85800" y="6730920"/>
            <a:ext cx="171360" cy="9144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12960" y="847404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E00F-3315-4707-9C6E-5EBE8A806F9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685800" y="375912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685800" y="375912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1360" y="8474040"/>
            <a:ext cx="1141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6FF-39EF-4393-8876-D4EB3DD0BF25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ая соединительная линия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Равнобедренный треугольник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Равнобедренный треугольник 10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40E-4726-4BEE-94AD-E3BFBB4B3D5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E17-47DC-41BC-A86F-ABE8061BB19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1"/>
          <p:cNvSpPr/>
          <p:nvPr/>
        </p:nvSpPr>
        <p:spPr>
          <a:xfrm>
            <a:off x="4633920" y="409680"/>
            <a:ext cx="0" cy="80452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Равнобедренный треугольник 12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B01C-6379-475D-A584-A732A4F6E1F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343080" y="668160"/>
            <a:ext cx="13644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D21-1F1B-49F8-8CE1-DBFD354F83C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2"/>
          <p:cNvSpPr/>
          <p:nvPr/>
        </p:nvSpPr>
        <p:spPr>
          <a:xfrm>
            <a:off x="4916520" y="368280"/>
            <a:ext cx="0" cy="78026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C64-870A-4590-9DDA-95EC0625556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3000" y="250920"/>
            <a:ext cx="617220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464653"/>
                </a:solidFill>
                <a:latin typeface="Cambria"/>
              </a:rPr>
              <a:t>Принцип дидактической культуросообразности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1" name="Содержимое 3" descr=""/>
          <p:cNvPicPr/>
          <p:nvPr/>
        </p:nvPicPr>
        <p:blipFill>
          <a:blip r:embed="rId1"/>
          <a:stretch/>
        </p:blipFill>
        <p:spPr>
          <a:xfrm>
            <a:off x="109440" y="1547640"/>
            <a:ext cx="6748560" cy="73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Принцип диалога </a:t>
            </a:r>
            <a:br>
              <a:rPr sz="2800"/>
            </a:b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культур и цивилизаций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430200" y="1187280"/>
            <a:ext cx="6120000" cy="11527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ение обучаемыми роли культурных  поср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6"/>
          <p:cNvSpPr/>
          <p:nvPr/>
        </p:nvSpPr>
        <p:spPr>
          <a:xfrm>
            <a:off x="549360" y="2771640"/>
            <a:ext cx="5759280" cy="16560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нтрастивно-сопоставительное соизучение неродной и родной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8"/>
          <p:cNvSpPr/>
          <p:nvPr/>
        </p:nvSpPr>
        <p:spPr>
          <a:xfrm>
            <a:off x="419040" y="4464000"/>
            <a:ext cx="2449440" cy="14889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щее и особенное в культ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9"/>
          <p:cNvSpPr/>
          <p:nvPr/>
        </p:nvSpPr>
        <p:spPr>
          <a:xfrm>
            <a:off x="3716280" y="4572000"/>
            <a:ext cx="2376720" cy="14889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ультурная ценность соизучаемых ф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115920" y="6156360"/>
            <a:ext cx="2089080" cy="11523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сихологическая готовность к общению на 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1"/>
          <p:cNvSpPr/>
          <p:nvPr/>
        </p:nvSpPr>
        <p:spPr>
          <a:xfrm>
            <a:off x="2349360" y="6156360"/>
            <a:ext cx="2016360" cy="11523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икультурная в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2"/>
          <p:cNvSpPr/>
          <p:nvPr/>
        </p:nvSpPr>
        <p:spPr>
          <a:xfrm>
            <a:off x="4514760" y="6157800"/>
            <a:ext cx="2008440" cy="11527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рит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13"/>
          <p:cNvSpPr/>
          <p:nvPr/>
        </p:nvSpPr>
        <p:spPr>
          <a:xfrm>
            <a:off x="115920" y="7543800"/>
            <a:ext cx="3241800" cy="12970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циокультурная наблюд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4"/>
          <p:cNvSpPr/>
          <p:nvPr/>
        </p:nvSpPr>
        <p:spPr>
          <a:xfrm>
            <a:off x="3519360" y="7569360"/>
            <a:ext cx="3003840" cy="12967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циокультурная непредвзя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Двойная стрелка вверх/вниз 15"/>
          <p:cNvSpPr/>
          <p:nvPr/>
        </p:nvSpPr>
        <p:spPr>
          <a:xfrm>
            <a:off x="3208320" y="2155680"/>
            <a:ext cx="441360" cy="86544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Выноска с четырьмя стрелками 19"/>
          <p:cNvSpPr/>
          <p:nvPr/>
        </p:nvSpPr>
        <p:spPr>
          <a:xfrm>
            <a:off x="2576520" y="4464000"/>
            <a:ext cx="1633680" cy="1639800"/>
          </a:xfrm>
          <a:custGeom>
            <a:avLst/>
            <a:gdLst/>
            <a:ahLst/>
            <a:rect l="l" t="t" r="r" b="b"/>
            <a:pathLst>
              <a:path w="1633537" h="1639888">
                <a:moveTo>
                  <a:pt x="0" y="819944"/>
                </a:moveTo>
                <a:lnTo>
                  <a:pt x="302449" y="517495"/>
                </a:lnTo>
                <a:lnTo>
                  <a:pt x="302449" y="668719"/>
                </a:lnTo>
                <a:lnTo>
                  <a:pt x="423715" y="668719"/>
                </a:lnTo>
                <a:lnTo>
                  <a:pt x="423715" y="425362"/>
                </a:lnTo>
                <a:lnTo>
                  <a:pt x="665544" y="425362"/>
                </a:lnTo>
                <a:lnTo>
                  <a:pt x="665544" y="302449"/>
                </a:lnTo>
                <a:lnTo>
                  <a:pt x="514319" y="302449"/>
                </a:lnTo>
                <a:lnTo>
                  <a:pt x="816769" y="0"/>
                </a:lnTo>
                <a:lnTo>
                  <a:pt x="1119218" y="302449"/>
                </a:lnTo>
                <a:lnTo>
                  <a:pt x="967993" y="302449"/>
                </a:lnTo>
                <a:lnTo>
                  <a:pt x="967993" y="425362"/>
                </a:lnTo>
                <a:lnTo>
                  <a:pt x="1209822" y="425362"/>
                </a:lnTo>
                <a:lnTo>
                  <a:pt x="1209822" y="668719"/>
                </a:lnTo>
                <a:lnTo>
                  <a:pt x="1331088" y="668719"/>
                </a:lnTo>
                <a:lnTo>
                  <a:pt x="1331088" y="517495"/>
                </a:lnTo>
                <a:lnTo>
                  <a:pt x="1633537" y="819944"/>
                </a:lnTo>
                <a:lnTo>
                  <a:pt x="1331088" y="1122393"/>
                </a:lnTo>
                <a:lnTo>
                  <a:pt x="1331088" y="971169"/>
                </a:lnTo>
                <a:lnTo>
                  <a:pt x="1209822" y="971169"/>
                </a:lnTo>
                <a:lnTo>
                  <a:pt x="1209822" y="1214526"/>
                </a:lnTo>
                <a:lnTo>
                  <a:pt x="967993" y="1214526"/>
                </a:lnTo>
                <a:lnTo>
                  <a:pt x="967993" y="1337439"/>
                </a:lnTo>
                <a:lnTo>
                  <a:pt x="1119218" y="1337439"/>
                </a:lnTo>
                <a:lnTo>
                  <a:pt x="816769" y="1639888"/>
                </a:lnTo>
                <a:lnTo>
                  <a:pt x="514319" y="1337439"/>
                </a:lnTo>
                <a:lnTo>
                  <a:pt x="665544" y="1337439"/>
                </a:lnTo>
                <a:lnTo>
                  <a:pt x="665544" y="1214526"/>
                </a:lnTo>
                <a:lnTo>
                  <a:pt x="423715" y="1214526"/>
                </a:lnTo>
                <a:lnTo>
                  <a:pt x="423715" y="971169"/>
                </a:lnTo>
                <a:lnTo>
                  <a:pt x="302449" y="971169"/>
                </a:lnTo>
                <a:lnTo>
                  <a:pt x="302449" y="1122393"/>
                </a:lnTo>
                <a:lnTo>
                  <a:pt x="0" y="819944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Тройная стрелка влево/вправо/вверх 21"/>
          <p:cNvSpPr/>
          <p:nvPr/>
        </p:nvSpPr>
        <p:spPr>
          <a:xfrm>
            <a:off x="2752560" y="7310520"/>
            <a:ext cx="1281240" cy="1081080"/>
          </a:xfrm>
          <a:custGeom>
            <a:avLst/>
            <a:gdLst/>
            <a:ahLst/>
            <a:rect l="l" t="t" r="r" b="b"/>
            <a:pathLst>
              <a:path w="1281113" h="1081087">
                <a:moveTo>
                  <a:pt x="0" y="810815"/>
                </a:moveTo>
                <a:lnTo>
                  <a:pt x="270272" y="540544"/>
                </a:lnTo>
                <a:lnTo>
                  <a:pt x="270272" y="675679"/>
                </a:lnTo>
                <a:lnTo>
                  <a:pt x="505421" y="675679"/>
                </a:lnTo>
                <a:lnTo>
                  <a:pt x="505421" y="270272"/>
                </a:lnTo>
                <a:lnTo>
                  <a:pt x="370285" y="270272"/>
                </a:lnTo>
                <a:lnTo>
                  <a:pt x="640557" y="0"/>
                </a:lnTo>
                <a:lnTo>
                  <a:pt x="910828" y="270272"/>
                </a:lnTo>
                <a:lnTo>
                  <a:pt x="775692" y="270272"/>
                </a:lnTo>
                <a:lnTo>
                  <a:pt x="775692" y="675679"/>
                </a:lnTo>
                <a:lnTo>
                  <a:pt x="1010841" y="675679"/>
                </a:lnTo>
                <a:lnTo>
                  <a:pt x="1010841" y="540544"/>
                </a:lnTo>
                <a:lnTo>
                  <a:pt x="1281113" y="810815"/>
                </a:lnTo>
                <a:lnTo>
                  <a:pt x="1010841" y="1081087"/>
                </a:lnTo>
                <a:lnTo>
                  <a:pt x="1010841" y="945951"/>
                </a:lnTo>
                <a:lnTo>
                  <a:pt x="270272" y="945951"/>
                </a:lnTo>
                <a:lnTo>
                  <a:pt x="270272" y="1081087"/>
                </a:lnTo>
                <a:lnTo>
                  <a:pt x="0" y="81081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Овал 3" descr=""/>
          <p:cNvPicPr/>
          <p:nvPr/>
        </p:nvPicPr>
        <p:blipFill>
          <a:blip r:embed="rId1"/>
          <a:stretch/>
        </p:blipFill>
        <p:spPr>
          <a:xfrm>
            <a:off x="633240" y="1536840"/>
            <a:ext cx="2457720" cy="1530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827160" y="3936960"/>
            <a:ext cx="28623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явление жизненности и актуальности учебн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крепление и конкретизац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именение знаний и умений на прак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сокая результ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Заголовок 4" descr=""/>
          <p:cNvPicPr/>
          <p:nvPr/>
        </p:nvPicPr>
        <p:blipFill>
          <a:blip r:embed="rId2"/>
          <a:stretch/>
        </p:blipFill>
        <p:spPr>
          <a:xfrm>
            <a:off x="4065480" y="1536840"/>
            <a:ext cx="2457720" cy="1365120"/>
          </a:xfrm>
          <a:prstGeom prst="rect">
            <a:avLst/>
          </a:prstGeom>
          <a:ln w="0">
            <a:noFill/>
          </a:ln>
        </p:spPr>
      </p:pic>
      <p:sp>
        <p:nvSpPr>
          <p:cNvPr id="418" name="Стрелка вниз 6"/>
          <p:cNvSpPr/>
          <p:nvPr/>
        </p:nvSpPr>
        <p:spPr>
          <a:xfrm>
            <a:off x="1476360" y="3178080"/>
            <a:ext cx="746280" cy="1055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7"/>
          <p:cNvSpPr/>
          <p:nvPr/>
        </p:nvSpPr>
        <p:spPr>
          <a:xfrm>
            <a:off x="4995720" y="2971800"/>
            <a:ext cx="594000" cy="10098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одержимое 2"/>
          <p:cNvSpPr/>
          <p:nvPr/>
        </p:nvSpPr>
        <p:spPr>
          <a:xfrm>
            <a:off x="3429000" y="3611520"/>
            <a:ext cx="5936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Содержимое 2" descr=""/>
          <p:cNvPicPr/>
          <p:nvPr/>
        </p:nvPicPr>
        <p:blipFill>
          <a:blip r:embed="rId3"/>
          <a:stretch/>
        </p:blipFill>
        <p:spPr>
          <a:xfrm>
            <a:off x="3395520" y="3938760"/>
            <a:ext cx="871560" cy="4979880"/>
          </a:xfrm>
          <a:prstGeom prst="rect">
            <a:avLst/>
          </a:prstGeom>
          <a:ln w="0">
            <a:noFill/>
          </a:ln>
        </p:spPr>
      </p:pic>
      <p:sp>
        <p:nvSpPr>
          <p:cNvPr id="422" name="Содержимое 2"/>
          <p:cNvSpPr/>
          <p:nvPr/>
        </p:nvSpPr>
        <p:spPr>
          <a:xfrm>
            <a:off x="490680" y="4287960"/>
            <a:ext cx="271764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ложность организации и пр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обходимость специальн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начительные отличия от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"/>
          <p:cNvSpPr/>
          <p:nvPr/>
        </p:nvSpPr>
        <p:spPr>
          <a:xfrm>
            <a:off x="719280" y="339840"/>
            <a:ext cx="597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й  туризм как средство развития лингвосоциокультур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Результаты исследования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765000" y="1846440"/>
            <a:ext cx="5616720" cy="2941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65000" y="5076720"/>
            <a:ext cx="4680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75920" y="412920"/>
            <a:ext cx="61722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Результаты сформированной лингвосоциокультурной компетенции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33000" y="1476000"/>
            <a:ext cx="61722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пособность проникать в сущность чужой культуры, делать необходимые обобщения на материале конкретных единичных примеров и наоборот – от общего впечатления переходить к глубокому исследова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умение распознавать культурную коннотацию слов и фраз английского язы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умение относиться к носителям чужой культуры и самой культуре с эмпатией, принимать ее с должной терпимостью, не судить по законам собственной культур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интеллектуальное любопытство, интерес к чужой культуре, умение ненавязчиво проявлять е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3:14:58Z</dcterms:created>
  <dc:creator>Admin</dc:creator>
  <dc:description/>
  <dc:language>en-US</dc:language>
  <cp:lastModifiedBy>Оксана</cp:lastModifiedBy>
  <dcterms:modified xsi:type="dcterms:W3CDTF">2022-12-11T18:32:35Z</dcterms:modified>
  <cp:revision>60</cp:revision>
  <dc:subject/>
  <dc:title>Слайд 1</dc:title>
</cp:coreProperties>
</file>