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8A439-5E87-4353-AE30-36E0810CC19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нашему глубокому убеждению мало использовать разные формы обучения в их конкретном проявлении – работа учащихся на уроке. Чтобы сформировать ЛСКК необходимо искать способы включения школьников в активный диалог культур, чтобы они на практике могли познавать особенности функционирования английского языка в новой для них культу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блица составлена на основе работ В.В.Сафонов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6C172-79B8-4C7C-AAF3-0595B2EA1BB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нно этот принцип использован для разработки и теперь уже активной реализации такой формы обучения, как «Юношеский образовательный туризм» в Школе «Свиблово». Чтобы сформировать ЛСКК необходимо искать способы включения школьников в активный диалог культур, чтобы они на практике могли познавать особенности функционирования английского языка в новой для них культу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блица составлена на основе работ В.В.Сафонов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9A7F5-D474-40EE-AA1C-3D8969BB1C3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ый вид деятельности имеет ряд положительных сторон и трудностей в реализации. Остановимся на несомненных плюсах, главным из которых является высокая результативность решения поставленных ц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9742A-882E-4EF1-9BED-14C3FF5CD84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развитыми видами речевой деятельности у школьников до участия в данном виде деятельности являлись чтение и письмо.. После участия – чтение по-прежнему лидирует, но наиболее впечатляющими результатами оказались говорение и аудир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03604-77D6-4985-9508-2F70C9C689B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временном обществе по мере насыщения рынка образовательных услуг происходит изменение формата изучения языка: все большое значение приобретает возможность транснациональных контактов и т.п. Представленная форма организации процесса обучения ИЯ, основанная на культурной вариативности, является ключевым стержнем процесса обучения и многократно увеличивает эффективность формирования ЛСКК.В рамках участия в данном виде деятельности обучающиеся реализуют свои исследовательские работы и мини проекты в различных видах речев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72EB8-6D7C-41CA-AA0D-D7F0A11E741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EA8A-3EA2-4240-882B-56E0ED6DB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6172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42720" y="5045040"/>
            <a:ext cx="6172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BDD5-CE06-4BAB-925C-FAE338201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C14150-71F3-4F2B-927A-49EFA52AA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34916C-62A0-48B5-B5DC-74B3171AE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342720" y="202680"/>
            <a:ext cx="61722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42D92C-5E4C-4615-98BF-309A5FAFF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3427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AF7616-6DC5-45D5-99E1-9AC3ABC0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35053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47E5FF-73ED-4949-9E46-16D868F5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342720" y="5045040"/>
            <a:ext cx="6172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476680-FEFC-4B5A-8FD7-0D17F9DE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6172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42720" y="5045040"/>
            <a:ext cx="6172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FE688D-5463-4F51-9396-6576A91C9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3427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35053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AB276E-CD3C-482C-9272-0CBC81C58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2429640" y="162540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16560" y="162540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342720" y="504504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2429640" y="504504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4516560" y="504504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1A8188-51E6-429C-BE24-2FC3C7E30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5053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7A37-4077-4F60-AD42-D932B937C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429640" y="162540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16560" y="162540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42720" y="504504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429640" y="504504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4516560" y="504504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CB1B-40C6-42C4-93C8-3D234C198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67EE8-5110-4611-9960-E39A820F0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2720" y="1625400"/>
            <a:ext cx="6172200" cy="65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BCC44-FC77-4C1F-96D5-CE9A98F70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617220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EFC03-A6DD-423B-88D9-552161844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D28FF-4B3A-4A75-8995-3967E2EFC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BC1FA-1814-44DC-9856-9C1BDA81B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42720" y="202680"/>
            <a:ext cx="61722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6C6A9-CED9-4E2E-B189-571F7D535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27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30259-CE12-4E14-B48C-36243F76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42720" y="1625400"/>
            <a:ext cx="6172200" cy="65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4448-F39A-433E-A453-002922D7C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5053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10A91-D471-44A2-9015-5EA10921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2720" y="5045040"/>
            <a:ext cx="6172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4E96F-9DE5-457C-B4F8-BF4BAEC0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6172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2720" y="5045040"/>
            <a:ext cx="6172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77388-17D7-47C5-97FB-073FBF5F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5053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9F6EC-2C68-4202-A04A-1F5A45148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429640" y="162540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16560" y="162540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2720" y="504504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429640" y="504504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4516560" y="504504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3BCBB-9D14-4BF4-9FFB-A1D714A8A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220E9-D4B0-42B8-BE3D-7318310E5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42720" y="1625400"/>
            <a:ext cx="6172200" cy="65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DDE2F-10CF-4956-8F5C-73C2AED8E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617220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11EE0-5BD6-4318-A4ED-7BBF22817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7E1C5-EF1E-4525-980C-C9D6F4B70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D70C8-A1A8-4953-92D1-2DFE613CA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617220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7A0E-7C92-42AF-B006-0F7BCEB48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342720" y="202680"/>
            <a:ext cx="61722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9B995-1BDD-445D-AC66-20F8086EA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427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3BB1B-8BAA-4F0E-A7C6-6B0C99EA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5053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CA5E0-86F4-4D25-9334-EC67D201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42720" y="5045040"/>
            <a:ext cx="6172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E0DF3-4D55-4C0B-944D-F1DC6056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6172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42720" y="5045040"/>
            <a:ext cx="6172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67F8F-7F66-476E-BA0C-EBA791D4E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427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5053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96BF3-4C56-4D6A-A782-D83F32AB7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429640" y="162540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16560" y="162540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342720" y="504504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2429640" y="504504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4516560" y="504504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C0E9D-16DA-4569-A700-EAB6D8785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5326F-7F2A-436D-AFDC-7D4F284AD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342720" y="1625400"/>
            <a:ext cx="6172200" cy="65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D92C8-57FB-45E5-9380-4AB6A54E7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617220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23E0B-C625-4CFD-B159-8BA1ECAE6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F01A-6951-4CA2-8B19-8C168AC6E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7286C-3A60-4C2A-9C93-E2DB1E820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50D2F-02D0-41BD-B71B-80BF2B9AA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342720" y="202680"/>
            <a:ext cx="61722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0ED4B-F613-43C0-A19D-C7FD90835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427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E09E7-ADD3-4D7B-B829-201F5C7D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5053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9AFD9-934F-4737-8565-21C491DD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342720" y="5045040"/>
            <a:ext cx="6172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65E39-473E-4D16-A272-0DE68101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6172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42720" y="5045040"/>
            <a:ext cx="6172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32DD9-8E32-4211-A449-BE0EF3F5D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427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35053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2AE50-BA70-4AE3-AC62-F02804CA9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2429640" y="162540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16560" y="162540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342720" y="504504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2429640" y="504504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4516560" y="504504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A47B0-50D6-4869-8C55-1663F4F23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DD295-86FC-4D32-B466-E83682815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CC42-6E70-42F4-B1B9-98653AB99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342720" y="1625400"/>
            <a:ext cx="6172200" cy="65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B25F5-3838-4EBF-9764-BB331898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617220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343F8-88CE-4EAF-8334-5AC9240F3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ABEA4-B753-45F6-839E-3FCE8C3B8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61A46-6863-486F-AD84-439D4070D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342720" y="202680"/>
            <a:ext cx="61722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BFA9B-D37A-470F-991F-D4CE4EC9E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3427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4D7A6-21C6-44E7-A40F-941AAE9D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35053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C784B-11F3-4F61-8FA5-22C6A49F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42720" y="5045040"/>
            <a:ext cx="6172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54EBF-61F9-4FF6-BF5C-3DD74BCF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6172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42720" y="5045040"/>
            <a:ext cx="6172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6B42C-DB07-48C2-90AF-C29C8C88A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427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35053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37FBD-1FF9-4DEB-988B-64F16FE87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42720" y="202680"/>
            <a:ext cx="61722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E07B-D226-4C8D-836A-F106EF8F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2429640" y="162540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16560" y="162540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342720" y="504504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2429640" y="504504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4516560" y="504504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84A01-8411-4B57-966E-1EB3674BA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FBE3E-ACBA-4C66-99E7-23D4E1785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342720" y="1625400"/>
            <a:ext cx="6172200" cy="65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A2D34-AC3F-4F66-B9EF-66F2A9CCD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617220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C61E7-957A-4986-BDB9-0E742A409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126A9-89D4-482D-8FC2-B1B3D2AA9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AACE9-37DC-405D-AB06-D22BC17A8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342720" y="202680"/>
            <a:ext cx="61722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D104C-454B-4E3E-BD4C-A964897DF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427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6549B-3C7D-4F14-8404-CE47EF1F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35053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8EEBC-5B64-45DF-82F0-6A3D2033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342720" y="5045040"/>
            <a:ext cx="6172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E9C11-E85A-49D4-A676-A090627A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427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D010-5633-4C89-9A37-2D63B2D7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6172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42720" y="5045040"/>
            <a:ext cx="6172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E26E2-9F5A-4F9B-ABD5-2B4C27614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3427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35053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61974-EC79-4087-AF1A-D239572A3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2429640" y="162540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16560" y="162540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342720" y="504504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2429640" y="504504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4516560" y="504504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AB586-2B29-494A-B643-BFF8DF0A5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005C31-4E3F-4570-AAED-971F5A5D0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42720" y="1625400"/>
            <a:ext cx="6172200" cy="65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FB79F9-D6DE-4678-B5B9-EC0097BA3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617220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FEDFAD-B0B4-4BCD-8D43-E7B45BD8A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FAF45D-194B-43BD-8370-769D47477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B377E-AE20-4A81-ACE5-A2C25289C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42720" y="202680"/>
            <a:ext cx="61722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2EFCC-9885-4D28-BD7B-070E5D1E2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427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94814-B2D9-46BE-B155-6EBB20FB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5053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2E40-6C97-4E51-B0B8-9A7FD9CF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35053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10180-9B36-449C-ABB2-EEE5C43C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42720" y="5045040"/>
            <a:ext cx="6172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0155C7-5C34-4978-A86A-BF0742C6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6172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42720" y="5045040"/>
            <a:ext cx="6172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B0659-CC3F-477B-B8FF-8C3BE5D1B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427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35053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61F509-F561-425E-BDCD-04B32EC67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2429640" y="162540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16560" y="162540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42720" y="504504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2429640" y="504504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4516560" y="504504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3FAC0-F49B-4F4E-894D-6E3A1DBAE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DC0CF8-F5EA-4725-A451-C9E1A2FAA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342720" y="1625400"/>
            <a:ext cx="6172200" cy="65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0C3952-8DD0-4649-A6F0-CB1569FE7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617220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FB5FC5-89F6-4246-8690-460AD96F6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BCA817-82D3-44CB-ACBF-E7052FAFF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56B9E7-5DD4-4382-BF95-F6E979258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2720" y="5045040"/>
            <a:ext cx="6172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645C-F6BF-47FA-B447-ABEBF022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342720" y="202680"/>
            <a:ext cx="61722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997E1-728B-4C77-A364-FDB043FD7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3427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EEC5DC-7315-46D4-89EC-78C8EF21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35053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384741-0D36-4A75-A305-9B39715A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342720" y="5045040"/>
            <a:ext cx="6172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BE248B-8691-4FE6-9F48-CCE02EC1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6172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42720" y="5045040"/>
            <a:ext cx="6172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F2F43F-007D-4655-A26E-AC9EEAE25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3427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35053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469E28-246A-4D16-96AD-F434BA6B0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2429640" y="162540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16560" y="162540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342720" y="504504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2429640" y="504504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4516560" y="504504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9172B4-ED93-475F-9262-F359EA6E5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A7D2D7-6A8B-4D9B-8422-F0677D354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342720" y="1625400"/>
            <a:ext cx="6172200" cy="65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25C2D3-F5E7-49FA-A052-08BD2972B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617220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3E8E95-7BC3-4E44-8F57-E09EDCB4D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1625400"/>
            <a:ext cx="617220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00240" y="8475480"/>
            <a:ext cx="17161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73320" y="8475480"/>
            <a:ext cx="26287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8640" y="8475480"/>
            <a:ext cx="14860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AA9EC-459E-40D7-872A-5F5739627A22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343080" y="8470800"/>
            <a:ext cx="61722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343080" y="1523880"/>
            <a:ext cx="61722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258120" y="8658000"/>
            <a:ext cx="255600" cy="9036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6A898-36E9-4AD2-B60E-6B060A793F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0"/>
          <p:cNvSpPr/>
          <p:nvPr/>
        </p:nvSpPr>
        <p:spPr>
          <a:xfrm>
            <a:off x="677880" y="4863960"/>
            <a:ext cx="5486400" cy="170676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11"/>
          <p:cNvSpPr/>
          <p:nvPr/>
        </p:nvSpPr>
        <p:spPr>
          <a:xfrm>
            <a:off x="685800" y="6730920"/>
            <a:ext cx="5486400" cy="9144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2"/>
          <p:cNvSpPr/>
          <p:nvPr/>
        </p:nvSpPr>
        <p:spPr>
          <a:xfrm>
            <a:off x="677880" y="4863960"/>
            <a:ext cx="171360" cy="170676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14"/>
          <p:cNvSpPr/>
          <p:nvPr/>
        </p:nvSpPr>
        <p:spPr>
          <a:xfrm>
            <a:off x="685800" y="6730920"/>
            <a:ext cx="171360" cy="9144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342720" y="1625400"/>
            <a:ext cx="617220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800240" y="8474040"/>
            <a:ext cx="17146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2172960" y="8474040"/>
            <a:ext cx="26067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912960" y="8474040"/>
            <a:ext cx="9144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21DB0-3148-474E-9682-FA6869288787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10"/>
          <p:cNvSpPr/>
          <p:nvPr/>
        </p:nvSpPr>
        <p:spPr>
          <a:xfrm>
            <a:off x="685800" y="3759120"/>
            <a:ext cx="5486400" cy="170676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11"/>
          <p:cNvSpPr/>
          <p:nvPr/>
        </p:nvSpPr>
        <p:spPr>
          <a:xfrm>
            <a:off x="685800" y="3759120"/>
            <a:ext cx="171360" cy="170676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342720" y="1625400"/>
            <a:ext cx="617220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800240" y="8474040"/>
            <a:ext cx="17146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e9ec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2172960" y="8474040"/>
            <a:ext cx="26067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801360" y="8474040"/>
            <a:ext cx="11415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713E7-C4CA-4B6A-907C-D8C458B97A0A}" type="slidenum">
              <a:rPr b="0" lang="ru-RU" sz="1400" spc="-1" strike="noStrike">
                <a:solidFill>
                  <a:srgbClr val="dde9e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ая соединительная линия 27"/>
          <p:cNvSpPr/>
          <p:nvPr/>
        </p:nvSpPr>
        <p:spPr>
          <a:xfrm>
            <a:off x="343080" y="8470800"/>
            <a:ext cx="61722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ая соединительная линия 28"/>
          <p:cNvSpPr/>
          <p:nvPr/>
        </p:nvSpPr>
        <p:spPr>
          <a:xfrm>
            <a:off x="343080" y="1523880"/>
            <a:ext cx="61722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Равнобедренный треугольник 9"/>
          <p:cNvSpPr/>
          <p:nvPr/>
        </p:nvSpPr>
        <p:spPr>
          <a:xfrm rot="5400000">
            <a:off x="258120" y="8658000"/>
            <a:ext cx="255600" cy="9036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Равнобедренный треугольник 10"/>
          <p:cNvSpPr/>
          <p:nvPr/>
        </p:nvSpPr>
        <p:spPr>
          <a:xfrm rot="5400000">
            <a:off x="258120" y="8658000"/>
            <a:ext cx="255600" cy="9036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342720" y="1625400"/>
            <a:ext cx="617220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4800240" y="8475480"/>
            <a:ext cx="17161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2173320" y="8475480"/>
            <a:ext cx="26287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458640" y="8475480"/>
            <a:ext cx="14860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88112-FDD8-4DFD-A8BF-8811543D2779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ая соединительная линия 10"/>
          <p:cNvSpPr/>
          <p:nvPr/>
        </p:nvSpPr>
        <p:spPr>
          <a:xfrm>
            <a:off x="343080" y="8470800"/>
            <a:ext cx="61722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Равнобедренный треугольник 11"/>
          <p:cNvSpPr/>
          <p:nvPr/>
        </p:nvSpPr>
        <p:spPr>
          <a:xfrm rot="5400000">
            <a:off x="258120" y="8658000"/>
            <a:ext cx="255600" cy="9036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342720" y="1625400"/>
            <a:ext cx="617220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4800240" y="8475480"/>
            <a:ext cx="17161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173320" y="8475480"/>
            <a:ext cx="26287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458640" y="8475480"/>
            <a:ext cx="14860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812C9-D08C-41B5-8C6E-404BD1D973F0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ая соединительная линия 10"/>
          <p:cNvSpPr/>
          <p:nvPr/>
        </p:nvSpPr>
        <p:spPr>
          <a:xfrm>
            <a:off x="343080" y="8470800"/>
            <a:ext cx="61722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ая соединительная линия 11"/>
          <p:cNvSpPr/>
          <p:nvPr/>
        </p:nvSpPr>
        <p:spPr>
          <a:xfrm>
            <a:off x="4633920" y="409680"/>
            <a:ext cx="0" cy="804528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Равнобедренный треугольник 12"/>
          <p:cNvSpPr/>
          <p:nvPr/>
        </p:nvSpPr>
        <p:spPr>
          <a:xfrm rot="5400000">
            <a:off x="258120" y="8658000"/>
            <a:ext cx="255600" cy="9036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42720" y="1625400"/>
            <a:ext cx="617220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4800240" y="8475480"/>
            <a:ext cx="17161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2173320" y="8475480"/>
            <a:ext cx="26287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458640" y="8475480"/>
            <a:ext cx="14860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DBFAF-27DD-45EB-AE96-359C9C048C28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ая соединительная линия 10"/>
          <p:cNvSpPr/>
          <p:nvPr/>
        </p:nvSpPr>
        <p:spPr>
          <a:xfrm>
            <a:off x="343080" y="8470800"/>
            <a:ext cx="61722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Равнобедренный треугольник 11"/>
          <p:cNvSpPr/>
          <p:nvPr/>
        </p:nvSpPr>
        <p:spPr>
          <a:xfrm rot="5400000">
            <a:off x="258120" y="8658000"/>
            <a:ext cx="255600" cy="9036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2"/>
          <p:cNvSpPr/>
          <p:nvPr/>
        </p:nvSpPr>
        <p:spPr>
          <a:xfrm>
            <a:off x="343080" y="668160"/>
            <a:ext cx="136440" cy="9144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342720" y="1625400"/>
            <a:ext cx="617220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4800240" y="8475480"/>
            <a:ext cx="17161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e9ec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2173320" y="8475480"/>
            <a:ext cx="26287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458640" y="8475480"/>
            <a:ext cx="14860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71BD2-7BA1-4065-A6B3-4A5FD9AB06D2}" type="slidenum">
              <a:rPr b="0" lang="ru-RU" sz="1400" spc="-1" strike="noStrike">
                <a:solidFill>
                  <a:srgbClr val="dde9e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Прямая соединительная линия 10"/>
          <p:cNvSpPr/>
          <p:nvPr/>
        </p:nvSpPr>
        <p:spPr>
          <a:xfrm>
            <a:off x="343080" y="8470800"/>
            <a:ext cx="61722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Равнобедренный треугольник 11"/>
          <p:cNvSpPr/>
          <p:nvPr/>
        </p:nvSpPr>
        <p:spPr>
          <a:xfrm rot="5400000">
            <a:off x="258120" y="8658000"/>
            <a:ext cx="255600" cy="9036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ая соединительная линия 12"/>
          <p:cNvSpPr/>
          <p:nvPr/>
        </p:nvSpPr>
        <p:spPr>
          <a:xfrm>
            <a:off x="4916520" y="368280"/>
            <a:ext cx="0" cy="780264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342720" y="1625400"/>
            <a:ext cx="617220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5"/>
          </p:nvPr>
        </p:nvSpPr>
        <p:spPr>
          <a:xfrm>
            <a:off x="4800240" y="8475480"/>
            <a:ext cx="17161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6"/>
          </p:nvPr>
        </p:nvSpPr>
        <p:spPr>
          <a:xfrm>
            <a:off x="2173320" y="8475480"/>
            <a:ext cx="26287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7"/>
          </p:nvPr>
        </p:nvSpPr>
        <p:spPr>
          <a:xfrm>
            <a:off x="458640" y="8475480"/>
            <a:ext cx="14860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1E131-7285-4EA5-8E48-AB67CFC22C48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33000" y="250920"/>
            <a:ext cx="6172200" cy="129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2000" spc="-1" strike="noStrike">
                <a:solidFill>
                  <a:srgbClr val="464653"/>
                </a:solidFill>
                <a:latin typeface="Cambria"/>
              </a:rPr>
              <a:t>Принцип дидактической культуросообразности</a:t>
            </a:r>
            <a:endParaRPr b="0" lang="en-US" sz="20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401" name="Содержимое 3" descr=""/>
          <p:cNvPicPr/>
          <p:nvPr/>
        </p:nvPicPr>
        <p:blipFill>
          <a:blip r:embed="rId1"/>
          <a:stretch/>
        </p:blipFill>
        <p:spPr>
          <a:xfrm>
            <a:off x="109440" y="1547640"/>
            <a:ext cx="6748560" cy="734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42720" y="203040"/>
            <a:ext cx="6172200" cy="91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4653"/>
                </a:solidFill>
                <a:latin typeface="Cambria"/>
              </a:rPr>
              <a:t>Принцип диалога </a:t>
            </a:r>
            <a:br>
              <a:rPr sz="2800"/>
            </a:br>
            <a:r>
              <a:rPr b="1" lang="ru-RU" sz="2800" spc="-1" strike="noStrike">
                <a:solidFill>
                  <a:srgbClr val="464653"/>
                </a:solidFill>
                <a:latin typeface="Cambria"/>
              </a:rPr>
              <a:t>культур и цивилизаций</a:t>
            </a:r>
            <a:endParaRPr b="0" lang="en-US" sz="28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03" name="Прямоугольник 5"/>
          <p:cNvSpPr/>
          <p:nvPr/>
        </p:nvSpPr>
        <p:spPr>
          <a:xfrm>
            <a:off x="430200" y="1187280"/>
            <a:ext cx="6120000" cy="1152720"/>
          </a:xfrm>
          <a:prstGeom prst="rect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ыполнение обучаемыми роли культурных  посред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Овал 6"/>
          <p:cNvSpPr/>
          <p:nvPr/>
        </p:nvSpPr>
        <p:spPr>
          <a:xfrm>
            <a:off x="549360" y="2771640"/>
            <a:ext cx="5759280" cy="1656000"/>
          </a:xfrm>
          <a:prstGeom prst="ellipse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Контрастивно-сопоставительное соизучение неродной и родной куль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Овал 8"/>
          <p:cNvSpPr/>
          <p:nvPr/>
        </p:nvSpPr>
        <p:spPr>
          <a:xfrm>
            <a:off x="419040" y="4464000"/>
            <a:ext cx="2449440" cy="1488960"/>
          </a:xfrm>
          <a:prstGeom prst="ellipse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Общее и особенное в культур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Овал 9"/>
          <p:cNvSpPr/>
          <p:nvPr/>
        </p:nvSpPr>
        <p:spPr>
          <a:xfrm>
            <a:off x="3716280" y="4572000"/>
            <a:ext cx="2376720" cy="1488960"/>
          </a:xfrm>
          <a:prstGeom prst="ellipse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Культурная ценность соизучаемых фа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10"/>
          <p:cNvSpPr/>
          <p:nvPr/>
        </p:nvSpPr>
        <p:spPr>
          <a:xfrm>
            <a:off x="115920" y="6156360"/>
            <a:ext cx="2089080" cy="1152360"/>
          </a:xfrm>
          <a:prstGeom prst="rect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сихологическая готовность к общению на 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11"/>
          <p:cNvSpPr/>
          <p:nvPr/>
        </p:nvSpPr>
        <p:spPr>
          <a:xfrm>
            <a:off x="2349360" y="6156360"/>
            <a:ext cx="2016360" cy="1152360"/>
          </a:xfrm>
          <a:prstGeom prst="rect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ликультурная вежлив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оугольник 12"/>
          <p:cNvSpPr/>
          <p:nvPr/>
        </p:nvSpPr>
        <p:spPr>
          <a:xfrm>
            <a:off x="4514760" y="6157800"/>
            <a:ext cx="2008440" cy="1152720"/>
          </a:xfrm>
          <a:prstGeom prst="rect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Критическое мыш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13"/>
          <p:cNvSpPr/>
          <p:nvPr/>
        </p:nvSpPr>
        <p:spPr>
          <a:xfrm>
            <a:off x="115920" y="7543800"/>
            <a:ext cx="3241800" cy="1297080"/>
          </a:xfrm>
          <a:prstGeom prst="ellipse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оциокультурная наблюда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14"/>
          <p:cNvSpPr/>
          <p:nvPr/>
        </p:nvSpPr>
        <p:spPr>
          <a:xfrm>
            <a:off x="3519360" y="7569360"/>
            <a:ext cx="3003840" cy="1296720"/>
          </a:xfrm>
          <a:prstGeom prst="ellipse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оциокультурная непредвзят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Двойная стрелка вверх/вниз 15"/>
          <p:cNvSpPr/>
          <p:nvPr/>
        </p:nvSpPr>
        <p:spPr>
          <a:xfrm>
            <a:off x="3208320" y="2155680"/>
            <a:ext cx="441360" cy="865440"/>
          </a:xfrm>
          <a:prstGeom prst="upDownArrow">
            <a:avLst>
              <a:gd name="adj1" fmla="val 50000"/>
              <a:gd name="adj2" fmla="val 50010"/>
            </a:avLst>
          </a:prstGeom>
          <a:solidFill>
            <a:srgbClr val="ffff00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Выноска с четырьмя стрелками 19"/>
          <p:cNvSpPr/>
          <p:nvPr/>
        </p:nvSpPr>
        <p:spPr>
          <a:xfrm>
            <a:off x="2576520" y="4464000"/>
            <a:ext cx="1633680" cy="1639800"/>
          </a:xfrm>
          <a:custGeom>
            <a:avLst/>
            <a:gdLst/>
            <a:ahLst/>
            <a:rect l="l" t="t" r="r" b="b"/>
            <a:pathLst>
              <a:path w="1633537" h="1639888">
                <a:moveTo>
                  <a:pt x="0" y="819944"/>
                </a:moveTo>
                <a:lnTo>
                  <a:pt x="302449" y="517495"/>
                </a:lnTo>
                <a:lnTo>
                  <a:pt x="302449" y="668719"/>
                </a:lnTo>
                <a:lnTo>
                  <a:pt x="423715" y="668719"/>
                </a:lnTo>
                <a:lnTo>
                  <a:pt x="423715" y="425362"/>
                </a:lnTo>
                <a:lnTo>
                  <a:pt x="665544" y="425362"/>
                </a:lnTo>
                <a:lnTo>
                  <a:pt x="665544" y="302449"/>
                </a:lnTo>
                <a:lnTo>
                  <a:pt x="514319" y="302449"/>
                </a:lnTo>
                <a:lnTo>
                  <a:pt x="816769" y="0"/>
                </a:lnTo>
                <a:lnTo>
                  <a:pt x="1119218" y="302449"/>
                </a:lnTo>
                <a:lnTo>
                  <a:pt x="967993" y="302449"/>
                </a:lnTo>
                <a:lnTo>
                  <a:pt x="967993" y="425362"/>
                </a:lnTo>
                <a:lnTo>
                  <a:pt x="1209822" y="425362"/>
                </a:lnTo>
                <a:lnTo>
                  <a:pt x="1209822" y="668719"/>
                </a:lnTo>
                <a:lnTo>
                  <a:pt x="1331088" y="668719"/>
                </a:lnTo>
                <a:lnTo>
                  <a:pt x="1331088" y="517495"/>
                </a:lnTo>
                <a:lnTo>
                  <a:pt x="1633537" y="819944"/>
                </a:lnTo>
                <a:lnTo>
                  <a:pt x="1331088" y="1122393"/>
                </a:lnTo>
                <a:lnTo>
                  <a:pt x="1331088" y="971169"/>
                </a:lnTo>
                <a:lnTo>
                  <a:pt x="1209822" y="971169"/>
                </a:lnTo>
                <a:lnTo>
                  <a:pt x="1209822" y="1214526"/>
                </a:lnTo>
                <a:lnTo>
                  <a:pt x="967993" y="1214526"/>
                </a:lnTo>
                <a:lnTo>
                  <a:pt x="967993" y="1337439"/>
                </a:lnTo>
                <a:lnTo>
                  <a:pt x="1119218" y="1337439"/>
                </a:lnTo>
                <a:lnTo>
                  <a:pt x="816769" y="1639888"/>
                </a:lnTo>
                <a:lnTo>
                  <a:pt x="514319" y="1337439"/>
                </a:lnTo>
                <a:lnTo>
                  <a:pt x="665544" y="1337439"/>
                </a:lnTo>
                <a:lnTo>
                  <a:pt x="665544" y="1214526"/>
                </a:lnTo>
                <a:lnTo>
                  <a:pt x="423715" y="1214526"/>
                </a:lnTo>
                <a:lnTo>
                  <a:pt x="423715" y="971169"/>
                </a:lnTo>
                <a:lnTo>
                  <a:pt x="302449" y="971169"/>
                </a:lnTo>
                <a:lnTo>
                  <a:pt x="302449" y="1122393"/>
                </a:lnTo>
                <a:lnTo>
                  <a:pt x="0" y="819944"/>
                </a:lnTo>
                <a:close/>
              </a:path>
            </a:pathLst>
          </a:custGeom>
          <a:solidFill>
            <a:srgbClr val="ffff00"/>
          </a:solidFill>
          <a:ln w="19080">
            <a:solidFill>
              <a:srgbClr val="5259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Тройная стрелка влево/вправо/вверх 21"/>
          <p:cNvSpPr/>
          <p:nvPr/>
        </p:nvSpPr>
        <p:spPr>
          <a:xfrm>
            <a:off x="2752560" y="7310520"/>
            <a:ext cx="1281240" cy="1081080"/>
          </a:xfrm>
          <a:custGeom>
            <a:avLst/>
            <a:gdLst/>
            <a:ahLst/>
            <a:rect l="l" t="t" r="r" b="b"/>
            <a:pathLst>
              <a:path w="1281113" h="1081087">
                <a:moveTo>
                  <a:pt x="0" y="810815"/>
                </a:moveTo>
                <a:lnTo>
                  <a:pt x="270272" y="540544"/>
                </a:lnTo>
                <a:lnTo>
                  <a:pt x="270272" y="675679"/>
                </a:lnTo>
                <a:lnTo>
                  <a:pt x="505421" y="675679"/>
                </a:lnTo>
                <a:lnTo>
                  <a:pt x="505421" y="270272"/>
                </a:lnTo>
                <a:lnTo>
                  <a:pt x="370285" y="270272"/>
                </a:lnTo>
                <a:lnTo>
                  <a:pt x="640557" y="0"/>
                </a:lnTo>
                <a:lnTo>
                  <a:pt x="910828" y="270272"/>
                </a:lnTo>
                <a:lnTo>
                  <a:pt x="775692" y="270272"/>
                </a:lnTo>
                <a:lnTo>
                  <a:pt x="775692" y="675679"/>
                </a:lnTo>
                <a:lnTo>
                  <a:pt x="1010841" y="675679"/>
                </a:lnTo>
                <a:lnTo>
                  <a:pt x="1010841" y="540544"/>
                </a:lnTo>
                <a:lnTo>
                  <a:pt x="1281113" y="810815"/>
                </a:lnTo>
                <a:lnTo>
                  <a:pt x="1010841" y="1081087"/>
                </a:lnTo>
                <a:lnTo>
                  <a:pt x="1010841" y="945951"/>
                </a:lnTo>
                <a:lnTo>
                  <a:pt x="270272" y="945951"/>
                </a:lnTo>
                <a:lnTo>
                  <a:pt x="270272" y="1081087"/>
                </a:lnTo>
                <a:lnTo>
                  <a:pt x="0" y="810815"/>
                </a:lnTo>
                <a:close/>
              </a:path>
            </a:pathLst>
          </a:custGeom>
          <a:solidFill>
            <a:srgbClr val="ffff00"/>
          </a:solidFill>
          <a:ln w="19080">
            <a:solidFill>
              <a:srgbClr val="5259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Овал 3" descr=""/>
          <p:cNvPicPr/>
          <p:nvPr/>
        </p:nvPicPr>
        <p:blipFill>
          <a:blip r:embed="rId1"/>
          <a:stretch/>
        </p:blipFill>
        <p:spPr>
          <a:xfrm>
            <a:off x="633240" y="1536840"/>
            <a:ext cx="2457720" cy="153036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827160" y="3936960"/>
            <a:ext cx="2862360" cy="51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Выявление жизненности и актуальности учебного материа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Закрепление и конкретизация зна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Применение знаний и умений на практик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Высокая результатив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7" name="Заголовок 4" descr=""/>
          <p:cNvPicPr/>
          <p:nvPr/>
        </p:nvPicPr>
        <p:blipFill>
          <a:blip r:embed="rId2"/>
          <a:stretch/>
        </p:blipFill>
        <p:spPr>
          <a:xfrm>
            <a:off x="4065480" y="1536840"/>
            <a:ext cx="2457720" cy="1365120"/>
          </a:xfrm>
          <a:prstGeom prst="rect">
            <a:avLst/>
          </a:prstGeom>
          <a:ln w="0">
            <a:noFill/>
          </a:ln>
        </p:spPr>
      </p:pic>
      <p:sp>
        <p:nvSpPr>
          <p:cNvPr id="418" name="Стрелка вниз 6"/>
          <p:cNvSpPr/>
          <p:nvPr/>
        </p:nvSpPr>
        <p:spPr>
          <a:xfrm>
            <a:off x="1476360" y="3178080"/>
            <a:ext cx="746280" cy="105588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Стрелка вниз 7"/>
          <p:cNvSpPr/>
          <p:nvPr/>
        </p:nvSpPr>
        <p:spPr>
          <a:xfrm>
            <a:off x="4995720" y="2971800"/>
            <a:ext cx="594000" cy="100980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Содержимое 2"/>
          <p:cNvSpPr/>
          <p:nvPr/>
        </p:nvSpPr>
        <p:spPr>
          <a:xfrm>
            <a:off x="3429000" y="3611520"/>
            <a:ext cx="59364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Содержимое 2" descr=""/>
          <p:cNvPicPr/>
          <p:nvPr/>
        </p:nvPicPr>
        <p:blipFill>
          <a:blip r:embed="rId3"/>
          <a:stretch/>
        </p:blipFill>
        <p:spPr>
          <a:xfrm>
            <a:off x="3395520" y="3938760"/>
            <a:ext cx="871560" cy="4979880"/>
          </a:xfrm>
          <a:prstGeom prst="rect">
            <a:avLst/>
          </a:prstGeom>
          <a:ln w="0">
            <a:noFill/>
          </a:ln>
        </p:spPr>
      </p:pic>
      <p:sp>
        <p:nvSpPr>
          <p:cNvPr id="422" name="Содержимое 2"/>
          <p:cNvSpPr/>
          <p:nvPr/>
        </p:nvSpPr>
        <p:spPr>
          <a:xfrm>
            <a:off x="490680" y="4287960"/>
            <a:ext cx="2717640" cy="36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Сложность организации и прове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Необходимость специальной подгот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Значительные отличия от у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Прямоугольник 1"/>
          <p:cNvSpPr/>
          <p:nvPr/>
        </p:nvSpPr>
        <p:spPr>
          <a:xfrm>
            <a:off x="719280" y="339840"/>
            <a:ext cx="597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разовательный  туризм как средство развития лингвосоциокультурной компет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83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Результаты исследования.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425" name="Picture 2" descr=""/>
          <p:cNvPicPr/>
          <p:nvPr/>
        </p:nvPicPr>
        <p:blipFill>
          <a:blip r:embed="rId1"/>
          <a:stretch/>
        </p:blipFill>
        <p:spPr>
          <a:xfrm>
            <a:off x="765000" y="1846440"/>
            <a:ext cx="5616720" cy="29415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3" descr=""/>
          <p:cNvPicPr/>
          <p:nvPr/>
        </p:nvPicPr>
        <p:blipFill>
          <a:blip r:embed="rId2"/>
          <a:stretch/>
        </p:blipFill>
        <p:spPr>
          <a:xfrm>
            <a:off x="765000" y="5076720"/>
            <a:ext cx="468000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75920" y="412920"/>
            <a:ext cx="6172200" cy="76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64653"/>
                </a:solidFill>
                <a:latin typeface="Cambria"/>
              </a:rPr>
              <a:t>Результаты сформированной лингвосоциокультурной компетенции</a:t>
            </a:r>
            <a:endParaRPr b="0" lang="en-US" sz="24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333000" y="1476000"/>
            <a:ext cx="6172200" cy="72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способность проникать в сущность чужой культуры, делать необходимые обобщения на материале конкретных единичных примеров и наоборот – от общего впечатления переходить к глубокому исследованию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- умение распознавать культурную коннотацию слов и фраз английского языка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- умение относиться к носителям чужой культуры и самой культуре с эмпатией, принимать ее с должной терпимостью, не судить по законам собственной культуры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- интеллектуальное любопытство, интерес к чужой культуре, умение ненавязчиво проявлять его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8T13:14:58Z</dcterms:created>
  <dc:creator>Admin</dc:creator>
  <dc:description/>
  <dc:language>en-US</dc:language>
  <cp:lastModifiedBy>Оксана</cp:lastModifiedBy>
  <dcterms:modified xsi:type="dcterms:W3CDTF">2022-12-11T18:32:35Z</dcterms:modified>
  <cp:revision>60</cp:revision>
  <dc:subject/>
  <dc:title>Слайд 1</dc:title>
</cp:coreProperties>
</file>