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228-1117-42F3-B24D-E5136F49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C71-7655-456F-8736-AFF0B899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2F4-A21C-4989-96DF-689ECEDC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C2F-373E-4BBD-9AC0-343B49D5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9E45-63D3-4474-BA6A-E5F98460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2F22-30A8-42E6-9814-0BA96992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C85B-3B99-4F30-91D0-B9B08038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F553-9404-45D7-AD48-EF127820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4DFE-98DB-45DD-A382-B0348527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3493-54D0-4F25-8B13-FC256474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45E2-6C47-4E1C-A373-357B01B3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710-318F-4532-9053-836EA513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2774-9B0F-4B75-BDCB-68AEF55A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FA68-0A53-45A3-B95A-125299C4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DAF9-C163-4E67-9610-A3210BCB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2FF3-487C-42D9-AF17-34F7346C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E648-90A5-4AC4-B6BD-2D7E20DB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55C-A5C5-4D07-83EE-5F08F18E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421-A73D-4F56-8103-87275266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75A-1C26-499D-9281-6E0832C2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E2C-C1D3-4B73-B57F-6DDFF16C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089-91E8-4C7C-82E7-56D4439D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386-8F54-480D-A30D-2A2B3B7F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1E0-33C9-44FF-AB26-E8A1C30A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BDDD-FB07-47A8-BB2E-1DED57849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E105-A383-4429-BC31-C434B000E1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Голоса леса.mp3" descr=""/>
          <p:cNvPicPr/>
          <p:nvPr/>
        </p:nvPicPr>
        <p:blipFill>
          <a:blip r:embed="rId1"/>
          <a:stretch/>
        </p:blipFill>
        <p:spPr>
          <a:xfrm>
            <a:off x="0" y="6607080"/>
            <a:ext cx="250920" cy="2509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3357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395280" y="33336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сваиваем разные виды транспор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2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55659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2903400" y="0"/>
            <a:ext cx="333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2989440" y="0"/>
            <a:ext cx="316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1657440" y="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"/>
          <p:cNvPicPr/>
          <p:nvPr/>
        </p:nvPicPr>
        <p:blipFill>
          <a:blip r:embed="rId1"/>
          <a:stretch/>
        </p:blipFill>
        <p:spPr>
          <a:xfrm>
            <a:off x="2028960" y="0"/>
            <a:ext cx="50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14400" y="765000"/>
            <a:ext cx="903420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2050920" y="1874880"/>
            <a:ext cx="5078520" cy="4983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468360" y="476280"/>
            <a:ext cx="77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юбители животны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332000" y="549360"/>
            <a:ext cx="63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божаем вкусняш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2" descr=""/>
          <p:cNvPicPr/>
          <p:nvPr/>
        </p:nvPicPr>
        <p:blipFill>
          <a:blip r:embed="rId1"/>
          <a:stretch/>
        </p:blipFill>
        <p:spPr>
          <a:xfrm>
            <a:off x="1538280" y="2060640"/>
            <a:ext cx="592308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264312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"/>
          <p:cNvPicPr/>
          <p:nvPr/>
        </p:nvPicPr>
        <p:blipFill>
          <a:blip r:embed="rId1"/>
          <a:stretch/>
        </p:blipFill>
        <p:spPr>
          <a:xfrm>
            <a:off x="2124000" y="135000"/>
            <a:ext cx="50198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1547640" y="40464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ктивные болельщики и спортсме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2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5514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"/>
          <p:cNvPicPr/>
          <p:nvPr/>
        </p:nvPicPr>
        <p:blipFill>
          <a:blip r:embed="rId1"/>
          <a:stretch/>
        </p:blipFill>
        <p:spPr>
          <a:xfrm>
            <a:off x="2011320" y="0"/>
            <a:ext cx="512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264312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264312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1116000" y="54936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рым-это круто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821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971640" y="404640"/>
            <a:ext cx="69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юбим повеселитьс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Рисунок 2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1022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264312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2" descr=""/>
          <p:cNvPicPr/>
          <p:nvPr/>
        </p:nvPicPr>
        <p:blipFill>
          <a:blip r:embed="rId1"/>
          <a:stretch/>
        </p:blipFill>
        <p:spPr>
          <a:xfrm>
            <a:off x="2881440" y="0"/>
            <a:ext cx="338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15:39:11Z</dcterms:created>
  <dc:creator>Пользователь</dc:creator>
  <dc:description/>
  <dc:language>en-US</dc:language>
  <cp:lastModifiedBy>Admin</cp:lastModifiedBy>
  <dcterms:modified xsi:type="dcterms:W3CDTF">2022-12-11T13:50:50Z</dcterms:modified>
  <cp:revision>64</cp:revision>
  <dc:subject/>
  <dc:title>Слайд 1</dc:title>
</cp:coreProperties>
</file>