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D066-B281-4EC6-8551-EE64BD01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5D44-813C-459C-9E3F-9B49BA5F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FE3E-386D-4FDB-A54E-D6CEF53D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0B10-EFC7-472A-AB43-D6717F8A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1CDE-499F-4C7B-922A-C3DB28D0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A14A-4D7F-4EE8-A28D-0274845D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90BE-02E5-4156-93E3-581EE2EF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6685-2D62-4C3C-9B41-3D0FC2B9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1D7A-3770-411A-8678-DB1C97D0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37E2-8E15-49E3-B418-56FE3B69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B6C9-C915-4909-8A0B-A9735734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DD3-3486-429A-A7B5-FF8B45F0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5FF4-8D5C-4A45-9EBE-E04853BE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E914-BFA6-46C9-A630-88B6947A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B5C5-71A9-4DB0-B482-E7E7D61F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BB89-4B1A-4307-B3FE-1524350C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2AB3-A14A-4327-A8E6-27D97091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9A9A-5A27-4821-9B6F-AD502076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33D-58B9-496F-BE8D-2C8DC382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F33E-035B-4041-8F83-90FF3DE5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8A53-9414-44A5-8023-8A1E1A7D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919-0ECF-4C13-A51C-31275929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CD6-0D13-442A-8474-F396A37F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338F-2BB5-4B09-868B-D9AF0937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E7D9-0B43-4782-AC14-93A389595B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F7F3-DEE1-4D12-97AD-EC72A75FC5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Голоса леса.mp3" descr=""/>
          <p:cNvPicPr/>
          <p:nvPr/>
        </p:nvPicPr>
        <p:blipFill>
          <a:blip r:embed="rId1"/>
          <a:stretch/>
        </p:blipFill>
        <p:spPr>
          <a:xfrm>
            <a:off x="0" y="6607080"/>
            <a:ext cx="250920" cy="2509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3357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395280" y="33336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сваиваем разные виды транспор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Рисунок 2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55659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2903400" y="0"/>
            <a:ext cx="333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2989440" y="0"/>
            <a:ext cx="316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"/>
          <p:cNvPicPr/>
          <p:nvPr/>
        </p:nvPicPr>
        <p:blipFill>
          <a:blip r:embed="rId1"/>
          <a:stretch/>
        </p:blipFill>
        <p:spPr>
          <a:xfrm>
            <a:off x="1657440" y="0"/>
            <a:ext cx="582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"/>
          <p:cNvPicPr/>
          <p:nvPr/>
        </p:nvPicPr>
        <p:blipFill>
          <a:blip r:embed="rId1"/>
          <a:stretch/>
        </p:blipFill>
        <p:spPr>
          <a:xfrm>
            <a:off x="2028960" y="0"/>
            <a:ext cx="50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14400" y="765000"/>
            <a:ext cx="903420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"/>
          <p:cNvPicPr/>
          <p:nvPr/>
        </p:nvPicPr>
        <p:blipFill>
          <a:blip r:embed="rId1"/>
          <a:stretch/>
        </p:blipFill>
        <p:spPr>
          <a:xfrm>
            <a:off x="2050920" y="1874880"/>
            <a:ext cx="5078520" cy="49831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468360" y="476280"/>
            <a:ext cx="77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Любители животны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332000" y="549360"/>
            <a:ext cx="63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божаем вкусняш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Рисунок 2" descr=""/>
          <p:cNvPicPr/>
          <p:nvPr/>
        </p:nvPicPr>
        <p:blipFill>
          <a:blip r:embed="rId1"/>
          <a:stretch/>
        </p:blipFill>
        <p:spPr>
          <a:xfrm>
            <a:off x="1538280" y="2060640"/>
            <a:ext cx="592308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2643120" y="0"/>
            <a:ext cx="38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"/>
          <p:cNvPicPr/>
          <p:nvPr/>
        </p:nvPicPr>
        <p:blipFill>
          <a:blip r:embed="rId1"/>
          <a:stretch/>
        </p:blipFill>
        <p:spPr>
          <a:xfrm>
            <a:off x="2124000" y="135000"/>
            <a:ext cx="501984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1547640" y="40464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ктивные болельщики и спортсмен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Рисунок 2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55148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"/>
          <p:cNvPicPr/>
          <p:nvPr/>
        </p:nvPicPr>
        <p:blipFill>
          <a:blip r:embed="rId1"/>
          <a:stretch/>
        </p:blipFill>
        <p:spPr>
          <a:xfrm>
            <a:off x="2011320" y="0"/>
            <a:ext cx="512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"/>
          <p:cNvPicPr/>
          <p:nvPr/>
        </p:nvPicPr>
        <p:blipFill>
          <a:blip r:embed="rId1"/>
          <a:stretch/>
        </p:blipFill>
        <p:spPr>
          <a:xfrm>
            <a:off x="2643120" y="0"/>
            <a:ext cx="38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"/>
          <p:cNvPicPr/>
          <p:nvPr/>
        </p:nvPicPr>
        <p:blipFill>
          <a:blip r:embed="rId1"/>
          <a:stretch/>
        </p:blipFill>
        <p:spPr>
          <a:xfrm>
            <a:off x="2643120" y="0"/>
            <a:ext cx="38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1116000" y="54936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рым-это круто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821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971640" y="404640"/>
            <a:ext cx="69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Любим повеселитьс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Рисунок 2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51022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2643120" y="0"/>
            <a:ext cx="38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2" descr=""/>
          <p:cNvPicPr/>
          <p:nvPr/>
        </p:nvPicPr>
        <p:blipFill>
          <a:blip r:embed="rId1"/>
          <a:stretch/>
        </p:blipFill>
        <p:spPr>
          <a:xfrm>
            <a:off x="2881440" y="0"/>
            <a:ext cx="338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15:39:11Z</dcterms:created>
  <dc:creator>Пользователь</dc:creator>
  <dc:description/>
  <dc:language>en-US</dc:language>
  <cp:lastModifiedBy>Admin</cp:lastModifiedBy>
  <dcterms:modified xsi:type="dcterms:W3CDTF">2022-12-11T13:50:50Z</dcterms:modified>
  <cp:revision>64</cp:revision>
  <dc:subject/>
  <dc:title>Слайд 1</dc:title>
</cp:coreProperties>
</file>