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334800"/>
            <a:ext cx="860904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</a:rPr>
              <a:t>Can – expressing abilities</a:t>
            </a:r>
            <a:endParaRPr b="1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0" anchor="t">
            <a:normAutofit fontScale="99000"/>
          </a:bodyPr>
          <a:p>
            <a:pPr marL="42588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We say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I can run. I can jump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We also say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Alex can play the guitar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e can run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andy can highjump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he can play volleyball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6080" y="-272880"/>
            <a:ext cx="66499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rcy</a:t>
            </a:r>
            <a:r>
              <a:rPr b="1" i="1" lang="en-US" sz="4400" spc="-1" strike="noStrike">
                <a:solidFill>
                  <a:srgbClr val="333333"/>
                </a:solidFill>
                <a:latin typeface="Arial"/>
              </a:rPr>
              <a:t> ..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08000" y="1152360"/>
            <a:ext cx="8636040" cy="625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6080" y="-272880"/>
            <a:ext cx="66499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Tristan</a:t>
            </a:r>
            <a:r>
              <a:rPr b="1" i="1" lang="en-US" sz="4400" spc="-1" strike="noStrike">
                <a:solidFill>
                  <a:srgbClr val="333333"/>
                </a:solidFill>
                <a:latin typeface="Arial"/>
              </a:rPr>
              <a:t> ..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08000" y="1079640"/>
            <a:ext cx="8637480" cy="63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6080" y="-272880"/>
            <a:ext cx="66499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David</a:t>
            </a:r>
            <a:r>
              <a:rPr b="1" i="1" lang="en-US" sz="4400" spc="-1" strike="noStrike">
                <a:solidFill>
                  <a:srgbClr val="333333"/>
                </a:solidFill>
                <a:latin typeface="Arial"/>
              </a:rPr>
              <a:t> ..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63640" y="1079640"/>
            <a:ext cx="8780400" cy="63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86080" y="-272880"/>
            <a:ext cx="66499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Jake, ride a bike: </a:t>
            </a:r>
            <a:br>
              <a:rPr sz="4400"/>
            </a:br>
            <a:r>
              <a:rPr b="1" i="1" lang="en-US" sz="4400" spc="-1" strike="noStrike">
                <a:solidFill>
                  <a:srgbClr val="333333"/>
                </a:solidFill>
                <a:latin typeface="Arial"/>
              </a:rPr>
              <a:t>Jake can ride a bike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08000" y="1224000"/>
            <a:ext cx="86407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86080" y="-272880"/>
            <a:ext cx="66499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ofie, highjump: </a:t>
            </a:r>
            <a:br>
              <a:rPr sz="4400"/>
            </a:br>
            <a:r>
              <a:rPr b="1" i="1" lang="en-US" sz="4400" spc="-1" strike="noStrike">
                <a:solidFill>
                  <a:srgbClr val="333333"/>
                </a:solidFill>
                <a:latin typeface="Arial"/>
              </a:rPr>
              <a:t>Sofie can ..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1511280"/>
            <a:ext cx="835200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86080" y="-272880"/>
            <a:ext cx="66499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Luol, play basketball: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Luol</a:t>
            </a:r>
            <a:r>
              <a:rPr b="1" i="1" lang="en-US" sz="4400" spc="-1" strike="noStrike">
                <a:solidFill>
                  <a:srgbClr val="333333"/>
                </a:solidFill>
                <a:latin typeface="Arial"/>
              </a:rPr>
              <a:t> can ..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36720" y="1224000"/>
            <a:ext cx="871056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86080" y="-585720"/>
            <a:ext cx="6649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Ricky and Pedro, play basketball: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Ricky and Pedro</a:t>
            </a:r>
            <a:r>
              <a:rPr b="1" i="1" lang="en-US" sz="4400" spc="-1" strike="noStrike">
                <a:solidFill>
                  <a:srgbClr val="333333"/>
                </a:solidFill>
                <a:latin typeface="Arial"/>
              </a:rPr>
              <a:t> ..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0000" y="1511280"/>
            <a:ext cx="820728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86080" y="-272880"/>
            <a:ext cx="66499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erena</a:t>
            </a:r>
            <a:r>
              <a:rPr b="1" i="1" lang="en-US" sz="4400" spc="-1" strike="noStrike">
                <a:solidFill>
                  <a:srgbClr val="333333"/>
                </a:solidFill>
                <a:latin typeface="Arial"/>
              </a:rPr>
              <a:t> ..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11280" y="1440000"/>
            <a:ext cx="8132760" cy="59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86080" y="-272880"/>
            <a:ext cx="66499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Johny</a:t>
            </a:r>
            <a:r>
              <a:rPr b="1" i="1" lang="en-US" sz="4400" spc="-1" strike="noStrike">
                <a:solidFill>
                  <a:srgbClr val="333333"/>
                </a:solidFill>
                <a:latin typeface="Arial"/>
              </a:rPr>
              <a:t> ..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08000" y="1295280"/>
            <a:ext cx="8639280" cy="61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86080" y="-272880"/>
            <a:ext cx="66499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teff</a:t>
            </a:r>
            <a:r>
              <a:rPr b="1" i="1" lang="en-US" sz="4400" spc="-1" strike="noStrike">
                <a:solidFill>
                  <a:srgbClr val="333333"/>
                </a:solidFill>
                <a:latin typeface="Arial"/>
              </a:rPr>
              <a:t> ..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08000" y="1224000"/>
            <a:ext cx="8637480" cy="61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86080" y="-272880"/>
            <a:ext cx="66499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hristopher</a:t>
            </a:r>
            <a:r>
              <a:rPr b="1" i="1" lang="en-US" sz="4400" spc="-1" strike="noStrike">
                <a:solidFill>
                  <a:srgbClr val="333333"/>
                </a:solidFill>
                <a:latin typeface="Arial"/>
              </a:rPr>
              <a:t> ..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08000" y="1152360"/>
            <a:ext cx="8637480" cy="625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13T16:51:42Z</dcterms:created>
  <dc:creator>Михаил </dc:creator>
  <dc:description>Сиреневая область заголовка с тремя сине-зелеными элементами на левой границе; серый фон</dc:description>
  <dc:language>en-US</dc:language>
  <cp:lastModifiedBy>Михаил </cp:lastModifiedBy>
  <dcterms:modified xsi:type="dcterms:W3CDTF">2021-09-13T17:10:28Z</dcterms:modified>
  <cp:revision>4</cp:revision>
  <dc:subject/>
  <dc:title>Тонкие акценты</dc:title>
</cp:coreProperties>
</file>