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694-431F-43A9-81E4-DFF970C5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1BA-4360-4331-9E6C-3BAFB74D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BF81-EE3F-490A-86CF-2DA81FF3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23E-2991-44FC-80A3-EB679160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FD7-C8C9-476E-BF2A-574E7D7C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CD8-B4BE-4EAC-8917-A225A1EC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730A-FFD3-4B95-9D96-A6A78095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744-2998-4005-A669-4740FD1D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899-82B4-4042-BEE5-BCE18420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04E7-1747-4280-A2EE-E450DC8E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E645-4AC6-4C3C-A89B-0F4D6AC8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ACB9-5861-46EC-8AB9-6CA51B07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7457-972B-479C-AFF6-CC24A1DAE1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1418 дней и ночей…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ii-mirovaja-vojna-ot-nachala-i-do-pobednogo-kontsa-fot_19465_s__17[1]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Изображение 005"/>
          <p:cNvPicPr/>
          <p:nvPr/>
        </p:nvPicPr>
        <p:blipFill>
          <a:blip r:embed="rId1"/>
          <a:stretch/>
        </p:blipFill>
        <p:spPr>
          <a:xfrm>
            <a:off x="-60480" y="-130320"/>
            <a:ext cx="9266400" cy="712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ii-mirovaja-vojna-ot-nachala-i-do-pobednogo-kontsa-fot_19465_s__91[1]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ii-mirovaja-vojna-ot-nachala-i-do-pobednogo-kontsa-fot_19465_s__33[1]"/>
          <p:cNvPicPr/>
          <p:nvPr/>
        </p:nvPicPr>
        <p:blipFill>
          <a:blip r:embed="rId1"/>
          <a:stretch/>
        </p:blipFill>
        <p:spPr>
          <a:xfrm>
            <a:off x="468360" y="40464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Изображение 009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Изображение 008"/>
          <p:cNvPicPr/>
          <p:nvPr/>
        </p:nvPicPr>
        <p:blipFill>
          <a:blip r:embed="rId1"/>
          <a:stretch/>
        </p:blipFill>
        <p:spPr>
          <a:xfrm>
            <a:off x="324000" y="549360"/>
            <a:ext cx="856908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i-mirovaja-vojna-ot-nachala-i-do-pobednogo-kontsa-fot_19465_s__72[1]"/>
          <p:cNvPicPr/>
          <p:nvPr/>
        </p:nvPicPr>
        <p:blipFill>
          <a:blip r:embed="rId1"/>
          <a:stretch/>
        </p:blipFill>
        <p:spPr>
          <a:xfrm>
            <a:off x="539640" y="476280"/>
            <a:ext cx="835344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Изображение 006"/>
          <p:cNvPicPr/>
          <p:nvPr/>
        </p:nvPicPr>
        <p:blipFill>
          <a:blip r:embed="rId1"/>
          <a:stretch/>
        </p:blipFill>
        <p:spPr>
          <a:xfrm>
            <a:off x="539640" y="552600"/>
            <a:ext cx="8353440" cy="57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Изображение 007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ii-mirovaja-vojna-ot-nachala-i-do-pobednogo-kontsa-fot_19465_s__16[1]"/>
          <p:cNvPicPr/>
          <p:nvPr/>
        </p:nvPicPr>
        <p:blipFill>
          <a:blip r:embed="rId1"/>
          <a:stretch/>
        </p:blipFill>
        <p:spPr>
          <a:xfrm>
            <a:off x="250920" y="549360"/>
            <a:ext cx="8642160" cy="604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1:25:40Z</dcterms:created>
  <dc:creator>Вова</dc:creator>
  <dc:description/>
  <dc:language>en-US</dc:language>
  <cp:lastModifiedBy>Пользователь Windows</cp:lastModifiedBy>
  <dcterms:modified xsi:type="dcterms:W3CDTF">2022-12-11T13:11:39Z</dcterms:modified>
  <cp:revision>6</cp:revision>
  <dc:subject/>
  <dc:title>Слайд 1</dc:title>
</cp:coreProperties>
</file>