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B9D-93F9-4865-84D0-5BEFE255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B32-AC01-4AFA-801F-8D8DC219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93E-319F-45D1-8310-A5C012D0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BD6-0CB9-42CE-81AF-9C6A59E7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10F-3C05-4765-AC47-6ED231F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B91-78F8-4FA8-9BC5-C4163BB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A9A-D1E9-450B-82C2-306A413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88B-D41E-4D7D-98C4-5B66D62D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572-CC7E-4375-B139-EE8569E2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3E7-0B37-4A72-B87C-A80D887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3C4-7C99-4946-A263-72A68DE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465-FCA0-40DF-9AF0-2D6BC51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983-5C3F-4CA6-B5C6-38AED2993C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1418 дней и ночей…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i-mirovaja-vojna-ot-nachala-i-do-pobednogo-kontsa-fot_19465_s__17[1]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-60480" y="-130320"/>
            <a:ext cx="9266400" cy="712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i-mirovaja-vojna-ot-nachala-i-do-pobednogo-kontsa-fot_19465_s__91[1]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i-mirovaja-vojna-ot-nachala-i-do-pobednogo-kontsa-fot_19465_s__33[1]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Изображение 008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i-mirovaja-vojna-ot-nachala-i-do-pobednogo-kontsa-fot_19465_s__72[1]"/>
          <p:cNvPicPr/>
          <p:nvPr/>
        </p:nvPicPr>
        <p:blipFill>
          <a:blip r:embed="rId1"/>
          <a:stretch/>
        </p:blipFill>
        <p:spPr>
          <a:xfrm>
            <a:off x="539640" y="476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539640" y="552600"/>
            <a:ext cx="83534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i-mirovaja-vojna-ot-nachala-i-do-pobednogo-kontsa-fot_19465_s__16[1]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1:25:40Z</dcterms:created>
  <dc:creator>Вова</dc:creator>
  <dc:description/>
  <dc:language>en-US</dc:language>
  <cp:lastModifiedBy>Пользователь Windows</cp:lastModifiedBy>
  <dcterms:modified xsi:type="dcterms:W3CDTF">2022-12-11T13:11:39Z</dcterms:modified>
  <cp:revision>6</cp:revision>
  <dc:subject/>
  <dc:title>Слайд 1</dc:title>
</cp:coreProperties>
</file>