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3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hammer.wav" ContentType="audio/x-wav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667-2223-42BC-BEBA-3F4B60B7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4D7-60A7-4BEA-9EF3-E8C90D0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D8B-E5EB-401B-A2E6-016C47F2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ED7-C54F-409C-BBFB-494FAB84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D8B-2552-43B3-84F3-F394F92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979-733D-488C-87FF-29D22482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304-73FB-46CC-BE49-24086CE3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F90-3C52-4A7C-A0C8-5CC48E0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B4B-1BF5-4BC9-BA02-9CCEA12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9AE-BD9F-4310-8274-274F672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C52-8284-4DAD-BE1D-7B4A72E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2EE-D5A6-483B-AF37-5368589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C167-49D7-4DE9-B8D1-B00CF13F9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SHKOLA\МО_КР\работа на конкурс\готово\Классные часы\ценности\ц1\Mazda-RX7-009 спортивный автомобиль1.jpg"/>
          <p:cNvPicPr/>
          <p:nvPr/>
        </p:nvPicPr>
        <p:blipFill>
          <a:blip r:embed="rId1"/>
          <a:stretch/>
        </p:blipFill>
        <p:spPr>
          <a:xfrm>
            <a:off x="4981680" y="1660680"/>
            <a:ext cx="3867120" cy="1668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694480" y="390384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вый спортивный автомобиль</a:t>
            </a:r>
            <a:r>
              <a:rPr b="1" lang="ru-RU" sz="3200" spc="-1" strike="noStrike">
                <a:solidFill>
                  <a:srgbClr val="7030a0"/>
                </a:solidFill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roadwa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BL00122_.WMF"/>
          <p:cNvPicPr/>
          <p:nvPr/>
        </p:nvPicPr>
        <p:blipFill>
          <a:blip r:embed="rId2"/>
          <a:stretch/>
        </p:blipFill>
        <p:spPr>
          <a:xfrm>
            <a:off x="831960" y="1160640"/>
            <a:ext cx="3867120" cy="3375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82680" y="4782960"/>
            <a:ext cx="454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Хорошая  просторная квартира  или  дом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20"/>
          <p:cNvSpPr txBox="1"/>
          <p:nvPr/>
        </p:nvSpPr>
        <p:spPr>
          <a:xfrm>
            <a:off x="6230880" y="430200"/>
            <a:ext cx="160812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198360" y="4494240"/>
            <a:ext cx="456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большая популярность в кругу знаком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105520" y="18288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181480" y="1828800"/>
            <a:ext cx="381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876920" y="4930920"/>
            <a:ext cx="40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                     настоящий друг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SHKOLA\МО_КР\работа на конкурс\готово\Классные часы\ценности\ц3\148D~1 1.jpg"/>
          <p:cNvPicPr/>
          <p:nvPr/>
        </p:nvPicPr>
        <p:blipFill>
          <a:blip r:embed="rId1"/>
          <a:stretch/>
        </p:blipFill>
        <p:spPr>
          <a:xfrm>
            <a:off x="5638680" y="930240"/>
            <a:ext cx="2851200" cy="382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SHKOLA\МО_КР\работа на конкурс\готово\Классные часы\ценности\ц7\82E4~11.jpg"/>
          <p:cNvPicPr/>
          <p:nvPr/>
        </p:nvPicPr>
        <p:blipFill>
          <a:blip r:embed="rId2"/>
          <a:stretch/>
        </p:blipFill>
        <p:spPr>
          <a:xfrm>
            <a:off x="1066680" y="239760"/>
            <a:ext cx="285120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9"/>
          <p:cNvSpPr txBox="1"/>
          <p:nvPr/>
        </p:nvSpPr>
        <p:spPr>
          <a:xfrm>
            <a:off x="7318440" y="184320"/>
            <a:ext cx="152064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4983120" y="45529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66680" y="4192200"/>
            <a:ext cx="398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е, приносящее большую прибы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D:\SHKOLA\Фотографии\на_биологии.JPG"/>
          <p:cNvPicPr/>
          <p:nvPr/>
        </p:nvPicPr>
        <p:blipFill>
          <a:blip r:embed="rId1"/>
          <a:stretch/>
        </p:blipFill>
        <p:spPr>
          <a:xfrm>
            <a:off x="5089680" y="1433520"/>
            <a:ext cx="381780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Screenshot_26"/>
          <p:cNvPicPr/>
          <p:nvPr/>
        </p:nvPicPr>
        <p:blipFill>
          <a:blip r:embed="rId2"/>
          <a:stretch/>
        </p:blipFill>
        <p:spPr>
          <a:xfrm>
            <a:off x="316080" y="806400"/>
            <a:ext cx="40701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Screenshot_26"/>
          <p:cNvPicPr/>
          <p:nvPr/>
        </p:nvPicPr>
        <p:blipFill>
          <a:blip r:embed="rId3"/>
          <a:stretch/>
        </p:blipFill>
        <p:spPr>
          <a:xfrm>
            <a:off x="316080" y="806400"/>
            <a:ext cx="40701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542600" y="3769200"/>
            <a:ext cx="179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57200" y="152388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841920" y="5424480"/>
            <a:ext cx="444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мирная слава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19222369"/>
          <p:cNvPicPr/>
          <p:nvPr/>
        </p:nvPicPr>
        <p:blipFill>
          <a:blip r:embed="rId1"/>
          <a:stretch/>
        </p:blipFill>
        <p:spPr>
          <a:xfrm>
            <a:off x="0" y="268200"/>
            <a:ext cx="5016600" cy="310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g2012062711325616-1024x683"/>
          <p:cNvPicPr/>
          <p:nvPr/>
        </p:nvPicPr>
        <p:blipFill>
          <a:blip r:embed="rId2"/>
          <a:stretch/>
        </p:blipFill>
        <p:spPr>
          <a:xfrm>
            <a:off x="3809880" y="1879560"/>
            <a:ext cx="5334120" cy="355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9222369"/>
          <p:cNvPicPr/>
          <p:nvPr/>
        </p:nvPicPr>
        <p:blipFill>
          <a:blip r:embed="rId3"/>
          <a:stretch/>
        </p:blipFill>
        <p:spPr>
          <a:xfrm>
            <a:off x="0" y="268200"/>
            <a:ext cx="501660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689040" y="4110120"/>
            <a:ext cx="397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бовь близ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495760" y="49957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сю жизнь довольным собой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6823080" y="270000"/>
            <a:ext cx="1521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Gothic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67" name="Picture 9" descr="stock-photo-satisfied-young-man-showing-okay-sign-isolated-on-white-background-46564966"/>
          <p:cNvPicPr/>
          <p:nvPr/>
        </p:nvPicPr>
        <p:blipFill>
          <a:blip r:embed="rId1"/>
          <a:srcRect l="10747" t="9384" r="5286" b="10075"/>
          <a:stretch/>
        </p:blipFill>
        <p:spPr>
          <a:xfrm>
            <a:off x="5275440" y="1179360"/>
            <a:ext cx="3608280" cy="369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User\Desktop\2.jpg"/>
          <p:cNvPicPr/>
          <p:nvPr/>
        </p:nvPicPr>
        <p:blipFill>
          <a:blip r:embed="rId2"/>
          <a:stretch/>
        </p:blipFill>
        <p:spPr>
          <a:xfrm>
            <a:off x="512640" y="808200"/>
            <a:ext cx="4762800" cy="31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8" descr="Блог.ру - saiparsk"/>
          <p:cNvPicPr/>
          <p:nvPr/>
        </p:nvPicPr>
        <p:blipFill>
          <a:blip r:embed="rId1"/>
          <a:stretch/>
        </p:blipFill>
        <p:spPr>
          <a:xfrm>
            <a:off x="76320" y="223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школьные картинки\index.jpg"/>
          <p:cNvPicPr/>
          <p:nvPr/>
        </p:nvPicPr>
        <p:blipFill>
          <a:blip r:embed="rId2"/>
          <a:stretch/>
        </p:blipFill>
        <p:spPr>
          <a:xfrm>
            <a:off x="2960640" y="477720"/>
            <a:ext cx="2158920" cy="2146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5411880" y="316080"/>
            <a:ext cx="3492360" cy="228852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имые ц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Деньги - это очень непрочная ступенька. Даже самый богатый человек может разор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Власть тоже можно потеря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И Славу также легко можно потерять. Даже очень известные люди могут быть забыт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6320" y="262404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тинные ц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ждой ступеньке надо побороть какой – то свой недостаток: злость, гнев, зависть, лживость , болтливость, уныние, гордость, обжорств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рести такие ценности, как любовь к людям, доброта, скромность, трудолюбие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Любовь к людям даёт смысл жиз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Доброта согревает человека. Кругом люди тоже становятся добре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кромность украшает человека. Только такой человек добьётся успех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5723"/>
                </a:solidFill>
                <a:latin typeface="Calibri"/>
              </a:rPr>
              <a:t>Трудолюбие обеспечит бл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Школьный мультяшный - Школа, искусство - Всякая всячина - Каталог файлов - МЕТОДИЧЕСКИЙ СУНДУЧОК - Сайт учителя Изо"/>
          <p:cNvPicPr/>
          <p:nvPr/>
        </p:nvPicPr>
        <p:blipFill>
          <a:blip r:embed="rId3"/>
          <a:stretch/>
        </p:blipFill>
        <p:spPr>
          <a:xfrm>
            <a:off x="6759720" y="274320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1.04.2014 Совместная уборка территории - давняя традиция Таурэс НП: вывоз строительного мусора и вывоз снега, вывоз грунта и вы"/>
          <p:cNvPicPr/>
          <p:nvPr/>
        </p:nvPicPr>
        <p:blipFill>
          <a:blip r:embed="rId4"/>
          <a:stretch/>
        </p:blipFill>
        <p:spPr>
          <a:xfrm>
            <a:off x="6172200" y="4800600"/>
            <a:ext cx="27432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motivator-16553"/>
          <p:cNvPicPr/>
          <p:nvPr/>
        </p:nvPicPr>
        <p:blipFill>
          <a:blip r:embed="rId1"/>
          <a:srcRect l="11433" t="4378" r="3521" b="19628"/>
          <a:stretch/>
        </p:blipFill>
        <p:spPr>
          <a:xfrm>
            <a:off x="-2700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7440" y="140760"/>
            <a:ext cx="5754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Рецепт  счастья»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6160" y="892080"/>
            <a:ext cx="168804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ор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о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088040" y="287280"/>
            <a:ext cx="169416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ь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ти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ближ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76400" y="942840"/>
            <a:ext cx="3457440" cy="11912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елайте людям т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го не хотите, что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и делали 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225160" y="2324160"/>
            <a:ext cx="5646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ыбайтесь каждом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гновению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" y="2857680"/>
            <a:ext cx="5091120" cy="825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е жизнь и живите с огром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нием быть нуж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793840" y="3214800"/>
            <a:ext cx="286308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ыть понимающ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поня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6360" y="3890880"/>
            <a:ext cx="3344400" cy="825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нимайтесь любим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лом увлеч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522400" y="4564080"/>
            <a:ext cx="3434400" cy="1557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гда не отчаиватьс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ать вых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ать выход из сам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х ситу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84560" y="5197320"/>
            <a:ext cx="225648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авидов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бижать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биж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0:47:28Z</dcterms:created>
  <dc:creator>pptforschool.ru</dc:creator>
  <dc:description/>
  <dc:language>en-US</dc:language>
  <cp:lastModifiedBy>Учетная запись Майкрософт</cp:lastModifiedBy>
  <cp:lastPrinted>2020-03-05T05:55:58Z</cp:lastPrinted>
  <dcterms:modified xsi:type="dcterms:W3CDTF">2022-12-11T04:08:39Z</dcterms:modified>
  <cp:revision>33</cp:revision>
  <dc:subject/>
  <dc:title>Название презентации</dc:title>
</cp:coreProperties>
</file>