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3.jpeg" ContentType="image/jpeg"/>
  <Override PartName="/ppt/media/image2.jpeg" ContentType="image/jpeg"/>
  <Override PartName="/ppt/media/image3.wmf" ContentType="image/x-wmf"/>
  <Override PartName="/ppt/media/image15.jpeg" ContentType="image/jpeg"/>
  <Override PartName="/ppt/media/hammer.wav" ContentType="audio/x-wav"/>
  <Override PartName="/ppt/media/image12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C0BB-AB43-4170-AA97-F4A28BD5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434F-6285-4C22-88F4-BBE3C157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46D6-C2B4-41D0-8A37-1BD05F52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A0A-FA8F-4EF9-B5FC-08B4E4E9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31BC-D134-4AFB-90D8-AFE3CFD6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F35A-1370-4620-9431-94753ADD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A6F-360B-4C63-A090-54472133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765-8024-4776-A378-275FB62B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023-6187-4CC0-8016-48C87996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C18-CE0A-4840-A6A0-2EF855FA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67C-5054-4DAB-853D-BF5CAE2A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BC6A-6DBD-41D6-B20C-08F48280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7343-2444-471E-957C-CE83A59FD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SHKOLA\МО_КР\работа на конкурс\готово\Классные часы\ценности\ц1\Mazda-RX7-009 спортивный автомобиль1.jpg"/>
          <p:cNvPicPr/>
          <p:nvPr/>
        </p:nvPicPr>
        <p:blipFill>
          <a:blip r:embed="rId1"/>
          <a:stretch/>
        </p:blipFill>
        <p:spPr>
          <a:xfrm>
            <a:off x="4981680" y="1660680"/>
            <a:ext cx="3867120" cy="16682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5694480" y="3903840"/>
            <a:ext cx="2819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овый спортивный автомобиль</a:t>
            </a:r>
            <a:r>
              <a:rPr b="1" lang="ru-RU" sz="3200" spc="-1" strike="noStrike">
                <a:solidFill>
                  <a:srgbClr val="7030a0"/>
                </a:solidFill>
                <a:latin typeface="Broadwa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Broadwa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2" descr="BL00122_.WMF"/>
          <p:cNvPicPr/>
          <p:nvPr/>
        </p:nvPicPr>
        <p:blipFill>
          <a:blip r:embed="rId2"/>
          <a:stretch/>
        </p:blipFill>
        <p:spPr>
          <a:xfrm>
            <a:off x="831960" y="1160640"/>
            <a:ext cx="3867120" cy="3375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382680" y="4782960"/>
            <a:ext cx="454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Хорошая  просторная квартира  или  дом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 Cy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WordArt 20"/>
          <p:cNvSpPr txBox="1"/>
          <p:nvPr/>
        </p:nvSpPr>
        <p:spPr>
          <a:xfrm>
            <a:off x="6230880" y="430200"/>
            <a:ext cx="1608120" cy="3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Gothic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4"/>
          <p:cNvSpPr/>
          <p:nvPr/>
        </p:nvSpPr>
        <p:spPr>
          <a:xfrm>
            <a:off x="198360" y="4494240"/>
            <a:ext cx="456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я большая популярность в кругу знаком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5105520" y="1828800"/>
            <a:ext cx="3809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5181480" y="1828800"/>
            <a:ext cx="3810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4876920" y="4930920"/>
            <a:ext cx="40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                     настоящий друг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 Cyr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:\SHKOLA\МО_КР\работа на конкурс\готово\Классные часы\ценности\ц3\148D~1 1.jpg"/>
          <p:cNvPicPr/>
          <p:nvPr/>
        </p:nvPicPr>
        <p:blipFill>
          <a:blip r:embed="rId1"/>
          <a:stretch/>
        </p:blipFill>
        <p:spPr>
          <a:xfrm>
            <a:off x="5638680" y="930240"/>
            <a:ext cx="2851200" cy="3822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D:\SHKOLA\МО_КР\работа на конкурс\готово\Классные часы\ценности\ц7\82E4~11.jpg"/>
          <p:cNvPicPr/>
          <p:nvPr/>
        </p:nvPicPr>
        <p:blipFill>
          <a:blip r:embed="rId2"/>
          <a:stretch/>
        </p:blipFill>
        <p:spPr>
          <a:xfrm>
            <a:off x="1066680" y="239760"/>
            <a:ext cx="2851200" cy="4191120"/>
          </a:xfrm>
          <a:prstGeom prst="rect">
            <a:avLst/>
          </a:prstGeom>
          <a:ln w="0">
            <a:noFill/>
          </a:ln>
        </p:spPr>
      </p:pic>
      <p:sp>
        <p:nvSpPr>
          <p:cNvPr id="52" name="WordArt 9"/>
          <p:cNvSpPr txBox="1"/>
          <p:nvPr/>
        </p:nvSpPr>
        <p:spPr>
          <a:xfrm>
            <a:off x="7318440" y="184320"/>
            <a:ext cx="1520640" cy="37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Gothic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5"/>
          <p:cNvSpPr/>
          <p:nvPr/>
        </p:nvSpPr>
        <p:spPr>
          <a:xfrm>
            <a:off x="4983120" y="455292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ее образ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66680" y="4192200"/>
            <a:ext cx="398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ятие, приносящее большую прибыл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D:\SHKOLA\Фотографии\на_биологии.JPG"/>
          <p:cNvPicPr/>
          <p:nvPr/>
        </p:nvPicPr>
        <p:blipFill>
          <a:blip r:embed="rId1"/>
          <a:stretch/>
        </p:blipFill>
        <p:spPr>
          <a:xfrm>
            <a:off x="5089680" y="1433520"/>
            <a:ext cx="3817800" cy="2863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Screenshot_26"/>
          <p:cNvPicPr/>
          <p:nvPr/>
        </p:nvPicPr>
        <p:blipFill>
          <a:blip r:embed="rId2"/>
          <a:stretch/>
        </p:blipFill>
        <p:spPr>
          <a:xfrm>
            <a:off x="316080" y="806400"/>
            <a:ext cx="4070160" cy="3048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Screenshot_26"/>
          <p:cNvPicPr/>
          <p:nvPr/>
        </p:nvPicPr>
        <p:blipFill>
          <a:blip r:embed="rId3"/>
          <a:stretch/>
        </p:blipFill>
        <p:spPr>
          <a:xfrm>
            <a:off x="316080" y="806400"/>
            <a:ext cx="407016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542600" y="3769200"/>
            <a:ext cx="179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457200" y="1523880"/>
            <a:ext cx="3124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3841920" y="5424480"/>
            <a:ext cx="444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емирная слава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 Cy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9" descr="19222369"/>
          <p:cNvPicPr/>
          <p:nvPr/>
        </p:nvPicPr>
        <p:blipFill>
          <a:blip r:embed="rId1"/>
          <a:stretch/>
        </p:blipFill>
        <p:spPr>
          <a:xfrm>
            <a:off x="0" y="268200"/>
            <a:ext cx="5016600" cy="3106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img2012062711325616-1024x683"/>
          <p:cNvPicPr/>
          <p:nvPr/>
        </p:nvPicPr>
        <p:blipFill>
          <a:blip r:embed="rId2"/>
          <a:stretch/>
        </p:blipFill>
        <p:spPr>
          <a:xfrm>
            <a:off x="3809880" y="1879560"/>
            <a:ext cx="5334120" cy="3557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19222369"/>
          <p:cNvPicPr/>
          <p:nvPr/>
        </p:nvPicPr>
        <p:blipFill>
          <a:blip r:embed="rId3"/>
          <a:stretch/>
        </p:blipFill>
        <p:spPr>
          <a:xfrm>
            <a:off x="0" y="268200"/>
            <a:ext cx="5016600" cy="31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689040" y="4110120"/>
            <a:ext cx="397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юбовь близк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495760" y="499572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всю жизнь довольным собой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 Cyr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6823080" y="270000"/>
            <a:ext cx="15210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Gothic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67" name="Picture 9" descr="stock-photo-satisfied-young-man-showing-okay-sign-isolated-on-white-background-46564966"/>
          <p:cNvPicPr/>
          <p:nvPr/>
        </p:nvPicPr>
        <p:blipFill>
          <a:blip r:embed="rId1"/>
          <a:srcRect l="10747" t="9384" r="5286" b="10075"/>
          <a:stretch/>
        </p:blipFill>
        <p:spPr>
          <a:xfrm>
            <a:off x="5275440" y="1179360"/>
            <a:ext cx="3608280" cy="3692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:\Users\User\Desktop\2.jpg"/>
          <p:cNvPicPr/>
          <p:nvPr/>
        </p:nvPicPr>
        <p:blipFill>
          <a:blip r:embed="rId2"/>
          <a:stretch/>
        </p:blipFill>
        <p:spPr>
          <a:xfrm>
            <a:off x="512640" y="808200"/>
            <a:ext cx="4762800" cy="31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8" descr="Блог.ру - saiparsk"/>
          <p:cNvPicPr/>
          <p:nvPr/>
        </p:nvPicPr>
        <p:blipFill>
          <a:blip r:embed="rId1"/>
          <a:stretch/>
        </p:blipFill>
        <p:spPr>
          <a:xfrm>
            <a:off x="76320" y="2232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F:\школьные картинки\index.jpg"/>
          <p:cNvPicPr/>
          <p:nvPr/>
        </p:nvPicPr>
        <p:blipFill>
          <a:blip r:embed="rId2"/>
          <a:stretch/>
        </p:blipFill>
        <p:spPr>
          <a:xfrm>
            <a:off x="2960640" y="477720"/>
            <a:ext cx="2158920" cy="21463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5411880" y="316080"/>
            <a:ext cx="3492360" cy="2288520"/>
          </a:xfrm>
          <a:prstGeom prst="rect">
            <a:avLst/>
          </a:prstGeom>
          <a:noFill/>
          <a:ln w="9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нимые ценнос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Деньги - это очень непрочная ступенька. Даже самый богатый человек может разор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Власть тоже можно потеря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И Славу также легко можно потерять. Даже очень известные люди могут быть забыты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76320" y="2624040"/>
            <a:ext cx="5214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стинные ценнос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аждой ступеньке надо побороть какой – то свой недостаток: злость, гнев, зависть, лживость , болтливость, уныние, гордость, обжорство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брести такие ценности, как любовь к людям, доброта, скромность, трудолюбие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Любовь к людям даёт смысл жизн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alibri"/>
              </a:rPr>
              <a:t>Доброта согревает человека. Кругом люди тоже становятся добре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Скромность украшает человека. Только такой человек добьётся успех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5723"/>
                </a:solidFill>
                <a:latin typeface="Calibri"/>
              </a:rPr>
              <a:t>Трудолюбие обеспечит бла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0" descr="Школьный мультяшный - Школа, искусство - Всякая всячина - Каталог файлов - МЕТОДИЧЕСКИЙ СУНДУЧОК - Сайт учителя Изо"/>
          <p:cNvPicPr/>
          <p:nvPr/>
        </p:nvPicPr>
        <p:blipFill>
          <a:blip r:embed="rId3"/>
          <a:stretch/>
        </p:blipFill>
        <p:spPr>
          <a:xfrm>
            <a:off x="6759720" y="2743200"/>
            <a:ext cx="2174760" cy="217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21.04.2014 Совместная уборка территории - давняя традиция Таурэс НП: вывоз строительного мусора и вывоз снега, вывоз грунта и вы"/>
          <p:cNvPicPr/>
          <p:nvPr/>
        </p:nvPicPr>
        <p:blipFill>
          <a:blip r:embed="rId4"/>
          <a:stretch/>
        </p:blipFill>
        <p:spPr>
          <a:xfrm>
            <a:off x="6172200" y="4800600"/>
            <a:ext cx="27432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5" descr="motivator-16553"/>
          <p:cNvPicPr/>
          <p:nvPr/>
        </p:nvPicPr>
        <p:blipFill>
          <a:blip r:embed="rId1"/>
          <a:srcRect l="11433" t="4378" r="3521" b="19628"/>
          <a:stretch/>
        </p:blipFill>
        <p:spPr>
          <a:xfrm>
            <a:off x="-2700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7440" y="140760"/>
            <a:ext cx="5754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«Рецепт  счастья»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236160" y="892080"/>
            <a:ext cx="1688040" cy="1191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и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вори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дова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7088040" y="287280"/>
            <a:ext cx="1694160" cy="1191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бить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ботить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 ближн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2876400" y="942840"/>
            <a:ext cx="3457440" cy="119124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делайте людям тог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го не хотите, чтоб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ни делали в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225160" y="2324160"/>
            <a:ext cx="56462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лыбайтесь каждому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гновению жи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60" y="2857680"/>
            <a:ext cx="5091120" cy="8254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бите жизнь и живите с огром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ланием быть нуж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5793840" y="3214800"/>
            <a:ext cx="286308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Быть понимающи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 понят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06360" y="3890880"/>
            <a:ext cx="3344400" cy="8254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анимайтесь любим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елом увлечен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5522400" y="4564080"/>
            <a:ext cx="3434400" cy="1557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когда не отчаиватьс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кать выход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кать выход из сам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ных ситуа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484560" y="5197320"/>
            <a:ext cx="2256480" cy="11912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завидова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обижать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обижа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10:47:28Z</dcterms:created>
  <dc:creator>pptforschool.ru</dc:creator>
  <dc:description/>
  <dc:language>en-US</dc:language>
  <cp:lastModifiedBy>Учетная запись Майкрософт</cp:lastModifiedBy>
  <cp:lastPrinted>2020-03-05T05:55:58Z</cp:lastPrinted>
  <dcterms:modified xsi:type="dcterms:W3CDTF">2022-12-11T04:08:39Z</dcterms:modified>
  <cp:revision>33</cp:revision>
  <dc:subject/>
  <dc:title>Название презентации</dc:title>
</cp:coreProperties>
</file>