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A9D-54E6-4949-B3E6-0DECCE8A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A4C-2EB1-4D8D-B40E-FC22CA1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243-05FA-4FC2-A92B-4BE85CD9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867-0997-4914-9763-A0D3A9F7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9B6-248C-4B14-BA1C-EB5D23F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048-6634-4663-AE56-D668943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37A-FB0F-4FA4-9248-FF776B4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AE7-51AB-46DB-90B9-8294E93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081-A00E-40F7-9385-B5D4004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9CA-F491-4373-812B-4F3E59B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4EC-D68E-48F0-9E24-79FB1C5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9D0-7FAD-48E8-BB66-A5BC489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389-8106-4132-B37D-0D829E258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7_-_Urok_3-2_-_Upr._1.mp3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8_-_Urok_3-2_-_Upr._2.mp3/" TargetMode="External"/><Relationship Id="rId3" Type="http://schemas.openxmlformats.org/officeDocument/2006/relationships/hyperlink" Target="http://38_-_Urok_3-2_-_Upr._2.mp3/" TargetMode="External"/><Relationship Id="rId4" Type="http://schemas.openxmlformats.org/officeDocument/2006/relationships/hyperlink" Target="http://38_-_Urok_3-2_-_Upr._2.mp3/" TargetMode="External"/><Relationship Id="rId5" Type="http://schemas.openxmlformats.org/officeDocument/2006/relationships/hyperlink" Target="http://38_-_Urok_3-2_-_Upr._2.mp3/" TargetMode="External"/><Relationship Id="rId6" Type="http://schemas.openxmlformats.org/officeDocument/2006/relationships/hyperlink" Target="http://38_-_Urok_3-2_-_Upr._2.mp3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19051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er Winter ist schon da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798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Нижненангская  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2160" y="338940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емецкого язы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ат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44280" y="5904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14600" y="838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as passt ni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Schne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r W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  ist  war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es ist weiß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ist kal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e Schneefloc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 schne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So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302080"/>
            <a:ext cx="1447560" cy="93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" y="23623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7200" y="44956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4340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Arial"/>
              </a:rPr>
              <a:t>sehr gu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063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5440" y="47242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33"/>
                </a:solidFill>
                <a:latin typeface="Arial"/>
              </a:rPr>
              <a:t>nicht besonders g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7"/>
          <p:cNvPicPr/>
          <p:nvPr/>
        </p:nvPicPr>
        <p:blipFill>
          <a:blip r:embed="rId3"/>
          <a:stretch/>
        </p:blipFill>
        <p:spPr>
          <a:xfrm>
            <a:off x="4800600" y="38088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4191120" cy="31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5"/>
          <a:stretch/>
        </p:blipFill>
        <p:spPr>
          <a:xfrm>
            <a:off x="3592440" y="2819520"/>
            <a:ext cx="5551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334120"/>
            <a:ext cx="7924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33cc"/>
                </a:solidFill>
                <a:latin typeface="Arial"/>
              </a:rPr>
              <a:t>Der Winter ist schon d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106668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, a, a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 Winter ist schon 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, e, 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all liegt Schne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120" y="5302080"/>
            <a:ext cx="144756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5720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934320" y="762120"/>
            <a:ext cx="1266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762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nge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d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nter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3716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kommt! Winter komm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cken fallen n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ist kalt, es ist k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ß ist alles wied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038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e, falle weißer Sch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lter Schnee, kalter Sch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Eisbahn wird der S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wir freuen uns a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676520"/>
            <a:ext cx="18003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62120" y="487692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0666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der Winter 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es kal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Schneit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Fallen die Schneeflocken auf die E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Liegt der Schnee über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alles weiß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Wie ist der Wald jetz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676520" cy="1218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3808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Hier sind die Igelfra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81680" y="8380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162920" y="2819520"/>
            <a:ext cx="18288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1600200"/>
          <a:ext cx="8229600" cy="497340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Ist es kalt oder warm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Ṻberall liegt Schne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Was liegt überal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Die Sonne scheint nicht he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cheint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Sonne hell oder nicht hel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Es schneit of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neit es of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Es ist kal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Ist alles wei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Die Schneeflocken fallen auf die 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en die Schneeflocken auf die Erd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Alles ist wei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048120" y="1143000"/>
            <a:ext cx="30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отнеси вопрос и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as Wetter im Winter.  Was ist richt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905120"/>
            <a:ext cx="14479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0400" y="19807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7600" y="28951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09880" y="36572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029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66880" y="5105160"/>
            <a:ext cx="2133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ir lesen und schreiben richt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er W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r ist d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.   Es i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 k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t.  A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l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s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w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i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ß.  Üb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 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gt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ne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. Die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n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n   fa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  a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u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  d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E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e.  Sie  sind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ö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2133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297180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ist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schn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reg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ist k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8920" y="3967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as passt ni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Admin\Desktop\немец\Nature_Seasons_Winter_Forest_in_the_drifts_030067_.jpg"/>
          <p:cNvPicPr/>
          <p:nvPr/>
        </p:nvPicPr>
        <p:blipFill>
          <a:blip r:embed="rId2"/>
          <a:stretch/>
        </p:blipFill>
        <p:spPr>
          <a:xfrm>
            <a:off x="457200" y="25146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8:55:25Z</dcterms:created>
  <dc:creator>пользователь</dc:creator>
  <dc:description/>
  <dc:language>en-US</dc:language>
  <cp:lastModifiedBy>uchitelskaya</cp:lastModifiedBy>
  <dcterms:modified xsi:type="dcterms:W3CDTF">2022-12-08T06:11:4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