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90AD-D7E3-4F9C-BDD0-8765554EB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2DBD-84A4-4DEA-B40F-610961AE5D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0C1-16D4-4E65-A4BD-FAC858C5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D42-B9AD-4F41-AEBD-AE4F964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47F-D58C-463C-82EC-D7E4FD7D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089-4BE5-4CED-BA17-227447B2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6CB-DA0E-4B19-A361-8B8E2F6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044-CB89-42A8-AAAA-41199A26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EE7-F34F-4A8D-B5AE-77E51A33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505-45DB-41A6-B495-C5369A3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C34-9FF7-47F0-AE08-4AF24536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800-766C-4F23-B173-8DBE8CE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8DE-4BAF-4684-8B84-A14AC3F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2A8-D564-4CF0-A127-C6DCA09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B6C8-9F7D-4166-86A9-A00344BBA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kola2009.ucoz.ru/2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" Target="slide7.xml"/><Relationship Id="rId11" Type="http://schemas.openxmlformats.org/officeDocument/2006/relationships/image" Target="../media/image8.png"/><Relationship Id="rId12" Type="http://schemas.openxmlformats.org/officeDocument/2006/relationships/slide" Target="slide8.xml"/><Relationship Id="rId13" Type="http://schemas.openxmlformats.org/officeDocument/2006/relationships/image" Target="../media/image9.png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10.xml"/><Relationship Id="rId17" Type="http://schemas.openxmlformats.org/officeDocument/2006/relationships/image" Target="../media/image11.png"/><Relationship Id="rId18" Type="http://schemas.openxmlformats.org/officeDocument/2006/relationships/slide" Target="slide11.xml"/><Relationship Id="rId19" Type="http://schemas.openxmlformats.org/officeDocument/2006/relationships/image" Target="../media/image12.png"/><Relationship Id="rId20" Type="http://schemas.openxmlformats.org/officeDocument/2006/relationships/slide" Target="slide12.xml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4 из 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826920" y="476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Анимированный плак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476360" y="105264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Цифры – пр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68360" y="5445000"/>
            <a:ext cx="47530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Аллаярова Н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БОУ «СОШ № 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.Ша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scrn_big_1.jpg"/>
          <p:cNvPicPr/>
          <p:nvPr/>
        </p:nvPicPr>
        <p:blipFill>
          <a:blip r:embed="rId3"/>
          <a:srcRect l="3887" t="12202" r="3887" b="4643"/>
          <a:stretch/>
        </p:blipFill>
        <p:spPr>
          <a:xfrm>
            <a:off x="3348000" y="1989000"/>
            <a:ext cx="2376360" cy="326736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812000" y="5805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5" descr="8.jpg"/>
          <p:cNvPicPr/>
          <p:nvPr/>
        </p:nvPicPr>
        <p:blipFill>
          <a:blip r:embed="rId1"/>
          <a:stretch/>
        </p:blipFill>
        <p:spPr>
          <a:xfrm>
            <a:off x="1476360" y="620640"/>
            <a:ext cx="6211800" cy="5705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0.00902 L -0.17431 -0.64131 E">
                                      <p:cBhvr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31 -0.6413 C -0.17292 -0.64315 -0.16788 -0.64939 -0.16719 -0.65078 C -0.16632 -0.65309 -0.16684 -0.6561 -0.1658 -0.65818 C -0.16389 -0.66188 -0.16111 -0.66443 -0.15868 -0.66766 C -0.15729 -0.66951 -0.15642 -0.67275 -0.15452 -0.67322 C -0.13958 -0.67645 -0.12396 -0.68177 -0.10955 -0.68825 C -0.09827 -0.68755 -0.08698 -0.68778 -0.0757 -0.6864 C -0.07118 -0.6857 -0.06684 -0.68362 -0.06302 -0.68062 C -0.06007 -0.6783 -0.05452 -0.67322 -0.05452 -0.67298 C -0.04844 -0.66096 -0.04132 -0.64778 -0.03333 -0.6376 C -0.03281 -0.63575 -0.03264 -0.6339 -0.03195 -0.63205 C -0.03125 -0.62997 -0.02986 -0.62835 -0.02917 -0.62627 C -0.02795 -0.6228 -0.02639 -0.61517 -0.02639 -0.61494 C -0.02743 -0.58071 -0.02743 -0.56891 -0.0349 -0.54001 C -0.0375 -0.5296 -0.03767 -0.52567 -0.04462 -0.51942 C -0.04757 -0.51341 -0.06181 -0.49791 -0.06719 -0.49306 C -0.07153 -0.48427 -0.07899 -0.47826 -0.08559 -0.47247 C -0.09271 -0.46623 -0.09965 -0.45999 -0.1066 -0.45374 C -0.10938 -0.4512 -0.1132 -0.45143 -0.11649 -0.45004 C -0.12292 -0.44403 -0.13038 -0.44195 -0.13767 -0.43871 C -0.14983 -0.43339 -0.16181 -0.42761 -0.17431 -0.42368 C -0.18195 -0.41697 -0.1882 -0.4105 -0.19688 -0.4068 C -0.20347 -0.40101 -0.21163 -0.39801 -0.21927 -0.39546 C -0.22344 -0.39176 -0.22795 -0.39038 -0.23195 -0.38621 C -0.23698 -0.38112 -0.23941 -0.37396 -0.24462 -0.36933 C -0.24844 -0.3536 -0.24323 -0.37234 -0.24896 -0.35985 C -0.25243 -0.35222 -0.2507 -0.34875 -0.25729 -0.34297 C -0.25938 -0.33487 -0.25816 -0.33302 -0.26441 -0.32978 C -0.26806 -0.32261 -0.26823 -0.31498 -0.27292 -0.3092 C -0.27708 -0.29278 -0.27708 -0.2752 -0.28125 -0.25855 C -0.2842 -0.2197 -0.28212 -0.2345 -0.28559 -0.21346 C -0.28386 -0.19079 -0.28247 -0.18154 -0.27431 -0.16281 C -0.2724 -0.15032 -0.27031 -0.14616 -0.26441 -0.13667 C -0.25955 -0.12858 -0.26441 -0.13205 -0.25729 -0.12904 C -0.25035 -0.1228 -0.25434 -0.12696 -0.24601 -0.11609 C -0.24236 -0.11147 -0.22847 -0.10939 -0.22361 -0.10869 C -0.21354 -0.10407 -0.17761 -0.11147 -0.16719 -0.11216 C -0.15781 -0.12049 -0.15122 -0.12742 -0.14045 -0.13089 C -0.13403 -0.13968 -0.12778 -0.14685 -0.12066 -0.15356 C -0.11806 -0.1561 -0.11233 -0.16096 -0.11233 -0.16073 C -0.10903 -0.1679 -0.10295 -0.17391 -0.10104 -0.18177 C -0.09792 -0.19449 -0.10035 -0.1901 -0.09531 -0.19657 C -0.09445 -0.19912 -0.09323 -0.20166 -0.09254 -0.2042 C -0.09149 -0.20791 -0.08976 -0.21554 -0.08976 -0.21531 C -0.08785 -0.23566 -0.08663 -0.25531 -0.08559 -0.27544 C -0.08646 -0.29301 -0.08455 -0.30504 -0.09115 -0.31868 C -0.09306 -0.33649 -0.09705 -0.35314 -0.10243 -0.36933 C -0.10538 -0.37812 -0.10556 -0.38413 -0.10955 -0.39176 C -0.11007 -0.39361 -0.11024 -0.39569 -0.11094 -0.39731 C -0.11163 -0.39893 -0.1132 -0.39963 -0.11372 -0.40148 C -0.11458 -0.40356 -0.11441 -0.40633 -0.11511 -0.40865 C -0.11719 -0.41489 -0.1191 -0.41443 -0.12222 -0.41998 C -0.12778 -0.42946 -0.13108 -0.44033 -0.14045 -0.44426 C -0.14757 -0.45374 -0.15295 -0.46531 -0.16024 -0.47433 C -0.16077 -0.47618 -0.16094 -0.47826 -0.16163 -0.47988 C -0.16233 -0.48149 -0.16389 -0.48219 -0.16441 -0.48381 C -0.16823 -0.49445 -0.16788 -0.50717 -0.17431 -0.51572 C -0.17639 -0.52382 -0.17986 -0.53075 -0.18264 -0.53815 C -0.1849 -0.54394 -0.18559 -0.55064 -0.18698 -0.55689 C -0.18577 -0.57562 -0.18455 -0.59482 -0.18125 -0.61309 C -0.18004 -0.61979 -0.18004 -0.62997 -0.17708 -0.63575 C -0.17413 -0.64176 -0.17066 -0.6413 -0.17431 -0.6413 Z">
                                      <p:cBhvr>
                                        <p:cTn id="101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9.jpg"/>
          <p:cNvPicPr/>
          <p:nvPr/>
        </p:nvPicPr>
        <p:blipFill>
          <a:blip r:embed="rId1"/>
          <a:stretch/>
        </p:blipFill>
        <p:spPr>
          <a:xfrm>
            <a:off x="1476360" y="476280"/>
            <a:ext cx="6048360" cy="6048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0139 L -0.02465 -0.5784 E">
                                      <p:cBhvr>
                                        <p:cTn id="10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5784 C -0.02205 -0.58927 -0.02344 -0.60037 -0.02604 -0.61124 C -0.02795 -0.6302 -0.02986 -0.64338 -0.03785 -0.65934 C -0.04497 -0.67368 -0.03316 -0.6568 -0.04236 -0.66882 C -0.04549 -0.68201 -0.04392 -0.68201 -0.05399 -0.6864 C -0.06198 -0.69704 -0.06667 -0.69588 -0.07569 -0.70166 C -0.08576 -0.70837 -0.075 -0.70305 -0.08455 -0.70745 C -0.0934 -0.71901 -0.09879 -0.71531 -0.11354 -0.7167 C -0.12431 -0.716 -0.13507 -0.71623 -0.14566 -0.71485 C -0.14879 -0.71438 -0.15139 -0.7123 -0.15434 -0.71115 C -0.15573 -0.71045 -0.15885 -0.7093 -0.15885 -0.70906 C -0.16476 -0.70398 -0.17101 -0.70189 -0.17778 -0.69958 C -0.18663 -0.69172 -0.18576 -0.69496 -0.19531 -0.68247 C -0.2 -0.67599 -0.1967 -0.67761 -0.19965 -0.67091 C -0.20486 -0.65842 -0.21528 -0.63598 -0.22292 -0.6265 C -0.22847 -0.60476 -0.21962 -0.6383 -0.22726 -0.61517 C -0.23299 -0.59806 -0.23611 -0.57863 -0.24045 -0.56105 C -0.24288 -0.55111 -0.24219 -0.54047 -0.24462 -0.53053 C -0.2467 -0.50462 -0.24931 -0.4741 -0.24045 -0.44981 C -0.23733 -0.44149 -0.23611 -0.43224 -0.23299 -0.42437 C -0.23142 -0.42044 -0.22726 -0.41327 -0.22726 -0.41304 C -0.22569 -0.4068 -0.21997 -0.3957 -0.21997 -0.39547 C -0.21788 -0.3876 -0.21302 -0.37905 -0.20677 -0.37673 C -0.20486 -0.37604 -0.20295 -0.37511 -0.20104 -0.37442 C -0.19809 -0.37326 -0.19219 -0.37072 -0.19219 -0.37049 C -0.18142 -0.36101 -0.16649 -0.36216 -0.15434 -0.36101 C -0.14583 -0.35731 -0.13802 -0.36054 -0.12951 -0.36286 C -0.11788 -0.36656 -0.10625 -0.37026 -0.09479 -0.37442 C -0.08785 -0.3772 -0.08351 -0.38159 -0.07708 -0.38413 C -0.07049 -0.38992 -0.06441 -0.39801 -0.05677 -0.40287 C -0.0559 -0.40333 -0.05521 -0.40587 -0.05399 -0.40726 C -0.05122 -0.41027 -0.04514 -0.41512 -0.04514 -0.41489 C -0.0434 -0.41836 -0.0408 -0.42091 -0.03924 -0.42437 C -0.03507 -0.43316 -0.03542 -0.44588 -0.03212 -0.45536 C -0.0276 -0.46739 -0.02379 -0.48034 -0.02188 -0.49375 C -0.01927 -0.50994 -0.01997 -0.52798 -0.01597 -0.54371 C -0.01667 -0.55527 -0.01667 -0.56683 -0.01754 -0.5784 C -0.01771 -0.58048 -0.01875 -0.58649 -0.01892 -0.58441 C -0.02361 -0.51873 -0.01701 -0.55573 -0.02188 -0.53053 C -0.02292 -0.50971 -0.02344 -0.48913 -0.02778 -0.46878 C -0.03021 -0.44149 -0.03212 -0.40541 -0.04514 -0.38228 C -0.04774 -0.37188 -0.05069 -0.36216 -0.05538 -0.35337 C -0.05729 -0.34297 -0.06111 -0.3321 -0.06701 -0.32447 C -0.06962 -0.31452 -0.0717 -0.30504 -0.07569 -0.29579 C -0.07743 -0.29186 -0.0816 -0.28399 -0.0816 -0.28376 C -0.08351 -0.27613 -0.08663 -0.26804 -0.09028 -0.2611 C -0.0908 -0.25856 -0.09097 -0.25578 -0.09184 -0.25347 C -0.0934 -0.2493 -0.09757 -0.2419 -0.09757 -0.24167 C -0.09913 -0.23473 -0.10156 -0.23196 -0.10504 -0.22641 C -0.10938 -0.21924 -0.11146 -0.21045 -0.11649 -0.20305 C -0.12309 -0.17969 -0.14254 -0.16998 -0.15747 -0.15726 C -0.1625 -0.14685 -0.17031 -0.14084 -0.17917 -0.13807 C -0.18733 -0.13066 -0.19861 -0.13205 -0.20833 -0.12997 C -0.22014 -0.13205 -0.23056 -0.13529 -0.24184 -0.13807 C -0.25347 -0.14801 -0.24809 -0.14223 -0.25781 -0.15541 C -0.26024 -0.15865 -0.26372 -0.16651 -0.26372 -0.16628 C -0.2684 -0.18617 -0.26059 -0.15703 -0.26944 -0.17831 C -0.2717 -0.18386 -0.2724 -0.18987 -0.27396 -0.19565 C -0.27639 -0.21623 -0.27535 -0.20305 -0.27535 -0.23404 E">
                                      <p:cBhvr>
                                        <p:cTn id="11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10 копия.jpg"/>
          <p:cNvPicPr/>
          <p:nvPr/>
        </p:nvPicPr>
        <p:blipFill>
          <a:blip r:embed="rId1"/>
          <a:srcRect l="41805" t="0" r="0" b="0"/>
          <a:stretch/>
        </p:blipFill>
        <p:spPr>
          <a:xfrm>
            <a:off x="1619280" y="476280"/>
            <a:ext cx="5905440" cy="6118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0139 L -0.07188 -0.6834 E">
                                      <p:cBhvr>
                                        <p:cTn id="11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7 -0.6834 C -0.08576 -0.69034 -0.09097 -0.68664 -0.10989 -0.68548 C -0.11545 -0.68271 -0.12118 -0.68039 -0.12673 -0.67785 C -0.12829 -0.67716 -0.12934 -0.67507 -0.1309 -0.67415 C -0.13229 -0.67322 -0.13385 -0.67299 -0.13524 -0.6723 C -0.13958 -0.6686 -0.14166 -0.6649 -0.14652 -0.66282 C -0.1526 -0.6575 -0.15746 -0.65125 -0.16336 -0.64593 C -0.17083 -0.63113 -0.16111 -0.64894 -0.17031 -0.63668 C -0.17291 -0.63321 -0.17482 -0.62882 -0.17743 -0.62535 C -0.17916 -0.61818 -0.18177 -0.60986 -0.18593 -0.60477 C -0.18854 -0.59367 -0.19392 -0.58881 -0.19861 -0.58025 C -0.20295 -0.57262 -0.20538 -0.56592 -0.2085 -0.55782 C -0.21076 -0.55204 -0.21475 -0.54857 -0.21684 -0.54279 C -0.22048 -0.53308 -0.21545 -0.54094 -0.22118 -0.53331 C -0.22465 -0.51943 -0.21961 -0.53608 -0.22673 -0.52406 C -0.2276 -0.52244 -0.22743 -0.52012 -0.22812 -0.51851 C -0.22882 -0.51689 -0.23003 -0.51596 -0.2309 -0.51457 C -0.23472 -0.49931 -0.23958 -0.48289 -0.24652 -0.46971 C -0.24913 -0.4593 -0.25173 -0.44866 -0.25625 -0.43964 C -0.25677 -0.43779 -0.25677 -0.43548 -0.25764 -0.43386 C -0.25833 -0.43224 -0.26024 -0.43201 -0.26059 -0.43016 C -0.2618 -0.42345 -0.26111 -0.41629 -0.26198 -0.40958 C -0.26336 -0.3994 -0.26684 -0.39038 -0.27031 -0.38136 C -0.27395 -0.37165 -0.27413 -0.36078 -0.27882 -0.35153 C -0.27934 -0.34899 -0.27968 -0.34644 -0.2802 -0.3439 C -0.28107 -0.3402 -0.28298 -0.33257 -0.28298 -0.33234 C -0.28402 -0.32054 -0.28454 -0.30852 -0.28732 -0.29695 C -0.28784 -0.27753 -0.28871 -0.25833 -0.28871 -0.2389 C -0.28871 -0.2167 -0.28767 -0.20051 -0.28298 -0.18062 C -0.28211 -0.17692 -0.28229 -0.1723 -0.2802 -0.16952 C -0.27656 -0.1642 -0.27517 -0.15819 -0.27187 -0.15264 C -0.25295 -0.12026 -0.27187 -0.1575 -0.26198 -0.13761 C -0.26145 -0.13576 -0.26163 -0.13321 -0.26059 -0.13183 C -0.25746 -0.12766 -0.24531 -0.12489 -0.24218 -0.12443 C -0.23194 -0.1198 -0.22204 -0.11818 -0.21128 -0.11679 C -0.20225 -0.11286 -0.19444 -0.11703 -0.18593 -0.12073 C -0.18489 -0.12188 -0.1842 -0.1235 -0.18298 -0.12443 C -0.18177 -0.12535 -0.18003 -0.12512 -0.17882 -0.12628 C -0.17014 -0.13506 -0.17378 -0.13784 -0.16336 -0.14131 C -0.15277 -0.15079 -0.14704 -0.16582 -0.13663 -0.17507 C -0.13281 -0.18271 -0.12691 -0.18872 -0.12118 -0.19381 C -0.11579 -0.20398 -0.11406 -0.21693 -0.10694 -0.22572 C -0.10538 -0.23197 -0.10139 -0.24075 -0.09861 -0.2463 C -0.09809 -0.24815 -0.09809 -0.25047 -0.09722 -0.25209 C -0.09652 -0.2537 -0.09496 -0.25417 -0.09427 -0.25579 C -0.09218 -0.26111 -0.09253 -0.26781 -0.0901 -0.27267 C -0.08923 -0.27452 -0.08802 -0.27614 -0.08732 -0.27822 C -0.08454 -0.28678 -0.08402 -0.29279 -0.0802 -0.30065 C -0.07691 -0.3143 -0.07239 -0.32679 -0.06892 -0.3402 C -0.06406 -0.35893 -0.06007 -0.37697 -0.05347 -0.39455 C -0.05121 -0.40981 -0.04878 -0.42854 -0.04218 -0.44149 C -0.03958 -0.45606 -0.03524 -0.47179 -0.03385 -0.48659 C -0.03229 -0.50301 -0.03194 -0.52151 -0.02812 -0.53724 C -0.02708 -0.55227 -0.02517 -0.56707 -0.02395 -0.5821 C -0.02482 -0.5902 -0.02517 -0.59852 -0.02673 -0.60662 C -0.0276 -0.61148 -0.03073 -0.61518 -0.03229 -0.6198 C -0.03402 -0.62535 -0.0342 -0.63183 -0.03663 -0.63668 C -0.04097 -0.64524 -0.04461 -0.65657 -0.0493 -0.66467 C -0.05225 -0.66975 -0.05885 -0.67716 -0.06336 -0.6797 C -0.06614 -0.68132 -0.07187 -0.6834 -0.07187 -0.68317 Z">
                                      <p:cBhvr>
                                        <p:cTn id="12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c4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esktop\Безимени-1.jpg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002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region.delpodarki.ru/catalogue/smalto/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изображение ру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schkola2009.ucoz.ru/load/1-2-2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шаблон фона дос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baby-scool.narod.ru/media/book/metod/matematika/kak_pisat_cifru/index.html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цифр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ро М.И., Волкова С.И. Математика. Рабочая тетрадь. 1 класс. В 2-х ч. – М.: Просвещение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Безимени-1.jpg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1 копия копия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1268280"/>
            <a:ext cx="165564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2е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979640" y="1341360"/>
            <a:ext cx="1773360" cy="1656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3 копия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4000" y="1341360"/>
            <a:ext cx="1660320" cy="1746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4 копия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76720" y="1341360"/>
            <a:ext cx="17589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5 копия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1341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6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5280" y="3789360"/>
            <a:ext cx="17287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7 копия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1908000" y="378936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6" descr="8 копия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19640" y="3716280"/>
            <a:ext cx="2089080" cy="1919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7" descr="9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003640" y="3716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возврат 20">
            <a:hlinkClick r:id="" action="ppaction://hlinkshowjump?jump=previousslide"/>
          </p:cNvPr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2" descr="10 копия копия.gif">
            <a:hlinkClick r:id="rId20" action="ppaction://hlinksldjump"/>
          </p:cNvPr>
          <p:cNvPicPr/>
          <p:nvPr/>
        </p:nvPicPr>
        <p:blipFill>
          <a:blip r:embed="rId21"/>
          <a:srcRect l="50875" t="15176" r="8001" b="16627"/>
          <a:stretch/>
        </p:blipFill>
        <p:spPr>
          <a:xfrm>
            <a:off x="6875640" y="40053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826920" y="476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Выбор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user\Desktop\2011_06_28\едя.jpg"/>
          <p:cNvPicPr/>
          <p:nvPr/>
        </p:nvPicPr>
        <p:blipFill>
          <a:blip r:embed="rId1"/>
          <a:stretch/>
        </p:blipFill>
        <p:spPr>
          <a:xfrm>
            <a:off x="1835280" y="476280"/>
            <a:ext cx="5400720" cy="5784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омой 12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23733 -0.4105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732 -0.4105 L -0.02465 -0.70421 E">
                                      <p:cBhvr>
                                        <p:cTn id="10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70421 L -0.25295 -0.08534 E">
                                      <p:cBhvr>
                                        <p:cTn id="13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2.jpg"/>
          <p:cNvPicPr/>
          <p:nvPr/>
        </p:nvPicPr>
        <p:blipFill>
          <a:blip r:embed="rId1"/>
          <a:stretch/>
        </p:blipFill>
        <p:spPr>
          <a:xfrm>
            <a:off x="1692360" y="692280"/>
            <a:ext cx="5705280" cy="5329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омой 4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24514 -0.53654 E">
                                      <p:cBhvr>
                                        <p:cTn id="1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514 -0.53654 C -0.24132 -0.54417 -0.24063 -0.54625 -0.24236 -0.55527 C -0.24097 -0.56591 -0.24184 -0.57007 -0.23524 -0.57585 C -0.23316 -0.58441 -0.22917 -0.59112 -0.22552 -0.59852 C -0.2217 -0.60638 -0.22066 -0.61424 -0.21563 -0.62095 C -0.21233 -0.63459 -0.20504 -0.64384 -0.19861 -0.65471 C -0.19063 -0.66836 -0.19705 -0.6642 -0.18889 -0.6679 C -0.18438 -0.67368 -0.17622 -0.68408 -0.17049 -0.68663 C -0.16528 -0.68894 -0.15868 -0.69079 -0.15365 -0.69426 C -0.14636 -0.69935 -0.13906 -0.70259 -0.13108 -0.70536 C -0.11458 -0.70397 -0.10174 -0.70097 -0.08594 -0.69796 C -0.08455 -0.69727 -0.08316 -0.69657 -0.08177 -0.69611 C -0.07795 -0.69472 -0.07413 -0.6938 -0.07049 -0.69218 C -0.06771 -0.69102 -0.06198 -0.68848 -0.06198 -0.68825 C -0.05208 -0.67969 -0.04566 -0.66882 -0.0382 -0.65656 C -0.03559 -0.6524 -0.03108 -0.64361 -0.03108 -0.64338 C -0.02934 -0.62488 -0.0309 -0.63321 -0.02691 -0.61725 C -0.02604 -0.61355 -0.02396 -0.60592 -0.02396 -0.60569 C -0.02517 -0.59227 -0.02743 -0.58001 -0.02969 -0.5666 C -0.0316 -0.5555 -0.03142 -0.54394 -0.03386 -0.53284 C -0.03472 -0.52914 -0.03438 -0.52428 -0.03663 -0.5215 C -0.0408 -0.51618 -0.03889 -0.51919 -0.04236 -0.51225 C -0.0434 -0.50323 -0.0434 -0.49791 -0.04792 -0.49144 C -0.05 -0.48288 -0.05556 -0.47964 -0.0592 -0.47271 C -0.06111 -0.46901 -0.06267 -0.46484 -0.06493 -0.46161 C -0.0658 -0.46022 -0.06684 -0.45906 -0.06771 -0.45767 C -0.07309 -0.44842 -0.07552 -0.43825 -0.08316 -0.43154 C -0.08559 -0.42137 -0.09063 -0.41882 -0.09722 -0.41281 C -0.10486 -0.4061 -0.11146 -0.39801 -0.1184 -0.39014 C -0.12153 -0.38644 -0.12309 -0.38714 -0.12552 -0.38274 C -0.13229 -0.37072 -0.13577 -0.35545 -0.14514 -0.34713 C -0.14931 -0.33857 -0.15226 -0.33626 -0.1592 -0.33025 C -0.16059 -0.32909 -0.16354 -0.32655 -0.16354 -0.32631 C -0.16997 -0.31336 -0.16719 -0.31891 -0.17188 -0.30943 C -0.17274 -0.30758 -0.175 -0.30735 -0.17622 -0.30573 C -0.18125 -0.29995 -0.18542 -0.29301 -0.19028 -0.287 C -0.19202 -0.27983 -0.19514 -0.27937 -0.19861 -0.27382 C -0.20486 -0.26341 -0.21146 -0.25323 -0.2184 -0.24398 C -0.22292 -0.23797 -0.22552 -0.23196 -0.23108 -0.2271 C -0.23698 -0.21091 -0.23021 -0.22618 -0.2382 -0.21577 C -0.24132 -0.21161 -0.24358 -0.20513 -0.24653 -0.20074 C -0.24983 -0.19565 -0.25087 -0.19588 -0.25365 -0.19125 C -0.25781 -0.18408 -0.2599 -0.17692 -0.26493 -0.17067 C -0.26528 -0.16743 -0.26597 -0.15795 -0.26771 -0.15379 C -0.27222 -0.14292 -0.27379 -0.14107 -0.27622 -0.12951 C -0.26945 -0.12673 -0.26979 -0.13043 -0.26354 -0.13321 C -0.26129 -0.13598 -0.26007 -0.13991 -0.25781 -0.14246 C -0.2566 -0.14361 -0.25504 -0.14361 -0.25365 -0.14454 C -0.2467 -0.14916 -0.23976 -0.1524 -0.23247 -0.15564 C -0.2309 -0.15633 -0.22986 -0.15841 -0.2283 -0.15934 C -0.22222 -0.16281 -0.21337 -0.1672 -0.20712 -0.16882 C -0.20156 -0.16813 -0.19583 -0.16859 -0.19028 -0.16697 C -0.1882 -0.16628 -0.18247 -0.15749 -0.18038 -0.15564 C -0.17813 -0.14685 -0.17205 -0.14338 -0.16632 -0.13876 C -0.1559 -0.13066 -0.15625 -0.12997 -0.14375 -0.12766 C -0.13351 -0.12372 -0.12292 -0.12627 -0.11285 -0.12187 C -0.10017 -0.12349 -0.08993 -0.12812 -0.07761 -0.13136 C -0.07622 -0.13251 -0.07483 -0.13413 -0.07327 -0.13506 C -0.07066 -0.13668 -0.06493 -0.13876 -0.06493 -0.13853 C -0.05816 -0.14708 -0.0474 -0.15009 -0.04097 -0.15934 C -0.03698 -0.16489 -0.03368 -0.1709 -0.02969 -0.17622 E">
                                      <p:cBhvr>
                                        <p:cTn id="23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3 копия.jpg"/>
          <p:cNvPicPr/>
          <p:nvPr/>
        </p:nvPicPr>
        <p:blipFill>
          <a:blip r:embed="rId1"/>
          <a:stretch/>
        </p:blipFill>
        <p:spPr>
          <a:xfrm>
            <a:off x="1763640" y="620640"/>
            <a:ext cx="5370480" cy="5653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омой 5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22153 -0.55736 E">
                                      <p:cBhvr>
                                        <p:cTn id="2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153 -0.55735 C -0.22014 -0.55805 -0.21806 -0.55758 -0.21737 -0.55943 C -0.21667 -0.56128 -0.21875 -0.56313 -0.21875 -0.56498 C -0.21875 -0.56521 -0.2165 -0.57724 -0.21598 -0.57817 C -0.21355 -0.58233 -0.20747 -0.58927 -0.20747 -0.58904 C -0.20521 -0.59852 -0.20209 -0.60476 -0.19618 -0.61008 C -0.18993 -0.62234 -0.18473 -0.63182 -0.17657 -0.642 C -0.17431 -0.64477 -0.17344 -0.64916 -0.17084 -0.65125 C -0.1665 -0.65472 -0.15799 -0.6568 -0.15261 -0.65888 C -0.13212 -0.67669 -0.12205 -0.67692 -0.09618 -0.67946 C -0.08941 -0.68247 -0.08316 -0.68062 -0.07657 -0.67761 C -0.06737 -0.66535 -0.08039 -0.68154 -0.06945 -0.67183 C -0.06789 -0.67044 -0.06702 -0.66744 -0.06528 -0.66628 C -0.06268 -0.66443 -0.05678 -0.66258 -0.05678 -0.66235 C -0.0507 -0.64986 -0.05782 -0.66212 -0.04966 -0.65495 C -0.03993 -0.64639 -0.05035 -0.65263 -0.04271 -0.64385 C -0.04011 -0.64084 -0.03421 -0.63621 -0.03421 -0.63598 C -0.03299 -0.63159 -0.03143 -0.62581 -0.03143 -0.62118 C -0.03143 -0.60199 -0.03334 -0.5629 -0.03855 -0.54255 C -0.0408 -0.53399 -0.04115 -0.52798 -0.04549 -0.52174 C -0.04705 -0.51526 -0.04896 -0.51156 -0.05261 -0.5067 C -0.05591 -0.49352 -0.05296 -0.49768 -0.05955 -0.4919 C -0.0625 -0.47965 -0.07605 -0.47132 -0.0849 -0.46739 C -0.08855 -0.46276 -0.09289 -0.45883 -0.09757 -0.45606 C -0.10035 -0.45444 -0.10608 -0.45236 -0.10608 -0.45213 C -0.11424 -0.43594 -0.10313 -0.45583 -0.1132 -0.44496 C -0.11459 -0.44357 -0.11459 -0.44033 -0.11598 -0.43917 C -0.12327 -0.43293 -0.13577 -0.43131 -0.1441 -0.42992 C -0.13316 -0.42507 -0.14688 -0.42992 -0.13559 -0.42992 C -0.12813 -0.42992 -0.12066 -0.42877 -0.1132 -0.42807 C -0.1099 -0.42669 -0.10643 -0.42599 -0.1033 -0.42414 C -0.0974 -0.42067 -0.09237 -0.41558 -0.08629 -0.41304 C -0.0849 -0.41188 -0.08334 -0.41073 -0.08212 -0.40934 C -0.08108 -0.40818 -0.08039 -0.40657 -0.07934 -0.40541 C -0.07657 -0.40263 -0.07084 -0.39801 -0.07084 -0.39778 C -0.06945 -0.39246 -0.06632 -0.3876 -0.06233 -0.38483 C -0.05973 -0.38321 -0.054 -0.38113 -0.054 -0.38089 C -0.05139 -0.37581 -0.04757 -0.37164 -0.04549 -0.36609 C -0.04219 -0.35707 -0.0382 -0.34713 -0.03282 -0.33973 C -0.03195 -0.33603 -0.03091 -0.33233 -0.03004 -0.32863 C -0.02952 -0.32678 -0.02865 -0.32285 -0.02865 -0.32262 C -0.03004 -0.29718 -0.03316 -0.27151 -0.03698 -0.24607 C -0.03855 -0.23543 -0.04132 -0.22201 -0.04827 -0.216 C -0.04879 -0.21346 -0.04862 -0.21068 -0.04966 -0.2086 C -0.05157 -0.2049 -0.05434 -0.20236 -0.05678 -0.19912 C -0.05799 -0.1975 -0.05816 -0.19496 -0.05955 -0.19357 C -0.06077 -0.19241 -0.0625 -0.19241 -0.06389 -0.19172 C -0.06476 -0.19033 -0.06546 -0.18871 -0.06667 -0.18779 C -0.06789 -0.18686 -0.06962 -0.18709 -0.07084 -0.18594 C -0.07466 -0.18177 -0.07848 -0.17206 -0.08212 -0.1672 C -0.08594 -0.16212 -0.09167 -0.15633 -0.09618 -0.15217 C -0.09896 -0.1413 -0.10573 -0.14223 -0.1132 -0.13899 C -0.11459 -0.13783 -0.1158 -0.13621 -0.11737 -0.13529 C -0.12014 -0.13367 -0.12587 -0.13159 -0.12587 -0.13136 C -0.14341 -0.11586 -0.16754 -0.11424 -0.18768 -0.11286 C -0.19896 -0.11471 -0.21042 -0.11841 -0.22153 -0.12211 C -0.22553 -0.12766 -0.24184 -0.13506 -0.24827 -0.13714 C -0.25556 -0.14616 -0.25643 -0.15495 -0.25955 -0.1672 C -0.26007 -0.16929 -0.26164 -0.17067 -0.26233 -0.17275 C -0.26268 -0.17391 -0.2658 -0.18617 -0.26667 -0.18964 C -0.26823 -0.19611 -0.26858 -0.20559 -0.27223 -0.21045 E">
                                      <p:cBhvr>
                                        <p:cTn id="3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4 копия.jpg"/>
          <p:cNvPicPr/>
          <p:nvPr/>
        </p:nvPicPr>
        <p:blipFill>
          <a:blip r:embed="rId1"/>
          <a:stretch/>
        </p:blipFill>
        <p:spPr>
          <a:xfrm>
            <a:off x="1763640" y="765000"/>
            <a:ext cx="5400720" cy="5857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омой 6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8668E-006 L -0.15069 -0.6938 E">
                                      <p:cBhvr>
                                        <p:cTn id="3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69 -0.6938 L -0.28455 -0.31614 E">
                                      <p:cBhvr>
                                        <p:cTn id="43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455 -0.31614 L -0.09548 -0.31614 E">
                                      <p:cBhvr>
                                        <p:cTn id="46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5259 L -0.16649 -0.09598 E">
                                      <p:cBhvr>
                                        <p:cTn id="49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5 копия.jpg"/>
          <p:cNvPicPr/>
          <p:nvPr/>
        </p:nvPicPr>
        <p:blipFill>
          <a:blip r:embed="rId1"/>
          <a:stretch/>
        </p:blipFill>
        <p:spPr>
          <a:xfrm>
            <a:off x="1763640" y="83664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6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0.00902 L -0.1901 -0.6834 E">
                                      <p:cBhvr>
                                        <p:cTn id="5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1 -0.6834 L -0.24514 -0.44219 E">
                                      <p:cBhvr>
                                        <p:cTn id="59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514 -0.44218 C -0.23924 -0.44727 -0.2375 -0.45513 -0.23246 -0.46091 C -0.22934 -0.46461 -0.22118 -0.47225 -0.21684 -0.4741 C -0.21406 -0.47664 -0.21128 -0.47895 -0.20851 -0.4815 C -0.20712 -0.48265 -0.20677 -0.48543 -0.20573 -0.48705 C -0.19896 -0.49722 -0.20121 -0.49537 -0.19444 -0.49838 C -0.1908 -0.50277 -0.18924 -0.50578 -0.18455 -0.50786 C -0.17309 -0.52266 -0.15469 -0.52821 -0.13941 -0.53214 C -0.1349 -0.53168 -0.11354 -0.53076 -0.10573 -0.52844 C -0.1 -0.52683 -0.09444 -0.52243 -0.08871 -0.52081 C -0.08125 -0.51873 -0.07569 -0.51549 -0.0691 -0.51156 C -0.06632 -0.50994 -0.06059 -0.50786 -0.06059 -0.50763 C -0.05903 -0.50439 -0.05625 -0.50208 -0.05486 -0.49838 C -0.05156 -0.48959 -0.05243 -0.47872 -0.0493 -0.47016 C -0.04774 -0.46623 -0.04566 -0.46276 -0.04375 -0.45906 C -0.04271 -0.45721 -0.0408 -0.45328 -0.0408 -0.45305 C -0.03785 -0.44126 -0.03663 -0.43247 -0.02951 -0.42345 C -0.02604 -0.40957 -0.02587 -0.3987 -0.02951 -0.3839 C -0.02812 -0.37419 -0.02865 -0.36887 -0.03108 -0.35962 C -0.03212 -0.35592 -0.03299 -0.35199 -0.03385 -0.34829 C -0.03437 -0.34644 -0.03524 -0.34274 -0.03524 -0.34251 C -0.0375 -0.31799 -0.0434 -0.2914 -0.0493 -0.26757 C -0.05121 -0.25948 -0.05174 -0.25115 -0.05642 -0.24514 C -0.06042 -0.22918 -0.06667 -0.21531 -0.07743 -0.20583 C -0.08125 -0.1901 -0.07604 -0.20883 -0.08177 -0.19634 C -0.08246 -0.19473 -0.08246 -0.19241 -0.08316 -0.19079 C -0.08472 -0.18732 -0.08785 -0.18524 -0.0901 -0.18316 C -0.09115 -0.18131 -0.09184 -0.17923 -0.09305 -0.17761 C -0.09427 -0.17599 -0.09618 -0.17553 -0.09722 -0.17391 C -0.09948 -0.17044 -0.10087 -0.16628 -0.10278 -0.16258 C -0.10365 -0.16073 -0.10573 -0.15703 -0.10573 -0.1568 C -0.1099 -0.13968 -0.13264 -0.13714 -0.14375 -0.13251 C -0.15139 -0.12581 -0.15365 -0.12442 -0.16198 -0.12118 C -0.17326 -0.11124 -0.17743 -0.11609 -0.19444 -0.11748 C -0.2125 -0.12558 -0.19236 -0.11679 -0.21267 -0.12511 C -0.21545 -0.12627 -0.22118 -0.12881 -0.22118 -0.12858 C -0.22621 -0.13321 -0.22969 -0.1383 -0.23524 -0.142 C -0.23871 -0.14893 -0.24219 -0.15055 -0.24792 -0.1531 C -0.25121 -0.15795 -0.2533 -0.16189 -0.25486 -0.16813 C -0.25608 -0.18085 -0.25642 -0.19611 -0.26337 -0.20583 C -0.26528 -0.21323 -0.26562 -0.22109 -0.26753 -0.22826 C -0.26771 -0.22895 -0.26858 -0.22826 -0.2691 -0.22826 E">
                                      <p:cBhvr>
                                        <p:cTn id="62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1 -0.6834 C -0.18403 -0.68062 -0.17934 -0.67507 -0.17326 -0.6723 C -0.16684 -0.66374 -0.17083 -0.66721 -0.16059 -0.66281 C -0.1592 -0.66212 -0.15625 -0.66096 -0.15625 -0.66073 C -0.14566 -0.65148 -0.13177 -0.65125 -0.11979 -0.64593 C -0.10781 -0.64778 -0.09479 -0.6494 -0.08316 -0.65356 C -0.07535 -0.65634 -0.06944 -0.66143 -0.06198 -0.66466 C -0.05556 -0.67368 -0.04444 -0.66906 -0.03663 -0.676 C -0.03316 -0.679 -0.0309 -0.6834 -0.02674 -0.6834 E">
                                      <p:cBhvr>
                                        <p:cTn id="65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6.jpg"/>
          <p:cNvPicPr/>
          <p:nvPr/>
        </p:nvPicPr>
        <p:blipFill>
          <a:blip r:embed="rId1"/>
          <a:stretch/>
        </p:blipFill>
        <p:spPr>
          <a:xfrm>
            <a:off x="1835280" y="692280"/>
            <a:ext cx="5376600" cy="5545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домой 6">
            <a:hlinkClick r:id="rId3" action="ppaction://hlinksldjump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0.00902 L -0.02465 -0.5784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5784 C -0.02552 -0.60315 -0.02188 -0.62651 -0.03594 -0.64408 C -0.03768 -0.65148 -0.03941 -0.65472 -0.04427 -0.65911 C -0.04965 -0.66906 -0.05972 -0.67045 -0.06823 -0.67415 C -0.07118 -0.67553 -0.07379 -0.67831 -0.07674 -0.6797 C -0.09462 -0.679 -0.11233 -0.679 -0.13021 -0.67785 C -0.13768 -0.67738 -0.14184 -0.66998 -0.14722 -0.66467 C -0.14983 -0.66189 -0.15556 -0.65726 -0.15556 -0.65703 C -0.16198 -0.64454 -0.16997 -0.63021 -0.17952 -0.62165 C -0.18334 -0.61402 -0.18785 -0.608 -0.19358 -0.60292 C -0.1974 -0.58719 -0.19219 -0.60592 -0.19792 -0.59343 C -0.19861 -0.59182 -0.19861 -0.58973 -0.19931 -0.58788 C -0.2 -0.5858 -0.20122 -0.58418 -0.20209 -0.58233 C -0.20521 -0.56938 -0.20104 -0.58395 -0.20764 -0.571 C -0.21024 -0.56615 -0.21007 -0.55944 -0.21198 -0.55412 C -0.21476 -0.54626 -0.21632 -0.54047 -0.22031 -0.53354 C -0.22309 -0.52359 -0.22101 -0.52937 -0.22743 -0.51665 C -0.23125 -0.50879 -0.23177 -0.49977 -0.23594 -0.49214 C -0.23785 -0.48451 -0.2408 -0.47641 -0.24427 -0.46971 C -0.24479 -0.46786 -0.24531 -0.46578 -0.24566 -0.46392 C -0.24618 -0.46092 -0.24653 -0.45768 -0.24722 -0.45467 C -0.24809 -0.45074 -0.25 -0.44334 -0.25 -0.44311 C -0.25156 -0.42577 -0.25521 -0.40935 -0.2599 -0.39269 C -0.26146 -0.38044 -0.26389 -0.36702 -0.26684 -0.35523 C -0.26858 -0.33927 -0.27118 -0.32378 -0.27396 -0.30828 C -0.27327 -0.26781 -0.28004 -0.22456 -0.26268 -0.1901 C -0.26163 -0.17507 -0.26146 -0.17022 -0.25834 -0.15819 C -0.25729 -0.15449 -0.25643 -0.15056 -0.25556 -0.14686 C -0.25504 -0.14501 -0.25417 -0.14131 -0.25417 -0.14108 C -0.25347 -0.13553 -0.25452 -0.12836 -0.25139 -0.12442 C -0.2467 -0.11818 -0.23403 -0.11286 -0.22882 -0.10569 C -0.22327 -0.09806 -0.22396 -0.09598 -0.21754 -0.09436 C -0.20955 -0.09228 -0.19827 -0.09158 -0.1908 -0.09066 C -0.17552 -0.09228 -0.16268 -0.09482 -0.14722 -0.09621 C -0.14097 -0.09899 -0.13455 -0.10153 -0.12882 -0.10569 C -0.12587 -0.10777 -0.12257 -0.10985 -0.12031 -0.11309 C -0.11945 -0.11448 -0.11875 -0.1161 -0.11754 -0.11702 C -0.11077 -0.12257 -0.10278 -0.12558 -0.09497 -0.12812 C -0.0882 -0.13414 -0.08681 -0.1457 -0.08229 -0.15449 C -0.08038 -0.16189 -0.07882 -0.16513 -0.07396 -0.16952 C -0.07101 -0.17507 -0.06719 -0.17738 -0.06406 -0.1827 C -0.06094 -0.18802 -0.06059 -0.19288 -0.05695 -0.1975 C -0.05486 -0.20629 -0.04531 -0.2278 -0.04011 -0.2352 C -0.03646 -0.25 -0.04149 -0.23104 -0.03594 -0.2463 C -0.03368 -0.25232 -0.03299 -0.2574 -0.03021 -0.26318 C -0.02761 -0.27382 -0.02587 -0.28469 -0.02327 -0.2951 C -0.02222 -0.30412 -0.02101 -0.31291 -0.01893 -0.32146 C -0.01997 -0.34436 -0.02014 -0.37257 -0.03021 -0.39269 C -0.03403 -0.41397 -0.02865 -0.3883 -0.03455 -0.40588 C -0.03698 -0.41328 -0.0382 -0.4223 -0.04011 -0.43016 C -0.04184 -0.4371 -0.0507 -0.44311 -0.05556 -0.44519 C -0.06111 -0.45306 -0.06736 -0.46161 -0.07396 -0.46786 C -0.07952 -0.47318 -0.08403 -0.47225 -0.0908 -0.47526 C -0.09879 -0.47873 -0.09948 -0.48081 -0.1092 -0.48289 C -0.11771 -0.48659 -0.13594 -0.48844 -0.13594 -0.48821 C -0.14149 -0.48775 -0.14722 -0.48775 -0.15278 -0.48659 C -0.15573 -0.4859 -0.16129 -0.48289 -0.16129 -0.48266 C -0.16649 -0.47803 -0.17952 -0.47526 -0.17952 -0.47503 C -0.18785 -0.46786 -0.2007 -0.46346 -0.21059 -0.46022 C -0.21511 -0.45629 -0.21945 -0.45329 -0.22465 -0.45097 C -0.23108 -0.44195 -0.22327 -0.45167 -0.2316 -0.44519 C -0.23663 -0.44126 -0.24149 -0.43571 -0.24566 -0.43016 C -0.24896 -0.42577 -0.25417 -0.41513 -0.25417 -0.4149 E">
                                      <p:cBhvr>
                                        <p:cTn id="75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7 копия.jpg"/>
          <p:cNvPicPr/>
          <p:nvPr/>
        </p:nvPicPr>
        <p:blipFill>
          <a:blip r:embed="rId1"/>
          <a:stretch/>
        </p:blipFill>
        <p:spPr>
          <a:xfrm>
            <a:off x="1719360" y="692280"/>
            <a:ext cx="5556240" cy="5473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6"/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1 -0.00162 L -0.25313 -0.62049 E">
                                      <p:cBhvr>
                                        <p:cTn id="8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13 -0.62049 C -0.24635 -0.62881 -0.24618 -0.64639 -0.24323 -0.65795 C -0.24288 -0.65934 -0.23802 -0.66466 -0.2375 -0.66558 C -0.23438 -0.6709 -0.23194 -0.67692 -0.22917 -0.68247 C -0.22708 -0.68686 -0.22135 -0.68385 -0.21788 -0.68617 C -0.20278 -0.69588 -0.19948 -0.69912 -0.18125 -0.7012 C -0.17274 -0.70027 -0.16597 -0.70166 -0.15868 -0.6975 C -0.14531 -0.68987 -0.14306 -0.679 -0.12622 -0.67484 C -0.12066 -0.66998 -0.11806 -0.66674 -0.11215 -0.66373 C -0.10938 -0.66235 -0.10382 -0.66003 -0.10382 -0.6598 C -0.09497 -0.65194 -0.08438 -0.65286 -0.07413 -0.6561 C -0.06858 -0.66142 -0.06528 -0.66813 -0.05868 -0.67113 C -0.04965 -0.68316 -0.03889 -0.69287 -0.02622 -0.69565 C -0.01736 -0.70744 -0.02622 -0.69496 -0.01927 -0.70675 C -0.0184 -0.70814 -0.01649 -0.71068 -0.01649 -0.71045 E">
                                      <p:cBhvr>
                                        <p:cTn id="85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49 -0.71045 L -0.25261 -0.10222 E">
                                      <p:cBhvr>
                                        <p:cTn id="88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72 -0.4105 L -0.06406 -0.4105 E">
                                      <p:cBhvr>
                                        <p:cTn id="91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6:57:48Z</dcterms:created>
  <dc:creator>user</dc:creator>
  <dc:description/>
  <dc:language>en-US</dc:language>
  <cp:lastModifiedBy>Альфия Галлямова</cp:lastModifiedBy>
  <dcterms:modified xsi:type="dcterms:W3CDTF">2022-12-10T15:33:33Z</dcterms:modified>
  <cp:revision>59</cp:revision>
  <dc:subject/>
  <dc:title>Слайд 1</dc:title>
</cp:coreProperties>
</file>