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15425" cy="6829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C51-A109-4E39-B07F-1C544E85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DA0-FD58-40A5-92DA-8B328602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6ABBA-699A-4145-A392-64794970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3F635-2284-4096-869D-831F8496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24AF7-718C-46F9-B027-D4033102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AA583-B1F1-44FF-A68F-99D2214A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5B28F-D3BF-4007-BDFE-E284FC6F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F594D-E93D-4603-94B1-DDD6597E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C3769-6307-442A-AA69-D89E7125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662F8-B5AB-441D-B27F-6D561CA6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229A7-1A80-4376-B17B-A2701266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B7307-7A37-4074-A198-FEEF2E66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1F6-F235-40E7-9892-10A49966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EDD0C-7C9E-476A-8AC4-EDE08EE6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40CE1-0408-4A07-81FD-596371D0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65306-0F2A-4006-99C2-BED28A9A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5EB6B-192B-4D1A-9EC2-1632FD92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322B6-6B6B-410F-A21E-9132B8E2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7FFB8-4371-43C8-86E5-31CA3605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0820B-6FAA-4D30-9C09-2EB93411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5C24E-0AC6-4013-8212-DA27D3EC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1BAF0-800D-4E86-9387-15274B00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57CF8-9FF5-49DE-84C5-A45E14AF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D36-85AB-4861-B898-6B8B6533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429CE-4CA9-4928-B75E-FF8E35E4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9AF0A-1640-42ED-880F-1FD27156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B7363-82DE-42D0-95EF-2A7B1218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2DD81-AE3B-4647-B5C0-F6F8305C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E5B18-41F9-483E-8906-48A4EAF2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ACD47-FCA2-4F10-AE0E-8DFB8A18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0DCB9-D7E6-4D55-8451-8C9367D2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9B8A4-463E-4F46-9AA5-25C3D5F0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1D1DF-6C94-441A-82D3-C6788ECF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B6D8B-246D-4333-A569-81F3B6D5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85CE-E268-4686-8C94-0CBC4646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94B22-95D6-42EA-967E-EFBB377F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93ECA-E238-4767-97EE-647B7D58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39A57-4F5F-4FFF-869B-18525C7B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A6CCB-3090-488A-A4FC-D4A67C0A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C0A2D-04C5-4A0A-B56E-4497B74E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4B410-B8BE-4A74-BB70-D1BD29AF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922C1-7018-43B9-B69F-885A66AA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38C6D-57F7-4087-A23B-3E0C1306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18FF0-CA3E-481D-874F-FC2E6D7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40D6D-63BF-4A45-A4DC-64F700C7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40E5-0FB5-4D9D-A589-FD776146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2AD07-4311-4A46-988E-FC652A82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723A5-EC42-4B77-A931-21FA704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C9F9B-9B36-4C6E-BC4B-EBA83339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6C09F-6993-4522-9396-B1A4FAB5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FEC6E-2139-4C1D-A9BC-BEFC27B7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9437F-52E3-4BC2-AD01-CBA490A7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903BF-E30F-4CFA-9322-D1854753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8064C-0179-4B46-9317-67999D04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84204-1189-47D3-9AC5-28188E2E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6AC81-7FFF-4F73-8576-BFB1F6F3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C4DF-AF52-4F7D-98A2-32570040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4A407-03C6-4D8F-A711-303B16E6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BE84C-507E-4D02-AC42-78C6C407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D461D-2FAD-4088-B531-4D0A8524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702D6-354C-46A2-B427-B50472CA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B6D9D-3658-45F7-8B62-67C873E0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6B23D-3D25-40AB-A146-398DF627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0C0AC-544C-4026-8B66-D957072D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41517-C12F-4CC4-9E69-B5B4D51A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93D62-809C-40C6-815D-DCA0B4EE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1282A-88E7-4B49-9DB8-E3FA973B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6130-63D6-4AA9-A72D-1D169361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13AAF-0695-4847-9A48-E736268C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454E0-97F3-4323-AC21-DE2AAD05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CF38E-47DE-47DB-AF15-343BDE75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699E6-6884-4F9F-A37C-097ADD88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B610A-8952-4898-AA49-673F730E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BFD5B-7286-46F2-969F-3062CCFD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83B21-79A2-4959-96EF-BFD5CACC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BF547-8F46-497B-A25D-1A9206CA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DB508-68AD-474C-921A-C58BC553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6FA18-97F7-4078-A8F0-D09252D5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3AF3-9AA3-44EA-B347-7596B393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ED143-DA6A-4DF9-92FD-CEFC7BDA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84A2A-4701-47FB-93D9-83C76E1E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84CC7-3A1F-4007-B4B5-E8820657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6E295-77D1-4378-8231-94A23F17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ADA0F-3736-480B-8522-26D712F3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53988-064F-4033-A07F-CC407C14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2476C-C993-43D5-991F-B282FB0F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7BCBE-03A2-44D5-8D93-5DB08CD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2F4C4-F581-496B-BDA3-2E89565A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541F7-3576-4D80-9A23-A7BFBC6D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1A8D-50DE-434F-9B0E-21F53997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BDB4E-10DE-484F-B905-F6B4ECD6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53CE-162A-40C4-8109-BF88C7FB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AB2-9FFE-456B-A12A-16657ECB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2A0D-0A04-461D-8B15-1BDB8788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FC93-3208-44A7-8EA9-E7818B23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3FD7-2769-41A3-865F-5272E0A7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531B-009D-42B1-8518-37C102AB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CDB9-58E7-4E30-9772-D32EB9FB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563E-7C8A-4A4F-A58E-ACA92134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73AA-62A8-4537-AF38-BD3322E4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A09C-5A50-499D-B5A3-A6ED529F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EEA7-7460-40DC-B0E0-294E099A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74CA-8CFF-4841-8637-45230648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E3D-1429-43EB-9120-F0B84682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FA9C-1482-48EE-A0B8-55C5B27C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89F0-93A4-43EF-A6C5-9F9841F5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C1F8-104B-492D-891D-84B3BC3F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310C-E7DD-4AEF-B41F-B086AEC9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1745C-1E3C-4F3A-A0E0-6C54D8AA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1816-5546-4287-9E50-BE73B0B5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2D12-FEA3-4206-849E-6C4AAF6A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B831-E593-4AFE-8DDE-4A4812C9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3A40-6F1F-43EC-B039-E9195DFB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59078-5795-4572-AC40-4D8DE46B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235-D383-4F0D-9170-CE9DF784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76FA0-D5A8-4E4F-AE6D-5A2C9620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570A5-0C3A-4047-A15B-6ADD53E0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8D2A-F85C-476C-9FF0-1B9B20A5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4E954-9657-4548-96D4-1C95559E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70B8-3063-4214-9CCB-69BB418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7EAC-2F2B-4F6E-B756-41225662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DDE9C-F7F5-4134-B3A9-511E4DEF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3DCD2-1AE8-41DB-9D20-5C33E3B7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7A44A-A5E5-46DE-9BA0-3FCEA35D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0B903-C770-44E9-A07D-2716D9B9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1FE-BA6C-48EF-B992-04AB70D5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CF87-22EE-414E-9048-19C927BE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43138-57C8-4B89-A668-D839503A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7628-32FE-4673-B0F1-D5166002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CE153-2886-4C8A-8162-BC824B64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D2908-7B58-47EB-8192-B622C0FC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71595-F571-4728-9FAA-CDDCFEF6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2068D-A09D-4423-B375-DD4DE173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B6C4C-EEBC-47D3-B7F2-C2421A6D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B934-075D-403A-8E0C-B025EE47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D9B17-79B7-449F-B63C-22E116B2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E30-EA6D-4B97-A81A-65A1C86F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C3BB6-639B-4B27-B20F-7E8D447A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C38C3-F875-4171-8C5F-850B380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CEA6-2B39-4BFF-B8FF-27ED43E7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7D0D8-BCCB-45A1-8241-1CE106F9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B0772-4E27-4B1B-BC65-9CE3F1E5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D601C-B230-437B-9669-F5B9AED9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A7007-1CFD-428F-A3FD-11C2866C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FC96B-7F34-48AF-8F05-EFC756F3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D48DE-A653-479F-A193-E3F24857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1FC7-AE15-4259-A4C6-A2F32229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82E-B951-43E3-B40F-711A4AC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F8405-34A4-467A-B070-4746750B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53D2A-A05E-45F5-8F53-ED0CCC78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E584B-CF47-419F-B183-49240B12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E0490-207E-43B6-93CB-09114B02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7B3A4-D4EF-4B5E-A0B5-93B01C34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10872-C63B-4FB7-A12A-5004CD78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7CE46-0D4E-41E5-B9DD-896FD4B2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FFBD6-15B0-41A8-A65D-CCB0486C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4E994-0E41-41C8-9250-05E5322A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6AED6-ACF6-40EF-95EC-1B26B4A8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737-844B-4E7B-AAAC-4C60C4B4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68355-BE34-409C-9731-06C8D99C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5FD2F-8373-4F0D-8956-B3889C14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B533C-3237-45DF-9AF6-A5D9D9EC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E8389-A3D7-4308-BD99-C522E404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A2230-1A67-44AB-AC1B-1F01D534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9A133-1E0D-488C-8428-88887253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CDB13-879F-4A45-A5DF-6C2373BB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93F35-00BB-4992-BD6D-F0507FB8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E08C8-1A92-4806-AAB8-1EA5125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F7D49-850F-4A56-A55C-90E2946C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B76-AFBE-4B28-8561-D8AC54A6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D4009-FB74-4D4E-8334-EB61BBD6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F82E5-F63B-4F47-85AD-CBE9915F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6369C-2970-400A-ADBD-F7C603DA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6A23F-2CC9-46B6-950B-7AFC6696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AC178-2FFF-47D0-99FC-29E83023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C9BF1-2F13-4828-8602-19661F3D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F7557-D7C6-4CFF-9A41-93C03189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72F11-7DBB-4CF4-9752-92BF2F1E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B9F32-3132-4214-BEE5-C41A52EA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C216A-E6BF-4CFA-8F27-353D9B8D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2520" y="26964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9D429F6-4828-4B67-9675-D9451495B8BC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9280" y="26640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8"/>
          </p:nvPr>
        </p:nvSpPr>
        <p:spPr>
          <a:xfrm>
            <a:off x="448920" y="6342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9"/>
          </p:nvPr>
        </p:nvSpPr>
        <p:spPr>
          <a:xfrm>
            <a:off x="3116160" y="6342120"/>
            <a:ext cx="2889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30"/>
          </p:nvPr>
        </p:nvSpPr>
        <p:spPr>
          <a:xfrm>
            <a:off x="6539040" y="6342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5E3941B-FCC6-462C-AB5D-A2CB5D286375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9280" y="26640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31"/>
          </p:nvPr>
        </p:nvSpPr>
        <p:spPr>
          <a:xfrm>
            <a:off x="448920" y="6342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32"/>
          </p:nvPr>
        </p:nvSpPr>
        <p:spPr>
          <a:xfrm>
            <a:off x="3116160" y="6342120"/>
            <a:ext cx="2889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33"/>
          </p:nvPr>
        </p:nvSpPr>
        <p:spPr>
          <a:xfrm>
            <a:off x="6539040" y="6342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A233EC4-C53D-43F8-9AA7-1892B048816B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2520" y="270000"/>
            <a:ext cx="82166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34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35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36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047F2F1-2200-4BDC-8B53-17EE40FD83CB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2520" y="270000"/>
            <a:ext cx="82166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37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38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9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E1C36B1-AE53-4CE1-A042-67812DACEB8B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0360" y="267840"/>
            <a:ext cx="82155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40"/>
          </p:nvPr>
        </p:nvSpPr>
        <p:spPr>
          <a:xfrm>
            <a:off x="448920" y="6342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41"/>
          </p:nvPr>
        </p:nvSpPr>
        <p:spPr>
          <a:xfrm>
            <a:off x="3116160" y="6342120"/>
            <a:ext cx="2889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42"/>
          </p:nvPr>
        </p:nvSpPr>
        <p:spPr>
          <a:xfrm>
            <a:off x="6539040" y="6342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264E718-FDD7-4491-B457-A81F15140AD9}" type="slidenum"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2520" y="270000"/>
            <a:ext cx="82166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dt" idx="43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44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45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E77C2A6-95AF-4C36-A7DE-8D071C5CAEA6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2160" y="269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452520" y="6347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5"/>
          </p:nvPr>
        </p:nvSpPr>
        <p:spPr>
          <a:xfrm>
            <a:off x="3119040" y="6347880"/>
            <a:ext cx="28926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6"/>
          </p:nvPr>
        </p:nvSpPr>
        <p:spPr>
          <a:xfrm>
            <a:off x="6544800" y="6347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E9AA3A-5DAC-45E4-BB2F-D64565C4C71A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0360" y="2678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7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8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9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12B726C-E3C9-4C89-9FCA-62C12E906DF2}" type="slidenum"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0"/>
          </p:nvPr>
        </p:nvSpPr>
        <p:spPr>
          <a:xfrm>
            <a:off x="452520" y="6347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11"/>
          </p:nvPr>
        </p:nvSpPr>
        <p:spPr>
          <a:xfrm>
            <a:off x="3119040" y="6347880"/>
            <a:ext cx="28926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12"/>
          </p:nvPr>
        </p:nvSpPr>
        <p:spPr>
          <a:xfrm>
            <a:off x="6544800" y="6347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CD2543-509B-4FA2-B3AC-10EFA9EC7C6C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0360" y="2678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3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4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5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181447F-1F94-47B0-9DB0-C078A3D2FFE9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2520" y="26964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6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7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8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D2030B9-B2DA-4B6B-8ED0-52C15EF34EDF}" type="slidenum"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9280" y="26640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9"/>
          </p:nvPr>
        </p:nvSpPr>
        <p:spPr>
          <a:xfrm>
            <a:off x="448920" y="6342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20"/>
          </p:nvPr>
        </p:nvSpPr>
        <p:spPr>
          <a:xfrm>
            <a:off x="3116160" y="6342120"/>
            <a:ext cx="2889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21"/>
          </p:nvPr>
        </p:nvSpPr>
        <p:spPr>
          <a:xfrm>
            <a:off x="6539040" y="6342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4349891-9747-4664-9E2A-FD664A48783C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2520" y="270000"/>
            <a:ext cx="82166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dt" idx="22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23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24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ADC1E77-1A48-4B6B-B694-1A2FA9915391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25"/>
          </p:nvPr>
        </p:nvSpPr>
        <p:spPr>
          <a:xfrm>
            <a:off x="452520" y="6347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26"/>
          </p:nvPr>
        </p:nvSpPr>
        <p:spPr>
          <a:xfrm>
            <a:off x="3119040" y="6347880"/>
            <a:ext cx="28926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7"/>
          </p:nvPr>
        </p:nvSpPr>
        <p:spPr>
          <a:xfrm>
            <a:off x="6544800" y="6347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5BD9AD-B632-4735-B998-A30F33DC267C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body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C:\Users\Админ\Desktop\shablon-deti-prevyu-2.png"/>
          <p:cNvPicPr/>
          <p:nvPr/>
        </p:nvPicPr>
        <p:blipFill>
          <a:blip r:embed="rId1"/>
          <a:stretch/>
        </p:blipFill>
        <p:spPr>
          <a:xfrm>
            <a:off x="-17640" y="-17640"/>
            <a:ext cx="9174240" cy="6888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708120" y="3565440"/>
            <a:ext cx="7781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r>
              <a:rPr b="1" lang="ru-RU" sz="4800" spc="-1" strike="noStrike">
                <a:solidFill>
                  <a:srgbClr val="008000"/>
                </a:solidFill>
                <a:latin typeface="Calibri"/>
                <a:ea typeface="Calibri"/>
              </a:rPr>
              <a:t>Развитие речи детей 2-3 лет</a:t>
            </a: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нсультация для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4080" y="4994280"/>
            <a:ext cx="456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Подготовила воспитатель Попова Р.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6560" y="279360"/>
            <a:ext cx="64342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ГБДОУ детский сад №72 комбинированного вид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Калининского района Санкт-Петербург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9400" y="-138240"/>
            <a:ext cx="304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49400" y="-138240"/>
            <a:ext cx="304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9280" y="26640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2520" y="1593720"/>
            <a:ext cx="4033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38600" y="1593720"/>
            <a:ext cx="40305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0720" y="3975120"/>
            <a:ext cx="40338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637160" y="3975120"/>
            <a:ext cx="403056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0"/>
            <a:ext cx="9126360" cy="69832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601560" y="2039760"/>
            <a:ext cx="81345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92000" y="2700360"/>
            <a:ext cx="760428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800080"/>
                </a:solidFill>
                <a:latin typeface="Arial"/>
                <a:ea typeface="Arial"/>
              </a:rPr>
              <a:t>Игры с различными предметами и материалами. </a:t>
            </a:r>
            <a:r>
              <a:rPr b="0" lang="ru-RU" sz="19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800080"/>
                </a:solidFill>
                <a:latin typeface="Arial"/>
                <a:ea typeface="Arial"/>
              </a:rPr>
              <a:t>«Яичко»</a:t>
            </a:r>
            <a:r>
              <a:rPr b="1" lang="ru-RU" sz="1900" spc="-1" strike="noStrike">
                <a:solidFill>
                  <a:srgbClr val="800080"/>
                </a:solidFill>
                <a:latin typeface="바탕"/>
                <a:ea typeface="Arial"/>
              </a:rPr>
              <a:t> </a:t>
            </a: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(катаем орех или любой шарик между ладошкам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Маленькая птичка принесла яичко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Мы с яичком поиграем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Мы яичко покатаем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Покатаем, не съедим, его птичке отдади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800080"/>
                </a:solidFill>
                <a:latin typeface="Arial"/>
                <a:ea typeface="Arial"/>
              </a:rPr>
              <a:t>"Медведь"</a:t>
            </a: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 (с предметом) (медленно засовывайт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платочек одним пальцем в кулак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Лез медведь в свою берлогу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Все бока свои помял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Эй, скорее, на подмогу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Мишка, кажется, застрял! (с силой вытянуть платочек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6861240" y="3413160"/>
            <a:ext cx="22525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1440" y="1440"/>
            <a:ext cx="9155160" cy="684720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209520" y="138240"/>
            <a:ext cx="821052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Дыхательные упражнения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Цель: развитие речевого дыхания, силы голоса, тренировка мышц губ.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Родитель следит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 чтобы во время вдоха у детей не поднимались плечи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1. «Подуем на снежинк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Вырезать из салфетки тонкую и легкую снежинку. Положить на ладонь ребенку. Ребенок дует, чтобы снежинка слетела с ладо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2. «Бабочка летает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Сделать совместно с ребенком бабочку из тонкой бумаги (обертка от конфет, салфетка и т.д.). Привязать нитку. Ребенок держит за ниточку и дует на баб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3. «Плывет, плывет кораблик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Налить в тазик или ванну воду положить корабл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и предложить ребенку подуть на корабл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C:\Users\Админ\Desktop\unnamed.png"/>
          <p:cNvPicPr/>
          <p:nvPr/>
        </p:nvPicPr>
        <p:blipFill>
          <a:blip r:embed="rId2"/>
          <a:stretch/>
        </p:blipFill>
        <p:spPr>
          <a:xfrm>
            <a:off x="7348680" y="1995480"/>
            <a:ext cx="1590480" cy="15908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C:\Users\Админ\Desktop\109176243_13.png"/>
          <p:cNvPicPr/>
          <p:nvPr/>
        </p:nvPicPr>
        <p:blipFill>
          <a:blip r:embed="rId3"/>
          <a:stretch/>
        </p:blipFill>
        <p:spPr>
          <a:xfrm>
            <a:off x="6348240" y="4281480"/>
            <a:ext cx="308484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0" y="0"/>
            <a:ext cx="9155160" cy="68468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241200" y="54000"/>
            <a:ext cx="867744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alibri"/>
                <a:ea typeface="Calibri"/>
              </a:rPr>
              <a:t>Игры – подражания с речевым сопровождени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Цель: упражнять детей в отчетливом произношении отдельных звуков, слов или фраз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alibri"/>
                <a:ea typeface="Calibri"/>
              </a:rPr>
              <a:t>«Птичий двор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Наши уточки с утра – «Кря-кря-кря!», «Кря-кря-кря!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Наши гуси у пруда – «Га-га-га!», «Га-га-га!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Наши гуленьки вверху – «Гу-гу-гу!», «Гу-гу-гу!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Наши курочки в окно – «Ко-ко-ко!», «Ко-ко-ко!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А наш Петя-петушок рано-рано поутр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Нам споет «Ку-ка-ре-ку!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alibri"/>
                <a:ea typeface="Calibri"/>
              </a:rPr>
              <a:t>«Произношение гласных звуков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- А-а-а (плач ребенка, поет певица, уколол пальчик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девочка укачивает куклу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- О-о-о (разболелся зуб, удивление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- У-у-у (гудит поезд, воет волк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-И-и-и (жеребенок ржет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Звуки произносятся на выдохе.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Клипарт &quot;СКАЗОЧНЫЕ ПЕТУХИ&quot; -символ 2017 года. Обсуждение на ..."/>
          <p:cNvPicPr/>
          <p:nvPr/>
        </p:nvPicPr>
        <p:blipFill>
          <a:blip r:embed="rId2"/>
          <a:stretch/>
        </p:blipFill>
        <p:spPr>
          <a:xfrm flipH="1">
            <a:off x="6339960" y="3419640"/>
            <a:ext cx="2786040" cy="33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0" y="0"/>
            <a:ext cx="9155160" cy="68468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36440" y="208080"/>
            <a:ext cx="871056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Логоритмические игры с самомассаж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Во время игр с самомассажем взрослый читает стихотворение, сопровождая слова движениями, ребёнок повторя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«Лягуша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Лягушата встали, потянулись и друг другу улыбнули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Выгибают спинки, спинки – трости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Ножками затопали, ручками захлопа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Постучим ладошкой по ручкам немножк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А потом, а потом грудку мы чуть-чуть побь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Хлоп-хлоп тут и там и немного по бок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Хлопают ладошки нас уже по нож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Погладили ладошки и ручки и нож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Лягушата скажут: «Ква! Хлопать весело,друзья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9400" y="-138240"/>
            <a:ext cx="304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C:\Users\Админ\Desktop\9_818470.png"/>
          <p:cNvPicPr/>
          <p:nvPr/>
        </p:nvPicPr>
        <p:blipFill>
          <a:blip r:embed="rId2"/>
          <a:stretch/>
        </p:blipFill>
        <p:spPr>
          <a:xfrm>
            <a:off x="6375240" y="3639960"/>
            <a:ext cx="2843280" cy="32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0" y="0"/>
            <a:ext cx="9155160" cy="68454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258840" y="317520"/>
            <a:ext cx="878508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Calibri"/>
                <a:ea typeface="Calibri"/>
              </a:rPr>
              <a:t>Пальчиковые игр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Стимулируют речевое развитие, улучшают артикуляционную моторику, подготавливают кисть к письму и повышают работоспособность коры головного мозг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Calibri"/>
                <a:ea typeface="Calibri"/>
              </a:rPr>
              <a:t>"Апельсин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Мы делили апельси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Много нас, а он один. (Дети сжимают и разжимают пальцы обеих рук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Эта долька - для ежа. Эта долька - для стриж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Эта долька - для утят. Эта долька - для котя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Эта долька - для бобра. (По очереди загибают пальцы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А для волка - кожура. (Сжимают пальцы обеих рук в кулак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Он сердит на нас - бед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Разбегайтесь – Кто куда! (Резко разжимают пальцы, сжатые в кулак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Calibri"/>
                <a:ea typeface="Calibri"/>
              </a:rPr>
              <a:t>"Две сороконожки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Две сороконожки бежали по дорожк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Бежали, бежали, друг друга повстреча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Друг друга повстречали, крепко обнима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Так крепко обнимали, что их с трудом разня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9400" y="-138240"/>
            <a:ext cx="304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6043680" y="4686480"/>
            <a:ext cx="283356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0" y="0"/>
            <a:ext cx="9151920" cy="684360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492120" y="328680"/>
            <a:ext cx="818820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Моторные центры речи в коре головного мозга человека находятся рядом с моторными центрами пальцев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поэтому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развивая речь и стимулирую моторику пальцев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мы передаём импульсы в речевые центры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что активизирует реч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Arial"/>
                <a:ea typeface="Calibri"/>
              </a:rPr>
              <a:t>Игры с крупой</a:t>
            </a:r>
            <a:r>
              <a:rPr b="1" lang="ru-RU" sz="2500" spc="-1" strike="noStrike">
                <a:solidFill>
                  <a:srgbClr val="800080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Возьмите яркий поднос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Тонким слоем рассыпьте любую мелкую крупу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Проведите пальчиком ребенка по крупе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Позвольте малышу самому нарисовать несколько хаотичных линий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Затем попробуйте вместе нарисовать рисунок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Крупу можно пересып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искать в ней предметы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пересып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сортиров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перекладыв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собир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рисов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делать аппликацию и многое другое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06920" y="277920"/>
            <a:ext cx="2182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C:\Users\Админ\Desktop\image.jpg"/>
          <p:cNvPicPr/>
          <p:nvPr/>
        </p:nvPicPr>
        <p:blipFill>
          <a:blip r:embed="rId2"/>
          <a:stretch/>
        </p:blipFill>
        <p:spPr>
          <a:xfrm>
            <a:off x="546120" y="4794120"/>
            <a:ext cx="3602160" cy="19116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C:\Users\Админ\Desktop\v-chem-polza-igr-s-krupoj.jpg"/>
          <p:cNvPicPr/>
          <p:nvPr/>
        </p:nvPicPr>
        <p:blipFill>
          <a:blip r:embed="rId3"/>
          <a:stretch/>
        </p:blipFill>
        <p:spPr>
          <a:xfrm>
            <a:off x="4635360" y="4794120"/>
            <a:ext cx="412128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0" y="0"/>
            <a:ext cx="9155160" cy="6846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636480" y="971640"/>
            <a:ext cx="759636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Подберите пуговицы разного цвета и размера. Сначала выложите рисунок сами, затем попросите ребенка сделать то же самостоятельно. После того, как ребенок научится выполнять задание без вашей помощи, предложите ему придумывать свои варианты рисунк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65440" y="422280"/>
            <a:ext cx="2392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900" spc="-1" strike="noStrike">
                <a:solidFill>
                  <a:srgbClr val="800080"/>
                </a:solidFill>
                <a:latin typeface="Arial"/>
                <a:ea typeface="Calibri"/>
              </a:rPr>
              <a:t>Игры с пуговицами</a:t>
            </a:r>
            <a:r>
              <a:rPr b="1" lang="ru-RU" sz="2700" spc="-1" strike="noStrike">
                <a:solidFill>
                  <a:srgbClr val="80008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C:\Users\Админ\Desktop\Без названия.jpg"/>
          <p:cNvPicPr/>
          <p:nvPr/>
        </p:nvPicPr>
        <p:blipFill>
          <a:blip r:embed="rId2"/>
          <a:stretch/>
        </p:blipFill>
        <p:spPr>
          <a:xfrm>
            <a:off x="2379600" y="2981160"/>
            <a:ext cx="4353120" cy="32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0"/>
            <a:ext cx="9136080" cy="69930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709560" y="2781360"/>
            <a:ext cx="7712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Разговаривайте со своим ребёнком во время всех видов деятельности, когда делаете уборку, готовите еду, собираетесь на прогулку, покупаете продукты и т.д. Каждый день читайте стихи, сказки, рассматривайте и обсуждайте картинки и больше играйт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Удачи вам и вашим детям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2160" y="418680"/>
            <a:ext cx="8226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2520" y="159552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0840" y="-139680"/>
            <a:ext cx="304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0"/>
            <a:ext cx="9136080" cy="6993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81200" y="2633760"/>
            <a:ext cx="7686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У большинства детей, поступающих в дошкольное учреждение, выявляется неблагополучное речевое развитие. Условно их можно разделить на три группы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• </a:t>
            </a: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дети, у которых речь совсем отсутствует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• </a:t>
            </a: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дети, которые говорят отдельными словам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• </a:t>
            </a: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дети, которые говорят фразами, но их речь невнятная и с грамматическими ошибк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И лишь несколько детей, поступающих в детский сад, имеют речь, соответствующую нормам орфоэпии и понятную окружающи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0360" y="417240"/>
            <a:ext cx="82249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50720" y="1593720"/>
            <a:ext cx="82249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Фоны для оформления и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32840" cy="70581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08080" y="2416320"/>
            <a:ext cx="86882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К 2 годам - не менее 50 слов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Речь малыша должна быть относительно понятной для окружающих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Но на самом деле речь детей раннего возраста оставляет желать лучшего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Это объясняется причинами, имеющими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либо биологическую природу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либо социальную природу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317520"/>
            <a:ext cx="9136080" cy="69962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709560" y="2409840"/>
            <a:ext cx="761364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09560" y="3852720"/>
            <a:ext cx="76406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7560" y="2922480"/>
            <a:ext cx="806472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Особенное внимание следует уделить воздействию </a:t>
            </a:r>
            <a:r>
              <a:rPr b="1" lang="ru-RU" sz="2300" spc="-1" strike="noStrike" u="sng">
                <a:solidFill>
                  <a:srgbClr val="008000"/>
                </a:solidFill>
                <a:uFillTx/>
                <a:latin typeface="Calibri"/>
                <a:ea typeface="Calibri"/>
              </a:rPr>
              <a:t>социальных факторов</a:t>
            </a: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 u="sng">
                <a:solidFill>
                  <a:srgbClr val="008000"/>
                </a:solidFill>
                <a:uFillTx/>
                <a:latin typeface="Calibri"/>
                <a:ea typeface="Calibri"/>
              </a:rPr>
              <a:t>Коммуникативная депривация - </a:t>
            </a: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недостаточность эмоционального и речевого общения ребенка с близкими людьми. Дети, с которыми мало общаются, имеют отставание в речевом развити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Уровень развития речи  влияет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на интеллектуальное развитие ребенк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на формирование личности и характера ребен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0360" y="417240"/>
            <a:ext cx="82249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50720" y="1593720"/>
            <a:ext cx="82249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Фоны для оформления и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32840" cy="7058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189000" y="2416320"/>
            <a:ext cx="878688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Calibri"/>
                <a:ea typeface="Calibri"/>
              </a:rPr>
              <a:t>Два года —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Calibri"/>
                <a:ea typeface="Calibri"/>
              </a:rPr>
              <a:t>это критический период в речевом развитии ребенк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700" spc="-1" strike="noStrike" u="sng">
                <a:solidFill>
                  <a:srgbClr val="008000"/>
                </a:solidFill>
                <a:uFillTx/>
                <a:latin typeface="Calibri"/>
                <a:ea typeface="Calibri"/>
              </a:rPr>
              <a:t>Сензитивный период</a:t>
            </a:r>
            <a:r>
              <a:rPr b="1" lang="ru-RU" sz="2700" spc="-1" strike="noStrike">
                <a:solidFill>
                  <a:srgbClr val="008000"/>
                </a:solidFill>
                <a:latin typeface="Calibri"/>
                <a:ea typeface="Calibri"/>
              </a:rPr>
              <a:t>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Calibri"/>
                <a:ea typeface="Calibri"/>
              </a:rPr>
              <a:t>этап возрастного развития ребенка, наиболее благоприятный для формирования определенных психических функци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Calibri"/>
                <a:ea typeface="Calibri"/>
              </a:rPr>
              <a:t>От того, как в сензитивный период организуется речевое воздействие на ребенка, зависит его речевая и познавательная деятельнос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316080"/>
            <a:ext cx="9132840" cy="69944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708120" y="2408400"/>
            <a:ext cx="761184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8120" y="3851280"/>
            <a:ext cx="763884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6120" y="2921040"/>
            <a:ext cx="80629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Игры и упражнения по развитию речи формиру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фонетико-фонематическую базу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развивают фразовую и связную речь, речевую мотори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способствуют сенсорному развитию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активизируют развитие высших психических функци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познавательной деятель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формируют процесс социальной адаптации у дете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учат играть с игрушками и сверстни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И</a:t>
            </a: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гры на основе стихов развивают чувство ритма и помогают работать над дикцией детей. Но главное условие - это должна быть игра, тогда ребенку будет интерес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0"/>
            <a:ext cx="9132840" cy="69897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708120" y="2408400"/>
            <a:ext cx="76388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08120" y="2562120"/>
            <a:ext cx="7615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Виды игр по развитию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разнообразные игры (игры-инсценировки, звукоподражательные игры, игры-потешки, хороводы, игры с сюжетными игрушками и др.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игры-занятия с предметами и сюжетными картинк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рассказывание и чтение сказок, стихов, историй; пересказывание их вместе с детьм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рассматривание и обсуждение иллюстраций к произведения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разгадывание загадок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игры, направленные на развитие мелкой мотор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49280" y="415440"/>
            <a:ext cx="82231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9280" y="1592280"/>
            <a:ext cx="82231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Фоны для оформления и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29600" cy="70549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06280" y="2414520"/>
            <a:ext cx="868680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800080"/>
                </a:solidFill>
                <a:latin typeface="Arial"/>
                <a:ea typeface="Calibri"/>
              </a:rPr>
              <a:t>Упражнения для развития мышц губ</a:t>
            </a:r>
            <a:r>
              <a:rPr b="1" lang="ru-RU" sz="2700" spc="-1" strike="noStrike">
                <a:solidFill>
                  <a:srgbClr val="800080"/>
                </a:solidFill>
                <a:latin typeface="Arial"/>
                <a:ea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«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Calibri"/>
              </a:rPr>
              <a:t>Улыбнись маме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»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«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Calibri"/>
              </a:rPr>
              <a:t>Поцелуй маму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»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Calibri"/>
              </a:rPr>
              <a:t> 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-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Попросите малыша поцеловат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вас в щечку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после того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как малыш научилс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вытягивать губки трубочко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и растягивать их в улыбке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Упражнение и приятное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и полезное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!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5734080" y="480384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0360" y="2678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3960" y="1595520"/>
            <a:ext cx="4033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640400" y="1595520"/>
            <a:ext cx="40320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2520" y="3976560"/>
            <a:ext cx="403380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38600" y="3976560"/>
            <a:ext cx="403236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0"/>
            <a:ext cx="9129600" cy="698652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603360" y="2041560"/>
            <a:ext cx="813600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700" spc="-1" strike="noStrike">
                <a:solidFill>
                  <a:srgbClr val="800080"/>
                </a:solidFill>
                <a:latin typeface="Calibri"/>
                <a:ea typeface="Arial"/>
              </a:rPr>
              <a:t>Упражнение для щёк «Воздушный шарик»</a:t>
            </a:r>
            <a:r>
              <a:rPr b="1" lang="ru-RU" sz="40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Попросите малыша надуть обе щеки: «Надува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пузырь, надувайся, большо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Затем аккуратно нажмите указательными пальцами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надутые щечки ребенка: «Лопнул пузыр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Звук, который при этом получится, не остав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равнодушным нико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Теперь учимся надувать левую, затем правую щеку. Э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непросто, поэтому скорых результатов не жд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7T14:11:16Z</dcterms:created>
  <dc:creator>???</dc:creator>
  <dc:description/>
  <dc:language>en-US</dc:language>
  <cp:lastModifiedBy>HP</cp:lastModifiedBy>
  <dcterms:modified xsi:type="dcterms:W3CDTF">2022-12-11T17:02:18Z</dcterms:modified>
  <cp:revision>0</cp:revision>
  <dc:subject/>
  <dc:title>???1</dc:title>
</cp:coreProperties>
</file>