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15425" cy="6829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820-B155-493D-91B7-AF7409BC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696-0C71-42A5-B754-5B0BED62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EEA04-86D7-4055-B50F-521B9AC3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694A6-3011-4C91-97BC-B8FFB706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49A1B-7E0F-4A5F-A056-28A66A98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96C83-CE26-4D8F-99F5-6E3BD498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8F2CB-FD5D-4006-A201-8C8F346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49F4A-3DEA-49E3-BEBE-F5B3FD83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1B4E4-DF64-4F6E-8729-95F50B4F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09D5F-FFD6-4B1A-A460-D9DA30E0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405C7-F816-48E4-B9E6-80ABC6BA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D2855-7929-4D2F-9E87-31207D82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645-4CCE-4DC5-B5B8-5AA76FAF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233A1-F779-4C4F-A632-5405C9BB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38662-83C7-480E-966B-C7EAEE24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46514-8D78-4972-8EA9-F658A38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430D3-AB8C-4FFF-9570-00128B34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38A37-1BA5-4419-940F-6D8E60AD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1886-84E7-4EE6-8BCD-428174E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6C762-D090-4BE6-94CA-8A48912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912DB-0EDE-4BD1-A0E6-F64FA11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C8FA6-B697-4178-879A-C667DE7C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373B9-2DC0-4552-97FF-4A86055E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659-1D4B-48E6-81D9-F910E8A3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0A096-B3F7-4488-B04A-9913D630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838FB-8495-44A8-A768-DA526BFE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9D8B2-F5BB-43DE-BE15-E4CBF448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3FC71-4D25-4D16-8A77-5686A902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89EC7-1A67-4F67-ADB6-5EE5722E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9078B-ED24-48A5-8D4B-673A9FF1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5A454-E1C4-469A-BAE5-A82F77BE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5FB22-F21B-477E-89E0-8D4FA8E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EBA46-5414-4438-B604-E451E87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88713-8B01-4093-A2C4-F6304B49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5805-C422-4F41-8A92-5B4D501D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8E0C3-EDBE-403D-8668-83396D1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978B4-0472-4A27-9ECD-E3B351D7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C2D6E-3208-4E1F-A642-3D5D074A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82DA1-DF33-45DC-8D24-E5EB36FB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32490-67F0-4A92-97B1-E3414F1E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50E72-417C-414B-B6B6-299B699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D9256-1865-4A73-B1CC-8A60A1D7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36BAE-B735-4746-9950-76B6D2DB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8BA2-C024-4CA6-9B7A-DDD64C90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6E122-2F63-4855-BA0E-DA1107AA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65A-62C7-4C80-B122-D96082A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2DD07-3D9B-4FA7-8590-133BAA09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1E7AC-5229-4B14-8838-B3B47D0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6A612-C1ED-4C41-ADF4-22F10843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E5BD2-D61F-4646-9048-814B212B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D51A5-00A5-4654-BD39-0FBAD2B3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5D3AA-0F80-444C-B74E-F9EE8278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590DC-AEBD-4B06-9296-0F9F0ED1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C7B01-2217-446B-8D1D-995E55B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F894A-7E96-49A3-85EA-8B5F440D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04062-9A72-4925-94CC-1A3F1E19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2863-4262-4F94-8695-23B0C42B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EA54D-B142-40FE-B072-EE943E01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8716D-FBAB-4BB9-966A-80FEF74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FA242-3FE4-4265-9B02-91BA5E8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EDEE0-1A06-4D8E-96C7-C61185A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7B67B-E132-42D0-9C9A-51C17C99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1C185-DB89-4D49-A213-8D73D206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0A7FC-58CF-4A87-9877-A0ACE3DF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ECF70-E025-4A20-8C96-8ACF45B8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DEB24-CD44-4C84-A0FF-AC3F3B76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5F5A3-ED4D-4BA1-8535-F7A3563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821B-5156-441D-AB89-005C472C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90F4D-2D22-41A9-9908-8FF39856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421E6-AB85-453F-AB98-931CAAA4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A4034-7604-4AA9-929F-900BCA53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52E8E-6310-4DAC-BACF-BB732F8C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83D74-9B43-490F-9C14-0B0D435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A8366-495F-43A3-8E46-F5931C8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05824-273C-4CBD-986F-5D7DD50E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7026A-264C-4BF6-9110-C07ECCF8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626F2-947C-4FBA-B654-B442AEB3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81518-4A12-4C78-BB41-07638DB6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7C77-2A65-469C-962D-4E0B6B01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1B7DF-9E33-436C-AB11-9B4BF2B5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6E575-62BB-484D-A76D-3B9EBCD4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39367-1596-47B4-ACBC-265F2E79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0F36E-B7DA-4A9D-8F28-2FC8CE8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614CB-A20D-4485-88AE-9D78C8A9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85297-17BA-4139-BFBE-BE389F04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FA8FB-67DA-435C-8A6D-C15D5BF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ED8DC-586F-470E-80F0-AFD49EEA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CB9357-19B2-452D-B614-019B6B79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0249A-3EE1-4E42-B302-B1467969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3272-C352-4337-8D9C-74C25A49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DD6C5-ADC2-4EE8-9027-7524E79F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B898-BA6F-4905-8E3E-4D999DA4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371-9169-470E-B436-54C1E652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4698-AAD6-412F-A943-1638DB58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C910-6901-4E15-A128-E30231E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A3CA-786F-44BB-8348-C18A08A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00A3-12F2-4549-AE10-2028E5B6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BB4-E8F5-4088-BA3D-BB3303FB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0DFD-3A98-4A46-95D4-09C9B307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EA9C-EF3E-46B9-95DC-7338F814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12A0-17E0-4DED-97FB-52B62547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3786-3188-4367-9C85-BB996BD2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EC51-B412-45DF-9328-62642FB8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F4D-01E0-42D5-89D2-06FB9B07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986E-229D-4FE8-9112-E684570E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1040-C7D8-4B1A-8762-E9F6459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2D3A-8871-40F7-96EE-33CA1629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1192-0A99-4429-AB56-B40E8E0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6F40-4553-4235-A1F7-EFB17001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A328-C42F-4915-A0AD-17BA40EC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570A-CB08-4299-B54B-91E86C01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D297-FA6E-401A-9C8B-87323098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576F-5A3F-4C89-9A6F-90551552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E790A-8BC5-404F-9287-E1F7E70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83C-76BD-4F55-A9D4-E8F653DF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305C-03FE-42A0-8FF2-59EF88E1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D978D-4AD9-45F1-AA70-69E28755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8F67E-F69C-46C4-B5F2-28C29DA5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C55D-5DA8-4F99-9EC6-4C87E635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3D945-814F-41C9-9950-907DE57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F680-F9C1-4BFD-B395-1F409E0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0E5C-E057-445D-8F3E-C66E64DF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EB50-C740-428D-99EE-EBF0420C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8A33-E915-4A0A-86C9-3EF2AA1B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934E-178E-4A72-9783-633DFBD3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EF9-820A-4155-87BF-467FD029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234B-8D8C-40B2-B91D-58DC6151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02F4-22F1-4BBA-82CF-D4075A6E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6810D-C333-418E-B361-1D75176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62DD-9983-4D82-A926-CF81C09B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3E345-48D3-44FC-9F05-DF133CCD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F38D3-DD48-4C2D-8409-A02C1368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EC77C-1EF4-459E-ACAD-99A6BE1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4FB1-88F4-4C39-98D7-44B6AA54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81FD-054E-4987-BE11-D8E8EAE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7B7F-2CD1-4C73-B775-326A7E7F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EE5-B305-4FC5-B3DE-9EB42D89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FBDA-60E9-495F-A905-44B72462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89898-B825-4E0E-B725-CEAF4E27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C5F8F-4FFE-488A-B62D-FF168B19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860C7-652B-45EF-92AE-DDD1A6FE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CF80-28C8-4421-8F03-63703599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A4781-8CB5-45D1-923D-02FA0848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0E73-58A1-412B-A1D5-7F658878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D577-6D76-41DE-9A6E-3814008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9B0FC-6891-4014-95E6-6A5B32F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0A51-5008-47DD-9C70-D0271DB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C03-FEEC-4A65-8493-F7460E0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5E987-720C-4545-ADA7-6A425891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ED741-F316-4F6D-A6A5-AE1C235C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0FD4-8D01-4B1C-879E-9BF3D166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0EC37-7DAF-4DD0-AC20-5E3F77C7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BCB9D-3290-4D9D-BEE7-91F5D00D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9BAA-ABC7-4259-8909-6347AC4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63916-82FF-4804-BEF6-EC4156F6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CCAB-DD84-4356-8A42-1E792830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6281D-DDF9-4FCB-A08C-0658F49B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504C-9F3A-4246-B60B-817637C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612-14AF-44BD-AAC1-E59E2F28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5E804-82E1-4A27-940D-ED4DBEE5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D8D99-6CAE-4EC2-97AB-48D797C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020DD-C7D0-4AFC-8EE4-2EA74E21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4367E-8C05-47A6-9124-B5EFEFB5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98EDC-707F-49E6-A925-293B3A51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EBB7A-1AFA-406E-977A-1BDCE61D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17961-6B16-4191-9CE1-6E60E42E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1D56E-7434-4FE3-A37F-57EFEF24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F5803-5E11-40C9-A729-1F8F9E3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20000-F531-4FBD-ACE1-30E4635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B2E-4670-4E37-974B-7A68E9D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3600" y="271080"/>
            <a:ext cx="8218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29456-AB3A-446C-87B5-77183425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4505E-D06A-4C65-A424-35DEA16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ABB55-145B-459F-8AB1-08769EB4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797A2-A73A-4CB4-B712-4E349212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5760" y="3666600"/>
            <a:ext cx="8203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EC4F-9996-427F-8715-1179CCB7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9480" y="159768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576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59480" y="3666600"/>
            <a:ext cx="400320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D4639-F63E-46D5-9DEB-8E571D34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295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03360" y="159768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57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295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03360" y="3666600"/>
            <a:ext cx="2641320" cy="18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807F2-CB2A-44B6-8345-81C8D72E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15614-B453-4473-96B4-D4808A0F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7BA4F-3B86-4148-BF3D-4E243425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981F8-CDB7-4D06-A7C9-4739609A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2520" y="26964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31C4546-1A4C-48C7-B2D2-9C5B9D5583D4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9280" y="2664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8"/>
          </p:nvPr>
        </p:nvSpPr>
        <p:spPr>
          <a:xfrm>
            <a:off x="448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9"/>
          </p:nvPr>
        </p:nvSpPr>
        <p:spPr>
          <a:xfrm>
            <a:off x="3116160" y="63421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30"/>
          </p:nvPr>
        </p:nvSpPr>
        <p:spPr>
          <a:xfrm>
            <a:off x="6539040" y="6342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7AAD16B-1E01-496C-9C42-1EFC53A3CE11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9280" y="2664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31"/>
          </p:nvPr>
        </p:nvSpPr>
        <p:spPr>
          <a:xfrm>
            <a:off x="448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32"/>
          </p:nvPr>
        </p:nvSpPr>
        <p:spPr>
          <a:xfrm>
            <a:off x="3116160" y="63421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33"/>
          </p:nvPr>
        </p:nvSpPr>
        <p:spPr>
          <a:xfrm>
            <a:off x="6539040" y="6342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C945C9D-CA47-4F14-9078-120F86C6A3FA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2520" y="270000"/>
            <a:ext cx="82166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34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35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36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3A8FE0E-D4C8-4A75-B0A2-2B3ACD283590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2520" y="270000"/>
            <a:ext cx="82166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37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38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9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7245907-2021-4CD3-9C19-9FB1F2847B64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0360" y="267840"/>
            <a:ext cx="82155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40"/>
          </p:nvPr>
        </p:nvSpPr>
        <p:spPr>
          <a:xfrm>
            <a:off x="448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41"/>
          </p:nvPr>
        </p:nvSpPr>
        <p:spPr>
          <a:xfrm>
            <a:off x="3116160" y="63421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42"/>
          </p:nvPr>
        </p:nvSpPr>
        <p:spPr>
          <a:xfrm>
            <a:off x="6539040" y="6342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ADD9910-92D6-4789-9C09-BC8D3D8BC7AA}" type="slidenum"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2520" y="270000"/>
            <a:ext cx="82166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43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44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45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267C4AB-69A0-48B4-B5EF-B1AAB909E781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2160" y="269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4525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19040" y="6347880"/>
            <a:ext cx="28926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6544800" y="6347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9BEEED-0776-4B7D-B81C-82A4FA485EFF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0360" y="2678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7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8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9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915451D-184F-4303-97F9-F132C20BFD6F}" type="slidenum"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0"/>
          </p:nvPr>
        </p:nvSpPr>
        <p:spPr>
          <a:xfrm>
            <a:off x="4525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11"/>
          </p:nvPr>
        </p:nvSpPr>
        <p:spPr>
          <a:xfrm>
            <a:off x="3119040" y="6347880"/>
            <a:ext cx="28926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12"/>
          </p:nvPr>
        </p:nvSpPr>
        <p:spPr>
          <a:xfrm>
            <a:off x="6544800" y="6347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5E7630-B1CE-4CBB-8090-EE1B63B0055C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0360" y="2678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3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4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5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188CEEC-58E3-4C9A-BA10-D9D7FD9EC101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2520" y="26964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6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7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8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4FB9C41-8D73-4B03-967B-929D3406F1CF}" type="slidenum">
              <a:rPr b="0" lang="en-US" sz="1200" spc="-1" strike="noStrike">
                <a:solidFill>
                  <a:srgbClr val="8c8c8c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9280" y="2664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9"/>
          </p:nvPr>
        </p:nvSpPr>
        <p:spPr>
          <a:xfrm>
            <a:off x="448920" y="6342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20"/>
          </p:nvPr>
        </p:nvSpPr>
        <p:spPr>
          <a:xfrm>
            <a:off x="3116160" y="63421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21"/>
          </p:nvPr>
        </p:nvSpPr>
        <p:spPr>
          <a:xfrm>
            <a:off x="6539040" y="6342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1AD9496-F7EC-4AAA-A872-715FF6DD1B78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2520" y="270000"/>
            <a:ext cx="82166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22"/>
          </p:nvPr>
        </p:nvSpPr>
        <p:spPr>
          <a:xfrm>
            <a:off x="4503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23"/>
          </p:nvPr>
        </p:nvSpPr>
        <p:spPr>
          <a:xfrm>
            <a:off x="3117960" y="6345360"/>
            <a:ext cx="2890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24"/>
          </p:nvPr>
        </p:nvSpPr>
        <p:spPr>
          <a:xfrm>
            <a:off x="6541560" y="6345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8c8c8c"/>
                </a:solidFill>
                <a:latin typeface="HCR Dotum"/>
                <a:ea typeface="HCR 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67DAAB0-6209-4643-A3FD-CE32EE7ACD85}" type="slidenum">
              <a:rPr b="0" lang="en-US" sz="1200" spc="-1" strike="noStrike">
                <a:solidFill>
                  <a:srgbClr val="8c8c8c"/>
                </a:solidFill>
                <a:latin typeface="HCR Dotum"/>
                <a:ea typeface="HCR 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3600" y="271080"/>
            <a:ext cx="821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25"/>
          </p:nvPr>
        </p:nvSpPr>
        <p:spPr>
          <a:xfrm>
            <a:off x="4525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26"/>
          </p:nvPr>
        </p:nvSpPr>
        <p:spPr>
          <a:xfrm>
            <a:off x="3119040" y="6347880"/>
            <a:ext cx="28926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7"/>
          </p:nvPr>
        </p:nvSpPr>
        <p:spPr>
          <a:xfrm>
            <a:off x="6544800" y="6347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7A4CAE-7DF3-45B1-80E6-032F9D34CE39}" type="slidenum">
              <a:rPr b="0" lang="en-US" sz="1200" spc="-1" strike="noStrike">
                <a:solidFill>
                  <a:srgbClr val="8c8c8c"/>
                </a:solidFill>
                <a:latin typeface="HGｺﾞｼｯｸE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body"/>
          </p:nvPr>
        </p:nvSpPr>
        <p:spPr>
          <a:xfrm>
            <a:off x="455760" y="1597680"/>
            <a:ext cx="8203320" cy="39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C:\Users\Админ\Desktop\shablon-deti-prevyu-2.png"/>
          <p:cNvPicPr/>
          <p:nvPr/>
        </p:nvPicPr>
        <p:blipFill>
          <a:blip r:embed="rId1"/>
          <a:stretch/>
        </p:blipFill>
        <p:spPr>
          <a:xfrm>
            <a:off x="-17640" y="-17640"/>
            <a:ext cx="9174240" cy="6888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708120" y="3565440"/>
            <a:ext cx="7781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lang="ru-RU" sz="4800" spc="-1" strike="noStrike">
                <a:solidFill>
                  <a:srgbClr val="008000"/>
                </a:solidFill>
                <a:latin typeface="Calibri"/>
                <a:ea typeface="Calibri"/>
              </a:rPr>
              <a:t>Развитие речи детей 2-3 лет</a:t>
            </a: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сультация 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4080" y="4994280"/>
            <a:ext cx="456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Подготовила воспитатель Попова Р.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6560" y="279360"/>
            <a:ext cx="64342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ГБДОУ детский сад №72 комбинированного вид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Калининского района Санкт-Петербург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9400" y="-138240"/>
            <a:ext cx="304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9400" y="-138240"/>
            <a:ext cx="304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9280" y="2664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2520" y="1593720"/>
            <a:ext cx="4033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38600" y="1593720"/>
            <a:ext cx="40305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0720" y="3975120"/>
            <a:ext cx="40338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637160" y="3975120"/>
            <a:ext cx="40305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26360" cy="69832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601560" y="2039760"/>
            <a:ext cx="81345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92000" y="2700360"/>
            <a:ext cx="76042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800080"/>
                </a:solidFill>
                <a:latin typeface="Arial"/>
                <a:ea typeface="Arial"/>
              </a:rPr>
              <a:t>Игры с различными предметами и материалами. </a:t>
            </a:r>
            <a:r>
              <a:rPr b="0" lang="ru-RU" sz="19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800080"/>
                </a:solidFill>
                <a:latin typeface="Arial"/>
                <a:ea typeface="Arial"/>
              </a:rPr>
              <a:t>«Яичко»</a:t>
            </a:r>
            <a:r>
              <a:rPr b="1" lang="ru-RU" sz="1900" spc="-1" strike="noStrike">
                <a:solidFill>
                  <a:srgbClr val="800080"/>
                </a:solidFill>
                <a:latin typeface="바탕"/>
                <a:ea typeface="Arial"/>
              </a:rPr>
              <a:t> </a:t>
            </a: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(катаем орех или любой шарик между ладошкам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Маленькая птичка принесла яичко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Мы с яичком поиграем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Мы яичко покатаем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Покатаем, не съедим, его птичке отдади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800080"/>
                </a:solidFill>
                <a:latin typeface="Arial"/>
                <a:ea typeface="Arial"/>
              </a:rPr>
              <a:t>"Медведь"</a:t>
            </a: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 (с предметом) (медленно засовывайт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платочек одним пальцем в кулак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Лез медведь в свою берлогу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Все бока свои помял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Эй, скорее, на подмогу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"/>
                <a:ea typeface="Arial"/>
              </a:rPr>
              <a:t>Мишка, кажется, застрял! (с силой вытянуть платочек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6861240" y="3413160"/>
            <a:ext cx="22525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1440" y="1440"/>
            <a:ext cx="9155160" cy="68472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209520" y="138240"/>
            <a:ext cx="821052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Дыхательные упражнения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Цель: развитие речевого дыхания, силы голоса, тренировка мышц губ.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Родитель следит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 чтобы во время вдоха у детей не поднимались плечи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1. «Подуем на снежинк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Вырезать из салфетки тонкую и легкую снежинку. Положить на ладонь ребенку. Ребенок дует, чтобы снежинка слетела с лад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2. «Бабочка летает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Сделать совместно с ребенком бабочку из тонкой бумаги (обертка от конфет, салфетка и т.д.). Привязать нитку. Ребенок держит за ниточку и дует на баб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3. «Плывет, плывет корабли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Налить в тазик или ванну воду положить корабл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и предложить ребенку подуть на кораб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C:\Users\Админ\Desktop\unnamed.png"/>
          <p:cNvPicPr/>
          <p:nvPr/>
        </p:nvPicPr>
        <p:blipFill>
          <a:blip r:embed="rId2"/>
          <a:stretch/>
        </p:blipFill>
        <p:spPr>
          <a:xfrm>
            <a:off x="7348680" y="1995480"/>
            <a:ext cx="1590480" cy="15908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C:\Users\Админ\Desktop\109176243_13.png"/>
          <p:cNvPicPr/>
          <p:nvPr/>
        </p:nvPicPr>
        <p:blipFill>
          <a:blip r:embed="rId3"/>
          <a:stretch/>
        </p:blipFill>
        <p:spPr>
          <a:xfrm>
            <a:off x="6348240" y="4281480"/>
            <a:ext cx="308484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5160" cy="68468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41200" y="54000"/>
            <a:ext cx="867744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alibri"/>
                <a:ea typeface="Calibri"/>
              </a:rPr>
              <a:t>Игры – подражания с речевым сопровождени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Цель: упражнять детей в отчетливом произношении отдельных звуков, слов или фраз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alibri"/>
                <a:ea typeface="Calibri"/>
              </a:rPr>
              <a:t>«Птичий двор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ши уточки с утра – «Кря-кря-кря!», «Кря-кря-кря!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ши гуси у пруда – «Га-га-га!», «Га-га-га!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ши гуленьки вверху – «Гу-гу-гу!», «Гу-гу-гу!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ши курочки в окно – «Ко-ко-ко!», «Ко-ко-ко!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А наш Петя-петушок рано-рано поутр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Нам споет «Ку-ка-ре-ку!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Calibri"/>
                <a:ea typeface="Calibri"/>
              </a:rPr>
              <a:t>«Произношение гласных звуков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- А-а-а (плач ребенка, поет певица, уколол пальчик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девочка укачивает куклу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- О-о-о (разболелся зуб, удивл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- У-у-у (гудит поезд, воет волк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-И-и-и (жеребенок ржет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Звуки произносятся на выдохе.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Клипарт &quot;СКАЗОЧНЫЕ ПЕТУХИ&quot; -символ 2017 года. Обсуждение на ..."/>
          <p:cNvPicPr/>
          <p:nvPr/>
        </p:nvPicPr>
        <p:blipFill>
          <a:blip r:embed="rId2"/>
          <a:stretch/>
        </p:blipFill>
        <p:spPr>
          <a:xfrm flipH="1">
            <a:off x="6339960" y="3419640"/>
            <a:ext cx="2786040" cy="33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5160" cy="68468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36440" y="208080"/>
            <a:ext cx="871056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Логоритмические игры с самомассаж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Во время игр с самомассажем взрослый читает стихотворение, сопровождая слова движениями, ребёнок повторя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«Лягуша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Лягушата встали, потянулись и друг другу улыбну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Выгибают спинки, спинки – трост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Ножками затопали, ручками захлопа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Постучим ладошкой по ручкам немнож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А потом, а потом грудку мы чуть-чуть побь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Хлоп-хлоп тут и там и немного по бок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Хлопают ладошки нас уже по нож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Погладили ладошки и ручки и нож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Лягушата скажут: «Ква! Хлопать весело,друзь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9400" y="-138240"/>
            <a:ext cx="304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C:\Users\Админ\Desktop\9_818470.png"/>
          <p:cNvPicPr/>
          <p:nvPr/>
        </p:nvPicPr>
        <p:blipFill>
          <a:blip r:embed="rId2"/>
          <a:stretch/>
        </p:blipFill>
        <p:spPr>
          <a:xfrm>
            <a:off x="6375240" y="3639960"/>
            <a:ext cx="284328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5160" cy="68454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258840" y="317520"/>
            <a:ext cx="878508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Calibri"/>
                <a:ea typeface="Calibri"/>
              </a:rPr>
              <a:t>Пальчиковые игр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Стимулируют речевое развитие, улучшают артикуляционную моторику, подготавливают кисть к письму и повышают работоспособность коры головного мозг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Calibri"/>
                <a:ea typeface="Calibri"/>
              </a:rPr>
              <a:t>"Апельсин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Мы делили апельси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Много нас, а он один. (Дети сжимают и разжимают пальцы обеих рук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Эта долька - для ежа. Эта долька - для стриж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Эта долька - для утят. Эта долька - для котя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Эта долька - для бобра. (По очереди загибают пальц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А для волка - кожура. (Сжимают пальцы обеих рук в кула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Он сердит на нас - бед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Разбегайтесь – Кто куда! (Резко разжимают пальцы, сжатые в кула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Calibri"/>
                <a:ea typeface="Calibri"/>
              </a:rPr>
              <a:t>"Две сороконожки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Две сороконожки бежали по дорожк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Бежали, бежали, друг друга повстреча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Друг друга повстречали, крепко обнима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Calibri"/>
                <a:ea typeface="Calibri"/>
              </a:rPr>
              <a:t>Так крепко обнимали, что их с трудом разня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9400" y="-138240"/>
            <a:ext cx="304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043680" y="4686480"/>
            <a:ext cx="283356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1920" cy="68436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492120" y="328680"/>
            <a:ext cx="818820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Моторные центры речи в коре головного мозга человека находятся рядом с моторными центрами пальцев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оэтому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развивая речь и стимулирую моторику пальцев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мы передаём импульсы в речевые центры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что активизирует реч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Arial"/>
                <a:ea typeface="Calibri"/>
              </a:rPr>
              <a:t>Игры с крупой</a:t>
            </a:r>
            <a:r>
              <a:rPr b="1" lang="ru-RU" sz="2500" spc="-1" strike="noStrike">
                <a:solidFill>
                  <a:srgbClr val="80008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Возьмите яркий поднос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Тонким слоем рассыпьте любую мелкую крупу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роведите пальчиком ребенка по крупе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озвольте малышу самому нарисовать несколько хаотичных линий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Затем попробуйте вместе нарисовать рисунок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Крупу можно пересып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искать в ней предметы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ересып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сортиров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перекладыв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собир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рисовать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Calibri"/>
              </a:rPr>
              <a:t> делать аппликацию и многое другое</a:t>
            </a:r>
            <a:r>
              <a:rPr b="1" lang="ru-RU" sz="23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06920" y="277920"/>
            <a:ext cx="218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C:\Users\Админ\Desktop\image.jpg"/>
          <p:cNvPicPr/>
          <p:nvPr/>
        </p:nvPicPr>
        <p:blipFill>
          <a:blip r:embed="rId2"/>
          <a:stretch/>
        </p:blipFill>
        <p:spPr>
          <a:xfrm>
            <a:off x="546120" y="4794120"/>
            <a:ext cx="3602160" cy="19116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C:\Users\Админ\Desktop\v-chem-polza-igr-s-krupoj.jpg"/>
          <p:cNvPicPr/>
          <p:nvPr/>
        </p:nvPicPr>
        <p:blipFill>
          <a:blip r:embed="rId3"/>
          <a:stretch/>
        </p:blipFill>
        <p:spPr>
          <a:xfrm>
            <a:off x="4635360" y="4794120"/>
            <a:ext cx="412128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Фон к презентации - Фрилансер Елена Редозубова elena-elinn - Портфолио"/>
          <p:cNvPicPr/>
          <p:nvPr/>
        </p:nvPicPr>
        <p:blipFill>
          <a:blip r:embed="rId1"/>
          <a:stretch/>
        </p:blipFill>
        <p:spPr>
          <a:xfrm>
            <a:off x="0" y="0"/>
            <a:ext cx="9155160" cy="6846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636480" y="971640"/>
            <a:ext cx="759636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Подберите пуговицы разного цвета и размера. Сначала выложите рисунок сами, затем попросите ребенка сделать то же самостоятельно. После того, как ребенок научится выполнять задание без вашей помощи, предложите ему придумывать свои варианты рисунк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65440" y="422280"/>
            <a:ext cx="2392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900" spc="-1" strike="noStrike">
                <a:solidFill>
                  <a:srgbClr val="800080"/>
                </a:solidFill>
                <a:latin typeface="Arial"/>
                <a:ea typeface="Calibri"/>
              </a:rPr>
              <a:t>Игры с пуговицами</a:t>
            </a:r>
            <a:r>
              <a:rPr b="1" lang="ru-RU" sz="2700" spc="-1" strike="noStrike">
                <a:solidFill>
                  <a:srgbClr val="80008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C:\Users\Админ\Desktop\Без названия.jpg"/>
          <p:cNvPicPr/>
          <p:nvPr/>
        </p:nvPicPr>
        <p:blipFill>
          <a:blip r:embed="rId2"/>
          <a:stretch/>
        </p:blipFill>
        <p:spPr>
          <a:xfrm>
            <a:off x="2379600" y="2981160"/>
            <a:ext cx="4353120" cy="32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36080" cy="69930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709560" y="2781360"/>
            <a:ext cx="7712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Calibri"/>
              </a:rPr>
              <a:t>Разговаривайте со своим ребёнком во время всех видов деятельности, когда делаете уборку, готовите еду, собираетесь на прогулку, покупаете продукты и т.д. Каждый день читайте стихи, сказки, рассматривайте и обсуждайте картинки и больше играйт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  <a:ea typeface="Calibri"/>
              </a:rPr>
              <a:t>Удачи вам и вашим детям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2160" y="418680"/>
            <a:ext cx="8226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2520" y="159552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0840" y="-139680"/>
            <a:ext cx="304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36080" cy="6993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81200" y="2633760"/>
            <a:ext cx="7686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У большинства детей, поступающих в дошкольное учреждение, выявляется неблагополучное речевое развитие. Условно их можно разделить на три группы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• 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дети, у которых речь совсем отсутствует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• 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дети, которые говорят отдельными словам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• 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дети, которые говорят фразами, но их речь невнятная и с грамматическими ошибк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И лишь несколько детей, поступающих в детский сад, имеют речь, соответствующую нормам орфоэпии и понятную окружающи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0360" y="417240"/>
            <a:ext cx="82249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50720" y="1593720"/>
            <a:ext cx="822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Фоны для оформления и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32840" cy="70581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08080" y="2416320"/>
            <a:ext cx="86882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К 2 годам - не менее 50 слов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Речь малыша должна быть относительно понятной для окружающих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Но на самом деле речь детей раннего возраста оставляет желать лучшего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Это объясняется причинами, имеющими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либо биологическую природу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3300" spc="-1" strike="noStrike">
                <a:solidFill>
                  <a:srgbClr val="008000"/>
                </a:solidFill>
                <a:latin typeface="Calibri"/>
                <a:ea typeface="Calibri"/>
              </a:rPr>
              <a:t>либо социальную природу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317520"/>
            <a:ext cx="9136080" cy="69962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709560" y="2409840"/>
            <a:ext cx="761364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09560" y="3852720"/>
            <a:ext cx="76406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7560" y="2922480"/>
            <a:ext cx="806472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Особенное внимание следует уделить воздействию </a:t>
            </a:r>
            <a:r>
              <a:rPr b="1" lang="ru-RU" sz="2300" spc="-1" strike="noStrike" u="sng">
                <a:solidFill>
                  <a:srgbClr val="008000"/>
                </a:solidFill>
                <a:uFillTx/>
                <a:latin typeface="Calibri"/>
                <a:ea typeface="Calibri"/>
              </a:rPr>
              <a:t>социальных факторов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 u="sng">
                <a:solidFill>
                  <a:srgbClr val="008000"/>
                </a:solidFill>
                <a:uFillTx/>
                <a:latin typeface="Calibri"/>
                <a:ea typeface="Calibri"/>
              </a:rPr>
              <a:t>Коммуникативная депривация - </a:t>
            </a: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недостаточность эмоционального и речевого общения ребенка с близкими людьми. Дети, с которыми мало общаются, имеют отставание в речевом развит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Уровень развития речи  влияет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на интеллектуальное развитие ребенк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Calibri"/>
                <a:ea typeface="Calibri"/>
              </a:rPr>
              <a:t>на формирование личности и характера ребен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0360" y="417240"/>
            <a:ext cx="82249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0720" y="1593720"/>
            <a:ext cx="822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Фоны для оформления и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32840" cy="7058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89000" y="2416320"/>
            <a:ext cx="878688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Два года —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это критический период в речевом развитии ребен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 u="sng">
                <a:solidFill>
                  <a:srgbClr val="008000"/>
                </a:solidFill>
                <a:uFillTx/>
                <a:latin typeface="Calibri"/>
                <a:ea typeface="Calibri"/>
              </a:rPr>
              <a:t>Сензитивный период</a:t>
            </a: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этап возрастного развития ребенка, наиболее благоприятный для формирования определенных психических функци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Calibri"/>
                <a:ea typeface="Calibri"/>
              </a:rPr>
              <a:t>От того, как в сензитивный период организуется речевое воздействие на ребенка, зависит его речевая и познавательная деятельнос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316080"/>
            <a:ext cx="9132840" cy="69944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08120" y="2408400"/>
            <a:ext cx="761184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8120" y="3851280"/>
            <a:ext cx="763884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6120" y="2921040"/>
            <a:ext cx="80629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Игры и упражнения по развитию речи формиру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фонетико-фонематическую баз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звивают фразовую и связную речь, речевую мотори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способствуют сенсорному развитию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активизируют развитие высших психических функци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познавательной деяте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формируют процесс социальной адаптации у дете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учат играть с игрушками и сверстни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И</a:t>
            </a: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гры на основе стихов развивают чувство ритма и помогают работать над дикцией детей. Но главное условие - это должна быть игра, тогда ребенку будет интерес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32840" cy="69897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708120" y="2408400"/>
            <a:ext cx="76388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08120" y="2562120"/>
            <a:ext cx="7615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Виды игр по развитию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знообразные игры (игры-инсценировки, звукоподражательные игры, игры-потешки, хороводы, игры с сюжетными игрушками и др.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игры-занятия с предметами и сюжетными картинк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ссказывание и чтение сказок, стихов, историй; пересказывание их вместе с детьм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ссматривание и обсуждение иллюстраций к произведения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разгадывание загадок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alibri"/>
                <a:ea typeface="Calibri"/>
              </a:rPr>
              <a:t>игры, направленные на развитие мелкой мотор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9280" y="415440"/>
            <a:ext cx="82231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280" y="1592280"/>
            <a:ext cx="82231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Фоны для оформления и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29600" cy="70549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06280" y="2414520"/>
            <a:ext cx="868680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800080"/>
                </a:solidFill>
                <a:latin typeface="Arial"/>
                <a:ea typeface="Calibri"/>
              </a:rPr>
              <a:t>Упражнения для развития мышц губ</a:t>
            </a:r>
            <a:r>
              <a:rPr b="1" lang="ru-RU" sz="2700" spc="-1" strike="noStrike">
                <a:solidFill>
                  <a:srgbClr val="800080"/>
                </a:solidFill>
                <a:latin typeface="Arial"/>
                <a:ea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«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Calibri"/>
              </a:rPr>
              <a:t>Улыбнись маме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»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«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Calibri"/>
              </a:rPr>
              <a:t>Поцелуй маму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»</a:t>
            </a:r>
            <a:r>
              <a:rPr b="1" lang="ru-RU" sz="2700" spc="-1" strike="noStrike" u="sng">
                <a:solidFill>
                  <a:srgbClr val="800080"/>
                </a:solidFill>
                <a:uFillTx/>
                <a:latin typeface="Arial"/>
                <a:ea typeface="Calibri"/>
              </a:rPr>
              <a:t> 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-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Попросите малыша поцеловат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вас в щечку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после того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как малыш научилс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вытягивать губки трубочк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и растягивать их в улыбке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Упражнение и приятное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,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и полезное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Arial"/>
              </a:rPr>
              <a:t>!</a:t>
            </a:r>
            <a:r>
              <a:rPr b="1" lang="ru-RU" sz="2700" spc="-1" strike="noStrike">
                <a:solidFill>
                  <a:srgbClr val="008000"/>
                </a:solidFill>
                <a:latin typeface="Arial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734080" y="480384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0360" y="2678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3960" y="1595520"/>
            <a:ext cx="4033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640400" y="1595520"/>
            <a:ext cx="4032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2520" y="3976560"/>
            <a:ext cx="403380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38600" y="3976560"/>
            <a:ext cx="40323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Фоны для презентаций и оформления"/>
          <p:cNvPicPr/>
          <p:nvPr/>
        </p:nvPicPr>
        <p:blipFill>
          <a:blip r:embed="rId1"/>
          <a:stretch/>
        </p:blipFill>
        <p:spPr>
          <a:xfrm>
            <a:off x="0" y="0"/>
            <a:ext cx="9129600" cy="69865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603360" y="2041560"/>
            <a:ext cx="813600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700" spc="-1" strike="noStrike">
                <a:solidFill>
                  <a:srgbClr val="800080"/>
                </a:solidFill>
                <a:latin typeface="Calibri"/>
                <a:ea typeface="Arial"/>
              </a:rPr>
              <a:t>Упражнение для щёк «Воздушный шарик»</a:t>
            </a:r>
            <a:r>
              <a:rPr b="1" lang="ru-RU" sz="40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Попросите малыша надуть обе щеки: «Надува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пузырь, надувайся, большо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Затем аккуратно нажмите указательными пальцам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надутые щечки ребенка: «Лопнул пузыр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Звук, который при этом получится, не остав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равнодушным нико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Теперь учимся надувать левую, затем правую щеку.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Arial"/>
              </a:rPr>
              <a:t>непросто, поэтому скорых результатов не жд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7T14:11:16Z</dcterms:created>
  <dc:creator>???</dc:creator>
  <dc:description/>
  <dc:language>en-US</dc:language>
  <cp:lastModifiedBy>HP</cp:lastModifiedBy>
  <dcterms:modified xsi:type="dcterms:W3CDTF">2022-12-11T17:02:18Z</dcterms:modified>
  <cp:revision>0</cp:revision>
  <dc:subject/>
  <dc:title>???1</dc:title>
</cp:coreProperties>
</file>