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F11-65BE-45DB-B7F3-48F262F2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B45-7404-4E0E-B1BA-91CB636F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F4A-5663-4D79-98B4-9C07C8E4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3A8-24C6-4FDA-891D-81CEE7E3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B14-66CC-4302-A110-B46EFD7F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E22-F500-4345-8132-396D5B2A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CA4-E5FB-4336-B093-285176C6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8B8-9931-40A6-8BFE-3F036055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51F-8CAD-4BDD-A869-F5347070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B1E-F64A-49A6-9029-84E42D31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819-AC3C-46E5-8421-C272C43B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A2F-327F-456D-AFF4-EB6678C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F05C-F397-4C4E-889F-E208463E07D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oikompas.ru/img/compas/2008-08-21/sos_1sentebrja/80063647_or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Собрание для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родителей будущих первокласс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7640" y="3068640"/>
            <a:ext cx="4176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g_1" descr="800636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716280"/>
            <a:ext cx="1944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окласснику нужно купи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ена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ные каранда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-3 шариковых ру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простых каранда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ст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icture 4"/>
          <p:cNvSpPr/>
          <p:nvPr/>
        </p:nvSpPr>
        <p:spPr>
          <a:xfrm>
            <a:off x="7451640" y="333360"/>
            <a:ext cx="140328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5" descr="пенал"/>
          <p:cNvPicPr/>
          <p:nvPr/>
        </p:nvPicPr>
        <p:blipFill>
          <a:blip r:embed="rId1"/>
          <a:stretch/>
        </p:blipFill>
        <p:spPr>
          <a:xfrm>
            <a:off x="6804000" y="4005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10 тетрадей в клетку и узкую линееч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пка для тетра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ожки для книг и тетра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ртивная форма (спортивные брюки и футбол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невник для записей 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кра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пка для уроков тру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ная бумага и цветной кар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стил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жницы с тупыми конц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ей-каранда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ей П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яп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ка для пласти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уроков ИЗ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альб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ночка под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еён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с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деемся на сотрудничество и взаимопоним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p16"/>
          <p:cNvPicPr/>
          <p:nvPr/>
        </p:nvPicPr>
        <p:blipFill>
          <a:blip r:embed="rId1"/>
          <a:stretch/>
        </p:blipFill>
        <p:spPr>
          <a:xfrm>
            <a:off x="5940360" y="3757680"/>
            <a:ext cx="26640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838080" y="152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Критерии школьной готов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4" descr="line2"/>
          <p:cNvPicPr/>
          <p:nvPr/>
        </p:nvPicPr>
        <p:blipFill>
          <a:blip r:embed="rId1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line2"/>
          <p:cNvPicPr/>
          <p:nvPr/>
        </p:nvPicPr>
        <p:blipFill>
          <a:blip r:embed="rId2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line2"/>
          <p:cNvPicPr/>
          <p:nvPr/>
        </p:nvPicPr>
        <p:blipFill>
          <a:blip r:embed="rId3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Физическая зре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Интеллектуальная зре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Эмоциональная зре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Социальная зре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1" descr="545"/>
          <p:cNvPicPr/>
          <p:nvPr/>
        </p:nvPicPr>
        <p:blipFill>
          <a:blip r:embed="rId4"/>
          <a:stretch/>
        </p:blipFill>
        <p:spPr>
          <a:xfrm>
            <a:off x="7162920" y="388620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учайте детей к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мообслуживанию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рать портфел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язать шнур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еть спортивный костю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брать за собой в столовой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многое другое в школе придется делать самому, да еще в условиях ограниченного переменой време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38080" y="152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а этапе подготовке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ка к школ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7" descr="GRID"/>
          <p:cNvPicPr/>
          <p:nvPr/>
        </p:nvPicPr>
        <p:blipFill>
          <a:blip r:embed="rId1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бегайте чрезмерных требов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Предоставляйте  право на ошиб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думайте за ребё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перегружайте ребё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пропустите первые трудности и обратитесь к узким специалист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Устраивайте ребенку маленькие празд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0" descr="1054"/>
          <p:cNvPicPr/>
          <p:nvPr/>
        </p:nvPicPr>
        <p:blipFill>
          <a:blip r:embed="rId2"/>
          <a:stretch/>
        </p:blipFill>
        <p:spPr>
          <a:xfrm>
            <a:off x="7315200" y="24382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908000" y="260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Обратная связ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7" descr="GRID"/>
          <p:cNvPicPr/>
          <p:nvPr/>
        </p:nvPicPr>
        <p:blipFill>
          <a:blip r:embed="rId1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0" y="16002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менилось ли ваше представление о проблеме готовности ребенка к шк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менилось ли Ваше видение  родительской помощи на этапе подготовке ребенка к шк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Ваши пожелания, рекомендации организатора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1110"/>
          <p:cNvPicPr/>
          <p:nvPr/>
        </p:nvPicPr>
        <p:blipFill>
          <a:blip r:embed="rId2"/>
          <a:stretch/>
        </p:blipFill>
        <p:spPr>
          <a:xfrm>
            <a:off x="762120" y="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кумен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9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Копия свидетельства о рождении ребе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Копия паспорта родителей стр 1 и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Зая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Догов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К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Школа Росс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7636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усский язык – 5 ча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итературное чтение -  4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атематика – 4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кружающий мир – 1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узыка – 1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ЗО -  1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ехнология – 1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Физическая культура – 3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уроч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м нужно обеспечить ребен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ую форму: повседневную(во первых деловой стиль одежды: серые брюки, юбочки, сарафан, жилет, под них можно одеть, однотонные водолазки, блузки, рубашки) и парадную (белая блузка, рубашка); никаких джинсовых вещей, это не школьная одежда, ни каких спортивных футболок и костюмов на урока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язательна вторая сменная обув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аккуратный внешний вид: прическу, наличие пуговиц и исправных застежек-молний, носовых платков и расчес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5:02:02Z</dcterms:created>
  <dc:creator>OEM</dc:creator>
  <dc:description/>
  <dc:language>en-US</dc:language>
  <cp:lastModifiedBy>Пользователь</cp:lastModifiedBy>
  <dcterms:modified xsi:type="dcterms:W3CDTF">2018-09-29T05:16:20Z</dcterms:modified>
  <cp:revision>24</cp:revision>
  <dc:subject/>
  <dc:title>Готовность к школьному обучению  детей 6-7 лет </dc:title>
</cp:coreProperties>
</file>