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6A9-545A-4845-A022-F915C332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D59-4E92-4D12-AB4F-AF023A77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AC2-882A-4914-BA6A-3CAB9EB6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423-FB50-4DDF-A345-9A47840C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AB2-1700-4761-B37B-EF55D8AB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9CD-A85D-4CDD-8105-56178000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A71-31B7-47F0-88A7-069F75E9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89B-16A4-4232-A81A-9020316C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820-C8A2-4629-9AF3-AF182B50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585-A1FB-4D90-89E7-0E8D700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E1F-2DF6-4393-946D-DD13FA3E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A46-2AA6-44AA-827A-2F0EDCA3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F52C-B7BA-4BD5-BFC2-10318DD71CE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oikompas.ru/img/compas/2008-08-21/sos_1sentebrja/80063647_or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Собрание для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родителей будущих первокласс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640" y="3068640"/>
            <a:ext cx="4176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g_1" descr="800636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716280"/>
            <a:ext cx="1944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окласснику нужно купи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ена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ные каранда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-3 шариковых ру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простых каранда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с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icture 4"/>
          <p:cNvSpPr/>
          <p:nvPr/>
        </p:nvSpPr>
        <p:spPr>
          <a:xfrm>
            <a:off x="7451640" y="333360"/>
            <a:ext cx="140328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5" descr="пенал"/>
          <p:cNvPicPr/>
          <p:nvPr/>
        </p:nvPicPr>
        <p:blipFill>
          <a:blip r:embed="rId1"/>
          <a:stretch/>
        </p:blipFill>
        <p:spPr>
          <a:xfrm>
            <a:off x="6804000" y="400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10 тетрадей в клетку и узкую линееч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пка для тетра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ожки для книг и тетра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ртивная форма (спортивные брюки и футбол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евник для записей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кра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пка для уроков тру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ная бумага и цветной кар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стил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жницы с тупыми конц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й-каранд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й П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яп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ка для пласти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уроков ИЗ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альб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ночка под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ён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с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деемся на сотрудничество и взаимопоним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p16"/>
          <p:cNvPicPr/>
          <p:nvPr/>
        </p:nvPicPr>
        <p:blipFill>
          <a:blip r:embed="rId1"/>
          <a:stretch/>
        </p:blipFill>
        <p:spPr>
          <a:xfrm>
            <a:off x="5940360" y="3757680"/>
            <a:ext cx="26640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ритерии школьной готов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4" descr="line2"/>
          <p:cNvPicPr/>
          <p:nvPr/>
        </p:nvPicPr>
        <p:blipFill>
          <a:blip r:embed="rId1"/>
          <a:stretch/>
        </p:blipFill>
        <p:spPr>
          <a:xfrm>
            <a:off x="457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line2"/>
          <p:cNvPicPr/>
          <p:nvPr/>
        </p:nvPicPr>
        <p:blipFill>
          <a:blip r:embed="rId2"/>
          <a:stretch/>
        </p:blipFill>
        <p:spPr>
          <a:xfrm>
            <a:off x="6172200" y="1219320"/>
            <a:ext cx="2454120" cy="16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line2"/>
          <p:cNvPicPr/>
          <p:nvPr/>
        </p:nvPicPr>
        <p:blipFill>
          <a:blip r:embed="rId3"/>
          <a:stretch/>
        </p:blipFill>
        <p:spPr>
          <a:xfrm>
            <a:off x="3276720" y="1219320"/>
            <a:ext cx="2454120" cy="164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Физическ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Интеллектуальн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Эмоциональн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Социальная зре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1" descr="545"/>
          <p:cNvPicPr/>
          <p:nvPr/>
        </p:nvPicPr>
        <p:blipFill>
          <a:blip r:embed="rId4"/>
          <a:stretch/>
        </p:blipFill>
        <p:spPr>
          <a:xfrm>
            <a:off x="7162920" y="388620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учайте детей к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мообслуживанию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рать портфел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язать шнур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еть спортивный костю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брать за собой в столовой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многое другое в школе придется делать самому, да еще в условиях ограниченного переменой време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38080" y="152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а этапе подготовке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ка к школ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7" descr="GRID"/>
          <p:cNvPicPr/>
          <p:nvPr/>
        </p:nvPicPr>
        <p:blipFill>
          <a:blip r:embed="rId1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бегайте чрезмерных требов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Предоставляйте  право на ошиб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думайте за ребё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ерегружайте ребё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 пропустите первые трудности и обратитесь к узким специалист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Устраивайте ребенку маленькие празд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0" descr="1054"/>
          <p:cNvPicPr/>
          <p:nvPr/>
        </p:nvPicPr>
        <p:blipFill>
          <a:blip r:embed="rId2"/>
          <a:stretch/>
        </p:blipFill>
        <p:spPr>
          <a:xfrm>
            <a:off x="7315200" y="2438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908000" y="2602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Обратная связ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7" descr="GRID"/>
          <p:cNvPicPr/>
          <p:nvPr/>
        </p:nvPicPr>
        <p:blipFill>
          <a:blip r:embed="rId1"/>
          <a:stretch/>
        </p:blipFill>
        <p:spPr>
          <a:xfrm>
            <a:off x="685800" y="4724280"/>
            <a:ext cx="1066680" cy="1123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0" y="16002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менилось ли ваше представление о проблеме готовности ребенка к шк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Изменилось ли Ваше видение  родительской помощи на этапе подготовке ребенка к шк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Ваши пожелания, рекомендации организатора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1110"/>
          <p:cNvPicPr/>
          <p:nvPr/>
        </p:nvPicPr>
        <p:blipFill>
          <a:blip r:embed="rId2"/>
          <a:stretch/>
        </p:blipFill>
        <p:spPr>
          <a:xfrm>
            <a:off x="762120" y="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опия свидетельства о рождении ребе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опия паспорта родителей стр 1 и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Зая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Догов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Школа Ро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7636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усский язык – 5 ча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итературное чтение -  4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тематика – 4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кружающий мир –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узыка –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ЗО - 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ехнология – 1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изическая культура – 3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уроч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м нужно обеспечить ребен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ую форму: повседневную(во первых деловой стиль одежды: серые брюки, юбочки, сарафан, жилет, под них можно одеть, однотонные водолазки, блузки, рубашки) и парадную (белая блузка, рубашка); никаких джинсовых вещей, это не школьная одежда, ни каких спортивных футболок и костюмов на урока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язательна вторая сменная обув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аккуратный внешний вид: прическу, наличие пуговиц и исправных застежек-молний, носовых платков и расчес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5:02:02Z</dcterms:created>
  <dc:creator>OEM</dc:creator>
  <dc:description/>
  <dc:language>en-US</dc:language>
  <cp:lastModifiedBy>Пользователь</cp:lastModifiedBy>
  <dcterms:modified xsi:type="dcterms:W3CDTF">2018-09-29T05:16:20Z</dcterms:modified>
  <cp:revision>24</cp:revision>
  <dc:subject/>
  <dc:title>Готовность к школьному обучению  детей 6-7 лет </dc:title>
</cp:coreProperties>
</file>