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869E-7E0F-435E-9831-F603670C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600-1A04-4EA1-AD67-9E978E00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14BD-1494-4962-BDDB-9B438DB8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F4A8-795C-40F9-8503-F5F26921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EADBB-AA21-4D1F-8943-F7C862AD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07655-5FA8-41B9-8050-13E9ABB3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E4B3C-6EE8-46D1-9F52-AFB360DA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87250-0C9C-41D6-B171-FFFAC635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F5F8A-F9E2-4A58-8308-E96F6CA1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9FAD9-3C41-4F7B-AA6F-3442257B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7325A-37A2-4784-AF88-397AA9D4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061-EDE7-4BE3-8E71-C98AB1A4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8F206-BC3E-419D-9C9B-F98564FD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2A5C4-FD55-4117-8E34-0E3F9099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CB7B5-8BEE-4E5A-847F-FC542FC4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1872F-7505-4264-959C-2FE3CCF8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77847-974E-4E06-AA2F-5906A363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2D1A-B244-47CC-BF68-54EF5882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AD98-7A0E-441D-9A1C-41DACB80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10F-B1AD-4411-998B-2F070138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997-8896-458B-B5FC-08E947AB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79D9-63FA-4A61-9107-65EC0473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C0DD-CDF6-4A81-A4D1-D533E821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324E-CD40-4602-9AA2-1F9578B6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85D3-6129-40EE-8960-B8AD2E0C9A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F18C-05DC-4C84-9AAF-5ADEE9795D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d16d4"/>
                </a:solidFill>
                <a:latin typeface="Tahoma"/>
              </a:rPr>
              <a:t>Гигиенические проблемы условий образования, отведения и обезвреживания хозяйственно- бытовых сточных вод</a:t>
            </a:r>
            <a:endParaRPr b="0" lang="en-US" sz="4800" spc="-1" strike="noStrike">
              <a:solidFill>
                <a:srgbClr val="c1cb7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7908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cb75"/>
                </a:solidFill>
                <a:latin typeface="Tahoma"/>
              </a:rPr>
              <a:t>Схема обезвреживания хозяйственно- бытовых сточных вод</a:t>
            </a:r>
            <a:endParaRPr b="0" lang="en-US" sz="36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2209320"/>
            <a:ext cx="8991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стная канализац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я подземной фильт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льтрующие колод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ептик- дозирующая каме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льтрующие транше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счано- травяные фильтр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4876920" y="327636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10"/>
          <p:cNvSpPr/>
          <p:nvPr/>
        </p:nvSpPr>
        <p:spPr>
          <a:xfrm flipV="1">
            <a:off x="4952880" y="3580920"/>
            <a:ext cx="6098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4952880" y="4038480"/>
            <a:ext cx="6098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4876920" y="411480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1920" y="8377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лая канализ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двухъярусные отстойники- биофильт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сооружения для обеззаражи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комнатные установки (БИО, КУ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Схема станции аэрации для обезвреживания комбинированного стока крупного населенного пункта</a:t>
            </a:r>
            <a:endParaRPr b="0" lang="en-US" sz="28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сосная станция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дъ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ханические решетки(сушка и сжигание;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сколовки    песковые площадки   на утилизац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вичные отстой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эротен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торичные отстой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оружения для обеззаражи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уск сточных  в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4419720" y="2133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601992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4419720" y="27432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4419720" y="32004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4419720" y="3733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441972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4419720" y="47242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4419720" y="52578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cb75"/>
                </a:solidFill>
                <a:latin typeface="Tahoma"/>
              </a:rPr>
              <a:t>Гигиеническая характеристика хозяйственно- бытовых сточных вод:</a:t>
            </a:r>
            <a:endParaRPr b="0" lang="en-US" sz="36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абиль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 составу и свойств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грязнения присутствуют в виде органических веществ(58%), в основном природного происхождения, находятся во взвешенном и коллоидном состоянии (синтетическая органика представлена ___ ПАВ) и минеральных соединений- во взвешенном состоя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2280" y="91404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Н слабо щелоч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держат большое количество патогенных микроорганизмов, яиц гельминтов и простейш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крупном населенном пункте суточно стабильны в количественном отноше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гда опасны в эпидемиологическом отноше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4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ксичность выражена мал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cb75"/>
                </a:solidFill>
                <a:latin typeface="Tahoma"/>
              </a:rPr>
              <a:t>Расчет суточного объема хозяйственно- бытовых сточных вод (средний за год)</a:t>
            </a:r>
            <a:endParaRPr b="0" lang="en-US" sz="36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87631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ответствует расходу воды на хозяйственно-питьевые и хозяйственно- бытовые нужды населения за вычетом «технологических потер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cb75"/>
                </a:solidFill>
                <a:latin typeface="Tahoma"/>
              </a:rPr>
              <a:t>Методы обезвреживания хозяйственно-бытовых сточных вод</a:t>
            </a:r>
            <a:endParaRPr b="0" lang="en-US" sz="36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ханическая очистка (цель, оценка эффективност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иологическая очистка (цель, оценка эффективност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еззараживан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cb75"/>
                </a:solidFill>
                <a:latin typeface="Tahoma"/>
              </a:rPr>
              <a:t>Сооружения для обезвреживания хозяйственно- бытовых сточных вод</a:t>
            </a:r>
            <a:endParaRPr b="0" lang="en-US" sz="36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ханическая очис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шет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сколов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стойники (первичны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для удаления взвешенных и коллоидных веществ, отделения свежего ила (радиальные, горизонтальны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для удаления взвешенных и коллоидных веществ, частичной минерализации илов (септик, двухъярусный отстойник, осветлитель- перегниватель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Tahom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ологическая очис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водной сре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эротен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опру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очвенной сре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биофильтры, аэрофильт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поля орошения, поля фильтрации, поля подземной фильтр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фильтрующие колодцы и траншеи, песчано- травяные фильт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Tahom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еззаражи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порциональные дозато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cb75"/>
                </a:solidFill>
                <a:latin typeface="Tahoma"/>
              </a:rPr>
              <a:t>Методы и сооружения для обезвреживания илов и осадков</a:t>
            </a:r>
            <a:endParaRPr b="0" lang="en-US" sz="36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езвоживание- песковые площад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бражива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пт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вухъярусные отстой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ветлители- перегнивател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инерализ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4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жигание- цеха по обезвоживанию и сжиган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1920" y="609480"/>
            <a:ext cx="85345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ладирование и накоп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игоны складирования обезвоженных осад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овершенствованные свал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иотубирован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lnara</cp:lastModifiedBy>
  <dcterms:modified xsi:type="dcterms:W3CDTF">2020-04-19T19:37:2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