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2BF-06A3-4CB5-A436-680B4C6E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CB4-3DB1-43BF-9EE8-97CD311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5C3-C3E5-4118-9C77-6FDF6412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6BF-5D96-4FC2-B732-DF05F605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B9E94-603F-415C-AF05-C7DC8668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683E-2638-4B81-952B-4CE4D2F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E430-CB83-4D7E-9633-18E9F719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63C38-3880-4912-A5DE-2942EEA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96425-7E13-4D25-9124-7A7B514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3153-5EE0-4043-8D65-32ECC020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BD39D-A91C-4F51-806D-A584631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E43-B1C8-4579-9213-49DB4A07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C9595-F7D7-43E2-A240-F9E9121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7D3F1-DA5A-4D60-A5FB-878825E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EE7B8-7655-49E9-8EBD-C1DDAB5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F96E-53C2-42AD-958B-F8BA7260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8E9C-F9F0-40E9-B0B2-D466F196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186-D5CF-4414-A488-4DA06D69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A12-E706-42E2-8436-76C4B6D8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33B-BBEF-49D4-9DDD-E1184E4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A7C-9904-4F04-9E12-09D5FBA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784-7306-4F5F-AFB3-A0F837B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1EE-309C-40EC-869C-D5F5A78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F19-BE41-4D93-8216-B3CC8F9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EED-8927-47C1-9822-606566923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BA7-0AC9-4557-BAF5-C31F2ABF15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d16d4"/>
                </a:solidFill>
                <a:latin typeface="Tahoma"/>
              </a:rPr>
              <a:t>Гигиенические проблемы условий образования, отведения и обезвреживания хозяйственно- бытовых сточных вод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Схема обезвреживания хозяйственно- 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ная канализ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я подземной фильт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ующие коло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птик- дозирующая кам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ующие транше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чано- травяные фильт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876920" y="327636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4952880" y="3580920"/>
            <a:ext cx="6098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952880" y="403848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876920" y="41148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лая канал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двухъярусные отстойники- биофильт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ооружения для обеззараж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комнатные установки (БИО, КУ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Схема станции аэрации для обезвреживания комбинированного стока крупного населенного пункта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осная станци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ъ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ханические решетки(сушка и сжигание;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сколовки    песковые площадки   на утилиза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ич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эрот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торич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ружения для обеззараж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сточных  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441972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419720" y="2743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41972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4419720" y="37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44197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4197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41972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Гигиеническая характеристика хозяйственно- бытовых сточных вод: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биль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составу и свой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я присутствуют в виде органических веществ(58%), в основном природного происхождения, находятся во взвешенном и коллоидном состоянии (синтетическая органика представлена ___ ПАВ) и минеральных соединений- во взвеш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Н слабо щело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т большое количество патогенных микроорганизмов, яиц гельминтов и простейш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рупном населенном пункте суточно стабильны в количественном отнош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гда опасны в эпидемиологическом отнош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ксичность выражена м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Расчет суточного объема хозяйственно- бытовых сточных вод (средний за год)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7631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ет расходу воды на хозяйственно-питьевые и хозяйственно- бытовые нужды населения за вычетом «технологических потер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Методы обезвреживания хозяйственно-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ханическая очистка (цель, оценка эффективно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логическая очистка (цель, оценка эффективно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ззаражив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Сооружения для обезвреживания хозяйственно- бытовых сточных вод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ческая очис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скол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тойники (первич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для удаления взвешенных и коллоидных веществ, отделения свежего ила (радиальные, горизонталь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для удаления взвешенных и коллоидных веществ, частичной минерализации илов (септик, двухъярусный отстойник, осветлитель- перегнивател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ологическая очис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одной сре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эроте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опру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чвенной сре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биофильтры, аэрофиль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поля орошения, поля фильтрации, поля подземной фильт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фильтрующие колодцы и траншеи, песчано- травяные филь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еззараж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орциональные доза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cb75"/>
                </a:solidFill>
                <a:latin typeface="Tahoma"/>
              </a:rPr>
              <a:t>Методы и сооружения для обезвреживания илов и осадков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звоживание- песковые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бражи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п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ухъярусные отсто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ветлители- перегнив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нерализ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жигание- цеха по обезвоживанию и сжиг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ладирование и нако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игоны складирования обезвоженных осад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овершенствованные сва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тубиров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lnara</cp:lastModifiedBy>
  <dcterms:modified xsi:type="dcterms:W3CDTF">2020-04-19T19:3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