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799-D6F8-45FF-A97B-AB43972C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7C5-4934-43BE-A0F6-E270AAB0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B95-49C0-4BA7-8870-13267F2C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0AC-F5E2-4881-8B68-E6D1DBD9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DAC-FC30-4C75-A876-C8555D92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8DD-A313-4C41-89DB-840CCF74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4CA-5C69-410C-9980-57608B93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05B-F803-4B71-BB57-FF95264D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881-320E-44DB-A25D-5A98852E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EF2-EE50-489D-9508-E6DBBE7B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EFE-EE1F-4A04-A13A-6D1BDECC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982-BF41-4014-BCB3-BC07F8AB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5BA3-7313-4177-BF6B-CEA62BBFF8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20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1412640"/>
            <a:ext cx="64008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ектирование учебного занятия (урока) физической культуры с использованием технологии развивающего (проблемного) обу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4859280" y="4714920"/>
            <a:ext cx="378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нко Константин Иван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БОУ Верхнемакее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итерии оценивания: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а форма технологической карты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выдержана последовательность этапов технологии проблемного обуче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содержание деятельности учителя соответствует заявленной цели и задачам урока (занятия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содержание деятельности обучающихся соответствует заявленным планируемым результатам урока (занятия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средства, методы физического воспитания и дозировка физической нагрузки соответствует возрасту и полу обучающихс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текст написан грамотно, профессиональным языком и его объем не избыточный, но достаточный для тезисного форма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 баллов – если критерий не представлен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балл  – критерий представлен частично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балла – критерий представлен в полном объём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ачтено» – от 12 до 6 балл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е зачтено» – 5 баллов  и мень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БЛАГОДАРЮ ЗА ВНИМА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0fb1"/>
                </a:solidFill>
                <a:latin typeface="Calibri"/>
              </a:rPr>
              <a:t>Технологическая карта урока физической культуры в _3__клас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1. Тема уро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ры с элементами баскетб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2. Тип уро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Развивающего контроля ( умение осуществлять  самоконтрол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3. Направленность урока образовательно- тренировочный ур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4. Цель (и) уро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Овладение способами оздоровления и укрепления организма учащихся посредством  подвижных игр  с мячом  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5. Задачи уро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Образовательные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предметные результаты)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накомить учащихся с порядком выполнения комплекса ОРУ с мячом (познавательное УУ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знакомить с новой подвижной игрой (познавательное УУ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Развивающие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метапредметные  результаты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ть умение общаться со сверстниками в игровой деятельности (коммуникативное УУ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ть у учащихся координационные и кондиционные способности (коммуникативное УУ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 Воспитательные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личностные результаты):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развитие координации, силы, скорости, выносливости (личностноеУУ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чувств ответственности, коллективизма, воспитание упорства и потребности к занятиям физическими упражнениями, развитие интеллекта (личностноеУУД)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умения проявлять дисциплинированность (личностное  УУ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ние правильной осанки и соблюдение ее (личностное УУ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здоровительная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овать достижению гармоничности в физическом развитии (личностное УУ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6. Планируемые результа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Предмет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чат возможность научиться:  оказывать посильную помощь и моральную поддержку сверстникам при выполнении учебных зад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Метапредметные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сопоставлять изученный материал с возможностью его применения в игровой  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Личностны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ть навык  работы  в группе, развивать внимание, ловкость, координ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85840" y="981000"/>
          <a:ext cx="8389800" cy="3992760"/>
        </p:xfrm>
        <a:graphic>
          <a:graphicData uri="http://schemas.openxmlformats.org/drawingml/2006/table">
            <a:tbl>
              <a:tblPr/>
              <a:tblGrid>
                <a:gridCol w="2341440"/>
                <a:gridCol w="3251160"/>
                <a:gridCol w="279720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проблемно-поисковой технологи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0400">
                <a:tc>
                  <a:txBody>
                    <a:bodyPr anchor="t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роблемной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т план урока, организует беседу, которая помогает обучающимся сформулировать цели и задачи на уро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вые упражнения в движен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на месте с максимальной частотой шагов и последующим рывком по сигналу. ОРУ с мячом.  Стойка игрока; перемещение в стойке приставными шагами боком, лицом и спиной вперед;     повороты без мяча (о);   ловля и передача мяча двумя руками от груди на месте в парах. Челночный бег 3х10м с подбрасыванием мяча над собой;  игра « Борьба за мяч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ятся с планом, принимают участие в беседе, формулируют 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5840" y="981000"/>
          <a:ext cx="8389800" cy="3810240"/>
        </p:xfrm>
        <a:graphic>
          <a:graphicData uri="http://schemas.openxmlformats.org/drawingml/2006/table">
            <a:tbl>
              <a:tblPr/>
              <a:tblGrid>
                <a:gridCol w="2341440"/>
                <a:gridCol w="3251160"/>
                <a:gridCol w="279720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проблемно-поисковой технологи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17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Формулирование пробл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вигает проблем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 эмоциональный настрой на игр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 параллель с ранее изученным материалом. Организует учащихся по исследованию проблемной ситу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предлагает учащимся самостоятельно придумать 2-3 эстафеты с ведением мяча и передачей его способом от груди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ет совместно с учениками наиболее интересный вариант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напоминает о соблюдении правил и уважительном, доброжелательном отношении друг к друг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умывают эстафеты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ятся на две команды. Выбирают капитана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евнуются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ают ошибки. Исправляют их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ют замечания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ют свой результат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аются быть взаимо-вежливыми в процессе соревнования и обсуждения ошибок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ют: добились ли поставленной перед собой це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85840" y="981000"/>
          <a:ext cx="8389800" cy="3992760"/>
        </p:xfrm>
        <a:graphic>
          <a:graphicData uri="http://schemas.openxmlformats.org/drawingml/2006/table">
            <a:tbl>
              <a:tblPr/>
              <a:tblGrid>
                <a:gridCol w="2341440"/>
                <a:gridCol w="3251160"/>
                <a:gridCol w="279720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проблемно-поисковой технологи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Выдвижение гипотез учащими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ить занимающихся на две группы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ние мяча по кругу в групп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первой группы, в колонне по одному двигаются по кругу, ведя мяч правой и левой рукой, поочеред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соотносят свои действия с командами учителя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ируют свои действия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жно относятся к своему здоровью и здоровью товарищ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85840" y="981000"/>
          <a:ext cx="8389800" cy="3992760"/>
        </p:xfrm>
        <a:graphic>
          <a:graphicData uri="http://schemas.openxmlformats.org/drawingml/2006/table">
            <a:tbl>
              <a:tblPr/>
              <a:tblGrid>
                <a:gridCol w="2341440"/>
                <a:gridCol w="3251160"/>
                <a:gridCol w="279720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проблемно-поисковой технологи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иск способов решения пробл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ирует выполнение рабо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т:-индивидуальный контроль; выборочный контрол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ует:взаимопроверку; коллективную проверку; проверку выполнения упражнения; беседу по уточнению и конкретизации первичных знаний; оценочные высказывания обучающихся; обсуждение способов решения; поисковую работу обучающихся (постановка цели и план действий); самостоятельную работу с учебником; беседу, связывая результаты урока с его целя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ют: самооценку; самопроверку; взаимопроверку; предварительную оценк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85840" y="981000"/>
          <a:ext cx="8389800" cy="3810240"/>
        </p:xfrm>
        <a:graphic>
          <a:graphicData uri="http://schemas.openxmlformats.org/drawingml/2006/table">
            <a:tbl>
              <a:tblPr/>
              <a:tblGrid>
                <a:gridCol w="2341440"/>
                <a:gridCol w="3251160"/>
                <a:gridCol w="279720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проблемно-поисковой технологи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17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Формулирование выводов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еория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Организует воспроизведение и коррекцию опорных знаний обучающихс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проведение проверки знаний по предупреждению травматизм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даёт первоначальные знания по игре в баскетб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ют на вопросы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85840" y="981000"/>
          <a:ext cx="8389800" cy="3808440"/>
        </p:xfrm>
        <a:graphic>
          <a:graphicData uri="http://schemas.openxmlformats.org/drawingml/2006/table">
            <a:tbl>
              <a:tblPr/>
              <a:tblGrid>
                <a:gridCol w="2341440"/>
                <a:gridCol w="3251160"/>
                <a:gridCol w="279720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проблемно-поисковой технологи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16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рименение выводов на практ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актика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Демонстрация техники выполнения приемов передвижения, остановок, поворотов и стоек, бросков мяча в щит и кольц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повтор упражнений за учител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85840" y="981000"/>
          <a:ext cx="8389800" cy="4724640"/>
        </p:xfrm>
        <a:graphic>
          <a:graphicData uri="http://schemas.openxmlformats.org/drawingml/2006/table">
            <a:tbl>
              <a:tblPr/>
              <a:tblGrid>
                <a:gridCol w="2341440"/>
                <a:gridCol w="3251160"/>
                <a:gridCol w="279720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проблемно-поисковой технологи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Оценка результатов деятельности (рефлекс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ет вопросы по теоретической части уро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 эстафеты с баскетбольным мячом, включив изученные элементы баскетбол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т определить уровень своих достиж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 малоподвижную игру на внимание «3-13-33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для осмысления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ть вопрос: «Где можно применить умения полученные на уроке?»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мнить о важности ЗОЖ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мнить о правильной осанке.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ют на поставленные вопросы, соревнуются в эстафетах, играют в иг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7</cp:lastModifiedBy>
  <dcterms:modified xsi:type="dcterms:W3CDTF">2022-10-17T17:02:26Z</dcterms:modified>
  <cp:revision>223</cp:revision>
  <dc:subject/>
  <dc:title>МИНОБРНАУКИ РОССИИ Федеральное государственное автономное образовательное учреждение высшего профессионального образования  «ЮЖНЫЙ ФЕДЕРАЛЬНЫЙ УНИВЕРСИТЕТ» ПЕДАГОГИЧЕСКИЙ ИНСТИТУТ Факультет физической культуры и спорта Кафедра теоретических основ физического воспитания</dc:title>
</cp:coreProperties>
</file>