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11-7383-4640-A4AE-8143A1F0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58B-A5AB-421D-BA21-BFE8854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990-1538-4767-8829-0B9566C6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46-42A5-4376-954D-E0BB4249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3F24-F8FE-4930-86E6-AFA929A3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7F74-4047-4DB3-8D92-FFAC566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8D83-34AF-4970-9F35-E857475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6094-E733-4ACB-9ABE-833DF34E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2F6-3AE9-4A63-9528-F5DBCEA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470-4569-4F0F-A17B-F62194E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DB7-A356-4EE0-A6FF-150B774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06F-78C6-4AA7-9DC6-41AA8F53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8E42-C183-4025-8313-65189EE4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B77E-5876-4CF4-B3A0-06C928C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864-9FA4-4C95-B8F8-31DFA5A4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2A37-A3FB-4A5D-A201-396D2429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15C9-AE07-46AF-8E22-CBE609E3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B8AE-98F4-4720-A32B-92D45293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18FA-850A-4CA5-87E7-633E510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14EA-2C75-4F5A-AE3F-74293798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29DB-96A0-4BA9-9746-846F77C6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1907-E24D-4DB8-94DF-B19DF5CC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FD4-7D9D-4B2B-989C-4A5406D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E77D-DAC1-4A52-B3EA-F28C9DB0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A8CA-630F-4EBE-8B0B-1549559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D16E-8B50-410F-8EE0-A7962AB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ABFD-B0D4-4317-BB99-A6FA077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AAB3-7F2D-4EC1-961A-3E6E334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F983-2A17-4FA7-8026-9736B46C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775A-0C93-4419-BF24-BB815A71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2D02-84B8-47F0-893B-A1248A4A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FF29-F393-4310-ADA3-BBCB479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50C3-01B5-423F-BBF1-2BB1713E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420-4026-47FD-8A66-82C5861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4571-3372-4122-B000-98675F8F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05EC-2D6F-44AD-B8EB-2409CD5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080C-2C08-41B2-B3B5-1C52E758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3C6F-8BC1-45B4-B288-20F88E0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59C6-DF2E-4A0A-AC91-7FA57AB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5582-BABB-4650-9306-95FFE68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AB79-5967-42D1-960F-CE8E0AC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0AC9-DFA5-4A33-B88D-3232BB7D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471C-0AE8-483C-8CCB-BCD78F1D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C02-7E22-484A-BB40-61AFFF3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ABD-461A-4C36-B648-93DEF48E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405-CE4C-4D4D-9A71-D1EE90E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E65-7B9A-4FBC-BEB3-9E4309E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E60-90A7-4FD6-A543-4AEEF01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9FFC-26CD-43C4-B944-563ABBB786F1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D24-2245-42E5-A771-A1EDE1C06D8B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D59-6BE7-4E1E-A448-DA32E68A4305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04CD-AF18-4EA1-8CFC-E0E00DC01B89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67272"/>
                </a:solidFill>
                <a:latin typeface="Times New Roman"/>
                <a:ea typeface="Times New Roman"/>
              </a:rPr>
              <a:t>МБОУ «МАЙСКАЯ СОШ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810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Александр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Сергеевич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Пушкин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4681440" y="539424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7272"/>
                </a:solidFill>
                <a:latin typeface="Century Gothic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7272"/>
                </a:solidFill>
                <a:latin typeface="Century Gothic"/>
              </a:rPr>
              <a:t>Нурлубаева Индира Сипулла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2320"/>
            <a:ext cx="799308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ЛЕКСАНДР СЕРГЕЕВИЧ ПУШКИН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5000" y="1545840"/>
            <a:ext cx="4143240" cy="49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7" name="Picture 2" descr="http://www.amulets.su/ru/basics/samocveti/page-04/tropinin(1).jpg"/>
          <p:cNvPicPr/>
          <p:nvPr/>
        </p:nvPicPr>
        <p:blipFill>
          <a:blip r:embed="rId1"/>
          <a:stretch/>
        </p:blipFill>
        <p:spPr>
          <a:xfrm>
            <a:off x="4668840" y="1316160"/>
            <a:ext cx="429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8000" y="5331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160" y="533520"/>
            <a:ext cx="44384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июня 1799 года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18000" y="2209680"/>
            <a:ext cx="320040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Рисунок 6" descr="pushkin_04.jpg"/>
          <p:cNvPicPr/>
          <p:nvPr/>
        </p:nvPicPr>
        <p:blipFill>
          <a:blip r:embed="rId1"/>
          <a:stretch/>
        </p:blipFill>
        <p:spPr>
          <a:xfrm>
            <a:off x="5508720" y="2590920"/>
            <a:ext cx="24717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8502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 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Сергей Львович               Надежда Осиповн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Пушкин                              Пушкина(Ганнибал)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       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5" name="Picture 2" descr="http://nvk-school3.narod.ru/photo21.jpg"/>
          <p:cNvPicPr/>
          <p:nvPr/>
        </p:nvPicPr>
        <p:blipFill>
          <a:blip r:embed="rId1"/>
          <a:stretch/>
        </p:blipFill>
        <p:spPr>
          <a:xfrm>
            <a:off x="324000" y="189000"/>
            <a:ext cx="4152600" cy="417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www.sovsekretno.ru/app/image/2001/06/5/993b.jpg"/>
          <p:cNvPicPr/>
          <p:nvPr/>
        </p:nvPicPr>
        <p:blipFill>
          <a:blip r:embed="rId2"/>
          <a:stretch/>
        </p:blipFill>
        <p:spPr>
          <a:xfrm>
            <a:off x="4716360" y="173160"/>
            <a:ext cx="4097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Любовь к родному языку маленькому Пушкину привили бабушка, 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Мария Алексеевна Ганнибал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, превосходно говорившая и писавшая по-русски, и </a:t>
            </a:r>
            <a:br>
              <a:rPr sz="2900"/>
            </a:b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няня Арина Родионовна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9" name="Picture 6" descr="gannibal_m_a"/>
          <p:cNvPicPr/>
          <p:nvPr/>
        </p:nvPicPr>
        <p:blipFill>
          <a:blip r:embed="rId1"/>
          <a:stretch/>
        </p:blipFill>
        <p:spPr>
          <a:xfrm>
            <a:off x="6300720" y="3554280"/>
            <a:ext cx="2521080" cy="3167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1042920" y="3770280"/>
            <a:ext cx="22449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Albionic"/>
              </a:rPr>
              <a:t>Царскосельский лицей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4" name="Picture 12" descr="http://tourtut.ru/photogallery/albums/userpics/10001/litsei1.jpg"/>
          <p:cNvPicPr/>
          <p:nvPr/>
        </p:nvPicPr>
        <p:blipFill>
          <a:blip r:embed="rId1"/>
          <a:stretch/>
        </p:blipFill>
        <p:spPr>
          <a:xfrm>
            <a:off x="0" y="372960"/>
            <a:ext cx="9036000" cy="446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418000" y="5331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533520"/>
            <a:ext cx="44384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талии Николаевне Гончаровой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18000" y="2209680"/>
            <a:ext cx="320040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8" name="Picture 4" descr="http://img1.liveinternet.ru/images/attach/c/0/47/904/47904906_60232_or.jpg"/>
          <p:cNvPicPr/>
          <p:nvPr/>
        </p:nvPicPr>
        <p:blipFill>
          <a:blip r:embed="rId1"/>
          <a:stretch/>
        </p:blipFill>
        <p:spPr>
          <a:xfrm>
            <a:off x="5029200" y="304920"/>
            <a:ext cx="39988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4114800"/>
            <a:ext cx="6383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1" name="Picture 3" descr="C:\Documents and Settings\Admin\Рабочий стол\Пушкин\Duel_of_Pushlin_and_dAnthes_Naumov1850.jpg"/>
          <p:cNvPicPr/>
          <p:nvPr/>
        </p:nvPicPr>
        <p:blipFill>
          <a:blip r:embed="rId1"/>
          <a:stretch/>
        </p:blipFill>
        <p:spPr>
          <a:xfrm>
            <a:off x="684360" y="58680"/>
            <a:ext cx="79912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Прожив 2 дня в страшных мучениях,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Пушкин скончался  в 1837 г.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5" name="Picture 2" descr="http://img-fotki.yandex.ru/get/26/tlipatova5.7/0_11087_5fdcabed_XL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06:43:18Z</dcterms:created>
  <dc:creator>Gigabyte</dc:creator>
  <dc:description/>
  <dc:language>en-US</dc:language>
  <cp:lastModifiedBy>Diesel</cp:lastModifiedBy>
  <dcterms:modified xsi:type="dcterms:W3CDTF">2022-12-11T10:55:50Z</dcterms:modified>
  <cp:revision>63</cp:revision>
  <dc:subject/>
  <dc:title>Сергей Козлов</dc:title>
</cp:coreProperties>
</file>