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E61-ABC1-4484-AF7F-815EB3DA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707-8C4D-4FD6-86C2-37694B9E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02C-2748-46C3-B013-617A36AA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013-2422-47E9-A7A0-4DBCD148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3329-1005-4DA7-B9F7-E2945D0F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39C6-A57E-413D-B1B9-701A2DC4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A4E1-DF70-4206-A289-CB422137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B017-FE8F-4BD9-91C7-D0CE9AFA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2F59-7300-41CE-9E02-3922B1AD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7F6F-36FA-49BA-8558-9DF5B4B5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A420-60E9-4908-8A40-A6089248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F6A-0AE7-4096-87B9-C931DD8B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7915-E2E4-4D30-9B83-8280E1ED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82A4-2386-493D-BE65-8A644EFD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1718-D29C-4D3F-97BD-A11AA6F1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810B-C8F0-4060-BA96-486C7AF3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9DD2-3023-40C8-83C4-401D5AB6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4FBF-B81A-469A-8E04-FDC72EEC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CB9B-400A-42D9-925C-699765A5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D682-F75D-42E5-AFCB-4F503207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21B0-8F8E-467D-897E-C5912ED5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BF51-FF1F-41D4-BBEA-C473D477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740-1ABB-4E75-ADFB-FD79B721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E1A3-4B3B-4758-8818-61543939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9B15-731C-435D-97DB-D729C05F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40D2D-9D9B-437C-AE44-D1434FFB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39AB-F340-4913-A75E-71B40079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935F-2C75-45CE-97C1-0195494E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AD47-F552-4309-B845-970ED037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CD9F-BDDF-4A97-A74C-01E0ECB6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823C3-0C1B-4966-A390-E3520B42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DCBF9-AF99-4156-BFAC-600434DF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71F7-F30E-42A4-8FE3-681867D7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23B-DE36-44B9-9C3D-1E8D0CA7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FB81-0CA5-4E86-BFBE-A7F92214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795C-0FFD-4A47-A33C-8264F788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834A9-B726-4184-ABD2-6E54AC9E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A5615-373B-4A02-8D93-334DB20C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59083-3CA5-4691-81BE-F508D27D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D9278-9AF3-43FB-936E-F3F3028E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CE61-0324-4172-A62E-250379E5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5AC5-6355-4456-9E81-AA70079E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C73FB-45B0-4513-A65E-C15FCF83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1C7-4259-4796-A29A-33FA737E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39B-5BC9-4E9B-89FF-C2213859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298-81F4-402E-909B-D71A74B0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5AC-6432-4F51-B891-4C3AC9E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368-7A3D-40F4-ABDC-2E93E583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710C-4C25-42A3-8E04-F0F7B0B4946B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8E5D-36CE-4AD6-A9AD-6EEEC97B87F4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8258-3605-4866-8FC4-87BD1957A2C2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603B-0764-4DE7-9A5D-F1A98FB0DEAF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7772400" cy="12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67272"/>
                </a:solidFill>
                <a:latin typeface="Times New Roman"/>
                <a:ea typeface="Times New Roman"/>
              </a:rPr>
              <a:t>МБОУ «МАЙСКАЯ СОШ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8104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ickham Script Two"/>
              </a:rPr>
              <a:t>Александр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ickham Script Two"/>
              </a:rPr>
              <a:t>Сергеевич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ickham Script Two"/>
              </a:rPr>
              <a:t>Пушкин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4681440" y="539424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7272"/>
                </a:solidFill>
                <a:latin typeface="Century Gothic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7272"/>
                </a:solidFill>
                <a:latin typeface="Century Gothic"/>
              </a:rPr>
              <a:t>Нурлубаева Индира Сипулла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22320"/>
            <a:ext cx="799308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ЛЕКСАНДР СЕРГЕЕВИЧ ПУШКИН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95000" y="1545840"/>
            <a:ext cx="4143240" cy="49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7" name="Picture 2" descr="http://www.amulets.su/ru/basics/samocveti/page-04/tropinin(1).jpg"/>
          <p:cNvPicPr/>
          <p:nvPr/>
        </p:nvPicPr>
        <p:blipFill>
          <a:blip r:embed="rId1"/>
          <a:stretch/>
        </p:blipFill>
        <p:spPr>
          <a:xfrm>
            <a:off x="4668840" y="1316160"/>
            <a:ext cx="4299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18000" y="533160"/>
            <a:ext cx="3200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шкин-ребенок. 1800-1802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160" y="533520"/>
            <a:ext cx="44384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 июня 1799 года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18000" y="2209680"/>
            <a:ext cx="320040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1" name="Рисунок 6" descr="pushkin_04.jpg"/>
          <p:cNvPicPr/>
          <p:nvPr/>
        </p:nvPicPr>
        <p:blipFill>
          <a:blip r:embed="rId1"/>
          <a:stretch/>
        </p:blipFill>
        <p:spPr>
          <a:xfrm>
            <a:off x="5508720" y="2590920"/>
            <a:ext cx="24717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85024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bat"/>
              </a:rPr>
              <a:t> 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bat"/>
              </a:rPr>
              <a:t>Сергей Львович               Надежда Осиповн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bat"/>
              </a:rPr>
              <a:t>Пушкин                              Пушкина(Ганнибал)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bat"/>
              </a:rPr>
              <a:t>                                              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533520"/>
            <a:ext cx="394956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62000" y="533520"/>
            <a:ext cx="3948120" cy="37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5" name="Picture 2" descr="http://nvk-school3.narod.ru/photo21.jpg"/>
          <p:cNvPicPr/>
          <p:nvPr/>
        </p:nvPicPr>
        <p:blipFill>
          <a:blip r:embed="rId1"/>
          <a:stretch/>
        </p:blipFill>
        <p:spPr>
          <a:xfrm>
            <a:off x="324000" y="189000"/>
            <a:ext cx="4152600" cy="417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www.sovsekretno.ru/app/image/2001/06/5/993b.jpg"/>
          <p:cNvPicPr/>
          <p:nvPr/>
        </p:nvPicPr>
        <p:blipFill>
          <a:blip r:embed="rId2"/>
          <a:stretch/>
        </p:blipFill>
        <p:spPr>
          <a:xfrm>
            <a:off x="4716360" y="173160"/>
            <a:ext cx="4097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Любовь к родному языку маленькому Пушкину привили бабушка, </a:t>
            </a: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Мария Алексеевна Ганнибал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, превосходно говорившая и писавшая по-русски, и </a:t>
            </a:r>
            <a:br>
              <a:rPr sz="2900"/>
            </a:b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няня Арина Родионовна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9" name="Picture 6" descr="gannibal_m_a"/>
          <p:cNvPicPr/>
          <p:nvPr/>
        </p:nvPicPr>
        <p:blipFill>
          <a:blip r:embed="rId1"/>
          <a:stretch/>
        </p:blipFill>
        <p:spPr>
          <a:xfrm>
            <a:off x="6300720" y="3554280"/>
            <a:ext cx="2521080" cy="3167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29545092_23255253_1208780965_2"/>
          <p:cNvPicPr/>
          <p:nvPr/>
        </p:nvPicPr>
        <p:blipFill>
          <a:blip r:embed="rId2"/>
          <a:stretch/>
        </p:blipFill>
        <p:spPr>
          <a:xfrm>
            <a:off x="1042920" y="3770280"/>
            <a:ext cx="22449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Albionic"/>
              </a:rPr>
              <a:t>Царскосельский лицей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533520"/>
            <a:ext cx="394956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62000" y="533520"/>
            <a:ext cx="3948120" cy="37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4" name="Picture 12" descr="http://tourtut.ru/photogallery/albums/userpics/10001/litsei1.jpg"/>
          <p:cNvPicPr/>
          <p:nvPr/>
        </p:nvPicPr>
        <p:blipFill>
          <a:blip r:embed="rId1"/>
          <a:stretch/>
        </p:blipFill>
        <p:spPr>
          <a:xfrm>
            <a:off x="0" y="372960"/>
            <a:ext cx="9036000" cy="446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418000" y="533160"/>
            <a:ext cx="3200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533520"/>
            <a:ext cx="44384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талии Николаевне Гончаровой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18000" y="2209680"/>
            <a:ext cx="320040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8" name="Picture 4" descr="http://img1.liveinternet.ru/images/attach/c/0/47/904/47904906_60232_or.jpg"/>
          <p:cNvPicPr/>
          <p:nvPr/>
        </p:nvPicPr>
        <p:blipFill>
          <a:blip r:embed="rId1"/>
          <a:stretch/>
        </p:blipFill>
        <p:spPr>
          <a:xfrm>
            <a:off x="5029200" y="304920"/>
            <a:ext cx="399888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4114800"/>
            <a:ext cx="6383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7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1" name="Picture 3" descr="C:\Documents and Settings\Admin\Рабочий стол\Пушкин\Duel_of_Pushlin_and_dAnthes_Naumov1850.jpg"/>
          <p:cNvPicPr/>
          <p:nvPr/>
        </p:nvPicPr>
        <p:blipFill>
          <a:blip r:embed="rId1"/>
          <a:stretch/>
        </p:blipFill>
        <p:spPr>
          <a:xfrm>
            <a:off x="684360" y="58680"/>
            <a:ext cx="79912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Прожив 2 дня в страшных мучениях,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Пушкин скончался  в 1837 г.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394956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0" y="533520"/>
            <a:ext cx="3948120" cy="37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5" name="Picture 2" descr="http://img-fotki.yandex.ru/get/26/tlipatova5.7/0_11087_5fdcabed_XL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06:43:18Z</dcterms:created>
  <dc:creator>Gigabyte</dc:creator>
  <dc:description/>
  <dc:language>en-US</dc:language>
  <cp:lastModifiedBy>Diesel</cp:lastModifiedBy>
  <dcterms:modified xsi:type="dcterms:W3CDTF">2022-12-11T10:55:50Z</dcterms:modified>
  <cp:revision>63</cp:revision>
  <dc:subject/>
  <dc:title>Сергей Козлов</dc:title>
</cp:coreProperties>
</file>