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107-BB68-43A2-998A-BC7E49EE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A7F-7A8B-4765-B1DF-588C2009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775-33D7-4C01-9DD5-FA0C5F78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77B-398C-4FB4-BF32-D4204B24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17E2-9C9A-4725-929B-2C6B3B0B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A6B5-AC2D-4A93-8ED3-B57F4F88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482F-7DC6-4428-B419-C33B8852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886E-B020-4D24-BC81-3A67E835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1F62-92BF-40F6-8AFB-F886199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2003-D007-4903-B9D1-509007F8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0DA4-BB58-4B3B-B5F9-AAA3FC63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137-0345-4453-B632-81AA7809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946A-6BD1-4224-86B1-E833B912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9CE1-6DB1-4EE2-959C-6418BDFA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9E1-026D-4A06-A217-C19ECC50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873A-23FA-4BAF-99D3-0A77156F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D360-0365-4564-9248-6343CB4D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276-D978-4332-B29A-385CE4AD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FFD-5620-4FB4-95F2-CCE25834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6CB-3880-41E6-8D10-F325E69B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FCA-43AD-45A7-BF2F-2A52EA42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590-5227-42C3-A0C7-D433181E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1F0-7BF4-452B-98E4-235DCBB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A0C-629A-4846-BABB-1619934D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5773-B259-472F-A745-DEE8FF13F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" Target=""/><Relationship Id="rId6" Type="http://schemas.openxmlformats.org/officeDocument/2006/relationships/image" Target="../media/image18.png"/><Relationship Id="rId7" Type="http://schemas.openxmlformats.org/officeDocument/2006/relationships/slide" Target="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928800" y="214308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хнология оценивания образовательных достижений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Группа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Прямоугольник 2"/>
            <p:cNvSpPr/>
            <p:nvPr/>
          </p:nvSpPr>
          <p:spPr>
            <a:xfrm>
              <a:off x="323640" y="1844640"/>
              <a:ext cx="8496360" cy="9363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арi"/>
            <p:cNvPicPr/>
            <p:nvPr/>
          </p:nvPicPr>
          <p:blipFill>
            <a:blip r:embed="rId2"/>
            <a:stretch/>
          </p:blipFill>
          <p:spPr>
            <a:xfrm>
              <a:off x="2843640" y="1916640"/>
              <a:ext cx="129600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"/>
            <p:cNvPicPr/>
            <p:nvPr/>
          </p:nvPicPr>
          <p:blipFill>
            <a:blip r:embed="rId3"/>
            <a:stretch/>
          </p:blipFill>
          <p:spPr>
            <a:xfrm>
              <a:off x="514800" y="1926720"/>
              <a:ext cx="11044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"/>
            <p:cNvPicPr/>
            <p:nvPr/>
          </p:nvPicPr>
          <p:blipFill>
            <a:blip r:embed="rId4"/>
            <a:stretch/>
          </p:blipFill>
          <p:spPr>
            <a:xfrm>
              <a:off x="6367680" y="1831320"/>
              <a:ext cx="1235520" cy="9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Управляющая кнопка: настраиваемая 7">
            <a:hlinkClick r:id="rId5" action="ppaction://hlinksldjump"/>
          </p:cNvPr>
          <p:cNvSpPr/>
          <p:nvPr/>
        </p:nvSpPr>
        <p:spPr>
          <a:xfrm>
            <a:off x="8459640" y="6308640"/>
            <a:ext cx="505080" cy="478080"/>
          </a:xfrm>
          <a:custGeom>
            <a:avLst/>
            <a:gdLst>
              <a:gd name="textAreaLeft" fmla="*/ 30960 w 505080"/>
              <a:gd name="textAreaRight" fmla="*/ 474120 w 505080"/>
              <a:gd name="textAreaTop" fmla="*/ 30960 h 478080"/>
              <a:gd name="textAreaBottom" fmla="*/ 447120 h 478080"/>
            </a:gdLst>
            <a:ahLst/>
            <a:rect l="textAreaLeft" t="textAreaTop" r="textAreaRight" b="textAreaBottom"/>
            <a:pathLst>
              <a:path w="22819" h="21600">
                <a:moveTo>
                  <a:pt x="0" y="0"/>
                </a:moveTo>
                <a:lnTo>
                  <a:pt x="22819" y="0"/>
                </a:lnTo>
                <a:lnTo>
                  <a:pt x="22819" y="21600"/>
                </a:lnTo>
                <a:lnTo>
                  <a:pt x="0" y="21600"/>
                </a:lnTo>
                <a:close/>
              </a:path>
              <a:path fill="lightenLess" w="22819" h="21600">
                <a:moveTo>
                  <a:pt x="0" y="0"/>
                </a:moveTo>
                <a:lnTo>
                  <a:pt x="22819" y="0"/>
                </a:lnTo>
                <a:lnTo>
                  <a:pt x="21419" y="1400"/>
                </a:lnTo>
                <a:lnTo>
                  <a:pt x="1400" y="1400"/>
                </a:lnTo>
                <a:close/>
              </a:path>
              <a:path fill="darken" w="22819" h="21600">
                <a:moveTo>
                  <a:pt x="22819" y="0"/>
                </a:moveTo>
                <a:lnTo>
                  <a:pt x="22819" y="21600"/>
                </a:lnTo>
                <a:lnTo>
                  <a:pt x="21419" y="20200"/>
                </a:lnTo>
                <a:lnTo>
                  <a:pt x="21419" y="1400"/>
                </a:lnTo>
                <a:close/>
              </a:path>
              <a:path fill="darkenLess" w="22819" h="21600">
                <a:moveTo>
                  <a:pt x="22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9" y="20200"/>
                </a:lnTo>
                <a:close/>
              </a:path>
              <a:path fill="lighten" w="22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2800"/>
                </a:solidFill>
                <a:latin typeface="Calibri"/>
              </a:rPr>
              <a:t>Педагогические приемы</a:t>
            </a:r>
            <a:br>
              <a:rPr sz="3200"/>
            </a:br>
            <a:r>
              <a:rPr b="1" lang="ru-RU" sz="3200" spc="-1" strike="noStrike">
                <a:solidFill>
                  <a:srgbClr val="502800"/>
                </a:solidFill>
                <a:latin typeface="Calibri"/>
              </a:rPr>
              <a:t>формирования действий контроля и оценки           у младших 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628640"/>
          <a:ext cx="8964720" cy="4919760"/>
        </p:xfrm>
        <a:graphic>
          <a:graphicData uri="http://schemas.openxmlformats.org/drawingml/2006/table">
            <a:tbl>
              <a:tblPr/>
              <a:tblGrid>
                <a:gridCol w="4392720"/>
                <a:gridCol w="4572000"/>
              </a:tblGrid>
              <a:tr h="491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Волшебные линеечк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Прогностическая оценк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Задания-ловушк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Составление заданий             с ловушкам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Составление задачи, подобной данно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Классификация задач             по способу их решени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Обнаружение ошибк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Создание помощник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Многоступенчатый выбор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Орфографические софизмы»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Group 57"/>
          <p:cNvGrpSpPr/>
          <p:nvPr/>
        </p:nvGrpSpPr>
        <p:grpSpPr>
          <a:xfrm>
            <a:off x="0" y="0"/>
            <a:ext cx="755640" cy="692280"/>
            <a:chOff x="0" y="0"/>
            <a:chExt cx="755640" cy="692280"/>
          </a:xfrm>
        </p:grpSpPr>
        <p:sp>
          <p:nvSpPr>
            <p:cNvPr id="142" name="AutoShape 58"/>
            <p:cNvSpPr/>
            <p:nvPr/>
          </p:nvSpPr>
          <p:spPr>
            <a:xfrm>
              <a:off x="50400" y="46440"/>
              <a:ext cx="6544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9"/>
            <p:cNvSpPr/>
            <p:nvPr/>
          </p:nvSpPr>
          <p:spPr>
            <a:xfrm>
              <a:off x="49680" y="45360"/>
              <a:ext cx="644040" cy="594720"/>
            </a:xfrm>
            <a:prstGeom prst="ellipse">
              <a:avLst/>
            </a:pr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60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0" y="0"/>
              <a:ext cx="755640" cy="69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557360"/>
          <a:ext cx="8820000" cy="3816360"/>
        </p:xfrm>
        <a:graphic>
          <a:graphicData uri="http://schemas.openxmlformats.org/drawingml/2006/table">
            <a:tbl>
              <a:tblPr/>
              <a:tblGrid>
                <a:gridCol w="6762600"/>
                <a:gridCol w="2057400"/>
              </a:tblGrid>
              <a:tr h="6364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итери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r" pos="1100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(+ ┴ –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82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ю, что такое прям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03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ею чертить прямы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64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ею отличать прямые от других геометрических фигу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82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ею отмечать точки лежащие и не лежащие на прямой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64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вод: работа была успешн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Rectangle 1"/>
          <p:cNvSpPr/>
          <p:nvPr/>
        </p:nvSpPr>
        <p:spPr>
          <a:xfrm>
            <a:off x="0" y="-43920"/>
            <a:ext cx="8686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110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очный 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110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Прям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10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250920" y="1413000"/>
            <a:ext cx="4286160" cy="545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находить свою ошиб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сравнивать результат своей работы с верным ответом, с ответом другого ученика (верным или неверным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установить причину своей ошибки (трудность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характеризовать ошиб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определить пути исправления своей ошиб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что нужно сделать?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корректировать свою работу по результатам провер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держимое 6"/>
          <p:cNvSpPr/>
          <p:nvPr/>
        </p:nvSpPr>
        <p:spPr>
          <a:xfrm>
            <a:off x="4643280" y="1413000"/>
            <a:ext cx="4321440" cy="526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ый диалог: ответ на вопрос «что сделано?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 на сравнение полученного учеником ответа с верным результат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 на оценку достоверности …верн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евер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иск ошибки и ее исправление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 с установкой на число допущенных ошибо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 с установкой на характер ошибо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, в которых даны «ключи» к проверке;  задания вида «Проверь себя» и т.д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4"/>
          <p:cNvSpPr/>
          <p:nvPr/>
        </p:nvSpPr>
        <p:spPr>
          <a:xfrm>
            <a:off x="826920" y="333360"/>
            <a:ext cx="82296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онтроль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539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полагание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уты рефлек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8"/>
          <p:cNvGrpSpPr/>
          <p:nvPr/>
        </p:nvGrpSpPr>
        <p:grpSpPr>
          <a:xfrm>
            <a:off x="2843280" y="2924280"/>
            <a:ext cx="1152360" cy="2736000"/>
            <a:chOff x="2843280" y="2924280"/>
            <a:chExt cx="1152360" cy="2736000"/>
          </a:xfrm>
        </p:grpSpPr>
        <p:sp>
          <p:nvSpPr>
            <p:cNvPr id="155" name="Oval 6"/>
            <p:cNvSpPr/>
            <p:nvPr/>
          </p:nvSpPr>
          <p:spPr>
            <a:xfrm>
              <a:off x="2843280" y="2924280"/>
              <a:ext cx="1152360" cy="100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7"/>
            <p:cNvSpPr/>
            <p:nvPr/>
          </p:nvSpPr>
          <p:spPr>
            <a:xfrm flipV="1">
              <a:off x="2843280" y="3931560"/>
              <a:ext cx="1152360" cy="1728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9"/>
          <p:cNvSpPr/>
          <p:nvPr/>
        </p:nvSpPr>
        <p:spPr>
          <a:xfrm>
            <a:off x="4932360" y="333360"/>
            <a:ext cx="4032360" cy="4967280"/>
          </a:xfrm>
          <a:prstGeom prst="wedgeEllipseCallout">
            <a:avLst>
              <a:gd name="adj1" fmla="val -72046"/>
              <a:gd name="adj2" fmla="val 12064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егодня на уроке 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не этот урок дал для жизн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ставил задумать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не нужно еще поработать н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Я затрудняюсь в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41964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08000" y="115920"/>
            <a:ext cx="4392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Приёмы, средства и формы оцен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684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лшебные столбики, дан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ние по этало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тельная оценка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альный под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балльная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12"/>
          <p:cNvGrpSpPr/>
          <p:nvPr/>
        </p:nvGrpSpPr>
        <p:grpSpPr>
          <a:xfrm>
            <a:off x="5724360" y="404640"/>
            <a:ext cx="3095280" cy="2519280"/>
            <a:chOff x="5724360" y="404640"/>
            <a:chExt cx="3095280" cy="2519280"/>
          </a:xfrm>
        </p:grpSpPr>
        <p:sp>
          <p:nvSpPr>
            <p:cNvPr id="162" name="WordArt 13"/>
            <p:cNvSpPr txBox="1"/>
            <p:nvPr/>
          </p:nvSpPr>
          <p:spPr>
            <a:xfrm>
              <a:off x="5724360" y="2610000"/>
              <a:ext cx="978480" cy="11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Аккуратнос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  <p:sp>
          <p:nvSpPr>
            <p:cNvPr id="163" name="WordArt 14"/>
            <p:cNvSpPr txBox="1"/>
            <p:nvPr/>
          </p:nvSpPr>
          <p:spPr>
            <a:xfrm>
              <a:off x="6646680" y="2610000"/>
              <a:ext cx="1250280" cy="31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Точ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в конце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предложен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</p:txBody>
        </p:sp>
        <p:sp>
          <p:nvSpPr>
            <p:cNvPr id="164" name="WordArt 15"/>
            <p:cNvSpPr txBox="1"/>
            <p:nvPr/>
          </p:nvSpPr>
          <p:spPr>
            <a:xfrm>
              <a:off x="7897320" y="2610000"/>
              <a:ext cx="922320" cy="23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Заглавная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букв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</p:txBody>
        </p:sp>
        <p:grpSp>
          <p:nvGrpSpPr>
            <p:cNvPr id="165" name="Group 16"/>
            <p:cNvGrpSpPr/>
            <p:nvPr/>
          </p:nvGrpSpPr>
          <p:grpSpPr>
            <a:xfrm>
              <a:off x="5995080" y="404640"/>
              <a:ext cx="2499840" cy="2124360"/>
              <a:chOff x="5995080" y="404640"/>
              <a:chExt cx="2499840" cy="2124360"/>
            </a:xfrm>
          </p:grpSpPr>
          <p:grpSp>
            <p:nvGrpSpPr>
              <p:cNvPr id="166" name="Group 17"/>
              <p:cNvGrpSpPr/>
              <p:nvPr/>
            </p:nvGrpSpPr>
            <p:grpSpPr>
              <a:xfrm>
                <a:off x="5995080" y="404640"/>
                <a:ext cx="2499840" cy="2124360"/>
                <a:chOff x="5995080" y="404640"/>
                <a:chExt cx="2499840" cy="2124360"/>
              </a:xfrm>
            </p:grpSpPr>
            <p:sp>
              <p:nvSpPr>
                <p:cNvPr id="167" name="Rectangle 18"/>
                <p:cNvSpPr/>
                <p:nvPr/>
              </p:nvSpPr>
              <p:spPr>
                <a:xfrm>
                  <a:off x="8223480" y="404640"/>
                  <a:ext cx="107640" cy="2124360"/>
                </a:xfrm>
                <a:prstGeom prst="rect">
                  <a:avLst/>
                </a:prstGeom>
                <a:solidFill>
                  <a:srgbClr val="6633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9"/>
                <p:cNvGrpSpPr/>
                <p:nvPr/>
              </p:nvGrpSpPr>
              <p:grpSpPr>
                <a:xfrm>
                  <a:off x="8060760" y="680400"/>
                  <a:ext cx="434160" cy="274680"/>
                  <a:chOff x="8060760" y="680400"/>
                  <a:chExt cx="434160" cy="274680"/>
                </a:xfrm>
              </p:grpSpPr>
              <p:sp>
                <p:nvSpPr>
                  <p:cNvPr id="169" name="Line 20"/>
                  <p:cNvSpPr/>
                  <p:nvPr/>
                </p:nvSpPr>
                <p:spPr>
                  <a:xfrm>
                    <a:off x="8060760" y="680400"/>
                    <a:ext cx="434160" cy="27468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21"/>
                  <p:cNvSpPr/>
                  <p:nvPr/>
                </p:nvSpPr>
                <p:spPr>
                  <a:xfrm flipH="1">
                    <a:off x="8060760" y="680400"/>
                    <a:ext cx="434160" cy="27468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Rectangle 22"/>
                <p:cNvSpPr/>
                <p:nvPr/>
              </p:nvSpPr>
              <p:spPr>
                <a:xfrm>
                  <a:off x="7191000" y="404640"/>
                  <a:ext cx="107640" cy="2124360"/>
                </a:xfrm>
                <a:prstGeom prst="rect">
                  <a:avLst/>
                </a:prstGeom>
                <a:solidFill>
                  <a:srgbClr val="6633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23"/>
                <p:cNvGrpSpPr/>
                <p:nvPr/>
              </p:nvGrpSpPr>
              <p:grpSpPr>
                <a:xfrm>
                  <a:off x="5995080" y="404640"/>
                  <a:ext cx="380880" cy="2124360"/>
                  <a:chOff x="5995080" y="404640"/>
                  <a:chExt cx="380880" cy="2124360"/>
                </a:xfrm>
              </p:grpSpPr>
              <p:sp>
                <p:nvSpPr>
                  <p:cNvPr id="173" name="Rectangle 24"/>
                  <p:cNvSpPr/>
                  <p:nvPr/>
                </p:nvSpPr>
                <p:spPr>
                  <a:xfrm>
                    <a:off x="6132960" y="404640"/>
                    <a:ext cx="107640" cy="2124360"/>
                  </a:xfrm>
                  <a:prstGeom prst="rect">
                    <a:avLst/>
                  </a:prstGeom>
                  <a:solidFill>
                    <a:srgbClr val="6633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" name="Group 25"/>
                  <p:cNvGrpSpPr/>
                  <p:nvPr/>
                </p:nvGrpSpPr>
                <p:grpSpPr>
                  <a:xfrm>
                    <a:off x="5995080" y="443520"/>
                    <a:ext cx="380880" cy="274680"/>
                    <a:chOff x="5995080" y="443520"/>
                    <a:chExt cx="380880" cy="274680"/>
                  </a:xfrm>
                </p:grpSpPr>
                <p:sp>
                  <p:nvSpPr>
                    <p:cNvPr id="175" name="Line 26"/>
                    <p:cNvSpPr/>
                    <p:nvPr/>
                  </p:nvSpPr>
                  <p:spPr>
                    <a:xfrm>
                      <a:off x="5995440" y="443520"/>
                      <a:ext cx="380520" cy="274680"/>
                    </a:xfrm>
                    <a:prstGeom prst="line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27"/>
                    <p:cNvSpPr/>
                    <p:nvPr/>
                  </p:nvSpPr>
                  <p:spPr>
                    <a:xfrm flipH="1">
                      <a:off x="5995080" y="443520"/>
                      <a:ext cx="380520" cy="274680"/>
                    </a:xfrm>
                    <a:prstGeom prst="line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7" name="Group 28"/>
              <p:cNvGrpSpPr/>
              <p:nvPr/>
            </p:nvGrpSpPr>
            <p:grpSpPr>
              <a:xfrm>
                <a:off x="7027920" y="1073160"/>
                <a:ext cx="435600" cy="275760"/>
                <a:chOff x="7027920" y="1073160"/>
                <a:chExt cx="435600" cy="275760"/>
              </a:xfrm>
            </p:grpSpPr>
            <p:sp>
              <p:nvSpPr>
                <p:cNvPr id="178" name="Line 29"/>
                <p:cNvSpPr/>
                <p:nvPr/>
              </p:nvSpPr>
              <p:spPr>
                <a:xfrm>
                  <a:off x="7028280" y="1073160"/>
                  <a:ext cx="435240" cy="27576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30"/>
                <p:cNvSpPr/>
                <p:nvPr/>
              </p:nvSpPr>
              <p:spPr>
                <a:xfrm flipH="1">
                  <a:off x="7027920" y="1073160"/>
                  <a:ext cx="435240" cy="27576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0" name="Group 31"/>
          <p:cNvGrpSpPr/>
          <p:nvPr/>
        </p:nvGrpSpPr>
        <p:grpSpPr>
          <a:xfrm>
            <a:off x="4753800" y="5614920"/>
            <a:ext cx="3020760" cy="1171440"/>
            <a:chOff x="4753800" y="5614920"/>
            <a:chExt cx="3020760" cy="1171440"/>
          </a:xfrm>
        </p:grpSpPr>
        <p:sp>
          <p:nvSpPr>
            <p:cNvPr id="181" name="AutoShape 32"/>
            <p:cNvSpPr/>
            <p:nvPr/>
          </p:nvSpPr>
          <p:spPr>
            <a:xfrm rot="625800">
              <a:off x="4806000" y="5678640"/>
              <a:ext cx="766800" cy="6476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3"/>
            <p:cNvSpPr/>
            <p:nvPr/>
          </p:nvSpPr>
          <p:spPr>
            <a:xfrm rot="625800">
              <a:off x="5909760" y="5882400"/>
              <a:ext cx="768240" cy="646560"/>
            </a:xfrm>
            <a:prstGeom prst="smileyFace">
              <a:avLst>
                <a:gd name="adj" fmla="val 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34"/>
            <p:cNvSpPr/>
            <p:nvPr/>
          </p:nvSpPr>
          <p:spPr>
            <a:xfrm rot="625800">
              <a:off x="6955200" y="6074280"/>
              <a:ext cx="766800" cy="647640"/>
            </a:xfrm>
            <a:prstGeom prst="smileyFace">
              <a:avLst>
                <a:gd name="adj" fmla="val -465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WordArt 36"/>
          <p:cNvSpPr txBox="1"/>
          <p:nvPr/>
        </p:nvSpPr>
        <p:spPr>
          <a:xfrm>
            <a:off x="6300720" y="2924280"/>
            <a:ext cx="266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рошая работа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 как выполнена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37" descr="">
            <a:hlinkClick r:id="rId5" action="ppaction://hlinksldjump"/>
          </p:cNvPr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788000" y="3500280"/>
            <a:ext cx="360360" cy="33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8" descr="">
            <a:hlinkClick r:id="rId7" action="ppaction://hlinksldjump"/>
          </p:cNvPr>
          <p:cNvPicPr/>
          <p:nvPr/>
        </p:nvPicPr>
        <p:blipFill>
          <a:blip r:embed="rId8">
            <a:lum contrast="6000"/>
          </a:blip>
          <a:stretch/>
        </p:blipFill>
        <p:spPr>
          <a:xfrm>
            <a:off x="4859280" y="4076640"/>
            <a:ext cx="360360" cy="3301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39"/>
          <p:cNvGrpSpPr/>
          <p:nvPr/>
        </p:nvGrpSpPr>
        <p:grpSpPr>
          <a:xfrm>
            <a:off x="367920" y="5657040"/>
            <a:ext cx="3569400" cy="1095480"/>
            <a:chOff x="367920" y="5657040"/>
            <a:chExt cx="3569400" cy="1095480"/>
          </a:xfrm>
        </p:grpSpPr>
        <p:sp>
          <p:nvSpPr>
            <p:cNvPr id="188" name="AutoShape 40"/>
            <p:cNvSpPr/>
            <p:nvPr/>
          </p:nvSpPr>
          <p:spPr>
            <a:xfrm rot="21330000">
              <a:off x="1499040" y="5793840"/>
              <a:ext cx="838080" cy="8416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41"/>
            <p:cNvSpPr/>
            <p:nvPr/>
          </p:nvSpPr>
          <p:spPr>
            <a:xfrm rot="21330000">
              <a:off x="1881360" y="5714280"/>
              <a:ext cx="881640" cy="608400"/>
            </a:xfrm>
            <a:prstGeom prst="cloudCallout">
              <a:avLst>
                <a:gd name="adj1" fmla="val -12953"/>
                <a:gd name="adj2" fmla="val 11694"/>
              </a:avLst>
            </a:pr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42"/>
            <p:cNvSpPr/>
            <p:nvPr/>
          </p:nvSpPr>
          <p:spPr>
            <a:xfrm rot="21330000">
              <a:off x="399600" y="5879160"/>
              <a:ext cx="838080" cy="8416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3"/>
            <p:cNvSpPr/>
            <p:nvPr/>
          </p:nvSpPr>
          <p:spPr>
            <a:xfrm rot="21330000">
              <a:off x="2818080" y="5688720"/>
              <a:ext cx="838080" cy="8416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4"/>
            <p:cNvSpPr/>
            <p:nvPr/>
          </p:nvSpPr>
          <p:spPr>
            <a:xfrm rot="21330000">
              <a:off x="3032640" y="5716800"/>
              <a:ext cx="882000" cy="608400"/>
            </a:xfrm>
            <a:prstGeom prst="cloudCallout">
              <a:avLst>
                <a:gd name="adj1" fmla="val -12953"/>
                <a:gd name="adj2" fmla="val 11694"/>
              </a:avLst>
            </a:prstGeom>
            <a:solidFill>
              <a:srgbClr val="4f81bd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4154400" y="2703600"/>
            <a:ext cx="2136960" cy="4149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" descr=""/>
          <p:cNvPicPr/>
          <p:nvPr/>
        </p:nvPicPr>
        <p:blipFill>
          <a:blip r:embed="rId2"/>
          <a:stretch/>
        </p:blipFill>
        <p:spPr>
          <a:xfrm rot="20499600">
            <a:off x="339840" y="401760"/>
            <a:ext cx="2147760" cy="30384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"/>
          <p:cNvPicPr/>
          <p:nvPr/>
        </p:nvPicPr>
        <p:blipFill>
          <a:blip r:embed="rId3"/>
          <a:stretch/>
        </p:blipFill>
        <p:spPr>
          <a:xfrm rot="1651200">
            <a:off x="6444720" y="491760"/>
            <a:ext cx="2292480" cy="30560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"/>
          <p:cNvPicPr/>
          <p:nvPr/>
        </p:nvPicPr>
        <p:blipFill>
          <a:blip r:embed="rId4"/>
          <a:stretch/>
        </p:blipFill>
        <p:spPr>
          <a:xfrm>
            <a:off x="1349280" y="3233880"/>
            <a:ext cx="2716200" cy="3620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TextBox 5" descr=""/>
          <p:cNvPicPr/>
          <p:nvPr/>
        </p:nvPicPr>
        <p:blipFill>
          <a:blip r:embed="rId1"/>
          <a:stretch/>
        </p:blipFill>
        <p:spPr>
          <a:xfrm>
            <a:off x="1547640" y="2639880"/>
            <a:ext cx="7486920" cy="1938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549360"/>
            <a:ext cx="9144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оненты системы контроля и оце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х достижений младших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35040" y="2111400"/>
            <a:ext cx="3673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нутренний контроль и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5364000" y="2111400"/>
            <a:ext cx="3780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 контроль и 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59000" y="3100320"/>
            <a:ext cx="2521080" cy="29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6"/>
          <p:cNvCxnSpPr/>
          <p:nvPr/>
        </p:nvCxnSpPr>
        <p:spPr>
          <a:xfrm flipH="1">
            <a:off x="2410560" y="1341000"/>
            <a:ext cx="212652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Line 8"/>
          <p:cNvSpPr/>
          <p:nvPr/>
        </p:nvSpPr>
        <p:spPr>
          <a:xfrm>
            <a:off x="4500720" y="1341360"/>
            <a:ext cx="24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H="1">
            <a:off x="1547640" y="2589120"/>
            <a:ext cx="93672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700360" y="2589120"/>
            <a:ext cx="10796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7308720" y="2589120"/>
            <a:ext cx="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22400" y="3116160"/>
            <a:ext cx="25923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рольно-оценочная 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564000" y="3159000"/>
            <a:ext cx="187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ро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оч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их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300720" y="3116160"/>
            <a:ext cx="25923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шний итоговый контроль как независимая оценка качества, мониторинговые исследования разных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50920" y="2492280"/>
            <a:ext cx="2736720" cy="17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492360" y="404640"/>
            <a:ext cx="2159280" cy="20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ак объ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300720" y="404640"/>
            <a:ext cx="2592360" cy="20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онтрол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и оцен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учит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64000" y="4005360"/>
            <a:ext cx="215892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ак субъек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156360" y="3933720"/>
            <a:ext cx="2809800" cy="20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амоконт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амо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 rot="19006200">
            <a:off x="2385720" y="1801440"/>
            <a:ext cx="1212840" cy="195120"/>
          </a:xfrm>
          <a:prstGeom prst="rightArrow">
            <a:avLst>
              <a:gd name="adj1" fmla="val 50000"/>
              <a:gd name="adj2" fmla="val 15539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5651640" y="1268280"/>
            <a:ext cx="564840" cy="216000"/>
          </a:xfrm>
          <a:prstGeom prst="rightArrow">
            <a:avLst>
              <a:gd name="adj1" fmla="val 50000"/>
              <a:gd name="adj2" fmla="val 653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 rot="2580600">
            <a:off x="2531880" y="4680000"/>
            <a:ext cx="1212840" cy="195120"/>
          </a:xfrm>
          <a:prstGeom prst="rightArrow">
            <a:avLst>
              <a:gd name="adj1" fmla="val 50000"/>
              <a:gd name="adj2" fmla="val 15539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5724360" y="4941720"/>
            <a:ext cx="412920" cy="227160"/>
          </a:xfrm>
          <a:prstGeom prst="rightArrow">
            <a:avLst>
              <a:gd name="adj1" fmla="val 50000"/>
              <a:gd name="adj2" fmla="val 6539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войная стрелка вверх/вниз 13"/>
          <p:cNvSpPr/>
          <p:nvPr/>
        </p:nvSpPr>
        <p:spPr>
          <a:xfrm>
            <a:off x="7451640" y="2565360"/>
            <a:ext cx="484200" cy="114300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рамида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6013440" cy="544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самооценки в первом кла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е было задание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ось выполнить задание?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е выполнено верно или не совсем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л самостоятельно или с чьей-то помощью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горитм самооценки во 2-4  класс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е было задание? (Учимся вспоминать цель работы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далось выполнить задание? (Учимся сравнивать результат с целью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 выполнено верно или не совсем? (Учимся находить и признавать ошибки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л самостоятельно или с чьей-то помощью? (Учимся оценивать процесс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Как мы различаем отметки и оцен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Какую себе поставишь отметк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5840" y="285480"/>
            <a:ext cx="4209840" cy="6357960"/>
          </a:xfrm>
          <a:prstGeom prst="rect">
            <a:avLst/>
          </a:prstGeom>
          <a:noFill/>
          <a:ln w="5724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ка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ловесная характеристика результатов действия («молодец», «отлично», «а вот здесь неточно, потому что…»)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7960" y="285480"/>
            <a:ext cx="4352760" cy="6357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метк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иксация результата оценивания в виде знака принятой системы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  <a:ea typeface="Aharoni"/>
              </a:rPr>
              <a:t>5…4…..3….2…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975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5ACC-3CC0-4CE4-8907-4B68266625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hape 61"/>
          <p:cNvSpPr/>
          <p:nvPr/>
        </p:nvSpPr>
        <p:spPr>
          <a:xfrm>
            <a:off x="0" y="549360"/>
            <a:ext cx="9144000" cy="324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Оценочная ситуация </a:t>
            </a:r>
            <a:br>
              <a:rPr sz="3600"/>
            </a:b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на уроке русского языка </a:t>
            </a:r>
            <a:br>
              <a:rPr sz="3600"/>
            </a:b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в </a:t>
            </a:r>
            <a:r>
              <a:rPr b="1" lang="ru-RU" sz="3600" spc="-1" strike="noStrike">
                <a:solidFill>
                  <a:srgbClr val="864300"/>
                </a:solidFill>
                <a:latin typeface="Arial"/>
                <a:ea typeface="Arial"/>
              </a:rPr>
              <a:t>1</a:t>
            </a: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 классе</a:t>
            </a:r>
            <a:br>
              <a:rPr sz="3600"/>
            </a:b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по те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«</a:t>
            </a:r>
            <a:r>
              <a:rPr b="1" lang="ru-RU" sz="3600" spc="-1" strike="noStrike">
                <a:solidFill>
                  <a:srgbClr val="864300"/>
                </a:solidFill>
                <a:latin typeface="Arial"/>
                <a:ea typeface="Arial"/>
              </a:rPr>
              <a:t>Парные согласные на конце слова</a:t>
            </a: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Группа 7"/>
          <p:cNvGrpSpPr/>
          <p:nvPr/>
        </p:nvGrpSpPr>
        <p:grpSpPr>
          <a:xfrm>
            <a:off x="3168720" y="3860640"/>
            <a:ext cx="2555640" cy="2305080"/>
            <a:chOff x="3168720" y="3860640"/>
            <a:chExt cx="2555640" cy="2305080"/>
          </a:xfrm>
        </p:grpSpPr>
        <p:sp>
          <p:nvSpPr>
            <p:cNvPr id="120" name="Shape 119"/>
            <p:cNvSpPr/>
            <p:nvPr/>
          </p:nvSpPr>
          <p:spPr>
            <a:xfrm>
              <a:off x="3287160" y="5736240"/>
              <a:ext cx="22932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АБОТА В ПА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2" descr="C:\Users\он лайн\Pictures\РИСУНКИ\школа\pict3c.jpg"/>
            <p:cNvPicPr/>
            <p:nvPr/>
          </p:nvPicPr>
          <p:blipFill>
            <a:blip r:embed="rId1"/>
            <a:stretch/>
          </p:blipFill>
          <p:spPr>
            <a:xfrm>
              <a:off x="3168720" y="3860640"/>
              <a:ext cx="2555640" cy="189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414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0" y="413388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0" y="1401840"/>
            <a:ext cx="9144000" cy="22255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8"/>
          <p:cNvSpPr/>
          <p:nvPr/>
        </p:nvSpPr>
        <p:spPr>
          <a:xfrm>
            <a:off x="0" y="1214280"/>
            <a:ext cx="9144000" cy="22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22"/>
          <p:cNvGrpSpPr/>
          <p:nvPr/>
        </p:nvGrpSpPr>
        <p:grpSpPr>
          <a:xfrm>
            <a:off x="800280" y="1285920"/>
            <a:ext cx="7414920" cy="1779480"/>
            <a:chOff x="800280" y="1285920"/>
            <a:chExt cx="7414920" cy="1779480"/>
          </a:xfrm>
        </p:grpSpPr>
        <p:pic>
          <p:nvPicPr>
            <p:cNvPr id="129" name="Picture 4" descr="арi"/>
            <p:cNvPicPr/>
            <p:nvPr/>
          </p:nvPicPr>
          <p:blipFill>
            <a:blip r:embed="rId4"/>
            <a:stretch/>
          </p:blipFill>
          <p:spPr>
            <a:xfrm>
              <a:off x="3442680" y="1346400"/>
              <a:ext cx="1714680" cy="17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"/>
            <p:cNvPicPr/>
            <p:nvPr/>
          </p:nvPicPr>
          <p:blipFill>
            <a:blip r:embed="rId5"/>
            <a:stretch/>
          </p:blipFill>
          <p:spPr>
            <a:xfrm>
              <a:off x="800280" y="1369800"/>
              <a:ext cx="1551240" cy="163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"/>
            <p:cNvPicPr/>
            <p:nvPr/>
          </p:nvPicPr>
          <p:blipFill>
            <a:blip r:embed="rId6"/>
            <a:stretch/>
          </p:blipFill>
          <p:spPr>
            <a:xfrm>
              <a:off x="6371640" y="1285920"/>
              <a:ext cx="1843560" cy="171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6:56:39Z</dcterms:created>
  <dc:creator>Марина</dc:creator>
  <dc:description/>
  <dc:language>en-US</dc:language>
  <cp:lastModifiedBy>Admin</cp:lastModifiedBy>
  <dcterms:modified xsi:type="dcterms:W3CDTF">2022-12-11T07:07:36Z</dcterms:modified>
  <cp:revision>112</cp:revision>
  <dc:subject/>
  <dc:title>Презентация PowerPoint</dc:title>
</cp:coreProperties>
</file>