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gif" ContentType="image/gif"/>
  <Override PartName="/ppt/media/image15.wmf" ContentType="image/x-wmf"/>
  <Override PartName="/ppt/media/image4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3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8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2.jpeg" ContentType="image/jpeg"/>
  <Override PartName="/ppt/media/image43.jpeg" ContentType="image/jpeg"/>
  <Override PartName="/ppt/media/image12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9.jpeg" ContentType="image/jpeg"/>
  <Override PartName="/ppt/media/image11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9.jpeg" ContentType="image/jpeg"/>
  <Override PartName="/ppt/media/image8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BF0-EF17-44B3-B2C1-128389A2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E40-9B62-4C42-A294-23CA0924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417-60D4-4606-BCC7-BA8E8426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33F-8E14-4C34-8D88-A63510E6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7760-EF23-4D43-9180-8397FCEC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478A-7E3C-4D2E-9D50-567A3204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467B-6E52-48E7-B315-7EE13BCC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38FB-0FF8-4190-B4BC-1DD06EDC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5F5E-9E17-49B7-BD61-99F61214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C536-AB07-43B0-A510-4FB896C8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5DB6-A95A-4ECB-9508-39B9CE78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48A-C9D7-4825-8538-701D3C0D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9981-C571-45E3-B9F7-81BD4166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8D0D-BB04-4795-B5B8-A910D5FE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A25F-D154-4D6B-A632-9B0BA28D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7D70-A465-4727-9FD5-5736377C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5E87-F7BE-491C-BC75-A328763E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B48-DBAD-4D40-BB4E-11F725F1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DFC-F32A-46AF-A878-7B272DDC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DE2-BD81-4033-9625-F34D2FE2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D06-791A-469D-B6EE-DA7E9F71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677A-C143-4AEE-8F86-A26EE835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AA6-54D6-4940-BA84-6D7F8325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E05-5141-414E-A663-EB68AA5E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33C58D-BE7D-4E26-A309-2F039A80ED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5DF7B3-1C7F-4F9C-88FE-68AD8BC848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395280" y="333360"/>
            <a:ext cx="8424720" cy="5975280"/>
          </a:xfrm>
          <a:prstGeom prst="rect">
            <a:avLst/>
          </a:prstGeom>
          <a:solidFill>
            <a:srgbClr val="60597b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Календарный  год  состоит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из  четырёх  сезонов,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иначе  их  ещё  называют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«времена  года»: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зимы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ru-RU" sz="3000" spc="-1" strike="noStrike">
                <a:solidFill>
                  <a:srgbClr val="00b050"/>
                </a:solidFill>
                <a:latin typeface="Arial"/>
                <a:ea typeface="Arial"/>
              </a:rPr>
              <a:t>весны</a:t>
            </a:r>
            <a:r>
              <a:rPr b="1" lang="ru-RU" sz="3000" spc="-1" strike="noStrike">
                <a:solidFill>
                  <a:srgbClr val="00b050"/>
                </a:solidFill>
                <a:latin typeface="Arial"/>
                <a:ea typeface="Arial"/>
              </a:rPr>
              <a:t>,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лета, </a:t>
            </a:r>
            <a:r>
              <a:rPr b="1" lang="ru-RU" sz="3000" spc="-1" strike="noStrike">
                <a:solidFill>
                  <a:srgbClr val="ffc000"/>
                </a:solidFill>
                <a:latin typeface="Arial"/>
                <a:ea typeface="Arial"/>
              </a:rPr>
              <a:t>осени.</a:t>
            </a:r>
            <a:br>
              <a:rPr sz="3000"/>
            </a:br>
            <a:br>
              <a:rPr sz="3000"/>
            </a:br>
            <a:br>
              <a:rPr sz="3600"/>
            </a:br>
            <a:r>
              <a:rPr b="1" i="1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Давай  узнаем  поподробнее</a:t>
            </a:r>
            <a:br>
              <a:rPr sz="2400"/>
            </a:br>
            <a:r>
              <a:rPr b="1" i="1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о  каждом  из  н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28584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- четвертых, зимой  природа  отдыхает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ревья  ещё  осенью  сбросили  свой  наряд  из  листьев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  сейчас  спят, укрытые  снег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Capture_5"/>
          <p:cNvPicPr/>
          <p:nvPr/>
        </p:nvPicPr>
        <p:blipFill>
          <a:blip r:embed="rId1"/>
          <a:stretch/>
        </p:blipFill>
        <p:spPr>
          <a:xfrm>
            <a:off x="1357200" y="1571760"/>
            <a:ext cx="6424560" cy="50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одоёмы (речки, пруды, озера)  замёрзли –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крылись  толстым  слоем  ль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Capture_4"/>
          <p:cNvPicPr/>
          <p:nvPr/>
        </p:nvPicPr>
        <p:blipFill>
          <a:blip r:embed="rId1"/>
          <a:stretch/>
        </p:blipFill>
        <p:spPr>
          <a:xfrm>
            <a:off x="1285920" y="1428840"/>
            <a:ext cx="6486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2816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ногие  птицы  улетают  на  юг, в  тёплые  страны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о  время  перелёта  они  собираются  в  стаи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  вытягиваются  клином – так  легче  преодолеть сопротивление  воздуха, а  также   заметить  хищника, например, ястреба  или  сокола, и  подать  сигнал  тревог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Cap"/>
          <p:cNvPicPr/>
          <p:nvPr/>
        </p:nvPicPr>
        <p:blipFill>
          <a:blip r:embed="rId1"/>
          <a:stretch/>
        </p:blipFill>
        <p:spPr>
          <a:xfrm>
            <a:off x="1071720" y="2071800"/>
            <a:ext cx="7108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которые  звери (барсуки, сурки, медведи)  залезают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 снежные  норы – берлоги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  на  всю  зиму  впадают  в  спячк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0" descr="bears06_1024x768"/>
          <p:cNvPicPr/>
          <p:nvPr/>
        </p:nvPicPr>
        <p:blipFill>
          <a:blip r:embed="rId1"/>
          <a:stretch/>
        </p:blipFill>
        <p:spPr>
          <a:xfrm>
            <a:off x="500040" y="214308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Барсук-2"/>
          <p:cNvPicPr/>
          <p:nvPr/>
        </p:nvPicPr>
        <p:blipFill>
          <a:blip r:embed="rId2"/>
          <a:stretch/>
        </p:blipFill>
        <p:spPr>
          <a:xfrm>
            <a:off x="5000760" y="1714680"/>
            <a:ext cx="2160360" cy="2185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1"/>
          <p:cNvSpPr/>
          <p:nvPr/>
        </p:nvSpPr>
        <p:spPr>
          <a:xfrm>
            <a:off x="500040" y="550080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ДВЕ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7286760" y="23493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РСУ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syrok"/>
          <p:cNvPicPr/>
          <p:nvPr/>
        </p:nvPicPr>
        <p:blipFill>
          <a:blip r:embed="rId3"/>
          <a:stretch/>
        </p:blipFill>
        <p:spPr>
          <a:xfrm>
            <a:off x="5000760" y="407196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5"/>
          <p:cNvSpPr/>
          <p:nvPr/>
        </p:nvSpPr>
        <p:spPr>
          <a:xfrm>
            <a:off x="7360200" y="48578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Р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2852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ем  не  менее, зима – замечательное  время  года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едь  зимой  и  только  зимой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озможны  многие  забавы  и  игры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пример, катание  на  санях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3_5"/>
          <p:cNvPicPr/>
          <p:nvPr/>
        </p:nvPicPr>
        <p:blipFill>
          <a:blip r:embed="rId1"/>
          <a:stretch/>
        </p:blipFill>
        <p:spPr>
          <a:xfrm>
            <a:off x="214200" y="2143080"/>
            <a:ext cx="5241960" cy="360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1059489858-28"/>
          <p:cNvPicPr/>
          <p:nvPr/>
        </p:nvPicPr>
        <p:blipFill>
          <a:blip r:embed="rId2"/>
          <a:stretch/>
        </p:blipFill>
        <p:spPr>
          <a:xfrm>
            <a:off x="5572080" y="1643040"/>
            <a:ext cx="32641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 на  санках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zabavi1-1"/>
          <p:cNvPicPr/>
          <p:nvPr/>
        </p:nvPicPr>
        <p:blipFill>
          <a:blip r:embed="rId1"/>
          <a:stretch/>
        </p:blipFill>
        <p:spPr>
          <a:xfrm>
            <a:off x="857160" y="1071720"/>
            <a:ext cx="4206960" cy="540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sledge_vladimir_l"/>
          <p:cNvPicPr/>
          <p:nvPr/>
        </p:nvPicPr>
        <p:blipFill>
          <a:blip r:embed="rId2"/>
          <a:stretch/>
        </p:blipFill>
        <p:spPr>
          <a:xfrm>
            <a:off x="5357880" y="1143000"/>
            <a:ext cx="2879640" cy="2414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trubmetall"/>
          <p:cNvPicPr/>
          <p:nvPr/>
        </p:nvPicPr>
        <p:blipFill>
          <a:blip r:embed="rId3"/>
          <a:stretch/>
        </p:blipFill>
        <p:spPr>
          <a:xfrm>
            <a:off x="5357880" y="4286160"/>
            <a:ext cx="2879640" cy="21430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5429160" y="371484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3929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 на  коньках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  скользкому  льду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334039"/>
          <p:cNvPicPr/>
          <p:nvPr/>
        </p:nvPicPr>
        <p:blipFill>
          <a:blip r:embed="rId1"/>
          <a:stretch/>
        </p:blipFill>
        <p:spPr>
          <a:xfrm>
            <a:off x="4929120" y="3429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ynv2003_02"/>
          <p:cNvPicPr/>
          <p:nvPr/>
        </p:nvPicPr>
        <p:blipFill>
          <a:blip r:embed="rId2"/>
          <a:stretch/>
        </p:blipFill>
        <p:spPr>
          <a:xfrm>
            <a:off x="3924360" y="189000"/>
            <a:ext cx="5062320" cy="3240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4929120" y="62866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Ь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6" descr="02926"/>
          <p:cNvPicPr/>
          <p:nvPr/>
        </p:nvPicPr>
        <p:blipFill>
          <a:blip r:embed="rId3"/>
          <a:stretch/>
        </p:blipFill>
        <p:spPr>
          <a:xfrm>
            <a:off x="214200" y="2286000"/>
            <a:ext cx="36496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41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 на  лыжах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zabavi3-1"/>
          <p:cNvPicPr/>
          <p:nvPr/>
        </p:nvPicPr>
        <p:blipFill>
          <a:blip r:embed="rId1"/>
          <a:stretch/>
        </p:blipFill>
        <p:spPr>
          <a:xfrm>
            <a:off x="3571920" y="357120"/>
            <a:ext cx="5280120" cy="3959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fambackenDanik_a"/>
          <p:cNvPicPr/>
          <p:nvPr/>
        </p:nvPicPr>
        <p:blipFill>
          <a:blip r:embed="rId2"/>
          <a:stretch/>
        </p:blipFill>
        <p:spPr>
          <a:xfrm>
            <a:off x="214200" y="1571760"/>
            <a:ext cx="3171960" cy="467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334180"/>
          <p:cNvPicPr/>
          <p:nvPr/>
        </p:nvPicPr>
        <p:blipFill>
          <a:blip r:embed="rId3"/>
          <a:stretch/>
        </p:blipFill>
        <p:spPr>
          <a:xfrm>
            <a:off x="3643200" y="4857840"/>
            <a:ext cx="5146920" cy="720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3643200" y="5786280"/>
            <a:ext cx="51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Ы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2852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 на  сноуборде –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пециальной  доске  для  катания  по  снегу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Capture_6"/>
          <p:cNvPicPr/>
          <p:nvPr/>
        </p:nvPicPr>
        <p:blipFill>
          <a:blip r:embed="rId1"/>
          <a:stretch/>
        </p:blipFill>
        <p:spPr>
          <a:xfrm>
            <a:off x="539640" y="1413000"/>
            <a:ext cx="7921800" cy="525456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7"/>
          <p:cNvSpPr/>
          <p:nvPr/>
        </p:nvSpPr>
        <p:spPr>
          <a:xfrm rot="1159800">
            <a:off x="2881440" y="4142880"/>
            <a:ext cx="3024000" cy="863640"/>
          </a:xfrm>
          <a:prstGeom prst="wedgeRoundRectCallout">
            <a:avLst>
              <a:gd name="adj1" fmla="val -4041"/>
              <a:gd name="adj2" fmla="val 98189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055320" y="544500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НОУБОР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щё  можно  играть  в  снеж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zabavi2-1"/>
          <p:cNvPicPr/>
          <p:nvPr/>
        </p:nvPicPr>
        <p:blipFill>
          <a:blip r:embed="rId1"/>
          <a:stretch/>
        </p:blipFill>
        <p:spPr>
          <a:xfrm>
            <a:off x="714240" y="1357200"/>
            <a:ext cx="7612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Итак, ЗИМА…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6760" y="499680"/>
            <a:ext cx="5286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елый сне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ушист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 воздухе кружи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 на землю тих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адает, ложи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 под утро снего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ле забелело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Точно пелено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се его одел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Темный лес что шапк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инакрылся чуд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 заснул под не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Крепко, непробудно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ожьи дни коротк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олнце светит мало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от пришли морозцы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 зима наста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Труженик – крестьян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ытащил санишк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неговые гор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роят ребятишки…        (И. З. Суриков)</a:t>
            </a:r>
            <a:r>
              <a:rPr b="1" i="1" lang="ru-RU" sz="1400" spc="-1" strike="noStrike">
                <a:solidFill>
                  <a:srgbClr val="ffffff"/>
                </a:solidFill>
                <a:latin typeface="Book Antiqua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2808360" cy="227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2916360" y="3716280"/>
            <a:ext cx="2735280" cy="2252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2916360" y="1197000"/>
            <a:ext cx="2736720" cy="2281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4"/>
          <a:stretch/>
        </p:blipFill>
        <p:spPr>
          <a:xfrm>
            <a:off x="5940360" y="3716280"/>
            <a:ext cx="280836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2852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  лепить  снегови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Capture-3"/>
          <p:cNvPicPr/>
          <p:nvPr/>
        </p:nvPicPr>
        <p:blipFill>
          <a:blip r:embed="rId1"/>
          <a:stretch/>
        </p:blipFill>
        <p:spPr>
          <a:xfrm>
            <a:off x="4716360" y="1628640"/>
            <a:ext cx="4238640" cy="4581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zabavi4-1"/>
          <p:cNvPicPr/>
          <p:nvPr/>
        </p:nvPicPr>
        <p:blipFill>
          <a:blip r:embed="rId2"/>
          <a:srcRect l="0" t="0" r="0" b="-602"/>
          <a:stretch/>
        </p:blipFill>
        <p:spPr>
          <a:xfrm>
            <a:off x="250920" y="1628640"/>
            <a:ext cx="42861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500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Зима  состоит  из  трёх  месяце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Первый  месяц  зимы – декаб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23"/>
          <p:cNvPicPr/>
          <p:nvPr/>
        </p:nvPicPr>
        <p:blipFill>
          <a:blip r:embed="rId1"/>
          <a:stretch/>
        </p:blipFill>
        <p:spPr>
          <a:xfrm>
            <a:off x="4786200" y="2071800"/>
            <a:ext cx="3984840" cy="2879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428760" y="1428840"/>
            <a:ext cx="464328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Декабрь  год  кончает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а  зиму  начинает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Все  реки  покрывае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он  прочным  гладким  льд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И  Рождество  справляют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и  Новый  год  встречаю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Все  люди  этим  белым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морозным  декабрё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                     </a:t>
            </a: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(Т. Керстен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mph" presetID="32" repeatCount="2000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20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121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22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357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Второй  месяц  зимы – янва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28760" y="500040"/>
            <a:ext cx="421452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Январь - начало  года,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Силён  его  мороз.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Уснула  вся  природ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Теперь  уж  не  до  гроз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Под  снежным  покрывал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Покоится  зем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В  краю  большом  и  малом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Всё  белые  по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Бери  скорее  санки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Из  дома  выбега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Поедем  спозаранк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Кататься  в  снежный  кра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                     </a:t>
            </a: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(Т. Керстен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6" descr="Capture_7"/>
          <p:cNvPicPr/>
          <p:nvPr/>
        </p:nvPicPr>
        <p:blipFill>
          <a:blip r:embed="rId1"/>
          <a:srcRect l="0" t="0" r="-36" b="0"/>
          <a:stretch/>
        </p:blipFill>
        <p:spPr>
          <a:xfrm>
            <a:off x="4500720" y="1500120"/>
            <a:ext cx="4419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Capture-1"/>
          <p:cNvPicPr/>
          <p:nvPr/>
        </p:nvPicPr>
        <p:blipFill>
          <a:blip r:embed="rId1"/>
          <a:stretch/>
        </p:blipFill>
        <p:spPr>
          <a:xfrm>
            <a:off x="0" y="0"/>
            <a:ext cx="10260000" cy="43736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"/>
          <p:cNvSpPr/>
          <p:nvPr/>
        </p:nvSpPr>
        <p:spPr>
          <a:xfrm>
            <a:off x="214200" y="142920"/>
            <a:ext cx="59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И  последний  месяц  зимы – февраль.</a:t>
            </a:r>
            <a:br>
              <a:rPr sz="2200"/>
            </a:b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В  этом  месяце, а  именно</a:t>
            </a:r>
            <a:br>
              <a:rPr sz="2200"/>
            </a:b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23  февраля,  мы  отмечаем</a:t>
            </a:r>
            <a:br>
              <a:rPr sz="2200"/>
            </a:b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День  защитника  Отечеств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357880" y="2571840"/>
            <a:ext cx="378612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Дуют  ветры  в  феврал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Воют  в  трубах  громк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Змейкой  мчится  по  зем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Лёгкая  позем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Поднимаясь, мчатся  вда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Самолётов  звен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Это  празднует  февра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Армии  рождень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(С. Марша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k8"/>
          <p:cNvPicPr/>
          <p:nvPr/>
        </p:nvPicPr>
        <p:blipFill>
          <a:blip r:embed="rId2"/>
          <a:stretch/>
        </p:blipFill>
        <p:spPr>
          <a:xfrm>
            <a:off x="285840" y="4071960"/>
            <a:ext cx="4849560" cy="2519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288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у, теперь  и  ты, наверное, со  мной  согласишься, что  зима – это  очень  интересное  время  года.</a:t>
            </a:r>
            <a:br>
              <a:rPr sz="22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ма, глянь-ка  из  окошк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нать, вчера  недаром  кош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Умывала  нос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рязи  нет, весь  двор  одело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ветлело, побелело –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Видно, есть  мороз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 колючий, светло-сини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  ветвям  развешан  иней –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Погляди  хоть  ты!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овно  кто-то  тороваты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ежей, белой, пухлой  ват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Все  убрал  кусты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ж  теперь  не  будет  спору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  салазки, да  и  в  гору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Весело  бежать!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авда, мама? Не  откажеш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 сама, наверно, скажешь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«Ну, скорей, гулять!»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(А. А. Фет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12" descr="Capture_6"/>
          <p:cNvPicPr/>
          <p:nvPr/>
        </p:nvPicPr>
        <p:blipFill>
          <a:blip r:embed="rId1"/>
          <a:stretch/>
        </p:blipFill>
        <p:spPr>
          <a:xfrm>
            <a:off x="4929120" y="3929040"/>
            <a:ext cx="3600360" cy="2708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Айсберг"/>
          <p:cNvPicPr/>
          <p:nvPr/>
        </p:nvPicPr>
        <p:blipFill>
          <a:blip r:embed="rId2"/>
          <a:stretch/>
        </p:blipFill>
        <p:spPr>
          <a:xfrm>
            <a:off x="4929120" y="1214280"/>
            <a:ext cx="3600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mph" presetID="26" repeatCount="300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50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Чем  отличается  зима  от  других  сезон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856800"/>
            <a:ext cx="91440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974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Во-первых, коротким  световым  днём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Утром  солнышко  поздно  встаёт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а  вечером  рано садится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оэтому  на  часах  вроде  бы  и  немного времени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а  за  окном  уже  темно 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и  мы  не  можем,  как летом, долго  гулят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4643280" y="3286080"/>
            <a:ext cx="4329000" cy="3239640"/>
            <a:chOff x="4643280" y="3286080"/>
            <a:chExt cx="4329000" cy="3239640"/>
          </a:xfrm>
        </p:grpSpPr>
        <p:pic>
          <p:nvPicPr>
            <p:cNvPr id="93" name="Picture 7" descr=""/>
            <p:cNvPicPr/>
            <p:nvPr/>
          </p:nvPicPr>
          <p:blipFill>
            <a:blip r:embed="rId1"/>
            <a:stretch/>
          </p:blipFill>
          <p:spPr>
            <a:xfrm>
              <a:off x="4643280" y="3286080"/>
              <a:ext cx="4329000" cy="32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8"/>
            <p:cNvSpPr/>
            <p:nvPr/>
          </p:nvSpPr>
          <p:spPr>
            <a:xfrm>
              <a:off x="4643280" y="3286080"/>
              <a:ext cx="4329000" cy="32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Group 3"/>
          <p:cNvGrpSpPr/>
          <p:nvPr/>
        </p:nvGrpSpPr>
        <p:grpSpPr>
          <a:xfrm>
            <a:off x="142920" y="3286080"/>
            <a:ext cx="4527000" cy="3239640"/>
            <a:chOff x="142920" y="3286080"/>
            <a:chExt cx="4527000" cy="3239640"/>
          </a:xfrm>
        </p:grpSpPr>
        <p:pic>
          <p:nvPicPr>
            <p:cNvPr id="96" name="Picture 4" descr=""/>
            <p:cNvPicPr/>
            <p:nvPr/>
          </p:nvPicPr>
          <p:blipFill>
            <a:blip r:embed="rId2"/>
            <a:stretch/>
          </p:blipFill>
          <p:spPr>
            <a:xfrm>
              <a:off x="142920" y="3286080"/>
              <a:ext cx="4527000" cy="32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142920" y="3286080"/>
              <a:ext cx="4527000" cy="32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6948360" y="2635200"/>
            <a:ext cx="1862280" cy="3240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200" spc="-1" strike="noStrike">
                <a:solidFill>
                  <a:srgbClr val="666699"/>
                </a:solidFill>
                <a:latin typeface="Arial"/>
                <a:ea typeface="Arial"/>
              </a:rPr>
              <a:t>Во-вторых,  зима  отличается  низкой  температурой воздуха. Поэтому  все  люди, включая и тебя,</a:t>
            </a:r>
            <a:br>
              <a:rPr sz="2200"/>
            </a:br>
            <a:r>
              <a:rPr b="1" lang="ru-RU" sz="2200" spc="-1" strike="noStrike">
                <a:solidFill>
                  <a:srgbClr val="666699"/>
                </a:solidFill>
                <a:latin typeface="Arial"/>
                <a:ea typeface="Arial"/>
              </a:rPr>
              <a:t>тепло  одеваютс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642960" y="1714680"/>
            <a:ext cx="1365120" cy="1450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2500200" y="1500120"/>
            <a:ext cx="1024200" cy="1179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3929040" y="1785960"/>
            <a:ext cx="3570480" cy="180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5"/>
          <a:stretch/>
        </p:blipFill>
        <p:spPr>
          <a:xfrm>
            <a:off x="250920" y="3141720"/>
            <a:ext cx="421632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6"/>
          <a:stretch/>
        </p:blipFill>
        <p:spPr>
          <a:xfrm>
            <a:off x="4714920" y="4500720"/>
            <a:ext cx="1871640" cy="1465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 rot="20580000">
            <a:off x="318240" y="15876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ШАП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215080" y="26431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ВАРЕЖ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013000" y="364500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ДЖЕМП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042920" y="595008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КУРТКА  НА  МЕХ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ИЛИ  ПУХОВ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220280" y="600084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САПОГИ  НА  МЕХ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6863400" y="585792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ТЕПЛ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КОМБИНЕЗ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37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48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59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69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70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81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91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92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rcRect l="0" t="0" r="0" b="-15"/>
          <a:stretch/>
        </p:blipFill>
        <p:spPr>
          <a:xfrm>
            <a:off x="1357200" y="17640"/>
            <a:ext cx="3541680" cy="6840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"/>
          <p:cNvSpPr/>
          <p:nvPr/>
        </p:nvSpPr>
        <p:spPr>
          <a:xfrm>
            <a:off x="4284720" y="57168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Вот  как  я  экипирован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Уходи, мороз  суровы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28760" y="142920"/>
            <a:ext cx="900000" cy="1366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5286240" y="2928960"/>
            <a:ext cx="30308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нщины  одев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AZ151"/>
          <p:cNvPicPr/>
          <p:nvPr/>
        </p:nvPicPr>
        <p:blipFill>
          <a:blip r:embed="rId1"/>
          <a:stretch/>
        </p:blipFill>
        <p:spPr>
          <a:xfrm>
            <a:off x="500040" y="1143000"/>
            <a:ext cx="5184720" cy="431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Безымянный"/>
          <p:cNvPicPr/>
          <p:nvPr/>
        </p:nvPicPr>
        <p:blipFill>
          <a:blip r:embed="rId2"/>
          <a:stretch/>
        </p:blipFill>
        <p:spPr>
          <a:xfrm>
            <a:off x="6143760" y="1143000"/>
            <a:ext cx="2103480" cy="4319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500040" y="5715000"/>
            <a:ext cx="52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УБ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43760" y="5786280"/>
            <a:ext cx="20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БЛЁ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4287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- третьих, для  зимы  характерны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ие  твёрдые  атмосферные  осадки, как  снег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нег  состоит  из  ледяных  кристаллов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зной  формы – снежинок.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  форме  снежинки  чаще  всего  бывают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бо  в  виде  шестиугольных  пластинок,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бо  в  виде  шестилучевых  звёздочек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Capture_3"/>
          <p:cNvPicPr/>
          <p:nvPr/>
        </p:nvPicPr>
        <p:blipFill>
          <a:blip r:embed="rId1"/>
          <a:stretch/>
        </p:blipFill>
        <p:spPr>
          <a:xfrm>
            <a:off x="2500200" y="3071880"/>
            <a:ext cx="4025880" cy="360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5580000" y="41544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7150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d9d9d9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Мы  белые  снежинки, </a:t>
            </a: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Летим, летим, летим. </a:t>
            </a: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Дорожки  и  тропинки</a:t>
            </a: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Мы  все  запорошим. 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   Покружимся  над  садом </a:t>
            </a: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     В  холодный  день  зимы </a:t>
            </a: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И  тихо  сядем  рядом </a:t>
            </a: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С  такими  же, как  мы. 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 Танцуем  над  полями, </a:t>
            </a: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  Ведём  свой  хоровод, </a:t>
            </a: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    Куда, не  знаем  сами, </a:t>
            </a:r>
            <a:br>
              <a:rPr sz="2200"/>
            </a:br>
            <a:r>
              <a:rPr b="1" lang="ru-RU" sz="2200" spc="-1" strike="noStrike">
                <a:solidFill>
                  <a:srgbClr val="d9d9d9"/>
                </a:solidFill>
                <a:latin typeface="Arial"/>
              </a:rPr>
              <a:t>   Нас  ветер  понесёт.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j0189254"/>
          <p:cNvPicPr/>
          <p:nvPr/>
        </p:nvPicPr>
        <p:blipFill>
          <a:blip r:embed="rId1"/>
          <a:stretch/>
        </p:blipFill>
        <p:spPr>
          <a:xfrm>
            <a:off x="428760" y="1357200"/>
            <a:ext cx="39589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0" y="4287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Порой  снега  выпадает  так  много,</a:t>
            </a:r>
            <a:br>
              <a:rPr sz="2200"/>
            </a:br>
            <a:r>
              <a:rPr b="1" lang="ru-RU" sz="2200" spc="-1" strike="noStrike">
                <a:solidFill>
                  <a:srgbClr val="262626"/>
                </a:solidFill>
                <a:latin typeface="Arial"/>
              </a:rPr>
              <a:t>что  образуются  снежные  завалы – сугроб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Capture"/>
          <p:cNvPicPr/>
          <p:nvPr/>
        </p:nvPicPr>
        <p:blipFill>
          <a:blip r:embed="rId1"/>
          <a:stretch/>
        </p:blipFill>
        <p:spPr>
          <a:xfrm>
            <a:off x="785880" y="1500120"/>
            <a:ext cx="7597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рия и Алексей</dc:creator>
  <dc:description/>
  <dc:language>en-US</dc:language>
  <cp:lastModifiedBy>Пользователь</cp:lastModifiedBy>
  <dcterms:modified xsi:type="dcterms:W3CDTF">2022-12-11T09:56:02Z</dcterms:modified>
  <cp:revision>24</cp:revision>
  <dc:subject/>
  <dc:title>Календарный год состоит из четырех сезонов, иначе их еще называют «времена года» -  из зимы, весны, лета и осени.  Давай узнаем поподробнее о каждом из них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380000000000010250600207f5000400038000</vt:lpwstr>
  </property>
</Properties>
</file>