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5.wmf" ContentType="image/x-wmf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2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E16-081B-4552-A835-5C86E508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EED-96C7-4BD7-A02A-06E96EF6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0A9-02B6-4F1C-9865-1C96D1F3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19E-BE14-4131-8D78-F21E3A31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D99E-5C68-4F55-BA43-9396DE6F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285-4F88-499D-AF1E-652CAFE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0E7-260F-4EF4-8827-820BA66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C531-D06E-4AF1-A409-92DC5A0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EF5F-E811-4C3A-9968-1478A8E3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76B-6EB3-4032-9E1B-0A40D39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A80-86E6-4752-BA72-2937D7E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879-AF84-4E2A-B9D2-E43F15F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D53-F4BC-4381-AF8D-63AF63B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A31B-C673-4FD8-A091-B694DF69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C2AC-6EAD-4EFD-BB3E-7868A5E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A85-DD38-4A51-9434-5F528B49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AAF-665F-4BBC-A170-91466FF4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1D0-590A-4F98-8D7D-68F1CBD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BA3-8979-4B8F-B62A-E9BBC42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DA4-9FB1-4544-A177-5BB41D45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57C-CFC2-4F84-8E00-4E9E98EE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55D-B1EF-4195-AE78-9EDBDD1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4EE-B60E-4784-9584-6D18AE8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587-E98D-4923-A6D9-73C1D04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138CC1-3814-43F4-ADE8-5ADFF07228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E2D995-285A-4E6A-88BB-345D49F141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й  год  состои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з  четырёх  сезонов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наче  их  ещё  называю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«времена  года»: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зим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весны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ета, </a:t>
            </a:r>
            <a:r>
              <a:rPr b="1" lang="ru-RU" sz="3000" spc="-1" strike="noStrike">
                <a:solidFill>
                  <a:srgbClr val="ffc000"/>
                </a:solidFill>
                <a:latin typeface="Arial"/>
                <a:ea typeface="Arial"/>
              </a:rPr>
              <a:t>осени.</a:t>
            </a:r>
            <a:br>
              <a:rPr sz="3000"/>
            </a:br>
            <a:br>
              <a:rPr sz="3000"/>
            </a:br>
            <a:br>
              <a:rPr sz="36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вай  узнаем  поподробнее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о  каждом  из  н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четвертых, зимой  природа  отдыхает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ревья  ещё  осенью  сбросили  свой  наряд  из  листье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сейчас  спят, укрытые  снег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Capture_5"/>
          <p:cNvPicPr/>
          <p:nvPr/>
        </p:nvPicPr>
        <p:blipFill>
          <a:blip r:embed="rId1"/>
          <a:stretch/>
        </p:blipFill>
        <p:spPr>
          <a:xfrm>
            <a:off x="1357200" y="1571760"/>
            <a:ext cx="64245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доёмы (речки, пруды, озера)  замёрзли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крылись  толстым  слоем  ль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apture_4"/>
          <p:cNvPicPr/>
          <p:nvPr/>
        </p:nvPicPr>
        <p:blipFill>
          <a:blip r:embed="rId1"/>
          <a:stretch/>
        </p:blipFill>
        <p:spPr>
          <a:xfrm>
            <a:off x="1285920" y="1428840"/>
            <a:ext cx="6486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огие  птицы  улетают  на  юг, в  тёплые  стран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  время  перелёта  они  собираются  в  ста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вытягиваются  клином – так  легче  преодолеть сопротивление  воздуха, а  также   заметить  хищника, например, ястреба  или  сокола, и  подать  сигнал  трев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Cap"/>
          <p:cNvPicPr/>
          <p:nvPr/>
        </p:nvPicPr>
        <p:blipFill>
          <a:blip r:embed="rId1"/>
          <a:stretch/>
        </p:blipFill>
        <p:spPr>
          <a:xfrm>
            <a:off x="1071720" y="2071800"/>
            <a:ext cx="710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которые  звери (барсуки, сурки, медведи)  залез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 снежные  норы – берлог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на  всю  зиму  впадают  в  спячк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bears06_1024x768"/>
          <p:cNvPicPr/>
          <p:nvPr/>
        </p:nvPicPr>
        <p:blipFill>
          <a:blip r:embed="rId1"/>
          <a:stretch/>
        </p:blipFill>
        <p:spPr>
          <a:xfrm>
            <a:off x="500040" y="21430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Барсук-2"/>
          <p:cNvPicPr/>
          <p:nvPr/>
        </p:nvPicPr>
        <p:blipFill>
          <a:blip r:embed="rId2"/>
          <a:stretch/>
        </p:blipFill>
        <p:spPr>
          <a:xfrm>
            <a:off x="5000760" y="1714680"/>
            <a:ext cx="216036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500040" y="550080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7286760" y="2349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С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syrok"/>
          <p:cNvPicPr/>
          <p:nvPr/>
        </p:nvPicPr>
        <p:blipFill>
          <a:blip r:embed="rId3"/>
          <a:stretch/>
        </p:blipFill>
        <p:spPr>
          <a:xfrm>
            <a:off x="5000760" y="40719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7360200" y="4857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м  не  менее, зима – замечательное  время  года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дь  зимой  и  только  зим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зможны  многие  забавы  и  игр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пример, катание  на  санях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3_5"/>
          <p:cNvPicPr/>
          <p:nvPr/>
        </p:nvPicPr>
        <p:blipFill>
          <a:blip r:embed="rId1"/>
          <a:stretch/>
        </p:blipFill>
        <p:spPr>
          <a:xfrm>
            <a:off x="214200" y="2143080"/>
            <a:ext cx="5241960" cy="360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059489858-28"/>
          <p:cNvPicPr/>
          <p:nvPr/>
        </p:nvPicPr>
        <p:blipFill>
          <a:blip r:embed="rId2"/>
          <a:stretch/>
        </p:blipFill>
        <p:spPr>
          <a:xfrm>
            <a:off x="5572080" y="1643040"/>
            <a:ext cx="326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санк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zabavi1-1"/>
          <p:cNvPicPr/>
          <p:nvPr/>
        </p:nvPicPr>
        <p:blipFill>
          <a:blip r:embed="rId1"/>
          <a:stretch/>
        </p:blipFill>
        <p:spPr>
          <a:xfrm>
            <a:off x="857160" y="1071720"/>
            <a:ext cx="4206960" cy="54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sledge_vladimir_l"/>
          <p:cNvPicPr/>
          <p:nvPr/>
        </p:nvPicPr>
        <p:blipFill>
          <a:blip r:embed="rId2"/>
          <a:stretch/>
        </p:blipFill>
        <p:spPr>
          <a:xfrm>
            <a:off x="5357880" y="1143000"/>
            <a:ext cx="2879640" cy="24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trubmetall"/>
          <p:cNvPicPr/>
          <p:nvPr/>
        </p:nvPicPr>
        <p:blipFill>
          <a:blip r:embed="rId3"/>
          <a:stretch/>
        </p:blipFill>
        <p:spPr>
          <a:xfrm>
            <a:off x="5357880" y="4286160"/>
            <a:ext cx="2879640" cy="2143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429160" y="37148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конька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скользкому  льд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334039"/>
          <p:cNvPicPr/>
          <p:nvPr/>
        </p:nvPicPr>
        <p:blipFill>
          <a:blip r:embed="rId1"/>
          <a:stretch/>
        </p:blipFill>
        <p:spPr>
          <a:xfrm>
            <a:off x="4929120" y="342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ynv2003_02"/>
          <p:cNvPicPr/>
          <p:nvPr/>
        </p:nvPicPr>
        <p:blipFill>
          <a:blip r:embed="rId2"/>
          <a:stretch/>
        </p:blipFill>
        <p:spPr>
          <a:xfrm>
            <a:off x="3924360" y="189000"/>
            <a:ext cx="5062320" cy="3240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929120" y="62866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02926"/>
          <p:cNvPicPr/>
          <p:nvPr/>
        </p:nvPicPr>
        <p:blipFill>
          <a:blip r:embed="rId3"/>
          <a:stretch/>
        </p:blipFill>
        <p:spPr>
          <a:xfrm>
            <a:off x="214200" y="2286000"/>
            <a:ext cx="3649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лыж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zabavi3-1"/>
          <p:cNvPicPr/>
          <p:nvPr/>
        </p:nvPicPr>
        <p:blipFill>
          <a:blip r:embed="rId1"/>
          <a:stretch/>
        </p:blipFill>
        <p:spPr>
          <a:xfrm>
            <a:off x="3571920" y="35712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fambackenDanik_a"/>
          <p:cNvPicPr/>
          <p:nvPr/>
        </p:nvPicPr>
        <p:blipFill>
          <a:blip r:embed="rId2"/>
          <a:stretch/>
        </p:blipFill>
        <p:spPr>
          <a:xfrm>
            <a:off x="214200" y="1571760"/>
            <a:ext cx="3171960" cy="46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334180"/>
          <p:cNvPicPr/>
          <p:nvPr/>
        </p:nvPicPr>
        <p:blipFill>
          <a:blip r:embed="rId3"/>
          <a:stretch/>
        </p:blipFill>
        <p:spPr>
          <a:xfrm>
            <a:off x="3643200" y="4857840"/>
            <a:ext cx="514692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643200" y="57862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Ы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сноуборде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ециальной  доске  для  катания  по  снегу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Capture_6"/>
          <p:cNvPicPr/>
          <p:nvPr/>
        </p:nvPicPr>
        <p:blipFill>
          <a:blip r:embed="rId1"/>
          <a:stretch/>
        </p:blipFill>
        <p:spPr>
          <a:xfrm>
            <a:off x="539640" y="1413000"/>
            <a:ext cx="7921800" cy="52545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 rot="1159800">
            <a:off x="2881440" y="4142880"/>
            <a:ext cx="3024000" cy="863640"/>
          </a:xfrm>
          <a:prstGeom prst="wedgeRoundRectCallout">
            <a:avLst>
              <a:gd name="adj1" fmla="val -4041"/>
              <a:gd name="adj2" fmla="val 9818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055320" y="544500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ОУБОР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щё  можно  играть  в  снеж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zabavi2-1"/>
          <p:cNvPicPr/>
          <p:nvPr/>
        </p:nvPicPr>
        <p:blipFill>
          <a:blip r:embed="rId1"/>
          <a:stretch/>
        </p:blipFill>
        <p:spPr>
          <a:xfrm>
            <a:off x="714240" y="1357200"/>
            <a:ext cx="7612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так, ЗИМА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760" y="499680"/>
            <a:ext cx="5286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лый сне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ушист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воздухе круж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на землю тих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дает, лож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под утро сне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ле забеле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очно пеле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е его оде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емный лес что шап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накрылся чуд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аснул под не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репко, непробудно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жьи дни корот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лнце светит ма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от пришли морозцы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има наст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руженик – крестьян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ытащил саниш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неговые го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роят ребятишки…        (И. З. Суриков)</a:t>
            </a:r>
            <a:r>
              <a:rPr b="1" i="1" lang="ru-RU" sz="1400" spc="-1" strike="noStrike">
                <a:solidFill>
                  <a:srgbClr val="ffffff"/>
                </a:solidFill>
                <a:latin typeface="Book Antiqu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0836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28083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лепить  снегови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apture-3"/>
          <p:cNvPicPr/>
          <p:nvPr/>
        </p:nvPicPr>
        <p:blipFill>
          <a:blip r:embed="rId1"/>
          <a:stretch/>
        </p:blipFill>
        <p:spPr>
          <a:xfrm>
            <a:off x="4716360" y="1628640"/>
            <a:ext cx="4238640" cy="4581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zabavi4-1"/>
          <p:cNvPicPr/>
          <p:nvPr/>
        </p:nvPicPr>
        <p:blipFill>
          <a:blip r:embed="rId2"/>
          <a:srcRect l="0" t="0" r="0" b="-602"/>
          <a:stretch/>
        </p:blipFill>
        <p:spPr>
          <a:xfrm>
            <a:off x="250920" y="162864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50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Зима  состоит  из  трёх  меся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Первый  месяц  зимы – декаб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23"/>
          <p:cNvPicPr/>
          <p:nvPr/>
        </p:nvPicPr>
        <p:blipFill>
          <a:blip r:embed="rId1"/>
          <a:stretch/>
        </p:blipFill>
        <p:spPr>
          <a:xfrm>
            <a:off x="4786200" y="2071800"/>
            <a:ext cx="398484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428760" y="1428840"/>
            <a:ext cx="46432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Декабрь  год  конч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а  зиму  начин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реки  покрыва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он  прочным  гладким  ль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Рождество  справляют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Новый  год  встреч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люди  этим  бел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орозным  декабрё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2" repeatCount="2000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Второй  месяц  зимы – янв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8760" y="500040"/>
            <a:ext cx="421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Январь - начало  года,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Силён  его  мороз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Уснула  вся  природ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Теперь  уж  не  до  гро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д  снежным  покрыва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коится 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  краю  большом  и  малом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ё  белые  п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Бери  скорее  санк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з  дома  выбег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едем  спозаран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Кататься  в  снежный  кра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Capture_7"/>
          <p:cNvPicPr/>
          <p:nvPr/>
        </p:nvPicPr>
        <p:blipFill>
          <a:blip r:embed="rId1"/>
          <a:srcRect l="0" t="0" r="-36" b="0"/>
          <a:stretch/>
        </p:blipFill>
        <p:spPr>
          <a:xfrm>
            <a:off x="4500720" y="1500120"/>
            <a:ext cx="4419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Capture-1"/>
          <p:cNvPicPr/>
          <p:nvPr/>
        </p:nvPicPr>
        <p:blipFill>
          <a:blip r:embed="rId1"/>
          <a:stretch/>
        </p:blipFill>
        <p:spPr>
          <a:xfrm>
            <a:off x="0" y="0"/>
            <a:ext cx="10260000" cy="4373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214200" y="14292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И  последний  месяц  зимы – февраль.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В  этом  месяце, а  именно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23  февраля,  мы  отмечаем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День  защитника  Отече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57880" y="2571840"/>
            <a:ext cx="37861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Дуют  ветры  в  феврал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Воют  в  трубах  гром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Змейкой  мчится  по 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Лёгкая  позем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Поднимаясь, мчатся  вд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амолётов  зве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Это  празднует  фев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Армии  рожден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(С. Марш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k8"/>
          <p:cNvPicPr/>
          <p:nvPr/>
        </p:nvPicPr>
        <p:blipFill>
          <a:blip r:embed="rId2"/>
          <a:stretch/>
        </p:blipFill>
        <p:spPr>
          <a:xfrm>
            <a:off x="285840" y="4071960"/>
            <a:ext cx="4849560" cy="251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288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у, теперь  и  ты, наверное, со  мной  согласишься, что  зима – это  очень  интересное  время  года.</a:t>
            </a:r>
            <a:br>
              <a:rPr sz="22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ма, глянь-ка  из  окош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, вчера  недаром  кош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Умывала  нос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язи  нет, весь  двор  одело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ветлело, побелело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Видно, есть  мороз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 колючий, светло-син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 ветвям  развешан  иней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Погляди  хоть  ты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но  кто-то  тороват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жей, белой, пухлой  ва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Все  убрал  кус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ж  теперь  не  будет  спору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 салазки, да  и  в  г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Весело  бежать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да, мама? Не  откажеш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 сама, наверно, скажешь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«Ну, скорей, гулять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(А. А. Ф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2" descr="Capture_6"/>
          <p:cNvPicPr/>
          <p:nvPr/>
        </p:nvPicPr>
        <p:blipFill>
          <a:blip r:embed="rId1"/>
          <a:stretch/>
        </p:blipFill>
        <p:spPr>
          <a:xfrm>
            <a:off x="4929120" y="392904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Айсберг"/>
          <p:cNvPicPr/>
          <p:nvPr/>
        </p:nvPicPr>
        <p:blipFill>
          <a:blip r:embed="rId2"/>
          <a:stretch/>
        </p:blipFill>
        <p:spPr>
          <a:xfrm>
            <a:off x="4929120" y="1214280"/>
            <a:ext cx="36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mph" presetID="26" repeatCount="300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Чем  отличается  зима  от  других  сезон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974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о-первых, коротким  световым  днём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тром  солнышко  поздно  встаёт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вечером  рано садится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этому  на  часах  вроде  бы  и  немного времени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за  окном  уже  темно 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 мы  не  можем,  как летом, долго  гул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4643280" y="3286080"/>
            <a:ext cx="4329000" cy="3239640"/>
            <a:chOff x="4643280" y="3286080"/>
            <a:chExt cx="4329000" cy="3239640"/>
          </a:xfrm>
        </p:grpSpPr>
        <p:pic>
          <p:nvPicPr>
            <p:cNvPr id="93" name="Picture 7" descr=""/>
            <p:cNvPicPr/>
            <p:nvPr/>
          </p:nvPicPr>
          <p:blipFill>
            <a:blip r:embed="rId1"/>
            <a:stretch/>
          </p:blipFill>
          <p:spPr>
            <a:xfrm>
              <a:off x="4643280" y="3286080"/>
              <a:ext cx="4329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4643280" y="3286080"/>
              <a:ext cx="4329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3"/>
          <p:cNvGrpSpPr/>
          <p:nvPr/>
        </p:nvGrpSpPr>
        <p:grpSpPr>
          <a:xfrm>
            <a:off x="142920" y="3286080"/>
            <a:ext cx="4527000" cy="3239640"/>
            <a:chOff x="142920" y="3286080"/>
            <a:chExt cx="4527000" cy="3239640"/>
          </a:xfrm>
        </p:grpSpPr>
        <p:pic>
          <p:nvPicPr>
            <p:cNvPr id="96" name="Picture 4" descr=""/>
            <p:cNvPicPr/>
            <p:nvPr/>
          </p:nvPicPr>
          <p:blipFill>
            <a:blip r:embed="rId2"/>
            <a:stretch/>
          </p:blipFill>
          <p:spPr>
            <a:xfrm>
              <a:off x="142920" y="3286080"/>
              <a:ext cx="4527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142920" y="3286080"/>
              <a:ext cx="4527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Во-вторых,  зима  отличается  низкой  температурой воздуха. Поэтому  все  люди, включая и тебя,</a:t>
            </a:r>
            <a:br>
              <a:rPr sz="2200"/>
            </a:b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тепло  одевают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1365120" cy="145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500200" y="150012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3929040" y="1785960"/>
            <a:ext cx="357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250920" y="314172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4714920" y="4500720"/>
            <a:ext cx="1871640" cy="1465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 rot="20580000">
            <a:off x="318240" y="15876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15080" y="2643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ВА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3000" y="3645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ДЖЕМП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42920" y="59500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УРТКА  НА  МЕХ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ИЛИ  ПУХ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220280" y="600084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АПОГИ  НА  МЕ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63400" y="585792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ЕПЛ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ОМБИНЕЗ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rcRect l="0" t="0" r="0" b="-15"/>
          <a:stretch/>
        </p:blipFill>
        <p:spPr>
          <a:xfrm>
            <a:off x="1357200" y="17640"/>
            <a:ext cx="3541680" cy="684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4284720" y="57168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Вот  как  я  экипирова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ходи, мороз  суров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28760" y="142920"/>
            <a:ext cx="900000" cy="136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5286240" y="2928960"/>
            <a:ext cx="3030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нщины  оде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AZ151"/>
          <p:cNvPicPr/>
          <p:nvPr/>
        </p:nvPicPr>
        <p:blipFill>
          <a:blip r:embed="rId1"/>
          <a:stretch/>
        </p:blipFill>
        <p:spPr>
          <a:xfrm>
            <a:off x="500040" y="1143000"/>
            <a:ext cx="5184720" cy="43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Безымянный"/>
          <p:cNvPicPr/>
          <p:nvPr/>
        </p:nvPicPr>
        <p:blipFill>
          <a:blip r:embed="rId2"/>
          <a:stretch/>
        </p:blipFill>
        <p:spPr>
          <a:xfrm>
            <a:off x="6143760" y="1143000"/>
            <a:ext cx="210348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00040" y="571500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У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43760" y="578628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БЛЁ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третьих, для  зимы  характерн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ие  твёрдые  атмосферные  осадки, как  снег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нег  состоит  из  ледяных  кристалло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ной  формы – снежинок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форме  снежинки  чаще  всего  быв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угольных  пластинок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лучевых  звёздоче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Capture_3"/>
          <p:cNvPicPr/>
          <p:nvPr/>
        </p:nvPicPr>
        <p:blipFill>
          <a:blip r:embed="rId1"/>
          <a:stretch/>
        </p:blipFill>
        <p:spPr>
          <a:xfrm>
            <a:off x="2500200" y="3071880"/>
            <a:ext cx="402588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7150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ы  белые  снежинк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Летим, летим, летим.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Дорожки  и  тропинки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Мы  все  запорошим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Покружимся  над  садом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В  холодный  день  зимы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И  тихо  сядем  рядом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С  такими  же, как  мы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Танцуем  над  полям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Ведём  свой  хоровод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Куда, не  знаем  сам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Нас  ветер  понесёт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j0189254"/>
          <p:cNvPicPr/>
          <p:nvPr/>
        </p:nvPicPr>
        <p:blipFill>
          <a:blip r:embed="rId1"/>
          <a:stretch/>
        </p:blipFill>
        <p:spPr>
          <a:xfrm>
            <a:off x="428760" y="135720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0" y="428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Порой  снега  выпадает  так  много,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что  образуются  снежные  завалы – сугроб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Capture"/>
          <p:cNvPicPr/>
          <p:nvPr/>
        </p:nvPicPr>
        <p:blipFill>
          <a:blip r:embed="rId1"/>
          <a:stretch/>
        </p:blipFill>
        <p:spPr>
          <a:xfrm>
            <a:off x="785880" y="1500120"/>
            <a:ext cx="75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Пользователь</cp:lastModifiedBy>
  <dcterms:modified xsi:type="dcterms:W3CDTF">2022-12-11T09:56:02Z</dcterms:modified>
  <cp:revision>24</cp:revision>
  <dc:subject/>
  <dc:title>Календарный год состоит из четырех сезонов, иначе их еще называют «времена года» -  из зимы, весны, лета и осени.  Давай узнаем поподробнее о каждом из ни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