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061-1623-4543-AD7B-526EF981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9F4-42B2-47F6-B44A-A1B34C94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A8B-0054-4BBF-8466-8C596C5A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1A9-46C4-4476-BFCA-0EC8DEF0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82D-AFBF-44C9-82D2-E8CF2958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D2F-DE38-4DC7-9F3C-C58DE820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ED2-1A35-4332-AB14-51876B97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741-6D32-4D50-BAD2-2FF47F2D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3E2-3A18-436F-8623-5E23EAE5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722-6B29-45C5-949E-63349944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E5D-F7D9-4EBB-81B4-DAE400D1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FD5-6AB5-4F6C-9671-107F6E0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7835-FF89-40E7-886B-924FCCCDA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549360"/>
            <a:ext cx="66960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:\Users\Admin\Desktop\583236_3.jpeg"/>
          <p:cNvPicPr/>
          <p:nvPr/>
        </p:nvPicPr>
        <p:blipFill>
          <a:blip r:embed="rId2"/>
          <a:stretch/>
        </p:blipFill>
        <p:spPr>
          <a:xfrm>
            <a:off x="179280" y="404640"/>
            <a:ext cx="8677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фон 2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82090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осип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жки мы подняли, На педали вста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ей педали я кручу, И качу, качу, к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6" descr="IMG_20221118_152900.jpg"/>
          <p:cNvPicPr/>
          <p:nvPr/>
        </p:nvPicPr>
        <p:blipFill>
          <a:blip r:embed="rId2"/>
          <a:stretch/>
        </p:blipFill>
        <p:spPr>
          <a:xfrm>
            <a:off x="2987640" y="1844640"/>
            <a:ext cx="38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шечк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встает на четвереньки, а вы просите его показать, как кошка выгибает спину, когда сердится. Затем попросите малыша прогнуться и потянуться — кошка опять стала добро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:\Users\Admin\Desktop\IMG_20221122_152738.jpg"/>
          <p:cNvPicPr/>
          <p:nvPr/>
        </p:nvPicPr>
        <p:blipFill>
          <a:blip r:embed="rId2"/>
          <a:stretch/>
        </p:blipFill>
        <p:spPr>
          <a:xfrm>
            <a:off x="2771640" y="2637000"/>
            <a:ext cx="3797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, а после этого — самое время вставать с крова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C:\Users\Admin\Desktop\IMG_20221121_152240.jpg"/>
          <p:cNvPicPr/>
          <p:nvPr/>
        </p:nvPicPr>
        <p:blipFill>
          <a:blip r:embed="rId2"/>
          <a:stretch/>
        </p:blipFill>
        <p:spPr>
          <a:xfrm>
            <a:off x="2484360" y="1268280"/>
            <a:ext cx="367524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Игровые упраж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я могут быть на  основе игрового характера с использованием 3-6 имитационных упражнений. Дети очень любят гимнастику в форме музыкально – ритмических упражнений. Можно использовать комплексы с элементами точечного массажа, самомассажа, пальчиковой гимнастики, дыхательной гимнастики. Очень хорошо, если у вас уже есть массажные коврики — используйте их 2–3 раза в неделю. А главное — все это доставляет детям огромное удовольствие. Таким образом бодрящая гимнастика, облегчит детям переход от сна к бодрствованию. И дети будут вставать «с той ног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Arial"/>
              </a:rPr>
              <a:t>Главное прав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исключение резких движений, которые могут вызвать растяжение мышц, перевозбуждение и, как следствие, головокру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следить за осанкой ребенка и правильностью выполнения упраж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Примерный комплекс упражнений.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Упражнения пробуж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ли-тили-тили-д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за странный перезв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будильник наш звен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ыпаться нам ве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«Потягивани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. п.: лёжа на спине, руки вдоль туловища, поднять руки вверх, потянуться, и. п. (3-4 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оснулись, потяну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ку набок поверну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 потяну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еще один раз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ку набок поверну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 потяну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Упражнение в кров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«Часики тикаю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 п.: сидя, руки на коленях, качаем головой в правую и левую сторону. (3-4 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 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: сидя, руки в упоре сзади, ноги согнуты в коленях, обхватить колени руками, и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елосип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жки мы подняли, На педали вста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ей педали я кручу, И качу, качу, к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«Змея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. п.: лёжа на животе, упор на вытянутых руках. Голова гордо поворачивается влево – вправо и издавать звук «Ш… Ш… Ш… » (4 раза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Упражнения на пол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ГАЙ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 на свете попугай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шире расправляй.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Руки в стороны, влево, вправо.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любил летать всех выше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ше пальм, жирафов выше.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отянуться на носках, руки вверх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сти к деткам прилетал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 ними отдыхал,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Делать приседания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ыгал, кланялся, шалил,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рыжки,наклоны головы, туловища вперед.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малышами говорил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одьба по корригирующим дорожка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сочках, на пятках, с высоко подняты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гами и. т. 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Дыхательные упражнения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"Кошка". Ноги на ширине плеч, чуть-чуть приседая, поворачивайтесь то вправо, то влево. На ту, в которую сторону вы повернулись. и шумно нюхайте воздух справа, слева, в темпе ша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"Насос". Думайте, что накачиваете шину автомобиля. Вдох - в крайней точке наклона. Кончился наклон - кончился вдох. Не тяните его, разгибаясь, и не разгибайтесь до конца. Шину надо быстро накачать и ехать дальше. Голову не поднимать. Смотреть вниз на воображаемый нас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«Вырастим большими». На счет «раз, два» поднять руки вверх, вдох, на счет «три, четыре» — руки вниз, выдох. (4 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Users\Admin\Desktop\бодргим\IMG_20221110_152819.jpg"/>
          <p:cNvPicPr/>
          <p:nvPr/>
        </p:nvPicPr>
        <p:blipFill>
          <a:blip r:embed="rId2"/>
          <a:stretch/>
        </p:blipFill>
        <p:spPr>
          <a:xfrm>
            <a:off x="395280" y="0"/>
            <a:ext cx="3384720" cy="396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Users\Admin\Desktop\бодргим\IMG_20221110_152814.jpg"/>
          <p:cNvPicPr/>
          <p:nvPr/>
        </p:nvPicPr>
        <p:blipFill>
          <a:blip r:embed="rId3"/>
          <a:stretch/>
        </p:blipFill>
        <p:spPr>
          <a:xfrm>
            <a:off x="5435640" y="260280"/>
            <a:ext cx="3097080" cy="36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C:\Users\Admin\Desktop\бодргим\IMG_20221118_153139.jpg"/>
          <p:cNvPicPr/>
          <p:nvPr/>
        </p:nvPicPr>
        <p:blipFill>
          <a:blip r:embed="rId4"/>
          <a:stretch/>
        </p:blipFill>
        <p:spPr>
          <a:xfrm>
            <a:off x="3059280" y="2060640"/>
            <a:ext cx="34066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gency FB"/>
              </a:rPr>
              <a:t>Я не боюсь ещё раз повторить:</a:t>
            </a:r>
            <a:br>
              <a:rPr sz="2800"/>
            </a:br>
            <a:r>
              <a:rPr b="1" i="1" lang="ru-RU" sz="2800" spc="-1" strike="noStrike">
                <a:solidFill>
                  <a:srgbClr val="cc0000"/>
                </a:solidFill>
                <a:latin typeface="Agency FB"/>
              </a:rPr>
              <a:t>Забота о здоровье - Это важнейший труд воспитателя.</a:t>
            </a:r>
            <a:br>
              <a:rPr sz="2800"/>
            </a:br>
            <a:r>
              <a:rPr b="1" i="1" lang="ru-RU" sz="2800" spc="-1" strike="noStrike">
                <a:solidFill>
                  <a:srgbClr val="cc0000"/>
                </a:solidFill>
                <a:latin typeface="Agency FB"/>
              </a:rPr>
              <a:t>                                                       Сухомлинский В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 - большой дар, без которого трудно сделать жизнь счастливой, интересной и долгой. В настоящее время одной из приоритетных задач, стоящих перед педагогами, является сохранение здоровья детей в процессе воспитания и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я жизнедеятельность ребенка в дошкольном учреждении должна быть направлена на сохранение и укрепление здоровья. Однако обычно речь идет об утренней зарядке, а вот о необходимости гимнастики после дневного сна, почему-то помнят далеко не все, а ведь она ничуть не менее важн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Цель такой гимнастики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способствовать быстрому и комфортному пробуждению детей после 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 после сна - это один из важнейших кирпичиков в становлении фундамента здоровья детей, укрепить который можно только при систематическом прове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 после дневного сна – это комплекс мероприятий облегчающих переход от сна к бодрствованию. Бодрящая гимнастика помогает детскому организму проснуться, улучшает настроение, поднимает мышечный тон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Задачи гимнастики после с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тонус нервной сис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ить мышечный тон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профилактике нарушений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профилактике простудных заболе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физических 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положительные эмоции при выполнении физических упражнений и прочих режимных моментов во второй половине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детей дышать через н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привычку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Гимнастика после сна, её организация и проведе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дрящую гимнастику следует проводить в хорошо проветренном помещении, в течение семи – пятнадцати минут в зависимости от возраста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, если после пробуждения ребенок услышит свои любимые детские песенки, тогда он наверняка проснется быстр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ого чтобы вызвать у детей эмоциональный отклик, можно использовать игровые упражнения, сопровождаемые различными стих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Варианты бодрящей гимнастики 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 игрового харак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 с использованием тренажёров или спортивного компле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ая гимнас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бно – восстановительная гимнас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о –ритмическ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хательная гимнастика стоя у постели или в групповой комна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Три основных этапа гимнастики после сн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епенное пробуждение, потяги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инка, проводим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 пост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вые упраж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 самомасс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фон 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Постепенное пробуждение, потяг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го, если малыш будет просыпаться под тихую, плавную музыку. Отдерните шторы в спальне, мягко и нежно, с улыбкой — и уж, конечно, без резких движений! — откиньте одеяло с 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G_0503"/>
          <p:cNvPicPr/>
          <p:nvPr/>
        </p:nvPicPr>
        <p:blipFill>
          <a:blip r:embed="rId2"/>
          <a:stretch/>
        </p:blipFill>
        <p:spPr>
          <a:xfrm>
            <a:off x="2484360" y="270828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фон 2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Разминка, проводимая в пос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 в постели может включать такие элементы, как поочередное и одновременное поднимание и опускание рук и ног, элементы пальчиковой гимнастики, гимнастики для глаз, дыхательной гимнастики и т. п. Сделайте несколько более сложных упражнений — подойдут всем знакомые «велосипед» или «кошечка».  Длительность гимнастики в постели — около 2—З мину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2T08:05:32Z</dcterms:created>
  <dc:creator>1</dc:creator>
  <dc:description/>
  <dc:language>en-US</dc:language>
  <cp:lastModifiedBy>Admin</cp:lastModifiedBy>
  <dcterms:modified xsi:type="dcterms:W3CDTF">2022-11-24T03:25:17Z</dcterms:modified>
  <cp:revision>16</cp:revision>
  <dc:subject/>
  <dc:title>Муниципальное бюджетное дошкольное учреждение «Детский сад общеразвивающего вида №79» г. Воронеж </dc:title>
</cp:coreProperties>
</file>