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486BE-3182-4E71-A90B-386FCFA1AB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60D6-5022-4DB6-8F49-76AA35D8F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B9969-B077-42C7-BC04-D5EFE46C1A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63F30-82AE-45B7-8C75-56778F9C1E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06C3-4271-458C-82A1-5A1D93023C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E2576-6233-4FBA-B29B-D529E93188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C2AC9-6C2D-42C2-BC82-DDF89522CD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68391-04D8-4F37-A46B-B9A5E76B69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DCA21-3227-492E-9EBD-BC1F1DDF10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6B57-E5C1-47EE-96AF-0DF2022902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6409D-ECE1-42E5-999B-92BBAB867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AEB7-6083-4F4F-A77A-B535B722E6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B94D-09FC-4EE6-B52C-C9E261564D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B4812-015F-4B52-89EF-E7DA4D5804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37E2F-D5A3-4625-80DA-EF3A05D5A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94E5A-58C1-44B4-8259-B16D1DE2B1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56C7-A7FF-4993-90F3-0DBAD72FA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5358-F128-4C44-A860-79C63C3E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28B3-C509-4335-AB4A-0F9C0AD1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C2E3-8DAC-41BC-871B-5BE186BE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2F20-5836-4A79-B05A-FABF077A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AF73-BFB4-4EA0-AF19-E162A32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254C-6DE8-4460-9F04-14D7293A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D0E2-88F8-420C-943F-EB7463C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0E38-845E-4A40-A773-900A1E2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00CB5-FCA6-48C2-88ED-AB74E47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B98B-B387-4378-987F-9017D3524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9E9AD-D919-4B8F-97D9-564E227DF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4D4E-F007-4D32-B25F-4487363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311CA-FC12-4587-B025-3844FFB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A8A6D-E745-4649-A49F-E637789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7D075-5325-446C-940B-F0D62C0E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09BAE-D9C1-4A1D-92C1-1E461C3C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4E5AA-9E7D-4BFA-A136-7E2E9352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13CCD-298B-4AC8-B54C-C64A7EDE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695EB-F5FC-460A-A73C-1D99990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7C496-EFFA-4E53-B668-D40529F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4EA62-E5A3-4B84-B37F-CA4DAA10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E65D7-4DBD-43F0-85AF-B126C7C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D907-7430-49AC-B380-4E054B36B0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1D128-0735-4D29-A323-AD00576EB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2F2DEC-1A12-4F3D-AD63-30299940F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8472F-C9B1-45F9-A7D3-A93C6DF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1CF93-FB60-4A97-AD4F-45A11A6C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62721-63C9-4C8B-8848-661DE33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66AA3-932E-486C-8CF5-DD04A5EF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35783-E9C9-4663-84B1-7998BE37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761E98-F4A7-4153-A883-7E0A8F5B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FE986-6782-4660-8E2A-924B49C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41FDA-4B7F-4033-9AE7-87566988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0059-EB91-437F-94D3-D6DFF64A2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EA2DB-ADCA-4DAE-B398-AC32516F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028E3-3DFA-4274-AE29-3C6961E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A0805-A065-419A-B374-4CC2220A2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5F53-C5C4-4EE4-92C1-A11597257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3603-534F-4503-BA7B-BB8A2295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A3E9-25E3-43BE-8826-DCB49292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0FD6-546D-48BE-B624-DEA6F37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81BC-FAEE-44BE-BE9E-3DC05F1D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4142-2C78-4366-A03D-0DF213AF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BD960-EB33-4E9A-90DF-B3102605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35F02-B6A0-4BFF-9E0B-90E5BFB9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959E-7C48-4CC6-A972-45277343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F2BC-5C17-421A-8771-FEB3718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EAB5-7233-4125-8F57-902E0A3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D4F0-4691-44EC-BC93-B29C204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9ABD-5FE1-42B8-994F-6CC952024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0E030-7101-4CDC-88AF-16E2B4A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F74C6-A1BB-41D2-ABF8-76148E1D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A61E1-8783-4346-B364-6BF8E99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B5322-603D-44F4-8D63-EC84245C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CDEB1-C49B-4E71-BC81-63547530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23AF-F8E4-46A7-BB11-912AE617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314D7-8C18-4D8F-BAD4-DA4E7A48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A7CF-048A-436F-B951-93F0EC90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2B955-7153-49AD-9AF0-AC3C7BF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ECE63-7B06-4C33-A163-A248EF5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61578-F1E6-4735-A447-B10872EFD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A1E-7DA8-4BA4-8273-ECB3422CA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A23-B8D4-4F55-846C-E5984B7D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9C97-C97F-4747-9C38-85C7B4C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0FE1-2F57-4EDD-B209-975C0E28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E0FF-A5BE-4416-A15B-D17B721C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BE0D-EA0B-4425-B8C0-4D43CB21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4F20-FB90-4ACA-B3BE-837A2F89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333D-CAFF-47EE-99C8-F05D5E3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254-9D82-4D64-8F21-2003A0A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2BA-8DF3-4B84-B4B0-F02E620B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DC47-D226-459A-A324-8919818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9E9-3BF9-408D-AC3C-9DC4B6E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30B-0F7F-4C77-9FA4-1318BE48B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7A98A-58D7-42FD-B234-15A1AEC70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9949D-0590-4E3A-A947-460008F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DFF37-299A-402C-A7DE-45F6F4D3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2B3B-F5AF-4A58-90CC-754DE689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B18C0-8C68-4D10-9A7A-BDE376C5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12431-6415-4626-B3A9-14236E70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2ADA1-1DCB-4824-B9A6-7C3CF20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5A3B2-4C46-441B-BCFE-EAE6430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0DEAD-5E15-4A00-AB03-7A8697C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86789-FD1F-4097-A5DA-6800B7A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ED865-367E-48C0-AB8A-6BB55B66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30864-D5A3-40AD-B928-3279FCB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DE68E-23DE-4B9F-A322-AA8A5C410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E13B2-BC3A-438C-85F3-FAD230FBA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0333-3F80-4D14-B78B-DDE6A439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CA9B1-8EB8-4F7D-BBF1-7DB7B4EA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09FF5-06AA-4BCF-8A69-73EF9F69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F425E-CB6B-4118-B5A1-3E17F21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6F827-A1E1-44E9-A97F-21F9B183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87E8A-3F50-4E31-87C4-FB9D49A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45DF8-F80A-43A2-9612-D2C59BC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3BBAE-AC64-47E5-8495-68166A6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06455-AFD7-4B3A-A4C3-7B5B264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F9F24-9A32-4AE2-B039-E5C8D48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3FEEA-48C1-4C71-9B75-44A50B7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07D2-28C7-4676-8E2C-986E80C9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547A7-189F-4346-ABA1-847BC2A4F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0091-BABF-4106-9025-2D3C99191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410E3-9A3B-4271-8541-173324D4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AAF3-80BB-4262-8631-7E912E7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1A3F-79DF-458F-BB48-A2428F76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E715-1298-4133-8153-445F531D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2CC0-50A1-4871-B335-A598EA5F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49EB-5D62-473D-8EFC-0B6DA84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B31E-B53D-40E8-AA08-708F1CE2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EB83-4E9B-44C9-ACF8-4AE2AE07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7932-DA26-4FBE-8946-80096986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119E-6F69-41DB-8DBB-4F3654DA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5565-1AFF-4EA0-B158-659A823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926A8-9FA2-4E40-8F7F-A674E487E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58DC8-FE15-4C64-B8A9-EBF425F31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C75E9-C4EE-49AD-9A2A-71187B9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BE9D5-71B0-4051-AADB-4EA0643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3A17B-5F2A-40FD-A7AF-812FB10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E1B0E-0E90-4835-A9CF-596FB898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67D0A-8BBA-450D-8F47-D7A348A6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91FEE-CFF1-4756-A774-8836909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05EF-61B4-4C18-9EF4-E6547A22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41EB0-50B6-47CF-AAC0-065386A6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0602E-920C-4A00-B464-DE90A7C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20FC6-4A3D-4C6A-99B1-3170EE5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E358B-5B58-44CE-A231-497DDC8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4DB0F-3F86-46D3-8C82-CBEEF53698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865E72-932D-44CD-B003-E207BF978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BBCCF-FEB0-4414-8723-9909820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86FB3-1474-4214-895B-C7F1136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A78ECE-8307-44AF-B2C4-66AF6C5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AC148-18E6-47C2-9754-DF738C0D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02A7-3064-4A5C-84ED-ACC8335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D02CF-E70A-41F4-8C31-B3A2EEBC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72B6D-3758-411E-B38B-35F21EB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ADFE9-116C-470A-9DFB-D140D58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CB1CEB-4546-41D8-B1C7-29FB2F9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4767D-2D69-4CE5-9E28-0D76C533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4B72D3-72F0-4321-A970-A132A6C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18B3C4-DB2E-483C-813F-8F4F28195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53DE-18DC-41F3-A0E7-9B9C3821E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9790-0FA7-4B81-BE9A-B4324F29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4083-67A4-4F0E-8942-ADA82E95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7A267F-3B0E-4053-A309-BA59461CDDF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898BC7-EFA3-4445-80A1-7E187A5AF470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02ADA3-D2A7-4729-BDC7-D7F8CF368F6D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4B6207-7438-4CA7-B654-C2A060D35C7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4FE22E-021D-4F81-8871-2D41223A52F7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724DFE-C14A-44E6-895C-412A58C23091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A4DE8-B60A-4273-8F4F-7D0AEF21331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FD000A-9146-4F6B-B976-65FA7E28AACC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6E245-A6DC-4224-836B-F4FDA48D8B4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ACA498-FA1C-4635-BD50-67B6295CB8D0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3A3F18-FBA2-4A0C-96D5-E60098AC80FB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89920" indent="-19872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1.9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ACEB8C-9E6A-450F-AC23-D2FA3D41E5B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400" y="3785760"/>
            <a:ext cx="8227800" cy="25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основ безопасности жизнедеятельн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кворцова Л.М. высшей кв. категория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857160" y="0"/>
            <a:ext cx="7286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детский сад «Дельфин» комбинированного вида  г.п.п. Чистые  Боры Буйского муниципального района Костр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71520" y="272520"/>
            <a:ext cx="561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детьми: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928960" y="1499760"/>
            <a:ext cx="57564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деятельность детей – занятия, экскурс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взрослых и детей – драматизация сказок, беседы воспитателя и ребёнка, наблюдения, труд, чтение художественной литератур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 – сюжетно-ролевые, дидактические, развивающи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500040" y="-54360"/>
            <a:ext cx="82868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ы работа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ьские собрания (круглый стол, диспут, просмотр видеозаписи, организация встреч со специалистами ДОУ и социальных служ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ыставки педагогической литературы по проблеме формирования основ ЗОЖ И ОБЖ у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ос родителей по теме безопасности для оформления газет и  для       индивидуальных бесед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формление и проведение индивидуальных и групповых консуль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приёма «домашнее задание», для закрепления знаний детьми, полученных в детском саду по теме «Безопасное поведение до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бор фотоматериалов по теме «Опасные места и предметы бы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родителей воспитанников на занятиях, развлеч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ая сред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999880" y="1643040"/>
            <a:ext cx="59295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 безопас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 улицы с дорожными знаками, разметкой для транспорта и пешеходов, светофо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для сюжетно-ролевых игр: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дители и пешех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гулировщи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асател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рая помощь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ы по ОБЖ: 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ты потерялся на улиц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!Терроризм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ая безопасность для дошкольников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омы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карственные растени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довитые растения и гриб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малыш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гроте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/ игры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асно - не опасн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должи ряд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одним словом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тый лишни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к – не так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57280" y="272520"/>
            <a:ext cx="63280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 литература:</a:t>
            </a: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5640" y="1371240"/>
            <a:ext cx="6715080" cy="503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Л. Толсто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ные соба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. Житк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 дыму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С. Маршак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жа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ассказ о неизвестном герое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казка о глупом     мышонке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Т. Шорыгин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еленые сказ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сторожные сказк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. Зайцев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роки Айболи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28600" algn="just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казки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олк и козля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и поросен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расная Шапоч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28600" algn="just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юшкина избушк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олоб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от, петух и лис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Ю. Соколова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равила безопасност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Серяк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лица, где все спешат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Ученый друж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отешки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или-тили-тили-бом! Загорелся Кошкин дом!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гуречи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Иванов «Азбука безопасности. Как неразлучные друзья в огне не горели»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ак неразлучные друзья в воде не тонул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ак неразлучные друзья дом охраняли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А. Яворская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Дети и дорог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. Лешкевич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ветофор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Н. Нос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Автомобиль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Г. Юрми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юбопытный мышон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А.Дорохов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Подземный переход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борчик вдоль тротуар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Шлагбаум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Л. Гальперштей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амвай и его семья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Дмоховски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Чудесный островок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. Семернин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прещается – разрешается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А. Северный 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Три чудесных цвета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999880" y="1643040"/>
            <a:ext cx="592956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бенком знания и предоставления о себе и своем здоровье позволят найти способы укрепления и сохранения здоровь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ые навыки помогут осознанно выбрать здоровый образ 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й опыт позволит избежать несчастных случа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1285920" y="3786120"/>
            <a:ext cx="6858000" cy="2357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2714760" y="1571760"/>
            <a:ext cx="3632040" cy="1643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380960" cy="1930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485720" cy="19670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28560" y="27252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– за безопасность нашей жизн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40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214200" y="25560"/>
            <a:ext cx="8715600" cy="31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«Самое дорогое у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- это </a:t>
            </a:r>
            <a:r>
              <a:rPr b="1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жизнь</a:t>
            </a:r>
            <a:r>
              <a:rPr b="0" i="1" lang="ru-RU" sz="4400" spc="-1" strike="noStrike">
                <a:solidFill>
                  <a:srgbClr val="111111"/>
                </a:solidFill>
                <a:latin typeface="Arial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Times New Roman"/>
              </a:rPr>
              <a:t>Н. А. Остр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28960" y="272520"/>
            <a:ext cx="5756400" cy="53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Федерального Государственного Образовательного Стандарта общего образования основным направлением является создание условий развития ребёнка, его личностного развития, развития инициативы и творческих возможностей на основе сотрудничества со взрослыми и сверстни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40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214200" y="892440"/>
            <a:ext cx="8715600" cy="13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285840" y="1159560"/>
            <a:ext cx="85010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"Безопасность - это состояние защищенности жизненно важных интересов личност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 Статья 1.Закона Р.Ф.от 5 марта 1992г.№ 2446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71760" y="2725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00240" y="1604880"/>
            <a:ext cx="56851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беречь здоровье дет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мочь разобраться в многообразии жизненных ситуац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учить помогать друг друг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сти и жизнедеятельности детей в условиях дошкольного образовательного учреждения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й и значимой пробле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71520" y="272520"/>
            <a:ext cx="5613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928960" y="1500120"/>
            <a:ext cx="57564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ребёнка основных понятий опасных для жизни ситуаций и особенностей повед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57280" y="272520"/>
            <a:ext cx="63280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00240" y="999720"/>
            <a:ext cx="5685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 представления о способах безопасного поведения в бы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 основы экологической культуры, воспитание любви, ответственного и бережного отношения к родной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 грамотного участника дорожного движ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 чувства взаимопомощи и товари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700000" y="980640"/>
            <a:ext cx="5985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 и последова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разные виды деятельности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ность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комфортность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57280" y="272880"/>
            <a:ext cx="632808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овладению ребёнком навыками безопасного поведения в процессе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142800" y="2214360"/>
            <a:ext cx="5542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х видов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1:49:29Z</dcterms:created>
  <dc:creator>PC</dc:creator>
  <dc:description/>
  <cp:keywords>шаблон для детских и школьных презентаций шаблон дети шаблон на день защиты детей веселые детки шаблон для презентаций</cp:keywords>
  <dc:language>en-US</dc:language>
  <cp:lastModifiedBy>Пользователь</cp:lastModifiedBy>
  <dcterms:modified xsi:type="dcterms:W3CDTF">2022-12-12T16:09:2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5</vt:r8>
  </property>
</Properties>
</file>