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FD5BC-249F-4F71-8251-57496E8C0E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DD9DD-3EE4-4833-A0EB-E81BEC7D96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D0CAE-C322-414A-930C-F3B29AA7B2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21675-D404-4D02-86F9-7E37D0526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69CE1-5C87-42F9-900E-C3E4F7E183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0BCEC-5523-4F85-9D23-D84CDD3184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3A585-2EA0-412C-9421-12B5B4E194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4F8F-96C5-4663-80DE-FC8F1437B4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F61E-809A-45FA-ACBA-C322879AB6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47298-6734-40D2-B7ED-CFEE9F2445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5C688-2FD4-471B-8A7F-82D26E8176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E275-4DE6-4CEB-9776-EED4B7233A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BF1CB-F443-4387-AA83-15C4345B71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114DF-FD6C-4BEC-8F26-83A0E59DDB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5627-9426-4FBE-96B5-2943C3AA55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5E2A-D2D4-4D3F-BC29-C253D8E117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A5BB-E26D-4B6E-905A-DCB1690EE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8F94-DA20-45A0-9F9C-6275CB7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28E0-60E5-43A7-9066-215678B8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DFA59-95F0-490F-8988-806D5C5D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23BC-4ABF-4F43-8090-2F80D958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821C-0FC0-4640-99CC-44BA6E1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5C4C-2ECC-45D5-8AFD-4B47C50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E0C5-2BD2-4F54-9F72-44CC92A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B1BC-057C-4F61-B125-E30F9D48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F9F92-89A9-427B-AD70-B09A92BB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5F47-01DE-4574-95DD-D6DE56319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46C50-933F-4512-A2F9-E816321ECC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889F-840D-4A04-A55D-3C28965D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34D99-5909-4D55-9B61-BCEE83B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7532B-46EF-4F79-8486-9FEBF2B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7D7D0-4E19-4CD8-9B88-02C1454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F6767-931A-4EE4-94B9-A107B8E2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21465-0693-415D-B0E8-B8FA19D4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B6D23-670B-452B-8CB2-E459925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6E765-8062-44BA-AFF9-CFC613A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00A37-A278-4781-B88A-D5A734A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BB071-7957-484A-8EA3-536C309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0121E-40C0-45A3-92F6-2025E18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F931-4614-4793-AB99-2E5DF8E7C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BE71D-B735-4330-B0B4-29703CDB0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33215-0AF4-4755-92B1-BBB9DCFBB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73BBA7-127C-4C9B-8C21-B704918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5CA65B-46B3-435A-A6C1-D8AA037F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8A8474-495E-4E92-9613-1C926DFD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54BB0B-B040-4843-9C9B-374A14FF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A968D-E395-43ED-87CA-CD0A7685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DB79E8-3FD1-4631-813B-5826421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EB53A-8004-4C44-A3A0-93FD27B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166EE-A70C-4CBC-B5C8-2D88D74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BB9B7-E0E6-45C9-AEA2-4154004EB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93354-9FF8-4F4C-A5E5-66634DEF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D224A-F652-497E-AC98-5F93B19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906F2-7258-4C86-BF4B-34CE1FD29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4CA1-B69A-4A03-A60F-8507E07E5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0F53-135E-4CD4-97B0-0D98DED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660FE-2162-4EBC-A530-76208EB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7624B-7E33-44F8-AFE3-073976B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1BEE-D260-4CE3-8917-2DAB5899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C32DE-A06F-4EC2-AA7D-00D7712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2B21-1748-499C-96CC-2512771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A812F-7DC0-404D-8F95-1EEA086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A2B1-3E5D-4D90-9520-575F562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8FB6-072F-4F37-AF7D-F0F6ED91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BF811-6D71-4891-9E89-DBA5D357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6672-0F88-4194-A526-EE0AA29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9AA4-6229-4FA0-8001-C61B057AA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5A26-FF88-4876-95A6-8D7022C5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84E5A-8A18-4C2C-937A-AE503CD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1726-8E0D-4F63-BB3D-800EEE15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4C78-E890-404D-B379-3837A2C4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4F6F4-9006-463F-9682-AF80A0F0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D2AC-0013-41B1-AF9C-EA61494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04B85-B1F3-4D54-813A-987419D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825C5-ECE7-41C3-8D03-62CFBC1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FB09B-B9C6-4D04-89C4-5014606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0B453-5C09-43A3-9DB8-5707670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6F3E-2188-4CF3-BBBF-BD62F44BD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192-2883-49AA-8172-7BEFDC5BB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D6B-5706-45A7-8D24-CDC5123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6BC-78ED-48B5-99D8-BBF43BA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DE2-5C2E-42FC-8A72-0FC237B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43B-F6BA-43DB-83E0-8C93FD4C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5503-DAD9-47D6-A6EE-CD2763F9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F0A-D5A1-4814-AC45-6973C19A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BBB-BBD1-4531-847B-726B172F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BD92-D113-486C-893C-69849C2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99BF-98A0-459C-860C-89BCBB26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8A3B-D7E7-4E6A-B035-9F554C6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88AD-7C33-4EE7-AA4F-806F077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7F6-5319-4B34-94B0-6D4853782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734EB-E6DB-4543-8E37-98516AE8A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6732C-7A67-4218-B0E8-DAAA5E3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6580B-6411-4972-99A5-3C8E874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C49A-30BF-405E-B023-B37C2E4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7CF8E-CA3F-408F-9BEC-F0C00EF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2C657-C380-4C9C-8F7E-C2E26E4E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EBE1A-5BF9-4BC7-83A9-B84BA658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E1498-C974-4668-BE50-D012FC5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D581C-11D3-4C77-8F7A-EC102167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7E1BA-2249-46DE-B0DF-FD72BB7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3D688-BE75-4372-A2BD-4F1D6D6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7B068-C824-4D02-B5F0-DC416174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467EF-CCBE-4907-9C1D-3677EF07A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D87FB-975E-4FE0-9B03-ED3DBCDFA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2871-9CA3-43ED-AF82-C03CDE6A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81915-97D8-41AA-87C7-C45F459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FB7D8-1992-4152-9B92-A0C55AF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12241-EEB0-4116-848B-8D8759C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635A5-9F30-4979-8AF6-2670C70D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87FEB-348A-4DD1-AEC6-0257F02F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F7244-45C5-4DD8-917E-CF3BD51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530BF-A12C-49D1-93FA-E0696F8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A1860-5351-456D-A205-03E12D0E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580BF-FFE3-4F3C-853A-6EC9F502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3B610-C085-4BA7-8290-BAA9809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F1D9-B0BA-4712-A121-BBBC52E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E7E3D-C8F4-4C14-BEF5-9C5829835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AD6C-9C90-4EE4-8A4D-481568AEB6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F9C9-B898-4838-BED1-461ADF6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5DCD-5E8A-48EE-B467-5B60CFD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17EF-E893-46CC-B583-21F3B0E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8F6D-EE07-4F9E-A976-90EDD06E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5A84-F1F9-44BF-9FE8-980A1246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4DC9-3003-4E28-A80F-BCEFA6E8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F599-720D-44B5-9F34-1238871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1F55-4852-4AA3-AFB2-7DA930E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770E-1165-4961-B8FD-A6E8148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DA53-033F-433D-8092-0ACAE0E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17E4-1376-4349-8E02-D0FDCAA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4B85-1B91-4914-9269-4E4DA0F7C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E4C21-1ABD-4BB6-9F49-1B13F168B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DEAFC-7384-4AED-8564-3F38496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42164-C600-4C09-8BF1-0FCB5A69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6A02B-D69A-43AD-9EDC-DE0FF27A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FBB75-2DFC-47C5-9AFD-A6F46FFD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8FFE4-C536-4BF4-B50E-60F291F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F16C1-0D45-4DE3-A6A6-E05DD7FC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E733-257E-4FC3-839D-A780A7A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5F2B3-43D0-456F-AF1D-3560883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96895-163E-47FA-969D-A54D1F7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5C0D9-F4A2-4D0E-BBA1-1FB3C5A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2CD80-7A85-42EC-AB4F-CE826CA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07B5F-9C4E-4EDB-8164-57A9B3DE0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7BF3C0-7B5B-440C-9A56-1A0641A2C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3067F-1C19-4531-B8B8-72BC787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E730E-4933-49E9-93BA-07532A6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DAD9D-D157-4C85-9E27-3CC9BDBF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F41BE-79CA-4FD1-A1FC-707F2944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8127-715E-44A5-8405-FFF1629D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51717A-E35C-4F58-8F95-AF73F249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60157-9354-4805-87DE-400C0D94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0BB35-9FF7-47FF-B0E0-8F46FEE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F3B74-46BF-4952-828C-54A2417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2D43FD-B28B-4894-A3A0-878AE00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C7A2E-951E-4240-8395-0E03CB9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0763EB-280C-41AE-9DD6-271C83375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526D-4135-49F9-9A11-20DCE8410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6A72-9404-4CD1-8D72-2178293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F619-865A-4F34-B0E6-AA9C778F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2A7FAE-3BE7-438E-8430-3541262CFEF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BB7024-49C9-42B4-B83D-E21EA6F3146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748ED8-7AC1-4368-A3D5-6782D7DFC5AF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1334B6-D395-44F9-B9EF-8C74579F8EF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6A3D81-C63B-4A74-86B8-A44963F13F04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2B59D6-9BC9-4F93-8E46-56FFF344112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49C626-A434-4263-9F0F-E6242BCA76A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B42AAB-C640-46DC-B751-5CFE4F362BCD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6821FD-BF32-4761-B045-5E49BBCBE9C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2C9331-1712-4E30-958B-BECDF056851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756571-A37C-4CEE-860E-869C0283CFB3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B39025-011C-4192-81FC-3830A874786A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400" y="3785760"/>
            <a:ext cx="8227800" cy="25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основ безопасности жизнедеятельн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кворцова Л.М. высшей кв. категория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857160" y="0"/>
            <a:ext cx="7286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детский сад «Дельфин» комбинированного вида  г.п.п. Чистые  Боры Буйского муниципального района Костр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71520" y="272520"/>
            <a:ext cx="561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детьми: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928960" y="1499760"/>
            <a:ext cx="57564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деятельность детей – занятия, экскурс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взрослых и детей – драматизация сказок, беседы воспитателя и ребёнка, наблюдения, труд, чтение художественной литератур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 – сюжетно-ролевые, дидактические, развивающи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500040" y="-54360"/>
            <a:ext cx="82868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ы работа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ьские собрания (круглый стол, диспут, просмотр видеозаписи, организация встреч со специалистами ДОУ и социальных служ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ыставки педагогической литературы по проблеме формирования основ ЗОЖ И ОБЖ у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ос родителей по теме безопасности для оформления газет и  для       индивидуальных бесед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формление и проведение индивидуальных и групповых консуль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приёма «домашнее задание», для закрепления знаний детьми, полученных в детском саду по теме «Безопасное поведение до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бор фотоматериалов по теме «Опасные места и предметы бы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родителей воспитанников на занятиях, развлеч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ая сред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999880" y="1643040"/>
            <a:ext cx="59295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 безопас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 улицы с дорожными знаками, разметкой для транспорта и пешеходов, светоф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для сюжетно-ролевых игр: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дители и пешех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гулировщи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асател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рая помощь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ы по ОБЖ: 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ты потерялся на улиц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!Терроризм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ая безопасность для дошкольников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омы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карственные растени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довитые растения и гриб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малыш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гроте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/ игры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асно - не опасн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должи ряд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одним слово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тый лишни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к – не та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57280" y="272520"/>
            <a:ext cx="63280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 литература: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5640" y="1371240"/>
            <a:ext cx="671508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Л. Толсто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ные соба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. Житк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 дыму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С. Маршак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ассказ о неизвестном герое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казка о глупом     мышонке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Т. Шорыгин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еленые сказ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сторожные сказ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. Зайцев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роки Айболи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28600" algn="just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казки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олк и козля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и поросен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расная Шапоч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28600" algn="just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юшкина избуш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олоб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от, петух и лис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Ю. Соколов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равила безопасност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Серяк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лица, где все спешат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ченый друж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отешки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или-тили-тили-бом! Загорелся Кошкин дом!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гуречи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Иванов «Азбука безопасности. Как неразлучные друзья в огне не горели»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ак неразлучные друзья в воде не тонул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ак неразлучные друзья дом охранял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А. Яворская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Дети и дорог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Лешкевич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ветофо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Н. Нос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Автомобиль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Г. Юрми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юбопытный мышон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А.Дорох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дземный переход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борчик вдоль тротуар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Шлагбаум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Л. Гальперштей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амвай и его семья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Дмоховски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Чудесный остров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. Семерни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прещается – разрешается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Северны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и чудесных цве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999880" y="1643040"/>
            <a:ext cx="59295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бенком знания и предоставления о себе и своем здоровье позволят найти способы укрепления и сохранения здоровь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ые навыки помогут осознанно выбрать здоровый образ 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й опыт позволит избежать несчастных случа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1285920" y="3786120"/>
            <a:ext cx="6858000" cy="2357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2714760" y="1571760"/>
            <a:ext cx="3632040" cy="1643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380960" cy="1930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485720" cy="19670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28560" y="27252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– за безопасность нашей жизн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40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214200" y="25560"/>
            <a:ext cx="8715600" cy="31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«Самое дорогое у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- это </a:t>
            </a:r>
            <a:r>
              <a:rPr b="1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жизнь</a:t>
            </a: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Times New Roman"/>
              </a:rPr>
              <a:t>Н. А. Остр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28960" y="272520"/>
            <a:ext cx="5756400" cy="53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Федерального Государственного Образовательного Стандарта общего образования основным направлением является создание условий развития ребёнка, его личностного развития, развития инициативы и творческих возможностей на основе сотрудничества со взрослыми и сверстни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40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214200" y="892440"/>
            <a:ext cx="8715600" cy="13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285840" y="1159560"/>
            <a:ext cx="85010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"Безопасность - это состояние защищенности жизненно важных интересов личност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 Статья 1.Закона Р.Ф.от 5 марта 1992г.№ 2446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71760" y="2725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00240" y="1604880"/>
            <a:ext cx="5685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беречь здоровье дет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мочь разобраться в многообразии жизненных ситуац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учить помогать друг друг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сти и жизнедеятельности детей в условиях дошкольного образовательного учреждения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й и значимой пробле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71520" y="272520"/>
            <a:ext cx="561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928960" y="1500120"/>
            <a:ext cx="57564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ребёнка основных понятий опасных для жизни ситуаций и особенностей повед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57280" y="272520"/>
            <a:ext cx="63280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00240" y="999720"/>
            <a:ext cx="5685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 представления о способах безопасного поведения в бы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 основы экологической культуры, воспитание любви, ответственного и бережного отношения к родной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 грамотного участника дорожного движ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 чувства взаимопомощи и товари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700000" y="980640"/>
            <a:ext cx="5985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 и последова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разные виды деятельности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ность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фортность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овладению ребёнком навыками безопасного поведения в процессе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142800" y="2214360"/>
            <a:ext cx="5542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х видов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1:49:29Z</dcterms:created>
  <dc:creator>PC</dc:creator>
  <dc:description/>
  <cp:keywords>шаблон для детских и школьных презентаций шаблон дети шаблон на день защиты детей веселые детки шаблон для презентаций</cp:keywords>
  <dc:language>en-US</dc:language>
  <cp:lastModifiedBy>Пользователь</cp:lastModifiedBy>
  <dcterms:modified xsi:type="dcterms:W3CDTF">2022-12-12T16:09:2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5</vt:r8>
  </property>
</Properties>
</file>