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F845-E95E-430B-ACEC-164DEA4931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2193-C56C-4481-9740-7D3CD0DE21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C33-540E-43AE-BD91-25F37E9CF5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128-C902-44BE-B10F-F51C5809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CB4-A565-4DC1-94DC-16436921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4AD-1BE3-4EE1-B515-C418DA17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C25-65AC-420B-A944-326CB062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3E11-3746-49C7-8A7D-60D46C8D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05E2-DDB5-4336-94F4-23B1B3DC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C603-6132-40F7-8C42-844C7F07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A6BC-1A79-4E60-8D7A-2F612A3B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E9AD-1E50-4D3F-A8D1-114DFBCE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0CA4-D595-4AD2-A7D9-C8198CB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2629-C5F5-4178-A0AF-242AE951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B61-00D9-4DAA-B406-948584A7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F2B6-94C5-4BA0-A4C0-DA871C22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5B9E-83D1-4FEE-89BD-92342A4A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7134-E3E3-49D8-93B1-0BEA405B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D088-A9A7-488E-9EB2-EDFA1854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28BA-1EED-46E4-9B07-0D8A3CC2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72E26-DD51-4232-A48A-1316DDF2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1DAD1-97EA-4D9E-8EFC-ADBF7F35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81CBB-2538-4896-A966-F99EFFCE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B0CC-0F89-42A5-A5F4-01E33C37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56BB-1277-4ECF-A749-D57B44E9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BDE-35AC-46EB-BB37-3C803DCF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86DC8-427A-4D45-9688-0FCD494E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2CBC6-E21A-455B-8A43-11CC1697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A327-3039-44C1-AE28-0BDD0259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1B82-59D1-4ADD-A2D5-68ADB589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3B6F-C0ED-4AA0-9B34-239F1319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0EB3-0E8E-46BA-A7DC-312217A3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D1E6F-6558-4C43-9966-32E07C9F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43C1-92DC-4B45-8DB7-06A0E01D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3E29-94CB-40E2-B87B-518E7407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4F89-870B-4C8D-BE9B-67CED281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BE2-D46B-4451-9719-12D63211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3C6BB-1D25-48C7-91D4-2F68569A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1565-7EFF-42AE-A0A8-143061CD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07E3D-4443-4B1F-87B8-00E1F120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DC1B-C434-4B21-AECA-9DDFCD42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28ACF-7696-4572-B10B-51DC2C45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5FE0-C1F7-4433-95C1-8E533C2B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0F444-9300-4809-9E7F-6D7E40A2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6620-97E4-438D-B8A2-03D24EAA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C3E3D-25A5-434B-B6EC-7682690A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9D5AD-5041-4F88-A8BF-B2AD3B9B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6B4-898E-41BF-88C7-B3006310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971F-BD87-4C4B-8962-D4BA4316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BB5D-FEEF-4436-81CB-B0D47CE6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478FC-6284-4A24-8E9D-BC71190A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53927-1FF4-4DB7-91A9-DB7AC8DF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697A5-3361-42AE-9E45-2FCF23A4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A437-A364-46D8-8FB3-E448E1D6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B3046-42C4-4952-B53C-4AFBA83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070D3-05AE-4586-96A4-8CDCBB64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35D60-398A-411B-9732-BD9C6E88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A74CD-58ED-4F8E-A58C-62C52179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2E2-7170-4B8F-9996-E4EDE42D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C404C-0C70-4336-A34F-E5F49C30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2CD1D-31AA-41FD-AA77-6FE65ECD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0D252-A563-48D5-956E-3934D3E2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1CB39-46BA-41D1-9FC2-1E98DF42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9450A-B508-4727-9EE0-6A22BBD0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A3872-A8FE-4E2A-9DF7-A782DE3D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8E771-869A-427E-866B-DA1E2FE2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C4692-C090-4AD2-B9BD-666E0E00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55E8A-CC68-46F0-8B22-3419B616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8DF24-2C9B-444D-BCCF-CC14AE87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E75-840C-4FF8-9B39-35A2E034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F5501-1189-4C4C-B6D8-832F39AB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D37A6-20F3-430F-A7CF-F64B8286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EC139-CB85-4C51-89EE-5C23DC74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62121-D2DF-4A97-B9F9-64439E71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33222-3365-4B85-8186-953E5DC8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BFC07-0BBC-405D-B7AF-A609D94F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5F34D-E4BE-4977-8078-7069605A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7B8B3-E9FA-468B-8009-B918045F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0B948-7666-4065-A62D-CE85CC6A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2E26D-6914-447F-B740-F697D188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3B98-132A-415F-94FE-95491E03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A3D12-86D7-4F1E-B8BC-F86EDEE9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8DB06-3B6C-47E0-95A4-56BA0EC8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36514-758B-4477-B7AA-C8998E7E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2B4F2-42A7-4BFA-92F3-BAE99D17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379F1-43A8-492D-9730-9F896396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C75-5117-4FAF-857E-0871FCCA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3923-8E56-4C2F-85D1-87CBC4E7FD7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6FDA-78EB-41F8-B390-64EFEBCB9AD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F608-136E-4755-8534-307724B602D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430B-A1C6-4ADE-AFDE-2F1059B85D5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61C1-92B8-4092-95A6-3D472E6CF26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1BC4-D6D8-4EB0-8133-9A7CF72C8B7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C2BC-3157-490B-9B6F-7BD0A532D9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s://nsportal.ru/filatova-ulena-ivanavna" TargetMode="External"/><Relationship Id="rId3" Type="http://schemas.openxmlformats.org/officeDocument/2006/relationships/hyperlink" Target="https://nsportal.ru/user/947652/page/video-zanyatiy" TargetMode="External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76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езентация-отчёт воспитателя МКДОУ «Детский сад «Солнышко»  г. Щигры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Филатовой Елены Ивановны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теме самообразования за 2021-2022учебный год:</a:t>
            </a:r>
            <a:br>
              <a:rPr sz="2200"/>
            </a:br>
            <a:br>
              <a:rPr sz="2800"/>
            </a:b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«</a:t>
            </a:r>
            <a:r>
              <a:rPr b="0" i="1" lang="ru-RU" sz="3600" spc="-1" strike="noStrike">
                <a:solidFill>
                  <a:srgbClr val="572314"/>
                </a:solidFill>
                <a:latin typeface="Corbel"/>
              </a:rPr>
              <a:t>Развитие речи детей младшего дошкольного возраста посредством  театрализованной деятельности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87280" y="213840"/>
            <a:ext cx="7777440" cy="1538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Муниципальное казённое дошкольное образовательное учреждение «Детский сад «Солнышко» города Щигры Курской област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8"/>
          <p:cNvSpPr/>
          <p:nvPr/>
        </p:nvSpPr>
        <p:spPr>
          <a:xfrm>
            <a:off x="4317120" y="3244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9"/>
          <p:cNvSpPr/>
          <p:nvPr/>
        </p:nvSpPr>
        <p:spPr>
          <a:xfrm>
            <a:off x="4055400" y="5877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Показ «Терем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3" descr="D:\докуметация сада\Администрация\отчет о мероприятиях\2021год\Театрализованная деятельность\2.JPG"/>
          <p:cNvPicPr/>
          <p:nvPr/>
        </p:nvPicPr>
        <p:blipFill>
          <a:blip r:embed="rId1"/>
          <a:stretch/>
        </p:blipFill>
        <p:spPr>
          <a:xfrm>
            <a:off x="1403280" y="83664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2" descr="D:\докуметация сада\Администрация\отчет о мероприятиях\2021год\Театрализованная деятельность\1.JPG"/>
          <p:cNvPicPr/>
          <p:nvPr/>
        </p:nvPicPr>
        <p:blipFill>
          <a:blip r:embed="rId1"/>
          <a:stretch/>
        </p:blipFill>
        <p:spPr>
          <a:xfrm>
            <a:off x="1692360" y="105264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9"/>
          <p:cNvSpPr/>
          <p:nvPr/>
        </p:nvSpPr>
        <p:spPr>
          <a:xfrm>
            <a:off x="4874040" y="595008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ав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I 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1116000" y="1052640"/>
            <a:ext cx="80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D:\Фотографии Презентации Видео\Фотографии\фото 2018г\фото филатовой к конкурсу\Фото\Филатова(фото)\IMG_2606.JPG"/>
          <p:cNvPicPr/>
          <p:nvPr/>
        </p:nvPicPr>
        <p:blipFill>
          <a:blip r:embed="rId1"/>
          <a:stretch/>
        </p:blipFill>
        <p:spPr>
          <a:xfrm>
            <a:off x="1547640" y="1546200"/>
            <a:ext cx="2016360" cy="3175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D:\Фотографии Презентации Видео\Фотографии\фото 2018г\фото филатовой к конкурсу\Фото\фото  Филатова\IMG_5295.JPG"/>
          <p:cNvPicPr/>
          <p:nvPr/>
        </p:nvPicPr>
        <p:blipFill>
          <a:blip r:embed="rId2"/>
          <a:stretch/>
        </p:blipFill>
        <p:spPr>
          <a:xfrm>
            <a:off x="3887640" y="1557360"/>
            <a:ext cx="4716720" cy="314316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1699560" y="52293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злы «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8"/>
          <p:cNvSpPr/>
          <p:nvPr/>
        </p:nvSpPr>
        <p:spPr>
          <a:xfrm>
            <a:off x="5460840" y="52293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Нарисуй 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59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7"/>
          <p:cNvSpPr/>
          <p:nvPr/>
        </p:nvSpPr>
        <p:spPr>
          <a:xfrm>
            <a:off x="1116000" y="90792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и года с  проведены совместные мероприятия с музыкальным руководите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8"/>
          <p:cNvSpPr/>
          <p:nvPr/>
        </p:nvSpPr>
        <p:spPr>
          <a:xfrm>
            <a:off x="1547640" y="4508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«День 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6588000" y="6093000"/>
            <a:ext cx="17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«8 мар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0" descr="D:\Фотографии Презентации Видео\Фотографии\фото 2022г\8 марта\IMG_6929.JPG"/>
          <p:cNvPicPr/>
          <p:nvPr/>
        </p:nvPicPr>
        <p:blipFill>
          <a:blip r:embed="rId1"/>
          <a:stretch/>
        </p:blipFill>
        <p:spPr>
          <a:xfrm>
            <a:off x="4859280" y="3357720"/>
            <a:ext cx="3998880" cy="2663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3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3507120" cy="263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D:\Фотографии Презентации Видео\Фотографии\фото 2022г\Кукольный 17.08.2022\4.jpg"/>
          <p:cNvPicPr/>
          <p:nvPr/>
        </p:nvPicPr>
        <p:blipFill>
          <a:blip r:embed="rId1"/>
          <a:stretch/>
        </p:blipFill>
        <p:spPr>
          <a:xfrm>
            <a:off x="1258920" y="1125360"/>
            <a:ext cx="5143320" cy="50850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971640" y="620640"/>
            <a:ext cx="784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С  детьми реализован проект «По дорогам сказ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1565640" y="616572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е «По дорогам сказ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1187280" y="189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I </a:t>
            </a:r>
            <a:r>
              <a:rPr b="1" lang="ru-RU" sz="2400" spc="-1" strike="noStrike">
                <a:solidFill>
                  <a:srgbClr val="572314"/>
                </a:solidFill>
                <a:latin typeface="Corbel"/>
                <a:ea typeface="Times New Roman"/>
              </a:rPr>
              <a:t>этап-осн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7"/>
          <p:cNvSpPr/>
          <p:nvPr/>
        </p:nvSpPr>
        <p:spPr>
          <a:xfrm>
            <a:off x="6666840" y="616572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9" descr=""/>
          <p:cNvPicPr/>
          <p:nvPr/>
        </p:nvPicPr>
        <p:blipFill>
          <a:blip r:embed="rId2"/>
          <a:stretch/>
        </p:blipFill>
        <p:spPr>
          <a:xfrm>
            <a:off x="7236000" y="4581360"/>
            <a:ext cx="1209600" cy="14400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0" descr=""/>
          <p:cNvPicPr/>
          <p:nvPr/>
        </p:nvPicPr>
        <p:blipFill>
          <a:blip r:embed="rId3"/>
          <a:stretch/>
        </p:blipFill>
        <p:spPr>
          <a:xfrm>
            <a:off x="7236000" y="2852640"/>
            <a:ext cx="1163520" cy="14400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1" descr=""/>
          <p:cNvPicPr/>
          <p:nvPr/>
        </p:nvPicPr>
        <p:blipFill>
          <a:blip r:embed="rId4"/>
          <a:stretch/>
        </p:blipFill>
        <p:spPr>
          <a:xfrm>
            <a:off x="7164360" y="1125360"/>
            <a:ext cx="1224000" cy="150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59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1258920" y="5084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ставка творческих  работ «Богатый урожа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1258920" y="90792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В течении года с  проведены выставки совместного творчества детей 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0"/>
          <p:cNvSpPr/>
          <p:nvPr/>
        </p:nvSpPr>
        <p:spPr>
          <a:xfrm>
            <a:off x="5796000" y="5084640"/>
            <a:ext cx="30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ставка творческих  работ «Новогодняя игрушк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0"/>
          <p:cNvSpPr/>
          <p:nvPr/>
        </p:nvSpPr>
        <p:spPr>
          <a:xfrm>
            <a:off x="3419640" y="5877000"/>
            <a:ext cx="37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минация «Сказочный гер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0" descr="D:\Фотографии Презентации Видео\Фотографии\фото 2021г\выставка ноавогодняя игрушка\1aashc.JPG"/>
          <p:cNvPicPr/>
          <p:nvPr/>
        </p:nvPicPr>
        <p:blipFill>
          <a:blip r:embed="rId1"/>
          <a:stretch/>
        </p:blipFill>
        <p:spPr>
          <a:xfrm>
            <a:off x="4572000" y="1844640"/>
            <a:ext cx="4129200" cy="3097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D:\Фотографии Презентации Видео\Фотографии\фото 2019 г\Дары осени октябрь 2019\3.JPG"/>
          <p:cNvPicPr/>
          <p:nvPr/>
        </p:nvPicPr>
        <p:blipFill>
          <a:blip r:embed="rId2"/>
          <a:stretch/>
        </p:blipFill>
        <p:spPr>
          <a:xfrm>
            <a:off x="1042920" y="1773360"/>
            <a:ext cx="329256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670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1042920" y="836640"/>
            <a:ext cx="41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Работа с родителями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пка-передвижка«Роль театрализованных игр в развитии речи детей дошкольного возра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уклет «Роль дидактической игры в развитии речи дете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нсультация«Театр - наш друг и помощ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3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5722920" cy="33987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4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6496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670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1042920" y="692280"/>
            <a:ext cx="52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Работа с родителями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ивлечение родителей к участию в новогоднем  утреннике. Помощь в изготовлении маскарадных костюмов и необходимых атрибутов для организации новогодни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D:\Фотографии Презентации Видео\Фотографии\фото 2021г\Новый год 2021\1 мл и2 мл Новый год 2021\IMG_6583.JPG"/>
          <p:cNvPicPr/>
          <p:nvPr/>
        </p:nvPicPr>
        <p:blipFill>
          <a:blip r:embed="rId1"/>
          <a:stretch/>
        </p:blipFill>
        <p:spPr>
          <a:xfrm>
            <a:off x="6372360" y="189000"/>
            <a:ext cx="2447640" cy="1834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D:\Фотографии Презентации Видео\Фотографии\фото 2021г\Новый год 2021\1 мл и2 мл Новый год 2021\IMG_6599.JPG"/>
          <p:cNvPicPr/>
          <p:nvPr/>
        </p:nvPicPr>
        <p:blipFill>
          <a:blip r:embed="rId2"/>
          <a:stretch/>
        </p:blipFill>
        <p:spPr>
          <a:xfrm>
            <a:off x="5003640" y="2205000"/>
            <a:ext cx="3168720" cy="2016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:\Фотографии Презентации Видео\Фотографии\фото 2021г\Новый год 2021\1 мл и2 мл Новый год 2021\IMG_6510.JPG"/>
          <p:cNvPicPr/>
          <p:nvPr/>
        </p:nvPicPr>
        <p:blipFill>
          <a:blip r:embed="rId3"/>
          <a:stretch/>
        </p:blipFill>
        <p:spPr>
          <a:xfrm>
            <a:off x="1258920" y="2225520"/>
            <a:ext cx="3025800" cy="4386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D:\Фотографии Презентации Видео\Фотографии\фото 2021г\Новый год 2021\1 мл и2 мл Новый год 2021\IMG_6561.JPG"/>
          <p:cNvPicPr/>
          <p:nvPr/>
        </p:nvPicPr>
        <p:blipFill>
          <a:blip r:embed="rId4"/>
          <a:stretch/>
        </p:blipFill>
        <p:spPr>
          <a:xfrm>
            <a:off x="5003640" y="4365720"/>
            <a:ext cx="32418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59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7"/>
          <p:cNvSpPr/>
          <p:nvPr/>
        </p:nvSpPr>
        <p:spPr>
          <a:xfrm>
            <a:off x="1187280" y="692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В течении года пополнялась РППС по театрализова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C:\Users\Ирина\Downloads\IMG_20220201_130523.jpg"/>
          <p:cNvPicPr/>
          <p:nvPr/>
        </p:nvPicPr>
        <p:blipFill>
          <a:blip r:embed="rId1"/>
          <a:stretch/>
        </p:blipFill>
        <p:spPr>
          <a:xfrm>
            <a:off x="1187280" y="1268280"/>
            <a:ext cx="1889280" cy="2521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C:\Users\Ирина\Downloads\IMG_20220201_130436.jpg"/>
          <p:cNvPicPr/>
          <p:nvPr/>
        </p:nvPicPr>
        <p:blipFill>
          <a:blip r:embed="rId2"/>
          <a:stretch/>
        </p:blipFill>
        <p:spPr>
          <a:xfrm>
            <a:off x="3276720" y="122076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D:\Среда Волкова гамова\DSCN1882.JPG"/>
          <p:cNvPicPr/>
          <p:nvPr/>
        </p:nvPicPr>
        <p:blipFill>
          <a:blip r:embed="rId3"/>
          <a:stretch/>
        </p:blipFill>
        <p:spPr>
          <a:xfrm>
            <a:off x="5364000" y="4005360"/>
            <a:ext cx="3529080" cy="2571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D:\Среда Волкова гамова\DSCN1904.JPG"/>
          <p:cNvPicPr/>
          <p:nvPr/>
        </p:nvPicPr>
        <p:blipFill>
          <a:blip r:embed="rId4"/>
          <a:stretch/>
        </p:blipFill>
        <p:spPr>
          <a:xfrm>
            <a:off x="1187280" y="4005360"/>
            <a:ext cx="3889440" cy="2655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D:\Среда Волкова гамова\DSCN1875.JPG"/>
          <p:cNvPicPr/>
          <p:nvPr/>
        </p:nvPicPr>
        <p:blipFill>
          <a:blip r:embed="rId5"/>
          <a:stretch/>
        </p:blipFill>
        <p:spPr>
          <a:xfrm>
            <a:off x="5435640" y="1197000"/>
            <a:ext cx="352908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81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Прямоугольник 3"/>
          <p:cNvSpPr/>
          <p:nvPr/>
        </p:nvSpPr>
        <p:spPr>
          <a:xfrm>
            <a:off x="971640" y="76500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Транслирование опыта работы на  уровне Д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"/>
          <p:cNvSpPr/>
          <p:nvPr/>
        </p:nvSpPr>
        <p:spPr>
          <a:xfrm>
            <a:off x="3203640" y="6244560"/>
            <a:ext cx="38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астер-класс «Театр на диск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D:\Фотографии Презентации Видео\Фотографии\фото 2022г\мастер класс театр на дисках 14.01.2022\1.JPG"/>
          <p:cNvPicPr/>
          <p:nvPr/>
        </p:nvPicPr>
        <p:blipFill>
          <a:blip r:embed="rId1"/>
          <a:stretch/>
        </p:blipFill>
        <p:spPr>
          <a:xfrm>
            <a:off x="1042920" y="1268280"/>
            <a:ext cx="3889440" cy="2878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Users\Ирина\Downloads\2022-12-12_15-02-10.png"/>
          <p:cNvPicPr/>
          <p:nvPr/>
        </p:nvPicPr>
        <p:blipFill>
          <a:blip r:embed="rId2"/>
          <a:stretch/>
        </p:blipFill>
        <p:spPr>
          <a:xfrm>
            <a:off x="5148360" y="1268280"/>
            <a:ext cx="3794040" cy="28083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2" descr="D:\сказка\IMG_7449.JPG"/>
          <p:cNvPicPr/>
          <p:nvPr/>
        </p:nvPicPr>
        <p:blipFill>
          <a:blip r:embed="rId3"/>
          <a:stretch/>
        </p:blipFill>
        <p:spPr>
          <a:xfrm>
            <a:off x="2556000" y="4292640"/>
            <a:ext cx="4752720" cy="217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868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ктуальность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971640" y="1123920"/>
            <a:ext cx="7958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возможно переоценить роль родного языка, который помогает детям осознанно воспринимать окружающий мир и является средством общения. Поэтому необходимо больше внимания уделять развитию речи детей младшего дошкольного возраста. Своевременное и полноценное формирование речи в дошкольном детстве – одно из основных условий нормального развития малыша и в дальнейшем его обучения в шк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атральная деятельность – это самый распространённый вид детского творчества. Она близка и понятна ребёнку, глубоко лежит в его природе и находит своё отстранение стихийно, потому что связана с игрой. Всякую свою выдумку, впечатления из окружающей жизни ребёнку хочется выложить в живые образы и действия. Входя в образ, он играет любые роли, стараясь подражать тому, что видит и что его заинтересовало, и, получая огромное эмоциональное наслаждение.  Поэтому возникла идея — создания системы педагогических мероприятий по развитию речи детей дошкольного возраста через театрализован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81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971640" y="76500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Транслирование опыта работы на  муниципаль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"/>
          <p:cNvSpPr/>
          <p:nvPr/>
        </p:nvSpPr>
        <p:spPr>
          <a:xfrm>
            <a:off x="1042920" y="15087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Участие в ГМ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Тема «Совершенствование форм работы по развитию речи детей дошкольного возраста  через различные виды теат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C:\Users\Ирина\Downloads\2022-12-12_14-33-49.png"/>
          <p:cNvPicPr/>
          <p:nvPr/>
        </p:nvPicPr>
        <p:blipFill>
          <a:blip r:embed="rId1"/>
          <a:stretch/>
        </p:blipFill>
        <p:spPr>
          <a:xfrm>
            <a:off x="1116000" y="2637000"/>
            <a:ext cx="5688000" cy="387504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3"/>
          <p:cNvSpPr/>
          <p:nvPr/>
        </p:nvSpPr>
        <p:spPr>
          <a:xfrm>
            <a:off x="7020000" y="3860640"/>
            <a:ext cx="187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крытое занятие по развитию речи  с детьми 3-4 лет «Петушок наш не поёт»  с использованием настольного театра на дис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Прямоугольник 3"/>
          <p:cNvSpPr/>
          <p:nvPr/>
        </p:nvSpPr>
        <p:spPr>
          <a:xfrm>
            <a:off x="971640" y="98100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Транслирование опыта работы на  персональном с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C:\Users\Ирина\Downloads\2022-12-12_14-23-38.png"/>
          <p:cNvPicPr/>
          <p:nvPr/>
        </p:nvPicPr>
        <p:blipFill>
          <a:blip r:embed="rId1"/>
          <a:stretch/>
        </p:blipFill>
        <p:spPr>
          <a:xfrm>
            <a:off x="1116000" y="1557360"/>
            <a:ext cx="4608360" cy="23814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7"/>
          <p:cNvSpPr/>
          <p:nvPr/>
        </p:nvSpPr>
        <p:spPr>
          <a:xfrm>
            <a:off x="5796000" y="1967760"/>
            <a:ext cx="3024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d47"/>
                </a:solidFill>
                <a:latin typeface="Corbel"/>
                <a:ea typeface="Arial"/>
              </a:rPr>
              <a:t>Электронный  адрес персонального сайта: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ea typeface="Arial"/>
                <a:hlinkClick r:id="rId2"/>
              </a:rPr>
              <a:t>https://nsportal.ru/filatova-ulena-ivana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8"/>
          <p:cNvSpPr/>
          <p:nvPr/>
        </p:nvSpPr>
        <p:spPr>
          <a:xfrm>
            <a:off x="1258920" y="4149720"/>
            <a:ext cx="75610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Фрагмент занятия «Петушок наш не поёт»,  представлен на персональном сайте: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s://nsportal.ru/user/947652/page/video-zanyat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832320" y="4992840"/>
            <a:ext cx="62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ект «По дорогам сказок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https://nsportal.ru/user/947652/page/dlya-roditeley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0"/>
          <p:cNvSpPr/>
          <p:nvPr/>
        </p:nvSpPr>
        <p:spPr>
          <a:xfrm>
            <a:off x="1332000" y="580536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театрализованн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https://nsportal.ru/user/947652/page/dlya-roditeley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813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I этап-заключительны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3" name="Диаграмма 6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6007320" cy="33624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7"/>
          <p:cNvSpPr/>
          <p:nvPr/>
        </p:nvSpPr>
        <p:spPr>
          <a:xfrm>
            <a:off x="1042920" y="620640"/>
            <a:ext cx="8101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ополнила  копилку теоретических знаний  о театрализованных игр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научилась анализировать научно-методическую литератур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овладела  инновационными педагогическими технологиями воспитания и обучения детей дошкольного возраста (проектная деятельность, игровая  технология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 дети стали чаще играть в настольный теа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 наблюдается положительная динамика в речевом развитии у детей дошкольного воз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 у детей улучшились взаимоотношения со сверстниками и взросл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родители стали активными участниками образователь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774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екция на будуще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Прямоугольник 7"/>
          <p:cNvSpPr/>
          <p:nvPr/>
        </p:nvSpPr>
        <p:spPr>
          <a:xfrm>
            <a:off x="1116000" y="1268280"/>
            <a:ext cx="77788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месте с тем, многое еще не реализовано из-за ситуацией с новой короновирусной инфекцией. Работа с родителями, в основном, чере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sA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 силу возраста детей было мало совместных мероприятий с учреждениями культуры и дополнительно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следствие чего, планирую продолжить работу над темой в следующем учебном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86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Цель: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 повышение своего профессионального мастерства и компетентности, создание условий для успешного развития речи детей через театрализованную деятельность. </a:t>
            </a:r>
            <a:br>
              <a:rPr sz="2400"/>
            </a:br>
            <a:r>
              <a:rPr b="0" lang="ru-RU" sz="2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</a:t>
            </a:r>
            <a:br>
              <a:rPr sz="2800"/>
            </a:b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Прямоугольник 3"/>
          <p:cNvSpPr/>
          <p:nvPr/>
        </p:nvSpPr>
        <p:spPr>
          <a:xfrm>
            <a:off x="1116000" y="148428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Систематизировать теоретический и практический материал посредством изучения учебной, справочной, методической литературы по проблеме развития речи у детей 3-4 лет и созданию условий для театрализован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 Творчески применить профессионально-педагогические знания с учетом возрастных, индивидуальных, социально-психологических особенностей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 Сформировать банк информационно-методических материалов по развитию речи и театрализованной деятельности детей младшего дошкольного возраста (Конспекты занятий, картотека театрализованных  игр, материалы для работы с родителями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 Создать в группе центр театрализованных игр.  Наполнить его разнообразными игровыми материалами, декорациями, различными видами теа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 Оптимизировать работу с родителями по вопросу организации театрализованной деятельности с детьми с помощью разнообразных методов и приё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86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жидаемы результат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Прямоугольник 5"/>
          <p:cNvSpPr/>
          <p:nvPr/>
        </p:nvSpPr>
        <p:spPr>
          <a:xfrm>
            <a:off x="1187280" y="907920"/>
            <a:ext cx="7632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 меня, как у воспитате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формируются основы педагогического мастерства, профессионализма и творче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мение анализировать научно-методическую литературу, повышение своих теоретических и практических знаний, умений и навыков в вопросах развития речи детей младшего дошкольного возраста посредством использования театрализова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владение инновационными педагогическими технологиями воспитания и обучения детей дошкольного возрас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мение активизировать творческие способности и пропагандировать свои достижения, применять полученные знания на прак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приобщение детей к театрализованной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обогащение активного и пассивного словаря и активизирование  речи детей младшего дошкольного возра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повышение уровня знаний родителей по теме «Развитие речи детей младшего дошкольного возраста посредством театрализованной деятельности». Совместная работа педагогов и родителей способствует интеллектуальному, эмоциональному и эстетическому развитию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868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актический выход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Прямоугольник 4"/>
          <p:cNvSpPr/>
          <p:nvPr/>
        </p:nvSpPr>
        <p:spPr>
          <a:xfrm>
            <a:off x="1116000" y="9810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ранслирование  опыта работы по теме самообразования  «Развитие речи детей младшего дошкольного возраста посредством  театрализованной деятельности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»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 персональном сайте в сети Интер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банка информационно-методических материалов по развитию речи и театрализованной деятельности детей младшего дошкольного возраста (Конспекты занятий, картотека театрализованных  игр, материалы для работы с родителями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огащение развивающей предметно - пространственной среды разнообразными игровыми материалами, декорациями,  разными видами теа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868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 самообразова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1187280" y="1341360"/>
            <a:ext cx="76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Подготовительный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- выявление  и определение темы самообразования, изучение нормативных документов, литературы, Интернет-источников,  составление плана по самообразованию и  включение в план работы с родителями  мероприятий 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II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. Основной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Организация работы с детьми, взаимодействие с родителями воспита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III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. Заключительный-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оформление результатов работы, само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813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 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этап-подготовительны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1187280" y="765000"/>
            <a:ext cx="7956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Изучена методическ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1042920" y="1396080"/>
            <a:ext cx="785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От рождения до школы. Инновационная программа дошкольного образования / Под ред. Н. Е. Вераксы, Т. С. Комаровой, Э. М. Дорофеевой.- 6-е изд., доп. – М.: МОЗАИКА-СИНТЕЗ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ртемова, Л.В. Театрализованные игры дошкольников. - М.: Просвещение, 200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артковский А.И., Лыкова И.А.  Кукольный театр, ООО ИД «Цветной мир»,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ханева М.Д. Театрализованные занятия в детском саду. -  М.: ТЦ Сфера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трова Т.И., Сергеева Е.Л., Петрова Е.С. Театрализованные игры в детском саду. - М.: Школьная пресса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742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 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этап-подготовительны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Прямоугольник 3"/>
          <p:cNvSpPr/>
          <p:nvPr/>
        </p:nvSpPr>
        <p:spPr>
          <a:xfrm>
            <a:off x="1116000" y="1197000"/>
            <a:ext cx="80280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Результат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обрана картотека методической литературы по теме само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оставлен список Интернет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разработан план работы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оформлена картотека подвижных игр для детей старшего дошкольного возра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Прямоугольник 3"/>
          <p:cNvSpPr/>
          <p:nvPr/>
        </p:nvSpPr>
        <p:spPr>
          <a:xfrm>
            <a:off x="428760" y="314316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1116000" y="126828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и года была  организована  работы со всеми участниками образовательного процесса: детьми, родителями, педагогами Д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https://avatars.mds.yandex.net/i?id=ccb49bb6918630d6f41a651354c71e29_l-4599018-images-thumbs&amp;n=13"/>
          <p:cNvPicPr/>
          <p:nvPr/>
        </p:nvPicPr>
        <p:blipFill>
          <a:blip r:embed="rId1"/>
          <a:stretch/>
        </p:blipFill>
        <p:spPr>
          <a:xfrm>
            <a:off x="1116000" y="2997360"/>
            <a:ext cx="7623360" cy="191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6T11:55:29Z</dcterms:created>
  <dc:creator>Ирина</dc:creator>
  <dc:description/>
  <dc:language>en-US</dc:language>
  <cp:lastModifiedBy>Ирина</cp:lastModifiedBy>
  <dcterms:modified xsi:type="dcterms:W3CDTF">2022-12-12T13:42:34Z</dcterms:modified>
  <cp:revision>93</cp:revision>
  <dc:subject/>
  <dc:title>Отчёт  старшего воспитателя МКДОУ «Детский сад «Солнышко»  г. Щигры Курской области Труфановой Ирины Петровны  по теме самообразования:  «Современные технологии организации педагогического процесса в ДОУ в условиях реализации ФГОС ДО»</dc:title>
</cp:coreProperties>
</file>