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13.jpeg" ContentType="image/jpeg"/>
  <Override PartName="/ppt/media/image27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1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A70F-6CBF-4C62-A44B-31DF8A256C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F6F2-7C79-453A-B03D-E077BA116C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8094-536C-4354-B9D0-78D861F9CC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94E6-099A-43F2-9A39-6465D753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EE57-978D-43A0-A435-B1B9DCC6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AE6B-3538-4CCA-B079-34EBA1BC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879B-2E56-470B-80D9-CBE59AB3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DBAC-90A9-4E73-A118-CC703FC5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8278-B108-40B1-820B-2E8BFA58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EF5B-E785-4601-BA66-0B4FE1FC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7402-7FDF-4148-9956-D84785A3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6D24-AFCA-4697-AF55-842229D8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89B9-BEAE-46EE-BF02-885DD285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E11C-D515-4EC1-867E-E465F281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FEE0-1651-43EE-8E37-E465BAB0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A6D4-048B-408A-AD53-3D6C7556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A5D2-65E1-420C-9F8C-DE55A9D5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CFB2-06A1-46CE-87CD-B063AFFC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1E53-BCB7-4830-AF62-7BCC421B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26ED-38E9-4DE3-A226-3938E6D9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BCCD9-553C-4F80-8F48-EA255B31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6A405-FEA3-4ADA-819C-A49D4DCB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43C59-1AA7-436B-8741-D4D12E19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ECAD6-B94A-4651-9F8D-EDBAEE41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C726E-D9B7-4DC4-9D4E-0EC42211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46BC-9E91-4973-87E4-0E72E179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622B3-9D85-43DA-A10D-B384564C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DA9FC-CCE3-4337-930B-2BDEF54F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C6CE0-804A-4939-A0C1-A90FD5F7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FF4BC-80C7-42AF-B99B-3324E217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DCC32-FF47-4912-BA03-ABAB9082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4EC87-D591-40CA-A56B-A8C89E66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3D55B-3EDB-41BD-94A4-762B95B2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93EB3-040F-49F8-81B0-C0395101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D50D8-67AB-4DA0-9A54-E2FBD7EA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519C9-6134-4CAB-952B-97BA71F5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DE82-E7F5-42E1-B61F-B6E2383B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8D3E4-6C80-4E35-977D-6145064C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7AA65-29CE-4730-8EDB-2F9F262E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C7E6B-7DA3-4149-B4FE-2D8D9AE4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26E8E-4621-4473-9E1D-280F808F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C2382-F38D-4D95-9C92-3F50D329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C13EF-795A-422C-9B92-BD5B2BEF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003DC-0515-4B8B-8280-22E8F1C2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2F8CA-B693-471D-8E41-FAFD12E0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4044E-5A05-4098-B36F-1A0CCEFF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109BE-DD1D-40EF-86CA-2922C096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A510-0B67-481F-9529-CEBC79C0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974FC-B31F-4488-A923-A7E6BA50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3058F-B1F7-4737-B8B5-5EF2402E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B260B-D998-4ED1-850C-2454CF71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0622F-6D54-4A50-8A1D-91F63623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E794B-2147-42DA-B860-44C19F15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F6EE3-BFAF-4FEE-83E8-12A7E420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CF9AF-4EC5-4BCE-8408-208AF8D7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24623-CF0C-48BD-9966-5D598D93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31AE8-BC81-4C0E-8716-6121C5F4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C9960-751D-4BEC-9907-DD09952B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DFB3-D045-46AF-8FE0-3FCA656D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1A57E-F995-439C-9275-EAD3F7AE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D55E9-0418-4405-AA3B-24227E68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28791-20D0-4979-94B5-9223DF4B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DC935-0CA6-4603-A2D8-8D4793EF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E8A85-5196-4652-9177-F8346E52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23692-2239-4447-B35A-06AC55CE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CB1DF-E83F-4C71-BB66-7E35856B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CB1D2-DE57-4E5D-AC30-AA192AFF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0D4E7-D9DE-419F-BC4D-A3864C88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6F78A-56BB-44DE-BA2D-CBA005C5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27CD-DC50-4A31-81BE-3C9AD8FB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93830-EB9C-4C82-9C25-60E4D4CA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04C0C-7EDA-48FD-936F-50C4E456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0DFFD-462F-41F8-91DE-5A4C6DD6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01503-5321-4660-808E-C98C21C0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E2DF2-EE40-4445-9F1C-3BD5B5C0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EA4B1-BC96-4419-88EB-E8BA8556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4D2F9-EA61-424A-8C1A-E8D9ED82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3B4FB-84A5-4108-8D68-F1ABA011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8C443-AA70-4F1C-8825-81CBB967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F2D2D-8962-49F3-AC8B-607A8B32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127E-84E5-4DB4-B464-C3BD9F8F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A3766-C609-4606-B570-8026EC93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93934-B354-4703-BDB0-A37D6060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9E50B-9EE4-4180-A4E0-9C31F007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0B5C8-300A-42A7-BC64-D4F234CB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0417F-9177-45A0-96C7-016D21EF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3B90-2087-4A00-AF57-8721E875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E3B0-97B2-47C1-BAE6-2C34F5A8CBF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DAF3-7942-486E-A22B-9BE891BF1FC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D286-1A10-4F51-B459-8CBC7900778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3EB4-23A2-4C4F-A87D-164E3DD7A4C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94C7-08EC-47EB-97A1-CC0BFEA4A02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980D-53EA-477B-9F01-629C5BF1B56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AE64-51FA-4A9E-8B2C-0A4F5451099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https://nsportal.ru/filatova-ulena-ivanavna" TargetMode="External"/><Relationship Id="rId3" Type="http://schemas.openxmlformats.org/officeDocument/2006/relationships/hyperlink" Target="https://nsportal.ru/user/947652/page/video-zanyatiy" TargetMode="External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766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езентация-отчёт воспитателя МКДОУ «Детский сад «Солнышко»  г. Щигры Курской области </a:t>
            </a:r>
            <a:br>
              <a:rPr sz="2200"/>
            </a:br>
            <a:r>
              <a:rPr b="1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Филатовой Елены Ивановны</a:t>
            </a:r>
            <a:br>
              <a:rPr sz="2200"/>
            </a:br>
            <a:r>
              <a:rPr b="1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 теме самообразования за 2021-2022учебный год:</a:t>
            </a:r>
            <a:br>
              <a:rPr sz="2200"/>
            </a:br>
            <a:br>
              <a:rPr sz="2800"/>
            </a:b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«</a:t>
            </a:r>
            <a:r>
              <a:rPr b="0" i="1" lang="ru-RU" sz="3600" spc="-1" strike="noStrike">
                <a:solidFill>
                  <a:srgbClr val="572314"/>
                </a:solidFill>
                <a:latin typeface="Corbel"/>
              </a:rPr>
              <a:t>Развитие речи детей младшего дошкольного возраста посредством  театрализованной деятельности»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187280" y="213840"/>
            <a:ext cx="7777440" cy="1538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130e"/>
                </a:solidFill>
                <a:latin typeface="Times New Roman"/>
                <a:ea typeface="Times New Roman"/>
              </a:rPr>
              <a:t>Муниципальное казённое дошкольное образовательное учреждение «Детский сад «Солнышко» города Щигры Курской област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813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Прямоугольник 5"/>
          <p:cNvSpPr/>
          <p:nvPr/>
        </p:nvSpPr>
        <p:spPr>
          <a:xfrm>
            <a:off x="611280" y="479736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18"/>
          <p:cNvSpPr/>
          <p:nvPr/>
        </p:nvSpPr>
        <p:spPr>
          <a:xfrm>
            <a:off x="4317120" y="32446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19"/>
          <p:cNvSpPr/>
          <p:nvPr/>
        </p:nvSpPr>
        <p:spPr>
          <a:xfrm>
            <a:off x="4055400" y="58770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Показ «Терем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3" descr="D:\докуметация сада\Администрация\отчет о мероприятиях\2021год\Театрализованная деятельность\2.JPG"/>
          <p:cNvPicPr/>
          <p:nvPr/>
        </p:nvPicPr>
        <p:blipFill>
          <a:blip r:embed="rId1"/>
          <a:stretch/>
        </p:blipFill>
        <p:spPr>
          <a:xfrm>
            <a:off x="1403280" y="836640"/>
            <a:ext cx="6624720" cy="496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813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Прямоугольник 5"/>
          <p:cNvSpPr/>
          <p:nvPr/>
        </p:nvSpPr>
        <p:spPr>
          <a:xfrm>
            <a:off x="611280" y="479736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2" descr="D:\докуметация сада\Администрация\отчет о мероприятиях\2021год\Театрализованная деятельность\1.JPG"/>
          <p:cNvPicPr/>
          <p:nvPr/>
        </p:nvPicPr>
        <p:blipFill>
          <a:blip r:embed="rId1"/>
          <a:stretch/>
        </p:blipFill>
        <p:spPr>
          <a:xfrm>
            <a:off x="1692360" y="105264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9"/>
          <p:cNvSpPr/>
          <p:nvPr/>
        </p:nvSpPr>
        <p:spPr>
          <a:xfrm>
            <a:off x="4874040" y="595008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укави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813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II </a:t>
            </a:r>
            <a:r>
              <a:rPr b="1" lang="ru-RU" sz="2800" spc="-1" strike="noStrike">
                <a:solidFill>
                  <a:srgbClr val="572314"/>
                </a:solidFill>
                <a:latin typeface="Corbel"/>
                <a:ea typeface="Times New Roman"/>
              </a:rPr>
              <a:t>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1116000" y="1052640"/>
            <a:ext cx="80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5"/>
          <p:cNvSpPr/>
          <p:nvPr/>
        </p:nvSpPr>
        <p:spPr>
          <a:xfrm>
            <a:off x="611280" y="479736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D:\Фотографии Презентации Видео\Фотографии\фото 2018г\фото филатовой к конкурсу\Фото\Филатова(фото)\IMG_2606.JPG"/>
          <p:cNvPicPr/>
          <p:nvPr/>
        </p:nvPicPr>
        <p:blipFill>
          <a:blip r:embed="rId1"/>
          <a:stretch/>
        </p:blipFill>
        <p:spPr>
          <a:xfrm>
            <a:off x="1547640" y="1546200"/>
            <a:ext cx="2016360" cy="3175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D:\Фотографии Презентации Видео\Фотографии\фото 2018г\фото филатовой к конкурсу\Фото\фото  Филатова\IMG_5295.JPG"/>
          <p:cNvPicPr/>
          <p:nvPr/>
        </p:nvPicPr>
        <p:blipFill>
          <a:blip r:embed="rId2"/>
          <a:stretch/>
        </p:blipFill>
        <p:spPr>
          <a:xfrm>
            <a:off x="3887640" y="1557360"/>
            <a:ext cx="4716720" cy="314316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7"/>
          <p:cNvSpPr/>
          <p:nvPr/>
        </p:nvSpPr>
        <p:spPr>
          <a:xfrm>
            <a:off x="1699560" y="52293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злы «Сказ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8"/>
          <p:cNvSpPr/>
          <p:nvPr/>
        </p:nvSpPr>
        <p:spPr>
          <a:xfrm>
            <a:off x="5460840" y="522936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Нарисуй сказ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59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Прямоугольник 5"/>
          <p:cNvSpPr/>
          <p:nvPr/>
        </p:nvSpPr>
        <p:spPr>
          <a:xfrm>
            <a:off x="611280" y="479736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7"/>
          <p:cNvSpPr/>
          <p:nvPr/>
        </p:nvSpPr>
        <p:spPr>
          <a:xfrm>
            <a:off x="1116000" y="90792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и года с  проведены совместные мероприятия с музыкальным руководител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8"/>
          <p:cNvSpPr/>
          <p:nvPr/>
        </p:nvSpPr>
        <p:spPr>
          <a:xfrm>
            <a:off x="1547640" y="4508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«День матер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9"/>
          <p:cNvSpPr/>
          <p:nvPr/>
        </p:nvSpPr>
        <p:spPr>
          <a:xfrm>
            <a:off x="6588000" y="6093000"/>
            <a:ext cx="17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«8 мар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0" descr="D:\Фотографии Презентации Видео\Фотографии\фото 2022г\8 марта\IMG_6929.JPG"/>
          <p:cNvPicPr/>
          <p:nvPr/>
        </p:nvPicPr>
        <p:blipFill>
          <a:blip r:embed="rId1"/>
          <a:stretch/>
        </p:blipFill>
        <p:spPr>
          <a:xfrm>
            <a:off x="4859280" y="3357720"/>
            <a:ext cx="3998880" cy="26636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3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3507120" cy="2630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D:\Фотографии Презентации Видео\Фотографии\фото 2022г\Кукольный 17.08.2022\4.jpg"/>
          <p:cNvPicPr/>
          <p:nvPr/>
        </p:nvPicPr>
        <p:blipFill>
          <a:blip r:embed="rId1"/>
          <a:stretch/>
        </p:blipFill>
        <p:spPr>
          <a:xfrm>
            <a:off x="1258920" y="1125360"/>
            <a:ext cx="5143320" cy="50850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971640" y="620640"/>
            <a:ext cx="784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С  детьми реализован проект «По дорогам сказ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1565640" y="6165720"/>
            <a:ext cx="36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лечение «По дорогам сказ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6"/>
          <p:cNvSpPr/>
          <p:nvPr/>
        </p:nvSpPr>
        <p:spPr>
          <a:xfrm>
            <a:off x="1187280" y="189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II </a:t>
            </a:r>
            <a:r>
              <a:rPr b="1" lang="ru-RU" sz="2400" spc="-1" strike="noStrike">
                <a:solidFill>
                  <a:srgbClr val="572314"/>
                </a:solidFill>
                <a:latin typeface="Corbel"/>
                <a:ea typeface="Times New Roman"/>
              </a:rPr>
              <a:t>этап-основ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7"/>
          <p:cNvSpPr/>
          <p:nvPr/>
        </p:nvSpPr>
        <p:spPr>
          <a:xfrm>
            <a:off x="6666840" y="616572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рисун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Рисунок 9" descr=""/>
          <p:cNvPicPr/>
          <p:nvPr/>
        </p:nvPicPr>
        <p:blipFill>
          <a:blip r:embed="rId2"/>
          <a:stretch/>
        </p:blipFill>
        <p:spPr>
          <a:xfrm>
            <a:off x="7236000" y="4581360"/>
            <a:ext cx="1209600" cy="144000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10" descr=""/>
          <p:cNvPicPr/>
          <p:nvPr/>
        </p:nvPicPr>
        <p:blipFill>
          <a:blip r:embed="rId3"/>
          <a:stretch/>
        </p:blipFill>
        <p:spPr>
          <a:xfrm>
            <a:off x="7236000" y="2852640"/>
            <a:ext cx="1163520" cy="144000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11" descr=""/>
          <p:cNvPicPr/>
          <p:nvPr/>
        </p:nvPicPr>
        <p:blipFill>
          <a:blip r:embed="rId4"/>
          <a:stretch/>
        </p:blipFill>
        <p:spPr>
          <a:xfrm>
            <a:off x="7164360" y="1125360"/>
            <a:ext cx="1224000" cy="1501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59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Прямоугольник 5"/>
          <p:cNvSpPr/>
          <p:nvPr/>
        </p:nvSpPr>
        <p:spPr>
          <a:xfrm>
            <a:off x="1258920" y="508464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ыставка творческих  работ «Богатый урожай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7"/>
          <p:cNvSpPr/>
          <p:nvPr/>
        </p:nvSpPr>
        <p:spPr>
          <a:xfrm>
            <a:off x="1258920" y="90792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В течении года с  проведены выставки совместного творчества детей и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10"/>
          <p:cNvSpPr/>
          <p:nvPr/>
        </p:nvSpPr>
        <p:spPr>
          <a:xfrm>
            <a:off x="5796000" y="5084640"/>
            <a:ext cx="307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ыставка творческих  работ «Новогодняя игрушк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10"/>
          <p:cNvSpPr/>
          <p:nvPr/>
        </p:nvSpPr>
        <p:spPr>
          <a:xfrm>
            <a:off x="3419640" y="5877000"/>
            <a:ext cx="377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оминация «Сказочный гер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10" descr="D:\Фотографии Презентации Видео\Фотографии\фото 2021г\выставка ноавогодняя игрушка\1aashc.JPG"/>
          <p:cNvPicPr/>
          <p:nvPr/>
        </p:nvPicPr>
        <p:blipFill>
          <a:blip r:embed="rId1"/>
          <a:stretch/>
        </p:blipFill>
        <p:spPr>
          <a:xfrm>
            <a:off x="4572000" y="1844640"/>
            <a:ext cx="4129200" cy="3097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1" descr="D:\Фотографии Презентации Видео\Фотографии\фото 2019 г\Дары осени октябрь 2019\3.JPG"/>
          <p:cNvPicPr/>
          <p:nvPr/>
        </p:nvPicPr>
        <p:blipFill>
          <a:blip r:embed="rId2"/>
          <a:stretch/>
        </p:blipFill>
        <p:spPr>
          <a:xfrm>
            <a:off x="1042920" y="1773360"/>
            <a:ext cx="329256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6708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5" name="Прямоугольник 5"/>
          <p:cNvSpPr/>
          <p:nvPr/>
        </p:nvSpPr>
        <p:spPr>
          <a:xfrm>
            <a:off x="611280" y="479736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7"/>
          <p:cNvSpPr/>
          <p:nvPr/>
        </p:nvSpPr>
        <p:spPr>
          <a:xfrm>
            <a:off x="1042920" y="836640"/>
            <a:ext cx="41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Работа с родителями: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пка-передвижка«Роль театрализованных игр в развитии речи детей дошкольного возрас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уклет «Роль дидактической игры в развитии речи детей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онсультация«Театр - наш друг и помощ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Рисунок 13" descr=""/>
          <p:cNvPicPr/>
          <p:nvPr/>
        </p:nvPicPr>
        <p:blipFill>
          <a:blip r:embed="rId1"/>
          <a:stretch/>
        </p:blipFill>
        <p:spPr>
          <a:xfrm>
            <a:off x="2195640" y="3213000"/>
            <a:ext cx="5722920" cy="339876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14" descr=""/>
          <p:cNvPicPr/>
          <p:nvPr/>
        </p:nvPicPr>
        <p:blipFill>
          <a:blip r:embed="rId2"/>
          <a:stretch/>
        </p:blipFill>
        <p:spPr>
          <a:xfrm>
            <a:off x="5292720" y="189000"/>
            <a:ext cx="364968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6708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Прямоугольник 5"/>
          <p:cNvSpPr/>
          <p:nvPr/>
        </p:nvSpPr>
        <p:spPr>
          <a:xfrm>
            <a:off x="611280" y="479736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7"/>
          <p:cNvSpPr/>
          <p:nvPr/>
        </p:nvSpPr>
        <p:spPr>
          <a:xfrm>
            <a:off x="1042920" y="692280"/>
            <a:ext cx="525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Работа с родителями: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ивлечение родителей к участию в новогоднем  утреннике. Помощь в изготовлении маскарадных костюмов и необходимых атрибутов для организации новогодних и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3" descr="D:\Фотографии Презентации Видео\Фотографии\фото 2021г\Новый год 2021\1 мл и2 мл Новый год 2021\IMG_6583.JPG"/>
          <p:cNvPicPr/>
          <p:nvPr/>
        </p:nvPicPr>
        <p:blipFill>
          <a:blip r:embed="rId1"/>
          <a:stretch/>
        </p:blipFill>
        <p:spPr>
          <a:xfrm>
            <a:off x="6372360" y="189000"/>
            <a:ext cx="2447640" cy="1834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D:\Фотографии Презентации Видео\Фотографии\фото 2021г\Новый год 2021\1 мл и2 мл Новый год 2021\IMG_6599.JPG"/>
          <p:cNvPicPr/>
          <p:nvPr/>
        </p:nvPicPr>
        <p:blipFill>
          <a:blip r:embed="rId2"/>
          <a:stretch/>
        </p:blipFill>
        <p:spPr>
          <a:xfrm>
            <a:off x="5003640" y="2205000"/>
            <a:ext cx="3168720" cy="2016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D:\Фотографии Презентации Видео\Фотографии\фото 2021г\Новый год 2021\1 мл и2 мл Новый год 2021\IMG_6510.JPG"/>
          <p:cNvPicPr/>
          <p:nvPr/>
        </p:nvPicPr>
        <p:blipFill>
          <a:blip r:embed="rId3"/>
          <a:stretch/>
        </p:blipFill>
        <p:spPr>
          <a:xfrm>
            <a:off x="1258920" y="2225520"/>
            <a:ext cx="3025800" cy="43862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D:\Фотографии Презентации Видео\Фотографии\фото 2021г\Новый год 2021\1 мл и2 мл Новый год 2021\IMG_6561.JPG"/>
          <p:cNvPicPr/>
          <p:nvPr/>
        </p:nvPicPr>
        <p:blipFill>
          <a:blip r:embed="rId4"/>
          <a:stretch/>
        </p:blipFill>
        <p:spPr>
          <a:xfrm>
            <a:off x="5003640" y="4365720"/>
            <a:ext cx="324180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59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7" name="Прямоугольник 5"/>
          <p:cNvSpPr/>
          <p:nvPr/>
        </p:nvSpPr>
        <p:spPr>
          <a:xfrm>
            <a:off x="611280" y="479736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7"/>
          <p:cNvSpPr/>
          <p:nvPr/>
        </p:nvSpPr>
        <p:spPr>
          <a:xfrm>
            <a:off x="1187280" y="692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В течении года пополнялась РППС по театрализован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" descr="C:\Users\Ирина\Downloads\IMG_20220201_130523.jpg"/>
          <p:cNvPicPr/>
          <p:nvPr/>
        </p:nvPicPr>
        <p:blipFill>
          <a:blip r:embed="rId1"/>
          <a:stretch/>
        </p:blipFill>
        <p:spPr>
          <a:xfrm>
            <a:off x="1187280" y="1268280"/>
            <a:ext cx="1889280" cy="2521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C:\Users\Ирина\Downloads\IMG_20220201_130436.jpg"/>
          <p:cNvPicPr/>
          <p:nvPr/>
        </p:nvPicPr>
        <p:blipFill>
          <a:blip r:embed="rId2"/>
          <a:stretch/>
        </p:blipFill>
        <p:spPr>
          <a:xfrm>
            <a:off x="3276720" y="1220760"/>
            <a:ext cx="1871640" cy="25923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D:\Среда Волкова гамова\DSCN1882.JPG"/>
          <p:cNvPicPr/>
          <p:nvPr/>
        </p:nvPicPr>
        <p:blipFill>
          <a:blip r:embed="rId3"/>
          <a:stretch/>
        </p:blipFill>
        <p:spPr>
          <a:xfrm>
            <a:off x="5364000" y="4005360"/>
            <a:ext cx="3529080" cy="25714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D:\Среда Волкова гамова\DSCN1904.JPG"/>
          <p:cNvPicPr/>
          <p:nvPr/>
        </p:nvPicPr>
        <p:blipFill>
          <a:blip r:embed="rId4"/>
          <a:stretch/>
        </p:blipFill>
        <p:spPr>
          <a:xfrm>
            <a:off x="1187280" y="4005360"/>
            <a:ext cx="3889440" cy="2655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D:\Среда Волкова гамова\DSCN1875.JPG"/>
          <p:cNvPicPr/>
          <p:nvPr/>
        </p:nvPicPr>
        <p:blipFill>
          <a:blip r:embed="rId5"/>
          <a:stretch/>
        </p:blipFill>
        <p:spPr>
          <a:xfrm>
            <a:off x="5435640" y="1197000"/>
            <a:ext cx="3529080" cy="2608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81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Прямоугольник 3"/>
          <p:cNvSpPr/>
          <p:nvPr/>
        </p:nvSpPr>
        <p:spPr>
          <a:xfrm>
            <a:off x="971640" y="765000"/>
            <a:ext cx="75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Транслирование опыта работы на  уровне Д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"/>
          <p:cNvSpPr/>
          <p:nvPr/>
        </p:nvSpPr>
        <p:spPr>
          <a:xfrm>
            <a:off x="3203640" y="6244560"/>
            <a:ext cx="38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Мастер-класс «Театр на диск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" descr="D:\Фотографии Презентации Видео\Фотографии\фото 2022г\мастер класс театр на дисках 14.01.2022\1.JPG"/>
          <p:cNvPicPr/>
          <p:nvPr/>
        </p:nvPicPr>
        <p:blipFill>
          <a:blip r:embed="rId1"/>
          <a:stretch/>
        </p:blipFill>
        <p:spPr>
          <a:xfrm>
            <a:off x="1042920" y="1268280"/>
            <a:ext cx="3889440" cy="28782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C:\Users\Ирина\Downloads\2022-12-12_15-02-10.png"/>
          <p:cNvPicPr/>
          <p:nvPr/>
        </p:nvPicPr>
        <p:blipFill>
          <a:blip r:embed="rId2"/>
          <a:stretch/>
        </p:blipFill>
        <p:spPr>
          <a:xfrm>
            <a:off x="5148360" y="1268280"/>
            <a:ext cx="3794040" cy="280836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2" descr="D:\сказка\IMG_7449.JPG"/>
          <p:cNvPicPr/>
          <p:nvPr/>
        </p:nvPicPr>
        <p:blipFill>
          <a:blip r:embed="rId3"/>
          <a:stretch/>
        </p:blipFill>
        <p:spPr>
          <a:xfrm>
            <a:off x="2556000" y="4292640"/>
            <a:ext cx="4752720" cy="2171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88688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ктуальность</a:t>
            </a:r>
            <a:br>
              <a:rPr sz="25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971640" y="1123920"/>
            <a:ext cx="7958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возможно переоценить роль родного языка, который помогает детям осознанно воспринимать окружающий мир и является средством общения. Поэтому необходимо больше внимания уделять развитию речи детей младшего дошкольного возраста. Своевременное и полноценное формирование речи в дошкольном детстве – одно из основных условий нормального развития малыша и в дальнейшем его обучения в шко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еатральная деятельность – это самый распространённый вид детского творчества. Она близка и понятна ребёнку, глубоко лежит в его природе и находит своё отстранение стихийно, потому что связана с игрой. Всякую свою выдумку, впечатления из окружающей жизни ребёнку хочется выложить в живые образы и действия. Входя в образ, он играет любые роли, стараясь подражать тому, что видит и что его заинтересовало, и, получая огромное эмоциональное наслаждение.  Поэтому возникла идея — создания системы педагогических мероприятий по развитию речи детей дошкольного возраста через театрализованн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81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1" name="Прямоугольник 3"/>
          <p:cNvSpPr/>
          <p:nvPr/>
        </p:nvSpPr>
        <p:spPr>
          <a:xfrm>
            <a:off x="971640" y="765000"/>
            <a:ext cx="75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Транслирование опыта работы на  муниципальном уро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"/>
          <p:cNvSpPr/>
          <p:nvPr/>
        </p:nvSpPr>
        <p:spPr>
          <a:xfrm>
            <a:off x="1042920" y="150876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Участие в ГМ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Тема «Совершенствование форм работы по развитию речи детей дошкольного возраста  через различные виды театр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C:\Users\Ирина\Downloads\2022-12-12_14-33-49.png"/>
          <p:cNvPicPr/>
          <p:nvPr/>
        </p:nvPicPr>
        <p:blipFill>
          <a:blip r:embed="rId1"/>
          <a:stretch/>
        </p:blipFill>
        <p:spPr>
          <a:xfrm>
            <a:off x="1116000" y="2637000"/>
            <a:ext cx="5688000" cy="387504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13"/>
          <p:cNvSpPr/>
          <p:nvPr/>
        </p:nvSpPr>
        <p:spPr>
          <a:xfrm>
            <a:off x="7020000" y="3860640"/>
            <a:ext cx="187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ткрытое занятие по развитию речи  с детьми 3-4 лет «Петушок наш не поёт»  с использованием настольного театра на дис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813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Прямоугольник 3"/>
          <p:cNvSpPr/>
          <p:nvPr/>
        </p:nvSpPr>
        <p:spPr>
          <a:xfrm>
            <a:off x="971640" y="981000"/>
            <a:ext cx="75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Транслирование опыта работы на  персональном с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6" descr="C:\Users\Ирина\Downloads\2022-12-12_14-23-38.png"/>
          <p:cNvPicPr/>
          <p:nvPr/>
        </p:nvPicPr>
        <p:blipFill>
          <a:blip r:embed="rId1"/>
          <a:stretch/>
        </p:blipFill>
        <p:spPr>
          <a:xfrm>
            <a:off x="1116000" y="1557360"/>
            <a:ext cx="4608360" cy="238140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7"/>
          <p:cNvSpPr/>
          <p:nvPr/>
        </p:nvSpPr>
        <p:spPr>
          <a:xfrm>
            <a:off x="5796000" y="1967760"/>
            <a:ext cx="30240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2d47"/>
                </a:solidFill>
                <a:latin typeface="Corbel"/>
                <a:ea typeface="Arial"/>
              </a:rPr>
              <a:t>Электронный  адрес персонального сайта: 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Corbel"/>
                <a:ea typeface="Arial"/>
                <a:hlinkClick r:id="rId2"/>
              </a:rPr>
              <a:t>https://nsportal.ru/filatova-ulena-ivanav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8"/>
          <p:cNvSpPr/>
          <p:nvPr/>
        </p:nvSpPr>
        <p:spPr>
          <a:xfrm>
            <a:off x="1258920" y="4149720"/>
            <a:ext cx="756108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Фрагмент занятия «Петушок наш не поёт»,  представлен на персональном сайте: 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https://nsportal.ru/user/947652/page/video-zanyati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832320" y="4992840"/>
            <a:ext cx="62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оект «По дорогам сказок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https://nsportal.ru/user/947652/page/dlya-roditeley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10"/>
          <p:cNvSpPr/>
          <p:nvPr/>
        </p:nvSpPr>
        <p:spPr>
          <a:xfrm>
            <a:off x="1332000" y="580536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Центр театрализованных и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https://nsportal.ru/user/947652/page/dlya-roditeley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813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I этап-заключительны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23" name="Диаграмма 6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6007320" cy="3362400"/>
          </a:xfrm>
          <a:prstGeom prst="rect">
            <a:avLst/>
          </a:prstGeom>
          <a:ln w="0">
            <a:noFill/>
          </a:ln>
        </p:spPr>
      </p:pic>
      <p:sp>
        <p:nvSpPr>
          <p:cNvPr id="424" name="Прямоугольник 7"/>
          <p:cNvSpPr/>
          <p:nvPr/>
        </p:nvSpPr>
        <p:spPr>
          <a:xfrm>
            <a:off x="1042920" y="620640"/>
            <a:ext cx="810108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ыв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пополнила  копилку теоретических знаний  о театрализованных игр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-научилась анализировать научно-методическую литератур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-овладела  инновационными педагогическими технологиями воспитания и обучения детей дошкольного возраста (проектная деятельность, игровая  технология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- дети стали чаще играть в настольный теат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- наблюдается положительная динамика в речевом развитии у детей дошкольного возра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- у детей улучшились взаимоотношения со сверстниками и взрослы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-родители стали активными участниками образовательного проце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86920" y="189000"/>
            <a:ext cx="7742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оекция на будущее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6" name="Прямоугольник 7"/>
          <p:cNvSpPr/>
          <p:nvPr/>
        </p:nvSpPr>
        <p:spPr>
          <a:xfrm>
            <a:off x="1116000" y="1268280"/>
            <a:ext cx="777888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Вместе с тем, многое еще не реализовано из-за ситуацией с новой короновирусной инфекцией. Работа с родителями, в основном, чере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sAp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В силу возраста детей было мало совместных мероприятий с учреждениями культуры и дополнительного обра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Вследствие чего, планирую продолжить работу над темой в следующем учебном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886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Цель:</a:t>
            </a: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 повышение своего профессионального мастерства и компетентности, создание условий для успешного развития речи детей через театрализованную деятельность. </a:t>
            </a:r>
            <a:br>
              <a:rPr sz="2400"/>
            </a:br>
            <a:r>
              <a:rPr b="0" lang="ru-RU" sz="2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</a:t>
            </a:r>
            <a:br>
              <a:rPr sz="2800"/>
            </a:br>
            <a:endParaRPr b="0" lang="en-US" sz="2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Прямоугольник 3"/>
          <p:cNvSpPr/>
          <p:nvPr/>
        </p:nvSpPr>
        <p:spPr>
          <a:xfrm>
            <a:off x="1116000" y="1484280"/>
            <a:ext cx="7777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.Систематизировать теоретический и практический материал посредством изучения учебной, справочной, методической литературы по проблеме развития речи у детей 3-4 лет и созданию условий для театрализованной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. Творчески применить профессионально-педагогические знания с учетом возрастных, индивидуальных, социально-психологических особенностей до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. Сформировать банк информационно-методических материалов по развитию речи и театрализованной деятельности детей младшего дошкольного возраста (Конспекты занятий, картотека театрализованных  игр, материалы для работы с родителями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. Создать в группе центр театрализованных игр.  Наполнить его разнообразными игровыми материалами, декорациями, различными видами теат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. Оптимизировать работу с родителями по вопросу организации театрализованной деятельности с детьми с помощью разнообразных методов и приём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86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жидаемы результат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Прямоугольник 5"/>
          <p:cNvSpPr/>
          <p:nvPr/>
        </p:nvSpPr>
        <p:spPr>
          <a:xfrm>
            <a:off x="1187280" y="907920"/>
            <a:ext cx="7632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У меня, как у воспитател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сформируются основы педагогического мастерства, профессионализма и творче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умение анализировать научно-методическую литературу, повышение своих теоретических и практических знаний, умений и навыков в вопросах развития речи детей младшего дошкольного возраста посредством использования театрализован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овладение инновационными педагогическими технологиями воспитания и обучения детей дошкольного возрас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умение активизировать творческие способности и пропагандировать свои достижения, применять полученные знания на практ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У де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приобщение детей к театрализованной деятель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обогащение активного и пассивного словаря и активизирование  речи детей младшего дошкольного возра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У родител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повышение уровня знаний родителей по теме «Развитие речи детей младшего дошкольного возраста посредством театрализованной деятельности». Совместная работа педагогов и родителей способствует интеллектуальному, эмоциональному и эстетическому развитию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8868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актический выход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Прямоугольник 4"/>
          <p:cNvSpPr/>
          <p:nvPr/>
        </p:nvSpPr>
        <p:spPr>
          <a:xfrm>
            <a:off x="1116000" y="98100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ранслирование  опыта работы по теме самообразования  «Развитие речи детей младшего дошкольного возраста посредством  театрализованной деятельности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»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 персональном сайте в сети Интер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ормирование банка информационно-методических материалов по развитию речи и театрализованной деятельности детей младшего дошкольного возраста (Конспекты занятий, картотека театрализованных  игр, материалы для работы с родителями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огащение развивающей предметно - пространственной среды разнообразными игровыми материалами, декорациями,  разными видами теа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8868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Этапы  самообразования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1187280" y="1341360"/>
            <a:ext cx="7632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.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rbel"/>
                <a:ea typeface="Times New Roman"/>
              </a:rPr>
              <a:t>Подготовительный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- выявление  и определение темы самообразования, изучение нормативных документов, литературы, Интернет-источников,  составление плана по самообразованию и  включение в план работы с родителями  мероприятий по те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 MT"/>
                <a:ea typeface="Times New Roman"/>
              </a:rPr>
              <a:t>II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rbel"/>
                <a:ea typeface="Times New Roman"/>
              </a:rPr>
              <a:t>. Основной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Организация работы с детьми, взаимодействие с родителями воспита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 MT"/>
                <a:ea typeface="Times New Roman"/>
              </a:rPr>
              <a:t>III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rbel"/>
                <a:ea typeface="Times New Roman"/>
              </a:rPr>
              <a:t>. Заключительный-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оформление результатов работы, самоанал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8138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I </a:t>
            </a:r>
            <a:r>
              <a:rPr b="1" lang="ru-RU" sz="2800" spc="-1" strike="noStrike">
                <a:solidFill>
                  <a:srgbClr val="572314"/>
                </a:solidFill>
                <a:latin typeface="Corbel"/>
                <a:ea typeface="Times New Roman"/>
              </a:rPr>
              <a:t>этап-подготовительны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Прямоугольник 3"/>
          <p:cNvSpPr/>
          <p:nvPr/>
        </p:nvSpPr>
        <p:spPr>
          <a:xfrm>
            <a:off x="1187280" y="765000"/>
            <a:ext cx="79567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Изучена методическая 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"/>
          <p:cNvSpPr/>
          <p:nvPr/>
        </p:nvSpPr>
        <p:spPr>
          <a:xfrm>
            <a:off x="1042920" y="1396080"/>
            <a:ext cx="7850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От рождения до школы. Инновационная программа дошкольного образования / Под ред. Н. Е. Вераксы, Т. С. Комаровой, Э. М. Дорофеевой.- 6-е изд., доп. – М.: МОЗАИКА-СИНТЕЗ,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ртемова, Л.В. Театрализованные игры дошкольников. - М.: Просвещение, 200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артковский А.И., Лыкова И.А.  Кукольный театр, ООО ИД «Цветной мир», 2013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аханева М.Д. Театрализованные занятия в детском саду. -  М.: ТЦ Сфера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етрова Т.И., Сергеева Е.Л., Петрова Е.С. Театрализованные игры в детском саду. - М.: Школьная пресса, 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77425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I </a:t>
            </a:r>
            <a:r>
              <a:rPr b="1" lang="ru-RU" sz="2800" spc="-1" strike="noStrike">
                <a:solidFill>
                  <a:srgbClr val="572314"/>
                </a:solidFill>
                <a:latin typeface="Corbel"/>
                <a:ea typeface="Times New Roman"/>
              </a:rPr>
              <a:t>этап-подготовительны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Прямоугольник 3"/>
          <p:cNvSpPr/>
          <p:nvPr/>
        </p:nvSpPr>
        <p:spPr>
          <a:xfrm>
            <a:off x="1116000" y="1197000"/>
            <a:ext cx="802800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Результат: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собрана картотека методической литературы по теме самообраз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составлен список Интернет ресур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разработан план работы с род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оформлена картотека подвижных игр для детей старшего дошкольного возрас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813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Прямоугольник 3"/>
          <p:cNvSpPr/>
          <p:nvPr/>
        </p:nvSpPr>
        <p:spPr>
          <a:xfrm>
            <a:off x="428760" y="3143160"/>
            <a:ext cx="87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4"/>
          <p:cNvSpPr/>
          <p:nvPr/>
        </p:nvSpPr>
        <p:spPr>
          <a:xfrm>
            <a:off x="1116000" y="126828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и года была  организована  работы со всеми участниками образовательного процесса: детьми, родителями, педагогами ДО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6" descr="https://avatars.mds.yandex.net/i?id=ccb49bb6918630d6f41a651354c71e29_l-4599018-images-thumbs&amp;n=13"/>
          <p:cNvPicPr/>
          <p:nvPr/>
        </p:nvPicPr>
        <p:blipFill>
          <a:blip r:embed="rId1"/>
          <a:stretch/>
        </p:blipFill>
        <p:spPr>
          <a:xfrm>
            <a:off x="1116000" y="2997360"/>
            <a:ext cx="7623360" cy="1917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6T11:55:29Z</dcterms:created>
  <dc:creator>Ирина</dc:creator>
  <dc:description/>
  <dc:language>en-US</dc:language>
  <cp:lastModifiedBy>Ирина</cp:lastModifiedBy>
  <dcterms:modified xsi:type="dcterms:W3CDTF">2022-12-12T13:42:34Z</dcterms:modified>
  <cp:revision>93</cp:revision>
  <dc:subject/>
  <dc:title>Отчёт  старшего воспитателя МКДОУ «Детский сад «Солнышко»  г. Щигры Курской области Труфановой Ирины Петровны  по теме самообразования:  «Современные технологии организации педагогического процесса в ДОУ в условиях реализации ФГОС ДО»</dc:title>
</cp:coreProperties>
</file>