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F39-95DF-4B99-8CEC-D2112F9244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72F-E289-408C-A970-68EB3B1334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58C3-D570-4A67-92FF-89AABFAEB7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034-9680-4560-9DA8-4FEEE968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C8A-32AA-4E24-8232-8B0F4A04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D74-800C-4856-B45C-9A0A159E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A11-344B-4E1E-AFD4-E42594E8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46C4-E543-4538-887E-F04E8F84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D860-FAE2-4BA4-9319-8B7C4197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2CC3-F29F-4063-AADD-92461B4C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8CA5-7D8A-46E7-BA42-B6E5F47E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5584-094D-4058-94F4-459481E3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6524-D5AB-4D39-8EFF-B276D6F3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92F7-7A48-466E-B69E-6C288AB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840-FC54-4F61-8A9C-B7B52AE1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F56F-DFE8-4145-9F2C-808D77D1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D5BE-0D1E-4712-9BA4-6EBE7EF0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CA62-7EBE-43E4-8E68-CD9AF0B7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3F7B-18C6-45CE-ACA3-2CE92458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F219-BDE0-4A82-8F5C-F30669E5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986E-D632-4E77-9095-6FA0AA7B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2C36-3D79-452A-ADD6-98AF5808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8DFC-52EC-427E-9C46-51EE906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E31A-AA74-4547-B4A6-D9CB0321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774D-223B-4E33-86DF-1495E018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53B-6A7A-49F7-A507-3D973345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CDDD-7ECC-4F88-86E7-17641A85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7141-3F21-41AB-B4F9-06FC048B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7915-34B3-4272-AC89-C1EA7231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3273-5180-47FA-9B44-A74BDCD7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DA22-D277-468D-B152-C16EFA03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984B-746D-463E-BCC5-69FB15CC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BB5A-CE80-4A33-8152-B6BBD760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8310-6AE1-4B6D-B4AF-9202AB13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FD1B-6060-4B1C-A969-1AD1B61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FA48-3B74-4BAD-9919-C9568F3E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E98-8625-4063-A4E6-B49144B8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70A7-00B5-4B57-999B-7160F708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09F2-D45E-4387-B306-C91E93A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FE9F-A499-410E-BEC1-BCF7DBA9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E4C1-F716-43B7-8E4A-D621BB7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D3F2-F319-4A2B-8503-FBECEAB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D48F-8CA7-451F-8DB5-AE66B25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4CB6-D955-4350-B49B-495AA322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3956-894A-4F36-9EA5-4257D735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8EE4C-C3F3-45E2-8660-01D4EE9C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D871-8740-405F-A040-5ECA2E26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131-9858-48A2-A9FA-8A6CF275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492D-82E6-43C2-A65C-5BB1C64D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5C1F-523A-4873-AAAD-351B4C74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1027-9C10-4B8C-BFC0-6F49505A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6B855-58BC-408F-B446-20582889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D7AC2-1E9F-4F62-A804-588B6DBB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326B-1FE7-4583-B9EB-0CCD8FDC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3CD6-ABEA-452A-8DC3-212E87F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5D3B4-C9F5-457D-87C4-A7598FC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313A5-5BE2-4569-92C6-0D62848A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56D2-E8E4-4AA9-A21F-00985BC8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6BD-FD5E-46F0-8EB3-1C642C27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7EF0-BD28-4872-BEF9-764AC0C5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FA1C3-990D-4086-84CA-05B3B639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648AF-6DEA-4DA9-9485-66F6DD2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EF89-CBB9-45DF-A25F-367D4DB7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AB2AA-BC0D-4ACE-B83B-3CB46C3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C82E3-6ABA-43A9-8EC8-53F65FD4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7C32-C5BE-441D-B7CD-2386635A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74E93-7CD5-4524-81D6-CBF454B5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E5047-1867-4D8D-B2C7-DAB59FF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EE63-204D-428D-9922-41F0C7B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0E4-3C46-4CA6-9EC3-481D762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76730-C366-438C-B5A4-DA225CCF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7611C-6577-4F7C-BEA8-6ADB596F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E2D35-6AD4-4393-AAD3-057A25CA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8B6BB-038E-44B9-8F7F-5CEBE71B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0D00-EAE9-4E12-913C-73357062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C237D-75E0-4EEB-B563-5B29364E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5F3B-BA99-4831-84EE-B0E80B97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5DCB7-A05B-4FEF-AF80-74AFFBF0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D8441-2C55-4676-85A1-5A68E0D4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6305A-D588-4262-AF5C-7CA20609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AD1-F8EA-43EF-8DF0-4F89217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73F2A-5D35-4F9C-92BD-AFF47F9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3F8E3-651F-418D-B181-0FDCE0C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B1FF6-823E-428F-8660-7B4846BB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5D1B5-FD87-41F4-A6A1-1335469A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0D49-3618-4DDE-9683-43D10FDD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B10-E120-42A0-8F31-E96D40E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F0C1-3151-46D9-88C1-9E9E7778C8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C0A-4842-4780-9029-3CEA32426A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CA7A-44D1-4F35-B698-E9CB33EC43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421D-59BB-485B-A228-804D010A2A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D5D-004F-4B11-A711-5CB5CE9D828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E5A-B381-4397-A14A-60786FFE72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2A19-910F-4C66-AE62-7D9649101C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s://nsportal.ru/filatova-ulena-ivanavna" TargetMode="External"/><Relationship Id="rId3" Type="http://schemas.openxmlformats.org/officeDocument/2006/relationships/hyperlink" Target="https://nsportal.ru/user/947652/page/video-zanyatiy" TargetMode="External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6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езентация-отчёт воспитателя МКДОУ «Детский сад «Солнышко»  г. Щигры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Филатовой Елены Ивановны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теме самообразования за 2021-2022учебный год:</a:t>
            </a:r>
            <a:br>
              <a:rPr sz="2200"/>
            </a:br>
            <a:br>
              <a:rPr sz="2800"/>
            </a:b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«</a:t>
            </a:r>
            <a:r>
              <a:rPr b="0" i="1" lang="ru-RU" sz="3600" spc="-1" strike="noStrike">
                <a:solidFill>
                  <a:srgbClr val="572314"/>
                </a:solidFill>
                <a:latin typeface="Corbel"/>
              </a:rPr>
              <a:t>Развитие речи детей младшего дошкольного возраста посредством  театрализованной деятельности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87280" y="213840"/>
            <a:ext cx="7777440" cy="1538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Муниципальное казённое дошкольное образовательное учреждение «Детский сад «Солнышко» города Щигры Курской облас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8"/>
          <p:cNvSpPr/>
          <p:nvPr/>
        </p:nvSpPr>
        <p:spPr>
          <a:xfrm>
            <a:off x="4317120" y="3244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9"/>
          <p:cNvSpPr/>
          <p:nvPr/>
        </p:nvSpPr>
        <p:spPr>
          <a:xfrm>
            <a:off x="4055400" y="5877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Показ 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3" descr="D:\докуметация сада\Администрация\отчет о мероприятиях\2021год\Театрализованная деятельность\2.JPG"/>
          <p:cNvPicPr/>
          <p:nvPr/>
        </p:nvPicPr>
        <p:blipFill>
          <a:blip r:embed="rId1"/>
          <a:stretch/>
        </p:blipFill>
        <p:spPr>
          <a:xfrm>
            <a:off x="1403280" y="83664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2" descr="D:\докуметация сада\Администрация\отчет о мероприятиях\2021год\Театрализованная деятельность\1.JPG"/>
          <p:cNvPicPr/>
          <p:nvPr/>
        </p:nvPicPr>
        <p:blipFill>
          <a:blip r:embed="rId1"/>
          <a:stretch/>
        </p:blipFill>
        <p:spPr>
          <a:xfrm>
            <a:off x="1692360" y="105264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9"/>
          <p:cNvSpPr/>
          <p:nvPr/>
        </p:nvSpPr>
        <p:spPr>
          <a:xfrm>
            <a:off x="4874040" y="59500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ав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I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1116000" y="1052640"/>
            <a:ext cx="80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D:\Фотографии Презентации Видео\Фотографии\фото 2018г\фото филатовой к конкурсу\Фото\Филатова(фото)\IMG_2606.JPG"/>
          <p:cNvPicPr/>
          <p:nvPr/>
        </p:nvPicPr>
        <p:blipFill>
          <a:blip r:embed="rId1"/>
          <a:stretch/>
        </p:blipFill>
        <p:spPr>
          <a:xfrm>
            <a:off x="1547640" y="1546200"/>
            <a:ext cx="2016360" cy="3175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D:\Фотографии Презентации Видео\Фотографии\фото 2018г\фото филатовой к конкурсу\Фото\фото  Филатова\IMG_5295.JPG"/>
          <p:cNvPicPr/>
          <p:nvPr/>
        </p:nvPicPr>
        <p:blipFill>
          <a:blip r:embed="rId2"/>
          <a:stretch/>
        </p:blipFill>
        <p:spPr>
          <a:xfrm>
            <a:off x="3887640" y="1557360"/>
            <a:ext cx="4716720" cy="31431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1699560" y="52293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злы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5460840" y="52293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Нарисуй 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59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7"/>
          <p:cNvSpPr/>
          <p:nvPr/>
        </p:nvSpPr>
        <p:spPr>
          <a:xfrm>
            <a:off x="1116000" y="90792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года с  проведены совместные мероприятия с музыкальным руководите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8"/>
          <p:cNvSpPr/>
          <p:nvPr/>
        </p:nvSpPr>
        <p:spPr>
          <a:xfrm>
            <a:off x="1547640" y="450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День 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6588000" y="609300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«8 ма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0" descr="D:\Фотографии Презентации Видео\Фотографии\фото 2022г\8 марта\IMG_6929.JPG"/>
          <p:cNvPicPr/>
          <p:nvPr/>
        </p:nvPicPr>
        <p:blipFill>
          <a:blip r:embed="rId1"/>
          <a:stretch/>
        </p:blipFill>
        <p:spPr>
          <a:xfrm>
            <a:off x="4859280" y="3357720"/>
            <a:ext cx="3998880" cy="2663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3507120" cy="263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:\Фотографии Презентации Видео\Фотографии\фото 2022г\Кукольный 17.08.2022\4.jpg"/>
          <p:cNvPicPr/>
          <p:nvPr/>
        </p:nvPicPr>
        <p:blipFill>
          <a:blip r:embed="rId1"/>
          <a:stretch/>
        </p:blipFill>
        <p:spPr>
          <a:xfrm>
            <a:off x="1258920" y="1125360"/>
            <a:ext cx="5143320" cy="5085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971640" y="620640"/>
            <a:ext cx="784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С  детьми реализован проект «По дорогам сказ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1565640" y="616572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 «По дорогам сказ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1187280" y="1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I </a:t>
            </a:r>
            <a:r>
              <a:rPr b="1" lang="ru-RU" sz="24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осн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6666840" y="61657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9" descr=""/>
          <p:cNvPicPr/>
          <p:nvPr/>
        </p:nvPicPr>
        <p:blipFill>
          <a:blip r:embed="rId2"/>
          <a:stretch/>
        </p:blipFill>
        <p:spPr>
          <a:xfrm>
            <a:off x="7236000" y="4581360"/>
            <a:ext cx="1209600" cy="1440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0" descr=""/>
          <p:cNvPicPr/>
          <p:nvPr/>
        </p:nvPicPr>
        <p:blipFill>
          <a:blip r:embed="rId3"/>
          <a:stretch/>
        </p:blipFill>
        <p:spPr>
          <a:xfrm>
            <a:off x="7236000" y="2852640"/>
            <a:ext cx="1163520" cy="1440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1" descr=""/>
          <p:cNvPicPr/>
          <p:nvPr/>
        </p:nvPicPr>
        <p:blipFill>
          <a:blip r:embed="rId4"/>
          <a:stretch/>
        </p:blipFill>
        <p:spPr>
          <a:xfrm>
            <a:off x="7164360" y="1125360"/>
            <a:ext cx="1224000" cy="150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59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1258920" y="5084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ставка творческих  работ «Богатый урожа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1258920" y="907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В течении года с  проведены выставки совместного творчества детей 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0"/>
          <p:cNvSpPr/>
          <p:nvPr/>
        </p:nvSpPr>
        <p:spPr>
          <a:xfrm>
            <a:off x="5796000" y="508464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ставка творческих  работ «Новогодняя игруш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0"/>
          <p:cNvSpPr/>
          <p:nvPr/>
        </p:nvSpPr>
        <p:spPr>
          <a:xfrm>
            <a:off x="3419640" y="5877000"/>
            <a:ext cx="37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оминация «Сказочный гер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0" descr="D:\Фотографии Презентации Видео\Фотографии\фото 2021г\выставка ноавогодняя игрушка\1aashc.JPG"/>
          <p:cNvPicPr/>
          <p:nvPr/>
        </p:nvPicPr>
        <p:blipFill>
          <a:blip r:embed="rId1"/>
          <a:stretch/>
        </p:blipFill>
        <p:spPr>
          <a:xfrm>
            <a:off x="4572000" y="1844640"/>
            <a:ext cx="4129200" cy="3097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D:\Фотографии Презентации Видео\Фотографии\фото 2019 г\Дары осени октябрь 2019\3.JPG"/>
          <p:cNvPicPr/>
          <p:nvPr/>
        </p:nvPicPr>
        <p:blipFill>
          <a:blip r:embed="rId2"/>
          <a:stretch/>
        </p:blipFill>
        <p:spPr>
          <a:xfrm>
            <a:off x="1042920" y="1773360"/>
            <a:ext cx="32925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670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042920" y="836640"/>
            <a:ext cx="41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бота с родителями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пка-передвижка«Роль театрализованных игр в развитии речи детей дошкольного возра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уклет «Роль дидактической игры в развитии речи дете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нсультация«Театр - наш друг и помощ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3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722920" cy="33987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4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6496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670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1042920" y="692280"/>
            <a:ext cx="52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бота с родителями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влечение родителей к участию в новогоднем  утреннике. Помощь в изготовлении маскарадных костюмов и необходимых атрибутов для организации новогодни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D:\Фотографии Презентации Видео\Фотографии\фото 2021г\Новый год 2021\1 мл и2 мл Новый год 2021\IMG_6583.JPG"/>
          <p:cNvPicPr/>
          <p:nvPr/>
        </p:nvPicPr>
        <p:blipFill>
          <a:blip r:embed="rId1"/>
          <a:stretch/>
        </p:blipFill>
        <p:spPr>
          <a:xfrm>
            <a:off x="6372360" y="189000"/>
            <a:ext cx="2447640" cy="1834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D:\Фотографии Презентации Видео\Фотографии\фото 2021г\Новый год 2021\1 мл и2 мл Новый год 2021\IMG_6599.JPG"/>
          <p:cNvPicPr/>
          <p:nvPr/>
        </p:nvPicPr>
        <p:blipFill>
          <a:blip r:embed="rId2"/>
          <a:stretch/>
        </p:blipFill>
        <p:spPr>
          <a:xfrm>
            <a:off x="5003640" y="220500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:\Фотографии Презентации Видео\Фотографии\фото 2021г\Новый год 2021\1 мл и2 мл Новый год 2021\IMG_6510.JPG"/>
          <p:cNvPicPr/>
          <p:nvPr/>
        </p:nvPicPr>
        <p:blipFill>
          <a:blip r:embed="rId3"/>
          <a:stretch/>
        </p:blipFill>
        <p:spPr>
          <a:xfrm>
            <a:off x="1258920" y="2225520"/>
            <a:ext cx="3025800" cy="4386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D:\Фотографии Презентации Видео\Фотографии\фото 2021г\Новый год 2021\1 мл и2 мл Новый год 2021\IMG_6561.JPG"/>
          <p:cNvPicPr/>
          <p:nvPr/>
        </p:nvPicPr>
        <p:blipFill>
          <a:blip r:embed="rId4"/>
          <a:stretch/>
        </p:blipFill>
        <p:spPr>
          <a:xfrm>
            <a:off x="5003640" y="4365720"/>
            <a:ext cx="32418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59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Прямоугольник 5"/>
          <p:cNvSpPr/>
          <p:nvPr/>
        </p:nvSpPr>
        <p:spPr>
          <a:xfrm>
            <a:off x="611280" y="4797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7"/>
          <p:cNvSpPr/>
          <p:nvPr/>
        </p:nvSpPr>
        <p:spPr>
          <a:xfrm>
            <a:off x="1187280" y="692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В течении года пополнялась РППС по театрализова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C:\Users\Ирина\Downloads\IMG_20220201_130523.jpg"/>
          <p:cNvPicPr/>
          <p:nvPr/>
        </p:nvPicPr>
        <p:blipFill>
          <a:blip r:embed="rId1"/>
          <a:stretch/>
        </p:blipFill>
        <p:spPr>
          <a:xfrm>
            <a:off x="1187280" y="1268280"/>
            <a:ext cx="1889280" cy="2521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Ирина\Downloads\IMG_20220201_130436.jpg"/>
          <p:cNvPicPr/>
          <p:nvPr/>
        </p:nvPicPr>
        <p:blipFill>
          <a:blip r:embed="rId2"/>
          <a:stretch/>
        </p:blipFill>
        <p:spPr>
          <a:xfrm>
            <a:off x="3276720" y="122076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D:\Среда Волкова гамова\DSCN1882.JPG"/>
          <p:cNvPicPr/>
          <p:nvPr/>
        </p:nvPicPr>
        <p:blipFill>
          <a:blip r:embed="rId3"/>
          <a:stretch/>
        </p:blipFill>
        <p:spPr>
          <a:xfrm>
            <a:off x="5364000" y="4005360"/>
            <a:ext cx="3529080" cy="2571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D:\Среда Волкова гамова\DSCN1904.JPG"/>
          <p:cNvPicPr/>
          <p:nvPr/>
        </p:nvPicPr>
        <p:blipFill>
          <a:blip r:embed="rId4"/>
          <a:stretch/>
        </p:blipFill>
        <p:spPr>
          <a:xfrm>
            <a:off x="1187280" y="4005360"/>
            <a:ext cx="3889440" cy="2655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D:\Среда Волкова гамова\DSCN1875.JPG"/>
          <p:cNvPicPr/>
          <p:nvPr/>
        </p:nvPicPr>
        <p:blipFill>
          <a:blip r:embed="rId5"/>
          <a:stretch/>
        </p:blipFill>
        <p:spPr>
          <a:xfrm>
            <a:off x="5435640" y="1197000"/>
            <a:ext cx="352908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81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971640" y="76500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Транслирование опыта работы на  уровне Д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"/>
          <p:cNvSpPr/>
          <p:nvPr/>
        </p:nvSpPr>
        <p:spPr>
          <a:xfrm>
            <a:off x="3203640" y="6244560"/>
            <a:ext cx="38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астер-класс «Театр на диск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D:\Фотографии Презентации Видео\Фотографии\фото 2022г\мастер класс театр на дисках 14.01.2022\1.JPG"/>
          <p:cNvPicPr/>
          <p:nvPr/>
        </p:nvPicPr>
        <p:blipFill>
          <a:blip r:embed="rId1"/>
          <a:stretch/>
        </p:blipFill>
        <p:spPr>
          <a:xfrm>
            <a:off x="1042920" y="1268280"/>
            <a:ext cx="3889440" cy="2878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Ирина\Downloads\2022-12-12_15-02-10.png"/>
          <p:cNvPicPr/>
          <p:nvPr/>
        </p:nvPicPr>
        <p:blipFill>
          <a:blip r:embed="rId2"/>
          <a:stretch/>
        </p:blipFill>
        <p:spPr>
          <a:xfrm>
            <a:off x="5148360" y="1268280"/>
            <a:ext cx="3794040" cy="28083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2" descr="D:\сказка\IMG_7449.JPG"/>
          <p:cNvPicPr/>
          <p:nvPr/>
        </p:nvPicPr>
        <p:blipFill>
          <a:blip r:embed="rId3"/>
          <a:stretch/>
        </p:blipFill>
        <p:spPr>
          <a:xfrm>
            <a:off x="2556000" y="4292640"/>
            <a:ext cx="475272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ктуальность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971640" y="1123920"/>
            <a:ext cx="7958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возможно переоценить роль родного языка, который помогает детям осознанно воспринимать окружающий мир и является средством общения. Поэтому необходимо больше внимания уделять развитию речи детей младшего дошкольного возраста. Своевременное и полноценное формирование речи в дошкольном детстве – одно из основных условий нормального развития малыша и в дальнейшем его обучения в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атральная деятельность – это самый распространённый вид детского творчества. Она близка и понятна ребёнку, глубоко лежит в его природе и находит своё отстранение стихийно, потому что связана с игрой. Всякую свою выдумку, впечатления из окружающей жизни ребёнку хочется выложить в живые образы и действия. Входя в образ, он играет любые роли, стараясь подражать тому, что видит и что его заинтересовало, и, получая огромное эмоциональное наслаждение.  Поэтому возникла идея — создания системы педагогических мероприятий по развитию речи детей дошкольного возраста через театрализован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81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971640" y="76500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Транслирование опыта работы на  муниципаль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1042920" y="15087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Участие в ГМ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Тема «Совершенствование форм работы по развитию речи детей дошкольного возраста  через различные виды теат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C:\Users\Ирина\Downloads\2022-12-12_14-33-49.png"/>
          <p:cNvPicPr/>
          <p:nvPr/>
        </p:nvPicPr>
        <p:blipFill>
          <a:blip r:embed="rId1"/>
          <a:stretch/>
        </p:blipFill>
        <p:spPr>
          <a:xfrm>
            <a:off x="1116000" y="2637000"/>
            <a:ext cx="5688000" cy="387504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3"/>
          <p:cNvSpPr/>
          <p:nvPr/>
        </p:nvSpPr>
        <p:spPr>
          <a:xfrm>
            <a:off x="7020000" y="3860640"/>
            <a:ext cx="187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крытое занятие по развитию речи  с детьми 3-4 лет «Петушок наш не поёт»  с использованием настольного театра на дис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971640" y="981000"/>
            <a:ext cx="75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Транслирование опыта работы на  персональном с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C:\Users\Ирина\Downloads\2022-12-12_14-23-38.png"/>
          <p:cNvPicPr/>
          <p:nvPr/>
        </p:nvPicPr>
        <p:blipFill>
          <a:blip r:embed="rId1"/>
          <a:stretch/>
        </p:blipFill>
        <p:spPr>
          <a:xfrm>
            <a:off x="1116000" y="1557360"/>
            <a:ext cx="4608360" cy="23814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5796000" y="1967760"/>
            <a:ext cx="3024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Corbel"/>
                <a:ea typeface="Arial"/>
              </a:rPr>
              <a:t>Электронный  адрес персонального сайта: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ea typeface="Arial"/>
                <a:hlinkClick r:id="rId2"/>
              </a:rPr>
              <a:t>https://nsportal.ru/filatova-ulena-ivana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8"/>
          <p:cNvSpPr/>
          <p:nvPr/>
        </p:nvSpPr>
        <p:spPr>
          <a:xfrm>
            <a:off x="1258920" y="4149720"/>
            <a:ext cx="75610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Фрагмент занятия «Петушок наш не поёт»,  представлен на персональном сайте: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s://nsportal.ru/user/947652/page/video-zanyat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832320" y="4992840"/>
            <a:ext cx="62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ект «По дорогам сказок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https://nsportal.ru/user/947652/page/dlya-roditeley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0"/>
          <p:cNvSpPr/>
          <p:nvPr/>
        </p:nvSpPr>
        <p:spPr>
          <a:xfrm>
            <a:off x="1332000" y="5805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театрализованн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https://nsportal.ru/user/947652/page/dlya-roditeley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813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I этап-заключительны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3" name="Диаграмма 6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6007320" cy="33624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7"/>
          <p:cNvSpPr/>
          <p:nvPr/>
        </p:nvSpPr>
        <p:spPr>
          <a:xfrm>
            <a:off x="1042920" y="620640"/>
            <a:ext cx="8101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ополнила  копилку теоретических знаний  о театрализованных игр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научилась анализировать научно-методическую литерату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овладела  инновационными педагогическими технологиями воспитания и обучения детей дошкольного возраста (проектная деятельность, игровая  технологи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 дети стали чаще играть в настольный теа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 наблюдается положительная динамика в речевом развитии у детей дошкольного воз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 у детей улучшились взаимоотношения со сверстниками и взросл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-родители стали активными участниками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774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екция на будуще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Прямоугольник 7"/>
          <p:cNvSpPr/>
          <p:nvPr/>
        </p:nvSpPr>
        <p:spPr>
          <a:xfrm>
            <a:off x="1116000" y="1268280"/>
            <a:ext cx="77788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месте с тем, многое еще не реализовано из-за ситуацией с новой короновирусной инфекцией. Работа с родителями, в основном, чере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sA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 силу возраста детей было мало совместных мероприятий с учреждениями культуры и дополнитель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следствие чего, планирую продолжить работу над темой в следующем учебном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Цель: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 повышение своего профессионального мастерства и компетентности, создание условий для успешного развития речи детей через театрализованную деятельность. </a:t>
            </a:r>
            <a:br>
              <a:rPr sz="2400"/>
            </a:br>
            <a:r>
              <a:rPr b="0" lang="ru-RU" sz="2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</a:t>
            </a:r>
            <a:br>
              <a:rPr sz="2800"/>
            </a:b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Прямоугольник 3"/>
          <p:cNvSpPr/>
          <p:nvPr/>
        </p:nvSpPr>
        <p:spPr>
          <a:xfrm>
            <a:off x="1116000" y="148428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Систематизировать теоретический и практический материал посредством изучения учебной, справочной, методической литературы по проблеме развития речи у детей 3-4 лет и созданию условий для театрализова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 Творчески применить профессионально-педагогические знания с учетом возрастных, индивидуальных, социально-психологических особенностей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 Сформировать банк информационно-методических материалов по развитию речи и театрализованной деятельности детей младшего дошкольного возраста (Конспекты занятий, картотека театрализованных  игр, материалы для работы с родителями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 Создать в группе центр театрализованных игр.  Наполнить его разнообразными игровыми материалами, декорациями, различными видами теа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 Оптимизировать работу с родителями по вопросу организации театрализованной деятельности с детьми с помощью разнообразных методов и приё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86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жидаемы результат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1187280" y="907920"/>
            <a:ext cx="763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 меня, как у воспитате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формируются основы педагогического мастерства, профессионализма и творч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мение анализировать научно-методическую литературу, повышение своих теоретических и практических знаний, умений и навыков в вопросах развития речи детей младшего дошкольного возраста посредством использования театрализова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владение инновационными педагогическими технологиями воспитания и обучения детей дошкольного возрас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мение активизировать творческие способности и пропагандировать свои достижения, применять полученные знания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приобщение детей к театрализованной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обогащение активного и пассивного словаря и активизирование  речи детей младшего дошкольно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У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повышение уровня знаний родителей по теме «Развитие речи детей младшего дошкольного возраста посредством театрализованной деятельности». Совместная работа педагогов и родителей способствует интеллектуальному, эмоциональному и эстетическому развитию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ктический выход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Прямоугольник 4"/>
          <p:cNvSpPr/>
          <p:nvPr/>
        </p:nvSpPr>
        <p:spPr>
          <a:xfrm>
            <a:off x="1116000" y="9810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ранслирование  опыта работы по теме самообразования  «Развитие речи детей младшего дошкольного возраста посредством  театрализованной деятельност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»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персональном сайте в сети Интер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банка информационно-методических материалов по развитию речи и театрализованной деятельности детей младшего дошкольного возраста (Конспекты занятий, картотека театрализованных  игр, материалы для работы с родителями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огащение развивающей предметно - пространственной среды разнообразными игровыми материалами, декорациями,  разными видами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886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 самообразов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1187280" y="1341360"/>
            <a:ext cx="76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Подготовительный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- выявление  и определение темы самообразования, изучение нормативных документов, литературы, Интернет-источников,  составление плана по самообразованию и  включение в план работы с родителями  мероприятий 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I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. Основной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Организация работы с детьми, взаимодействие с родителями воспита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  <a:ea typeface="Times New Roman"/>
              </a:rPr>
              <a:t>II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. Заключительный-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оформление результатов работы, само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813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подготовительны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1187280" y="765000"/>
            <a:ext cx="7956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Изучена методическ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1042920" y="1396080"/>
            <a:ext cx="785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От рождения до школы. Инновационная программа дошкольного образования / Под ред. Н. Е. Вераксы, Т. С. Комаровой, Э. М. Дорофеевой.- 6-е изд., доп. – М.: МОЗАИКА-СИНТЕЗ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ртемова, Л.В. Театрализованные игры дошкольников. - М.: Просвещение, 200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артковский А.И., Лыкова И.А.  Кукольный театр, ООО ИД «Цветной мир»,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ханева М.Д. Театрализованные занятия в детском саду. -  М.: ТЦ Сфер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трова Т.И., Сергеева Е.Л., Петрова Е.С. Театрализованные игры в детском саду. - М.: Школьная пресса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742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572314"/>
                </a:solidFill>
                <a:latin typeface="Corbel"/>
                <a:ea typeface="Times New Roman"/>
              </a:rPr>
              <a:t>этап-подготовительны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Прямоугольник 3"/>
          <p:cNvSpPr/>
          <p:nvPr/>
        </p:nvSpPr>
        <p:spPr>
          <a:xfrm>
            <a:off x="1116000" y="1197000"/>
            <a:ext cx="80280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Результат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обрана картотека методической литературы по теме само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оставлен список Интернет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разработан план работ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оформлена картотека подвижных игр для детей старшего дошкольного возра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I этап-основно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428760" y="314316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1116000" y="126828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года была  организована  работы со всеми участниками образовательного процесса: детьми, родителями, педагогами Д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https://avatars.mds.yandex.net/i?id=ccb49bb6918630d6f41a651354c71e29_l-4599018-images-thumbs&amp;n=13"/>
          <p:cNvPicPr/>
          <p:nvPr/>
        </p:nvPicPr>
        <p:blipFill>
          <a:blip r:embed="rId1"/>
          <a:stretch/>
        </p:blipFill>
        <p:spPr>
          <a:xfrm>
            <a:off x="1116000" y="2997360"/>
            <a:ext cx="762336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6T11:55:29Z</dcterms:created>
  <dc:creator>Ирина</dc:creator>
  <dc:description/>
  <dc:language>en-US</dc:language>
  <cp:lastModifiedBy>Ирина</cp:lastModifiedBy>
  <dcterms:modified xsi:type="dcterms:W3CDTF">2022-12-12T13:42:34Z</dcterms:modified>
  <cp:revision>93</cp:revision>
  <dc:subject/>
  <dc:title>Отчёт  старшего воспитателя МКДОУ «Детский сад «Солнышко»  г. Щигры Курской области Труфановой Ирины Петровны  по теме самообразования:  «Современные технологии организации педагогического процесса в ДОУ в условиях реализации ФГОС ДО»</dc:title>
</cp:coreProperties>
</file>