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830-4B71-4BE6-AB08-DDA833A1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85A-CF1D-4BDD-AB7B-D6975E8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912-20BA-4256-A015-BB185BD3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705-BED2-4636-873A-8E01EAFA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325-FB49-4341-926E-53483E3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734-29F0-4B55-87D4-B81CE07A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04F-2D72-41D6-B549-5C7748B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115-4C94-40CA-8B6E-E1C2590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AEC-B996-4353-B757-13CDB71F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EC6-9CBC-497E-9ACB-A82BA0F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DD7-B5D8-4C50-B4E7-6C16D10F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78C-8531-4863-92A3-8753950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A43-56F2-4BF2-AD8D-7A322E875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Monotype Corsiva"/>
              </a:rPr>
              <a:t>Родители-первые учителя дет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843280" y="333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1-Track.mp3" descr=""/>
          <p:cNvPicPr/>
          <p:nvPr/>
        </p:nvPicPr>
        <p:blipFill>
          <a:blip r:embed="rId1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99920" y="4285800"/>
            <a:ext cx="42721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завкаева Л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1 г. Ди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2"/>
          <p:cNvSpPr/>
          <p:nvPr/>
        </p:nvSpPr>
        <p:spPr>
          <a:xfrm rot="20357400">
            <a:off x="721800" y="858960"/>
            <a:ext cx="5099040" cy="5141880"/>
          </a:xfrm>
          <a:prstGeom prst="wedgeRoundRectCallout">
            <a:avLst>
              <a:gd name="adj1" fmla="val 70833"/>
              <a:gd name="adj2" fmla="val 3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защищайте меня от собственных ошибок. Я тоже учусь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давайте обещаний, которых вы не можете выполнить- это поколеблет мою веру в вас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оправляйте меня в присутствии посторонних людей. Скажите мне спокойно с глазу на глаз. Я пойму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7267680" y="307188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6215040" y="5072040"/>
            <a:ext cx="14572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3"/>
          <a:stretch/>
        </p:blipFill>
        <p:spPr>
          <a:xfrm>
            <a:off x="5715000" y="714240"/>
            <a:ext cx="16574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в ребёнке инициати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йте интерес к его де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выслушива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хвалите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йтесь вашему ребё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терпел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и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050920" y="83664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Дел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Cj04077840000[1]"/>
          <p:cNvPicPr/>
          <p:nvPr/>
        </p:nvPicPr>
        <p:blipFill>
          <a:blip r:embed="rId2"/>
          <a:stretch/>
        </p:blipFill>
        <p:spPr>
          <a:xfrm>
            <a:off x="5357880" y="3571920"/>
            <a:ext cx="3635280" cy="3004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"/>
          <p:cNvSpPr txBox="1"/>
          <p:nvPr/>
        </p:nvSpPr>
        <p:spPr>
          <a:xfrm>
            <a:off x="395280" y="0"/>
            <a:ext cx="7993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нуждайте ребёнка делать то, к чему он не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критикуйте его в присутстви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равнивайте его с друг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еребивайт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йтесь с ним так, как подсказывает родительское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971640" y="0"/>
            <a:ext cx="6985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340000" y="1052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Не дел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3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4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66ff"/>
                </a:solidFill>
                <a:latin typeface="Arial"/>
              </a:rPr>
              <a:t>Заповеди для родител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жди, что твой ребёнок будет таким, как ты, или таким, как ты хочешь. Помоги ему стать не тобой, 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требуй от ребёнка платы за всё, что ты для него сде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вымещай на ребёнке свои обиды, чтобы в старости не есть горький хле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относись к его проблемам свысока. Жизнь дана каждому по силам, и будь уверен - ему она тяжела не меньше, а больше, поскольку у него нет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е уни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Не мучь себя, если не можешь сделать что–то для своего ребёнка. Мучь, если можешь, но не дел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Ребёнок-это не тиран, это драгоценная чаша, которую Жизнь дала тебе на хранение и развитие в нём творческого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Умей любить чужого ребёнка. Никогда не делай чужому то, что не хотел бы, чтобы делали т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Люби своего ребёнка любым–взрослым, неталантливым, неудач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бщаясь с ним, радуйся, потому что ребёнок-это праздник, который пока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Добр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4106850000[1]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 rot="19959600">
            <a:off x="395280" y="177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 rot="826800">
            <a:off x="6804000" y="1628280"/>
            <a:ext cx="19447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1"/>
          <p:cNvSpPr txBox="1"/>
          <p:nvPr/>
        </p:nvSpPr>
        <p:spPr>
          <a:xfrm rot="873600">
            <a:off x="250560" y="5589360"/>
            <a:ext cx="3419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горжусь тобо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12"/>
          <p:cNvSpPr txBox="1"/>
          <p:nvPr/>
        </p:nvSpPr>
        <p:spPr>
          <a:xfrm rot="688800">
            <a:off x="5435280" y="2781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роший дру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13"/>
          <p:cNvSpPr txBox="1"/>
          <p:nvPr/>
        </p:nvSpPr>
        <p:spPr>
          <a:xfrm rot="20896200">
            <a:off x="611280" y="2565000"/>
            <a:ext cx="2952720" cy="9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я верю в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87" name="WordArt 14"/>
          <p:cNvSpPr txBox="1"/>
          <p:nvPr/>
        </p:nvSpPr>
        <p:spPr>
          <a:xfrm>
            <a:off x="3059280" y="981000"/>
            <a:ext cx="264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 люблю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2195640" y="4869000"/>
            <a:ext cx="28288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ы побед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16"/>
          <p:cNvSpPr txBox="1"/>
          <p:nvPr/>
        </p:nvSpPr>
        <p:spPr>
          <a:xfrm>
            <a:off x="2556000" y="4076640"/>
            <a:ext cx="2638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ы уника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 rot="20393400">
            <a:off x="0" y="4436640"/>
            <a:ext cx="2762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уважаю теб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 rot="21105600">
            <a:off x="250920" y="2997360"/>
            <a:ext cx="41716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тебя всё получит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00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3280" y="1212840"/>
            <a:ext cx="450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должен чувствовать себя любимым, успешным. Успех, как известно, рождает успех.        Говорите ему чаще о том, как Вы его любите, и он тоже  ответит Вам люб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MCj04046990000[1]"/>
          <p:cNvPicPr/>
          <p:nvPr/>
        </p:nvPicPr>
        <p:blipFill>
          <a:blip r:embed="rId1"/>
          <a:stretch/>
        </p:blipFill>
        <p:spPr>
          <a:xfrm>
            <a:off x="1187280" y="4581360"/>
            <a:ext cx="2448000" cy="1913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get_img.jpeg"/>
          <p:cNvPicPr/>
          <p:nvPr/>
        </p:nvPicPr>
        <p:blipFill>
          <a:blip r:embed="rId2"/>
          <a:stretch/>
        </p:blipFill>
        <p:spPr>
          <a:xfrm>
            <a:off x="428760" y="1143000"/>
            <a:ext cx="42145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66ff99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Дети должны жить в мире красоты, игры ,сказки, музыки, рисунка, фантазии, творчества. Этот мир должен окружать ребёнка и тогда, когда мы хотим научить его читать и писать. От того, как ребёнок будет чувствовать себя, поднимаясь на первую ступеньку лестницы познания, что он будет переживать, зависит весь его дальнейший путь к знаниям.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292720" y="609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(В.А.Сухомл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Elephant"/>
              </a:rPr>
              <a:t>Как развивать речь ребён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чё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райтесь изолировать ребёнка от просмотра телешоу, фильмов, песен, разговоров с детьми, которые научат их неприемлемым нормам языка 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ак родители могут помочь своим детям 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ниматься регулярно в одно и тож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йте интересы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йте ребёнку новый материал для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ребёнка в его стремлении самостоятельно исправлять сво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яйте применение знаний 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24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924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664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134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Роль родителей в развитии у детей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развивать мышление, предлагайте детям те предметы, которые дают возможность делать что-либо новое, эксперимент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йте им строительный материал, головоломки, мозаики, природ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ывайте про наблюдения за животными и насекомыми; изготовление игрушек из лоскутков, ракушек, листьев, поездки в муз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01840" y="1557000"/>
            <a:ext cx="5041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й способ заинтересовать ребёнка чтением - ежедневно читать ему и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те и обсуждайте с ним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йте знакомые истории снова и с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йте библиотеку, покупайте новые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ети читают"/>
          <p:cNvPicPr/>
          <p:nvPr/>
        </p:nvPicPr>
        <p:blipFill>
          <a:blip r:embed="rId2"/>
          <a:stretch/>
        </p:blipFill>
        <p:spPr>
          <a:xfrm>
            <a:off x="214200" y="2571840"/>
            <a:ext cx="3819600" cy="2643120"/>
          </a:xfrm>
          <a:prstGeom prst="rect">
            <a:avLst/>
          </a:prstGeom>
          <a:ln w="0">
            <a:noFill/>
          </a:ln>
        </p:spPr>
      </p:pic>
      <p:sp>
        <p:nvSpPr>
          <p:cNvPr id="55" name="WordArt 7"/>
          <p:cNvSpPr txBox="1"/>
          <p:nvPr/>
        </p:nvSpPr>
        <p:spPr>
          <a:xfrm>
            <a:off x="333360" y="333360"/>
            <a:ext cx="847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родителей в обучении детей чтени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0dc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4470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время, чтобы заниматься с ребё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ьте для этого карандаши, ручки,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йтесь не замечать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хвалите за всё, что он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те с ним письма, открытки друзь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ывайте названия вывесок,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MCj03433630000[1]"/>
          <p:cNvPicPr/>
          <p:nvPr/>
        </p:nvPicPr>
        <p:blipFill>
          <a:blip r:embed="rId1"/>
          <a:stretch/>
        </p:blipFill>
        <p:spPr>
          <a:xfrm>
            <a:off x="4714920" y="2643120"/>
            <a:ext cx="4006800" cy="2714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52440" y="333360"/>
            <a:ext cx="8439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родителей в обучении детей письм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ff99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я любознательность детей вы тем самым помогаете  приобрести им навык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е шесть лет своей жизни дети учатся больше, чем за всю осталь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 знать, как и во что играть с детьми. Игра и домашние занятия помогают в учё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чему Вы их научили до школы, является солидным фундаментом для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908000" y="476280"/>
            <a:ext cx="5276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заниматься с деть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амятка родителям от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20902200">
            <a:off x="396360" y="1289160"/>
            <a:ext cx="5124600" cy="5160960"/>
          </a:xfrm>
          <a:prstGeom prst="wedgeRoundRectCallout">
            <a:avLst>
              <a:gd name="adj1" fmla="val 83208"/>
              <a:gd name="adj2" fmla="val 15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беспокойтесь, что мы проводим вместе слишком мало времени. Для меня важнее то, как мы его пров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ытайтесь от меня отделаться когда я задаю откровенные вопросы. Если вы не будете на них отвечать, я вообще перестану их вам задавать и буду искать информацию где-то на сторон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6143760" y="1785960"/>
            <a:ext cx="126684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715080" y="47862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35:20Z</dcterms:created>
  <dc:creator>qwe23</dc:creator>
  <dc:description/>
  <dc:language>en-US</dc:language>
  <cp:lastModifiedBy>Люба</cp:lastModifiedBy>
  <dcterms:modified xsi:type="dcterms:W3CDTF">2022-12-12T04:24:36Z</dcterms:modified>
  <cp:revision>19</cp:revision>
  <dc:subject/>
  <dc:title>Родители-первые учителя детей</dc:title>
</cp:coreProperties>
</file>