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778-D531-4ED7-B4B5-77983141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C29-88DD-4425-9F4E-82543E56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3BE-4E5B-4206-839E-B19963B6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A29-FC63-4403-88F3-249A77A5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4003-91FC-4DD3-9154-D193996C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3D3F-389D-4306-B899-3696E729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0EB9-422E-4C5D-A387-38729A2C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F3F5-51BE-42B9-B1FD-0B720403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D533-1FB9-4E85-A4AC-F5EED47B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3BDC-DC52-449D-A7B1-E907FBCE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9A39-1115-489F-81B9-7B25E950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4A0-79B8-4C51-941F-798B6E97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6AEF-0A66-4BB5-8D3E-6D650B1A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12CE-1063-4D0A-B628-2C2694E3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2AD8-BD97-44F3-9538-17DF222C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61FC-D6AC-40F9-9485-C50188DD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8CDB-61F9-4A89-93D9-2DDFA088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73CA9-BA6D-47C7-8336-63B1FCF5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00BB-242B-454B-B61C-82C24EBE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5186-D195-4592-9BB5-0D06A4C9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1811-2683-4DEF-9789-40F284E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4277-655F-4B5C-8FD4-BF11E7C9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8B8-5132-4219-8259-1B72BB22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B627-F980-4672-BFFF-BCB31B9B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B7ED-0A1B-41CB-83E9-E0AD5229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8434-5411-4BD9-8109-F35844EA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97BA-74F3-466D-B459-9BBC9969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BF9A-5484-4830-A3EE-C0DB7EC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D2FD-A40C-45BC-97E4-AF6E5E2F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CF64-A381-4A60-BF8A-C9D36BC9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DAA4-C724-4FCE-A5D9-FAB52057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5718-A205-4EAB-AD7A-002F276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63802-E312-4E1A-B1C4-686748A8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ABF-C780-4D0D-8AD0-E4AC93C3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210F-2525-4CF3-91A2-C3650E9B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141E-6042-4CA7-AD97-A6DFE01E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3FDB4-A117-48CE-9732-2E8A49D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6E7E0-1277-4445-967A-DA7F2EBE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BB0C6-0D56-45BC-8A41-633513FC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9C9DB-E706-487A-8D58-DB1D039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D3BA-D7BC-4EAD-9544-13A155F9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3A0BC-7CB4-42A5-8D96-C8259C42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F9C2-D04D-452A-8868-1AF14319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A6A2-D066-4EB1-B464-5FB7C67D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305-4A72-49C4-B7D3-BB593186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2293-7D48-49E5-9A5C-C053D82A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51F83-5C0E-4B5E-BF10-717F5F5B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547EF-EC61-4549-B9FD-D917B9CD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2D897-12D1-4AC6-8758-CEF94BF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5009-6DC2-4524-85CC-60652139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90328-A72F-4BAD-8816-05EE71A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0E68B-CD9A-4C38-8775-868FA1E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4F40-4949-457F-8FF0-558BC47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65F35-82F9-43D7-897C-0BAE436B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B4FD-5B9D-4C71-ACAA-6C88F14F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3EE-C83F-4B3F-AFB3-40821F92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A9FE-68E5-4B0D-BC0F-1AE52AB3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4DCF2-D355-4282-BED7-576C9044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02055-A90F-44D1-B5B6-28EE89CC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E83AF-9952-487F-B5B3-67CD6E70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056D5-C609-461E-9BB4-F087AA72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542D-13AC-4584-86DB-C1B75B8A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916D0-FB4D-4610-9E7D-87801723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1E07-9A38-476B-81B7-53DE2043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01E1A-0AEF-4EAA-BA06-E81765D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FCD73-C2A1-4C58-807F-F8F6DCC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BF5-02E5-485E-8711-9F912D7E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FB1C2-D307-4A60-9DFF-E8F26987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57DEB-2931-4EEB-A3FA-4CB6340B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9DB94-3B2F-465E-9D1D-6183DDB5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C016B-B01B-457F-9C1B-261859A1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E20CB-2669-431D-BC6F-BF023931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4EE1-3B79-4396-91F5-C3B841A1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660F1-9D31-4DA9-A1A7-1B121870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1F1DE-5318-4A2D-B210-53C18123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C1EF0-8707-41BC-8FC4-F6FE1BC4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3B84D-13A9-4872-8BD8-2D5001BC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5D3-A8D2-441F-80D8-5938AAB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E76D1-7239-45F4-B724-1D5FDA2E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200FA-EAC3-4B54-BB9D-5D9F3B52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68AC8-D032-493D-B6FE-738A8B94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BA41-9A56-418A-8B76-9D13FC47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2BC00-5F48-4A67-BB95-BC511A4B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F3B-DC2F-4102-8AB8-FAEDE823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D14-F3F3-449E-958F-5246270D84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E613-C9C7-40CD-985B-6098EE5F88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18D-4A22-4440-9CCB-5E59A07652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0E7F-D3AE-4A0F-98B6-3D9C6C6CFF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431E-D561-4939-94BF-F0DF34E912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ACF6-7F3B-4284-AE27-45415C78BF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D769-269C-4378-A226-F24C21CF3F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7489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Центр театрализованных игр</a:t>
            </a:r>
            <a:br>
              <a:rPr sz="32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По дорогам сказок»  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во 2 младшей групп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7415280" cy="8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оспитатель: Филатова Е.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D:\Среда Волкова гамова\DSCN1882.JPG"/>
          <p:cNvPicPr/>
          <p:nvPr/>
        </p:nvPicPr>
        <p:blipFill>
          <a:blip r:embed="rId1"/>
          <a:stretch/>
        </p:blipFill>
        <p:spPr>
          <a:xfrm>
            <a:off x="2050920" y="1125360"/>
            <a:ext cx="6289920" cy="45849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D:\Среда Волкова гамова\DSCN1892.JPG"/>
          <p:cNvPicPr/>
          <p:nvPr/>
        </p:nvPicPr>
        <p:blipFill>
          <a:blip r:embed="rId1"/>
          <a:stretch/>
        </p:blipFill>
        <p:spPr>
          <a:xfrm>
            <a:off x="1908000" y="981000"/>
            <a:ext cx="6382080" cy="47865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D:\Среда Волкова гамова\DSCN1867.JPG"/>
          <p:cNvPicPr/>
          <p:nvPr/>
        </p:nvPicPr>
        <p:blipFill>
          <a:blip r:embed="rId1"/>
          <a:stretch/>
        </p:blipFill>
        <p:spPr>
          <a:xfrm>
            <a:off x="1908000" y="981000"/>
            <a:ext cx="6232680" cy="47815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D:\АТТЕСТАЦИЯ\аттестация воспитателей\Филатова\ВСЁ ПО АТТЕСТАЦИИ 2022\Отработанный материал\ПРОЕКТ\IMG_8035.JPG"/>
          <p:cNvPicPr/>
          <p:nvPr/>
        </p:nvPicPr>
        <p:blipFill>
          <a:blip r:embed="rId1"/>
          <a:srcRect l="1822" t="25327" r="3762" b="2342"/>
          <a:stretch/>
        </p:blipFill>
        <p:spPr>
          <a:xfrm>
            <a:off x="1403280" y="1268280"/>
            <a:ext cx="7236000" cy="415764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D:\АТТЕСТАЦИЯ\аттестация воспитателей\Филатова\ВСЁ ПО АТТЕСТАЦИИ 2022\Отработанный материал\ПРОЕКТ\IMG_8038.JPG"/>
          <p:cNvPicPr/>
          <p:nvPr/>
        </p:nvPicPr>
        <p:blipFill>
          <a:blip r:embed="rId1"/>
          <a:srcRect l="10673" t="0" r="12472" b="6064"/>
          <a:stretch/>
        </p:blipFill>
        <p:spPr>
          <a:xfrm>
            <a:off x="2411280" y="1268280"/>
            <a:ext cx="5185080" cy="475308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D:\Среда Волкова гамова\DSCN1890.JPG"/>
          <p:cNvPicPr/>
          <p:nvPr/>
        </p:nvPicPr>
        <p:blipFill>
          <a:blip r:embed="rId1"/>
          <a:stretch/>
        </p:blipFill>
        <p:spPr>
          <a:xfrm>
            <a:off x="1908000" y="1052640"/>
            <a:ext cx="6215400" cy="46609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Среда Волкова гамова\DSCN1904.JPG"/>
          <p:cNvPicPr/>
          <p:nvPr/>
        </p:nvPicPr>
        <p:blipFill>
          <a:blip r:embed="rId1"/>
          <a:stretch/>
        </p:blipFill>
        <p:spPr>
          <a:xfrm>
            <a:off x="1979640" y="1197000"/>
            <a:ext cx="6319800" cy="45705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D:\Среда Волкова гамова\DSCN1884.JPG"/>
          <p:cNvPicPr/>
          <p:nvPr/>
        </p:nvPicPr>
        <p:blipFill>
          <a:blip r:embed="rId1"/>
          <a:stretch/>
        </p:blipFill>
        <p:spPr>
          <a:xfrm>
            <a:off x="2268360" y="1268280"/>
            <a:ext cx="6120000" cy="46087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Среда Волкова гамова\DSCN1863.JPG"/>
          <p:cNvPicPr/>
          <p:nvPr/>
        </p:nvPicPr>
        <p:blipFill>
          <a:blip r:embed="rId1"/>
          <a:stretch/>
        </p:blipFill>
        <p:spPr>
          <a:xfrm>
            <a:off x="1835280" y="1052640"/>
            <a:ext cx="6553080" cy="469404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D:\Среда Волкова гамова\DSCN1874.JPG"/>
          <p:cNvPicPr/>
          <p:nvPr/>
        </p:nvPicPr>
        <p:blipFill>
          <a:blip r:embed="rId1"/>
          <a:stretch/>
        </p:blipFill>
        <p:spPr>
          <a:xfrm>
            <a:off x="1619280" y="1413000"/>
            <a:ext cx="6573960" cy="44449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3"/>
          <p:cNvSpPr/>
          <p:nvPr/>
        </p:nvSpPr>
        <p:spPr>
          <a:xfrm>
            <a:off x="1500120" y="57168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сновные задачи организации театраль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785880" y="1700280"/>
            <a:ext cx="77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буждать интерес к театрально-игровой деятельности, поощрять участие детей в этом вид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учать ориентироваться в групповой комнате и в за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вивать у детей художественно – речевые исполнительские способности - выразительности, эмоциональности исполнения, умения применять разнообразные интонации, выражающие характер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D:\АТТЕСТАЦИЯ\аттестация воспитателей\Филатова\ВСЁ ПО АТТЕСТАЦИИ 2022\Отработанный материал\ПРОЕКТ\IMG_8032.JPG"/>
          <p:cNvPicPr/>
          <p:nvPr/>
        </p:nvPicPr>
        <p:blipFill>
          <a:blip r:embed="rId1"/>
          <a:stretch/>
        </p:blipFill>
        <p:spPr>
          <a:xfrm>
            <a:off x="1908000" y="1125360"/>
            <a:ext cx="6048720" cy="453564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D:\Среда Волкова гамова\DSCN1875.JPG"/>
          <p:cNvPicPr/>
          <p:nvPr/>
        </p:nvPicPr>
        <p:blipFill>
          <a:blip r:embed="rId1"/>
          <a:stretch/>
        </p:blipFill>
        <p:spPr>
          <a:xfrm>
            <a:off x="1619280" y="1268280"/>
            <a:ext cx="7007040" cy="46069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D:\Среда Волкова гамова\DSCN1909.JPG"/>
          <p:cNvPicPr/>
          <p:nvPr/>
        </p:nvPicPr>
        <p:blipFill>
          <a:blip r:embed="rId1"/>
          <a:stretch/>
        </p:blipFill>
        <p:spPr>
          <a:xfrm>
            <a:off x="1733400" y="836640"/>
            <a:ext cx="6654960" cy="511344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2340000" y="2781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я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3"/>
          <p:cNvSpPr/>
          <p:nvPr/>
        </p:nvSpPr>
        <p:spPr>
          <a:xfrm>
            <a:off x="1116000" y="549360"/>
            <a:ext cx="763272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снащение цен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Фланелег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Большая ширма, маленькая ширма для настоль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Различные виды театра: театр картинок («Три медведя», «Колобок», «Еж и медведь», «Заяц и лиса»), теневой театр («Лиса и заяц»), театр игрушки и «пальчиковый» театр для обыгрывания произведений малых форм фольклора, театр на дисках, театр на деревянных лопаточка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Костюмы, маски, театрально-игровые атрибуты для разыгрывания сказок «Репка», «Курочка Ряба», «Колобок», «Терем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Атрибуты для ряженья — элементы костюмов (шляпы, шарфы, юбки, сумки, зонты, бусы и проче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Маски животных диких и домашних (взрослых и детенышей), маски сказочных персона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Для создания музыкального фона в процессе театрально-игровой деятельности: аудиозаписи музыкальных произведений, записи звукошумовых эффектов, простейшие музыкальные игрушки — погремушки, бубен, бараб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Ирина\Desktop\ПРС в группе\20190522_122900.jpg"/>
          <p:cNvPicPr/>
          <p:nvPr/>
        </p:nvPicPr>
        <p:blipFill>
          <a:blip r:embed="rId1"/>
          <a:stretch/>
        </p:blipFill>
        <p:spPr>
          <a:xfrm>
            <a:off x="2700360" y="476280"/>
            <a:ext cx="4608360" cy="594216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D:\Среда Волкова гамова\DSCN1866.JPG"/>
          <p:cNvPicPr/>
          <p:nvPr/>
        </p:nvPicPr>
        <p:blipFill>
          <a:blip r:embed="rId1"/>
          <a:srcRect l="18647" t="17775" r="12541" b="0"/>
          <a:stretch/>
        </p:blipFill>
        <p:spPr>
          <a:xfrm>
            <a:off x="2987640" y="765000"/>
            <a:ext cx="4105440" cy="55389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D:\Среда Волкова гамова\DSCN1907.JPG"/>
          <p:cNvPicPr/>
          <p:nvPr/>
        </p:nvPicPr>
        <p:blipFill>
          <a:blip r:embed="rId1"/>
          <a:stretch/>
        </p:blipFill>
        <p:spPr>
          <a:xfrm>
            <a:off x="1908000" y="1125360"/>
            <a:ext cx="6336000" cy="483408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2" descr="D:\сказка\IMG_7449.JPG"/>
          <p:cNvPicPr/>
          <p:nvPr/>
        </p:nvPicPr>
        <p:blipFill>
          <a:blip r:embed="rId1"/>
          <a:stretch/>
        </p:blipFill>
        <p:spPr>
          <a:xfrm>
            <a:off x="2771640" y="1125360"/>
            <a:ext cx="5832720" cy="403236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Users\Ирина\Downloads\IMG_20220201_130523.jpg"/>
          <p:cNvPicPr/>
          <p:nvPr/>
        </p:nvPicPr>
        <p:blipFill>
          <a:blip r:embed="rId1"/>
          <a:stretch/>
        </p:blipFill>
        <p:spPr>
          <a:xfrm>
            <a:off x="2556000" y="836640"/>
            <a:ext cx="2949480" cy="393372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  <p:pic>
        <p:nvPicPr>
          <p:cNvPr id="328" name="Picture 3" descr="C:\Users\Ирина\Downloads\IMG_20220201_130436.jpg"/>
          <p:cNvPicPr/>
          <p:nvPr/>
        </p:nvPicPr>
        <p:blipFill>
          <a:blip r:embed="rId2"/>
          <a:stretch/>
        </p:blipFill>
        <p:spPr>
          <a:xfrm>
            <a:off x="5796000" y="836640"/>
            <a:ext cx="2952720" cy="393696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D:\Среда Волкова гамова\DSCN1868.JPG"/>
          <p:cNvPicPr/>
          <p:nvPr/>
        </p:nvPicPr>
        <p:blipFill>
          <a:blip r:embed="rId1"/>
          <a:stretch/>
        </p:blipFill>
        <p:spPr>
          <a:xfrm>
            <a:off x="1908000" y="1125360"/>
            <a:ext cx="6193080" cy="45421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14:13:18Z</dcterms:created>
  <dc:creator>User</dc:creator>
  <dc:description/>
  <dc:language>en-US</dc:language>
  <cp:lastModifiedBy>Ирина</cp:lastModifiedBy>
  <dcterms:modified xsi:type="dcterms:W3CDTF">2022-12-12T06:04:29Z</dcterms:modified>
  <cp:revision>19</cp:revision>
  <dc:subject/>
  <dc:title>Слайд 1</dc:title>
</cp:coreProperties>
</file>