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0DF-CC92-4B0A-A3AD-44172360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654-0AB8-41A5-95C4-4C2EFCFA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395-DDD0-4C49-A5CD-D5A65E7A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9ED-CAFB-4A5B-AFDF-BA982DCC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884-ABE2-4FE7-81CC-2CB8E373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BFF-56F1-4E5A-A057-F766E7FC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335-23D5-4F13-B682-AF502354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166-7310-439A-8EFF-912776B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2340-4BC2-4C26-9112-F7DD361D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E415-CA85-433A-B6EB-C0C53E5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65EA-2ACD-4886-96CF-DCFF12B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53E-7D39-4550-8553-B0FDCC9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9976-46D3-4E34-AC44-4AB1024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E07-1A06-4A41-80FF-48D0EC7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003E-B8AA-4C7D-8EE3-C63D1C63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6036-0921-4A21-BEFE-7DC85F2C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E84-9EEC-4E11-9D63-10B119D1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D2B7-DFC7-4885-8FFF-7C71D68B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E5F6-D688-47A2-96E2-4235084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B7E3-20BF-44C8-95A6-EAB0F10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BA30-D64F-4E6A-B341-75EA1D5E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1225-9441-47D0-8C62-6926D9B4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E33-2CED-4A2F-AF77-A218743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1634-763F-44A0-8A46-AB825104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90AF-FA64-487B-8CAB-6C4F506D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4143-E839-48A7-95DF-88AF233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E3D1-3ADC-4B57-BD26-C7CEFBB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6CAF-4B83-4380-AAD7-81FC7B9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A652-77E1-4E84-B80D-1A846BDB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A52E-687B-4D11-9150-DA821F45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CDF2-764E-479E-AD7E-C4428B69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FFD6-E319-4AD7-B4A6-3EB1050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0520-624F-47AB-ACB9-EA7E80A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ED3-8A55-4A26-A172-9292D4B2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ECDB-B76E-405A-BB78-93183E3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2280-09B6-44D5-9891-E5E434B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AEF0-7658-4D64-B630-979E8144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D557-135A-4AFF-A2AD-5195313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9D6A-7D53-4947-9C51-F3522B7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9FE0-FD7A-4ACB-A52B-669CD55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D1A5-A667-4320-827B-DCB0729C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BEA0-48EC-47C0-856D-6004EBBC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C77E-6D85-4F60-8073-5D5D8027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C8B5-D594-48FC-9CEC-5709F63B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297-6D8A-45C8-B474-8594627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22AA-CDA6-46FE-BAD3-1CBA4B70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2DE0-B195-4AA7-B55E-639CC172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7BD5-323E-41EF-A4AA-A30136EB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1E8E-54C4-4FCE-90BE-E5E63A2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3DB9-4502-4CC8-A038-4B3584C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A7FA-1CDF-4F46-B623-5B6BC54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BBA4-1A7B-4F99-8BCF-C3C2AA2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1D4F6-AFCF-47BA-8432-F84351B6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7413-368F-4F28-A0DA-5B8D9860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5D8E-B877-4495-A4EA-3C504B22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42A-B5B1-43D5-8008-8F9AB256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512F-5F37-4FCB-8DF5-2C4FEC3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35A4-C21F-47CF-BCE5-24F64C4A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FB50-722C-4354-9409-A84DD2F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E6D2-3F98-42A5-9D88-89F1BE2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54DB-3E52-4E7E-98B4-D4CECC9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46FC-5FA8-4A1F-BE8A-AFFF7F78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84DE-1C1C-4708-B634-C9F5068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A3B41-48C4-4FBB-B70F-4285CB3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E4B9-3D4C-4FD3-AEE0-5A4F2FD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AEC5-C6F0-4AB9-B378-DFAB5B6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6B8-65C0-4C2F-A9DF-1C25DC9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B8C3-3D14-445B-A08E-3215C1AC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2496-755C-4F7A-A59A-7DEA4DF3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2023-CF45-4A62-9FAB-A93FDEE7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4AC3-0A7F-46D7-8559-67155034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BB85-309D-42A1-B601-1343630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26313-ABD6-48AC-9410-93082309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E4C62-7998-4BA0-AE54-D383781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68C75-BF53-469D-8352-A25DCA28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96FB-D0AB-4064-8F2D-47911CA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D45D-645F-40DC-8F59-60DACE2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123-60BB-49B6-8279-95F6143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729D-050E-4063-965B-C863D16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8C79-B6A6-4F38-84ED-D1F92A5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FFB6-382D-4B56-AF7E-AFAFEBD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E2FF3-D34D-4AC0-BE16-F28D135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4061-DD70-4336-BAF5-0DC9794F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4DF-63F1-4364-AB52-4BFDD44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28B-4A67-4B1A-AD6F-FF0CA1C205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A2E5-F1FE-402C-AF4C-D9D15F84EB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B2E-FEAA-4296-BBB8-543F70DBF8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9906-00B7-4086-8E82-F633F7AA6A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8972-6ED4-43AE-8AA9-B281AEE530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A1C-4521-41BB-821B-13C2693BDF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A2E-D2BD-453E-A178-B03F288C4A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89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нтр театрализованных игр</a:t>
            </a:r>
            <a:br>
              <a:rPr sz="32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По дорогам сказок»  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во 2 младшей групп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7415280" cy="8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оспитатель: Филатова Е.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Среда Волкова гамова\DSCN1882.JPG"/>
          <p:cNvPicPr/>
          <p:nvPr/>
        </p:nvPicPr>
        <p:blipFill>
          <a:blip r:embed="rId1"/>
          <a:stretch/>
        </p:blipFill>
        <p:spPr>
          <a:xfrm>
            <a:off x="2050920" y="1125360"/>
            <a:ext cx="6289920" cy="4584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Среда Волкова гамова\DSCN1892.JPG"/>
          <p:cNvPicPr/>
          <p:nvPr/>
        </p:nvPicPr>
        <p:blipFill>
          <a:blip r:embed="rId1"/>
          <a:stretch/>
        </p:blipFill>
        <p:spPr>
          <a:xfrm>
            <a:off x="1908000" y="981000"/>
            <a:ext cx="6382080" cy="4786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D:\Среда Волкова гамова\DSCN1867.JPG"/>
          <p:cNvPicPr/>
          <p:nvPr/>
        </p:nvPicPr>
        <p:blipFill>
          <a:blip r:embed="rId1"/>
          <a:stretch/>
        </p:blipFill>
        <p:spPr>
          <a:xfrm>
            <a:off x="1908000" y="981000"/>
            <a:ext cx="6232680" cy="47815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D:\АТТЕСТАЦИЯ\аттестация воспитателей\Филатова\ВСЁ ПО АТТЕСТАЦИИ 2022\Отработанный материал\ПРОЕКТ\IMG_8035.JPG"/>
          <p:cNvPicPr/>
          <p:nvPr/>
        </p:nvPicPr>
        <p:blipFill>
          <a:blip r:embed="rId1"/>
          <a:srcRect l="1822" t="25327" r="3762" b="2342"/>
          <a:stretch/>
        </p:blipFill>
        <p:spPr>
          <a:xfrm>
            <a:off x="1403280" y="1268280"/>
            <a:ext cx="7236000" cy="4157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D:\АТТЕСТАЦИЯ\аттестация воспитателей\Филатова\ВСЁ ПО АТТЕСТАЦИИ 2022\Отработанный материал\ПРОЕКТ\IMG_8038.JPG"/>
          <p:cNvPicPr/>
          <p:nvPr/>
        </p:nvPicPr>
        <p:blipFill>
          <a:blip r:embed="rId1"/>
          <a:srcRect l="10673" t="0" r="12472" b="6064"/>
          <a:stretch/>
        </p:blipFill>
        <p:spPr>
          <a:xfrm>
            <a:off x="2411280" y="1268280"/>
            <a:ext cx="5185080" cy="475308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Среда Волкова гамова\DSCN1890.JPG"/>
          <p:cNvPicPr/>
          <p:nvPr/>
        </p:nvPicPr>
        <p:blipFill>
          <a:blip r:embed="rId1"/>
          <a:stretch/>
        </p:blipFill>
        <p:spPr>
          <a:xfrm>
            <a:off x="1908000" y="1052640"/>
            <a:ext cx="6215400" cy="46609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Среда Волкова гамова\DSCN1904.JPG"/>
          <p:cNvPicPr/>
          <p:nvPr/>
        </p:nvPicPr>
        <p:blipFill>
          <a:blip r:embed="rId1"/>
          <a:stretch/>
        </p:blipFill>
        <p:spPr>
          <a:xfrm>
            <a:off x="1979640" y="1197000"/>
            <a:ext cx="6319800" cy="45705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Среда Волкова гамова\DSCN1884.JPG"/>
          <p:cNvPicPr/>
          <p:nvPr/>
        </p:nvPicPr>
        <p:blipFill>
          <a:blip r:embed="rId1"/>
          <a:stretch/>
        </p:blipFill>
        <p:spPr>
          <a:xfrm>
            <a:off x="2268360" y="1268280"/>
            <a:ext cx="6120000" cy="46087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Среда Волкова гамова\DSCN1863.JPG"/>
          <p:cNvPicPr/>
          <p:nvPr/>
        </p:nvPicPr>
        <p:blipFill>
          <a:blip r:embed="rId1"/>
          <a:stretch/>
        </p:blipFill>
        <p:spPr>
          <a:xfrm>
            <a:off x="1835280" y="1052640"/>
            <a:ext cx="6553080" cy="46940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D:\Среда Волкова гамова\DSCN1874.JPG"/>
          <p:cNvPicPr/>
          <p:nvPr/>
        </p:nvPicPr>
        <p:blipFill>
          <a:blip r:embed="rId1"/>
          <a:stretch/>
        </p:blipFill>
        <p:spPr>
          <a:xfrm>
            <a:off x="1619280" y="1413000"/>
            <a:ext cx="6573960" cy="4444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3"/>
          <p:cNvSpPr/>
          <p:nvPr/>
        </p:nvSpPr>
        <p:spPr>
          <a:xfrm>
            <a:off x="1500120" y="5716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овные задачи организации театра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785880" y="170028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ть интерес к театрально-игровой деятельности, поощрять участие детей в эт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учать ориентироваться в групповой комнате и в з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вать у детей художественно – речевые исполнительские способности - выразительности, эмоциональности исполнения, умения применять разнообразные интонации, выражающие характер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D:\АТТЕСТАЦИЯ\аттестация воспитателей\Филатова\ВСЁ ПО АТТЕСТАЦИИ 2022\Отработанный материал\ПРОЕКТ\IMG_8032.JPG"/>
          <p:cNvPicPr/>
          <p:nvPr/>
        </p:nvPicPr>
        <p:blipFill>
          <a:blip r:embed="rId1"/>
          <a:stretch/>
        </p:blipFill>
        <p:spPr>
          <a:xfrm>
            <a:off x="1908000" y="1125360"/>
            <a:ext cx="6048720" cy="453564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D:\Среда Волкова гамова\DSCN1875.JPG"/>
          <p:cNvPicPr/>
          <p:nvPr/>
        </p:nvPicPr>
        <p:blipFill>
          <a:blip r:embed="rId1"/>
          <a:stretch/>
        </p:blipFill>
        <p:spPr>
          <a:xfrm>
            <a:off x="1619280" y="1268280"/>
            <a:ext cx="7007040" cy="46069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D:\Среда Волкова гамова\DSCN1909.JPG"/>
          <p:cNvPicPr/>
          <p:nvPr/>
        </p:nvPicPr>
        <p:blipFill>
          <a:blip r:embed="rId1"/>
          <a:stretch/>
        </p:blipFill>
        <p:spPr>
          <a:xfrm>
            <a:off x="1733400" y="836640"/>
            <a:ext cx="6654960" cy="511344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340000" y="278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я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1116000" y="549360"/>
            <a:ext cx="7632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снащение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Фланеле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Большая ширма, маленькая ширма для настоль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Различные виды театра: театр картинок («Три медведя», «Колобок», «Еж и медведь», «Заяц и лиса»), теневой театр («Лиса и заяц»), театр игрушки и «пальчиковый» театр для обыгрывания произведений малых форм фольклора, театр на дисках, театр на деревянных лопаточка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Костюмы, маски, театрально-игровые атрибуты для разыгрывания сказок «Репка», «Курочка Ряба», «Колобок», «Терем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Атрибуты для ряженья — элементы костюмов (шляпы, шарфы, юбки, сумки, зонты, бусы и проч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Маски животных диких и домашних (взрослых и детенышей), маски сказочных персон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Для создания музыкального фона в процессе театрально-игровой деятельности: аудиозаписи музыкальных произведений, записи звукошумовых эффектов, простейшие музыкальные игрушки — погремушки, бубен, бараб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Ирина\Desktop\ПРС в группе\20190522_122900.jpg"/>
          <p:cNvPicPr/>
          <p:nvPr/>
        </p:nvPicPr>
        <p:blipFill>
          <a:blip r:embed="rId1"/>
          <a:stretch/>
        </p:blipFill>
        <p:spPr>
          <a:xfrm>
            <a:off x="2700360" y="476280"/>
            <a:ext cx="4608360" cy="59421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Среда Волкова гамова\DSCN1866.JPG"/>
          <p:cNvPicPr/>
          <p:nvPr/>
        </p:nvPicPr>
        <p:blipFill>
          <a:blip r:embed="rId1"/>
          <a:srcRect l="18647" t="17775" r="12541" b="0"/>
          <a:stretch/>
        </p:blipFill>
        <p:spPr>
          <a:xfrm>
            <a:off x="2987640" y="765000"/>
            <a:ext cx="4105440" cy="553896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D:\Среда Волкова гамова\DSCN1907.JPG"/>
          <p:cNvPicPr/>
          <p:nvPr/>
        </p:nvPicPr>
        <p:blipFill>
          <a:blip r:embed="rId1"/>
          <a:stretch/>
        </p:blipFill>
        <p:spPr>
          <a:xfrm>
            <a:off x="1908000" y="1125360"/>
            <a:ext cx="6336000" cy="483408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2" descr="D:\сказка\IMG_7449.JPG"/>
          <p:cNvPicPr/>
          <p:nvPr/>
        </p:nvPicPr>
        <p:blipFill>
          <a:blip r:embed="rId1"/>
          <a:stretch/>
        </p:blipFill>
        <p:spPr>
          <a:xfrm>
            <a:off x="2771640" y="1125360"/>
            <a:ext cx="5832720" cy="40323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2556000" y="836640"/>
            <a:ext cx="2949480" cy="393372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  <p:pic>
        <p:nvPicPr>
          <p:cNvPr id="328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5796000" y="836640"/>
            <a:ext cx="2952720" cy="3936960"/>
          </a:xfrm>
          <a:prstGeom prst="rect">
            <a:avLst/>
          </a:prstGeom>
          <a:ln w="7632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D:\Среда Волкова гамова\DSCN1868.JPG"/>
          <p:cNvPicPr/>
          <p:nvPr/>
        </p:nvPicPr>
        <p:blipFill>
          <a:blip r:embed="rId1"/>
          <a:stretch/>
        </p:blipFill>
        <p:spPr>
          <a:xfrm>
            <a:off x="1908000" y="1125360"/>
            <a:ext cx="6193080" cy="4542120"/>
          </a:xfrm>
          <a:prstGeom prst="rect">
            <a:avLst/>
          </a:prstGeom>
          <a:ln w="57240">
            <a:solidFill>
              <a:srgbClr val="d59988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14:13:18Z</dcterms:created>
  <dc:creator>User</dc:creator>
  <dc:description/>
  <dc:language>en-US</dc:language>
  <cp:lastModifiedBy>Ирина</cp:lastModifiedBy>
  <dcterms:modified xsi:type="dcterms:W3CDTF">2022-12-12T06:04:29Z</dcterms:modified>
  <cp:revision>19</cp:revision>
  <dc:subject/>
  <dc:title>Слайд 1</dc:title>
</cp:coreProperties>
</file>