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BCD0-C3F3-4F0D-9DBC-817B8D8B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78D-4655-4B23-AC49-2FFCA3C8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793-7380-4B24-97AE-F1FB5FE8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849-CABC-4613-BEE8-D31D3AC3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6C26-3DDF-4D69-962C-34C14184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BF49-1CE4-449C-9163-798ACBF4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6CB8-EB48-4406-9A52-86977052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7B1C-E316-430B-95DA-8A434066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B0A2-0ACD-4885-89C9-2F7618A6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68FD-E7AE-4195-815E-59287AC5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C407-714A-49F1-8337-55B6E175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D80-0FD1-4766-A8AB-6611F5C7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34E7-7784-4DAC-BA61-0BDA25C3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6439-8497-4E93-9206-B9DB661A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1C04-943A-44A5-B3D5-7B460153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B282-E4E2-436B-86D5-8382F11C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25F5-ECE6-4C96-805F-9EE627C0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85664-7820-4654-97AD-0BD604A0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1F933-1C3A-4D83-B586-E9E78218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E5F91-41CA-409C-BFEC-81E27FA0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CCC2E-1B02-4570-9465-D0781DC5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B181F-2729-4408-842D-DB357DED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0D7-1E13-4AC1-AC82-13A6AD1D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72772-3DE8-422B-9763-627C2E37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89E5D-A29A-40C0-91EB-E0677A91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B21C5-A0DD-435E-AFCE-EA1E0786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86A2E-8BA9-440F-B272-273C75CC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6E3A2-E65E-4E9F-8E5A-86CD056D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8B645-DEA1-4BFD-8B8A-548BD27A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A8829-5CD0-4FFB-BFB2-28E30533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3C59A-96FF-465E-A56C-65C7497C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9551B-38F6-4138-9FC6-D49918ED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67851-B8B4-47E7-8AE5-D35954FA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1D8-C1BB-4FB2-8F4E-B6405071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E3898-324A-4E6F-A8AD-E73D9CF2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C2271-E80E-49FC-BAFB-AFC9F8C8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BF5D4-77B1-4C82-A406-E86BADBF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048D4-FCE2-40C0-8D92-3F19FEA4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5D883-1B56-4B64-889E-BB8162A4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75E60-67FC-44B6-B1F5-1CB58F56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4BD02-7CE3-4379-83EB-0B8B5244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C5114-FD35-4533-ACAD-F9B97321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CD621-F274-4086-A059-408D0C6C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DCF15-2592-41AF-9FE1-AB6B9566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F88-C55E-48B1-882B-C1000095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9CC24-8EBE-4DE0-B3B4-F046B4B9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4DC46-4304-492B-871B-D43248C8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D310D-16BA-4598-919D-3C3073C8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998D7-932F-45EB-8176-4C53A096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FCEE5-A8BA-4C11-A9FB-A922DA0D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13A13-2C0A-4659-9D50-D4514A9E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B89A9-F56C-4390-AAFF-8308E0E9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BB817-211D-4370-BC0C-18C0B14E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9848F-9C19-43C8-9895-633F6181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03A1D-C392-4562-AA55-BBF0D938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1FF-D21D-4229-8825-6B0A8420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F7BA0-C77B-4662-98CE-49F61704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5C93B-28A7-4FC7-9DF1-3F70430E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C8C36-A654-4246-AC34-E381D595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3B5CC-29EC-4E04-9E78-2AB3B92F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425A0-E505-4C18-883E-7D3AB179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B16A2-1CE2-431F-9BCF-5AA16637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46682-96F9-4D6B-BABA-8A9E1A7D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BA116-EB15-435D-B417-744504F0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6C5D7-048F-4609-99F1-094FD1C0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9A56E-DB13-44BE-8DEA-DB1BE5A4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685-392E-410C-B382-5EAB0CDB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BDAB5-1AF8-4DC9-8161-5D145589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132AE-C9D1-4CDE-9FB0-B44CE9BC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4CBBA-C025-47FD-BA22-C884D37E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6070D-E0C1-4671-8143-6C2C45E9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1E21E-1CED-4B53-8180-78FBDFB4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CDB27-B59D-4CCD-8418-9FC053FD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47ACF-F9D6-4B3D-BD7E-51897C30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CEE3F-22B7-4019-B3BB-C1A1CC28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A5C4D-7D3D-47BF-BDD0-1231D927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D9175-A0A4-4BDB-92A5-DF6D7D1D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5EC-4751-4BC4-A0A7-C0B10E9F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CE481-F693-41CF-87CD-04F842A6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17BEF-7502-418E-B925-F3D937C7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29357-405A-4004-A275-B7FF0F97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8E393-5C4D-4CAC-93AE-E40A3D02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1EEF6-6501-4F2C-AD85-99C5F334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2FC-566F-4646-92F7-6D4D32A6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87F6-61A5-4BF4-9DAB-EE2C600CEBE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FC0D-90C3-4659-B377-58B80E21152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725A-2F78-448F-82CD-1164827020A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18BE-74A5-4020-9671-0F523F0813E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2382-E59C-4EA3-B664-F88FCF17376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A434-12EE-46E5-B399-8FD223CDCAB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5643-5C54-4B66-807C-12905E513AA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1125000"/>
            <a:ext cx="7489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Центр театрализованных игр</a:t>
            </a:r>
            <a:br>
              <a:rPr sz="32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«По дорогам сказок»  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во 2 младшей групп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4786200"/>
            <a:ext cx="7415280" cy="8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оспитатель: Филатова Е.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D:\Среда Волкова гамова\DSCN1882.JPG"/>
          <p:cNvPicPr/>
          <p:nvPr/>
        </p:nvPicPr>
        <p:blipFill>
          <a:blip r:embed="rId1"/>
          <a:stretch/>
        </p:blipFill>
        <p:spPr>
          <a:xfrm>
            <a:off x="2050920" y="1125360"/>
            <a:ext cx="6289920" cy="458496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D:\Среда Волкова гамова\DSCN1892.JPG"/>
          <p:cNvPicPr/>
          <p:nvPr/>
        </p:nvPicPr>
        <p:blipFill>
          <a:blip r:embed="rId1"/>
          <a:stretch/>
        </p:blipFill>
        <p:spPr>
          <a:xfrm>
            <a:off x="1908000" y="981000"/>
            <a:ext cx="6382080" cy="478656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D:\Среда Волкова гамова\DSCN1867.JPG"/>
          <p:cNvPicPr/>
          <p:nvPr/>
        </p:nvPicPr>
        <p:blipFill>
          <a:blip r:embed="rId1"/>
          <a:stretch/>
        </p:blipFill>
        <p:spPr>
          <a:xfrm>
            <a:off x="1908000" y="981000"/>
            <a:ext cx="6232680" cy="478152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D:\АТТЕСТАЦИЯ\аттестация воспитателей\Филатова\ВСЁ ПО АТТЕСТАЦИИ 2022\Отработанный материал\ПРОЕКТ\IMG_8035.JPG"/>
          <p:cNvPicPr/>
          <p:nvPr/>
        </p:nvPicPr>
        <p:blipFill>
          <a:blip r:embed="rId1"/>
          <a:srcRect l="1822" t="25327" r="3762" b="2342"/>
          <a:stretch/>
        </p:blipFill>
        <p:spPr>
          <a:xfrm>
            <a:off x="1403280" y="1268280"/>
            <a:ext cx="7236000" cy="415764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D:\АТТЕСТАЦИЯ\аттестация воспитателей\Филатова\ВСЁ ПО АТТЕСТАЦИИ 2022\Отработанный материал\ПРОЕКТ\IMG_8038.JPG"/>
          <p:cNvPicPr/>
          <p:nvPr/>
        </p:nvPicPr>
        <p:blipFill>
          <a:blip r:embed="rId1"/>
          <a:srcRect l="10673" t="0" r="12472" b="6064"/>
          <a:stretch/>
        </p:blipFill>
        <p:spPr>
          <a:xfrm>
            <a:off x="2411280" y="1268280"/>
            <a:ext cx="5185080" cy="475308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D:\Среда Волкова гамова\DSCN1890.JPG"/>
          <p:cNvPicPr/>
          <p:nvPr/>
        </p:nvPicPr>
        <p:blipFill>
          <a:blip r:embed="rId1"/>
          <a:stretch/>
        </p:blipFill>
        <p:spPr>
          <a:xfrm>
            <a:off x="1908000" y="1052640"/>
            <a:ext cx="6215400" cy="466092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D:\Среда Волкова гамова\DSCN1904.JPG"/>
          <p:cNvPicPr/>
          <p:nvPr/>
        </p:nvPicPr>
        <p:blipFill>
          <a:blip r:embed="rId1"/>
          <a:stretch/>
        </p:blipFill>
        <p:spPr>
          <a:xfrm>
            <a:off x="1979640" y="1197000"/>
            <a:ext cx="6319800" cy="457056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D:\Среда Волкова гамова\DSCN1884.JPG"/>
          <p:cNvPicPr/>
          <p:nvPr/>
        </p:nvPicPr>
        <p:blipFill>
          <a:blip r:embed="rId1"/>
          <a:stretch/>
        </p:blipFill>
        <p:spPr>
          <a:xfrm>
            <a:off x="2268360" y="1268280"/>
            <a:ext cx="6120000" cy="460872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D:\Среда Волкова гамова\DSCN1863.JPG"/>
          <p:cNvPicPr/>
          <p:nvPr/>
        </p:nvPicPr>
        <p:blipFill>
          <a:blip r:embed="rId1"/>
          <a:stretch/>
        </p:blipFill>
        <p:spPr>
          <a:xfrm>
            <a:off x="1835280" y="1052640"/>
            <a:ext cx="6553080" cy="469404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D:\Среда Волкова гамова\DSCN1874.JPG"/>
          <p:cNvPicPr/>
          <p:nvPr/>
        </p:nvPicPr>
        <p:blipFill>
          <a:blip r:embed="rId1"/>
          <a:stretch/>
        </p:blipFill>
        <p:spPr>
          <a:xfrm>
            <a:off x="1619280" y="1413000"/>
            <a:ext cx="6573960" cy="444492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3"/>
          <p:cNvSpPr/>
          <p:nvPr/>
        </p:nvSpPr>
        <p:spPr>
          <a:xfrm>
            <a:off x="1500120" y="571680"/>
            <a:ext cx="607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Основные задачи организации театраль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5"/>
          <p:cNvSpPr/>
          <p:nvPr/>
        </p:nvSpPr>
        <p:spPr>
          <a:xfrm>
            <a:off x="785880" y="1700280"/>
            <a:ext cx="7786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буждать интерес к театрально-игровой деятельности, поощрять участие детей в этом виде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учать ориентироваться в групповой комнате и в за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вивать у детей художественно – речевые исполнительские способности - выразительности, эмоциональности исполнения, умения применять разнообразные интонации, выражающие характер ска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D:\АТТЕСТАЦИЯ\аттестация воспитателей\Филатова\ВСЁ ПО АТТЕСТАЦИИ 2022\Отработанный материал\ПРОЕКТ\IMG_8032.JPG"/>
          <p:cNvPicPr/>
          <p:nvPr/>
        </p:nvPicPr>
        <p:blipFill>
          <a:blip r:embed="rId1"/>
          <a:stretch/>
        </p:blipFill>
        <p:spPr>
          <a:xfrm>
            <a:off x="1908000" y="1125360"/>
            <a:ext cx="6048720" cy="453564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D:\Среда Волкова гамова\DSCN1875.JPG"/>
          <p:cNvPicPr/>
          <p:nvPr/>
        </p:nvPicPr>
        <p:blipFill>
          <a:blip r:embed="rId1"/>
          <a:stretch/>
        </p:blipFill>
        <p:spPr>
          <a:xfrm>
            <a:off x="1619280" y="1268280"/>
            <a:ext cx="7007040" cy="460692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D:\Среда Волкова гамова\DSCN1909.JPG"/>
          <p:cNvPicPr/>
          <p:nvPr/>
        </p:nvPicPr>
        <p:blipFill>
          <a:blip r:embed="rId1"/>
          <a:stretch/>
        </p:blipFill>
        <p:spPr>
          <a:xfrm>
            <a:off x="1733400" y="836640"/>
            <a:ext cx="6654960" cy="511344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"/>
          <p:cNvSpPr/>
          <p:nvPr/>
        </p:nvSpPr>
        <p:spPr>
          <a:xfrm>
            <a:off x="2340000" y="27813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я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3"/>
          <p:cNvSpPr/>
          <p:nvPr/>
        </p:nvSpPr>
        <p:spPr>
          <a:xfrm>
            <a:off x="1116000" y="549360"/>
            <a:ext cx="763272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Оснащение цен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.Фланелегра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. Большая ширма, маленькая ширма для настольного теа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.Различные виды театра: театр картинок («Три медведя», «Колобок», «Еж и медведь», «Заяц и лиса»), теневой театр («Лиса и заяц»), театр игрушки и «пальчиковый» театр для обыгрывания произведений малых форм фольклора, театр на дисках, театр на деревянных лопаточках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.Костюмы, маски, театрально-игровые атрибуты для разыгрывания сказок «Репка», «Курочка Ряба», «Колобок», «Теремо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.Атрибуты для ряженья — элементы костюмов (шляпы, шарфы, юбки, сумки, зонты, бусы и проче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.Маски животных диких и домашних (взрослых и детенышей), маски сказочных персона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.Для создания музыкального фона в процессе театрально-игровой деятельности: аудиозаписи музыкальных произведений, записи звукошумовых эффектов, простейшие музыкальные игрушки — погремушки, бубен, бараб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:\Users\Ирина\Desktop\ПРС в группе\20190522_122900.jpg"/>
          <p:cNvPicPr/>
          <p:nvPr/>
        </p:nvPicPr>
        <p:blipFill>
          <a:blip r:embed="rId1"/>
          <a:stretch/>
        </p:blipFill>
        <p:spPr>
          <a:xfrm>
            <a:off x="2700360" y="476280"/>
            <a:ext cx="4608360" cy="594216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D:\Среда Волкова гамова\DSCN1866.JPG"/>
          <p:cNvPicPr/>
          <p:nvPr/>
        </p:nvPicPr>
        <p:blipFill>
          <a:blip r:embed="rId1"/>
          <a:srcRect l="18647" t="17775" r="12541" b="0"/>
          <a:stretch/>
        </p:blipFill>
        <p:spPr>
          <a:xfrm>
            <a:off x="2987640" y="765000"/>
            <a:ext cx="4105440" cy="553896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D:\Среда Волкова гамова\DSCN1907.JPG"/>
          <p:cNvPicPr/>
          <p:nvPr/>
        </p:nvPicPr>
        <p:blipFill>
          <a:blip r:embed="rId1"/>
          <a:stretch/>
        </p:blipFill>
        <p:spPr>
          <a:xfrm>
            <a:off x="1908000" y="1125360"/>
            <a:ext cx="6336000" cy="483408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Рисунок 2" descr="D:\сказка\IMG_7449.JPG"/>
          <p:cNvPicPr/>
          <p:nvPr/>
        </p:nvPicPr>
        <p:blipFill>
          <a:blip r:embed="rId1"/>
          <a:stretch/>
        </p:blipFill>
        <p:spPr>
          <a:xfrm>
            <a:off x="2771640" y="1125360"/>
            <a:ext cx="5832720" cy="403236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Users\Ирина\Downloads\IMG_20220201_130523.jpg"/>
          <p:cNvPicPr/>
          <p:nvPr/>
        </p:nvPicPr>
        <p:blipFill>
          <a:blip r:embed="rId1"/>
          <a:stretch/>
        </p:blipFill>
        <p:spPr>
          <a:xfrm>
            <a:off x="2556000" y="836640"/>
            <a:ext cx="2949480" cy="393372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  <p:pic>
        <p:nvPicPr>
          <p:cNvPr id="328" name="Picture 3" descr="C:\Users\Ирина\Downloads\IMG_20220201_130436.jpg"/>
          <p:cNvPicPr/>
          <p:nvPr/>
        </p:nvPicPr>
        <p:blipFill>
          <a:blip r:embed="rId2"/>
          <a:stretch/>
        </p:blipFill>
        <p:spPr>
          <a:xfrm>
            <a:off x="5796000" y="836640"/>
            <a:ext cx="2952720" cy="393696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" descr="D:\Среда Волкова гамова\DSCN1868.JPG"/>
          <p:cNvPicPr/>
          <p:nvPr/>
        </p:nvPicPr>
        <p:blipFill>
          <a:blip r:embed="rId1"/>
          <a:stretch/>
        </p:blipFill>
        <p:spPr>
          <a:xfrm>
            <a:off x="1908000" y="1125360"/>
            <a:ext cx="6193080" cy="454212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7T14:13:18Z</dcterms:created>
  <dc:creator>User</dc:creator>
  <dc:description/>
  <dc:language>en-US</dc:language>
  <cp:lastModifiedBy>Ирина</cp:lastModifiedBy>
  <dcterms:modified xsi:type="dcterms:W3CDTF">2022-12-12T06:04:29Z</dcterms:modified>
  <cp:revision>19</cp:revision>
  <dc:subject/>
  <dc:title>Слайд 1</dc:title>
</cp:coreProperties>
</file>