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5231-B07C-488D-9349-08256250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F78-2CDC-4544-A7BF-FDFE738B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FDA-6C7C-4EA4-A494-DD482D4A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6686-89BF-4383-A74D-AEDAD4CE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813-05B0-4988-ADD8-60E8E7B5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9D2-0AC6-44D0-BA24-91C76B1C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4588-0BB5-4BE7-A91B-0CE3980B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909-15B9-4C34-85DD-89ED4A0B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4D51-E0B3-4E93-BD4D-AB6FBEB9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3CF-BD28-446A-90A5-94FA1FDA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4DAB-4795-45D9-A81D-DD9CF71C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F63-289F-4645-908D-4769C0ED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BF30-FA05-4754-AF6A-3F27B4724E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«Устами педагогов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нтеллектуальна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2868480"/>
            <a:ext cx="3995640" cy="3989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7164360" y="4365720"/>
            <a:ext cx="171288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В гостях у сказ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47280" y="1483920"/>
            <a:ext cx="7596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5" descr="6-4.png"/>
          <p:cNvPicPr/>
          <p:nvPr/>
        </p:nvPicPr>
        <p:blipFill>
          <a:blip r:embed="rId1"/>
          <a:stretch/>
        </p:blipFill>
        <p:spPr>
          <a:xfrm>
            <a:off x="395280" y="1341360"/>
            <a:ext cx="3600360" cy="3598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1625522778_17-phonoteka-org-p-zastavka-k-skazke-kolobok-krasivie-zastavk-17.jpg"/>
          <p:cNvPicPr/>
          <p:nvPr/>
        </p:nvPicPr>
        <p:blipFill>
          <a:blip r:embed="rId2"/>
          <a:stretch/>
        </p:blipFill>
        <p:spPr>
          <a:xfrm>
            <a:off x="3492360" y="3357720"/>
            <a:ext cx="51199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53294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апомнить компоненты речи помогут радуги цвета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едь радуга, как речь, замечу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грива, звучна и проста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Логичность, правильность и точность линий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Богатство красок, чистота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Как выразительны, красив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местны все её цвета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6923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4376880"/>
            <a:ext cx="2484360" cy="248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умник 1 без тени"/>
          <p:cNvPicPr/>
          <p:nvPr/>
        </p:nvPicPr>
        <p:blipFill>
          <a:blip r:embed="rId2"/>
          <a:srcRect l="0" t="0" r="0" b="10622"/>
          <a:stretch/>
        </p:blipFill>
        <p:spPr>
          <a:xfrm>
            <a:off x="6891480" y="4365720"/>
            <a:ext cx="22525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Одним слово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47640" y="1483920"/>
            <a:ext cx="6912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Поговор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Бас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Был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Сказ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Анекдо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Пес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"/>
          <p:cNvPicPr/>
          <p:nvPr/>
        </p:nvPicPr>
        <p:blipFill>
          <a:blip r:embed="rId7"/>
          <a:stretch/>
        </p:blipFill>
        <p:spPr>
          <a:xfrm>
            <a:off x="0" y="3789360"/>
            <a:ext cx="1917720" cy="3068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умник 1 без тени"/>
          <p:cNvPicPr/>
          <p:nvPr/>
        </p:nvPicPr>
        <p:blipFill>
          <a:blip r:embed="rId8"/>
          <a:srcRect l="0" t="0" r="0" b="10622"/>
          <a:stretch/>
        </p:blipFill>
        <p:spPr>
          <a:xfrm>
            <a:off x="6067440" y="3452760"/>
            <a:ext cx="307656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Одним слово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47640" y="1483920"/>
            <a:ext cx="6912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Загад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Частуш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0" y="3789360"/>
            <a:ext cx="1917720" cy="306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умник 1 без тени"/>
          <p:cNvPicPr/>
          <p:nvPr/>
        </p:nvPicPr>
        <p:blipFill>
          <a:blip r:embed="rId4"/>
          <a:srcRect l="0" t="0" r="0" b="10622"/>
          <a:stretch/>
        </p:blipFill>
        <p:spPr>
          <a:xfrm>
            <a:off x="6067440" y="3452760"/>
            <a:ext cx="307656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Заморочки не из боч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7280" y="1483920"/>
            <a:ext cx="7596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«Заблудился в трёх соснах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«Отольются кошке мышкины слёз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«Комар носа не подточ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«У страха глаза вели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"/>
          <p:cNvPicPr/>
          <p:nvPr/>
        </p:nvPicPr>
        <p:blipFill>
          <a:blip r:embed="rId5"/>
          <a:stretch/>
        </p:blipFill>
        <p:spPr>
          <a:xfrm>
            <a:off x="0" y="3789360"/>
            <a:ext cx="1917720" cy="306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умник 1 без тени"/>
          <p:cNvPicPr/>
          <p:nvPr/>
        </p:nvPicPr>
        <p:blipFill>
          <a:blip r:embed="rId6"/>
          <a:srcRect l="0" t="0" r="0" b="10622"/>
          <a:stretch/>
        </p:blipFill>
        <p:spPr>
          <a:xfrm>
            <a:off x="6067440" y="3452760"/>
            <a:ext cx="307656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Заморочки не из боч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483920"/>
            <a:ext cx="7596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«В ногах правды не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«Любовь зла полюбишь и козл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«Голь на выдумку хитр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buSzPct val="2057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«Соврет, глазом не моргне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5"/>
          <a:stretch/>
        </p:blipFill>
        <p:spPr>
          <a:xfrm>
            <a:off x="0" y="3789360"/>
            <a:ext cx="1917720" cy="3068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умник 1 без тени"/>
          <p:cNvPicPr/>
          <p:nvPr/>
        </p:nvPicPr>
        <p:blipFill>
          <a:blip r:embed="rId6"/>
          <a:srcRect l="0" t="0" r="0" b="10622"/>
          <a:stretch/>
        </p:blipFill>
        <p:spPr>
          <a:xfrm>
            <a:off x="6997680" y="620640"/>
            <a:ext cx="21463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В гостях у сказ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47280" y="1483920"/>
            <a:ext cx="7596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5" descr="e4d48bc8677eb0535b7a93f4f81babd2-800x.jpg"/>
          <p:cNvPicPr/>
          <p:nvPr/>
        </p:nvPicPr>
        <p:blipFill>
          <a:blip r:embed="rId1"/>
          <a:stretch/>
        </p:blipFill>
        <p:spPr>
          <a:xfrm>
            <a:off x="395280" y="1125360"/>
            <a:ext cx="3840120" cy="2880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Kartinki_4354_09042520.jpg"/>
          <p:cNvPicPr/>
          <p:nvPr/>
        </p:nvPicPr>
        <p:blipFill>
          <a:blip r:embed="rId2"/>
          <a:stretch/>
        </p:blipFill>
        <p:spPr>
          <a:xfrm>
            <a:off x="4356000" y="2708280"/>
            <a:ext cx="41403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В гостях у сказ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47280" y="1483920"/>
            <a:ext cx="7596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7" descr="kartinki-zolushka-48.jpg"/>
          <p:cNvPicPr/>
          <p:nvPr/>
        </p:nvPicPr>
        <p:blipFill>
          <a:blip r:embed="rId1"/>
          <a:stretch/>
        </p:blipFill>
        <p:spPr>
          <a:xfrm>
            <a:off x="324000" y="1197000"/>
            <a:ext cx="3597120" cy="2879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im897165.jpg"/>
          <p:cNvPicPr/>
          <p:nvPr/>
        </p:nvPicPr>
        <p:blipFill>
          <a:blip r:embed="rId2"/>
          <a:stretch/>
        </p:blipFill>
        <p:spPr>
          <a:xfrm>
            <a:off x="4356000" y="2205000"/>
            <a:ext cx="36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В гостях у сказ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47280" y="1483920"/>
            <a:ext cx="7596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5" descr="1620161013_3-phonoteka_org-p-tsarevna-lyagushka-fon-4.jpg"/>
          <p:cNvPicPr/>
          <p:nvPr/>
        </p:nvPicPr>
        <p:blipFill>
          <a:blip r:embed="rId1"/>
          <a:stretch/>
        </p:blipFill>
        <p:spPr>
          <a:xfrm>
            <a:off x="539640" y="1341360"/>
            <a:ext cx="2230560" cy="3900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18183.jpg"/>
          <p:cNvPicPr/>
          <p:nvPr/>
        </p:nvPicPr>
        <p:blipFill>
          <a:blip r:embed="rId2"/>
          <a:stretch/>
        </p:blipFill>
        <p:spPr>
          <a:xfrm>
            <a:off x="4067280" y="2060640"/>
            <a:ext cx="4294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В гостях у сказ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47280" y="1483920"/>
            <a:ext cx="7596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7" descr="34-10.jpg"/>
          <p:cNvPicPr/>
          <p:nvPr/>
        </p:nvPicPr>
        <p:blipFill>
          <a:blip r:embed="rId1"/>
          <a:stretch/>
        </p:blipFill>
        <p:spPr>
          <a:xfrm>
            <a:off x="324000" y="155736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8" descr="1641170973_26-papik-pro-p-detskii-risunok-koshcheya-31.jpg"/>
          <p:cNvPicPr/>
          <p:nvPr/>
        </p:nvPicPr>
        <p:blipFill>
          <a:blip r:embed="rId2"/>
          <a:stretch/>
        </p:blipFill>
        <p:spPr>
          <a:xfrm>
            <a:off x="4067280" y="26370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3:26:05Z</dcterms:created>
  <dc:creator>Оля</dc:creator>
  <dc:description/>
  <dc:language>en-US</dc:language>
  <cp:lastModifiedBy>HP</cp:lastModifiedBy>
  <dcterms:modified xsi:type="dcterms:W3CDTF">2022-11-29T10:42:08Z</dcterms:modified>
  <cp:revision>69</cp:revision>
  <dc:subject/>
  <dc:title>Слайд 1</dc:title>
</cp:coreProperties>
</file>