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F83-7AC0-4499-AF75-B48D468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FE4-8848-4A9E-9FAD-141786A6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0B1-F1D3-419B-9C04-A3C45D3E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81B-EC24-45A1-8B5F-F598CF4D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2A2-FFBC-40FC-8249-00CCB5F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D47-1A6B-4DC9-902A-EC7673FE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730-8D93-4C29-88F1-5BC49156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029-752D-45BB-86AB-B1C90C1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D77-6048-4D29-9122-20A36A5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147-C86B-489C-B85A-DA3D869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9AF-B69B-4BDB-8C07-B1D099E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D2D-EB52-418D-B683-7306D24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E2B-C5F8-43D6-9B61-A958E904F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Устами педагогов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нтеллектуаль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2868480"/>
            <a:ext cx="3995640" cy="398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7164360" y="4365720"/>
            <a:ext cx="171288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6-4.png"/>
          <p:cNvPicPr/>
          <p:nvPr/>
        </p:nvPicPr>
        <p:blipFill>
          <a:blip r:embed="rId1"/>
          <a:stretch/>
        </p:blipFill>
        <p:spPr>
          <a:xfrm>
            <a:off x="395280" y="1341360"/>
            <a:ext cx="3600360" cy="359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1625522778_17-phonoteka-org-p-zastavka-k-skazke-kolobok-krasivie-zastavk-17.jpg"/>
          <p:cNvPicPr/>
          <p:nvPr/>
        </p:nvPicPr>
        <p:blipFill>
          <a:blip r:embed="rId2"/>
          <a:stretch/>
        </p:blipFill>
        <p:spPr>
          <a:xfrm>
            <a:off x="3492360" y="3357720"/>
            <a:ext cx="5119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53294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помнить компоненты речи помогут радуги цвета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дь радуга, как речь, замечу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грива, звучна и прост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Логичность, правильность и точность лини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огатство красок, чистот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к выразительны, красив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местны все её цвет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92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4376880"/>
            <a:ext cx="2484360" cy="248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умник 1 без тени"/>
          <p:cNvPicPr/>
          <p:nvPr/>
        </p:nvPicPr>
        <p:blipFill>
          <a:blip r:embed="rId2"/>
          <a:srcRect l="0" t="0" r="0" b="10622"/>
          <a:stretch/>
        </p:blipFill>
        <p:spPr>
          <a:xfrm>
            <a:off x="6891480" y="4365720"/>
            <a:ext cx="2252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Одним сло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47640" y="1483920"/>
            <a:ext cx="691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огов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ас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ы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ка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Анекд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ес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7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умник 1 без тени"/>
          <p:cNvPicPr/>
          <p:nvPr/>
        </p:nvPicPr>
        <p:blipFill>
          <a:blip r:embed="rId8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Одним сло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640" y="1483920"/>
            <a:ext cx="691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аст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умник 1 без тени"/>
          <p:cNvPicPr/>
          <p:nvPr/>
        </p:nvPicPr>
        <p:blipFill>
          <a:blip r:embed="rId4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морочки не из бо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Заблудился в трёх сосн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Отольются кошке мышкины слёз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Комар носа не подточ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У страха глаза вели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умник 1 без тени"/>
          <p:cNvPicPr/>
          <p:nvPr/>
        </p:nvPicPr>
        <p:blipFill>
          <a:blip r:embed="rId6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морочки не из бо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В ногах правды н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Любовь зла полюбишь и козл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Голь на выдумку хит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Соврет, глазом не моргн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умник 1 без тени"/>
          <p:cNvPicPr/>
          <p:nvPr/>
        </p:nvPicPr>
        <p:blipFill>
          <a:blip r:embed="rId6"/>
          <a:srcRect l="0" t="0" r="0" b="10622"/>
          <a:stretch/>
        </p:blipFill>
        <p:spPr>
          <a:xfrm>
            <a:off x="6997680" y="620640"/>
            <a:ext cx="2146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e4d48bc8677eb0535b7a93f4f81babd2-800x.jpg"/>
          <p:cNvPicPr/>
          <p:nvPr/>
        </p:nvPicPr>
        <p:blipFill>
          <a:blip r:embed="rId1"/>
          <a:stretch/>
        </p:blipFill>
        <p:spPr>
          <a:xfrm>
            <a:off x="395280" y="11253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Kartinki_4354_09042520.jpg"/>
          <p:cNvPicPr/>
          <p:nvPr/>
        </p:nvPicPr>
        <p:blipFill>
          <a:blip r:embed="rId2"/>
          <a:stretch/>
        </p:blipFill>
        <p:spPr>
          <a:xfrm>
            <a:off x="4356000" y="2708280"/>
            <a:ext cx="4140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kartinki-zolushka-48.jpg"/>
          <p:cNvPicPr/>
          <p:nvPr/>
        </p:nvPicPr>
        <p:blipFill>
          <a:blip r:embed="rId1"/>
          <a:stretch/>
        </p:blipFill>
        <p:spPr>
          <a:xfrm>
            <a:off x="324000" y="1197000"/>
            <a:ext cx="359712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im897165.jpg"/>
          <p:cNvPicPr/>
          <p:nvPr/>
        </p:nvPicPr>
        <p:blipFill>
          <a:blip r:embed="rId2"/>
          <a:stretch/>
        </p:blipFill>
        <p:spPr>
          <a:xfrm>
            <a:off x="4356000" y="220500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1620161013_3-phonoteka_org-p-tsarevna-lyagushka-fon-4.jpg"/>
          <p:cNvPicPr/>
          <p:nvPr/>
        </p:nvPicPr>
        <p:blipFill>
          <a:blip r:embed="rId1"/>
          <a:stretch/>
        </p:blipFill>
        <p:spPr>
          <a:xfrm>
            <a:off x="539640" y="1341360"/>
            <a:ext cx="2230560" cy="3900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18183.jpg"/>
          <p:cNvPicPr/>
          <p:nvPr/>
        </p:nvPicPr>
        <p:blipFill>
          <a:blip r:embed="rId2"/>
          <a:stretch/>
        </p:blipFill>
        <p:spPr>
          <a:xfrm>
            <a:off x="4067280" y="2060640"/>
            <a:ext cx="4294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7" descr="34-10.jpg"/>
          <p:cNvPicPr/>
          <p:nvPr/>
        </p:nvPicPr>
        <p:blipFill>
          <a:blip r:embed="rId1"/>
          <a:stretch/>
        </p:blipFill>
        <p:spPr>
          <a:xfrm>
            <a:off x="324000" y="155736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1641170973_26-papik-pro-p-detskii-risunok-koshcheya-31.jpg"/>
          <p:cNvPicPr/>
          <p:nvPr/>
        </p:nvPicPr>
        <p:blipFill>
          <a:blip r:embed="rId2"/>
          <a:stretch/>
        </p:blipFill>
        <p:spPr>
          <a:xfrm>
            <a:off x="4067280" y="26370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HP</cp:lastModifiedBy>
  <dcterms:modified xsi:type="dcterms:W3CDTF">2022-11-29T10:42:08Z</dcterms:modified>
  <cp:revision>69</cp:revision>
  <dc:subject/>
  <dc:title>Слайд 1</dc:title>
</cp:coreProperties>
</file>