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250-8F38-4C2B-8710-AC398974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89D-B731-4AF8-8B82-EAAC9906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73E-C3E6-41A2-BEF8-9D37F2D1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722-8F51-417B-97F9-B5075C97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4F9-1E03-4DDE-9EA4-A4946CF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74D-CE33-4908-AEEC-0BB6861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918-E439-42FA-B407-0D3765D7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E09-8571-4FA7-B805-B4682F64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DA3-6A9B-4E60-A443-AFD5FD8C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83D-0E11-4EAB-B490-422FC14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146-3FE7-4568-B396-EF37220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FE0-8587-491C-AB50-BC765AAC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D991-DBF9-47B9-8554-879EB0614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260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Ознакомление с окружающим миром «В гости к бабушке. Домашние животны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692360" y="31370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Comic Sans MS"/>
              </a:rPr>
              <a:t>Младшая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39640" y="472428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45"/>
                </a:solidFill>
                <a:latin typeface="Comic Sans MS"/>
              </a:rPr>
              <a:t>Подготовила воспитатель МБДОУ «Детский сад № 265» Кузнецова Е.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el burrito inteligente_page28_image7.png"/>
          <p:cNvPicPr/>
          <p:nvPr/>
        </p:nvPicPr>
        <p:blipFill>
          <a:blip r:embed="rId1"/>
          <a:srcRect l="0" t="0" r="-274" b="-1085"/>
          <a:stretch/>
        </p:blipFill>
        <p:spPr>
          <a:xfrm>
            <a:off x="0" y="0"/>
            <a:ext cx="9148680" cy="6958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6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2124000" cy="2122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7"/>
          <p:cNvSpPr/>
          <p:nvPr/>
        </p:nvSpPr>
        <p:spPr>
          <a:xfrm>
            <a:off x="5003640" y="549360"/>
            <a:ext cx="3816360" cy="61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 меня и кошка живёт, её зовут Мурка (показывает кош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шку можно погладить, ей это очень нравится. Но когда она не хочет, чтобы ее трогали, она может поцарапать или даже укусить, у неё острые когти и зубы. Брать на руки можно только свою кошку, а незнакомых кошек гладить нельзя. Когда кошке нравится, она может спеть нам песенку. Какую кошка поёт песен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городе кошка радует своих хозяев, а в деревенском доме кошка ещё и ловит мышей. Мыши в доме приносят вред. А сейчас я предлагаю вам поиграть в иг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el burrito inteligente_page28_image7.png"/>
          <p:cNvPicPr/>
          <p:nvPr/>
        </p:nvPicPr>
        <p:blipFill>
          <a:blip r:embed="rId1"/>
          <a:srcRect l="0" t="0" r="-274" b="-1085"/>
          <a:stretch/>
        </p:blipFill>
        <p:spPr>
          <a:xfrm>
            <a:off x="0" y="0"/>
            <a:ext cx="9148680" cy="6958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6" descr=""/>
          <p:cNvPicPr/>
          <p:nvPr/>
        </p:nvPicPr>
        <p:blipFill>
          <a:blip r:embed="rId2"/>
          <a:stretch/>
        </p:blipFill>
        <p:spPr>
          <a:xfrm>
            <a:off x="7593120" y="2276640"/>
            <a:ext cx="1563480" cy="1563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93600" y="4292640"/>
            <a:ext cx="2013120" cy="15526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4"/>
          <a:stretch/>
        </p:blipFill>
        <p:spPr>
          <a:xfrm>
            <a:off x="4211640" y="5411880"/>
            <a:ext cx="2365200" cy="1450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5"/>
          <a:stretch/>
        </p:blipFill>
        <p:spPr>
          <a:xfrm>
            <a:off x="324000" y="3016080"/>
            <a:ext cx="2663640" cy="1262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6"/>
          <a:stretch/>
        </p:blipFill>
        <p:spPr>
          <a:xfrm>
            <a:off x="6875640" y="4724280"/>
            <a:ext cx="2180880" cy="1683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106720" y="4341960"/>
            <a:ext cx="491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о новых встреч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684360" y="18900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Цель:  Воспитание любви к домашним животным, через систематизацию знаний младших дошкольников о домашни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08000" y="1230480"/>
            <a:ext cx="9036000" cy="5752800"/>
          </a:xfrm>
          <a:prstGeom prst="rect">
            <a:avLst/>
          </a:prstGeom>
          <a:noFill/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продолжать знакомить детей с домашними животными; особенностями их внешнего вида, издаваемых зву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учить различать животных и птиц по характерным особеннос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учить выполнять движения под тек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расширять представление об окружающем ми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побуждать детей к звукоподража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обогащать активный словарь детей при помощи художественного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развивать речевой слух, артикуляционный аппарат детей в процессе звукоподраж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закреплять правильное звукопроизношение по подража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продолжать развивать речевую активность, мышление, общую и мелкую мотор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Развивать умение отвечать на вопросы взросл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Развивать мышление, воображение и творческую а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воспитывать доброжелательность, отзывчивость, бережное отношение к животны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воспитывать интерес к домашним животным , желание ухаживать за ни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воспитывать дружеские взаимоотношения со взрослым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сверст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95280" y="1052640"/>
            <a:ext cx="7921800" cy="41173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дравствуйте, мои внучатки, заходите, дорогие гости. Как я вас ждала. Ваши ножки, наверное, устали, присядьте, отдох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ногие люди живут в городе, а я живу в деревне. Я очень люблю свой дом. Около моего дома есть двор. В моем дворе много животных, за которыми я ухаживаю: кормлю, пою, убираю за ними. Это домашние животные, а почему они называются домашними? Ребята, а вы хотите посмотреть, как живут домашние живот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5219640" y="692280"/>
            <a:ext cx="3384720" cy="55825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домашние животные приносят пользу, какую, я вам сейчас расскажу, но сначала отгадайте загад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Голодная мы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ытая жу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сем ребя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олоко да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кажите, какую пользу приносит кор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ровы дают молоко. Оно очень полезно и взрослым, и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1547640" y="3933720"/>
            <a:ext cx="331164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761080" cy="6193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443640" y="765000"/>
            <a:ext cx="2376360" cy="39333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молока я делаю сливочное масло, сметану и творожок, варю вкусную ка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5364000" y="765000"/>
            <a:ext cx="3024360" cy="19227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 дворе у меня живут домашние птицы: куры и утки. А какая от них поль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8" descr=""/>
          <p:cNvPicPr/>
          <p:nvPr/>
        </p:nvPicPr>
        <p:blipFill>
          <a:blip r:embed="rId2"/>
          <a:stretch/>
        </p:blipFill>
        <p:spPr>
          <a:xfrm>
            <a:off x="1547640" y="4699080"/>
            <a:ext cx="3517920" cy="2158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266544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611280" y="458640"/>
            <a:ext cx="8208720" cy="58874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изкультминутка. А часы идут, ид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ик-так, тик-т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доме кто умеет т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маятник в час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бивает каждый такт (Наклоны влево-вправо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в часах сидит кук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 неё своя избушка. (Дети садятся в глубокий присе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кукует птичка врем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нова спрячется за дверью, (Приседани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релки движутся по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касаются друг друга. (Вращение туловищем вправо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вернёмся мы с т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тив стрелки часовой. (Вращение туловищем влево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часы идут, идут, (Ходьба на мест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огда вдруг отстают. (Замедление темпа ходьбы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бывает, что спеш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овно убежать хотят! (Бег на мест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сли их не заведу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 они совсем встают. (Дети останавливаютс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6084720" y="765000"/>
            <a:ext cx="2303640" cy="27752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ают яйца, мясо и п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52563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el burrito inteligente_page28_image7.png"/>
          <p:cNvPicPr/>
          <p:nvPr/>
        </p:nvPicPr>
        <p:blipFill>
          <a:blip r:embed="rId1"/>
          <a:srcRect l="0" t="0" r="-274" b="-1085"/>
          <a:stretch/>
        </p:blipFill>
        <p:spPr>
          <a:xfrm>
            <a:off x="0" y="0"/>
            <a:ext cx="9148680" cy="6958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50920" y="1538280"/>
            <a:ext cx="4105080" cy="5031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жит – мол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дойдешь – завор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то к хозяину ид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а знать д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ети. Соб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 вы думаете, зачем она м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нечно, собака наш друг, но не только, она еще охраняет наш дом. Когда я глажу собаку, она радуется, прыгает и виляет хвостом. Собаки любят своих хозяев, а посторонних людей они могут укусить. К чужим собакам никогда нельзя близко подходить, нельзя их гладить и дразнить. А вы знаете, как называется домик, в котором живет соб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6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30351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20:37:01Z</dcterms:created>
  <dc:creator>User</dc:creator>
  <dc:description/>
  <dc:language>en-US</dc:language>
  <cp:lastModifiedBy>Пользователь</cp:lastModifiedBy>
  <dcterms:modified xsi:type="dcterms:W3CDTF">2022-12-13T05:43:47Z</dcterms:modified>
  <cp:revision>25</cp:revision>
  <dc:subject/>
  <dc:title>У бабушки в деревн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20000000000010292010207f7000400038000</vt:lpwstr>
  </property>
</Properties>
</file>