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916-16CA-4CB9-8164-9C156A73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098-41CF-478E-A4A7-E0E75DCB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A87B-D120-4F97-95BC-3FA9A18E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835-43E0-4E88-83AD-93B4A75B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2DC-90FD-40BF-AADB-3D10AC93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850-EC60-4645-B5B7-AB13DFA6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F97-9A30-4B69-A6D2-5830FB6A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AEE-1F44-4E63-86C0-0F16C602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0DD8-400A-4A50-A8F2-BF717DB9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308-5C8A-4071-9819-05662EEE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324-227B-4F9D-9C54-F2D1DB30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5D5-B31F-471B-8DD2-697834CA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73F9-0B83-4931-9595-ED35781032B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outu.be/CGaqIMcMNI0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Артикуляционная гимнаст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6000" y="3507840"/>
            <a:ext cx="446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учитель-логопе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ева К.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259236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21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. Кончиком языка упереться в нижние зубы. На счет «раз»- выгнуть язык горкой, упираясь кончиком языка в нижние зубы. На счет «два» вернуться в исходное положение. Кончик языка при этом не должен отрываться от нижних зубов, рот не закрыв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ИСКА СЕРДИТСЯ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__12539"/>
          <p:cNvPicPr/>
          <p:nvPr/>
        </p:nvPicPr>
        <p:blipFill>
          <a:blip r:embed="rId1"/>
          <a:stretch/>
        </p:blipFill>
        <p:spPr>
          <a:xfrm>
            <a:off x="2104920" y="2924280"/>
            <a:ext cx="5351400" cy="3405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. На счет 1-2 поочередно упираться языком то в верхние, то в нижние зубы. Нижняя челюсть при этом неподвиж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АЧЕЛ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__10048"/>
          <p:cNvPicPr/>
          <p:nvPr/>
        </p:nvPicPr>
        <p:blipFill>
          <a:blip r:embed="rId1"/>
          <a:stretch/>
        </p:blipFill>
        <p:spPr>
          <a:xfrm>
            <a:off x="1116000" y="2166840"/>
            <a:ext cx="6951600" cy="4422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. Кончик языка переводить на счет «раз-два» из одного уголка рта в другой. Нижняя челюсть при этом остается неподвиж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ЧАСИК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__14970"/>
          <p:cNvPicPr/>
          <p:nvPr/>
        </p:nvPicPr>
        <p:blipFill>
          <a:blip r:embed="rId1"/>
          <a:srcRect l="0" t="1423" r="8872" b="6660"/>
          <a:stretch/>
        </p:blipFill>
        <p:spPr>
          <a:xfrm>
            <a:off x="1268280" y="2205000"/>
            <a:ext cx="7024680" cy="4289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. Широким кончиком языка погладить небо от зубов к горлу. Нижняя челюсть не должна двига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АЛЯР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__12415"/>
          <p:cNvPicPr/>
          <p:nvPr/>
        </p:nvPicPr>
        <p:blipFill>
          <a:blip r:embed="rId1"/>
          <a:stretch/>
        </p:blipFill>
        <p:spPr>
          <a:xfrm>
            <a:off x="971640" y="2060640"/>
            <a:ext cx="7167600" cy="4340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широко открыть рот, кончик языка поднять и поставить на бугорки (альвеолы) за верхними зубами. Удерживать язык в таком положении на счёт до восьми, потом до десяти. Опустить язык и повторить упражнение 2-3 раз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УС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__17139"/>
          <p:cNvPicPr/>
          <p:nvPr/>
        </p:nvPicPr>
        <p:blipFill>
          <a:blip r:embed="rId1"/>
          <a:srcRect l="0" t="0" r="0" b="11755"/>
          <a:stretch/>
        </p:blipFill>
        <p:spPr>
          <a:xfrm>
            <a:off x="665280" y="2349360"/>
            <a:ext cx="7705440" cy="4024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закусить язык зубами. «Протаскивать» язык между зубами вперёд-назад, как бы «причёсывая» его. Выполнять 3-4 раз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АСЧЕС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__14324"/>
          <p:cNvPicPr/>
          <p:nvPr/>
        </p:nvPicPr>
        <p:blipFill>
          <a:blip r:embed="rId1"/>
          <a:srcRect l="0" t="6747" r="0" b="10661"/>
          <a:stretch/>
        </p:blipFill>
        <p:spPr>
          <a:xfrm>
            <a:off x="971640" y="2133720"/>
            <a:ext cx="7416720" cy="3848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, покусать язык зубами та-та-та…; пошлёпать язык губами пя-пя-пя…; закусить язык зубами и протаскивать его сквозь зубы с усил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ЕСИМ ТЕСТО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__20549"/>
          <p:cNvPicPr/>
          <p:nvPr/>
        </p:nvPicPr>
        <p:blipFill>
          <a:blip r:embed="rId1"/>
          <a:stretch/>
        </p:blipFill>
        <p:spPr>
          <a:xfrm>
            <a:off x="826920" y="2060640"/>
            <a:ext cx="7309080" cy="4533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 закрыть, кончик языка с напряжением упирать то в одну, то в другую щёку так, чтобы под щекой надувались «мячик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ФУТБОЛ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__12787"/>
          <p:cNvPicPr/>
          <p:nvPr/>
        </p:nvPicPr>
        <p:blipFill>
          <a:blip r:embed="rId1"/>
          <a:srcRect l="0" t="12319" r="0" b="6425"/>
          <a:stretch/>
        </p:blipFill>
        <p:spPr>
          <a:xfrm>
            <a:off x="395280" y="2133720"/>
            <a:ext cx="8244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, положить широкий язык на нижнюю губу, боковые края языка загнуть в форме чашечки. Удерживать на счет до пяти. Нижняя губа не должна обтягивать нижние зуб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ЧАШЕЧ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__45202"/>
          <p:cNvPicPr/>
          <p:nvPr/>
        </p:nvPicPr>
        <p:blipFill>
          <a:blip r:embed="rId1"/>
          <a:srcRect l="2523" t="6988" r="2523" b="14420"/>
          <a:stretch/>
        </p:blipFill>
        <p:spPr>
          <a:xfrm>
            <a:off x="665280" y="2133720"/>
            <a:ext cx="7816680" cy="4281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873000"/>
            <a:ext cx="8263080" cy="15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. Присосать широкий язычок к небу. Это шляпка  гриба, а подъязычная связка - ножка. Кончик языка не должен подворачиваться, губы - в улыбке. Если ребенку не удается присосать язык, то можно пощелкать языком, как в упражнении «Лошадка». В пощелкивании улавливается нужное движение язы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__93357"/>
          <p:cNvPicPr/>
          <p:nvPr/>
        </p:nvPicPr>
        <p:blipFill>
          <a:blip r:embed="rId1"/>
          <a:stretch/>
        </p:blipFill>
        <p:spPr>
          <a:xfrm>
            <a:off x="1828800" y="2492280"/>
            <a:ext cx="5904000" cy="4121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665280" y="3222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РИБО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для рук, ног - дело нам привычное и знакомое. Понятно ведь, для чего мы тренируем мышцы, чтобы они стали ловкими, сильными, подвижными. Оказывается, язык - главная мышца органов речи. И для него, как и для всякой мышцы, гимнастика просто необходима! Поэтому каждое логопедическое занятие начинается с артикуляционной гимнаст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требуется 2 зеркала: одно – Вам, другое ребенку, которое поможет контролировать положение органов артикуля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упражнение повторяется по 3-5 раз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хвалите ребенка, даже если у него плохо получает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капризничает, отказывается заниматься, то лучше отложить занятие: поменять время (например, в утренние часы) или постараться узнать, что мешает настроиться на занятие (плохое самочувствие, голод, сонливость и др.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упражнения есть подробное описание и фото. Следуйте описанию и у Вас обязательно получитс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21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ткрыть рот, положить язык на верхнюю губу и производить движения широким передним краем языка по верхней губе вперед- назад, стараясь не отрывать язык от губы, как бы поглаживая ее. Темп упражнения, постепенно убыстряясь, затем добавить голос, чтобы слышалось «БЛ-БЛ-БЛ». Следите, чтобы язык не сужался, он должен быть широк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НДЮ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__66342"/>
          <p:cNvPicPr/>
          <p:nvPr/>
        </p:nvPicPr>
        <p:blipFill>
          <a:blip r:embed="rId1"/>
          <a:srcRect l="2499" t="12319" r="0" b="13084"/>
          <a:stretch/>
        </p:blipFill>
        <p:spPr>
          <a:xfrm>
            <a:off x="1190520" y="2997360"/>
            <a:ext cx="7178760" cy="3435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!!</a:t>
            </a:r>
            <a:br>
              <a:rPr sz="2800"/>
            </a:b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240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помимо презентации вы можете воспользоваться ссылкой на видеоролик с комплексом упражнений по артикуляционной гимнас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ыделяете ссылку, копируете ее в поисковую строку и смотрите виде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youtu.be/CGaqIMcMNI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872640"/>
            <a:ext cx="8263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ы и зубы сомкнуты. С напряжением вытянуть губы вперед трубочкой. Удерживать их в таком положении на счет до пя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665280" y="404640"/>
            <a:ext cx="822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ЛОНИ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__38644"/>
          <p:cNvPicPr/>
          <p:nvPr/>
        </p:nvPicPr>
        <p:blipFill>
          <a:blip r:embed="rId1"/>
          <a:stretch/>
        </p:blipFill>
        <p:spPr>
          <a:xfrm>
            <a:off x="1187280" y="2205000"/>
            <a:ext cx="6691320" cy="4292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873000"/>
            <a:ext cx="826308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приоткрыть рот. Кончиком языка «почистить» нижние, затем верхние зубы с внутренней стороны, делая движения языком вправо - влево. Нижняя челюсть при этом не двигает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65280" y="3222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ЧИСТИМ ЗУБК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__19318"/>
          <p:cNvPicPr/>
          <p:nvPr/>
        </p:nvPicPr>
        <p:blipFill>
          <a:blip r:embed="rId1"/>
          <a:stretch/>
        </p:blipFill>
        <p:spPr>
          <a:xfrm>
            <a:off x="1187280" y="1916280"/>
            <a:ext cx="67374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873000"/>
            <a:ext cx="826308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. Положить широкий язык на нижнюю губу. Удерживать в спокойном состоянии на счет до пяти. В этом упражнении важно следить, чтобы нижняя губа не напрягалась и не натягивалась на нижние зуб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65280" y="3222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ЛИНЧИ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__64059"/>
          <p:cNvPicPr/>
          <p:nvPr/>
        </p:nvPicPr>
        <p:blipFill>
          <a:blip r:embed="rId1"/>
          <a:srcRect l="0" t="8318" r="0" b="17085"/>
          <a:stretch/>
        </p:blipFill>
        <p:spPr>
          <a:xfrm>
            <a:off x="500040" y="2357280"/>
            <a:ext cx="8286840" cy="3835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873000"/>
            <a:ext cx="826308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уться, открыть рот. Языком в форме чашечки облизывать верхнюю губу сверху- вниз(можно помазать ее вареньем). Нижняя губа не должна обтягивать зубы (можно оттянуть ее  вниз руко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65280" y="3222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КУСНОЕ ВАРЕНЬЕ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__42884"/>
          <p:cNvPicPr/>
          <p:nvPr/>
        </p:nvPicPr>
        <p:blipFill>
          <a:blip r:embed="rId1"/>
          <a:stretch/>
        </p:blipFill>
        <p:spPr>
          <a:xfrm>
            <a:off x="928800" y="2000160"/>
            <a:ext cx="7572240" cy="4641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873000"/>
            <a:ext cx="826308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 широко открыт и слегка растянут в улыбке, язычок в форме «чашечки» поднят вверх: боковые края языка прижаты к верхним коренным зубкам, а передний край  языка поднят за верхние передние зубы к альвеолам. Ребёнок говорит с придыханием Д-Д-Д или Т-Т-Т. Язык «прыгает на бугорках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65280" y="3222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ЯТЕЛ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__55763"/>
          <p:cNvPicPr/>
          <p:nvPr/>
        </p:nvPicPr>
        <p:blipFill>
          <a:blip r:embed="rId1"/>
          <a:srcRect l="0" t="4612" r="0" b="0"/>
          <a:stretch/>
        </p:blipFill>
        <p:spPr>
          <a:xfrm>
            <a:off x="1116000" y="2492280"/>
            <a:ext cx="6786720" cy="4200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873000"/>
            <a:ext cx="826308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 закрыт. Язык движется с внутренней стороны, плавно очерчивая кончиком языка круг ( правая щека- под верхней губой, левая щека- под нижней губой). Затем язык двигается в обратном направлении. Так «нарисовать» по 5 - 6 кругов в одну и другую сторо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65280" y="3222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ЁЖИ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__28864"/>
          <p:cNvPicPr/>
          <p:nvPr/>
        </p:nvPicPr>
        <p:blipFill>
          <a:blip r:embed="rId1"/>
          <a:srcRect l="0" t="2752" r="0" b="11990"/>
          <a:stretch/>
        </p:blipFill>
        <p:spPr>
          <a:xfrm>
            <a:off x="285840" y="2143080"/>
            <a:ext cx="857232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1:33:01Z</dcterms:created>
  <dc:creator>Zver</dc:creator>
  <dc:description/>
  <dc:language>en-US</dc:language>
  <cp:lastModifiedBy>adm</cp:lastModifiedBy>
  <dcterms:modified xsi:type="dcterms:W3CDTF">2022-02-02T06:12:09Z</dcterms:modified>
  <cp:revision>46</cp:revision>
  <dc:subject/>
  <dc:title>УПРАЖНЕНИЕ «ГРИБОК»</dc:title>
</cp:coreProperties>
</file>