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65CD-73F9-432C-BB4C-EBBB36F7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A80A-D750-477C-B835-BC62E9DC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EDE4-9F00-4975-B4F5-C177301A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ADD-3F87-4BC9-98B7-6B831E91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A81-C457-4D6E-A56B-B1D6A70A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05F-980D-4306-BBD5-79C5FA41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09C4-E30A-4885-B46B-5275B9DB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C4DF-2DAB-4280-930A-C37AC144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7D2-F378-4BD0-AAAC-8ED96CDA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0110-738C-45F1-8B7D-10A80212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AD83-9D44-4515-98B2-4F04FF9B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19C3-B6F6-4EB3-A3A9-2C2047E1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978F86-21EA-4B39-9C2B-9B871FAAF2A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Классный час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 сентября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День Памяти 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жертв терроризм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2921760" y="3379680"/>
            <a:ext cx="5184360" cy="2304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2400" spc="-1" strike="noStrike">
              <a:solidFill>
                <a:srgbClr val="00206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третий день около 13:05 в школе произошли взрывы, и позже возник пожар, в результате чего произошло частичное обрушение здания. После первых взрывов заложники начали выбегать из школы, и федеральными силами был предпринят штурм. Во время хаотичной перестрелки, в том числе с участием гражданских лиц, пользовавшихся личным оружием, было убито 28 террористов, 1 был арестован и впоследствии приговорён судом к пожизненному заключению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тя большинство заложников были освобождены в ходе штурма, в результате теракта 334 человека, из них 186 детей, были убиты и свыше 800 ранен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C:\Users\Оксана\Desktop\Новая папка\0016-016-Deti-Beslana.jpg"/>
          <p:cNvPicPr/>
          <p:nvPr/>
        </p:nvPicPr>
        <p:blipFill>
          <a:blip r:embed="rId2"/>
          <a:stretch/>
        </p:blipFill>
        <p:spPr>
          <a:xfrm>
            <a:off x="3636000" y="2890080"/>
            <a:ext cx="3912120" cy="2934000"/>
          </a:xfrm>
          <a:prstGeom prst="rect">
            <a:avLst/>
          </a:prstGeom>
          <a:ln w="57150">
            <a:solidFill>
              <a:srgbClr val="000000"/>
            </a:solidFill>
            <a:round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роризм – это зло , которому нет оправдан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кретный пример проявления зла – это трагедия в Беслане 1 сентября 2004 года. Это невероятно страшное событие потрясло не только Россию, но и весь мир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"/>
          <p:cNvSpPr/>
          <p:nvPr/>
        </p:nvSpPr>
        <p:spPr>
          <a:xfrm>
            <a:off x="1403640" y="2349000"/>
            <a:ext cx="632412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5d5d5d"/>
                </a:solidFill>
                <a:latin typeface="Calibri"/>
              </a:rPr>
              <a:t>Памятники жертва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5d5d5d"/>
                </a:solidFill>
                <a:latin typeface="Calibri"/>
              </a:rPr>
              <a:t>Бесла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амятник детям Беслана в Сан-Марино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Оксана\Desktop\104667682_large_0_abce8_d486a1b3_XL.jpg"/>
          <p:cNvPicPr/>
          <p:nvPr/>
        </p:nvPicPr>
        <p:blipFill>
          <a:blip r:embed="rId2"/>
          <a:stretch/>
        </p:blipFill>
        <p:spPr>
          <a:xfrm>
            <a:off x="3159720" y="1556640"/>
            <a:ext cx="3044520" cy="4059720"/>
          </a:xfrm>
          <a:prstGeom prst="rect">
            <a:avLst/>
          </a:prstGeom>
          <a:ln w="57150">
            <a:solidFill>
              <a:srgbClr val="ff0000"/>
            </a:solidFill>
            <a:round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лощадь имени детей Беслан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о Флоренц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Оксана\Desktop\104667651_large_unpodimondo768x1024.jpg"/>
          <p:cNvPicPr/>
          <p:nvPr/>
        </p:nvPicPr>
        <p:blipFill>
          <a:blip r:embed="rId2"/>
          <a:stretch/>
        </p:blipFill>
        <p:spPr>
          <a:xfrm>
            <a:off x="3227040" y="2133000"/>
            <a:ext cx="2689920" cy="3586680"/>
          </a:xfrm>
          <a:prstGeom prst="rect">
            <a:avLst/>
          </a:prstGeom>
          <a:ln w="57150">
            <a:solidFill>
              <a:srgbClr val="ff0000"/>
            </a:solidFill>
            <a:round/>
          </a:ln>
        </p:spPr>
      </p:pic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амятник жертвам Беслан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о Владикавказ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Оксана\Desktop\Новая папка\dcf48d49018554fc2451a2e97511956f.jpg"/>
          <p:cNvPicPr/>
          <p:nvPr/>
        </p:nvPicPr>
        <p:blipFill>
          <a:blip r:embed="rId2"/>
          <a:stretch/>
        </p:blipFill>
        <p:spPr>
          <a:xfrm>
            <a:off x="2239200" y="2134080"/>
            <a:ext cx="4780440" cy="3585240"/>
          </a:xfrm>
          <a:prstGeom prst="rect">
            <a:avLst/>
          </a:prstGeom>
          <a:ln w="76200">
            <a:solidFill>
              <a:srgbClr val="ff0000"/>
            </a:solidFill>
            <a:round/>
          </a:ln>
        </p:spPr>
      </p:pic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амятник жертвам бесланской трагедии у храма Пресвятой Богородицы в Москв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р: Зураб Церетел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Users\Оксана\Desktop\Новая папка\104668506_large_pamyatnikzhertvambislana1.jpg"/>
          <p:cNvPicPr/>
          <p:nvPr/>
        </p:nvPicPr>
        <p:blipFill>
          <a:blip r:embed="rId2"/>
          <a:stretch/>
        </p:blipFill>
        <p:spPr>
          <a:xfrm>
            <a:off x="2915640" y="1881360"/>
            <a:ext cx="2726280" cy="3741840"/>
          </a:xfrm>
          <a:prstGeom prst="rect">
            <a:avLst/>
          </a:prstGeom>
          <a:ln w="76200">
            <a:solidFill>
              <a:srgbClr val="ff0000"/>
            </a:solidFill>
            <a:round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амятник "Детям Беслана"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 сквере храма Успения Пресвятой Богородицы. Санкт-Петербур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Оксана\Desktop\Новая папка\7.jpg"/>
          <p:cNvPicPr/>
          <p:nvPr/>
        </p:nvPicPr>
        <p:blipFill>
          <a:blip r:embed="rId2"/>
          <a:stretch/>
        </p:blipFill>
        <p:spPr>
          <a:xfrm>
            <a:off x="3636000" y="2545200"/>
            <a:ext cx="2334960" cy="3113280"/>
          </a:xfrm>
          <a:prstGeom prst="rect">
            <a:avLst/>
          </a:prstGeom>
          <a:ln w="76200">
            <a:solidFill>
              <a:srgbClr val="ff0000"/>
            </a:solidFill>
            <a:round/>
          </a:ln>
        </p:spPr>
      </p:pic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емориальное кладбищ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"Город ангелов« в Беслан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Оксана\Desktop\104668623_large_10720216.jpg"/>
          <p:cNvPicPr/>
          <p:nvPr/>
        </p:nvPicPr>
        <p:blipFill>
          <a:blip r:embed="rId2"/>
          <a:stretch/>
        </p:blipFill>
        <p:spPr>
          <a:xfrm>
            <a:off x="2411640" y="2133000"/>
            <a:ext cx="4691160" cy="3527280"/>
          </a:xfrm>
          <a:prstGeom prst="rect">
            <a:avLst/>
          </a:prstGeom>
          <a:ln w="76200">
            <a:solidFill>
              <a:srgbClr val="ff0000"/>
            </a:solidFill>
            <a:round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57160" y="836640"/>
            <a:ext cx="800064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лавные цели урока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толерантности сострадания,  общероссийской гражданской идентичности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ние патриотизма, уважения к Отечеству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йствовать развитию сострадания и сочувствия к жертвам терроризма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йствовать воспитанию чувства неприятия к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илию и терроризму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ы все живем в большой многонациональной стране, которая зовется Россией – Российская Федерация, где все люди стремятся жить в мире и соглас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"/>
          <p:cNvSpPr/>
          <p:nvPr/>
        </p:nvSpPr>
        <p:spPr>
          <a:xfrm>
            <a:off x="4428000" y="3440880"/>
            <a:ext cx="3312000" cy="2376000"/>
          </a:xfrm>
          <a:prstGeom prst="rect">
            <a:avLst/>
          </a:prstGeom>
          <a:blipFill rotWithShape="0">
            <a:blip r:embed="rId2"/>
            <a:srcRect/>
            <a:stretch/>
          </a:blipFill>
          <a:ln w="57150">
            <a:solidFill>
              <a:srgbClr val="00206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1259640" y="3633480"/>
            <a:ext cx="2736000" cy="100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Президент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ладимир Владимирович Пу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C:\Users\Оксана\Desktop\Новая папка\Moskva-Tur-Itogi-12.jpg"/>
          <p:cNvPicPr/>
          <p:nvPr/>
        </p:nvPicPr>
        <p:blipFill>
          <a:blip r:embed="rId2"/>
          <a:stretch/>
        </p:blipFill>
        <p:spPr>
          <a:xfrm>
            <a:off x="4212000" y="3342240"/>
            <a:ext cx="3764880" cy="2364120"/>
          </a:xfrm>
          <a:prstGeom prst="rect">
            <a:avLst/>
          </a:prstGeom>
          <a:ln w="57150">
            <a:solidFill>
              <a:srgbClr val="ffff00"/>
            </a:solidFill>
            <a:round/>
          </a:ln>
        </p:spPr>
      </p:pic>
      <p:pic>
        <p:nvPicPr>
          <p:cNvPr id="53" name="Picture 6" descr="C:\Users\Оксана\Desktop\Новая папка\joy.jpg"/>
          <p:cNvPicPr/>
          <p:nvPr/>
        </p:nvPicPr>
        <p:blipFill>
          <a:blip r:embed="rId3"/>
          <a:stretch/>
        </p:blipFill>
        <p:spPr>
          <a:xfrm>
            <a:off x="1000080" y="1143720"/>
            <a:ext cx="3938400" cy="2627280"/>
          </a:xfrm>
          <a:prstGeom prst="rect">
            <a:avLst/>
          </a:prstGeom>
          <a:ln w="57150">
            <a:solidFill>
              <a:srgbClr val="ffff00"/>
            </a:solidFill>
            <a:round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ть люди, которые не хотят жить в мире. Они стремятся разрушить добрый светлый мир. Эти люди приносят зло и гор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Users\Оксана\Desktop\Новая папка\1365515890_syria_in_ruins_21.jpg"/>
          <p:cNvPicPr/>
          <p:nvPr/>
        </p:nvPicPr>
        <p:blipFill>
          <a:blip r:embed="rId2"/>
          <a:stretch/>
        </p:blipFill>
        <p:spPr>
          <a:xfrm>
            <a:off x="3996000" y="2953080"/>
            <a:ext cx="4057920" cy="2364840"/>
          </a:xfrm>
          <a:prstGeom prst="rect">
            <a:avLst/>
          </a:prstGeom>
          <a:ln w="57150">
            <a:solidFill>
              <a:srgbClr val="000000"/>
            </a:solidFill>
            <a:round/>
          </a:ln>
        </p:spPr>
      </p:pic>
      <p:pic>
        <p:nvPicPr>
          <p:cNvPr id="57" name="Picture 2" descr="C:\Users\Оксана\Desktop\Новая папка\1360760387.7882.jpg"/>
          <p:cNvPicPr/>
          <p:nvPr/>
        </p:nvPicPr>
        <p:blipFill>
          <a:blip r:embed="rId3"/>
          <a:stretch/>
        </p:blipFill>
        <p:spPr>
          <a:xfrm>
            <a:off x="1115640" y="3573360"/>
            <a:ext cx="3240000" cy="2156760"/>
          </a:xfrm>
          <a:prstGeom prst="rect">
            <a:avLst/>
          </a:prstGeom>
          <a:ln w="57150">
            <a:solidFill>
              <a:srgbClr val="000000"/>
            </a:solidFill>
            <a:round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рро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насили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ррориз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действия, основанные на террор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ррористический акт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овершение взрыва, поджога или иных действий, устрашающих население и создающих опасность гибели человека, причинения значительного имущественного ущерба, либо наступления иных тяжких последстви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Заложни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человек, удерживаемый сило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Жертв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человек пострадавший или погибший от чего-либ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лан – город в России в Северной Осет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циональный состав: осетины, русские, армяне и други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Оксана\Desktop\Новая папка\img22.jpg"/>
          <p:cNvPicPr/>
          <p:nvPr/>
        </p:nvPicPr>
        <p:blipFill>
          <a:blip r:embed="rId2"/>
          <a:stretch/>
        </p:blipFill>
        <p:spPr>
          <a:xfrm>
            <a:off x="2643120" y="2928960"/>
            <a:ext cx="4050720" cy="3038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ррористический акт в Беслан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хват заложников в школе № 1 города Беслан, совершённый террористами утром 1 сентября 2004 года во время торжественной линейки, посвящённой началу учебного год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Оксана\Desktop\Новая папка\0012-017-Razrushennaja-shkola.jpg"/>
          <p:cNvPicPr/>
          <p:nvPr/>
        </p:nvPicPr>
        <p:blipFill>
          <a:blip r:embed="rId2"/>
          <a:stretch/>
        </p:blipFill>
        <p:spPr>
          <a:xfrm>
            <a:off x="5148000" y="3573000"/>
            <a:ext cx="2737800" cy="2053440"/>
          </a:xfrm>
          <a:prstGeom prst="rect">
            <a:avLst/>
          </a:prstGeom>
          <a:ln w="57150">
            <a:solidFill>
              <a:srgbClr val="000000"/>
            </a:solidFill>
            <a:round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ечение двух с половиной дней террористы удерживали в заминированном здании более 1100 заложников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преимущественно детей, их родителей и сотрудников школы) в тяжелейших условиях, отказывая людям даже в минимальных естественных потребностях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Оксана\Desktop\Новая папка\98E3D21D-C004-434D-977C-996D2024B320_mw1024_n_s.jpg"/>
          <p:cNvPicPr/>
          <p:nvPr/>
        </p:nvPicPr>
        <p:blipFill>
          <a:blip r:embed="rId2"/>
          <a:stretch/>
        </p:blipFill>
        <p:spPr>
          <a:xfrm>
            <a:off x="3503880" y="2925000"/>
            <a:ext cx="4262400" cy="2842920"/>
          </a:xfrm>
          <a:prstGeom prst="rect">
            <a:avLst/>
          </a:prstGeom>
          <a:ln w="57150">
            <a:solidFill>
              <a:srgbClr val="000000"/>
            </a:solidFill>
            <a:round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  <Words>421</Words>
  <Paragraphs>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30T16:04:40Z</dcterms:created>
  <dc:creator>Оксана Баранова</dc:creator>
  <dc:description/>
  <dc:language>en-US</dc:language>
  <cp:lastModifiedBy>Пользователь Windows</cp:lastModifiedBy>
  <dcterms:modified xsi:type="dcterms:W3CDTF">2022-12-13T02:28:44Z</dcterms:modified>
  <cp:revision>2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0</vt:r8>
  </property>
</Properties>
</file>