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04A-B8B6-4FCB-BD9A-8603C702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FE5-FDAB-47BD-9F3B-4B88679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738-8E1F-46B7-B528-93608A68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4A8-47D2-4FF0-9BEF-CC91D83E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7E9-CED2-45A8-960C-9621740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BB-8E7A-4148-9759-FB2E5F85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5B6-41E8-41B2-A02B-522BD6DB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D11-0F50-4E44-90F5-5727DFF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702-97C1-40A2-B940-968DD5AD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37D-3AD9-4C8B-A090-91944CE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C93-2A02-4BA0-845B-87A581A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0AF-16AB-4282-AFE3-C984A34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65DCC5-3257-40C0-8E79-2BFEFC0C50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лассный час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 сентябр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нь Памяти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ертв террориз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921760" y="3379680"/>
            <a:ext cx="5184360" cy="2304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2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етий день около 13:05 в школе произошли взрывы, и позже возник пожар, в результате чего произошло частичное обрушение здания. После первых взрывов заложники начали выбегать из школы, и федеральными силами был предпринят штурм. Во время хаотичной перестрелки, в том числе с участием гражданских лиц, пользовавшихся личным оружием, было убито 28 террористов, 1 был арестован и впоследствии приговорён судом к пожизненному заключени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я большинство заложников были освобождены в ходе штурма, в результате теракта 334 человека, из них 186 детей, были убиты и свыше 800 ране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Оксана\Desktop\Новая папка\0016-016-Deti-Beslana.jpg"/>
          <p:cNvPicPr/>
          <p:nvPr/>
        </p:nvPicPr>
        <p:blipFill>
          <a:blip r:embed="rId2"/>
          <a:stretch/>
        </p:blipFill>
        <p:spPr>
          <a:xfrm>
            <a:off x="3636000" y="2890080"/>
            <a:ext cx="3912120" cy="293400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оризм – это зло , которому нет оправд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ретный пример проявления зла – это трагедия в Беслане 1 сентября 2004 года. Это невероятно страшное событие потрясло не только Россию, но и весь ми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1403640" y="2349000"/>
            <a:ext cx="63241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Памятники жертв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5d5d5d"/>
                </a:solidFill>
                <a:latin typeface="Calibri"/>
              </a:rPr>
              <a:t>Бесл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детям Беслана в Сан-Марин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Оксана\Desktop\104667682_large_0_abce8_d486a1b3_XL.jpg"/>
          <p:cNvPicPr/>
          <p:nvPr/>
        </p:nvPicPr>
        <p:blipFill>
          <a:blip r:embed="rId2"/>
          <a:stretch/>
        </p:blipFill>
        <p:spPr>
          <a:xfrm>
            <a:off x="3159720" y="1556640"/>
            <a:ext cx="3044520" cy="4059720"/>
          </a:xfrm>
          <a:prstGeom prst="rect">
            <a:avLst/>
          </a:prstGeom>
          <a:ln w="5715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лощадь имени детей Беслан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 Флорен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Оксана\Desktop\104667651_large_unpodimondo768x1024.jpg"/>
          <p:cNvPicPr/>
          <p:nvPr/>
        </p:nvPicPr>
        <p:blipFill>
          <a:blip r:embed="rId2"/>
          <a:stretch/>
        </p:blipFill>
        <p:spPr>
          <a:xfrm>
            <a:off x="3227040" y="2133000"/>
            <a:ext cx="2689920" cy="3586680"/>
          </a:xfrm>
          <a:prstGeom prst="rect">
            <a:avLst/>
          </a:prstGeom>
          <a:ln w="5715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жертвам Бесла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 Владикавказ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Оксана\Desktop\Новая папка\dcf48d49018554fc2451a2e97511956f.jpg"/>
          <p:cNvPicPr/>
          <p:nvPr/>
        </p:nvPicPr>
        <p:blipFill>
          <a:blip r:embed="rId2"/>
          <a:stretch/>
        </p:blipFill>
        <p:spPr>
          <a:xfrm>
            <a:off x="2239200" y="2134080"/>
            <a:ext cx="4780440" cy="358524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жертвам бесланской трагедии у храма Пресвятой Богородицы в Москв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: Зураб Церетел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Оксана\Desktop\Новая папка\104668506_large_pamyatnikzhertvambislana1.jpg"/>
          <p:cNvPicPr/>
          <p:nvPr/>
        </p:nvPicPr>
        <p:blipFill>
          <a:blip r:embed="rId2"/>
          <a:stretch/>
        </p:blipFill>
        <p:spPr>
          <a:xfrm>
            <a:off x="2915640" y="1881360"/>
            <a:ext cx="2726280" cy="374184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амятник "Детям Беслана"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квере храма Успения Пресвятой Богородицы. Санкт-Петербур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Оксана\Desktop\Новая папка\7.jpg"/>
          <p:cNvPicPr/>
          <p:nvPr/>
        </p:nvPicPr>
        <p:blipFill>
          <a:blip r:embed="rId2"/>
          <a:stretch/>
        </p:blipFill>
        <p:spPr>
          <a:xfrm>
            <a:off x="3636000" y="2545200"/>
            <a:ext cx="2334960" cy="311328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емориальное кладбищ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"Город ангелов« в Бесл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Оксана\Desktop\104668623_large_10720216.jpg"/>
          <p:cNvPicPr/>
          <p:nvPr/>
        </p:nvPicPr>
        <p:blipFill>
          <a:blip r:embed="rId2"/>
          <a:stretch/>
        </p:blipFill>
        <p:spPr>
          <a:xfrm>
            <a:off x="2411640" y="2133000"/>
            <a:ext cx="4691160" cy="3527280"/>
          </a:xfrm>
          <a:prstGeom prst="rect">
            <a:avLst/>
          </a:prstGeom>
          <a:ln w="76200">
            <a:solidFill>
              <a:srgbClr val="ff0000"/>
            </a:solidFill>
            <a:round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57160" y="836640"/>
            <a:ext cx="80006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лавные цели урока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 сострадания,  общероссийской гражданской идентич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патриотизма, уважения к Отечеств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развитию сострадания и сочувствия к жертвам терроризм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воспитанию чувства неприятия к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илию и терроризм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ы все живем в большой многонациональной стране, которая зовется Россией – Российская Федерация, где все люди стремятся жить в мире и соглас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428000" y="3440880"/>
            <a:ext cx="3312000" cy="237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259640" y="3633480"/>
            <a:ext cx="2736000" cy="100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ладимир Владимирович 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Оксана\Desktop\Новая папка\Moskva-Tur-Itogi-12.jpg"/>
          <p:cNvPicPr/>
          <p:nvPr/>
        </p:nvPicPr>
        <p:blipFill>
          <a:blip r:embed="rId2"/>
          <a:stretch/>
        </p:blipFill>
        <p:spPr>
          <a:xfrm>
            <a:off x="4212000" y="3342240"/>
            <a:ext cx="3764880" cy="2364120"/>
          </a:xfrm>
          <a:prstGeom prst="rect">
            <a:avLst/>
          </a:prstGeom>
          <a:ln w="57150">
            <a:solidFill>
              <a:srgbClr val="ffff00"/>
            </a:solidFill>
            <a:round/>
          </a:ln>
        </p:spPr>
      </p:pic>
      <p:pic>
        <p:nvPicPr>
          <p:cNvPr id="53" name="Picture 6" descr="C:\Users\Оксана\Desktop\Новая папка\joy.jpg"/>
          <p:cNvPicPr/>
          <p:nvPr/>
        </p:nvPicPr>
        <p:blipFill>
          <a:blip r:embed="rId3"/>
          <a:stretch/>
        </p:blipFill>
        <p:spPr>
          <a:xfrm>
            <a:off x="1000080" y="1143720"/>
            <a:ext cx="3938400" cy="2627280"/>
          </a:xfrm>
          <a:prstGeom prst="rect">
            <a:avLst/>
          </a:prstGeom>
          <a:ln w="57150">
            <a:solidFill>
              <a:srgbClr val="ffff00"/>
            </a:solidFill>
            <a:round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юди, которые не хотят жить в мире. Они стремятся разрушить добрый светлый мир. Эти люди приносят зло и г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Оксана\Desktop\Новая папка\1365515890_syria_in_ruins_21.jpg"/>
          <p:cNvPicPr/>
          <p:nvPr/>
        </p:nvPicPr>
        <p:blipFill>
          <a:blip r:embed="rId2"/>
          <a:stretch/>
        </p:blipFill>
        <p:spPr>
          <a:xfrm>
            <a:off x="3996000" y="2953080"/>
            <a:ext cx="4057920" cy="236484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  <p:pic>
        <p:nvPicPr>
          <p:cNvPr id="57" name="Picture 2" descr="C:\Users\Оксана\Desktop\Новая папка\1360760387.7882.jpg"/>
          <p:cNvPicPr/>
          <p:nvPr/>
        </p:nvPicPr>
        <p:blipFill>
          <a:blip r:embed="rId3"/>
          <a:stretch/>
        </p:blipFill>
        <p:spPr>
          <a:xfrm>
            <a:off x="1115640" y="3573360"/>
            <a:ext cx="3240000" cy="215676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асил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йствия, основанные на терр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стический ак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вершение взрыва, поджога или иных действий, устрашающих население и создающих опасность гибели человека, причинения значительного имущественного ущерба, либо наступления иных тяжких последств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лож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еловек, удерживаемый сил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Жертв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еловек пострадавший или погибший от чего-либ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лан – город в России в Северной Осет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ый состав: осетины, русские, армяне и друг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Оксана\Desktop\Новая папка\img22.jpg"/>
          <p:cNvPicPr/>
          <p:nvPr/>
        </p:nvPicPr>
        <p:blipFill>
          <a:blip r:embed="rId2"/>
          <a:stretch/>
        </p:blipFill>
        <p:spPr>
          <a:xfrm>
            <a:off x="2643120" y="2928960"/>
            <a:ext cx="4050720" cy="303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ррористический акт в Бесл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хват заложников в школе № 1 города Беслан, совершённый террористами утром 1 сентября 2004 года во время торжественной линейки, посвящённой началу учебного год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Оксана\Desktop\Новая папка\0012-017-Razrushennaja-shkola.jpg"/>
          <p:cNvPicPr/>
          <p:nvPr/>
        </p:nvPicPr>
        <p:blipFill>
          <a:blip r:embed="rId2"/>
          <a:stretch/>
        </p:blipFill>
        <p:spPr>
          <a:xfrm>
            <a:off x="5148000" y="3573000"/>
            <a:ext cx="2737800" cy="205344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7640" y="836640"/>
            <a:ext cx="7488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ечение двух с половиной дней террористы удерживали в заминированном здании более 1100 заложник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еимущественно детей, их родителей и сотрудников школы) в тяжелейших условиях, отказывая людям даже в минимальных естественных потребностя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Рамка 4"/>
          <p:cNvSpPr/>
          <p:nvPr/>
        </p:nvSpPr>
        <p:spPr>
          <a:xfrm>
            <a:off x="0" y="0"/>
            <a:ext cx="9143640" cy="6857640"/>
          </a:xfrm>
          <a:prstGeom prst="frame">
            <a:avLst>
              <a:gd name="adj1" fmla="val 12500"/>
            </a:avLst>
          </a:prstGeom>
          <a:blipFill rotWithShape="0">
            <a:blip r:embed="rId1"/>
            <a:srcRect/>
            <a:stretch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Оксана\Desktop\Новая папка\98E3D21D-C004-434D-977C-996D2024B320_mw1024_n_s.jpg"/>
          <p:cNvPicPr/>
          <p:nvPr/>
        </p:nvPicPr>
        <p:blipFill>
          <a:blip r:embed="rId2"/>
          <a:stretch/>
        </p:blipFill>
        <p:spPr>
          <a:xfrm>
            <a:off x="3503880" y="2925000"/>
            <a:ext cx="4262400" cy="2842920"/>
          </a:xfrm>
          <a:prstGeom prst="rect">
            <a:avLst/>
          </a:prstGeom>
          <a:ln w="57150">
            <a:solidFill>
              <a:srgbClr val="000000"/>
            </a:solidFill>
            <a:round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  <Words>421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16:04:40Z</dcterms:created>
  <dc:creator>Оксана Баранова</dc:creator>
  <dc:description/>
  <dc:language>en-US</dc:language>
  <cp:lastModifiedBy>Пользователь Windows</cp:lastModifiedBy>
  <dcterms:modified xsi:type="dcterms:W3CDTF">2022-12-13T02:28:44Z</dcterms:modified>
  <cp:revision>2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