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71C-D2B2-4009-900F-85C5AA76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ACB-EF83-4019-A4B1-BC8BD146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769-59A1-41EF-9B49-D67FEA15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53F-D69C-4781-AE9F-BD3AE67D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960-4F79-4BBE-B1AB-FFB1C0C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225-FF41-4495-925C-0EA931A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A9E-EABA-4A0F-A986-1E1975B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4E8-FE3C-468D-ACAD-C2966C1D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ACB-63A0-4ECA-B148-58EF2F0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8B7-16A3-4D46-BF1A-EB297EC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313-64E6-4A4C-9111-91038BE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1F4-8197-402A-89B8-4AB1B2D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5B9-3A76-4741-BE98-3C2D9D4D5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0920" y="476280"/>
            <a:ext cx="61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тодическая разработка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«Оригами» как средство развития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етей 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боту выполнил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руппы  «ВИШЕН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утынец Н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00360" y="18900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2640" y="20808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има. Снежи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87640" y="620640"/>
            <a:ext cx="5329440" cy="266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36655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овый Год. Дед Мо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1760" y="404640"/>
            <a:ext cx="2855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608200" y="13644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Морские животные. Скат. Кит. Кра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68360" y="549360"/>
            <a:ext cx="6875640" cy="310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37720" y="3665520"/>
            <a:ext cx="52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ивотные жарких стран. Зеб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6121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63120" y="20808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Человек. Дед и баба к сказке «Колоб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24000" y="819000"/>
            <a:ext cx="4969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36200" y="13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казка «Лиса и волк» на ковро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28880" y="662040"/>
            <a:ext cx="509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10360" y="2811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ивотные Севера. Белый мед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33520" y="765000"/>
            <a:ext cx="4405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65640" y="49680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ивотные Севера. Пингвины в Антаркт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955800"/>
            <a:ext cx="5403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63840" y="6516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казки К.И. Чуковского. Муха- цокот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2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80200" y="281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казки К.И. Чуковского. Чудо- дер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4608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1332000" y="0"/>
            <a:ext cx="10476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68920" y="28116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мнатные растения. Фиа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95360" y="765000"/>
            <a:ext cx="4553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2760" y="836640"/>
            <a:ext cx="4038480" cy="32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82000" y="423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смос. Рак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95640" y="692280"/>
            <a:ext cx="61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Цель: Способствовать речевому развитию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редствами сложения фигур «оригами» и последующему обыгрыванию в различных видах коммуника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адачи: Стимулировать развитие мелких движений руки и пальцев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азвивать конструктивное мышление, умение следовать словесной инструкции, познавательные интересы и психические процессы: воображение, внимание, мышление,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оспитывать стремление к созидательной деятельности, сотрудничеству, взаимопомощ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476280"/>
            <a:ext cx="7221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елки «оригами» дают возможность оформ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крытки, участвовать в постановке сказок на ковро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ли на столе, позитивно влияя на взаимоотнош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ети составляют описательные рассказы 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Мою зебру зовут Гоша. Она любит играть на трав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елки используем для дыхательных упраж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уем на листочки, сделаем листопа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Подуем на снежинки, сделаем снегопа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елки используем как счётный материал на занятиях математики для составления и решения пример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дач, закрепляем согласование числи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 существ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истематическая и планомерная работа по складыванию фигурок «оригами» способствует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оторики кисти рук и пальцев, что полож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лияет на развитие речи, логики, памяти, вни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омогает детям подготовиться к школ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47640" y="2655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пасибо за внима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19280" y="69228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35280" y="31428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40000" y="568440"/>
            <a:ext cx="680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анадский нейрохирург У.Пенфилд  составил карту речевых зон мозга и установил, что речь неизолированная еди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дной из основных рекомендаций по развитию речи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.Пенфилд считал стимулирование двиг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ктивности и мелкой моторики . Он открыл, что из-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айней близости речевых центров и зон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упной и мелкой моторикой происходит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заимного влияния. Чем больше умеет рука, тем умнее е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ладатель. Уровень развития речи находится в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висимости от степени сформированности тон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вижений пальцев рук. Установлена тесная взаим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тия мелкой моторики и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 детей старшего дошкольного возра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влекающихся «оригами», разв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нтазия, воображение, конструк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ышление и умение следовать сло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струкции, удовлетворяются 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тере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56000" y="549360"/>
            <a:ext cx="22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352440"/>
            <a:ext cx="61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 группе компенсирующей направленности  у детей наблюдаются выраженные отклонения движения пальцев рук. Движения немощные, нескоординированные, затруднённые.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«оригами» обеспечивает хорошую тренировку пальцев, способствует выработке точности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альцев и кисти рук, что положительно влияет на развитие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 детей, увлекающихся «оригами», развиваются навыки общения и такие психические процессы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нимание, восприятие, мышление, память, во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2205000"/>
            <a:ext cx="727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35280" y="-17136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еред началом работы с бумагой полезно сд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альчиковую гимнастику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»Козочки бодаются- зайчики пуг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»Лезгин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1" descr="M:\форм.успеха\DSC_0127.JPG"/>
          <p:cNvPicPr/>
          <p:nvPr/>
        </p:nvPicPr>
        <p:blipFill>
          <a:blip r:embed="rId2"/>
          <a:stretch/>
        </p:blipFill>
        <p:spPr>
          <a:xfrm>
            <a:off x="5003640" y="155736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M:\форм.успеха\DSC_0129.JPG"/>
          <p:cNvPicPr/>
          <p:nvPr/>
        </p:nvPicPr>
        <p:blipFill>
          <a:blip r:embed="rId3"/>
          <a:stretch/>
        </p:blipFill>
        <p:spPr>
          <a:xfrm>
            <a:off x="1619280" y="1569960"/>
            <a:ext cx="2952720" cy="185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1640" y="3573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»Ребро- кулак- ладонь».      4. «Колеч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71640" y="3957480"/>
            <a:ext cx="2520720" cy="1559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24360" y="3933720"/>
            <a:ext cx="2952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78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81640" y="928800"/>
            <a:ext cx="47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..Пальчиковая гимнастика с карандаш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2924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350028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ренировка пальцев рук, движений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ет их скоординированность,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у по складыванию, проглажи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гибов, втягиванию и вытягиванию уг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аждую неделю, изучая новую лекс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ему, стараемся выполнить поделку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орига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57240" y="1341360"/>
            <a:ext cx="5429520" cy="144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04840" y="285264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ю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28004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тюжок.      Добываем        Волчок.            Го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85800" y="549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вощи. Баклаж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843120"/>
            <a:ext cx="5832720" cy="2730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9220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403280" y="4300560"/>
            <a:ext cx="4897440" cy="255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66360" y="37368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машние животные. Соб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1720" y="1125360"/>
            <a:ext cx="5553000" cy="230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16360" y="18900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79120" y="63972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икие животные.   Символ Года- тиг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-2124000" y="8829720"/>
            <a:ext cx="12449160" cy="29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36560" y="352116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ранспорт. Корабл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547640" y="4005360"/>
            <a:ext cx="5616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0T06:28:19Z</dcterms:created>
  <dc:creator>Наталья</dc:creator>
  <dc:description/>
  <dc:language>en-US</dc:language>
  <cp:lastModifiedBy>Наталья</cp:lastModifiedBy>
  <dcterms:modified xsi:type="dcterms:W3CDTF">2022-12-13T15:27:44Z</dcterms:modified>
  <cp:revision>29</cp:revision>
  <dc:subject/>
  <dc:title>Слайд 1</dc:title>
</cp:coreProperties>
</file>