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EA9-94C1-48C0-9A67-FDF012B1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773-2D72-4777-88D7-D83DA214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EAA-74C3-4EA5-B0F4-FE9B6799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34E-42D2-4487-BEE3-6AC7D410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4BC-8BC5-4DA0-B17E-E5561387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66E-D148-4FE8-B8FD-48C76349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2D9-C79A-43E2-AEA4-D2285C79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750-7E41-4F55-86C8-1111CF1A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ED3-D38B-49F8-BB87-A09CC379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1F1-E79A-44B3-803C-97C6D215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66B-5BAD-46D0-8617-178B9F31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AF8-74D7-464F-99C5-AC7C4753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8413-52FF-4440-832B-80BC71C33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47920" y="60948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666880" y="198108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трез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809880" y="3581280"/>
            <a:ext cx="4572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ногоугольни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3" descr="stamm_1_26"/>
          <p:cNvPicPr/>
          <p:nvPr/>
        </p:nvPicPr>
        <p:blipFill>
          <a:blip r:embed="rId1"/>
          <a:stretch/>
        </p:blipFill>
        <p:spPr>
          <a:xfrm>
            <a:off x="838080" y="2133720"/>
            <a:ext cx="4114800" cy="4402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242109"/>
          <p:cNvPicPr/>
          <p:nvPr/>
        </p:nvPicPr>
        <p:blipFill>
          <a:blip r:embed="rId2"/>
          <a:stretch/>
        </p:blipFill>
        <p:spPr>
          <a:xfrm>
            <a:off x="8305920" y="2133720"/>
            <a:ext cx="509400" cy="44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1066680" y="380880"/>
            <a:ext cx="693432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Инструменты для построения и сравнения отрез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COMPSSS"/>
          <p:cNvPicPr/>
          <p:nvPr/>
        </p:nvPicPr>
        <p:blipFill>
          <a:blip r:embed="rId3"/>
          <a:stretch/>
        </p:blipFill>
        <p:spPr>
          <a:xfrm>
            <a:off x="4952880" y="1295280"/>
            <a:ext cx="274320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4"/>
          <p:cNvSpPr/>
          <p:nvPr/>
        </p:nvSpPr>
        <p:spPr>
          <a:xfrm>
            <a:off x="2133720" y="1143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335268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19051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 flipH="1">
            <a:off x="1904760" y="121932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 flipV="1">
            <a:off x="1981080" y="25146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2133720" y="1143000"/>
            <a:ext cx="12952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8288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3526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981080" y="838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3886200" y="609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ершины: А, В,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4267080" y="17524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ороны: АВ, ВС, 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2057400" y="3962520"/>
            <a:ext cx="2362320" cy="20574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828800" y="6172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4267080" y="6095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2133720" y="3657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4876920" y="4343400"/>
            <a:ext cx="350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ороны и углы треугольника К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5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4"/>
          <p:cNvSpPr/>
          <p:nvPr/>
        </p:nvSpPr>
        <p:spPr>
          <a:xfrm>
            <a:off x="2057400" y="9907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"/>
          <p:cNvSpPr/>
          <p:nvPr/>
        </p:nvSpPr>
        <p:spPr>
          <a:xfrm>
            <a:off x="3429000" y="60948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4267080" y="18288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3124080" y="30481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1828800" y="23623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257800" y="685800"/>
            <a:ext cx="3276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: 1.Соедините последовательно точки отрез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.Сколько отрезков вы получ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Как можно назвать такую фигу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1676520" y="762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429000" y="152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191120" y="19810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04812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3200400" y="1219320"/>
            <a:ext cx="2666880" cy="1600200"/>
          </a:xfrm>
          <a:prstGeom prst="parallelogram">
            <a:avLst>
              <a:gd name="adj" fmla="val 41665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914400" y="228600"/>
            <a:ext cx="1981080" cy="2057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143000" y="4800600"/>
            <a:ext cx="2971800" cy="16002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6324480" y="2057400"/>
            <a:ext cx="2438640" cy="1600200"/>
          </a:xfrm>
          <a:custGeom>
            <a:avLst/>
            <a:gdLst>
              <a:gd name="textAreaLeft" fmla="*/ 507960 w 2438640"/>
              <a:gd name="textAreaRight" fmla="*/ 1930680 w 2438640"/>
              <a:gd name="textAreaTop" fmla="*/ 333360 h 1600200"/>
              <a:gd name="textAreaBottom" fmla="*/ 1266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6934320" y="4419720"/>
            <a:ext cx="1981080" cy="1904760"/>
          </a:xfrm>
          <a:prstGeom prst="hexagon">
            <a:avLst>
              <a:gd name="adj" fmla="val 26002"/>
              <a:gd name="vf" fmla="val 115470"/>
            </a:avLst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371600" y="2743200"/>
            <a:ext cx="1523880" cy="16002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4648320" y="3200400"/>
            <a:ext cx="1828800" cy="3276720"/>
          </a:xfrm>
          <a:prstGeom prst="diamond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11"/>
          <p:cNvSpPr txBox="1"/>
          <p:nvPr/>
        </p:nvSpPr>
        <p:spPr>
          <a:xfrm>
            <a:off x="3124080" y="304920"/>
            <a:ext cx="5257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угольники: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/>
          <p:cNvSpPr/>
          <p:nvPr/>
        </p:nvSpPr>
        <p:spPr>
          <a:xfrm>
            <a:off x="1752480" y="1447920"/>
            <a:ext cx="2667240" cy="1600200"/>
          </a:xfrm>
          <a:prstGeom prst="parallelogram">
            <a:avLst>
              <a:gd name="adj" fmla="val 4167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447920" y="30481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09680" y="1066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343400" y="1066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3581280" y="31240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5410080" y="3352680"/>
            <a:ext cx="2514600" cy="2362320"/>
          </a:xfrm>
          <a:prstGeom prst="hexagon">
            <a:avLst>
              <a:gd name="adj" fmla="val 26612"/>
              <a:gd name="vf" fmla="val 115470"/>
            </a:avLst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5791320" y="2971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7162920" y="3048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7924680" y="43434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238880" y="57150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5943600" y="5791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5029200" y="43434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5486400" y="12193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азовите вер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990720" y="4343400"/>
            <a:ext cx="39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 стороны многоуг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144792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5" descr="imgDairy"/>
          <p:cNvPicPr/>
          <p:nvPr/>
        </p:nvPicPr>
        <p:blipFill>
          <a:blip r:embed="rId1"/>
          <a:stretch/>
        </p:blipFill>
        <p:spPr>
          <a:xfrm>
            <a:off x="762120" y="3048120"/>
            <a:ext cx="3708360" cy="3475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800600" y="2743200"/>
            <a:ext cx="4343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66; № 5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№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4(а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.2 стр.10 -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2286000" y="30492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тог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295280" y="2057400"/>
            <a:ext cx="7086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ак построить отрез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ак обозначают отрез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ак сравнивают отрез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ак построить многоуголь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ведите примеры многоуг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1219320" y="609480"/>
            <a:ext cx="3809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3733920" y="21337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4648320" y="3276720"/>
            <a:ext cx="3124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Picture 7" descr="0_1ffd2_1dfd7d6a_L"/>
          <p:cNvPicPr/>
          <p:nvPr/>
        </p:nvPicPr>
        <p:blipFill>
          <a:blip r:embed="rId1"/>
          <a:stretch/>
        </p:blipFill>
        <p:spPr>
          <a:xfrm>
            <a:off x="1295280" y="3429000"/>
            <a:ext cx="2743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5" descr="Image1"/>
          <p:cNvPicPr/>
          <p:nvPr/>
        </p:nvPicPr>
        <p:blipFill>
          <a:blip r:embed="rId1"/>
          <a:stretch/>
        </p:blipFill>
        <p:spPr>
          <a:xfrm>
            <a:off x="4952880" y="2133720"/>
            <a:ext cx="27180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val 4"/>
          <p:cNvSpPr/>
          <p:nvPr/>
        </p:nvSpPr>
        <p:spPr>
          <a:xfrm>
            <a:off x="2057400" y="167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429000" y="167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90512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3352680" y="1981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19810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2057400" y="380988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17524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365760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2057400" y="1752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2133720" y="1676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2971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9"/>
          <p:cNvSpPr/>
          <p:nvPr/>
        </p:nvSpPr>
        <p:spPr>
          <a:xfrm>
            <a:off x="1600200" y="342900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2133720" y="5562720"/>
            <a:ext cx="75960" cy="75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1981080" y="5715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129528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274320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4267080" y="609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 и В – концы отре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4495680" y="33526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чка В лежит на отрезке КР, а точки С и М не лежат на отрезке К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1371600" y="838080"/>
            <a:ext cx="426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 урок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676520" y="2590920"/>
            <a:ext cx="58672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ознакомиться с определением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аучиться строить отрезки и сравни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ознакомиться с многоугольником, научиться находить вершины и стороны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295280" y="228600"/>
            <a:ext cx="36576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азмин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219320" y="1752480"/>
            <a:ext cx="6858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19051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2438280" y="1752480"/>
            <a:ext cx="609840" cy="6098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3048120" y="2057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3657600" y="17524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4267080" y="2057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4952880" y="1752480"/>
            <a:ext cx="609840" cy="609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5562720" y="2057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6324480" y="1600200"/>
            <a:ext cx="60984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90512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8120" y="1447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34340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715000" y="1447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066680" y="28195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очитайте число: 5 013 000 002;   3124143;    71040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143000" y="41911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Найдите расстояние пройденное поездом за 3 часа со скоростью 120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5" descr=""/>
          <p:cNvPicPr/>
          <p:nvPr/>
        </p:nvPicPr>
        <p:blipFill>
          <a:blip r:embed="rId3"/>
          <a:stretch/>
        </p:blipFill>
        <p:spPr>
          <a:xfrm>
            <a:off x="6248520" y="5105520"/>
            <a:ext cx="26445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Times New Roman"/>
              </a:rPr>
              <a:t>3. Соедините точки М и К разными спо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0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1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>
              <a:gd name="textAreaLeft" fmla="*/ 0 w 320400"/>
              <a:gd name="textAreaRight" fmla="*/ 320760 w 320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12"/>
          <p:cNvCxnSpPr>
            <a:stCxn id="64" idx="4"/>
            <a:endCxn id="65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74" name="Freeform 13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4"/>
          <p:cNvSpPr/>
          <p:nvPr/>
        </p:nvSpPr>
        <p:spPr>
          <a:xfrm>
            <a:off x="4343400" y="4876920"/>
            <a:ext cx="2697120" cy="48888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6" descr="LINE_PT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7"/>
          <p:cNvSpPr/>
          <p:nvPr/>
        </p:nvSpPr>
        <p:spPr>
          <a:xfrm>
            <a:off x="609480" y="350532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GROUNDHO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81" name="Line 4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9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3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4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>
              <a:gd name="textAreaLeft" fmla="*/ 0 w 1614240"/>
              <a:gd name="textAreaRight" fmla="*/ 1614600 w 1614240"/>
              <a:gd name="textAreaTop" fmla="*/ 0 h 3413160"/>
              <a:gd name="textAreaBottom" fmla="*/ 3413520 h 3413160"/>
            </a:gdLst>
            <a:ahLst/>
            <a:rect l="textAreaLeft" t="textAreaTop" r="textAreaRight" b="textAreaBottom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4"/>
          <p:cNvSpPr/>
          <p:nvPr/>
        </p:nvSpPr>
        <p:spPr>
          <a:xfrm>
            <a:off x="1905120" y="1143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905120" y="2590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581280" y="533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3581280" y="1752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75248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0532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581280" y="6094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676520" y="1295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495680" y="380880"/>
            <a:ext cx="4648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: Постройте все возможные отрезки с концами в точках К, М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Сколько отрезков вы постро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066680" y="3809880"/>
            <a:ext cx="4191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Задание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 рисунке изображены три прямые и на них отмечены некоторые точки. Найдите и запишите 3 отре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6400800" y="3733920"/>
            <a:ext cx="1981080" cy="22860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H="1">
            <a:off x="5791320" y="3581280"/>
            <a:ext cx="1371600" cy="2438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5638680" y="5486400"/>
            <a:ext cx="2971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6019920" y="5486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8"/>
          <p:cNvSpPr/>
          <p:nvPr/>
        </p:nvSpPr>
        <p:spPr>
          <a:xfrm>
            <a:off x="67816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92468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0"/>
          <p:cNvSpPr/>
          <p:nvPr/>
        </p:nvSpPr>
        <p:spPr>
          <a:xfrm>
            <a:off x="6934320" y="5410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5715000" y="5105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934320" y="4038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7772400" y="5638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6781680" y="5562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4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2468880"/>
              <a:gd name="textAreaBottom" fmla="*/ 2469240 h 2468880"/>
            </a:gdLst>
            <a:ahLst/>
            <a:rect l="textAreaLeft" t="textAreaTop" r="textAreaRight" b="textAreaBottom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>
              <a:gd name="textAreaLeft" fmla="*/ 0 w 4721400"/>
              <a:gd name="textAreaRight" fmla="*/ 4721760 w 47214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>
              <a:gd name="textAreaLeft" fmla="*/ 0 w 138240"/>
              <a:gd name="textAreaRight" fmla="*/ 138240 w 138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циркуль"/>
          <p:cNvPicPr/>
          <p:nvPr/>
        </p:nvPicPr>
        <p:blipFill>
          <a:blip r:embed="rId1"/>
          <a:stretch/>
        </p:blipFill>
        <p:spPr>
          <a:xfrm>
            <a:off x="762120" y="990720"/>
            <a:ext cx="8381880" cy="58672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1828800" y="15228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авнение отрезков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2-13T16:44:2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