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07A0-02EA-40E1-91D8-B23F601D5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C460-FD46-437F-B70C-7A451211A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0DD3-89ED-4699-A2D7-9B95A371B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7FC-70F9-4F5A-87E4-47DBE870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2EC-1519-4BEF-86FA-EDDFCA9D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957-6309-45D7-B3E3-24AD0812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057-9322-4299-8CE7-764DEF31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091-2E08-40E6-BCB8-9B026B1D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09A-4202-4667-9773-D9C3C34E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36B-7E42-43E9-9BF5-49BEBD18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461-52AA-43FB-BBE1-2E005462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9D8-99D3-4F69-A747-D4731CFF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034-BFCC-40C1-9F78-4058041C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509-23C2-4BC7-9DBF-7DAF0EF2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671-0CBE-40AF-B402-C246210A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285D-A7E7-4834-A0C6-59AC48330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D:\ТАМАРА\D9 презентации все\картинки\картинки анемешки\Animated\J0076135.GIF"/>
          <p:cNvPicPr/>
          <p:nvPr/>
        </p:nvPicPr>
        <p:blipFill>
          <a:blip r:embed="rId1"/>
          <a:stretch/>
        </p:blipFill>
        <p:spPr>
          <a:xfrm>
            <a:off x="704880" y="189000"/>
            <a:ext cx="2124000" cy="154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205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я органических соеди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редставление о видах изоме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1 Геометриче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для бутена-2, если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динаковые группы атомо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томов углерода при двойной связи находятся по одну сторону от плоскости С=С – связи, то молекула явля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с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мером. Если по разные стороны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с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трелка вправо 5">
            <a:hlinkClick r:id="rId1" action="ppaction://hlinksldjump"/>
          </p:cNvPr>
          <p:cNvSpPr/>
          <p:nvPr/>
        </p:nvSpPr>
        <p:spPr>
          <a:xfrm>
            <a:off x="7643880" y="6143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Admin\Мои документы\Мои рисунки\Изображение\Изображение 063.jpg"/>
          <p:cNvPicPr/>
          <p:nvPr/>
        </p:nvPicPr>
        <p:blipFill>
          <a:blip r:embed="rId2"/>
          <a:stretch/>
        </p:blipFill>
        <p:spPr>
          <a:xfrm>
            <a:off x="500040" y="4857840"/>
            <a:ext cx="738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2 Оптиче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\Мои документы\Мои рисунки\Изображение\Изображение 064.jpg"/>
          <p:cNvPicPr/>
          <p:nvPr/>
        </p:nvPicPr>
        <p:blipFill>
          <a:blip r:embed="rId1"/>
          <a:stretch/>
        </p:blipFill>
        <p:spPr>
          <a:xfrm>
            <a:off x="3786120" y="2230560"/>
            <a:ext cx="490068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Admin\Мои документы\Мои рисунки\Изображение\Изображение 065.jpg"/>
          <p:cNvPicPr/>
          <p:nvPr/>
        </p:nvPicPr>
        <p:blipFill>
          <a:blip r:embed="rId2"/>
          <a:stretch/>
        </p:blipFill>
        <p:spPr>
          <a:xfrm>
            <a:off x="596880" y="2293920"/>
            <a:ext cx="3402000" cy="1944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1116000" y="477360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реческого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ро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ука – образец нессимметричн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3 Конформационна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8" descr=""/>
          <p:cNvPicPr/>
          <p:nvPr/>
        </p:nvPicPr>
        <p:blipFill>
          <a:blip r:embed="rId2"/>
          <a:stretch/>
        </p:blipFill>
        <p:spPr>
          <a:xfrm>
            <a:off x="4648320" y="2619360"/>
            <a:ext cx="40384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изомер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вление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ования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ных соеди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виды изомерии вы запомнил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вещества называются изомера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щества, имеющие одинаковый качественный и количественный состав, но разное строение и разны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меры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единения, молекулы которых содержат атомы одних и тех же химических элементов, но отличаются своей формой и взаимным расположением атом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4" descr=""/>
          <p:cNvPicPr/>
          <p:nvPr/>
        </p:nvPicPr>
        <p:blipFill>
          <a:blip r:embed="rId1"/>
          <a:stretch/>
        </p:blipFill>
        <p:spPr>
          <a:xfrm>
            <a:off x="1373040" y="1422360"/>
            <a:ext cx="2303640" cy="355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Объект 4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2879640" cy="3551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" name="TextBox 8"/>
          <p:cNvSpPr/>
          <p:nvPr/>
        </p:nvSpPr>
        <p:spPr>
          <a:xfrm>
            <a:off x="1042920" y="4992840"/>
            <a:ext cx="296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стус Либ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3-18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4859280" y="49816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дрих Вёл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0-1882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826920" y="6922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еребряные со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ProximaNova"/>
              </a:rPr>
              <a:t>Изоциановая кисл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oximaNova"/>
              </a:rPr>
              <a:t>H−N=C=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g-N=C=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ProximaNova"/>
              </a:rPr>
              <a:t>Гремучая кисл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roximaNova"/>
              </a:rPr>
              <a:t>Н−</a:t>
            </a:r>
            <a:r>
              <a:rPr b="0" lang="en-US" sz="2800" spc="-1" strike="noStrike">
                <a:solidFill>
                  <a:srgbClr val="000000"/>
                </a:solidFill>
                <a:latin typeface="ProximaNova"/>
              </a:rPr>
              <a:t>C≡N→</a:t>
            </a:r>
            <a:r>
              <a:rPr b="0" lang="ru-RU" sz="2800" spc="-1" strike="noStrike">
                <a:solidFill>
                  <a:srgbClr val="000000"/>
                </a:solidFill>
                <a:latin typeface="ProximaNov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g-О-N=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449440" cy="31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35764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3" name="Текст 2"/>
          <p:cNvSpPr/>
          <p:nvPr/>
        </p:nvSpPr>
        <p:spPr>
          <a:xfrm>
            <a:off x="476280" y="4724280"/>
            <a:ext cx="380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целиус Йенс Як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79-1848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Текст 1"/>
          <p:cNvSpPr/>
          <p:nvPr/>
        </p:nvSpPr>
        <p:spPr>
          <a:xfrm>
            <a:off x="4699080" y="4724280"/>
            <a:ext cx="3744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леров Александр 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28-18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4360" y="620640"/>
            <a:ext cx="8280360" cy="19227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ещества, которые имеют один и тот же качественный и количественный составы, но отличаются по своему строению и свойствам, называю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зомерам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а явление существования таких веществ носит название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зом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19280" y="32972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3     СН2      СН2      СН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219640" y="321300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3       СН        СН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143080" y="3500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1357200" y="3500280"/>
            <a:ext cx="21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071880" y="350028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5857920" y="3429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6732720" y="3429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6372360" y="3716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042920" y="4076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4Н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. = - 0,5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219640" y="4869000"/>
            <a:ext cx="36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УТ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4Н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. = -11,7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изоме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5" descr=""/>
          <p:cNvPicPr/>
          <p:nvPr/>
        </p:nvPicPr>
        <p:blipFill>
          <a:blip r:embed="rId1"/>
          <a:stretch/>
        </p:blipFill>
        <p:spPr>
          <a:xfrm>
            <a:off x="212760" y="1494000"/>
            <a:ext cx="4548240" cy="4662360"/>
          </a:xfrm>
          <a:prstGeom prst="rect">
            <a:avLst/>
          </a:prstGeom>
          <a:ln w="0">
            <a:noFill/>
          </a:ln>
        </p:spPr>
      </p:pic>
      <p:pic>
        <p:nvPicPr>
          <p:cNvPr id="78" name="Объект 6" descr=""/>
          <p:cNvPicPr/>
          <p:nvPr/>
        </p:nvPicPr>
        <p:blipFill>
          <a:blip r:embed="rId2"/>
          <a:stretch/>
        </p:blipFill>
        <p:spPr>
          <a:xfrm>
            <a:off x="4784760" y="1547640"/>
            <a:ext cx="4110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9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на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ме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ными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изомеры, имеющие различный порядок соедин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ом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яз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олеку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:\Documents and Settings\Admin\Мои документы\Мои рисунки\Изображение\Изображение 060.jpg"/>
          <p:cNvPicPr/>
          <p:nvPr/>
        </p:nvPicPr>
        <p:blipFill>
          <a:blip r:embed="rId1"/>
          <a:stretch/>
        </p:blipFill>
        <p:spPr>
          <a:xfrm>
            <a:off x="900000" y="2943360"/>
            <a:ext cx="76788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360" y="1599840"/>
            <a:ext cx="29718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хема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60076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\Мои документы\Мои рисунки\Изображение\Изображение 062.jpg"/>
          <p:cNvPicPr/>
          <p:nvPr/>
        </p:nvPicPr>
        <p:blipFill>
          <a:blip r:embed="rId1"/>
          <a:stretch/>
        </p:blipFill>
        <p:spPr>
          <a:xfrm>
            <a:off x="277920" y="3321000"/>
            <a:ext cx="4551120" cy="1976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277920" y="4734000"/>
            <a:ext cx="41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одель молекулы эти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C:\Documents and Settings\Admin\Мои документы\Мои рисунки\Изображение\Изображение 064.jpg"/>
          <p:cNvPicPr/>
          <p:nvPr/>
        </p:nvPicPr>
        <p:blipFill>
          <a:blip r:embed="rId2"/>
          <a:stretch/>
        </p:blipFill>
        <p:spPr>
          <a:xfrm>
            <a:off x="5292720" y="3263760"/>
            <a:ext cx="3608280" cy="2335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4"/>
          <p:cNvSpPr/>
          <p:nvPr/>
        </p:nvSpPr>
        <p:spPr>
          <a:xfrm>
            <a:off x="7097760" y="3298680"/>
            <a:ext cx="38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хема 2" descr=""/>
          <p:cNvPicPr/>
          <p:nvPr/>
        </p:nvPicPr>
        <p:blipFill>
          <a:blip r:embed="rId3"/>
          <a:stretch/>
        </p:blipFill>
        <p:spPr>
          <a:xfrm>
            <a:off x="176040" y="49320"/>
            <a:ext cx="8723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8:35:14Z</dcterms:created>
  <dc:creator>Admin</dc:creator>
  <dc:description/>
  <dc:language>en-US</dc:language>
  <cp:lastModifiedBy>Home</cp:lastModifiedBy>
  <dcterms:modified xsi:type="dcterms:W3CDTF">2015-12-21T21:57:49Z</dcterms:modified>
  <cp:revision>77</cp:revision>
  <dc:subject/>
  <dc:title>Виды изомерии</dc:title>
</cp:coreProperties>
</file>