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09C-3D01-49AC-9E06-D07D6130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6AB-C56F-49CD-B98F-569C54B4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964-17DA-42FB-A853-D29E7DE0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D4A-D901-4411-B376-1178053F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A538-CA4F-4D1E-BC6F-1121A2C1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A7BF-DFB4-4FA0-B826-1EEF4F59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4678-32FD-4A26-A7E2-0CE646F4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F388-5105-4A97-9BBA-4666FEFF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0C3F-B4B0-409D-8C4E-12313FD3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37AE-56D7-4893-8CA1-32AFA248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4037-F9E0-4C14-8F71-F0A62E76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6AE-5E86-45BD-9C0D-58031EF5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B07B-69AB-4B12-AEBF-5E73401E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6C09-CA6C-4180-A734-CD086B2E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D2DB-F262-4034-800A-9CA49997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CF00-6A7C-496E-A428-475DF68B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56EC-7830-4BCB-9356-3C488454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FA75-995D-474E-B685-4137C274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0943-66F6-483C-A1AE-E5AF8117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4C06-6B7F-472B-BD90-149D1E56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77CE-E0FB-4A38-9AA7-A41B565D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9AE7-4A52-489A-B735-E7B9D167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CB5-09FE-436F-A0E7-418B3E4E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2C65-057B-449E-998A-5F33B750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E522-1B9B-4CC0-8F16-013C9AC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7894-2BCA-40F1-82F5-52A5D037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9555-8908-4950-8BB5-40B0D02A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D8901-BD0E-4A0C-A6CE-9C13F2F5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7A17-3B12-4FF0-8DB9-DEB58CE1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FFD9-9D38-4404-8D53-E5DF16AA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0FC-8B36-40B8-AB1A-4B94F69D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391-1CC9-4389-94D7-B3A11CAB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F4C-84B0-4B33-82E9-E1AA6740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799-2778-437D-A515-74221EF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A53-756F-4856-84CB-C4FE1148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27B-CBDF-47DF-842C-6E7803F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7411-97AD-4E77-8DDC-5AD64173E5CA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76A-D2BD-4C3A-BED6-1A0AAD8D816E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EF78-FC38-416C-AC37-E4CCA5F2E113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umbe_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1785960" y="150012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збу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Содержимое 5" descr="золушка.bmp"/>
          <p:cNvPicPr/>
          <p:nvPr/>
        </p:nvPicPr>
        <p:blipFill>
          <a:blip r:embed="rId1"/>
          <a:stretch/>
        </p:blipFill>
        <p:spPr>
          <a:xfrm>
            <a:off x="5500800" y="285840"/>
            <a:ext cx="3000240" cy="42861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1643040" y="357120"/>
            <a:ext cx="292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357200" y="47980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олуш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любимая падчерица, героиня одноименной сказки Ш.Пер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1500120" y="785880"/>
            <a:ext cx="20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1643040" y="4218840"/>
            <a:ext cx="70722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ушка - дурачо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ерой русских народных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5" descr="kolobok.jpg"/>
          <p:cNvPicPr/>
          <p:nvPr/>
        </p:nvPicPr>
        <p:blipFill>
          <a:blip r:embed="rId1"/>
          <a:stretch/>
        </p:blipFill>
        <p:spPr>
          <a:xfrm>
            <a:off x="5143680" y="50004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1285920" y="392904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обо́к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одноимённой русской народной сказки, изображаемый в виде небольшого хлеба сферической формы жёлтого цвета, который принял сказочный образ говорящего существ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1285920" y="450072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унт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лавный герой мультипликационного телесериала «Приключения Лунти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Лунтика 12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5" descr="лунтик.jpg"/>
          <p:cNvPicPr/>
          <p:nvPr/>
        </p:nvPicPr>
        <p:blipFill>
          <a:blip r:embed="rId1"/>
          <a:stretch/>
        </p:blipFill>
        <p:spPr>
          <a:xfrm>
            <a:off x="5072040" y="428760"/>
            <a:ext cx="3714840" cy="37861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500120" y="5000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1285920" y="492912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о́скин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мышленный кот, популярный персонаж произведений детского писателя Эдуарда Успен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одержимое 5" descr="матроскин.jpg"/>
          <p:cNvPicPr/>
          <p:nvPr/>
        </p:nvPicPr>
        <p:blipFill>
          <a:blip r:embed="rId1"/>
          <a:stretch/>
        </p:blipFill>
        <p:spPr>
          <a:xfrm>
            <a:off x="4429080" y="500040"/>
            <a:ext cx="4500720" cy="4168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500120" y="50004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357720" cy="3929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1071720" y="42444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знай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едставитель племени маленьких человечков — коротышек, — известный прежде всего как литературный персонаж трилогии Николая Нос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571760" y="50004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4929120" y="285840"/>
            <a:ext cx="4002120" cy="37861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1285920" y="416916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л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а́-Иа́  — персонаж книги Алана Милна «Винни-Пух».  Вечно печальный, пессимистически настроенный, пожилой серый ослик ,один из главных друзей главного персонажа —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571760" y="57168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4643280" y="785880"/>
            <a:ext cx="3732480" cy="31194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1214280" y="50007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ятачо́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енький поросенок, самый близкий друг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10" descr="русалочка.jpg"/>
          <p:cNvPicPr/>
          <p:nvPr/>
        </p:nvPicPr>
        <p:blipFill>
          <a:blip r:embed="rId1"/>
          <a:stretch/>
        </p:blipFill>
        <p:spPr>
          <a:xfrm>
            <a:off x="4929120" y="428760"/>
            <a:ext cx="3903840" cy="3714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285920" y="457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ал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ероиня мифов, сказок, в образе девушки с длинными волосами и рыбьим хвостом, живущая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714680" y="50004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1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917880" cy="3537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1214280" y="450072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шар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забавные круглые зверушки, живущие  в собственном вымышленно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643040" y="5716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643200" cy="4071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643040" y="357120"/>
            <a:ext cx="25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214280" y="464328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йбол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его настоящее имя - доктор Дулитл, и появился он на свет благодаря английскому писателю Хью Лофтин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"/>
          <p:cNvPicPr/>
          <p:nvPr/>
        </p:nvPicPr>
        <p:blipFill>
          <a:blip r:embed="rId1"/>
          <a:stretch/>
        </p:blipFill>
        <p:spPr>
          <a:xfrm>
            <a:off x="4929120" y="428760"/>
            <a:ext cx="3689280" cy="35766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"/>
          <p:cNvSpPr/>
          <p:nvPr/>
        </p:nvSpPr>
        <p:spPr>
          <a:xfrm>
            <a:off x="1785960" y="35712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1214280" y="42148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ультипликационный  кот серо-голубого окраса из мультсериала Том и Джерри, гоняющийся за мышонком Джер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4" descr="Удав.bmp"/>
          <p:cNvPicPr/>
          <p:nvPr/>
        </p:nvPicPr>
        <p:blipFill>
          <a:blip r:embed="rId1"/>
          <a:stretch/>
        </p:blipFill>
        <p:spPr>
          <a:xfrm>
            <a:off x="5072040" y="285840"/>
            <a:ext cx="3657600" cy="35002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643040" y="500040"/>
            <a:ext cx="235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428840" y="407196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герой мультфил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8 попугаев» , где длину задумчивого Удава измеряли в слонах, мартышках и попуга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" descr=""/>
          <p:cNvPicPr/>
          <p:nvPr/>
        </p:nvPicPr>
        <p:blipFill>
          <a:blip r:embed="rId1"/>
          <a:stretch/>
        </p:blipFill>
        <p:spPr>
          <a:xfrm>
            <a:off x="5429160" y="285840"/>
            <a:ext cx="3232080" cy="35719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2"/>
          <p:cNvSpPr/>
          <p:nvPr/>
        </p:nvSpPr>
        <p:spPr>
          <a:xfrm>
            <a:off x="178596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071720" y="46432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о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есса из популярного мультфильма «Шрек». Родилась она в Великобрит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5429160" y="214200"/>
            <a:ext cx="3357720" cy="3038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1071720" y="342072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юш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детской телепередачи «Спокойной ночи, малыши!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рождения Хрюши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февраля 197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 — поросёнок. Хрюша часто шалит и попадает в неприятные ис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714680" y="2858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4" descr="цар-лягушка.bmp"/>
          <p:cNvPicPr/>
          <p:nvPr/>
        </p:nvPicPr>
        <p:blipFill>
          <a:blip r:embed="rId1"/>
          <a:stretch/>
        </p:blipFill>
        <p:spPr>
          <a:xfrm>
            <a:off x="5072040" y="214200"/>
            <a:ext cx="385776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1214280" y="371484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аре́вна - Лягу́ш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русских народных волшебных сказок. Иван-Царевич стрелял из лука, чтобы стрела привела его к невесте, но вместо девушки находит лягушку в болоте, которая держит его стре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643040" y="357120"/>
            <a:ext cx="200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3375000" cy="32148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785880" y="345348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бура́ш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кни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Успенского «Крокодил Ген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представляет собой существо с огромными ушами, большими глазами и коричневой шерстью, ходящее на задних лап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571760" y="285840"/>
            <a:ext cx="2786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5072040" y="428760"/>
            <a:ext cx="3398760" cy="31334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214280" y="350028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р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громный зелёный великан, который живёт в одиночестве на болоте в окрестностях города-государства Далок, населённого людьми, животными, куклами  из разных европейских сказок и леге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428840" y="357120"/>
            <a:ext cx="357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4" descr="щука.bmp"/>
          <p:cNvPicPr/>
          <p:nvPr/>
        </p:nvPicPr>
        <p:blipFill>
          <a:blip r:embed="rId1"/>
          <a:stretch/>
        </p:blipFill>
        <p:spPr>
          <a:xfrm>
            <a:off x="5286240" y="357120"/>
            <a:ext cx="3470400" cy="33577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"/>
          <p:cNvSpPr/>
          <p:nvPr/>
        </p:nvSpPr>
        <p:spPr>
          <a:xfrm>
            <a:off x="1285920" y="438264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у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есьма популярным персонажем русского фольклора, она фигурирует в пословицах ,сказках , баснях , рассказ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1785960" y="285840"/>
            <a:ext cx="30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5214960" y="326880"/>
            <a:ext cx="3370320" cy="3319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1714680" y="42876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1714680" y="4786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ьф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ухи «Волшебной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3" descr=""/>
          <p:cNvPicPr/>
          <p:nvPr/>
        </p:nvPicPr>
        <p:blipFill>
          <a:blip r:embed="rId2"/>
          <a:stretch/>
        </p:blipFill>
        <p:spPr>
          <a:xfrm>
            <a:off x="179280" y="3592440"/>
            <a:ext cx="25146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5357880" y="285840"/>
            <a:ext cx="3368520" cy="335736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2"/>
          <p:cNvSpPr/>
          <p:nvPr/>
        </p:nvSpPr>
        <p:spPr>
          <a:xfrm>
            <a:off x="1285920" y="364320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Юдо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руппа многоголовых  драконов, отрицательных персонажей русской сказки «Иван — крестьянский сын и Чудо-юдо». Живут за рекой Смородиной, через которую перебираются по Калинову мо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428840" y="500040"/>
            <a:ext cx="33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4214880" cy="42148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1714680" y="57168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357200" y="45720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лоснеж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расивая девушка, персонаж известный по ска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ев Гри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6" descr="баба яга.bmp"/>
          <p:cNvPicPr/>
          <p:nvPr/>
        </p:nvPicPr>
        <p:blipFill>
          <a:blip r:embed="rId1"/>
          <a:stretch/>
        </p:blipFill>
        <p:spPr>
          <a:xfrm>
            <a:off x="5357880" y="285840"/>
            <a:ext cx="3552840" cy="35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1071720" y="410580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́б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га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 волшебной сказки, старуха-чародейка, наделённая магической силой. По своим свойствам ближе всего к ведьме.  Чаще всего — отрицательный персон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164304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4786200" y="285840"/>
            <a:ext cx="4000680" cy="3929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1714680" y="42876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1214280" y="465012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́нни-Пу́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люшевый мишка, персонаж повестей и стихов Алана Александра Мил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1571760" y="4287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1428840" y="457200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́рфил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опулярный персонаж одноимённой серии комиксов созданный художником Джимом Дэви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http://upload.wikimedia.org/wikipedia/ru/thumb/9/92/Thumbe_2.jpg/210px-Thumbe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500040"/>
            <a:ext cx="3843360" cy="3714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1571760" y="57168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1428840" y="442908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юймо́воч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рохотная девочка, героиня одноимённой сказки датского поэта, путешественника и сказ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Х. Андерс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4"/>
          <p:cNvSpPr/>
          <p:nvPr/>
        </p:nvSpPr>
        <p:spPr>
          <a:xfrm>
            <a:off x="1285920" y="500076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ел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ленивый персонаж русской народной сказ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щучьему велень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4643280" y="571680"/>
            <a:ext cx="4071960" cy="37144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6"/>
          <p:cNvSpPr/>
          <p:nvPr/>
        </p:nvSpPr>
        <p:spPr>
          <a:xfrm>
            <a:off x="1428840" y="42876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4714920" y="500040"/>
            <a:ext cx="4000320" cy="3786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1714680" y="57168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357200" y="507204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ж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вный герой мультсериала «Смешар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1214280" y="4143240"/>
            <a:ext cx="771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ар-птиц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казочная птица, персонаж русских сказок.  Перья жар-птицы обладают способностью светить и своим блеском поражают зрени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4" descr="жарптиц.jpg"/>
          <p:cNvPicPr/>
          <p:nvPr/>
        </p:nvPicPr>
        <p:blipFill>
          <a:blip r:embed="rId1"/>
          <a:stretch/>
        </p:blipFill>
        <p:spPr>
          <a:xfrm>
            <a:off x="4714920" y="357120"/>
            <a:ext cx="4086360" cy="37861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1571760" y="35712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1:33Z</dcterms:created>
  <dc:creator>Admin</dc:creator>
  <dc:description/>
  <dc:language>en-US</dc:language>
  <cp:lastModifiedBy>Лана</cp:lastModifiedBy>
  <dcterms:modified xsi:type="dcterms:W3CDTF">2013-03-24T17:07:21Z</dcterms:modified>
  <cp:revision>50</cp:revision>
  <dc:subject/>
  <dc:title>Слайд 1</dc:title>
</cp:coreProperties>
</file>