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9387-E45C-4180-8661-CAB36176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5D4-86A6-412F-AF53-0AB22145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529-079E-4110-B290-FBE18ABB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410C-FD8B-46F4-9657-CDEC8E55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4B6C-CFD1-4D1E-B2AE-B66CE649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85DC-30C9-44B9-AEC0-0D6A8FE2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CE7D-F2DB-4EA0-BC24-411B6A64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EAD7-9C15-4C7A-895C-54DACB50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37BA-57C0-4074-8C8E-43A16DDD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94DE-458C-4969-A09C-F087721D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3DFE-3489-4599-9403-9B056693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2AA5-16E9-4122-B8DF-B0CD4CC3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EBFE-C6F5-4C7C-ABA0-57755752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E870-976F-4273-BB19-693C1C0A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2F55-A6FA-431B-B0B1-1C503033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1730-D68C-4C4B-94D9-F9BE2DD7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99D5-11AB-4F12-9B9E-C1A1CF2F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B2644-8F49-4FA5-9F59-F688B049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4A915-8BED-4568-A45C-B571F302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10BBA-029B-454E-BE09-69F0458B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38878-4DF0-4A74-8B0A-7553E008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03D79-50EB-4ADC-81DC-D6FEED78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F56-C47A-404F-B9AB-AA90B62E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15A20-5F67-4A26-BC53-99732E9A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3E0F5-4457-4FB9-8E82-E5490E8C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FBB3C-D6CE-47FC-B002-1562BC5A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0ADC9-5BA1-436B-AE1C-D7F69118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1C452-0A06-49A0-85DA-60D8856A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9F9F1-8C65-4797-85CA-B76842C0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29984-9089-4070-B8C0-1AA48755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390D-ADB9-4C90-8218-84383325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F2E0-0ECD-4ECE-9D5E-3BDB8DF8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53C8-59C0-4505-B8A1-84A67934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046-BD97-46F1-9109-4C647543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D778-2744-4D28-98D5-F5922AE8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8B1A-CCA3-4629-9DD3-5200FE3B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D7A8-67E1-4310-B807-00D290274B4A}" type="slidenum">
              <a:rPr b="1" lang="ru-RU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776D-A7C9-476C-8288-7136353DEFD4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0017-498F-4120-BC51-DF27636B5A94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humbe_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3"/>
          <p:cNvSpPr/>
          <p:nvPr/>
        </p:nvSpPr>
        <p:spPr>
          <a:xfrm>
            <a:off x="1785960" y="1500120"/>
            <a:ext cx="621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збу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Содержимое 5" descr="золушка.bmp"/>
          <p:cNvPicPr/>
          <p:nvPr/>
        </p:nvPicPr>
        <p:blipFill>
          <a:blip r:embed="rId1"/>
          <a:stretch/>
        </p:blipFill>
        <p:spPr>
          <a:xfrm>
            <a:off x="5500800" y="285840"/>
            <a:ext cx="3000240" cy="42861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2"/>
          <p:cNvSpPr/>
          <p:nvPr/>
        </p:nvSpPr>
        <p:spPr>
          <a:xfrm>
            <a:off x="1643040" y="357120"/>
            <a:ext cx="292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1357200" y="4798080"/>
            <a:ext cx="735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олуш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любимая падчерица, героиня одноименной сказки Ш.Пер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1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3929040" cy="36432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2"/>
          <p:cNvSpPr/>
          <p:nvPr/>
        </p:nvSpPr>
        <p:spPr>
          <a:xfrm>
            <a:off x="1500120" y="785880"/>
            <a:ext cx="2071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1643040" y="4218840"/>
            <a:ext cx="707220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27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ванушка - дурачок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ерой русских народных сказ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Содержимое 5" descr="kolobok.jpg"/>
          <p:cNvPicPr/>
          <p:nvPr/>
        </p:nvPicPr>
        <p:blipFill>
          <a:blip r:embed="rId1"/>
          <a:stretch/>
        </p:blipFill>
        <p:spPr>
          <a:xfrm>
            <a:off x="5143680" y="500040"/>
            <a:ext cx="3429000" cy="32860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"/>
          <p:cNvSpPr/>
          <p:nvPr/>
        </p:nvSpPr>
        <p:spPr>
          <a:xfrm>
            <a:off x="1571760" y="642960"/>
            <a:ext cx="242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4"/>
          <p:cNvSpPr/>
          <p:nvPr/>
        </p:nvSpPr>
        <p:spPr>
          <a:xfrm>
            <a:off x="1285920" y="3929040"/>
            <a:ext cx="7858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лобо́к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ерсонаж одноимённой русской народной сказки, изображаемый в виде небольшого хлеба сферической формы жёлтого цвета, который принял сказочный образ говорящего существа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1285920" y="4500720"/>
            <a:ext cx="764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унтик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лавный герой мультипликационного телесериала «Приключения Лунти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рождения Лунтика 12 апр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Содержимое 5" descr="лунтик.jpg"/>
          <p:cNvPicPr/>
          <p:nvPr/>
        </p:nvPicPr>
        <p:blipFill>
          <a:blip r:embed="rId1"/>
          <a:stretch/>
        </p:blipFill>
        <p:spPr>
          <a:xfrm>
            <a:off x="5072040" y="428760"/>
            <a:ext cx="3714840" cy="37861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1500120" y="500040"/>
            <a:ext cx="314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1"/>
          <p:cNvSpPr/>
          <p:nvPr/>
        </p:nvSpPr>
        <p:spPr>
          <a:xfrm>
            <a:off x="1285920" y="492912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о́скин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вымышленный кот, популярный персонаж произведений детского писателя Эдуарда Успенс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Содержимое 5" descr="матроскин.jpg"/>
          <p:cNvPicPr/>
          <p:nvPr/>
        </p:nvPicPr>
        <p:blipFill>
          <a:blip r:embed="rId1"/>
          <a:stretch/>
        </p:blipFill>
        <p:spPr>
          <a:xfrm>
            <a:off x="4429080" y="500040"/>
            <a:ext cx="4500720" cy="41688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3"/>
          <p:cNvSpPr/>
          <p:nvPr/>
        </p:nvSpPr>
        <p:spPr>
          <a:xfrm>
            <a:off x="1500120" y="500040"/>
            <a:ext cx="214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1" descr=""/>
          <p:cNvPicPr/>
          <p:nvPr/>
        </p:nvPicPr>
        <p:blipFill>
          <a:blip r:embed="rId1"/>
          <a:stretch/>
        </p:blipFill>
        <p:spPr>
          <a:xfrm>
            <a:off x="5286240" y="428760"/>
            <a:ext cx="3357720" cy="39290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"/>
          <p:cNvSpPr/>
          <p:nvPr/>
        </p:nvSpPr>
        <p:spPr>
          <a:xfrm>
            <a:off x="1071720" y="4244400"/>
            <a:ext cx="8072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знайка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редставитель племени маленьких человечков — коротышек, — известный прежде всего как литературный персонаж трилогии Николая Нос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1571760" y="500040"/>
            <a:ext cx="2643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1" descr=""/>
          <p:cNvPicPr/>
          <p:nvPr/>
        </p:nvPicPr>
        <p:blipFill>
          <a:blip r:embed="rId1"/>
          <a:stretch/>
        </p:blipFill>
        <p:spPr>
          <a:xfrm>
            <a:off x="4929120" y="285840"/>
            <a:ext cx="4002120" cy="37861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"/>
          <p:cNvSpPr/>
          <p:nvPr/>
        </p:nvSpPr>
        <p:spPr>
          <a:xfrm>
            <a:off x="1285920" y="4169160"/>
            <a:ext cx="7858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ли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а́-Иа́  — персонаж книги Алана Милна «Винни-Пух».  Вечно печальный, пессимистически настроенный, пожилой серый ослик ,один из главных друзей главного персонажа — Винни-П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1571760" y="571680"/>
            <a:ext cx="2643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4643280" y="785880"/>
            <a:ext cx="3732480" cy="311940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2"/>
          <p:cNvSpPr/>
          <p:nvPr/>
        </p:nvSpPr>
        <p:spPr>
          <a:xfrm>
            <a:off x="1214280" y="500076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ятачо́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ленький поросенок, самый близкий друг Винни-П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1571760" y="642960"/>
            <a:ext cx="242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Содержимое 10" descr="русалочка.jpg"/>
          <p:cNvPicPr/>
          <p:nvPr/>
        </p:nvPicPr>
        <p:blipFill>
          <a:blip r:embed="rId1"/>
          <a:stretch/>
        </p:blipFill>
        <p:spPr>
          <a:xfrm>
            <a:off x="4929120" y="428760"/>
            <a:ext cx="3903840" cy="37144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"/>
          <p:cNvSpPr/>
          <p:nvPr/>
        </p:nvSpPr>
        <p:spPr>
          <a:xfrm>
            <a:off x="1285920" y="457884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усалк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ероиня мифов, сказок, в образе девушки с длинными волосами и рыбьим хвостом, живущая в в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714680" y="500040"/>
            <a:ext cx="235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1" descr=""/>
          <p:cNvPicPr/>
          <p:nvPr/>
        </p:nvPicPr>
        <p:blipFill>
          <a:blip r:embed="rId1"/>
          <a:stretch/>
        </p:blipFill>
        <p:spPr>
          <a:xfrm>
            <a:off x="4857840" y="357120"/>
            <a:ext cx="3917880" cy="353700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2"/>
          <p:cNvSpPr/>
          <p:nvPr/>
        </p:nvSpPr>
        <p:spPr>
          <a:xfrm>
            <a:off x="1214280" y="4500720"/>
            <a:ext cx="771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шарик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забавные круглые зверушки, живущие  в собственном вымышленном мир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1643040" y="57168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"/>
          <p:cNvPicPr/>
          <p:nvPr/>
        </p:nvPicPr>
        <p:blipFill>
          <a:blip r:embed="rId1"/>
          <a:stretch/>
        </p:blipFill>
        <p:spPr>
          <a:xfrm>
            <a:off x="4859280" y="260280"/>
            <a:ext cx="3643200" cy="40719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1643040" y="357120"/>
            <a:ext cx="25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1214280" y="4643280"/>
            <a:ext cx="7715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йболи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его настоящее имя - доктор Дулитл, и появился он на свет благодаря английскому писателю Хью Лофтинг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1" descr=""/>
          <p:cNvPicPr/>
          <p:nvPr/>
        </p:nvPicPr>
        <p:blipFill>
          <a:blip r:embed="rId1"/>
          <a:stretch/>
        </p:blipFill>
        <p:spPr>
          <a:xfrm>
            <a:off x="4929120" y="428760"/>
            <a:ext cx="3689280" cy="3576600"/>
          </a:xfrm>
          <a:prstGeom prst="rect">
            <a:avLst/>
          </a:prstGeom>
          <a:ln w="0">
            <a:noFill/>
          </a:ln>
        </p:spPr>
      </p:pic>
      <p:sp>
        <p:nvSpPr>
          <p:cNvPr id="185" name="TextBox 2"/>
          <p:cNvSpPr/>
          <p:nvPr/>
        </p:nvSpPr>
        <p:spPr>
          <a:xfrm>
            <a:off x="1785960" y="357120"/>
            <a:ext cx="314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1214280" y="421488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о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ультипликационный  кот серо-голубого окраса из мультсериала Том и Джерри, гоняющийся за мышонком Джерр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Содержимое 4" descr="Удав.bmp"/>
          <p:cNvPicPr/>
          <p:nvPr/>
        </p:nvPicPr>
        <p:blipFill>
          <a:blip r:embed="rId1"/>
          <a:stretch/>
        </p:blipFill>
        <p:spPr>
          <a:xfrm>
            <a:off x="5072040" y="285840"/>
            <a:ext cx="3657600" cy="3500280"/>
          </a:xfrm>
          <a:prstGeom prst="rect">
            <a:avLst/>
          </a:prstGeom>
          <a:ln w="0">
            <a:noFill/>
          </a:ln>
        </p:spPr>
      </p:pic>
      <p:sp>
        <p:nvSpPr>
          <p:cNvPr id="188" name="TextBox 2"/>
          <p:cNvSpPr/>
          <p:nvPr/>
        </p:nvSpPr>
        <p:spPr>
          <a:xfrm>
            <a:off x="1643040" y="500040"/>
            <a:ext cx="2357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428840" y="4071960"/>
            <a:ext cx="7358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да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герой мультфиль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8 попугаев» , где длину задумчивого Удава измеряли в слонах, мартышках и попуга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1" descr=""/>
          <p:cNvPicPr/>
          <p:nvPr/>
        </p:nvPicPr>
        <p:blipFill>
          <a:blip r:embed="rId1"/>
          <a:stretch/>
        </p:blipFill>
        <p:spPr>
          <a:xfrm>
            <a:off x="5429160" y="285840"/>
            <a:ext cx="3232080" cy="35719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2"/>
          <p:cNvSpPr/>
          <p:nvPr/>
        </p:nvSpPr>
        <p:spPr>
          <a:xfrm>
            <a:off x="1785960" y="500040"/>
            <a:ext cx="2571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1071720" y="464328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ио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инцесса из популярного мультфильма «Шрек». Родилась она в Великобрита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1" descr=""/>
          <p:cNvPicPr/>
          <p:nvPr/>
        </p:nvPicPr>
        <p:blipFill>
          <a:blip r:embed="rId1"/>
          <a:stretch/>
        </p:blipFill>
        <p:spPr>
          <a:xfrm>
            <a:off x="5429160" y="214200"/>
            <a:ext cx="3357720" cy="30387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"/>
          <p:cNvSpPr/>
          <p:nvPr/>
        </p:nvSpPr>
        <p:spPr>
          <a:xfrm>
            <a:off x="1071720" y="3420720"/>
            <a:ext cx="8072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рюш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персонаж детской телепередачи «Спокойной ночи, малыши!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ём рождения Хрюши счит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февраля 1971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 — поросёнок. Хрюша часто шалит и попадает в неприятные истор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1714680" y="285840"/>
            <a:ext cx="314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Содержимое 4" descr="цар-лягушка.bmp"/>
          <p:cNvPicPr/>
          <p:nvPr/>
        </p:nvPicPr>
        <p:blipFill>
          <a:blip r:embed="rId1"/>
          <a:stretch/>
        </p:blipFill>
        <p:spPr>
          <a:xfrm>
            <a:off x="5072040" y="214200"/>
            <a:ext cx="3857760" cy="342900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2"/>
          <p:cNvSpPr/>
          <p:nvPr/>
        </p:nvSpPr>
        <p:spPr>
          <a:xfrm>
            <a:off x="1214280" y="371484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аре́вна - Лягу́шк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ерсонаж русских народных волшебных сказок. Иван-Царевич стрелял из лука, чтобы стрела привела его к невесте, но вместо девушки находит лягушку в болоте, которая держит его стрел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1643040" y="357120"/>
            <a:ext cx="2000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1" descr=""/>
          <p:cNvPicPr/>
          <p:nvPr/>
        </p:nvPicPr>
        <p:blipFill>
          <a:blip r:embed="rId1"/>
          <a:stretch/>
        </p:blipFill>
        <p:spPr>
          <a:xfrm>
            <a:off x="5572080" y="214200"/>
            <a:ext cx="3375000" cy="32148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"/>
          <p:cNvSpPr/>
          <p:nvPr/>
        </p:nvSpPr>
        <p:spPr>
          <a:xfrm>
            <a:off x="785880" y="3453480"/>
            <a:ext cx="8358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ебура́шк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ерсонаж кни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Успенского «Крокодил Гена и его друз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е представляет собой существо с огромными ушами, большими глазами и коричневой шерстью, ходящее на задних лап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1571760" y="285840"/>
            <a:ext cx="2786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1" descr=""/>
          <p:cNvPicPr/>
          <p:nvPr/>
        </p:nvPicPr>
        <p:blipFill>
          <a:blip r:embed="rId1"/>
          <a:stretch/>
        </p:blipFill>
        <p:spPr>
          <a:xfrm>
            <a:off x="5072040" y="428760"/>
            <a:ext cx="3398760" cy="313344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2"/>
          <p:cNvSpPr/>
          <p:nvPr/>
        </p:nvSpPr>
        <p:spPr>
          <a:xfrm>
            <a:off x="1214280" y="3500280"/>
            <a:ext cx="7715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Шре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огромный зелёный великан, который живёт в одиночестве на болоте в окрестностях города-государства Далок, населённого людьми, животными, куклами  из разных европейских сказок и леге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1428840" y="357120"/>
            <a:ext cx="3571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Содержимое 4" descr="щука.bmp"/>
          <p:cNvPicPr/>
          <p:nvPr/>
        </p:nvPicPr>
        <p:blipFill>
          <a:blip r:embed="rId1"/>
          <a:stretch/>
        </p:blipFill>
        <p:spPr>
          <a:xfrm>
            <a:off x="5286240" y="357120"/>
            <a:ext cx="3470400" cy="33577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"/>
          <p:cNvSpPr/>
          <p:nvPr/>
        </p:nvSpPr>
        <p:spPr>
          <a:xfrm>
            <a:off x="1285920" y="438264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Щук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весьма популярным персонажем русского фольклора, она фигурирует в пословицах ,сказках , баснях , рассказа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1785960" y="285840"/>
            <a:ext cx="3000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"/>
          <p:cNvPicPr/>
          <p:nvPr/>
        </p:nvPicPr>
        <p:blipFill>
          <a:blip r:embed="rId1"/>
          <a:stretch/>
        </p:blipFill>
        <p:spPr>
          <a:xfrm>
            <a:off x="5214960" y="326880"/>
            <a:ext cx="3370320" cy="33195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2"/>
          <p:cNvSpPr/>
          <p:nvPr/>
        </p:nvSpPr>
        <p:spPr>
          <a:xfrm>
            <a:off x="1714680" y="428760"/>
            <a:ext cx="257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5"/>
          <p:cNvSpPr/>
          <p:nvPr/>
        </p:nvSpPr>
        <p:spPr>
          <a:xfrm>
            <a:off x="1714680" y="47862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льф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ухи «Волшебной стра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Рисунок 3" descr=""/>
          <p:cNvPicPr/>
          <p:nvPr/>
        </p:nvPicPr>
        <p:blipFill>
          <a:blip r:embed="rId2"/>
          <a:stretch/>
        </p:blipFill>
        <p:spPr>
          <a:xfrm>
            <a:off x="179280" y="3592440"/>
            <a:ext cx="25146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1" descr=""/>
          <p:cNvPicPr/>
          <p:nvPr/>
        </p:nvPicPr>
        <p:blipFill>
          <a:blip r:embed="rId1"/>
          <a:stretch/>
        </p:blipFill>
        <p:spPr>
          <a:xfrm>
            <a:off x="5357880" y="285840"/>
            <a:ext cx="3368520" cy="335736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2"/>
          <p:cNvSpPr/>
          <p:nvPr/>
        </p:nvSpPr>
        <p:spPr>
          <a:xfrm>
            <a:off x="1285920" y="3643200"/>
            <a:ext cx="757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о -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Юдо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руппа многоголовых  драконов, отрицательных персонажей русской сказки «Иван — крестьянский сын и Чудо-юдо». Живут за рекой Смородиной, через которую перебираются по Калинову мос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1428840" y="500040"/>
            <a:ext cx="335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" descr=""/>
          <p:cNvPicPr/>
          <p:nvPr/>
        </p:nvPicPr>
        <p:blipFill>
          <a:blip r:embed="rId1"/>
          <a:stretch/>
        </p:blipFill>
        <p:spPr>
          <a:xfrm>
            <a:off x="4714920" y="214200"/>
            <a:ext cx="4214880" cy="42148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"/>
          <p:cNvSpPr/>
          <p:nvPr/>
        </p:nvSpPr>
        <p:spPr>
          <a:xfrm>
            <a:off x="1714680" y="571680"/>
            <a:ext cx="221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1357200" y="4572000"/>
            <a:ext cx="742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лоснежка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красивая девушка, персонаж известный по сказ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ьев Грим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Содержимое 6" descr="баба яга.bmp"/>
          <p:cNvPicPr/>
          <p:nvPr/>
        </p:nvPicPr>
        <p:blipFill>
          <a:blip r:embed="rId1"/>
          <a:stretch/>
        </p:blipFill>
        <p:spPr>
          <a:xfrm>
            <a:off x="5357880" y="285840"/>
            <a:ext cx="3552840" cy="3581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"/>
          <p:cNvSpPr/>
          <p:nvPr/>
        </p:nvSpPr>
        <p:spPr>
          <a:xfrm>
            <a:off x="1071720" y="4105800"/>
            <a:ext cx="8072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́ба 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га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персонаж  волшебной сказки, старуха-чародейка, наделённая магической силой. По своим свойствам ближе всего к ведьме.  Чаще всего — отрицательный персона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1643040" y="500040"/>
            <a:ext cx="2571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1" descr=""/>
          <p:cNvPicPr/>
          <p:nvPr/>
        </p:nvPicPr>
        <p:blipFill>
          <a:blip r:embed="rId1"/>
          <a:stretch/>
        </p:blipFill>
        <p:spPr>
          <a:xfrm>
            <a:off x="4786200" y="285840"/>
            <a:ext cx="4000680" cy="39290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>
            <a:off x="1714680" y="428760"/>
            <a:ext cx="221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1214280" y="465012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и́нни-Пу́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— плюшевый мишка, персонаж повестей и стихов Алана Александра Мил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"/>
          <p:cNvPicPr/>
          <p:nvPr/>
        </p:nvPicPr>
        <p:blipFill>
          <a:blip r:embed="rId1"/>
          <a:stretch/>
        </p:blipFill>
        <p:spPr>
          <a:xfrm>
            <a:off x="4643280" y="428760"/>
            <a:ext cx="4214880" cy="41432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1571760" y="428760"/>
            <a:ext cx="242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1428840" y="4572000"/>
            <a:ext cx="7429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а́рфилд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— популярный персонаж одноимённой серии комиксов созданный художником Джимом Дэвис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http://upload.wikimedia.org/wikipedia/ru/thumb/9/92/Thumbe_2.jpg/210px-Thumbe_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500040"/>
            <a:ext cx="3843360" cy="37148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1571760" y="571680"/>
            <a:ext cx="257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1428840" y="4429080"/>
            <a:ext cx="7429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юймо́воч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крохотная девочка, героиня одноимённой сказки датского поэта, путешественника и сказоч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Х. Андерсе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4"/>
          <p:cNvSpPr/>
          <p:nvPr/>
        </p:nvSpPr>
        <p:spPr>
          <a:xfrm>
            <a:off x="1285920" y="500076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мел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ленивый персонаж русской народной сказ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 щучьему веленью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4643280" y="571680"/>
            <a:ext cx="4071960" cy="37144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6"/>
          <p:cNvSpPr/>
          <p:nvPr/>
        </p:nvSpPr>
        <p:spPr>
          <a:xfrm>
            <a:off x="1428840" y="428760"/>
            <a:ext cx="235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1" descr=""/>
          <p:cNvPicPr/>
          <p:nvPr/>
        </p:nvPicPr>
        <p:blipFill>
          <a:blip r:embed="rId1"/>
          <a:stretch/>
        </p:blipFill>
        <p:spPr>
          <a:xfrm>
            <a:off x="4714920" y="500040"/>
            <a:ext cx="4000320" cy="37861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"/>
          <p:cNvSpPr/>
          <p:nvPr/>
        </p:nvSpPr>
        <p:spPr>
          <a:xfrm>
            <a:off x="1714680" y="571680"/>
            <a:ext cx="214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1357200" y="5072040"/>
            <a:ext cx="75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жи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главный герой мультсериала «Смешари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1214280" y="4143240"/>
            <a:ext cx="7715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ар-птиц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казочная птица, персонаж русских сказок.  Перья жар-птицы обладают способностью светить и своим блеском поражают зрение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Содержимое 4" descr="жарптиц.jpg"/>
          <p:cNvPicPr/>
          <p:nvPr/>
        </p:nvPicPr>
        <p:blipFill>
          <a:blip r:embed="rId1"/>
          <a:stretch/>
        </p:blipFill>
        <p:spPr>
          <a:xfrm>
            <a:off x="4714920" y="357120"/>
            <a:ext cx="4086360" cy="37861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1571760" y="357120"/>
            <a:ext cx="221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11:33Z</dcterms:created>
  <dc:creator>Admin</dc:creator>
  <dc:description/>
  <dc:language>en-US</dc:language>
  <cp:lastModifiedBy>Лана</cp:lastModifiedBy>
  <dcterms:modified xsi:type="dcterms:W3CDTF">2013-03-24T17:07:21Z</dcterms:modified>
  <cp:revision>50</cp:revision>
  <dc:subject/>
  <dc:title>Слайд 1</dc:title>
</cp:coreProperties>
</file>