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4B9E81-5CA9-4440-97DF-56B613C58F8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4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B0D766-0C96-4BB9-BE08-8EF7B1632B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B158B6-4B45-4EA9-9BDA-51A8CBB221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7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B5B2C1-6D3D-4AF7-A369-654B3F570F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8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D0C1F2-2E1F-41BD-A1B7-D9B828E955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8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EA65BC-2ECB-4CBB-AB54-E064F9BE49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8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5695A7-080E-4E3D-B1EF-6955DF8A56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1BDD02-F10F-40E1-986A-49C836A86D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A5FE67-A207-46E5-803B-0C17EEC750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FD6A37-B718-486B-89A3-5223517F92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54A603-7A31-446E-928E-C6DDB9B71B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0586BE-CC5D-409C-8594-A6F41650E3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5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E6C45E-1993-464D-A8CC-35B56FE187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E2A65A-456E-4F7B-84BA-AACABD1760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71D800-698A-493D-8603-04A55B1643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3260F9-65D9-48CB-9EB9-56372EC6AB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1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E8C478-A9D7-4B6B-A372-C5C9204CF0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1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C88492-2C78-4DAB-B73D-54E5DDE39D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5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4039CD-C070-4F56-BFBE-ADD0668B8A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220372-5004-4AFC-8B0A-9B418C9EFE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6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3EDE22-7263-4C7E-8EFA-70C723B711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6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EE9B53-8700-4778-80F1-8D0E3AE244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6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BAA158-8095-44C7-9670-8AC5607D09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7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21C942-C45F-4194-883D-15965310A8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34679D-52CD-4F4A-A393-D555436482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50A7-F23A-4B94-9F21-5CC76B7AB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2AC5-932D-4194-962C-E5A90B42B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22B6-E62F-4ED3-8B56-B81CFDBD1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3815-FF2E-4229-BE18-36604A401C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E702A-4F89-47B2-AF39-D354BF15A9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AD6F-B443-477B-9FF1-EB45C92E4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27DAE-AB35-4A8B-8FE7-D1A578B54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B3906-4BED-4070-8198-3F855953B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2B02-F3E1-4FB3-9E90-EFABC348D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11423-C255-49DD-8FE2-6F3699DCF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2B96-5131-4807-8635-DB86F4201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9AD6-0039-46E3-8044-0E87E3E43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D6F0A6-99FD-4EE7-BD9E-18901BBF6FF0}" type="slidenum">
              <a:rPr b="0" lang="ru-RU" sz="18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13048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ингвистика – наука о язы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Урок русск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анскрип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295280"/>
            <a:ext cx="822960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анскрúпц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фонетическая зап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нск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ция → транскиб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наки транскрип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  ] – границы транскрип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 ’ ] – знак мягкости согласного звука: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[п’эт’] – пе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 ¯ ] – знак долготы зв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 j’] – мягкий звонкий согласный «йот»: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[j’ὀгурт] – йогур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6984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кажите, что без знания фонетики невозможно научиться грамотно писать, читать, гов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образуются звуки реч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бывают зву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124080" y="1676520"/>
            <a:ext cx="3130560" cy="33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органы человека участвуют в образовании звуков реч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7010280" cy="5181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7200" y="228600"/>
            <a:ext cx="8456760" cy="6600960"/>
            <a:chOff x="457200" y="228600"/>
            <a:chExt cx="8456760" cy="660096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"/>
              <a:ext cx="8456760" cy="660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57200" y="228600"/>
              <a:ext cx="8456760" cy="660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5520" y="1295280"/>
            <a:ext cx="8404200" cy="4418280"/>
            <a:chOff x="425520" y="1295280"/>
            <a:chExt cx="8404200" cy="441828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425520" y="1295280"/>
              <a:ext cx="8404200" cy="441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25520" y="1295280"/>
              <a:ext cx="8404200" cy="44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асные и согласные зв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00200"/>
            <a:ext cx="822960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ласные звуки (6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остоят только из голоса; могут быть ударными и безударны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а], [о], [у], [и], [э], [ы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огласные звуки (36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лух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разуются только шум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вонк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остоят из шума и гол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98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01760" y="128520"/>
            <a:ext cx="8569080" cy="6721560"/>
            <a:chOff x="401760" y="128520"/>
            <a:chExt cx="8569080" cy="672156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401760" y="128520"/>
              <a:ext cx="8569080" cy="67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01760" y="128520"/>
              <a:ext cx="8569080" cy="67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гласные зв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295280"/>
            <a:ext cx="8534520" cy="52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арны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 в о н к и 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[л] – [л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, [м] – [м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, [н] – [н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, [р] – [р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, [j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арны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 л у х и 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[х] – [х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, [ц], [ч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, [щ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арны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 в ё р д ы 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[ж],[ш],[ц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арны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 я г к и 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[ч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, [щ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, [j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несите вслух звук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[щ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,[ц],[c],[з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 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,[ж],[р],[к</a:t>
            </a:r>
            <a:r>
              <a:rPr b="1" lang="ru-RU" sz="3200" spc="-1" strike="noStrike" baseline="30000">
                <a:solidFill>
                  <a:srgbClr val="c00000"/>
                </a:solidFill>
                <a:latin typeface="Arial"/>
              </a:rPr>
              <a:t> ,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арактеризуйте их по план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ёрдый или мягкий, парный или непар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онкий или глухой, парный или неп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шите, покажите, какие звуки обозначают пропущенные буквы. Сравните произношение и написание слов, сделайте выв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Делать д_бро, п_звать на сва_ьбу, но_ка ст_ла, _громная про_ьба, _кусный пиро_, св_ркающий сне_, к_лючий ё_, в_лшебная ска_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0008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143000"/>
            <a:ext cx="449604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 вами громада – русский язык! Наслажденье глубокое зовёт вас, наслаждение погрузиться во всю неизмеримость его и изловить чудные законы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.В. Гог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29941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, какой звук обозначает буква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приведенных ниже слов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арить, ссора, сильный, бесчисленный, косьба, сжечь, расщедриться, сшить, сделать, счётч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слова, определите, какими звуками они различаются. Затранскрибируйте вс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тал – сталь, лук – люк, нос – нё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чайка – майка, край – кра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ал – мял, удар – уд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295280"/>
            <a:ext cx="822960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шите, вставляя в слова пропущенные буквы, обозначьте корни этих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морем ц_ревна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е можно гла_ отв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нём свет божий затмева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яц под к_сой блес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во лбу зв_зда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236520"/>
            <a:ext cx="82296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00200"/>
            <a:ext cx="8229600" cy="47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ьте и запишите  предложения со следующими словами. В чём их особенность и на что обращает внимание следующая зап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ú]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? м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аб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жат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ть? об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ув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ат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ь? ув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атвар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úт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ть? отв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слова с ударными гласными: [а], [о], [у], [и], [э], [ы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буквами затранскрибированные слова. Объясните различия в их произношении и на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[ф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], [j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ш], [здат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ранскрибируйте слова: пять, ударь, окно, доход, цифры, у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нисимова Инесса Рудольфовн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ОУ «Гимназия №1» г. Совет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лининград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30492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изучает лингвист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523880"/>
            <a:ext cx="845820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Лингвист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языкознание, языковедение) 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ука о язык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Языкозн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чит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о произноси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лова и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о употребля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х в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19720" y="5105520"/>
            <a:ext cx="82044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-540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600200"/>
            <a:ext cx="2438640" cy="762120"/>
          </a:xfrm>
          <a:prstGeom prst="flowChartTerminator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фограф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685800"/>
            <a:ext cx="2133720" cy="838080"/>
          </a:xfrm>
          <a:prstGeom prst="flowChartTerminator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не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685800"/>
            <a:ext cx="2133720" cy="838080"/>
          </a:xfrm>
          <a:prstGeom prst="flowChartTerminator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ф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1600200"/>
            <a:ext cx="2362320" cy="762120"/>
          </a:xfrm>
          <a:prstGeom prst="flowChartTerminator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фоэп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2743200"/>
            <a:ext cx="2057400" cy="838080"/>
          </a:xfrm>
          <a:prstGeom prst="flowChartTerminator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с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2819520"/>
            <a:ext cx="2362320" cy="838080"/>
          </a:xfrm>
          <a:prstGeom prst="flowChartTerminator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фолог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4114800"/>
            <a:ext cx="2286000" cy="990720"/>
          </a:xfrm>
          <a:prstGeom prst="flowChartTerminator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нкту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4038480"/>
            <a:ext cx="2362320" cy="990720"/>
          </a:xfrm>
          <a:prstGeom prst="flowChartTerminator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такси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5410080"/>
            <a:ext cx="2743200" cy="914400"/>
          </a:xfrm>
          <a:prstGeom prst="flowChartTerminator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стове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5334120"/>
            <a:ext cx="2895480" cy="990360"/>
          </a:xfrm>
          <a:prstGeom prst="flowChartTerminator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5410080"/>
            <a:ext cx="2209680" cy="914400"/>
          </a:xfrm>
          <a:prstGeom prst="flowChartTerminator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фем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2286000"/>
            <a:ext cx="3505320" cy="2209680"/>
          </a:xfrm>
          <a:prstGeom prst="ellipse">
            <a:avLst/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16200000"/>
          </a:gradFill>
          <a:ln cap="sq" w="9360">
            <a:solidFill>
              <a:srgbClr val="2f2f98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Разделы лингв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1600200"/>
            <a:ext cx="75960" cy="1440"/>
          </a:xfrm>
          <a:prstGeom prst="line">
            <a:avLst/>
          </a:prstGeom>
          <a:ln cap="sq"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350880" y="1522080"/>
            <a:ext cx="1298520" cy="765000"/>
          </a:xfrm>
          <a:prstGeom prst="line">
            <a:avLst/>
          </a:prstGeom>
          <a:ln cap="sq"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648320" y="1522080"/>
            <a:ext cx="1218960" cy="765000"/>
          </a:xfrm>
          <a:prstGeom prst="line">
            <a:avLst/>
          </a:prstGeom>
          <a:ln cap="sq"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276720"/>
            <a:ext cx="304920" cy="1440"/>
          </a:xfrm>
          <a:prstGeom prst="line">
            <a:avLst/>
          </a:prstGeom>
          <a:ln cap="sq"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970000" y="2208240"/>
            <a:ext cx="439560" cy="403200"/>
          </a:xfrm>
          <a:prstGeom prst="line">
            <a:avLst/>
          </a:prstGeom>
          <a:ln cap="sq"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888160" y="2131920"/>
            <a:ext cx="512640" cy="479520"/>
          </a:xfrm>
          <a:prstGeom prst="line">
            <a:avLst/>
          </a:prstGeom>
          <a:ln cap="sq"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665440" y="3276720"/>
            <a:ext cx="231840" cy="1440"/>
          </a:xfrm>
          <a:prstGeom prst="line">
            <a:avLst/>
          </a:prstGeom>
          <a:ln cap="sq"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88160" y="4172040"/>
            <a:ext cx="664920" cy="438120"/>
          </a:xfrm>
          <a:prstGeom prst="line">
            <a:avLst/>
          </a:prstGeom>
          <a:ln cap="sq"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970000" y="4172040"/>
            <a:ext cx="439560" cy="361800"/>
          </a:xfrm>
          <a:prstGeom prst="line">
            <a:avLst/>
          </a:prstGeom>
          <a:ln cap="sq"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970000" y="4495680"/>
            <a:ext cx="1679400" cy="914400"/>
          </a:xfrm>
          <a:prstGeom prst="line">
            <a:avLst/>
          </a:prstGeom>
          <a:ln cap="sq"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4495680"/>
            <a:ext cx="2133360" cy="1067040"/>
          </a:xfrm>
          <a:prstGeom prst="line">
            <a:avLst/>
          </a:prstGeom>
          <a:ln cap="sq"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4495680"/>
            <a:ext cx="1440" cy="838440"/>
          </a:xfrm>
          <a:prstGeom prst="line">
            <a:avLst/>
          </a:prstGeom>
          <a:ln cap="sq"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с тек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just"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му школьник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елос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чем нужно изучать лингвистику. Вед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ы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чинает говорить на родном языке, хотя ничего не знает о е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е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схожде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становлено, что знание научных сведений о язык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ога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еловеку, во-первых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ить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учше понимать речь других людей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н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исьменную. Во-вторых, лингвистика даёт возможность овладеть секретами хорошей речи, самому научиться точно, ясно, грамотно и выразительно высказывать свои мысли и чувства. В-третьих, лингвистик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гаща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ругозор человека, раскрывает тайны родного языка, рассказывает мно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ивитель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торий о языке и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я к текс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зительно прочитайте текст. Какова его основная мысль? Объясните, согласны ли вы с 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ишите выделенные слова, обозначьте в них корень и объясните правопис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жите, какие интересные сведения о русском языке вы узнали, изучая его в нача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онети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вишься драгоценности нашего языка: что ни звук, то и подаро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.В. Гог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29941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74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оне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914400"/>
            <a:ext cx="8229600" cy="69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нéтик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н] – от греч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phōn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«зву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етика изучает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вуки реч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уки реч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ны образовывать слова, с помощью которых называются предметы, явления окружающего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к вы думаете, почему именно с фонетики начинается изучение любого язы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60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ите фотоколлаж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звуки вы могли бы услышать, если бы фотографии ож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048120" y="1523880"/>
            <a:ext cx="1600200" cy="155916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2971800" y="3048120"/>
            <a:ext cx="1751040" cy="2647800"/>
            <a:chOff x="2971800" y="3048120"/>
            <a:chExt cx="1751040" cy="2647800"/>
          </a:xfrm>
        </p:grpSpPr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2971800" y="3048120"/>
              <a:ext cx="175104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971800" y="3048120"/>
              <a:ext cx="1751040" cy="26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648320" y="144792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4648320" y="32004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609480" y="342900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6934320" y="4343400"/>
            <a:ext cx="1962000" cy="2333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4724280" y="47242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609480" y="5105520"/>
            <a:ext cx="2133720" cy="153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7122960" y="1066680"/>
            <a:ext cx="1792440" cy="1676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6972480" y="2438280"/>
            <a:ext cx="2171520" cy="2105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>
            <a:off x="2666880" y="5257800"/>
            <a:ext cx="2149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User</cp:lastModifiedBy>
  <dcterms:modified xsi:type="dcterms:W3CDTF">2017-04-30T18:19:22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