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399A03-C23B-4254-A651-C7D2D9A198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421FF5-4498-4EE4-A9F2-744C7E945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212617-7A44-4174-9A00-F92163958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B0423C-6D8E-4088-9491-257032121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8E6904-67CF-46BA-B16B-CC7EF0237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F2A207-D785-4563-92C8-2D9377A2A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837E11-219B-4589-B00D-AEC857AB8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E35C00-76F1-4A0B-A3E4-BB214029E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ACC3FD-0A41-444A-85FA-4BE0C8014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99DB50-AC07-40A3-8BEB-66F8BDDE3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09B9E5-28E2-436F-85F0-DBB20D5A1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CB6D18-1060-45BC-AAF1-1F5CD2D83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3F3DD8-A108-470C-9516-78B626498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B2E749-EB53-47AE-A432-1FC6FABC6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A67B86-FFF3-4E84-8DF4-BAC9F6957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1F11BB-E13F-4CFF-866C-351DC6F72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18292-14A0-4106-8C1C-F8DEF8716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53775E-E1C2-42A7-80EE-98E42E241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7BFB73-E2F1-4696-A083-95DE1316A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5718FB-BFC7-4891-A03B-B6D04AB83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D86733-F3CF-4EE8-A5E6-0D52A1161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BC3BF5-C499-49D1-B17B-A5DC0106F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BD8CD9-2879-4480-A501-7DC32996D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D42BFF-9ADD-47DC-B4EC-A89B39C17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1EB78B-6347-4057-BE7D-5BA5365695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0BCB-9EA1-4A5A-A914-72E27E1E1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F1A5-890B-4E3F-A63F-A46734C85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FEE8-1BE2-457F-A7F1-F83F68780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467D-DDA3-42BD-ABDD-9319A4B7E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444F-8603-46E5-A855-C61AAC18E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7808-5375-4EFE-BEB5-23024590A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B3CF-E6B2-4165-8510-8E689E5C3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DBCB-FD1B-4A02-9477-EC9D14173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794D-0A2B-429C-A390-16998E840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3F24-AEC5-4C4C-BBCB-1CC3693B5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43EA-1202-479A-B642-5DDB26676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1B7D-F8B5-4C3D-A6AE-6133B692B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44244D-2D64-4C13-ABE2-BA99F5CC552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13048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нгвистика – наука о язы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нскрип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295280"/>
            <a:ext cx="82296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нскрúп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фонетическая за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к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ция → трански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наки транскрип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  ] – границы транскрип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 ’ ] – знак мягкости согласного звука: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[п’эт’] – пе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 ¯ ] – знак долготы зв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 j’] – мягкий звонкий согласный «йот»: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[j’ὀгурт] – йогур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ажите, что без знания фонетики невозможно научиться грамотно писать, читать, го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ются звуки ре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вают зву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313056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органы человека участвуют в образовании звуков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10280" cy="5181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228600"/>
            <a:ext cx="8456760" cy="6600960"/>
            <a:chOff x="457200" y="228600"/>
            <a:chExt cx="8456760" cy="660096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"/>
              <a:ext cx="8456760" cy="660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228600"/>
              <a:ext cx="8456760" cy="66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5520" y="1295280"/>
            <a:ext cx="8404200" cy="4418280"/>
            <a:chOff x="425520" y="1295280"/>
            <a:chExt cx="8404200" cy="44182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25520" y="1295280"/>
              <a:ext cx="8404200" cy="44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25520" y="1295280"/>
              <a:ext cx="8404200" cy="44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сные и согласные зв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сные звуки (6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стоят только из голоса; могут быть ударными и безударны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а], [о], [у], [и], [э], [ы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гласные звуки (36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ух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разуются только шум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вонк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остоят из шума 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01760" y="128520"/>
            <a:ext cx="8569080" cy="6721560"/>
            <a:chOff x="401760" y="128520"/>
            <a:chExt cx="8569080" cy="672156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401760" y="128520"/>
              <a:ext cx="8569080" cy="67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1760" y="128520"/>
              <a:ext cx="8569080" cy="67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гласные зв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95280"/>
            <a:ext cx="853452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ар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 в о н к и 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л] – [л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м] – [м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н] – [н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р] – [р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j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ар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л у х и 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х] – [х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ц], [ч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щ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ар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 в ё р д ы 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ж],[ш],[ц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ар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я г к и 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ч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щ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j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несите вслух зву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щ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[ц],[c],[з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 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[ж],[р],[к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 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арактеризуйте их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ёрдый или мягкий, парный или непар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й или глухой, парный или неп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шите, покажите, какие звуки обозначают пропущенные буквы. Сравните произношение и написание слов, сделайте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елать д_бро, п_звать на сва_ьбу, но_ка ст_ла, _громная про_ьба, _кусный пиро_, св_ркающий сне_, к_лючий ё_, в_лшебная ска_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0008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143000"/>
            <a:ext cx="449604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 вами громада – русский язык! Наслажденье глубокое зовёт вас, наслаждение погрузиться во всю неизмеримость его и изловить чудные законы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.В. Го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29941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, какой звук обозначает буква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иведенных ниже слов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арить, ссора, сильный, бесчисленный, косьба, сжечь, расщедриться, сшить, сделать, счёт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слова, определите, какими звуками они различаются. Затранскрибируйте вс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тал – сталь, лук – люк, нос – нё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айка – майка, край – кр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ал – мял, удар – уд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295280"/>
            <a:ext cx="8229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шите, вставляя в слова пропущенные буквы, обозначьте корни эти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морем ц_ревна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 можно гла_ отв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ём свет божий затмев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яц под к_сой бле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о лбу зв_зда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3652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ьте и запишите  предложения со следующими словами. В чём их особенность и на что обращает внимание следующая за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ú]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? м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аб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жат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ть? об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ув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ат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? у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атвар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úт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ь? от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лова с ударными гласными: [а], [о], [у], [и], [э], [ы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буквами затранскрибированные слова. Объясните различия в их произношении и на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ф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], [j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], [здат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ранскрибируйте слова: пять, ударь, окно, доход, цифры, 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исимова Инесса Рудольфовн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ОУ «Гимназия №1» г. Совет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линингра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0492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изучает лингвист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523880"/>
            <a:ext cx="84582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ингвис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языкознание, языковедение)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ука о язык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зыкозн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и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о произнос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лова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о употребля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х в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82044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-54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00200"/>
            <a:ext cx="2438640" cy="76212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фограф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685800"/>
            <a:ext cx="2133720" cy="83808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685800"/>
            <a:ext cx="2133720" cy="83808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1600200"/>
            <a:ext cx="2362320" cy="76212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фоэп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743200"/>
            <a:ext cx="2057400" cy="83808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819520"/>
            <a:ext cx="2362320" cy="83808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олог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114800"/>
            <a:ext cx="2286000" cy="99072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038480"/>
            <a:ext cx="2362320" cy="99072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410080"/>
            <a:ext cx="2743200" cy="91440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о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5334120"/>
            <a:ext cx="2895480" cy="99036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5410080"/>
            <a:ext cx="2209680" cy="91440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286000"/>
            <a:ext cx="3505320" cy="2209680"/>
          </a:xfrm>
          <a:prstGeom prst="ellipse">
            <a:avLst/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16200000"/>
          </a:gradFill>
          <a:ln cap="sq" w="9360">
            <a:solidFill>
              <a:srgbClr val="2f2f98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Разделы лингв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600200"/>
            <a:ext cx="75960" cy="144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350880" y="1522080"/>
            <a:ext cx="1298520" cy="7650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648320" y="1522080"/>
            <a:ext cx="1218960" cy="7650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276720"/>
            <a:ext cx="304920" cy="144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970000" y="2208240"/>
            <a:ext cx="439560" cy="4032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88160" y="2131920"/>
            <a:ext cx="512640" cy="47952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665440" y="3276720"/>
            <a:ext cx="231840" cy="144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88160" y="4172040"/>
            <a:ext cx="664920" cy="43812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70000" y="4172040"/>
            <a:ext cx="439560" cy="3618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70000" y="4495680"/>
            <a:ext cx="1679400" cy="9144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4495680"/>
            <a:ext cx="2133360" cy="106704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495680"/>
            <a:ext cx="1440" cy="83844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у школьни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о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чем нужно изучать лингвистику. Вед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инает говорить на родном языке, хотя ничего не знает о 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е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жде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тановлено, что знание научных сведений о язы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у, во-первых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учше понимать речь других людей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исьменную. Во-вторых, лингвистика даёт возможность овладеть секретами хорошей речи, самому научиться точно, ясно, грамотно и выразительно высказывать свои мысли и чувства. В-третьих, лингвисти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гащ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ругозор человека, раскрывает тайны родного языка, рассказывает м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ивитель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й о языке 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я к тек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 прочитайте текст. Какова его основная мысль? Объясните, согласны ли вы с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шите выделенные слова, обозначьте в них корень и объясните правопис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жите, какие интересные сведения о русском языке вы узнали, изучая его в нача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нет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вишься драгоценности нашего языка: что ни звук, то и подаро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.В. Го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29941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74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не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14400"/>
            <a:ext cx="8229600" cy="69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нé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] – от греч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phōn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зву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ка изучае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вуки 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уки реч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ны образовывать слова, с помощью которых называются предметы, явления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 вы думаете, почему именно с фонетики начинается изучение любого язы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60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те фотоколлаж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звуки вы могли бы услышать, если бы фотографии ож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1600200" cy="155916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2971800" y="3048120"/>
            <a:ext cx="1751040" cy="2647800"/>
            <a:chOff x="2971800" y="3048120"/>
            <a:chExt cx="1751040" cy="264780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2971800" y="3048120"/>
              <a:ext cx="175104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971800" y="3048120"/>
              <a:ext cx="1751040" cy="26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648320" y="14479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648320" y="3200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09480" y="342900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934320" y="4343400"/>
            <a:ext cx="1962000" cy="233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4724280" y="47242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609480" y="5105520"/>
            <a:ext cx="213372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7122960" y="1066680"/>
            <a:ext cx="179244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6972480" y="2438280"/>
            <a:ext cx="2171520" cy="210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2666880" y="5257800"/>
            <a:ext cx="2149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7-04-30T18:19:2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