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924-80BE-4ED6-B79E-307908B8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931-EA85-42B4-AC0D-8244A4EE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778-55A4-4C33-902A-CDA19663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078-3CAC-455B-9CD8-37129006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2E95-DD0E-4383-BA99-90EBEA50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BCB3-BE12-4CE0-9958-FF1BADB5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96E-30A1-4029-81BA-EC110241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DB02-42E8-4ECA-8651-A14B841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7C83-79E1-469F-B6BC-0CDAB2E6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8B4-5F7B-4C41-AA5E-5A86A60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2214-54A9-4BE8-9D89-1C6CAE74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0EA-353E-4621-B995-E950723B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D559-66C4-496A-88CF-B41A02F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43A6-B2B0-4C75-9470-17E65098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66ED-A8BB-47DD-B1F3-B9C48C63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29E4-5864-411F-8302-D74221FA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06D8-028D-430E-BA6C-51D10DD4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F1F4-3F99-4F04-B262-D9C2E88D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9015-55F6-41BB-9585-2E69BEEA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2AC7-C969-44AA-B123-334153B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4BEC-45F6-46F3-BE20-639D964F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68AA-66F8-4017-B520-B584B757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521-7896-4E0D-B8EF-C6E314A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AAE1-264F-48C4-80BD-A35D94CF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9511-2BFD-43F3-8B8B-3724F63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CC7F-9A95-4884-BBBE-E4909A61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9860-3EEC-48ED-ABBA-82D2489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A996-B50F-49D0-90E9-D97BF9A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0F6C-7A14-40F1-878A-F960B01D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C997-C45A-467A-9F9C-3D29B76E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1E0-FE9E-4BD8-AA20-C88874F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753-84EF-4B28-AA8F-D8DD30B5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888-5A5F-4225-B815-B5EFBB2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E19-E205-408A-B231-A779E43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75D-F86C-4C34-ACA5-C53D044D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87C-FE4E-4710-82DE-EB53CAEF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B68746-5B0B-4BB3-B277-1FD4B0C13C0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E529AB-6D81-4123-AFEB-36634E6B133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F36371-0E41-4477-9B7A-00DB3C957AD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28080" y="540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1763640" y="1268640"/>
            <a:ext cx="60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нь рожд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да Моро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 декабре 1998 года из Лапландии Дед Мороз перебрался в Великий Устюг, ставший отныне его вотчин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Великий Устюг Великоустюгский район Вологда и Вологодская область"/>
          <p:cNvPicPr/>
          <p:nvPr/>
        </p:nvPicPr>
        <p:blipFill>
          <a:blip r:embed="rId2"/>
          <a:stretch/>
        </p:blipFill>
        <p:spPr>
          <a:xfrm>
            <a:off x="1259640" y="1556640"/>
            <a:ext cx="6480360" cy="5042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336699"/>
                </a:solidFill>
                <a:latin typeface="Times New Roman"/>
              </a:rPr>
              <a:t>18 ноября Дед Мороз и Снегурочка встречают огромное количество гостей, которые съезжаются на празднество со всего света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Волшебная мельница и 97 желаний: в гостях у Деда Мороза в Бе…"/>
          <p:cNvPicPr/>
          <p:nvPr/>
        </p:nvPicPr>
        <p:blipFill>
          <a:blip r:embed="rId2"/>
          <a:stretch/>
        </p:blipFill>
        <p:spPr>
          <a:xfrm>
            <a:off x="1043640" y="1700640"/>
            <a:ext cx="7272360" cy="483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640" y="274680"/>
            <a:ext cx="43920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з Украины приезжает Святой Никола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Дед мороз - святой Николай"/>
          <p:cNvPicPr/>
          <p:nvPr/>
        </p:nvPicPr>
        <p:blipFill>
          <a:blip r:embed="rId2"/>
          <a:stretch/>
        </p:blipFill>
        <p:spPr>
          <a:xfrm>
            <a:off x="179640" y="1127520"/>
            <a:ext cx="3926880" cy="4620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Picture 4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67560" y="0"/>
            <a:ext cx="2476080" cy="2999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&quot;Дед Мороз&quot; и новогодние /рождественские традиции"/>
          <p:cNvPicPr/>
          <p:nvPr/>
        </p:nvPicPr>
        <p:blipFill>
          <a:blip r:embed="rId5"/>
          <a:stretch/>
        </p:blipFill>
        <p:spPr>
          <a:xfrm>
            <a:off x="4163040" y="1080360"/>
            <a:ext cx="3168000" cy="5333400"/>
          </a:xfrm>
          <a:prstGeom prst="rect">
            <a:avLst/>
          </a:prstGeom>
          <a:ln w="0">
            <a:noFill/>
          </a:ln>
        </p:spPr>
      </p:pic>
      <p:sp>
        <p:nvSpPr>
          <p:cNvPr id="168" name="Заголовок 1"/>
          <p:cNvSpPr/>
          <p:nvPr/>
        </p:nvSpPr>
        <p:spPr>
          <a:xfrm>
            <a:off x="2339640" y="5536080"/>
            <a:ext cx="82188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Из Германии – Вайнахтс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33840" y="-2448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440" cy="777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chemeClr val="accent1"/>
                </a:solidFill>
                <a:latin typeface="Times New Roman"/>
              </a:rPr>
              <a:t>Из Гатчины – Всемирный казачий Дед Моро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Материалы за Декабрь 2012 года &quot; banana.by - Самые желтые но…"/>
          <p:cNvPicPr/>
          <p:nvPr/>
        </p:nvPicPr>
        <p:blipFill>
          <a:blip r:embed="rId2"/>
          <a:stretch/>
        </p:blipFill>
        <p:spPr>
          <a:xfrm>
            <a:off x="2267640" y="980640"/>
            <a:ext cx="3800160" cy="571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2" name="Picture 2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980640"/>
            <a:ext cx="2476080" cy="29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1240"/>
            <a:ext cx="8229240" cy="141732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В День рождения Деда Мороза в Великом Устюге зажигаются огни на первой российской новогодней ёлк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Новый 2012 год"/>
          <p:cNvPicPr/>
          <p:nvPr/>
        </p:nvPicPr>
        <p:blipFill>
          <a:blip r:embed="rId2"/>
          <a:stretch/>
        </p:blipFill>
        <p:spPr>
          <a:xfrm>
            <a:off x="1187640" y="1556640"/>
            <a:ext cx="6696360" cy="5022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Этот день приходится на 18 ноября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Психологический форум :: Просмотр темы - С Днём рождения!"/>
          <p:cNvPicPr/>
          <p:nvPr/>
        </p:nvPicPr>
        <p:blipFill>
          <a:blip r:embed="rId1"/>
          <a:stretch/>
        </p:blipFill>
        <p:spPr>
          <a:xfrm>
            <a:off x="220320" y="1355400"/>
            <a:ext cx="4498920" cy="326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>
            <a:off x="5076000" y="1906560"/>
            <a:ext cx="4067640" cy="2711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3"/>
          <a:stretch/>
        </p:blipFill>
        <p:spPr>
          <a:xfrm>
            <a:off x="444600" y="5065200"/>
            <a:ext cx="824184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1"/>
                </a:solidFill>
                <a:latin typeface="Times New Roman"/>
              </a:rPr>
              <a:t>Рождение трех прадедов современного Деда Мороза пришлось на времена древних восточнославянских племен, поклоняющихся языческим божествам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бог Правда-TV - Part 6"/>
          <p:cNvPicPr/>
          <p:nvPr/>
        </p:nvPicPr>
        <p:blipFill>
          <a:blip r:embed="rId1"/>
          <a:stretch/>
        </p:blipFill>
        <p:spPr>
          <a:xfrm>
            <a:off x="611640" y="1556640"/>
            <a:ext cx="7920360" cy="51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47360" y="476640"/>
            <a:ext cx="4544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Дух холода Трескун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052640"/>
            <a:ext cx="4172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Calibri"/>
              </a:rPr>
              <a:t>Занимался он делами жуткими: насылал на землю стужу, губил посевы, морозил людей и животных. Люди пытались откупиться от злого духа заговорами да подарками, приносили ему кашу, кисель, уговаривали пощадить посевы и скот. Трескун оставался непреклонен</a:t>
            </a: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Дед Мороз. Мифологические корни."/>
          <p:cNvPicPr/>
          <p:nvPr/>
        </p:nvPicPr>
        <p:blipFill>
          <a:blip r:embed="rId2"/>
          <a:stretch/>
        </p:blipFill>
        <p:spPr>
          <a:xfrm rot="21365400">
            <a:off x="539280" y="1196640"/>
            <a:ext cx="4026240" cy="5073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Дух холода Карачун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908640"/>
            <a:ext cx="4244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рачун обитал под землей. Он превращал в лёд воду в колодцах, родниках, замораживал реки. А людям вообще не советовали с ним встречаться, плачевны были последствия таких встреч. Да что долго рассказывать, его лицо говорит само за себ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MAYBE.RU: МейБлог - &quot;Дед Мороз и Снегурочка. Мифологические …"/>
          <p:cNvPicPr/>
          <p:nvPr/>
        </p:nvPicPr>
        <p:blipFill>
          <a:blip r:embed="rId2"/>
          <a:stretch/>
        </p:blipFill>
        <p:spPr>
          <a:xfrm rot="21345600">
            <a:off x="395280" y="1052640"/>
            <a:ext cx="4340160" cy="5563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ух холода Зимник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38440" y="908640"/>
            <a:ext cx="4453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Зимник же был сутулым старичком низенького роста, с длинной белой бородой. В руке держал он железную булаву. К чему та булава прикасалась, то в лед превращалось, гласили народные преда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 rot="21376200">
            <a:off x="827640" y="1073160"/>
            <a:ext cx="3240000" cy="5333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ороз Иванович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32000" y="1052640"/>
            <a:ext cx="37544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коре вышла в свет литературная обработка Одоевского, объединившая мифы и сказания. В ней перед нами впервые предстаёт уже несколько подобревший (в сравнении с предками) старик Мороз Иванович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Мороз Иванович 1981 смотреть онлайн"/>
          <p:cNvPicPr/>
          <p:nvPr/>
        </p:nvPicPr>
        <p:blipFill>
          <a:blip r:embed="rId2"/>
          <a:srcRect l="5090" t="7688" r="5090" b="8922"/>
          <a:stretch/>
        </p:blipFill>
        <p:spPr>
          <a:xfrm rot="21087600">
            <a:off x="755280" y="1236240"/>
            <a:ext cx="3960000" cy="4856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404640"/>
            <a:ext cx="43243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 когда настала пора сменить отца на тяжёлом морозном поприще, юный Дед Мороз решил: «Я сделаю все, чтобы доставлять детишкам радость. Я каждый год буду дарить им подарки, выполнять все их пожелания. Тогда малыши вырастут умными и добрыми». Купил наш Дед Мороз огромный мешок, в который стал складывать многочисленные подарки. А в новогоднюю ночь он тайком пробирался в дома, где жили маленькие ребятишки, и прятал подарки под ёлк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Плейкаст &quot;ВЫБИРАЕМ САМОГО КЛАССНОГО ДЕДА МОРОЗА."/>
          <p:cNvPicPr/>
          <p:nvPr/>
        </p:nvPicPr>
        <p:blipFill>
          <a:blip r:embed="rId2"/>
          <a:stretch/>
        </p:blipFill>
        <p:spPr>
          <a:xfrm>
            <a:off x="611640" y="404640"/>
            <a:ext cx="4248000" cy="6068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Дед Мороз со Снегурочкой приходят на все детские новогодние утренники. Дети с нетерпением ждут дорогого волшебни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Работа в Киеве &quot; Город Киев: актуальные киевские новости"/>
          <p:cNvPicPr/>
          <p:nvPr/>
        </p:nvPicPr>
        <p:blipFill>
          <a:blip r:embed="rId1"/>
          <a:stretch/>
        </p:blipFill>
        <p:spPr>
          <a:xfrm>
            <a:off x="1475640" y="1628640"/>
            <a:ext cx="6336360" cy="4979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  <Words>377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1:58:41Z</dcterms:created>
  <dc:creator>ммвм</dc:creator>
  <dc:description/>
  <dc:language>en-US</dc:language>
  <cp:lastModifiedBy>user</cp:lastModifiedBy>
  <dcterms:modified xsi:type="dcterms:W3CDTF">2016-11-23T17:05:21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