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15.gif" ContentType="image/gif"/>
  <Override PartName="/ppt/media/image7.jpeg" ContentType="image/jpeg"/>
  <Override PartName="/ppt/media/image4.png" ContentType="image/png"/>
  <Override PartName="/ppt/media/image2.gif" ContentType="image/gif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5DBD-5463-4532-8892-81AF493B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7A7C-ED55-4DD0-9013-3860589C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1BD-B1FC-40EF-A3E0-C0AA0D3A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1D43-A33C-4316-ADC4-E40079A6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D2D7-430F-4F9C-A0EA-35456B43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00D2-D6C1-44CD-99D1-0BD3BEC1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1E63-6A4E-43EF-B985-63597CD5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49DB-02F0-4F73-8519-35BBBA78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75F8-42DB-42DC-87C3-32E292BE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08ED-97F4-4AC2-9A65-EFCDE8BC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4B45-EA1B-43B3-9DC3-7E381944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8A61-2DA1-47E9-8622-344E491F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57E9-C5E4-49A5-AB4C-987DAC3C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6B4A-4DE8-4F7E-BAB3-FC0BDA5D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1552-A398-433B-BA13-2E069C9E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EFFE-192A-488D-992B-8DE96E76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40AD-675C-4887-B741-342474C3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8B8FA-6EC3-4ED4-9CA9-90D9E22D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EEF46-9690-4DD5-BC32-4944CF70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F2DBD-C6B1-41A4-A24C-BDE28C5D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CF55F-BE04-4B08-8ECD-552C94B1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1DDB7-3C83-40F2-90D1-A5451A64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0C8-64F6-41E5-84C1-FA86AD09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DD4E1-D4C9-4B4A-A186-680441D0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B7CF2-FCD2-45CB-94A4-3E3B585C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85B86-8C77-4F6C-81EA-A50A1C1B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03821-2A05-4607-95DB-CD3A284B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53471-D01B-4CE1-9C5B-E3A96516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CC53A-BC10-4AAF-9BBF-EA9423AE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CDF3D-125B-4D77-8CB8-39D3DDD2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46EC-AE8B-4F1C-8DB4-3CBE18D4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566-B951-4919-8E05-9347D8EC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72DB-BBE2-43E0-A543-5FDBE530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C44E-8E89-4ED0-B720-E0018D81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961-701B-452F-9739-FDE30B8C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F95-231B-4906-BE63-676A8EFD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5673FC-991F-48C5-AB0F-22AF25045A9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31F870-DFBD-4411-A10E-3F842D58AD5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6332E5-735E-43AA-ABBF-5474FFAE1CB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http://www.radikal.ru/" TargetMode="External"/><Relationship Id="rId4" Type="http://schemas.openxmlformats.org/officeDocument/2006/relationships/image" Target="../media/image15.gi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hyperlink" Target="http://www.radikal.ru/" TargetMode="External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-28080" y="540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2"/>
          <p:cNvSpPr/>
          <p:nvPr/>
        </p:nvSpPr>
        <p:spPr>
          <a:xfrm>
            <a:off x="1763640" y="1268640"/>
            <a:ext cx="6048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8000" spc="-1" strike="noStrike">
                <a:solidFill>
                  <a:srgbClr val="c6d9f1"/>
                </a:solidFill>
                <a:latin typeface="Arial Narrow"/>
                <a:ea typeface="Times New Roman"/>
              </a:rPr>
              <a:t>День рожден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8000" spc="-1" strike="noStrike">
                <a:solidFill>
                  <a:srgbClr val="c6d9f1"/>
                </a:solidFill>
                <a:latin typeface="Arial Narrow"/>
                <a:ea typeface="Times New Roman"/>
              </a:rPr>
              <a:t> </a:t>
            </a:r>
            <a:r>
              <a:rPr b="1" i="1" lang="ru-RU" sz="8000" spc="-1" strike="noStrike">
                <a:solidFill>
                  <a:srgbClr val="c6d9f1"/>
                </a:solidFill>
                <a:latin typeface="Arial Narrow"/>
                <a:ea typeface="Times New Roman"/>
              </a:rPr>
              <a:t>Деда Моро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В декабре 1998 года из Лапландии Дед Мороз перебрался в Великий Устюг, ставший отныне его вотчино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Великий Устюг Великоустюгский район Вологда и Вологодская область"/>
          <p:cNvPicPr/>
          <p:nvPr/>
        </p:nvPicPr>
        <p:blipFill>
          <a:blip r:embed="rId2"/>
          <a:stretch/>
        </p:blipFill>
        <p:spPr>
          <a:xfrm>
            <a:off x="1259640" y="1556640"/>
            <a:ext cx="6480360" cy="5042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100" spc="-1" strike="noStrike">
                <a:solidFill>
                  <a:srgbClr val="336699"/>
                </a:solidFill>
                <a:latin typeface="Times New Roman"/>
              </a:rPr>
              <a:t>18 ноября Дед Мороз и Снегурочка встречают огромное количество гостей, которые съезжаются на празднество со всего света.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Волшебная мельница и 97 желаний: в гостях у Деда Мороза в Бе…"/>
          <p:cNvPicPr/>
          <p:nvPr/>
        </p:nvPicPr>
        <p:blipFill>
          <a:blip r:embed="rId2"/>
          <a:stretch/>
        </p:blipFill>
        <p:spPr>
          <a:xfrm>
            <a:off x="1043640" y="1700640"/>
            <a:ext cx="7272360" cy="4839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640" y="274680"/>
            <a:ext cx="43920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Из Украины приезжает Святой Николай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Дед мороз - святой Николай"/>
          <p:cNvPicPr/>
          <p:nvPr/>
        </p:nvPicPr>
        <p:blipFill>
          <a:blip r:embed="rId2"/>
          <a:stretch/>
        </p:blipFill>
        <p:spPr>
          <a:xfrm>
            <a:off x="179640" y="1127520"/>
            <a:ext cx="3926880" cy="46202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66" name="Picture 4" descr="Изображени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67560" y="0"/>
            <a:ext cx="2476080" cy="2999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&quot;Дед Мороз&quot; и новогодние /рождественские традиции"/>
          <p:cNvPicPr/>
          <p:nvPr/>
        </p:nvPicPr>
        <p:blipFill>
          <a:blip r:embed="rId5"/>
          <a:stretch/>
        </p:blipFill>
        <p:spPr>
          <a:xfrm>
            <a:off x="4163040" y="1080360"/>
            <a:ext cx="3168000" cy="5333400"/>
          </a:xfrm>
          <a:prstGeom prst="rect">
            <a:avLst/>
          </a:prstGeom>
          <a:ln w="0">
            <a:noFill/>
          </a:ln>
        </p:spPr>
      </p:pic>
      <p:sp>
        <p:nvSpPr>
          <p:cNvPr id="168" name="Заголовок 1"/>
          <p:cNvSpPr/>
          <p:nvPr/>
        </p:nvSpPr>
        <p:spPr>
          <a:xfrm>
            <a:off x="2339640" y="5536080"/>
            <a:ext cx="82188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Из Германии – Вайнахтс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-33840" y="-2448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440" cy="77760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chemeClr val="accent1"/>
                </a:solidFill>
                <a:latin typeface="Times New Roman"/>
              </a:rPr>
              <a:t>Из Гатчины – Всемирный казачий Дед Мороз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Материалы за Декабрь 2012 года &quot; banana.by - Самые желтые но…"/>
          <p:cNvPicPr/>
          <p:nvPr/>
        </p:nvPicPr>
        <p:blipFill>
          <a:blip r:embed="rId2"/>
          <a:stretch/>
        </p:blipFill>
        <p:spPr>
          <a:xfrm>
            <a:off x="2267640" y="980640"/>
            <a:ext cx="3800160" cy="5714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72" name="Picture 2" descr="Изображени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980640"/>
            <a:ext cx="2476080" cy="29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85280" y="21240"/>
            <a:ext cx="8229240" cy="141732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В День рождения Деда Мороза в Великом Устюге зажигаются огни на первой российской новогодней ёлк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Новый 2012 год"/>
          <p:cNvPicPr/>
          <p:nvPr/>
        </p:nvPicPr>
        <p:blipFill>
          <a:blip r:embed="rId2"/>
          <a:stretch/>
        </p:blipFill>
        <p:spPr>
          <a:xfrm>
            <a:off x="1187640" y="1556640"/>
            <a:ext cx="6696360" cy="5022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Этот день приходится на 18 ноября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Психологический форум :: Просмотр темы - С Днём рождения!"/>
          <p:cNvPicPr/>
          <p:nvPr/>
        </p:nvPicPr>
        <p:blipFill>
          <a:blip r:embed="rId1"/>
          <a:stretch/>
        </p:blipFill>
        <p:spPr>
          <a:xfrm>
            <a:off x="220320" y="1355400"/>
            <a:ext cx="4498920" cy="326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Сегодня день рождения Деда Мороза"/>
          <p:cNvPicPr/>
          <p:nvPr/>
        </p:nvPicPr>
        <p:blipFill>
          <a:blip r:embed="rId2"/>
          <a:stretch/>
        </p:blipFill>
        <p:spPr>
          <a:xfrm>
            <a:off x="5076000" y="1906560"/>
            <a:ext cx="4067640" cy="27115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2" descr=""/>
          <p:cNvPicPr/>
          <p:nvPr/>
        </p:nvPicPr>
        <p:blipFill>
          <a:blip r:embed="rId3"/>
          <a:stretch/>
        </p:blipFill>
        <p:spPr>
          <a:xfrm>
            <a:off x="444600" y="5065200"/>
            <a:ext cx="824184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1"/>
                </a:solidFill>
                <a:latin typeface="Times New Roman"/>
              </a:rPr>
              <a:t>Рождение трех прадедов современного Деда Мороза пришлось на времена древних восточнославянских племен, поклоняющихся языческим божествам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бог Правда-TV - Part 6"/>
          <p:cNvPicPr/>
          <p:nvPr/>
        </p:nvPicPr>
        <p:blipFill>
          <a:blip r:embed="rId1"/>
          <a:stretch/>
        </p:blipFill>
        <p:spPr>
          <a:xfrm>
            <a:off x="611640" y="1556640"/>
            <a:ext cx="7920360" cy="517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47360" y="476640"/>
            <a:ext cx="45446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Дух холода Трескун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052640"/>
            <a:ext cx="4172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558ed5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336699"/>
                </a:solidFill>
                <a:latin typeface="Calibri"/>
              </a:rPr>
              <a:t>Занимался он делами жуткими: насылал на землю стужу, губил посевы, морозил людей и животных. Люди пытались откупиться от злого духа заговорами да подарками, приносили ему кашу, кисель, уговаривали пощадить посевы и скот. Трескун оставался непреклонен</a:t>
            </a:r>
            <a:r>
              <a:rPr b="0" i="1" lang="ru-RU" sz="2800" spc="-1" strike="noStrike">
                <a:solidFill>
                  <a:srgbClr val="558ed5"/>
                </a:solidFill>
                <a:latin typeface="Calibri"/>
              </a:rPr>
              <a:t>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Дед Мороз. Мифологические корни."/>
          <p:cNvPicPr/>
          <p:nvPr/>
        </p:nvPicPr>
        <p:blipFill>
          <a:blip r:embed="rId2"/>
          <a:stretch/>
        </p:blipFill>
        <p:spPr>
          <a:xfrm rot="21365400">
            <a:off x="539280" y="1196640"/>
            <a:ext cx="4026240" cy="5073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Дух холода Карачун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908640"/>
            <a:ext cx="424404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Карачун обитал под землей. Он превращал в лёд воду в колодцах, родниках, замораживал реки. А людям вообще не советовали с ним встречаться, плачевны были последствия таких встреч. Да что долго рассказывать, его лицо говорит само за себ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MAYBE.RU: МейБлог - &quot;Дед Мороз и Снегурочка. Мифологические …"/>
          <p:cNvPicPr/>
          <p:nvPr/>
        </p:nvPicPr>
        <p:blipFill>
          <a:blip r:embed="rId2"/>
          <a:stretch/>
        </p:blipFill>
        <p:spPr>
          <a:xfrm rot="21345600">
            <a:off x="395280" y="1052640"/>
            <a:ext cx="4340160" cy="5563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Дух холода Зимник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438440" y="908640"/>
            <a:ext cx="44539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Зимник же был сутулым старичком низенького роста, с длинной белой бородой. В руке держал он железную булаву. К чему та булава прикасалась, то в лед превращалось, гласили народные предан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Сегодня день рождения Деда Мороза"/>
          <p:cNvPicPr/>
          <p:nvPr/>
        </p:nvPicPr>
        <p:blipFill>
          <a:blip r:embed="rId2"/>
          <a:stretch/>
        </p:blipFill>
        <p:spPr>
          <a:xfrm rot="21376200">
            <a:off x="827640" y="1073160"/>
            <a:ext cx="3240000" cy="5333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Мороз Иванович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32000" y="1052640"/>
            <a:ext cx="3754440" cy="50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337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скоре вышла в свет литературная обработка Одоевского, объединившая мифы и сказания. В ней перед нами впервые предстаёт уже несколько подобревший (в сравнении с предками) старик Мороз Иванович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Мороз Иванович 1981 смотреть онлайн"/>
          <p:cNvPicPr/>
          <p:nvPr/>
        </p:nvPicPr>
        <p:blipFill>
          <a:blip r:embed="rId2"/>
          <a:srcRect l="5090" t="7688" r="5090" b="8922"/>
          <a:stretch/>
        </p:blipFill>
        <p:spPr>
          <a:xfrm rot="21087600">
            <a:off x="755280" y="1236240"/>
            <a:ext cx="3960000" cy="4856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95680" y="404640"/>
            <a:ext cx="4324320" cy="612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146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И когда настала пора сменить отца на тяжёлом морозном поприще, юный Дед Мороз решил: «Я сделаю все, чтобы доставлять детишкам радость. Я каждый год буду дарить им подарки, выполнять все их пожелания. Тогда малыши вырастут умными и добрыми». Купил наш Дед Мороз огромный мешок, в который стал складывать многочисленные подарки. А в новогоднюю ночь он тайком пробирался в дома, где жили маленькие ребятишки, и прятал подарки под ёлку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Плейкаст &quot;ВЫБИРАЕМ САМОГО КЛАССНОГО ДЕДА МОРОЗА."/>
          <p:cNvPicPr/>
          <p:nvPr/>
        </p:nvPicPr>
        <p:blipFill>
          <a:blip r:embed="rId2"/>
          <a:stretch/>
        </p:blipFill>
        <p:spPr>
          <a:xfrm>
            <a:off x="611640" y="404640"/>
            <a:ext cx="4248000" cy="60688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Дед Мороз со Снегурочкой приходят на все детские новогодние утренники. Дети с нетерпением ждут дорогого волшебни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Работа в Киеве &quot; Город Киев: актуальные киевские новости"/>
          <p:cNvPicPr/>
          <p:nvPr/>
        </p:nvPicPr>
        <p:blipFill>
          <a:blip r:embed="rId1"/>
          <a:stretch/>
        </p:blipFill>
        <p:spPr>
          <a:xfrm>
            <a:off x="1475640" y="1628640"/>
            <a:ext cx="6336360" cy="4979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  <Words>377</Words>
  <Paragraphs>2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1:58:41Z</dcterms:created>
  <dc:creator>ммвм</dc:creator>
  <dc:description/>
  <dc:language>en-US</dc:language>
  <cp:lastModifiedBy>user</cp:lastModifiedBy>
  <dcterms:modified xsi:type="dcterms:W3CDTF">2016-11-23T17:05:21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