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E5E-F649-499C-A491-D9C67AEB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580-6E3A-4794-9B99-41CB6746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F73-5625-4494-B1C5-8A4CBE97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391-4A22-4564-BDDA-CE63AFEB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B8F-FBC6-4738-AD56-EE72D94F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6D3-10A5-43E6-A7AD-89661326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C21-8F9F-48D3-B024-CBF3B12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81E-F46D-4653-87D0-1F6D201C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C52-C26E-46FC-A115-F46D3AA9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683-052E-4B1F-8FC7-659B81B4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9F5-2793-4650-8ED1-48E8A3E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3B9-43CD-49BC-AD01-3D7B74E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C98-A6A1-460A-9F69-C595B7ECD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«Имя прилагате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900000" y="549360"/>
            <a:ext cx="67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геровская средняя общеобразовательная школа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156360" y="4149720"/>
            <a:ext cx="259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 обучающиеся 3 «Б» класса МКОУ Венгеровской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227640" y="508464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-логопед  Кондякова Т.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нгерово,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8360" y="476280"/>
            <a:ext cx="82072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я творческую работу обучающиеся повторили основные темы, выписали всё, что относится к прилагательному, затем разместили их на рисунке. Данная работа положительно влияет на процесс запоминания и в ненавязчивой форме готовит ребят к разбору прилагательного, как части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форма способствует развитию творческих способностей обучающихся. Учащиеся придумали необычные, фантастические  образы прилагате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 понравилась ребятам, своей необычностью  и новиз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826920" y="62064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 работ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ление полученных знаний об имени прилагатель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971640" y="227664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овторить изученный материал и выделить основные темы из раздела «Имя прилагательно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Подготовиться к разбору прилагательного, как части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ридумать и нарисовать имя прилагательное, разместить на рисунке основные темы из раздела «Имя прилагательн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71640" y="1125360"/>
            <a:ext cx="77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ая работа была дана, как домашнее задание, чтобы обучающиеся разработали памятку для обобщения знаний по разделу «имя прилагательн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ая работа направлена на повторение основных тем раздела, изучаемых в третьем классе. Обучающимся было предложено придумать и нарисовать имя прилагательное. Обязательное условие заключалось в том, чтобы включить в рисунок те знания, которые получили на уроках рус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00000" y="1125360"/>
            <a:ext cx="75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, чтобы выполнить работу, обучающимся необходимо по учебнику повторить все пройденные темы и выписать всё, что относится к прилагательно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 имён прилагательных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 имён прилагатель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е имён прилагательных по падеж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867280" y="4869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обуча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иловой Дар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443640" y="5084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обуча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отовой Ир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193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184720" cy="6337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96000" y="50846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иной А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111640" cy="6480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5867280" y="47973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обуча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атенко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379920" y="5013360"/>
            <a:ext cx="20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бышкиной Ю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68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1T15:02:39Z</dcterms:created>
  <dc:creator>User</dc:creator>
  <dc:description/>
  <dc:language>en-US</dc:language>
  <cp:lastModifiedBy>User</cp:lastModifiedBy>
  <dcterms:modified xsi:type="dcterms:W3CDTF">2022-12-14T14:22:19Z</dcterms:modified>
  <cp:revision>30</cp:revision>
  <dc:subject/>
  <dc:title>Слайд 1</dc:title>
</cp:coreProperties>
</file>