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55C-7DD3-47D1-89F0-2B655B40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078-E774-4600-8715-5C4BBAFD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5A2-26FD-42AA-8C3F-0E54FE4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A6B-3184-4988-B4C8-2552B527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FB2-67E8-4CAB-ABF2-4F1842E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4CF-7EBF-4239-A9B1-0081EAA2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981-2D9D-4DD2-BDC3-FE5AF76C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131-793D-4358-9024-04D4F6C8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A1B-4F22-4152-A3BD-08F7048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5D6-CB1F-479D-894D-F41785A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0C2-FEB6-4C4F-94F3-6E588250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249-7515-4B6C-810D-14B741A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285-EF1B-4EFF-83D6-014C233CD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«Имя прилагате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900000" y="549360"/>
            <a:ext cx="67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геровская средняя общеобразовательная школа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156360" y="4149720"/>
            <a:ext cx="259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 обучающиеся 3 «Б» класса МКОУ Венгеровской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227640" y="508464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-логопед  Кондякова Т.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нгерово,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8360" y="476280"/>
            <a:ext cx="82072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я творческую работу обучающиеся повторили основные темы, выписали всё, что относится к прилагательному, затем разместили их на рисунке. Данная работа положительно влияет на процесс запоминания и в ненавязчивой форме готовит ребят к разбору прилагательного, как части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форма способствует развитию творческих способностей обучающихся. Учащиеся придумали необычные, фантастические  образы прилагате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 понравилась ребятам, своей необычностью  и новиз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826920" y="62064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 работ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ление полученных знаний об имени прилагатель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971640" y="227664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овторить изученный материал и выделить основные темы из раздела «Имя прилагательно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Подготовиться к разбору прилагательного, как части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ридумать и нарисовать имя прилагательное, разместить на рисунке основные темы из раздела «Имя прилагательн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71640" y="1125360"/>
            <a:ext cx="77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ая работа была дана, как домашнее задание, чтобы обучающиеся разработали памятку для обобщения знаний по разделу «имя прилагательн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ая работа направлена на повторение основных тем раздела, изучаемых в третьем классе. Обучающимся было предложено придумать и нарисовать имя прилагательное. Обязательное условие заключалось в том, чтобы включить в рисунок те знания, которые получили на уроках рус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00000" y="1125360"/>
            <a:ext cx="75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, чтобы выполнить работу, обучающимся необходимо по учебнику повторить все пройденные темы и выписать всё, что относится к прилагательно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 имён прилагательных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 имён прилагатель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е имён прилагательных по падеж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867280" y="4869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обуча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иловой Дар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68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443640" y="5084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обуча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отовой Ир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193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184720" cy="6337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96000" y="50846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иной А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111640" cy="6480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5867280" y="47973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обуча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атенко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379920" y="5013360"/>
            <a:ext cx="20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бышкиной Ю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68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1T15:02:39Z</dcterms:created>
  <dc:creator>User</dc:creator>
  <dc:description/>
  <dc:language>en-US</dc:language>
  <cp:lastModifiedBy>User</cp:lastModifiedBy>
  <dcterms:modified xsi:type="dcterms:W3CDTF">2022-12-14T14:22:19Z</dcterms:modified>
  <cp:revision>30</cp:revision>
  <dc:subject/>
  <dc:title>Слайд 1</dc:title>
</cp:coreProperties>
</file>