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00FCAAD-1C6D-46C0-AFA6-6483782250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факторам информационной среды, которые могут стать опасностями информационной безопасности школьников, следует отнести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оступность, неподконтрольность, неограниченный объем поступления циркулирующей информации к школьни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аличие в информационной среде модифицированных физических носителей информации, воздействующих на физиологические системы ребё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аличие в информационных потоках специфических элементов, целенаправленно изменяющих психофизиологическое состояние детей и подрост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Наличие в информационной среде информации манипулятивного характера, дезориентирующих школьников, ограничивающих их возможности в условиях слабой правовой образованности и в силу возрастных особенностей несовершеннолет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актуализация качественно новых угроз безопасности учащихся, затрагивающих сущность информационной связи общества и человека, а также отсутствие педагогических условий обеспечения информационной безопасности школьника в системе образования свидетельствует об актуальности данн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963867-8F10-4816-89C9-939CFB72ECB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0FFC-B537-42DD-8C03-80EC155C7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0DF9-7ECA-4EEF-9496-DD38FD03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934C-3293-4E7A-9A70-2DA70465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D9B2-E920-415B-8396-64AFCD09B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3B6E-8716-48D4-A673-6CB5A779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ADE1-10C0-40B1-83DB-F7E5F1B1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327B-2579-4D21-8BBA-87451D60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754A-8E1E-4C3D-824F-77A4E074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B1D2-7D9E-4201-8AA3-5642C323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A6C1-9D19-44D2-AAA2-5C5D0204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ACE7-F9FF-4DE6-AF1D-23A41670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72FA-CB47-42EB-9641-C5D189E8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BE76-5A57-4783-A8B6-73EC73358C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БПОУ РО «ВП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ИНФОРМАЦИОННАЯ БЕЗОПАСНОСТЬ ДЕ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Выполнил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удент группы ПДО-3.1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медов Илимдар  Эльдарович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. Волгодонск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2124000" y="5111640"/>
            <a:ext cx="302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8120" y="259920"/>
            <a:ext cx="82296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ЧТО ДЕЛА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28760" y="982440"/>
            <a:ext cx="82072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дьте в курсе, с кем ребенок общается в се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ясните ребенку, что нельзя разглашать в интернете информацию личного характера, пересылать виртуальным знакомым свои фотографии или виде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ясните ребенку опасность встречи с незнакомыми людьми из интернета. На реальную встречу с интернет-другом надо обязательно ходить в сопровождении взрослы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ясните ребенку, что в интернете тема любви часто представляется в неправильной, вульгарной форм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ропитесь стать «другом» в социальных сетя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8" descr=""/>
          <p:cNvPicPr/>
          <p:nvPr/>
        </p:nvPicPr>
        <p:blipFill>
          <a:blip r:embed="rId1"/>
          <a:stretch/>
        </p:blipFill>
        <p:spPr>
          <a:xfrm>
            <a:off x="7236000" y="5635800"/>
            <a:ext cx="160308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ФАКТОРЫ, ПОВЫШАЮЩИЕ РИСК НЕГАТИВНОГО ВОЗДЕЙСТВИЯ ИНТЕРНЕТА НА ДЕТЕЙ И ПОДРОСТКОВ</a:t>
            </a:r>
            <a:br>
              <a:rPr sz="2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упнос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активнос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онимнос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нсгранич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невремен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обода выб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росшее значение отдельного индивидуу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0" y="115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  <a:ea typeface="Arial"/>
              </a:rPr>
              <a:t>Классификация интернет-рисков и угро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Скругленный прямоугольник 2"/>
          <p:cNvSpPr/>
          <p:nvPr/>
        </p:nvSpPr>
        <p:spPr>
          <a:xfrm>
            <a:off x="272880" y="958680"/>
            <a:ext cx="4176720" cy="16574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ТЕНТНЫЕ РИСК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вязаны с нахождением в сети различных материалов (текстов, картинок, аудио- и видеофайлов, ссылок на сторонние ресурсы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Скругленный прямоугольник 3"/>
          <p:cNvSpPr/>
          <p:nvPr/>
        </p:nvSpPr>
        <p:spPr>
          <a:xfrm>
            <a:off x="4710240" y="981000"/>
            <a:ext cx="4103640" cy="16574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ЛЕКТРОННЫЕ РИСК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возможность столкнуться с хищением персональной информации или подвергнуться атаке вредоносных програм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кругленный прямоугольник 4"/>
          <p:cNvSpPr/>
          <p:nvPr/>
        </p:nvSpPr>
        <p:spPr>
          <a:xfrm>
            <a:off x="250920" y="3933720"/>
            <a:ext cx="4176720" cy="13536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ММУНИКАЦИОННЫЕ РИСК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язаны с общением и межличностными отношениями интернет-пользова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Скругленный прямоугольник 6"/>
          <p:cNvSpPr/>
          <p:nvPr/>
        </p:nvSpPr>
        <p:spPr>
          <a:xfrm>
            <a:off x="4741920" y="3938760"/>
            <a:ext cx="4102200" cy="13536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ТРЕБИТЕЛЬСКИЕ РИСК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злоупотребление в интернете правами потребите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detionline.com/assets/images/mts/rules/lie.jpg"/>
          <p:cNvPicPr/>
          <p:nvPr/>
        </p:nvPicPr>
        <p:blipFill>
          <a:blip r:embed="rId1"/>
          <a:stretch/>
        </p:blipFill>
        <p:spPr>
          <a:xfrm>
            <a:off x="5364000" y="5300640"/>
            <a:ext cx="2857680" cy="952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detionline.com/assets/images/mts/rules/video.jpg"/>
          <p:cNvPicPr/>
          <p:nvPr/>
        </p:nvPicPr>
        <p:blipFill>
          <a:blip r:embed="rId2"/>
          <a:srcRect l="0" t="5896" r="0" b="11766"/>
          <a:stretch/>
        </p:blipFill>
        <p:spPr>
          <a:xfrm>
            <a:off x="866880" y="5300640"/>
            <a:ext cx="2841480" cy="100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detionline.com/assets/images/mts/rules/google.jpg"/>
          <p:cNvPicPr/>
          <p:nvPr/>
        </p:nvPicPr>
        <p:blipFill>
          <a:blip r:embed="rId3"/>
          <a:srcRect l="0" t="0" r="0" b="2646"/>
          <a:stretch/>
        </p:blipFill>
        <p:spPr>
          <a:xfrm>
            <a:off x="900000" y="2674800"/>
            <a:ext cx="2924280" cy="1185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http://detionline.com/assets/images/mts/rules/unknown.jpg"/>
          <p:cNvPicPr/>
          <p:nvPr/>
        </p:nvPicPr>
        <p:blipFill>
          <a:blip r:embed="rId4"/>
          <a:stretch/>
        </p:blipFill>
        <p:spPr>
          <a:xfrm>
            <a:off x="5364000" y="2790720"/>
            <a:ext cx="28576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233280" y="1197000"/>
            <a:ext cx="867744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Доступность, неподконтрольность, неограниченный объем поступления циркулирующей информации к школьник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Наличие специфических элементов, целенаправленно изменяющих психофизиологическое состояние детей и подрост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Наличие информации манипулятивного характера, дезориентирующих школьников, ограничивающих их возможности в условиях слабой правовой образованности и в силу возрастных особенностей несовершеннолетн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0" y="115920"/>
            <a:ext cx="91440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Факторы</a:t>
            </a:r>
            <a:r>
              <a:rPr b="1" lang="ru-RU" sz="3600" spc="-1" strike="noStrike">
                <a:solidFill>
                  <a:srgbClr val="558ed5"/>
                </a:solidFill>
                <a:latin typeface="Calibri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66cc"/>
                </a:solidFill>
                <a:latin typeface="Calibri"/>
                <a:ea typeface="Times New Roman"/>
              </a:rPr>
              <a:t>опасной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информационной сре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detionline.com/assets/images/mts/rules/internet.jpg"/>
          <p:cNvPicPr/>
          <p:nvPr/>
        </p:nvPicPr>
        <p:blipFill>
          <a:blip r:embed="rId1"/>
          <a:stretch/>
        </p:blipFill>
        <p:spPr>
          <a:xfrm>
            <a:off x="2987640" y="5086440"/>
            <a:ext cx="2825640" cy="16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840" y="1839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600" spc="-1" strike="noStrike">
                <a:solidFill>
                  <a:srgbClr val="558ed5"/>
                </a:solidFill>
                <a:latin typeface="Calibri"/>
              </a:rPr>
              <a:t>ЧТО ДАЕТ ОБЩЕНИЕ В ИНТЕРНЕТ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177336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опрезент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ование и поддержание  отнош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равление личной сетью контак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150840" y="4129200"/>
            <a:ext cx="4349880" cy="27288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4537080" y="4125960"/>
            <a:ext cx="4572000" cy="26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0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грессия в интернете (троллинг, кибербуллин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0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ение с незнакомц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0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законные контакты (грумин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1476360" y="3257640"/>
            <a:ext cx="802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Риски при общении в интернет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6360" y="23148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АГРЕССИЯ В ИНТЕРНЕ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360" y="893880"/>
            <a:ext cx="46306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Кибербуллинг</a:t>
            </a:r>
            <a:r>
              <a:rPr b="0" lang="ru-RU" sz="3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244583"/>
                </a:solidFill>
                <a:latin typeface="Georgia"/>
              </a:rPr>
              <a:t> –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грессивное, умышленное действие, совершаемое группой лиц или одним лицом с использованием электронных форм контакта, повторяющееся неоднократно и продолжительное во времени в отношении жертвы, которой трудно защитить себя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C:\Users\1\Desktop\ФРИ\иллюстрации\photos\bullying-300x158.gif"/>
          <p:cNvPicPr/>
          <p:nvPr/>
        </p:nvPicPr>
        <p:blipFill>
          <a:blip r:embed="rId1"/>
          <a:srcRect l="3920" t="7012" r="4683" b="6571"/>
          <a:stretch/>
        </p:blipFill>
        <p:spPr>
          <a:xfrm>
            <a:off x="4230720" y="4533840"/>
            <a:ext cx="3759120" cy="19908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"/>
          <p:cNvSpPr/>
          <p:nvPr/>
        </p:nvSpPr>
        <p:spPr>
          <a:xfrm>
            <a:off x="4572000" y="99072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Троллинг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244583"/>
                </a:solidFill>
                <a:latin typeface="Georgia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д виртуальной коммуникации с нарушением этики сетевого взаимодействия, выражающийся в виде проявления различных форм провокативного агрессивного, издевательского и оскорбительного повед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C:\Users\User\Desktop\unnamed.jpg"/>
          <p:cNvPicPr/>
          <p:nvPr/>
        </p:nvPicPr>
        <p:blipFill>
          <a:blip r:embed="rId2"/>
          <a:stretch/>
        </p:blipFill>
        <p:spPr>
          <a:xfrm>
            <a:off x="420840" y="4292640"/>
            <a:ext cx="3043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072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ХАРАКТЕРНЫЕ ОСОБЕННОСТИ  ЖЕРТВ </a:t>
            </a:r>
            <a:r>
              <a:rPr b="1" lang="en-US" sz="3200" spc="-1" strike="noStrike">
                <a:solidFill>
                  <a:srgbClr val="558ed5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БУЛЛИНГ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4920" y="1773360"/>
            <a:ext cx="82803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углив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Чувствитель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Замкнуты и застенчив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Тревожны, неувереные в себ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есчаст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клонны к депрессии и чаще своих ровесников думают о самоубийст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е имеют ни одного близкого друга и успешнее общаются с взрослыми, нежели со сверстник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Мальчики могут быть физически слабее своих ровес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6" descr=""/>
          <p:cNvPicPr/>
          <p:nvPr/>
        </p:nvPicPr>
        <p:blipFill>
          <a:blip r:embed="rId1"/>
          <a:stretch/>
        </p:blipFill>
        <p:spPr>
          <a:xfrm>
            <a:off x="5076720" y="1268280"/>
            <a:ext cx="32544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ЧТО ДЕЛ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23640" y="765000"/>
            <a:ext cx="8373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бъясните детям, что при общении в интернете нужно быть дружелюбным – читать грубости так же неприятно, как и слыш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Если у вас есть информация, что кто-то из друзей или знакомых вашего ребенка подвергается буллингу, сообщите об этом классному руководителю – необходимо принять меры по защите ребе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аучите детей правильно реагировать на обидные слова или действия других пользователей.  Лучший способ испортить хулигану его выходку – полный «игнор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оддерживайте доверительные отношения с вашим ребенком, чтобы вовремя заметить, если в его адрес начнет поступать агрессия или угрозы. Убедитесь, что оскорбления из сети не перешли в реальную жизн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омогите ребенку найти выход из ситу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150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ГРУМИН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140148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ение  между взрослыми и ребенком, при котором взрослый пытается установить более близкие отношения для сексуальной эксплуатации ребен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F:\примеры  плакатов\Виктор Казаров.bmp"/>
          <p:cNvPicPr/>
          <p:nvPr/>
        </p:nvPicPr>
        <p:blipFill>
          <a:blip r:embed="rId1"/>
          <a:srcRect l="0" t="9634" r="0" b="0"/>
          <a:stretch/>
        </p:blipFill>
        <p:spPr>
          <a:xfrm>
            <a:off x="2124000" y="3490920"/>
            <a:ext cx="4969080" cy="3367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16:13:48Z</dcterms:created>
  <dc:creator>Смирнов Артем</dc:creator>
  <dc:description/>
  <dc:language>en-US</dc:language>
  <cp:lastModifiedBy>User</cp:lastModifiedBy>
  <dcterms:modified xsi:type="dcterms:W3CDTF">2022-05-26T11:14:37Z</dcterms:modified>
  <cp:revision>45</cp:revision>
  <dc:subject/>
  <dc:title>Презентация PowerPoint</dc:title>
</cp:coreProperties>
</file>