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868A97-3613-499D-AE6A-EE730C644A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акторам информационной среды, которые могут стать опасностями информационной безопасности школьников, следует отнести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оступность, неподконтрольность, неограниченный объем поступления циркулирующей информации к школьн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аличие в информационной среде модифицированных физических носителей информации, воздействующих на физиологические системы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аличие в информационных потоках специфических элементов, целенаправленно изменяющих психофизиологическое состояние детей и подрост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личие в информационной среде информации манипулятивного характера, дезориентирующих школьников, ограничивающих их возможности в условиях слабой правовой образованности и в силу возрастных особенностей несовершеннолет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актуализация качественно новых угроз безопасности учащихся, затрагивающих сущность информационной связи общества и человека, а также отсутствие педагогических условий обеспечения информационной безопасности школьника в системе образования свидетельствует об актуальности дан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F0FE60-11C5-44E0-9BFF-A2219E6883B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CC1-EA89-4398-B110-F3389161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FBE5-5D1D-4513-86C5-42B09F34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0AA-CF72-465C-98E9-E08A0F82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5E4-D9FD-4213-B917-0D7CCE83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CE5-B49F-4DE1-B5A0-11F15C76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68C-D184-42D8-A4B0-F268F0E0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FA0-19D2-4D3A-8EA4-003F8E39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378-9CE3-4480-91F0-6DD1FFD3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545-0FDD-40FB-99B9-A556E562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4FB-E004-4C00-846C-92EBE312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AA4-B2BF-43EA-BA13-690561B1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BC4-7606-4FD9-89A6-6D4E000E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E38D-D0CE-408F-9FFB-1C4345379B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БПОУ РО «ВП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ИНФОРМАЦИОННАЯ БЕЗОПАСНОСТЬ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Выполнил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удент группы ПДО-3.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медов Илимдар  Эльдарови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. Волгодонс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2124000" y="5111640"/>
            <a:ext cx="30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8120" y="25992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ЧТО ДЕЛ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8760" y="982440"/>
            <a:ext cx="82072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ьте в курсе, с кем ребенок общается в се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ите ребенку, что нельзя разглашать в интернете информацию личного характера, пересылать виртуальным знакомым свои фотографии или виде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ите ребенку опасность встречи с незнакомыми людьми из интернета. На реальную встречу с интернет-другом надо обязательно ходить в сопровождении взрослы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ите ребенку, что в интернете тема любви часто представляется в неправильной, вульгарной форм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ропитесь стать «другом» в социальных сет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8" descr=""/>
          <p:cNvPicPr/>
          <p:nvPr/>
        </p:nvPicPr>
        <p:blipFill>
          <a:blip r:embed="rId1"/>
          <a:stretch/>
        </p:blipFill>
        <p:spPr>
          <a:xfrm>
            <a:off x="7236000" y="5635800"/>
            <a:ext cx="160308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ФАКТОРЫ, ПОВЫШАЮЩИЕ РИСК НЕГАТИВНОГО ВОЗДЕЙСТВИЯ ИНТЕРНЕТА НА ДЕТЕЙ И ПОДРОСТКОВ</a:t>
            </a:r>
            <a:br>
              <a:rPr sz="2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уп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оним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грани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врем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бода выб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росшее значение отдельного индивиду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115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Arial"/>
              </a:rPr>
              <a:t>Классификация интернет-рисков и угр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2"/>
          <p:cNvSpPr/>
          <p:nvPr/>
        </p:nvSpPr>
        <p:spPr>
          <a:xfrm>
            <a:off x="272880" y="958680"/>
            <a:ext cx="4176720" cy="16574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ТЕНТНЫЕ РИС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вязаны с нахождением в сети различных материалов (текстов, картинок, аудио- и видеофайлов, ссылок на сторонние ресурс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4710240" y="981000"/>
            <a:ext cx="4103640" cy="16574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ЛЕКТРОННЫЕ РИСК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возможность столкнуться с хищением персональной информации или подвергнуться атаке вредоносных програм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4"/>
          <p:cNvSpPr/>
          <p:nvPr/>
        </p:nvSpPr>
        <p:spPr>
          <a:xfrm>
            <a:off x="250920" y="3933720"/>
            <a:ext cx="4176720" cy="13536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ММУНИКАЦИОННЫЕ РИС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заны с общением и межличностными отношениями интернет-пользов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6"/>
          <p:cNvSpPr/>
          <p:nvPr/>
        </p:nvSpPr>
        <p:spPr>
          <a:xfrm>
            <a:off x="4741920" y="3938760"/>
            <a:ext cx="4102200" cy="13536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ТРЕБИТЕЛЬ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злоупотребление в интернете правами потреб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detionline.com/assets/images/mts/rules/lie.jpg"/>
          <p:cNvPicPr/>
          <p:nvPr/>
        </p:nvPicPr>
        <p:blipFill>
          <a:blip r:embed="rId1"/>
          <a:stretch/>
        </p:blipFill>
        <p:spPr>
          <a:xfrm>
            <a:off x="5364000" y="5300640"/>
            <a:ext cx="2857680" cy="95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detionline.com/assets/images/mts/rules/video.jpg"/>
          <p:cNvPicPr/>
          <p:nvPr/>
        </p:nvPicPr>
        <p:blipFill>
          <a:blip r:embed="rId2"/>
          <a:srcRect l="0" t="5896" r="0" b="11766"/>
          <a:stretch/>
        </p:blipFill>
        <p:spPr>
          <a:xfrm>
            <a:off x="866880" y="5300640"/>
            <a:ext cx="2841480" cy="100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detionline.com/assets/images/mts/rules/google.jpg"/>
          <p:cNvPicPr/>
          <p:nvPr/>
        </p:nvPicPr>
        <p:blipFill>
          <a:blip r:embed="rId3"/>
          <a:srcRect l="0" t="0" r="0" b="2646"/>
          <a:stretch/>
        </p:blipFill>
        <p:spPr>
          <a:xfrm>
            <a:off x="900000" y="2674800"/>
            <a:ext cx="2924280" cy="118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detionline.com/assets/images/mts/rules/unknown.jpg"/>
          <p:cNvPicPr/>
          <p:nvPr/>
        </p:nvPicPr>
        <p:blipFill>
          <a:blip r:embed="rId4"/>
          <a:stretch/>
        </p:blipFill>
        <p:spPr>
          <a:xfrm>
            <a:off x="5364000" y="2790720"/>
            <a:ext cx="28576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33280" y="1197000"/>
            <a:ext cx="867744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Доступность, неподконтрольность, неограниченный объем поступления циркулирующей информации к школьник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Наличие специфических элементов, целенаправленно изменяющих психофизиологическое состояние детей и подрост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Наличие информации манипулятивного характера, дезориентирующих школьников, ограничивающих их возможности в условиях слабой правовой образованности и в силу возрастных особенностей несовершеннолет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0" y="115920"/>
            <a:ext cx="9144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Факторы</a:t>
            </a:r>
            <a:r>
              <a:rPr b="1" lang="ru-RU" sz="3600" spc="-1" strike="noStrike">
                <a:solidFill>
                  <a:srgbClr val="558ed5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66cc"/>
                </a:solidFill>
                <a:latin typeface="Calibri"/>
                <a:ea typeface="Times New Roman"/>
              </a:rPr>
              <a:t>опасной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информационной сре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detionline.com/assets/images/mts/rules/internet.jpg"/>
          <p:cNvPicPr/>
          <p:nvPr/>
        </p:nvPicPr>
        <p:blipFill>
          <a:blip r:embed="rId1"/>
          <a:stretch/>
        </p:blipFill>
        <p:spPr>
          <a:xfrm>
            <a:off x="2987640" y="5086440"/>
            <a:ext cx="282564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840" y="1839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ЧТО ДАЕТ ОБЩЕНИЕ В ИНТЕРНЕТ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77336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презент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и поддержание  отно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ение личной сетью конта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150840" y="4129200"/>
            <a:ext cx="4349880" cy="2728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4537080" y="4125960"/>
            <a:ext cx="4572000" cy="26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грессия в интернете (троллинг, кибербуллин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ние с незнаком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конные контакты (грумин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1476360" y="325764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иски при общении в интернет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6360" y="2314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АГРЕССИЯ В ИНТЕРН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893880"/>
            <a:ext cx="46306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Кибербуллинг</a:t>
            </a: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244583"/>
                </a:solidFill>
                <a:latin typeface="Georgia"/>
              </a:rPr>
              <a:t> –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грессивное, умышленное действие, совершаемое группой лиц или одним лицом с использованием электронных форм контакта, повторяющееся неоднократно и продолжительное во времени в отношении жертвы, которой трудно защитить себя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C:\Users\1\Desktop\ФРИ\иллюстрации\photos\bullying-300x158.gif"/>
          <p:cNvPicPr/>
          <p:nvPr/>
        </p:nvPicPr>
        <p:blipFill>
          <a:blip r:embed="rId1"/>
          <a:srcRect l="3920" t="7012" r="4683" b="6571"/>
          <a:stretch/>
        </p:blipFill>
        <p:spPr>
          <a:xfrm>
            <a:off x="4230720" y="4533840"/>
            <a:ext cx="3759120" cy="19908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4572000" y="9907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роллинг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244583"/>
                </a:solidFill>
                <a:latin typeface="Georgi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 виртуальной коммуникации с нарушением этики сетевого взаимодействия, выражающийся в виде проявления различных форм провокативного агрессивного, издевательского и оскорбительного повед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C:\Users\User\Desktop\unnamed.jpg"/>
          <p:cNvPicPr/>
          <p:nvPr/>
        </p:nvPicPr>
        <p:blipFill>
          <a:blip r:embed="rId2"/>
          <a:stretch/>
        </p:blipFill>
        <p:spPr>
          <a:xfrm>
            <a:off x="420840" y="4292640"/>
            <a:ext cx="3043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072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ХАРАКТЕРНЫЕ ОСОБЕННОСТИ  ЖЕРТВ 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БУЛЛИНГ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4920" y="177336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угли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увствитель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амкнуты и застенчи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ревожны, неувереные в се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есчаст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клонны к депрессии и чаще своих ровесников думают о самоубийст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е имеют ни одного близкого друга и успешнее общаются с взрослыми, нежели со сверстни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альчики могут быть физически слабее своих ровес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6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2544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ЧТО ДЕЛ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3640" y="765000"/>
            <a:ext cx="837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бъясните детям, что при общении в интернете нужно быть дружелюбным – читать грубости так же неприятно, как и слыш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сли у вас есть информация, что кто-то из друзей или знакомых вашего ребенка подвергается буллингу, сообщите об этом классному руководителю – необходимо принять меры по защите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учите детей правильно реагировать на обидные слова или действия других пользователей.  Лучший способ испортить хулигану его выходку – полный «игнор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ддерживайте доверительные отношения с вашим ребенком, чтобы вовремя заметить, если в его адрес начнет поступать агрессия или угрозы. Убедитесь, что оскорбления из сети не перешли в реальную жизн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могите ребенку найти выход из ситу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150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ГРУМИ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40148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ние  между взрослыми и ребенком, при котором взрослый пытается установить более близкие отношения для сексуальной эксплуатации ребен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F:\примеры  плакатов\Виктор Казаров.bmp"/>
          <p:cNvPicPr/>
          <p:nvPr/>
        </p:nvPicPr>
        <p:blipFill>
          <a:blip r:embed="rId1"/>
          <a:srcRect l="0" t="9634" r="0" b="0"/>
          <a:stretch/>
        </p:blipFill>
        <p:spPr>
          <a:xfrm>
            <a:off x="2124000" y="3490920"/>
            <a:ext cx="4969080" cy="336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6:13:48Z</dcterms:created>
  <dc:creator>Смирнов Артем</dc:creator>
  <dc:description/>
  <dc:language>en-US</dc:language>
  <cp:lastModifiedBy>User</cp:lastModifiedBy>
  <dcterms:modified xsi:type="dcterms:W3CDTF">2022-05-26T11:14:37Z</dcterms:modified>
  <cp:revision>45</cp:revision>
  <dc:subject/>
  <dc:title>Презентация PowerPoint</dc:title>
</cp:coreProperties>
</file>