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B1B-CAFB-4B81-9649-9E3D5211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DC0-43B5-4D6C-8475-269E6D4B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0E8-DDD7-489F-B821-2AB1DE28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035-FFCE-407F-9E77-35092CA2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ED3-93CD-472E-B1AE-F632CFF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A4A-ABA0-418C-98A4-3591ADD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8FB-0576-40FE-B4A8-7F73DA8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7CD-E733-4463-B9ED-B442FB1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B65-AE55-4AFC-B829-709D7840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EA-9F86-4B2B-BC3E-30AEBF9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AE-EDC5-48D7-8336-F82D9474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B5B-F1E1-48F8-9B5E-5F59539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50B6-E890-43FF-BAAA-9EC196CA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7T15:50:58Z</dcterms:created>
  <dc:creator>emachines</dc:creator>
  <dc:description/>
  <dc:language>en-US</dc:language>
  <cp:lastModifiedBy>emachines</cp:lastModifiedBy>
  <dcterms:modified xsi:type="dcterms:W3CDTF">2022-12-07T15:51:57Z</dcterms:modified>
  <cp:revision>1</cp:revision>
  <dc:subject/>
  <dc:title>Слайд 1</dc:title>
</cp:coreProperties>
</file>