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5FB-91A2-4458-81AD-AA6A15B2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062-F00E-4E0D-A0D5-06913987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3AD-E8CB-4503-9C8C-FFF28613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D27-22B5-45CE-A5AC-10748C63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1DE-F39B-41FB-A10E-44487641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423-6EE7-4F25-9E69-DC1599D7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95E-5645-4474-8A1C-79328EF7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9B9-A50C-4FA1-BC7D-6A8C2006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481-F08C-49BF-80CF-4B2817A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51D-E5D4-4C23-BF24-FEF93AC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247-7AC8-42AF-B33A-C904EEF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75D-18B0-47B0-913D-3EA9A0C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5A1-1962-491E-8D6E-A2A0E410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7T15:50:58Z</dcterms:created>
  <dc:creator>emachines</dc:creator>
  <dc:description/>
  <dc:language>en-US</dc:language>
  <cp:lastModifiedBy>emachines</cp:lastModifiedBy>
  <dcterms:modified xsi:type="dcterms:W3CDTF">2022-12-07T15:51:57Z</dcterms:modified>
  <cp:revision>1</cp:revision>
  <dc:subject/>
  <dc:title>Слайд 1</dc:title>
</cp:coreProperties>
</file>