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10004425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A52-E8EE-4466-A41F-FC8176D8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F00-9671-4595-BFEA-1B7731B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E69-333F-41B8-8D8B-19C1D987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88B-9220-4A6A-B441-0BA74218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B4E-6C46-48FE-817C-417C2EE5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801-9B52-4210-80A2-4046141F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91E-69CE-42B0-BF11-C55535F3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F40-E5E0-4772-A3CC-F90FEC0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EBB8-2B08-463B-A739-781194D3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E60E-17CC-453E-A8FD-1D18E028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E8A-1C0D-4FEB-A01D-5D88C6E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4AC-0304-4C07-BA01-AD1E244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828B-706C-435B-9EB6-BE05582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F0F-8226-40A7-88D4-B19F558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F25-EF4E-46FB-B89C-82D32063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AD5-EAE6-4941-AF36-BB8633EF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9E59-AC30-448B-A74C-5E0DC3B1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2BD-FC3C-43A7-ADE9-DE872499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41B-006B-45FC-A82E-CDB0A8AD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264-1B88-4D0F-A47A-8BDE79D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B8C-0398-442E-92D5-6CFCBB18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2CA-1D2F-4CDF-BB8D-B5768F05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D96-A9A2-41BF-AC67-1E0744E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27E-30D6-42C0-8AD9-6F80F3E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F565-457B-4C6F-B2CD-B11E3314A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A31-BDD2-46C8-9240-026E02448C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оект старшей групп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566100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Воспитатель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Гостюхин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9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00"/>
                </a:solidFill>
                <a:latin typeface="Times New Roman"/>
              </a:rPr>
              <a:t>«Краски осени»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новной этап                  </a:t>
            </a:r>
            <a:br>
              <a:rPr sz="40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ероприятия по работе с детьм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ение художественной литерату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ед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учивание стихов наизу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ы – инсцениров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рассказов по картин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курсии на территории ДО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людения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готовление поделок из природного материала вместе с р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дактические ,словесные ,подвижные ,сюжетно – ролевые иг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стольно-дидактические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250920" y="1374840"/>
            <a:ext cx="3467160" cy="4565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4959360" y="1916280"/>
            <a:ext cx="37242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седы по картинка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Объект 2" descr=""/>
          <p:cNvPicPr/>
          <p:nvPr/>
        </p:nvPicPr>
        <p:blipFill>
          <a:blip r:embed="rId1"/>
          <a:stretch/>
        </p:blipFill>
        <p:spPr>
          <a:xfrm>
            <a:off x="163440" y="1268280"/>
            <a:ext cx="3040200" cy="4032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5540400" y="1268280"/>
            <a:ext cx="3279600" cy="4581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29844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ССМАТРИВАНИЕ АЛЬБОМА: «Грибы», «Золотая осень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Объект 2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3467160" cy="4708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4788000" y="1531800"/>
            <a:ext cx="35035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астилинография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«Дикие животные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Объект 5" descr=""/>
          <p:cNvPicPr/>
          <p:nvPr/>
        </p:nvPicPr>
        <p:blipFill>
          <a:blip r:embed="rId1"/>
          <a:stretch/>
        </p:blipFill>
        <p:spPr>
          <a:xfrm>
            <a:off x="179280" y="1671480"/>
            <a:ext cx="3816360" cy="4926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2"/>
          <a:stretch/>
        </p:blipFill>
        <p:spPr>
          <a:xfrm>
            <a:off x="4427640" y="1671480"/>
            <a:ext cx="37242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6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112920" cy="4464000"/>
          </a:xfrm>
          <a:prstGeom prst="rect">
            <a:avLst/>
          </a:prstGeom>
          <a:ln w="0">
            <a:noFill/>
          </a:ln>
        </p:spPr>
      </p:pic>
      <p:pic>
        <p:nvPicPr>
          <p:cNvPr id="160" name="Объект 2" descr=""/>
          <p:cNvPicPr/>
          <p:nvPr/>
        </p:nvPicPr>
        <p:blipFill>
          <a:blip r:embed="rId2"/>
          <a:stretch/>
        </p:blipFill>
        <p:spPr>
          <a:xfrm>
            <a:off x="235080" y="333360"/>
            <a:ext cx="3044520" cy="4272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3"/>
          <a:stretch/>
        </p:blipFill>
        <p:spPr>
          <a:xfrm>
            <a:off x="2916360" y="2336760"/>
            <a:ext cx="3024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Лепка «Лесовичо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20201012_115526"/>
          <p:cNvPicPr/>
          <p:nvPr/>
        </p:nvPicPr>
        <p:blipFill>
          <a:blip r:embed="rId1"/>
          <a:stretch/>
        </p:blipFill>
        <p:spPr>
          <a:xfrm>
            <a:off x="468360" y="1413000"/>
            <a:ext cx="83898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201012_115633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етрадиционная техника рисования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«Берёзовая рощ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Объект 2" descr=""/>
          <p:cNvPicPr/>
          <p:nvPr/>
        </p:nvPicPr>
        <p:blipFill>
          <a:blip r:embed="rId1"/>
          <a:stretch/>
        </p:blipFill>
        <p:spPr>
          <a:xfrm>
            <a:off x="514440" y="1438200"/>
            <a:ext cx="3790800" cy="4927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2"/>
          <a:stretch/>
        </p:blipFill>
        <p:spPr>
          <a:xfrm>
            <a:off x="4675320" y="1420920"/>
            <a:ext cx="3713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5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168360" cy="4680000"/>
          </a:xfrm>
          <a:prstGeom prst="rect">
            <a:avLst/>
          </a:prstGeom>
          <a:ln w="0">
            <a:noFill/>
          </a:ln>
        </p:spPr>
      </p:pic>
      <p:pic>
        <p:nvPicPr>
          <p:cNvPr id="169" name="Объект 2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046680" cy="4300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"/>
          <p:cNvPicPr/>
          <p:nvPr/>
        </p:nvPicPr>
        <p:blipFill>
          <a:blip r:embed="rId3"/>
          <a:stretch/>
        </p:blipFill>
        <p:spPr>
          <a:xfrm>
            <a:off x="5508720" y="1962000"/>
            <a:ext cx="341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д проекта:                          </a:t>
            </a:r>
            <a:br>
              <a:rPr sz="40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знавательно-исследовательский 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нформационно-творческий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лительность проекта : с 21 сентября по 9</a:t>
            </a: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октября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     проекта: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 старшей группу (5-6 ле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Воспитате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Родители воспитанни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744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ставка рабо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Объект 2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1896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делки из природного материала «Осенняя фантазия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Объект 2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2592360" cy="3484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2868480" y="2708280"/>
            <a:ext cx="2767320" cy="39528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"/>
          <p:cNvPicPr/>
          <p:nvPr/>
        </p:nvPicPr>
        <p:blipFill>
          <a:blip r:embed="rId3"/>
          <a:stretch/>
        </p:blipFill>
        <p:spPr>
          <a:xfrm>
            <a:off x="5753160" y="1700280"/>
            <a:ext cx="2943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"/>
          <p:cNvPicPr/>
          <p:nvPr/>
        </p:nvPicPr>
        <p:blipFill>
          <a:blip r:embed="rId1"/>
          <a:stretch/>
        </p:blipFill>
        <p:spPr>
          <a:xfrm>
            <a:off x="3100320" y="1700280"/>
            <a:ext cx="2919600" cy="417672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2" descr=""/>
          <p:cNvPicPr/>
          <p:nvPr/>
        </p:nvPicPr>
        <p:blipFill>
          <a:blip r:embed="rId2"/>
          <a:stretch/>
        </p:blipFill>
        <p:spPr>
          <a:xfrm>
            <a:off x="227160" y="26028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"/>
          <p:cNvPicPr/>
          <p:nvPr/>
        </p:nvPicPr>
        <p:blipFill>
          <a:blip r:embed="rId3"/>
          <a:stretch/>
        </p:blipFill>
        <p:spPr>
          <a:xfrm>
            <a:off x="5651640" y="2173320"/>
            <a:ext cx="3241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кскурсия «Природа вокруг нас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Объект 2" descr=""/>
          <p:cNvPicPr/>
          <p:nvPr/>
        </p:nvPicPr>
        <p:blipFill>
          <a:blip r:embed="rId1"/>
          <a:stretch/>
        </p:blipFill>
        <p:spPr>
          <a:xfrm>
            <a:off x="179280" y="1420920"/>
            <a:ext cx="3672000" cy="4709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2"/>
          <a:stretch/>
        </p:blipFill>
        <p:spPr>
          <a:xfrm>
            <a:off x="4572000" y="1441440"/>
            <a:ext cx="3724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лючительн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ормление выставки из природного материала «Осенняя фантазия»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тот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ссматрива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ы русских художник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Объект 3" descr=""/>
          <p:cNvPicPr/>
          <p:nvPr/>
        </p:nvPicPr>
        <p:blipFill>
          <a:blip r:embed="rId1"/>
          <a:stretch/>
        </p:blipFill>
        <p:spPr>
          <a:xfrm>
            <a:off x="141120" y="1557360"/>
            <a:ext cx="454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ведение итог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знают и называю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енние месяц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е количество овощей, фруктов и осенних дар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енние  приметы и явл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овицы, поговорки об осен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и стали более раскрепощены и самостоятельн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родителей появился интерес к образовательному процессу, развитию творчества, знаний и умений у детей, желание общаться с педагогами, участвовать в жизни групп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 тем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представить себе воспитание и развитие детей без привлечения в помощники педагогу природы - этого самого естественного источника красоты. В последнее время остро стоит вопрос экологии окружающей среды, поэтому на занятиях с детьми дошкольного возраста необходимо прививать любовь к природе и бережное отношение к ней. Чтобы любить природу, ее надо знать, а чтобы знать, необходимо изучать и наблюдать за изменениями, происходящими в природе. В процессе познания природы не только формируются и развиваются эстетические чувства и вкусы, но и чувство ответственности за свои поступки. Если ребенок научится наблюдать за природой, то он научится и ценить окружающий его мир. В связи с этим, главная задача педагога – правильно организовать исследовательскую деятельность детей и учить их наблюдать и делать выводы из своих наблюд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проек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ть представления детей об осени, как времени года; становление у детей познавательного, нравственно-эстетического отношения к прир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 проекта                               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детей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гащать словарный запас по теме «Осень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ублять и расширять знания об осенних явлениях в природе, о времени года, когда созревают овощи, фрукты, грибы, ягоды, о том, как готовятся звери в лесу к зим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ть познавательные умения: наблюдать, сравнивать, анализировать и экспериментировать, отражать результаты в различных видах дея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потребность в получении новых знаний об осе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любовь  к при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ля педагогов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условия для развития детского воображения, как предпосылки к формированию и совершенствованию связной речи, развитию способности к словесному творчеств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лотить коллектив детей, родителей и педагогов в работе над общим проекто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такие личностные качества, как умение договариваться и работать в команд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755640" y="2635200"/>
            <a:ext cx="770400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4bf"/>
                </a:solidFill>
                <a:latin typeface="Times New Roman"/>
              </a:rPr>
              <a:t>для родител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буждать родителей оказывать помощь в организации развивающих мероприятий и активно включаться в общеобразовательный процес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кать  к активному  участию в выставке из природного матери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ы реализации проект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ая  деятельно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южетно – ролевые , дидактические иг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матривание иллюстраций, картин, открыток, фотограф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с родител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тавки детских раб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Место для изображения из Интернета 2" descr=""/>
          <p:cNvPicPr/>
          <p:nvPr/>
        </p:nvPicPr>
        <p:blipFill>
          <a:blip r:embed="rId1"/>
          <a:stretch/>
        </p:blipFill>
        <p:spPr>
          <a:xfrm>
            <a:off x="4968720" y="1268280"/>
            <a:ext cx="3718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дполагаемый результат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ение знаний детей об осени, её признаках и дара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олнение словарного запас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исследовательской деятельности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влечение родителей в образовательный проце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5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41" name="Объект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2664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тапы работы над проектом: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дготовительный этап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плана совместной работы с детьми, педагогами и  родителям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ор материала и оборудования для совместной деятельности с детьми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ение картотеки экологических игр для детей 5-6 л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еды с родителями ,консультации по теме прое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9:14:45Z</dcterms:created>
  <dc:creator>Hewlett-Packard Company</dc:creator>
  <dc:description/>
  <dc:language>en-US</dc:language>
  <cp:lastModifiedBy>EV-PC</cp:lastModifiedBy>
  <dcterms:modified xsi:type="dcterms:W3CDTF">2022-12-04T03:57:49Z</dcterms:modified>
  <cp:revision>38</cp:revision>
  <dc:subject/>
  <dc:title>Слайд 1</dc:title>
</cp:coreProperties>
</file>