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10004425" cy="6883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2397-B3BE-4B54-8541-FFC7AA88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4E74-DC67-49DE-8CD2-9F136CF2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2A44-B2A1-4F05-95D3-B6957E90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0027-AD2C-4C6F-8EE4-5A3760DA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C784-B5DD-4085-A601-9BF2A455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3C1C-B620-430C-AE49-0A28DD28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7682-D2A8-488F-AA6B-EF57F12F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1878-BD88-46C8-A4AE-40D95F43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F1D7-0B64-41E6-BE28-AE211F63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C0DB-625A-482E-97BF-DB9D3C06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F2D6-603E-4F48-AC81-4CE53E82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CEE1-900C-483A-BB7E-CE71AE7F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0CEE-4A1E-4BDB-BA46-89BFD8C1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8E18-C09C-48D4-B9E5-DF485114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E2EB-0AEC-47A1-85AB-6C8EC84D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DC25-C966-434B-8684-B77A8F26D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F416-B940-42DA-A499-59DD09441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7643-DDB4-4105-A0CC-C3859FDA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276A-34B3-4FD5-BFE0-41D21224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7338-83FD-41C2-8C7B-31C5BA93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A568-F95B-406B-8242-137AC5B4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F1E6-6B61-4431-92B8-55FFEA7E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5DEE-BBB3-40AB-8CEB-D1B0A9E7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302E-5A49-4F3F-B4F0-A7C90845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6D7C-5077-4F20-85B4-7996657397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019E-CC86-420B-B404-1B5624AD6EB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Проект старшей группы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9280" y="5661000"/>
            <a:ext cx="82803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</a:rPr>
              <a:t>Воспитатель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</a:rPr>
              <a:t>Гостюхина Н.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9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ff00"/>
                </a:solidFill>
                <a:latin typeface="Times New Roman"/>
              </a:rPr>
              <a:t>«Краски осени»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сновной этап                  </a:t>
            </a:r>
            <a:br>
              <a:rPr sz="40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Мероприятия по работе с детьми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тение художественной литературы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еседы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учивание стихов наизу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гры – инсцениров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ставление рассказов по картина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кскурсии на территории ДО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блюдения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Художественное творчество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готовление поделок из природного материала вместе с родителям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идактические ,словесные ,подвижные ,сюжетно – ролевые игр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астольно-дидактические игр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7" name="Объект 2" descr=""/>
          <p:cNvPicPr/>
          <p:nvPr/>
        </p:nvPicPr>
        <p:blipFill>
          <a:blip r:embed="rId1"/>
          <a:stretch/>
        </p:blipFill>
        <p:spPr>
          <a:xfrm>
            <a:off x="250920" y="1374840"/>
            <a:ext cx="3467160" cy="456552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4" descr=""/>
          <p:cNvPicPr/>
          <p:nvPr/>
        </p:nvPicPr>
        <p:blipFill>
          <a:blip r:embed="rId2"/>
          <a:stretch/>
        </p:blipFill>
        <p:spPr>
          <a:xfrm>
            <a:off x="4959360" y="1916280"/>
            <a:ext cx="3724200" cy="46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еседы по картинка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Объект 2" descr=""/>
          <p:cNvPicPr/>
          <p:nvPr/>
        </p:nvPicPr>
        <p:blipFill>
          <a:blip r:embed="rId1"/>
          <a:stretch/>
        </p:blipFill>
        <p:spPr>
          <a:xfrm>
            <a:off x="163440" y="1268280"/>
            <a:ext cx="3040200" cy="40323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5" descr=""/>
          <p:cNvPicPr/>
          <p:nvPr/>
        </p:nvPicPr>
        <p:blipFill>
          <a:blip r:embed="rId2"/>
          <a:stretch/>
        </p:blipFill>
        <p:spPr>
          <a:xfrm>
            <a:off x="5540400" y="1268280"/>
            <a:ext cx="3279600" cy="458172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4" descr=""/>
          <p:cNvPicPr/>
          <p:nvPr/>
        </p:nvPicPr>
        <p:blipFill>
          <a:blip r:embed="rId3"/>
          <a:stretch/>
        </p:blipFill>
        <p:spPr>
          <a:xfrm>
            <a:off x="2556000" y="2637000"/>
            <a:ext cx="298440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РАССМАТРИВАНИЕ АЛЬБОМА: «Грибы», «Золотая осень»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4" name="Объект 2" descr=""/>
          <p:cNvPicPr/>
          <p:nvPr/>
        </p:nvPicPr>
        <p:blipFill>
          <a:blip r:embed="rId1"/>
          <a:stretch/>
        </p:blipFill>
        <p:spPr>
          <a:xfrm>
            <a:off x="457200" y="1601640"/>
            <a:ext cx="3467160" cy="47088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4" descr=""/>
          <p:cNvPicPr/>
          <p:nvPr/>
        </p:nvPicPr>
        <p:blipFill>
          <a:blip r:embed="rId2"/>
          <a:stretch/>
        </p:blipFill>
        <p:spPr>
          <a:xfrm>
            <a:off x="4788000" y="1531800"/>
            <a:ext cx="350352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ластилинография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«Дикие животные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Объект 5" descr=""/>
          <p:cNvPicPr/>
          <p:nvPr/>
        </p:nvPicPr>
        <p:blipFill>
          <a:blip r:embed="rId1"/>
          <a:stretch/>
        </p:blipFill>
        <p:spPr>
          <a:xfrm>
            <a:off x="179280" y="1671480"/>
            <a:ext cx="3816360" cy="492624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6" descr=""/>
          <p:cNvPicPr/>
          <p:nvPr/>
        </p:nvPicPr>
        <p:blipFill>
          <a:blip r:embed="rId2"/>
          <a:stretch/>
        </p:blipFill>
        <p:spPr>
          <a:xfrm>
            <a:off x="4427640" y="1671480"/>
            <a:ext cx="3724200" cy="49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6" descr=""/>
          <p:cNvPicPr/>
          <p:nvPr/>
        </p:nvPicPr>
        <p:blipFill>
          <a:blip r:embed="rId1"/>
          <a:stretch/>
        </p:blipFill>
        <p:spPr>
          <a:xfrm>
            <a:off x="5508720" y="333360"/>
            <a:ext cx="3112920" cy="4464000"/>
          </a:xfrm>
          <a:prstGeom prst="rect">
            <a:avLst/>
          </a:prstGeom>
          <a:ln w="0">
            <a:noFill/>
          </a:ln>
        </p:spPr>
      </p:pic>
      <p:pic>
        <p:nvPicPr>
          <p:cNvPr id="160" name="Объект 2" descr=""/>
          <p:cNvPicPr/>
          <p:nvPr/>
        </p:nvPicPr>
        <p:blipFill>
          <a:blip r:embed="rId2"/>
          <a:stretch/>
        </p:blipFill>
        <p:spPr>
          <a:xfrm>
            <a:off x="235080" y="333360"/>
            <a:ext cx="3044520" cy="427212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4" descr=""/>
          <p:cNvPicPr/>
          <p:nvPr/>
        </p:nvPicPr>
        <p:blipFill>
          <a:blip r:embed="rId3"/>
          <a:stretch/>
        </p:blipFill>
        <p:spPr>
          <a:xfrm>
            <a:off x="2916360" y="2336760"/>
            <a:ext cx="3024000" cy="44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"/>
              </a:rPr>
              <a:t>Лепка «Лесовичок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Picture 4" descr="20201012_115526"/>
          <p:cNvPicPr/>
          <p:nvPr/>
        </p:nvPicPr>
        <p:blipFill>
          <a:blip r:embed="rId1"/>
          <a:stretch/>
        </p:blipFill>
        <p:spPr>
          <a:xfrm>
            <a:off x="468360" y="1413000"/>
            <a:ext cx="8389800" cy="51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20201012_115633"/>
          <p:cNvPicPr/>
          <p:nvPr/>
        </p:nvPicPr>
        <p:blipFill>
          <a:blip r:embed="rId1"/>
          <a:stretch/>
        </p:blipFill>
        <p:spPr>
          <a:xfrm>
            <a:off x="2124000" y="260280"/>
            <a:ext cx="4753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Нетрадиционная техника рисования 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«Берёзовая роща»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6" name="Объект 2" descr=""/>
          <p:cNvPicPr/>
          <p:nvPr/>
        </p:nvPicPr>
        <p:blipFill>
          <a:blip r:embed="rId1"/>
          <a:stretch/>
        </p:blipFill>
        <p:spPr>
          <a:xfrm>
            <a:off x="514440" y="1438200"/>
            <a:ext cx="3790800" cy="49276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4" descr=""/>
          <p:cNvPicPr/>
          <p:nvPr/>
        </p:nvPicPr>
        <p:blipFill>
          <a:blip r:embed="rId2"/>
          <a:stretch/>
        </p:blipFill>
        <p:spPr>
          <a:xfrm>
            <a:off x="4675320" y="1420920"/>
            <a:ext cx="371304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Рисунок 5" descr=""/>
          <p:cNvPicPr/>
          <p:nvPr/>
        </p:nvPicPr>
        <p:blipFill>
          <a:blip r:embed="rId1"/>
          <a:stretch/>
        </p:blipFill>
        <p:spPr>
          <a:xfrm>
            <a:off x="3059280" y="1197000"/>
            <a:ext cx="3168360" cy="4680000"/>
          </a:xfrm>
          <a:prstGeom prst="rect">
            <a:avLst/>
          </a:prstGeom>
          <a:ln w="0">
            <a:noFill/>
          </a:ln>
        </p:spPr>
      </p:pic>
      <p:pic>
        <p:nvPicPr>
          <p:cNvPr id="169" name="Объект 2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3046680" cy="430056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4" descr=""/>
          <p:cNvPicPr/>
          <p:nvPr/>
        </p:nvPicPr>
        <p:blipFill>
          <a:blip r:embed="rId3"/>
          <a:stretch/>
        </p:blipFill>
        <p:spPr>
          <a:xfrm>
            <a:off x="5508720" y="1962000"/>
            <a:ext cx="3413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ид проекта:                          </a:t>
            </a:r>
            <a:br>
              <a:rPr sz="40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познавательно-исследовательский ,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информационно-творческий</a:t>
            </a:r>
            <a:br>
              <a:rPr sz="2400"/>
            </a:br>
            <a:br>
              <a:rPr sz="1600"/>
            </a:br>
            <a:r>
              <a:rPr b="1" lang="ru-RU" sz="1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лительность проекта : с 21 сентября по 9</a:t>
            </a:r>
            <a:r>
              <a:rPr b="1" lang="ru-RU" sz="1600" spc="-1" strike="noStrike">
                <a:solidFill>
                  <a:srgbClr val="feec94"/>
                </a:solidFill>
                <a:latin typeface="Times New Roman"/>
              </a:rPr>
              <a:t> октября</a:t>
            </a:r>
            <a:endParaRPr b="1" lang="en-US" sz="1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3848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астники     проекта: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ти старшей группу (5-6 лет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. Воспитател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. Родители воспитанник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Объект 3" descr=""/>
          <p:cNvPicPr/>
          <p:nvPr/>
        </p:nvPicPr>
        <p:blipFill>
          <a:blip r:embed="rId1"/>
          <a:stretch/>
        </p:blipFill>
        <p:spPr>
          <a:xfrm>
            <a:off x="4788000" y="2276640"/>
            <a:ext cx="374472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ыставка работ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Объект 2" descr=""/>
          <p:cNvPicPr/>
          <p:nvPr/>
        </p:nvPicPr>
        <p:blipFill>
          <a:blip r:embed="rId1"/>
          <a:stretch/>
        </p:blipFill>
        <p:spPr>
          <a:xfrm>
            <a:off x="324000" y="1600200"/>
            <a:ext cx="818964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Поделки из природного материала «Осенняя фантазия»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5" name="Объект 2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2592360" cy="348480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4" descr=""/>
          <p:cNvPicPr/>
          <p:nvPr/>
        </p:nvPicPr>
        <p:blipFill>
          <a:blip r:embed="rId2"/>
          <a:stretch/>
        </p:blipFill>
        <p:spPr>
          <a:xfrm>
            <a:off x="2868480" y="2708280"/>
            <a:ext cx="2767320" cy="395280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5" descr=""/>
          <p:cNvPicPr/>
          <p:nvPr/>
        </p:nvPicPr>
        <p:blipFill>
          <a:blip r:embed="rId3"/>
          <a:stretch/>
        </p:blipFill>
        <p:spPr>
          <a:xfrm>
            <a:off x="5753160" y="1700280"/>
            <a:ext cx="29430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5" descr=""/>
          <p:cNvPicPr/>
          <p:nvPr/>
        </p:nvPicPr>
        <p:blipFill>
          <a:blip r:embed="rId1"/>
          <a:stretch/>
        </p:blipFill>
        <p:spPr>
          <a:xfrm>
            <a:off x="3100320" y="1700280"/>
            <a:ext cx="2919600" cy="4176720"/>
          </a:xfrm>
          <a:prstGeom prst="rect">
            <a:avLst/>
          </a:prstGeom>
          <a:ln w="0">
            <a:noFill/>
          </a:ln>
        </p:spPr>
      </p:pic>
      <p:pic>
        <p:nvPicPr>
          <p:cNvPr id="179" name="Объект 2" descr=""/>
          <p:cNvPicPr/>
          <p:nvPr/>
        </p:nvPicPr>
        <p:blipFill>
          <a:blip r:embed="rId2"/>
          <a:stretch/>
        </p:blipFill>
        <p:spPr>
          <a:xfrm>
            <a:off x="227160" y="260280"/>
            <a:ext cx="3240000" cy="453708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4" descr=""/>
          <p:cNvPicPr/>
          <p:nvPr/>
        </p:nvPicPr>
        <p:blipFill>
          <a:blip r:embed="rId3"/>
          <a:stretch/>
        </p:blipFill>
        <p:spPr>
          <a:xfrm>
            <a:off x="5651640" y="2173320"/>
            <a:ext cx="324144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Экскурсия «Природа вокруг нас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2" name="Объект 2" descr=""/>
          <p:cNvPicPr/>
          <p:nvPr/>
        </p:nvPicPr>
        <p:blipFill>
          <a:blip r:embed="rId1"/>
          <a:stretch/>
        </p:blipFill>
        <p:spPr>
          <a:xfrm>
            <a:off x="179280" y="1420920"/>
            <a:ext cx="3672000" cy="470988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4" descr=""/>
          <p:cNvPicPr/>
          <p:nvPr/>
        </p:nvPicPr>
        <p:blipFill>
          <a:blip r:embed="rId2"/>
          <a:stretch/>
        </p:blipFill>
        <p:spPr>
          <a:xfrm>
            <a:off x="4572000" y="1441440"/>
            <a:ext cx="372420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Заключительный этап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48320" y="2707920"/>
            <a:ext cx="4038480" cy="34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формление выставки из природного материала «Осенняя фантазия»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ртотек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рассматриван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ртины русских художников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Объект 3" descr=""/>
          <p:cNvPicPr/>
          <p:nvPr/>
        </p:nvPicPr>
        <p:blipFill>
          <a:blip r:embed="rId1"/>
          <a:stretch/>
        </p:blipFill>
        <p:spPr>
          <a:xfrm>
            <a:off x="141120" y="1557360"/>
            <a:ext cx="45403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одведение итогов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ти знают и называю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енние месяцы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ольшое количество овощей, фруктов и осенних даров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енние  приметы и явления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словицы, поговорки об осен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ети стали более раскрепощены и самостоятельны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 родителей появился интерес к образовательному процессу, развитию творчества, знаний и умений у детей, желание общаться с педагогами, участвовать в жизни групп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ктуальность темы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4358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удно представить себе воспитание и развитие детей без привлечения в помощники педагогу природы - этого самого естественного источника красоты. В последнее время остро стоит вопрос экологии окружающей среды, поэтому на занятиях с детьми дошкольного возраста необходимо прививать любовь к природе и бережное отношение к ней. Чтобы любить природу, ее надо знать, а чтобы знать, необходимо изучать и наблюдать за изменениями, происходящими в природе. В процессе познания природы не только формируются и развиваются эстетические чувства и вкусы, но и чувство ответственности за свои поступки. Если ребенок научится наблюдать за природой, то он научится и ценить окружающий его мир. В связи с этим, главная задача педагога – правильно организовать исследовательскую деятельность детей и учить их наблюдать и делать выводы из своих наблюде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Цель проекта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ширить представления детей об осени, как времени года; становление у детей познавательного, нравственно-эстетического отношения к природ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Задачи проекта                                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для детей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огащать словарный запас по теме «Осень»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лублять и расширять знания об осенних явлениях в природе, о времени года, когда созревают овощи, фрукты, грибы, ягоды, о том, как готовятся звери в лесу к зиме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ть познавательные умения: наблюдать, сравнивать, анализировать и экспериментировать, отражать результаты в различных видах деятельнос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вать потребность в получении новых знаний об осен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итывать любовь  к природ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ля педагогов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7848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вать условия для развития детского воображения, как предпосылки к формированию и совершенствованию связной речи, развитию способности к словесному творчеству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лотить коллектив детей, родителей и педагогов в работе над общим проектом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мировать такие личностные качества, как умение договариваться и работать в команд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Прямоугольник 1"/>
          <p:cNvSpPr/>
          <p:nvPr/>
        </p:nvSpPr>
        <p:spPr>
          <a:xfrm>
            <a:off x="755640" y="2635200"/>
            <a:ext cx="7704000" cy="32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4bf"/>
                </a:solidFill>
                <a:latin typeface="Times New Roman"/>
              </a:rPr>
              <a:t>для родителей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буждать родителей оказывать помощь в организации развивающих мероприятий и активно включаться в общеобразовательный процесс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влекать  к активному  участию в выставке из природного материал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Формы реализации проекта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разовательная  деятельность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южетно – ролевые , дидактические игры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ссматривание иллюстраций, картин, открыток, фотографий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еседы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бота с родителям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ставки детских рабо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Место для изображения из Интернета 2" descr=""/>
          <p:cNvPicPr/>
          <p:nvPr/>
        </p:nvPicPr>
        <p:blipFill>
          <a:blip r:embed="rId1"/>
          <a:stretch/>
        </p:blipFill>
        <p:spPr>
          <a:xfrm>
            <a:off x="4968720" y="1268280"/>
            <a:ext cx="371808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едполагаемый результат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4508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ширение знаний детей об осени, её признаках и дарах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полнение словарного запас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ормирование исследовательской деятельности дете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влечение родителей в образовательный процес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Объект 3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2521080" cy="3240360"/>
          </a:xfrm>
          <a:prstGeom prst="rect">
            <a:avLst/>
          </a:prstGeom>
          <a:ln w="0">
            <a:noFill/>
          </a:ln>
        </p:spPr>
      </p:pic>
      <p:pic>
        <p:nvPicPr>
          <p:cNvPr id="141" name="Объект 4" descr=""/>
          <p:cNvPicPr/>
          <p:nvPr/>
        </p:nvPicPr>
        <p:blipFill>
          <a:blip r:embed="rId2"/>
          <a:stretch/>
        </p:blipFill>
        <p:spPr>
          <a:xfrm>
            <a:off x="4932360" y="1268280"/>
            <a:ext cx="26640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Этапы работы над проектом:   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Подготовительный этап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тавление плана совместной работы с детьми, педагогами и  родителями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бор материала и оборудования для совместной деятельности с детьми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формление картотеки экологических игр для детей 5-6 ле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седы с родителями ,консультации по теме проек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8T19:14:45Z</dcterms:created>
  <dc:creator>Hewlett-Packard Company</dc:creator>
  <dc:description/>
  <dc:language>en-US</dc:language>
  <cp:lastModifiedBy>EV-PC</cp:lastModifiedBy>
  <dcterms:modified xsi:type="dcterms:W3CDTF">2022-12-04T03:57:49Z</dcterms:modified>
  <cp:revision>38</cp:revision>
  <dc:subject/>
  <dc:title>Слайд 1</dc:title>
</cp:coreProperties>
</file>