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35C6-F5BB-44D1-9BEE-B4DD2BAADF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ть урок я хочу с высказывания швейцарского педагога Иоганна Генриха Песталоцц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числениях мы можем использовать свойства. Как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2B45-B6DB-44F1-8048-F594DC7B11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из вас успешно справились с задачами, поэтому я предлагаю вам не совсем обычную зад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вида эта задача? (на части) Что можно принять за одну часть? (силу Мы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тогда сила Кошки? (6 частей) Во сколько раз сила Жучки больше силы Кошки? Как найти силу Жучки? (умножить на 5 силу Ко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решение задачи обсуждается фронт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формляется на доске и в тетрадя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часть – сила Мы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* 6 = 6 (ч) сила Ко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* 6 = 30 (ч) сила Жу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* 30 = 120 (ч) сила Вну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* 120 = 360 (ч) сила Ба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* 360 = 720 (ч) сила Де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+ 6 + 30 + 120 + 360 + 720 = 1237 (ч) совместная сила (или количество Мыш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вет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237 Мы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ём выражена общая сила? (в частя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бозначает одна часть? (силу Мы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уйте ответ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ите руки те, кому понравилась задача, показалась интерес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A9F8-2541-464C-8020-D6A4A7D5A7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мы с вами решили ключевые задачи и более сложные. А сейчас я предлагаю вам проверить свои знания, ответив на вопросы теста самостоятельно (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ли д. з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рьте коллегу по парте и поставьте оце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CBD9-3963-46A8-9EEF-1EE40090DF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подведем итог нашего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ие цели мы ставили перед собой на уроке. Достигли ли мы и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ьте себе итоговую отметку за урок, что поставили? Сдайте листы само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чить урок я хочу фразой Джорджа Пой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будет приятно, если вы оцените свою и мою работу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ходя из класса, наклейте стикер на доску, соответствующего цве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овый - поняли тему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анжевый - не достаточно усвоили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- не поняли тему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9FBE-4E6C-40B1-A62C-8A79AD1CCB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ём смысл этих свойст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ите карточку с номером названия свойства для каждого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авьте себе Оценку в листе само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85B0-6E59-431D-B907-942A598F93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те устно, используя данные свойства и составьте слово из полученных отве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на уроке я вам желаю У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чего нужны данные свой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чего в математике нужно уметь быстро и правильно считать? (Чтобы решать задач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авьте себе Оценку в листе само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FAEE-9478-4D71-B10F-3DAA36DE9D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, что говорил о задачах французский математик Рене Декарт: Решить задачу – значит выиграть с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задач мы учились решать в этой четверти? (Ответ учащихся: задачи на части и на уравнив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уйте тему урока (открываем тетради записываем число, тему уро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AA3F-3ADB-4322-8039-3D4D9C3836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цель на уроке мы можем поставить сегодня перед собой?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вет учащихся: закрепить решение задач на части и на уравнивание, сравнить решения, сравнить алгоритм действ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запомнить должны обязательно, чтоб не встретить в решении проблем?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вет учащихся: определять вид задачи, знать алгоритм реш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80A1-2498-4157-BB42-BF319F3EB8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акому алгоритму мы решаем задачи на части и на уравни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17E2-8AB8-4F53-988C-673FA6E8C0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пункт алгоритма – изобразить схему. какой тип задачи видите? Определите, какая модель схемы соответствует задаче и соедините линиями задачу со схе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оставьте и запишите в тетради номера задач и схем (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дин у доски – марк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авьте себе отметку в ведомости за это за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(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сед помогает оцен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24CF-BB06-4DD8-BA22-0D527F31D7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акому виду задач относится каждая? Объясните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з схем отражает смысл задачи № 1, № 2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ту задачу, которая вам показалась легче, дополните схему и решите её.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 ученика на экране дополняют маркером и решают, остальные в тетрадях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рьте у вашего коллеги по парте ответ и поставьте оценку в ведо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веты: 1)10р, 100р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) 85л., 120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нимите руки те, кто выбрал задачу №1, №2. Почему? Какой вывод (цель) можн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ABED-B622-4D70-A46C-A5CC18F88B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культминутка (с родителями)– Четность/нечетность (Хлопать в ладоши над головой/стоять смирно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парах. На столах возьмите задачу № 3. Заполните пропуски и найдите от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Затем на экране один ученик заполняет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тери 35 лет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авьте оценку/+ в ведомость самооценки. (Можно другой парт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омментируйте свои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C1F8-DD86-41D8-9371-75128DE7C1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718-D484-493A-8D13-DA441AF1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025-CB69-4279-831F-CC464698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61B-7B08-49D4-9A65-9CF99F2A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1B9-790B-49C8-A027-2E020CB0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4F9-DF5E-4576-8611-99674C6B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EF9-9053-493C-B7C7-B03E0836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FF8-A1A6-46C3-B16E-1C300A47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9D8-7FA4-4131-AAA8-53A8C4FD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A0A-7E80-4563-B1A4-A544FEA9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1A4-B67F-49BE-8B77-AB2833A6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D6D-85D6-4C59-A4C6-BF4C09BC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F94-9632-4004-9235-96E0C8D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EB17-9593-4964-96F2-3502749A0B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17640" y="-122400"/>
            <a:ext cx="912636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0" y="189000"/>
            <a:ext cx="92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Счет и вычисления – основа порядка в голов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1547640" y="115920"/>
            <a:ext cx="74170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д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дв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ьнее Бабки, Баб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тр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ьнее Внучки, Внуч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четвер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ьнее Жучки, Жуч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пятер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ьнее Кошки, Кош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шестер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ьнее Мы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дка, Бабка, Внучка, Жучка и Кошка вместе с Мышкой могут вытащить репку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без Мышки - не мог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&amp;Pcy;&amp;rcy;&amp;icy;&amp;kcy;&amp;ocy;&amp;lcy;&amp;softcy;&amp;ncy;&amp;ycy;&amp;jcy; &amp;scy;&amp;tscy;&amp;iecy;&amp;ncy;&amp;acy;&amp;rcy;&amp;icy;&amp;jcy; &amp;scy;&amp;kcy;&amp;acy;&amp;zcy;&amp;kcy;&amp;icy; &amp;rcy;&amp;iecy;&amp;pcy;&amp;kcy;&amp;acy; - &amp;pcy;&amp;rcy;&amp;icy;&amp;kcy;&amp;ocy;&amp;lcy;&amp;softcy;&amp;ncy;&amp;ycy;&amp;jcy; &amp;rcy;&amp;ocy;&amp;lcy;&amp;icy;&amp;kcy;"/>
          <p:cNvPicPr/>
          <p:nvPr/>
        </p:nvPicPr>
        <p:blipFill>
          <a:blip r:embed="rId1"/>
          <a:stretch/>
        </p:blipFill>
        <p:spPr>
          <a:xfrm>
            <a:off x="5940360" y="3844800"/>
            <a:ext cx="2955960" cy="2735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6" descr=""/>
          <p:cNvPicPr/>
          <p:nvPr/>
        </p:nvPicPr>
        <p:blipFill>
          <a:blip r:embed="rId2"/>
          <a:stretch/>
        </p:blipFill>
        <p:spPr>
          <a:xfrm>
            <a:off x="210960" y="115920"/>
            <a:ext cx="1008360" cy="95076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8"/>
          <p:cNvSpPr/>
          <p:nvPr/>
        </p:nvSpPr>
        <p:spPr>
          <a:xfrm>
            <a:off x="1566720" y="290052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колько надо позвать Мышек, чтобы они смогли сами вытащить Репк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Рисунок 9" descr=""/>
          <p:cNvPicPr/>
          <p:nvPr/>
        </p:nvPicPr>
        <p:blipFill>
          <a:blip r:embed="rId3"/>
          <a:stretch/>
        </p:blipFill>
        <p:spPr>
          <a:xfrm>
            <a:off x="219240" y="1042920"/>
            <a:ext cx="1008000" cy="9511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0" descr=""/>
          <p:cNvPicPr/>
          <p:nvPr/>
        </p:nvPicPr>
        <p:blipFill>
          <a:blip r:embed="rId4"/>
          <a:stretch/>
        </p:blipFill>
        <p:spPr>
          <a:xfrm>
            <a:off x="219240" y="1955880"/>
            <a:ext cx="1008000" cy="9507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1" descr=""/>
          <p:cNvPicPr/>
          <p:nvPr/>
        </p:nvPicPr>
        <p:blipFill>
          <a:blip r:embed="rId5"/>
          <a:stretch/>
        </p:blipFill>
        <p:spPr>
          <a:xfrm>
            <a:off x="200160" y="2905200"/>
            <a:ext cx="1008000" cy="9493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2" descr=""/>
          <p:cNvPicPr/>
          <p:nvPr/>
        </p:nvPicPr>
        <p:blipFill>
          <a:blip r:embed="rId6"/>
          <a:stretch/>
        </p:blipFill>
        <p:spPr>
          <a:xfrm>
            <a:off x="196920" y="3854520"/>
            <a:ext cx="1008000" cy="9493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3" descr=""/>
          <p:cNvPicPr/>
          <p:nvPr/>
        </p:nvPicPr>
        <p:blipFill>
          <a:blip r:embed="rId7"/>
          <a:stretch/>
        </p:blipFill>
        <p:spPr>
          <a:xfrm>
            <a:off x="196920" y="4803840"/>
            <a:ext cx="1008000" cy="9493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4" descr=""/>
          <p:cNvPicPr/>
          <p:nvPr/>
        </p:nvPicPr>
        <p:blipFill>
          <a:blip r:embed="rId8"/>
          <a:stretch/>
        </p:blipFill>
        <p:spPr>
          <a:xfrm>
            <a:off x="196920" y="5753160"/>
            <a:ext cx="100800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42920" y="1052640"/>
            <a:ext cx="738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4284720" y="2205000"/>
            <a:ext cx="338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) 2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) 4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) 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)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1476360" y="476280"/>
            <a:ext cx="7524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«Если вы хотите научиться плавать, то смело входите в воду, а если хотите научиться решать задачи, то решайте их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Джордж Пой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4572000" y="4076640"/>
            <a:ext cx="40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нгерский, швейцарский и американский математик 20 века. Дожил до 97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Рисунок 3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8371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1908000" y="3860640"/>
            <a:ext cx="25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923120" y="3213000"/>
            <a:ext cx="41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 – c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– 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1908000" y="2637000"/>
            <a:ext cx="54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 + c) = (a + b) +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1979640" y="1844640"/>
            <a:ext cx="56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. Распределительное сво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005920" y="54936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1. Переместительное сво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90800" y="1197000"/>
            <a:ext cx="47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четательное сво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1979640" y="4437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 • 6 • 25 = 4 • 25 •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991880" y="5076720"/>
            <a:ext cx="48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9 + 58 + 21 = 79 + 21 + 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1994400" y="5661000"/>
            <a:ext cx="50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7 •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3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 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50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чёт и вычисления – основа порядка в голо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692360" y="1197000"/>
            <a:ext cx="6767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25 ⋅ 76 ⋅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8 ⋅ 6 ⋅ 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56 ⋅ 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245 + 134 + 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137 + 85 + 63 +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129 ⋅ 72 – 29 ⋅ 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38 ⋅ 64 + 64 ⋅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3995640" y="1197000"/>
                <a:ext cx="1943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7600</m:t>
                          </m:r>
                        </m:e>
                        <m:e>
                          <m:r>
                            <m:t xml:space="preserve">И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4067280" y="1860480"/>
                <a:ext cx="1944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6000</m:t>
                          </m:r>
                        </m:e>
                        <m:e>
                          <m:r>
                            <m:t xml:space="preserve">Д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3780000" y="2436840"/>
                <a:ext cx="18446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5656</m:t>
                          </m:r>
                        </m:e>
                        <m:e>
                          <m:r>
                            <m:t xml:space="preserve">У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4900680" y="3013200"/>
                <a:ext cx="16160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434</m:t>
                          </m:r>
                        </m:e>
                        <m:e>
                          <m:r>
                            <m:t xml:space="preserve">З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7"/>
              <p:cNvSpPr txBox="1"/>
              <p:nvPr/>
            </p:nvSpPr>
            <p:spPr>
              <a:xfrm>
                <a:off x="5587920" y="3587760"/>
                <a:ext cx="1648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</m:e>
                        <m:e>
                          <m:r>
                            <m:t xml:space="preserve">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5286240" y="4164120"/>
                <a:ext cx="18781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7200</m:t>
                          </m:r>
                        </m:e>
                        <m:e>
                          <m:r>
                            <m:t xml:space="preserve">Ч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5103720" y="4740120"/>
                <a:ext cx="18446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6400</m:t>
                          </m:r>
                        </m:e>
                        <m:e>
                          <m:r>
                            <m:t xml:space="preserve">А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6"/>
              <p:cNvSpPr txBox="1"/>
              <p:nvPr/>
            </p:nvSpPr>
            <p:spPr>
              <a:xfrm>
                <a:off x="1763640" y="5373720"/>
                <a:ext cx="6777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56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00</m:t>
                                </m:r>
                              </m:e>
                            </m:mr>
                          </m:m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4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2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60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7"/>
              <p:cNvSpPr txBox="1"/>
              <p:nvPr/>
            </p:nvSpPr>
            <p:spPr>
              <a:xfrm>
                <a:off x="2124000" y="6095880"/>
                <a:ext cx="6480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 Д А Ч 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619280" y="549360"/>
            <a:ext cx="6913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ешить задачу – значит выиграть сражени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Рене Декар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3600360" cy="32558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"/>
          <p:cNvPicPr/>
          <p:nvPr/>
        </p:nvPicPr>
        <p:blipFill>
          <a:blip r:embed="rId2"/>
          <a:stretch/>
        </p:blipFill>
        <p:spPr>
          <a:xfrm>
            <a:off x="1682640" y="2349360"/>
            <a:ext cx="32497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extBox 1" descr=""/>
          <p:cNvPicPr/>
          <p:nvPr/>
        </p:nvPicPr>
        <p:blipFill>
          <a:blip r:embed="rId1"/>
          <a:stretch/>
        </p:blipFill>
        <p:spPr>
          <a:xfrm>
            <a:off x="1474920" y="317520"/>
            <a:ext cx="7493040" cy="24256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2411280" y="342900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задачи решали старательн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изученных несколько те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запомнить должны обязательн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 не встретить в решении пробле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52372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лгоритм ре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1196640"/>
            <a:ext cx="2428920" cy="5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76000" y="1700280"/>
            <a:ext cx="31669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зить схе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, сколько частей приходится на данное в задаче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числ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ть, сколько приходится на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одн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а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числить те части, о которых спрашивается в задач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125360"/>
            <a:ext cx="3543480" cy="5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на уравн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932360" y="1628280"/>
            <a:ext cx="4178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спосо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ять с меньшим (разницу вычитаем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ить поровн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большее (разницу прибавить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спосо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ять с большим (разницу прибавляем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ить поровн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меньшее (разницу вычесть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7"/>
          <p:cNvSpPr/>
          <p:nvPr/>
        </p:nvSpPr>
        <p:spPr>
          <a:xfrm>
            <a:off x="1116000" y="189000"/>
            <a:ext cx="81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ая схема соответствует данной задач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476360" y="692280"/>
            <a:ext cx="380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) В коробках 40 плиток шоколада, причем в первой на 10 плиток больше, чем во второй. Сколько плиток шоколада в каждой коробк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Группа 26"/>
          <p:cNvGrpSpPr/>
          <p:nvPr/>
        </p:nvGrpSpPr>
        <p:grpSpPr>
          <a:xfrm>
            <a:off x="6084720" y="620640"/>
            <a:ext cx="2303640" cy="720720"/>
            <a:chOff x="6084720" y="620640"/>
            <a:chExt cx="2303640" cy="720720"/>
          </a:xfrm>
        </p:grpSpPr>
        <p:sp>
          <p:nvSpPr>
            <p:cNvPr id="83" name="Прямая соединительная линия 10"/>
            <p:cNvSpPr/>
            <p:nvPr/>
          </p:nvSpPr>
          <p:spPr>
            <a:xfrm>
              <a:off x="6084720" y="975960"/>
              <a:ext cx="1910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Прямая соединительная линия 11"/>
            <p:cNvSpPr/>
            <p:nvPr/>
          </p:nvSpPr>
          <p:spPr>
            <a:xfrm>
              <a:off x="6084720" y="1204560"/>
              <a:ext cx="1292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Прямая соединительная линия 16"/>
            <p:cNvSpPr/>
            <p:nvPr/>
          </p:nvSpPr>
          <p:spPr>
            <a:xfrm>
              <a:off x="7377120" y="839160"/>
              <a:ext cx="0" cy="502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Прямая соединительная линия 17"/>
            <p:cNvSpPr/>
            <p:nvPr/>
          </p:nvSpPr>
          <p:spPr>
            <a:xfrm>
              <a:off x="8002800" y="839160"/>
              <a:ext cx="0" cy="502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Прямая соединительная линия 19"/>
            <p:cNvSpPr/>
            <p:nvPr/>
          </p:nvSpPr>
          <p:spPr>
            <a:xfrm>
              <a:off x="7377120" y="1204560"/>
              <a:ext cx="625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Правая фигурная скобка 23"/>
            <p:cNvSpPr/>
            <p:nvPr/>
          </p:nvSpPr>
          <p:spPr>
            <a:xfrm>
              <a:off x="8107560" y="702000"/>
              <a:ext cx="280800" cy="639360"/>
            </a:xfrm>
            <a:custGeom>
              <a:avLst/>
              <a:gdLst>
                <a:gd name="textAreaLeft" fmla="*/ 0 w 280800"/>
                <a:gd name="textAreaRight" fmla="*/ 101520 w 280800"/>
                <a:gd name="textAreaTop" fmla="*/ 5760 h 639360"/>
                <a:gd name="textAreaBottom" fmla="*/ 633600 h 63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22"/>
                    <a:pt x="10800" y="643"/>
                  </a:cubicBezTo>
                  <a:lnTo>
                    <a:pt x="10800" y="10157"/>
                  </a:lnTo>
                  <a:cubicBezTo>
                    <a:pt x="10800" y="10479"/>
                    <a:pt x="16200" y="10800"/>
                    <a:pt x="21600" y="10800"/>
                  </a:cubicBezTo>
                  <a:cubicBezTo>
                    <a:pt x="16200" y="10800"/>
                    <a:pt x="10800" y="11122"/>
                    <a:pt x="10800" y="11443"/>
                  </a:cubicBezTo>
                  <a:lnTo>
                    <a:pt x="10800" y="20957"/>
                  </a:lnTo>
                  <a:cubicBezTo>
                    <a:pt x="10800" y="21279"/>
                    <a:pt x="5400" y="21600"/>
                    <a:pt x="0" y="21600"/>
                  </a:cubicBezTo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Box 25"/>
            <p:cNvSpPr/>
            <p:nvPr/>
          </p:nvSpPr>
          <p:spPr>
            <a:xfrm>
              <a:off x="6588720" y="62064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TextBox 27"/>
          <p:cNvSpPr/>
          <p:nvPr/>
        </p:nvSpPr>
        <p:spPr>
          <a:xfrm>
            <a:off x="5292720" y="9079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Группа 72"/>
          <p:cNvGrpSpPr/>
          <p:nvPr/>
        </p:nvGrpSpPr>
        <p:grpSpPr>
          <a:xfrm>
            <a:off x="6227640" y="3429000"/>
            <a:ext cx="2592360" cy="1013400"/>
            <a:chOff x="6227640" y="3429000"/>
            <a:chExt cx="2592360" cy="1013400"/>
          </a:xfrm>
        </p:grpSpPr>
        <p:sp>
          <p:nvSpPr>
            <p:cNvPr id="92" name="TextBox 24"/>
            <p:cNvSpPr/>
            <p:nvPr/>
          </p:nvSpPr>
          <p:spPr>
            <a:xfrm>
              <a:off x="8381880" y="3654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Прямая соединительная линия 29"/>
            <p:cNvSpPr/>
            <p:nvPr/>
          </p:nvSpPr>
          <p:spPr>
            <a:xfrm>
              <a:off x="6227640" y="3769560"/>
              <a:ext cx="177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Прямая соединительная линия 30"/>
            <p:cNvSpPr/>
            <p:nvPr/>
          </p:nvSpPr>
          <p:spPr>
            <a:xfrm>
              <a:off x="6227640" y="4053600"/>
              <a:ext cx="1203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Прямая соединительная линия 31"/>
            <p:cNvSpPr/>
            <p:nvPr/>
          </p:nvSpPr>
          <p:spPr>
            <a:xfrm>
              <a:off x="7430760" y="3599280"/>
              <a:ext cx="0" cy="624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Прямая соединительная линия 32"/>
            <p:cNvSpPr/>
            <p:nvPr/>
          </p:nvSpPr>
          <p:spPr>
            <a:xfrm>
              <a:off x="8013600" y="3599280"/>
              <a:ext cx="0" cy="624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Прямая соединительная линия 33"/>
            <p:cNvSpPr/>
            <p:nvPr/>
          </p:nvSpPr>
          <p:spPr>
            <a:xfrm>
              <a:off x="7430760" y="4053600"/>
              <a:ext cx="582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Правая фигурная скобка 34"/>
            <p:cNvSpPr/>
            <p:nvPr/>
          </p:nvSpPr>
          <p:spPr>
            <a:xfrm>
              <a:off x="8110800" y="3429000"/>
              <a:ext cx="261360" cy="795240"/>
            </a:xfrm>
            <a:custGeom>
              <a:avLst/>
              <a:gdLst>
                <a:gd name="textAreaLeft" fmla="*/ 0 w 261360"/>
                <a:gd name="textAreaRight" fmla="*/ 94320 w 261360"/>
                <a:gd name="textAreaTop" fmla="*/ 7200 h 795240"/>
                <a:gd name="textAreaBottom" fmla="*/ 788040 h 79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22"/>
                    <a:pt x="10800" y="643"/>
                  </a:cubicBezTo>
                  <a:lnTo>
                    <a:pt x="10800" y="10157"/>
                  </a:lnTo>
                  <a:cubicBezTo>
                    <a:pt x="10800" y="10479"/>
                    <a:pt x="16200" y="10800"/>
                    <a:pt x="21600" y="10800"/>
                  </a:cubicBezTo>
                  <a:cubicBezTo>
                    <a:pt x="16200" y="10800"/>
                    <a:pt x="10800" y="11122"/>
                    <a:pt x="10800" y="11443"/>
                  </a:cubicBezTo>
                  <a:lnTo>
                    <a:pt x="10800" y="20957"/>
                  </a:lnTo>
                  <a:cubicBezTo>
                    <a:pt x="10800" y="21279"/>
                    <a:pt x="5400" y="21600"/>
                    <a:pt x="0" y="21600"/>
                  </a:cubicBezTo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Box 35"/>
            <p:cNvSpPr/>
            <p:nvPr/>
          </p:nvSpPr>
          <p:spPr>
            <a:xfrm>
              <a:off x="7512840" y="407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TextBox 59"/>
          <p:cNvSpPr/>
          <p:nvPr/>
        </p:nvSpPr>
        <p:spPr>
          <a:xfrm>
            <a:off x="738036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68"/>
          <p:cNvSpPr/>
          <p:nvPr/>
        </p:nvSpPr>
        <p:spPr>
          <a:xfrm>
            <a:off x="838836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9"/>
          <p:cNvSpPr/>
          <p:nvPr/>
        </p:nvSpPr>
        <p:spPr>
          <a:xfrm>
            <a:off x="845964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Группа 73"/>
          <p:cNvGrpSpPr/>
          <p:nvPr/>
        </p:nvGrpSpPr>
        <p:grpSpPr>
          <a:xfrm>
            <a:off x="6227640" y="2492280"/>
            <a:ext cx="2722680" cy="792360"/>
            <a:chOff x="6227640" y="2492280"/>
            <a:chExt cx="2722680" cy="792360"/>
          </a:xfrm>
        </p:grpSpPr>
        <p:sp>
          <p:nvSpPr>
            <p:cNvPr id="104" name="Прямая соединительная линия 37"/>
            <p:cNvSpPr/>
            <p:nvPr/>
          </p:nvSpPr>
          <p:spPr>
            <a:xfrm>
              <a:off x="6227640" y="3033720"/>
              <a:ext cx="1708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Прямая соединительная линия 38"/>
            <p:cNvSpPr/>
            <p:nvPr/>
          </p:nvSpPr>
          <p:spPr>
            <a:xfrm>
              <a:off x="6236640" y="2775240"/>
              <a:ext cx="115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Прямая соединительная линия 39"/>
            <p:cNvSpPr/>
            <p:nvPr/>
          </p:nvSpPr>
          <p:spPr>
            <a:xfrm>
              <a:off x="7392600" y="2661840"/>
              <a:ext cx="0" cy="622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Прямая соединительная линия 40"/>
            <p:cNvSpPr/>
            <p:nvPr/>
          </p:nvSpPr>
          <p:spPr>
            <a:xfrm>
              <a:off x="7952400" y="2661840"/>
              <a:ext cx="0" cy="622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Прямая соединительная линия 41"/>
            <p:cNvSpPr/>
            <p:nvPr/>
          </p:nvSpPr>
          <p:spPr>
            <a:xfrm>
              <a:off x="7392600" y="2775240"/>
              <a:ext cx="559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Правая фигурная скобка 42"/>
            <p:cNvSpPr/>
            <p:nvPr/>
          </p:nvSpPr>
          <p:spPr>
            <a:xfrm>
              <a:off x="8046000" y="2492280"/>
              <a:ext cx="251280" cy="792360"/>
            </a:xfrm>
            <a:custGeom>
              <a:avLst/>
              <a:gdLst>
                <a:gd name="textAreaLeft" fmla="*/ 0 w 251280"/>
                <a:gd name="textAreaRight" fmla="*/ 90720 w 251280"/>
                <a:gd name="textAreaTop" fmla="*/ 7200 h 792360"/>
                <a:gd name="textAreaBottom" fmla="*/ 78516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22"/>
                    <a:pt x="10800" y="643"/>
                  </a:cubicBezTo>
                  <a:lnTo>
                    <a:pt x="10800" y="10157"/>
                  </a:lnTo>
                  <a:cubicBezTo>
                    <a:pt x="10800" y="10479"/>
                    <a:pt x="16200" y="10800"/>
                    <a:pt x="21600" y="10800"/>
                  </a:cubicBezTo>
                  <a:cubicBezTo>
                    <a:pt x="16200" y="10800"/>
                    <a:pt x="10800" y="11122"/>
                    <a:pt x="10800" y="11443"/>
                  </a:cubicBezTo>
                  <a:lnTo>
                    <a:pt x="10800" y="20957"/>
                  </a:lnTo>
                  <a:cubicBezTo>
                    <a:pt x="10800" y="21279"/>
                    <a:pt x="5400" y="21600"/>
                    <a:pt x="0" y="21600"/>
                  </a:cubicBezTo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Box 70"/>
            <p:cNvSpPr/>
            <p:nvPr/>
          </p:nvSpPr>
          <p:spPr>
            <a:xfrm>
              <a:off x="8316720" y="2708280"/>
              <a:ext cx="63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Box 71"/>
          <p:cNvSpPr/>
          <p:nvPr/>
        </p:nvSpPr>
        <p:spPr>
          <a:xfrm>
            <a:off x="8459640" y="580536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5"/>
          <p:cNvSpPr/>
          <p:nvPr/>
        </p:nvSpPr>
        <p:spPr>
          <a:xfrm>
            <a:off x="5364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6"/>
          <p:cNvSpPr/>
          <p:nvPr/>
        </p:nvSpPr>
        <p:spPr>
          <a:xfrm>
            <a:off x="5435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7"/>
          <p:cNvSpPr/>
          <p:nvPr/>
        </p:nvSpPr>
        <p:spPr>
          <a:xfrm>
            <a:off x="543564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8"/>
          <p:cNvSpPr/>
          <p:nvPr/>
        </p:nvSpPr>
        <p:spPr>
          <a:xfrm>
            <a:off x="5435640" y="47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79"/>
          <p:cNvSpPr/>
          <p:nvPr/>
        </p:nvSpPr>
        <p:spPr>
          <a:xfrm>
            <a:off x="1476360" y="522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) Дед старше папы на 22 года, а вместе им 110 лет. Сколько лет папе и сколько лет дед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Прямая со стрелкой 81"/>
          <p:cNvCxnSpPr>
            <a:endCxn id="118" idx="1"/>
          </p:cNvCxnSpPr>
          <p:nvPr/>
        </p:nvCxnSpPr>
        <p:spPr>
          <a:xfrm>
            <a:off x="4643280" y="5365440"/>
            <a:ext cx="866160" cy="62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Прямая со стрелкой 85"/>
          <p:cNvCxnSpPr/>
          <p:nvPr/>
        </p:nvCxnSpPr>
        <p:spPr>
          <a:xfrm flipV="1">
            <a:off x="4500360" y="2133360"/>
            <a:ext cx="935640" cy="1367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Прямая со стрелкой 89"/>
          <p:cNvCxnSpPr>
            <a:endCxn id="114" idx="1"/>
          </p:cNvCxnSpPr>
          <p:nvPr/>
        </p:nvCxnSpPr>
        <p:spPr>
          <a:xfrm>
            <a:off x="4571640" y="2205000"/>
            <a:ext cx="864360" cy="1626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Прямоугольник 1"/>
          <p:cNvSpPr/>
          <p:nvPr/>
        </p:nvSpPr>
        <p:spPr>
          <a:xfrm>
            <a:off x="1476360" y="292428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) Для спортивного клуба купили 80 больших и маленьких мячей, причем больших в 4 раза меньше, чем маленьких. Сколько купили больших мяч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Прямая со стрелкой 66"/>
          <p:cNvCxnSpPr/>
          <p:nvPr/>
        </p:nvCxnSpPr>
        <p:spPr>
          <a:xfrm flipV="1">
            <a:off x="4427280" y="2923560"/>
            <a:ext cx="1081800" cy="23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3" name="Группа 30"/>
          <p:cNvGrpSpPr/>
          <p:nvPr/>
        </p:nvGrpSpPr>
        <p:grpSpPr>
          <a:xfrm>
            <a:off x="6227640" y="1484280"/>
            <a:ext cx="2089440" cy="792360"/>
            <a:chOff x="6227640" y="1484280"/>
            <a:chExt cx="2089440" cy="792360"/>
          </a:xfrm>
        </p:grpSpPr>
        <p:grpSp>
          <p:nvGrpSpPr>
            <p:cNvPr id="124" name="Группа 26"/>
            <p:cNvGrpSpPr/>
            <p:nvPr/>
          </p:nvGrpSpPr>
          <p:grpSpPr>
            <a:xfrm>
              <a:off x="6227640" y="1484280"/>
              <a:ext cx="2089440" cy="792360"/>
              <a:chOff x="6227640" y="1484280"/>
              <a:chExt cx="2089440" cy="792360"/>
            </a:xfrm>
          </p:grpSpPr>
          <p:grpSp>
            <p:nvGrpSpPr>
              <p:cNvPr id="125" name="Группа 74"/>
              <p:cNvGrpSpPr/>
              <p:nvPr/>
            </p:nvGrpSpPr>
            <p:grpSpPr>
              <a:xfrm>
                <a:off x="6227640" y="1484280"/>
                <a:ext cx="2089440" cy="792360"/>
                <a:chOff x="6227640" y="1484280"/>
                <a:chExt cx="2089440" cy="792360"/>
              </a:xfrm>
            </p:grpSpPr>
            <p:sp>
              <p:nvSpPr>
                <p:cNvPr id="126" name="Прямая соединительная линия 45"/>
                <p:cNvSpPr/>
                <p:nvPr/>
              </p:nvSpPr>
              <p:spPr>
                <a:xfrm>
                  <a:off x="6227640" y="2107080"/>
                  <a:ext cx="15789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Прямая соединительная линия 46"/>
                <p:cNvSpPr/>
                <p:nvPr/>
              </p:nvSpPr>
              <p:spPr>
                <a:xfrm>
                  <a:off x="6227640" y="1811880"/>
                  <a:ext cx="394920" cy="11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Прямая соединительная линия 47"/>
                <p:cNvSpPr/>
                <p:nvPr/>
              </p:nvSpPr>
              <p:spPr>
                <a:xfrm>
                  <a:off x="7412760" y="2050200"/>
                  <a:ext cx="0" cy="22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Прямая соединительная линия 48"/>
                <p:cNvSpPr/>
                <p:nvPr/>
              </p:nvSpPr>
              <p:spPr>
                <a:xfrm flipH="1">
                  <a:off x="7807320" y="2050200"/>
                  <a:ext cx="9000" cy="22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Правая фигурная скобка 50"/>
                <p:cNvSpPr/>
                <p:nvPr/>
              </p:nvSpPr>
              <p:spPr>
                <a:xfrm>
                  <a:off x="8062560" y="1484280"/>
                  <a:ext cx="254520" cy="792360"/>
                </a:xfrm>
                <a:custGeom>
                  <a:avLst/>
                  <a:gdLst>
                    <a:gd name="textAreaLeft" fmla="*/ 0 w 254520"/>
                    <a:gd name="textAreaRight" fmla="*/ 91800 w 254520"/>
                    <a:gd name="textAreaTop" fmla="*/ 7200 h 792360"/>
                    <a:gd name="textAreaBottom" fmla="*/ 785160 h 792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322"/>
                        <a:pt x="10800" y="643"/>
                      </a:cubicBezTo>
                      <a:lnTo>
                        <a:pt x="10800" y="10157"/>
                      </a:lnTo>
                      <a:cubicBezTo>
                        <a:pt x="10800" y="10479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122"/>
                        <a:pt x="10800" y="11443"/>
                      </a:cubicBezTo>
                      <a:lnTo>
                        <a:pt x="10800" y="20957"/>
                      </a:lnTo>
                      <a:cubicBezTo>
                        <a:pt x="10800" y="21279"/>
                        <a:pt x="5400" y="21600"/>
                        <a:pt x="0" y="21600"/>
                      </a:cubicBezTo>
                    </a:path>
                  </a:pathLst>
                </a:cu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Прямая соединительная линия 47"/>
              <p:cNvSpPr/>
              <p:nvPr/>
            </p:nvSpPr>
            <p:spPr>
              <a:xfrm>
                <a:off x="6622560" y="1767240"/>
                <a:ext cx="0" cy="45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Прямая соединительная линия 47"/>
              <p:cNvSpPr/>
              <p:nvPr/>
            </p:nvSpPr>
            <p:spPr>
              <a:xfrm>
                <a:off x="6227640" y="1767240"/>
                <a:ext cx="0" cy="45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Прямая соединительная линия 47"/>
            <p:cNvSpPr/>
            <p:nvPr/>
          </p:nvSpPr>
          <p:spPr>
            <a:xfrm>
              <a:off x="7017480" y="2050200"/>
              <a:ext cx="0" cy="169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Группа 91"/>
          <p:cNvGrpSpPr/>
          <p:nvPr/>
        </p:nvGrpSpPr>
        <p:grpSpPr>
          <a:xfrm>
            <a:off x="6227640" y="4581360"/>
            <a:ext cx="2232000" cy="792360"/>
            <a:chOff x="6227640" y="4581360"/>
            <a:chExt cx="2232000" cy="792360"/>
          </a:xfrm>
        </p:grpSpPr>
        <p:grpSp>
          <p:nvGrpSpPr>
            <p:cNvPr id="135" name="Группа 92"/>
            <p:cNvGrpSpPr/>
            <p:nvPr/>
          </p:nvGrpSpPr>
          <p:grpSpPr>
            <a:xfrm>
              <a:off x="6227640" y="4581360"/>
              <a:ext cx="2232000" cy="792360"/>
              <a:chOff x="6227640" y="4581360"/>
              <a:chExt cx="2232000" cy="792360"/>
            </a:xfrm>
          </p:grpSpPr>
          <p:grpSp>
            <p:nvGrpSpPr>
              <p:cNvPr id="136" name="Группа 74"/>
              <p:cNvGrpSpPr/>
              <p:nvPr/>
            </p:nvGrpSpPr>
            <p:grpSpPr>
              <a:xfrm>
                <a:off x="6227640" y="4581360"/>
                <a:ext cx="2232000" cy="792360"/>
                <a:chOff x="6227640" y="4581360"/>
                <a:chExt cx="2232000" cy="792360"/>
              </a:xfrm>
            </p:grpSpPr>
            <p:sp>
              <p:nvSpPr>
                <p:cNvPr id="137" name="Прямая соединительная линия 45"/>
                <p:cNvSpPr/>
                <p:nvPr/>
              </p:nvSpPr>
              <p:spPr>
                <a:xfrm>
                  <a:off x="6227640" y="5204160"/>
                  <a:ext cx="15350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Прямая соединительная линия 46"/>
                <p:cNvSpPr/>
                <p:nvPr/>
              </p:nvSpPr>
              <p:spPr>
                <a:xfrm>
                  <a:off x="6227640" y="4908960"/>
                  <a:ext cx="511560" cy="11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Прямая соединительная линия 47"/>
                <p:cNvSpPr/>
                <p:nvPr/>
              </p:nvSpPr>
              <p:spPr>
                <a:xfrm>
                  <a:off x="7762680" y="5147280"/>
                  <a:ext cx="0" cy="226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Правая фигурная скобка 50"/>
                <p:cNvSpPr/>
                <p:nvPr/>
              </p:nvSpPr>
              <p:spPr>
                <a:xfrm>
                  <a:off x="8129880" y="4581360"/>
                  <a:ext cx="329760" cy="792360"/>
                </a:xfrm>
                <a:custGeom>
                  <a:avLst/>
                  <a:gdLst>
                    <a:gd name="textAreaLeft" fmla="*/ 0 w 329760"/>
                    <a:gd name="textAreaRight" fmla="*/ 119160 w 329760"/>
                    <a:gd name="textAreaTop" fmla="*/ 7200 h 792360"/>
                    <a:gd name="textAreaBottom" fmla="*/ 785160 h 792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322"/>
                        <a:pt x="10800" y="643"/>
                      </a:cubicBezTo>
                      <a:lnTo>
                        <a:pt x="10800" y="10157"/>
                      </a:lnTo>
                      <a:cubicBezTo>
                        <a:pt x="10800" y="10479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122"/>
                        <a:pt x="10800" y="11443"/>
                      </a:cubicBezTo>
                      <a:lnTo>
                        <a:pt x="10800" y="20957"/>
                      </a:lnTo>
                      <a:cubicBezTo>
                        <a:pt x="10800" y="21279"/>
                        <a:pt x="5400" y="21600"/>
                        <a:pt x="0" y="21600"/>
                      </a:cubicBezTo>
                    </a:path>
                  </a:pathLst>
                </a:cu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Прямая соединительная линия 47"/>
              <p:cNvSpPr/>
              <p:nvPr/>
            </p:nvSpPr>
            <p:spPr>
              <a:xfrm>
                <a:off x="6739200" y="4864320"/>
                <a:ext cx="0" cy="45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Прямая соединительная линия 47"/>
              <p:cNvSpPr/>
              <p:nvPr/>
            </p:nvSpPr>
            <p:spPr>
              <a:xfrm>
                <a:off x="6227640" y="4864320"/>
                <a:ext cx="0" cy="45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Прямая соединительная линия 47"/>
            <p:cNvSpPr/>
            <p:nvPr/>
          </p:nvSpPr>
          <p:spPr>
            <a:xfrm>
              <a:off x="7251120" y="5147280"/>
              <a:ext cx="0" cy="169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Box 69"/>
          <p:cNvSpPr/>
          <p:nvPr/>
        </p:nvSpPr>
        <p:spPr>
          <a:xfrm>
            <a:off x="838836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Группа 65"/>
          <p:cNvGrpSpPr/>
          <p:nvPr/>
        </p:nvGrpSpPr>
        <p:grpSpPr>
          <a:xfrm>
            <a:off x="6227640" y="5589720"/>
            <a:ext cx="2233800" cy="855360"/>
            <a:chOff x="6227640" y="5589720"/>
            <a:chExt cx="2233800" cy="855360"/>
          </a:xfrm>
        </p:grpSpPr>
        <p:grpSp>
          <p:nvGrpSpPr>
            <p:cNvPr id="146" name="Группа 9216"/>
            <p:cNvGrpSpPr/>
            <p:nvPr/>
          </p:nvGrpSpPr>
          <p:grpSpPr>
            <a:xfrm>
              <a:off x="6227640" y="5589720"/>
              <a:ext cx="2233800" cy="855360"/>
              <a:chOff x="6227640" y="5589720"/>
              <a:chExt cx="2233800" cy="855360"/>
            </a:xfrm>
          </p:grpSpPr>
          <p:sp>
            <p:nvSpPr>
              <p:cNvPr id="147" name="Прямая соединительная линия 53"/>
              <p:cNvSpPr/>
              <p:nvPr/>
            </p:nvSpPr>
            <p:spPr>
              <a:xfrm>
                <a:off x="6227640" y="6237720"/>
                <a:ext cx="1699200" cy="19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Прямая соединительная линия 54"/>
              <p:cNvSpPr/>
              <p:nvPr/>
            </p:nvSpPr>
            <p:spPr>
              <a:xfrm>
                <a:off x="6227640" y="6017400"/>
                <a:ext cx="1015200" cy="2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Прямая соединительная линия 55"/>
              <p:cNvSpPr/>
              <p:nvPr/>
            </p:nvSpPr>
            <p:spPr>
              <a:xfrm flipH="1">
                <a:off x="7236360" y="5853600"/>
                <a:ext cx="6480" cy="52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Прямая соединительная линия 57"/>
              <p:cNvSpPr/>
              <p:nvPr/>
            </p:nvSpPr>
            <p:spPr>
              <a:xfrm>
                <a:off x="7274880" y="6040800"/>
                <a:ext cx="67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Правая фигурная скобка 58"/>
              <p:cNvSpPr/>
              <p:nvPr/>
            </p:nvSpPr>
            <p:spPr>
              <a:xfrm>
                <a:off x="8159400" y="5589720"/>
                <a:ext cx="302040" cy="855360"/>
              </a:xfrm>
              <a:custGeom>
                <a:avLst/>
                <a:gdLst>
                  <a:gd name="textAreaLeft" fmla="*/ 0 w 302040"/>
                  <a:gd name="textAreaRight" fmla="*/ 109080 w 302040"/>
                  <a:gd name="textAreaTop" fmla="*/ 7920 h 855360"/>
                  <a:gd name="textAreaBottom" fmla="*/ 847440 h 85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322"/>
                      <a:pt x="10800" y="643"/>
                    </a:cubicBezTo>
                    <a:lnTo>
                      <a:pt x="10800" y="10157"/>
                    </a:lnTo>
                    <a:cubicBezTo>
                      <a:pt x="10800" y="10479"/>
                      <a:pt x="16200" y="10800"/>
                      <a:pt x="21600" y="10800"/>
                    </a:cubicBezTo>
                    <a:cubicBezTo>
                      <a:pt x="16200" y="10800"/>
                      <a:pt x="10800" y="11122"/>
                      <a:pt x="10800" y="11443"/>
                    </a:cubicBezTo>
                    <a:lnTo>
                      <a:pt x="10800" y="20957"/>
                    </a:lnTo>
                    <a:cubicBezTo>
                      <a:pt x="10800" y="21279"/>
                      <a:pt x="5400" y="21600"/>
                      <a:pt x="0" y="21600"/>
                    </a:cubicBezTo>
                  </a:path>
                </a:pathLst>
              </a:cu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Прямая соединительная линия 55"/>
            <p:cNvSpPr/>
            <p:nvPr/>
          </p:nvSpPr>
          <p:spPr>
            <a:xfrm flipH="1">
              <a:off x="7956720" y="5877720"/>
              <a:ext cx="6480" cy="528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Box 78"/>
          <p:cNvSpPr/>
          <p:nvPr/>
        </p:nvSpPr>
        <p:spPr>
          <a:xfrm>
            <a:off x="550872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43"/>
          <p:cNvSpPr/>
          <p:nvPr/>
        </p:nvSpPr>
        <p:spPr>
          <a:xfrm>
            <a:off x="745164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1476360" y="404640"/>
            <a:ext cx="7488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урнал дороже газеты в 10 раз, а вместе они стоят 110 р. Сколько стоят газета и журнал в отдельнос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В двух аквариумах 205 л воды. В одном из них на 35 л воды больше, чем в другом. Сколько литров воды в каждом аквариум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Группа 33"/>
          <p:cNvGrpSpPr/>
          <p:nvPr/>
        </p:nvGrpSpPr>
        <p:grpSpPr>
          <a:xfrm>
            <a:off x="2916360" y="3213000"/>
            <a:ext cx="3384360" cy="1368360"/>
            <a:chOff x="2916360" y="3213000"/>
            <a:chExt cx="3384360" cy="1368360"/>
          </a:xfrm>
        </p:grpSpPr>
        <p:grpSp>
          <p:nvGrpSpPr>
            <p:cNvPr id="156" name="Группа 26"/>
            <p:cNvGrpSpPr/>
            <p:nvPr/>
          </p:nvGrpSpPr>
          <p:grpSpPr>
            <a:xfrm>
              <a:off x="2988360" y="3357000"/>
              <a:ext cx="3312360" cy="1224360"/>
              <a:chOff x="2988360" y="3357000"/>
              <a:chExt cx="3312360" cy="1224360"/>
            </a:xfrm>
          </p:grpSpPr>
          <p:sp>
            <p:nvSpPr>
              <p:cNvPr id="157" name="Прямая соединительная линия 7"/>
              <p:cNvSpPr/>
              <p:nvPr/>
            </p:nvSpPr>
            <p:spPr>
              <a:xfrm>
                <a:off x="2988360" y="4221000"/>
                <a:ext cx="28681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Прямая соединительная линия 2"/>
              <p:cNvSpPr/>
              <p:nvPr/>
            </p:nvSpPr>
            <p:spPr>
              <a:xfrm>
                <a:off x="2988360" y="378900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Прямая соединительная линия 8"/>
              <p:cNvSpPr/>
              <p:nvPr/>
            </p:nvSpPr>
            <p:spPr>
              <a:xfrm>
                <a:off x="2988360" y="3717360"/>
                <a:ext cx="4680" cy="10800"/>
              </a:xfrm>
              <a:prstGeom prst="line">
                <a:avLst/>
              </a:prstGeom>
              <a:ln w="648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Правая фигурная скобка 11"/>
              <p:cNvSpPr/>
              <p:nvPr/>
            </p:nvSpPr>
            <p:spPr>
              <a:xfrm>
                <a:off x="6013440" y="3357000"/>
                <a:ext cx="287280" cy="1224360"/>
              </a:xfrm>
              <a:custGeom>
                <a:avLst/>
                <a:gdLst>
                  <a:gd name="textAreaLeft" fmla="*/ 0 w 287280"/>
                  <a:gd name="textAreaRight" fmla="*/ 103680 w 287280"/>
                  <a:gd name="textAreaTop" fmla="*/ 7200 h 1224360"/>
                  <a:gd name="textAreaBottom" fmla="*/ 1217160 h 122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12"/>
                      <a:pt x="10800" y="423"/>
                    </a:cubicBezTo>
                    <a:lnTo>
                      <a:pt x="10800" y="10377"/>
                    </a:lnTo>
                    <a:cubicBezTo>
                      <a:pt x="10800" y="10589"/>
                      <a:pt x="16200" y="10800"/>
                      <a:pt x="21600" y="10800"/>
                    </a:cubicBezTo>
                    <a:cubicBezTo>
                      <a:pt x="16200" y="10800"/>
                      <a:pt x="10800" y="11012"/>
                      <a:pt x="10800" y="11223"/>
                    </a:cubicBezTo>
                    <a:lnTo>
                      <a:pt x="10800" y="21177"/>
                    </a:lnTo>
                    <a:cubicBezTo>
                      <a:pt x="10800" y="21389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Овал 14"/>
              <p:cNvSpPr/>
              <p:nvPr/>
            </p:nvSpPr>
            <p:spPr>
              <a:xfrm>
                <a:off x="3275640" y="3742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Овал 18"/>
              <p:cNvSpPr/>
              <p:nvPr/>
            </p:nvSpPr>
            <p:spPr>
              <a:xfrm>
                <a:off x="2988360" y="3742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Овал 19"/>
              <p:cNvSpPr/>
              <p:nvPr/>
            </p:nvSpPr>
            <p:spPr>
              <a:xfrm>
                <a:off x="298836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Овал 20"/>
              <p:cNvSpPr/>
              <p:nvPr/>
            </p:nvSpPr>
            <p:spPr>
              <a:xfrm>
                <a:off x="330264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Овал 21"/>
              <p:cNvSpPr/>
              <p:nvPr/>
            </p:nvSpPr>
            <p:spPr>
              <a:xfrm>
                <a:off x="363564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Овал 22"/>
              <p:cNvSpPr/>
              <p:nvPr/>
            </p:nvSpPr>
            <p:spPr>
              <a:xfrm>
                <a:off x="392472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Овал 23"/>
              <p:cNvSpPr/>
              <p:nvPr/>
            </p:nvSpPr>
            <p:spPr>
              <a:xfrm>
                <a:off x="418176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Овал 24"/>
              <p:cNvSpPr/>
              <p:nvPr/>
            </p:nvSpPr>
            <p:spPr>
              <a:xfrm>
                <a:off x="445500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Овал 25"/>
              <p:cNvSpPr/>
              <p:nvPr/>
            </p:nvSpPr>
            <p:spPr>
              <a:xfrm>
                <a:off x="4716720" y="41749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Овал 27"/>
              <p:cNvSpPr/>
              <p:nvPr/>
            </p:nvSpPr>
            <p:spPr>
              <a:xfrm flipH="1">
                <a:off x="5030280" y="418428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Овал 28"/>
              <p:cNvSpPr/>
              <p:nvPr/>
            </p:nvSpPr>
            <p:spPr>
              <a:xfrm flipH="1">
                <a:off x="5317560" y="418428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Овал 29"/>
              <p:cNvSpPr/>
              <p:nvPr/>
            </p:nvSpPr>
            <p:spPr>
              <a:xfrm flipH="1">
                <a:off x="5576400" y="418428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Овал 30"/>
              <p:cNvSpPr/>
              <p:nvPr/>
            </p:nvSpPr>
            <p:spPr>
              <a:xfrm flipH="1">
                <a:off x="5849280" y="4184280"/>
                <a:ext cx="44280" cy="45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Box 32"/>
            <p:cNvSpPr/>
            <p:nvPr/>
          </p:nvSpPr>
          <p:spPr>
            <a:xfrm flipH="1">
              <a:off x="2916360" y="3213000"/>
              <a:ext cx="13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хема 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Группа 42"/>
          <p:cNvGrpSpPr/>
          <p:nvPr/>
        </p:nvGrpSpPr>
        <p:grpSpPr>
          <a:xfrm>
            <a:off x="3132000" y="5013360"/>
            <a:ext cx="2232000" cy="1368360"/>
            <a:chOff x="3132000" y="5013360"/>
            <a:chExt cx="2232000" cy="1368360"/>
          </a:xfrm>
        </p:grpSpPr>
        <p:sp>
          <p:nvSpPr>
            <p:cNvPr id="176" name="TextBox 36"/>
            <p:cNvSpPr/>
            <p:nvPr/>
          </p:nvSpPr>
          <p:spPr>
            <a:xfrm flipH="1">
              <a:off x="3132000" y="5013360"/>
              <a:ext cx="13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хема 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Прямая соединительная линия 35"/>
            <p:cNvSpPr/>
            <p:nvPr/>
          </p:nvSpPr>
          <p:spPr>
            <a:xfrm flipV="1">
              <a:off x="3203280" y="5582880"/>
              <a:ext cx="10414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Прямая соединительная линия 41"/>
            <p:cNvSpPr/>
            <p:nvPr/>
          </p:nvSpPr>
          <p:spPr>
            <a:xfrm>
              <a:off x="3203280" y="6094440"/>
              <a:ext cx="172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Правая фигурная скобка 44"/>
            <p:cNvSpPr/>
            <p:nvPr/>
          </p:nvSpPr>
          <p:spPr>
            <a:xfrm>
              <a:off x="5076720" y="5157720"/>
              <a:ext cx="287280" cy="122400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7200 h 1224000"/>
                <a:gd name="textAreaBottom" fmla="*/ 12168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12"/>
                    <a:pt x="10800" y="423"/>
                  </a:cubicBezTo>
                  <a:lnTo>
                    <a:pt x="10800" y="10377"/>
                  </a:lnTo>
                  <a:cubicBezTo>
                    <a:pt x="10800" y="10589"/>
                    <a:pt x="16200" y="10800"/>
                    <a:pt x="21600" y="10800"/>
                  </a:cubicBezTo>
                  <a:cubicBezTo>
                    <a:pt x="16200" y="10800"/>
                    <a:pt x="10800" y="11012"/>
                    <a:pt x="10800" y="11223"/>
                  </a:cubicBezTo>
                  <a:lnTo>
                    <a:pt x="10800" y="21177"/>
                  </a:lnTo>
                  <a:cubicBezTo>
                    <a:pt x="10800" y="21389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Овал 45"/>
            <p:cNvSpPr/>
            <p:nvPr/>
          </p:nvSpPr>
          <p:spPr>
            <a:xfrm flipH="1">
              <a:off x="4237920" y="5543640"/>
              <a:ext cx="45720" cy="45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Овал 46"/>
            <p:cNvSpPr/>
            <p:nvPr/>
          </p:nvSpPr>
          <p:spPr>
            <a:xfrm flipH="1">
              <a:off x="4885560" y="6048360"/>
              <a:ext cx="45720" cy="45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Овал 47"/>
            <p:cNvSpPr/>
            <p:nvPr/>
          </p:nvSpPr>
          <p:spPr>
            <a:xfrm flipH="1">
              <a:off x="4237920" y="6048360"/>
              <a:ext cx="45720" cy="45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Овал 48"/>
            <p:cNvSpPr/>
            <p:nvPr/>
          </p:nvSpPr>
          <p:spPr>
            <a:xfrm flipH="1">
              <a:off x="3157920" y="6048360"/>
              <a:ext cx="44280" cy="45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Овал 49"/>
            <p:cNvSpPr/>
            <p:nvPr/>
          </p:nvSpPr>
          <p:spPr>
            <a:xfrm flipH="1">
              <a:off x="3157920" y="5543640"/>
              <a:ext cx="44280" cy="45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476360" y="333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ын на 23 года младше матери, а его мать на 5 лет моложе его отца. Сколько лет матери, если вместе им 87 лет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Рисунок 17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4371840" cy="1942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1507" descr=""/>
          <p:cNvPicPr/>
          <p:nvPr/>
        </p:nvPicPr>
        <p:blipFill>
          <a:blip r:embed="rId2"/>
          <a:stretch/>
        </p:blipFill>
        <p:spPr>
          <a:xfrm>
            <a:off x="1619280" y="3933720"/>
            <a:ext cx="73454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Иван Мантев</cp:lastModifiedBy>
  <dcterms:modified xsi:type="dcterms:W3CDTF">2022-12-14T17:33:27Z</dcterms:modified>
  <cp:revision>105</cp:revision>
  <dc:subject/>
  <dc:title>Слайд 1</dc:title>
</cp:coreProperties>
</file>